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whoosh.wav" ContentType="audio/x-wav"/>
  <Override PartName="/ppt/media/image13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cashreg.wav" ContentType="audio/x-wav"/>
  <Override PartName="/ppt/media/image12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wmf" ContentType="image/x-wmf"/>
  <Override PartName="/ppt/media/image3.jpeg" ContentType="image/jpeg"/>
  <Override PartName="/ppt/media/drumroll.wav" ContentType="audio/x-wav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E75-4C9B-4940-8C63-77D56C12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CF2-22B6-4621-B70B-2DF918F5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A0E-B707-473E-9417-093EACFD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89B-5B2D-4040-9022-5EEA9D26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1F8-CE12-4AD6-B712-7B4A4659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8E6-9794-48A4-B578-233EAAB6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10F-65AF-486E-92AF-A89D9439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5D2-46DE-4502-B402-B5155502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D71-FB8A-4DBC-9106-4FA41767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72C-0D9F-4786-A804-F0D0D757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856-6D18-4998-864D-709A9290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D5F-42B6-41DA-B8B1-432FE839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FEFC-DA14-4811-A342-A2B20EEB7A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2920" y="26028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苏教版五年级语文上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21544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楷体"/>
                <a:ea typeface="楷体"/>
              </a:rPr>
              <a:t>8 </a:t>
            </a:r>
            <a:r>
              <a:rPr b="1" lang="zh-CN" sz="8000" spc="-1" strike="noStrike">
                <a:solidFill>
                  <a:srgbClr val="ff3300"/>
                </a:solidFill>
                <a:latin typeface="楷体"/>
                <a:ea typeface="楷体"/>
              </a:rPr>
              <a:t>成 语 故 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501336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3840" y="26028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相矛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48080" y="1125360"/>
            <a:ext cx="44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由轻声读课文，想一想这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事讲的是件什么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340560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　　写古代一个人卖盾和矛，先夸盾好，什么也戳不破；又夸矛好，什么都能戳破。旁人问他：拿你的矛刺你的盾，怎么样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那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哑口无言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3840" y="26028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相矛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18840" y="11253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讨论：“夸口”是什么意思？文中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说大话呢？他说的是什么大话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76960" y="239040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夸口”：说大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314172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的盾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坚固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随你用什么矛都戳不穿它。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443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的矛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锐利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随你什么盾它都能戳穿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3840" y="26028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相矛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34136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张口结舌”什么意思呢？那人为什么张口结舌说不出话来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10800" y="2564640"/>
            <a:ext cx="36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张口结舌”：张着嘴巴说不出话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4149720"/>
            <a:ext cx="7772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自相矛盾：比喻一个人的语言、行动前后不一致，相抵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342900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说说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自相矛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的意思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53840" y="26028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相矛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2349360"/>
            <a:ext cx="822960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联系实际说说自己有没有犯过与此人同样的错误，你周围有没有人犯过这样的错误，读了这则故事你知道什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古时候有一个人，一手拿着矛，一手拿着盾，在街上叫卖。他举起矛，向人夸口说：“我的矛锐利得很，不论什么盾都戳得穿！”接着又举起盾，向人夸口说：“我的盾坚固得很，不论什么矛都戳不穿它！” 有人问他：“用你的矛戳你的盾，会怎么样呢？”那个人哑口无言，不知怎样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36301" t="50542" r="10438" b="9337"/>
          <a:stretch/>
        </p:blipFill>
        <p:spPr>
          <a:xfrm>
            <a:off x="1403280" y="620640"/>
            <a:ext cx="7056360" cy="5707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2926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       “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用你的矛戳你的盾，会怎么样呢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哑口无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76280"/>
            <a:ext cx="91440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那个楚国人（    ），先夸口说（   ），又夸口说（    ），围观的人问他（    ），他（         ）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0720" y="5335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思考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838080"/>
            <a:ext cx="304560" cy="3049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628640"/>
            <a:ext cx="8893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读了这则寓言，你有什么感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自相矛盾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中的人可笑吗？可笑在什么地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这则寓言告诉人们一个什么道理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292428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楷体_GB2312"/>
              </a:rPr>
              <a:t>自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(     ) (     ) (     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1125360"/>
            <a:ext cx="68580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成语填字大比拼</a:t>
            </a:r>
            <a:r>
              <a:rPr b="0" lang="en-US" sz="7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:</a:t>
            </a:r>
            <a:endParaRPr b="0" lang="en-US" sz="7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428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教版五年级语文上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989000"/>
            <a:ext cx="82440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成语：人们长期以来习用的，简洁精辟的定型词组或短句。汉语的成语大多由四个字组成，一般都有出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42920" y="2349360"/>
            <a:ext cx="73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告奋勇  自力更生  自食其力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强不息  自由自在  自知之明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高自大  自作聪明  自不量力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愧不如  自欺欺人  自以为是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260280"/>
            <a:ext cx="828036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想一想，生活中有哪些自相矛盾的故事，编一个故事，题目为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新编自相矛盾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读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语文读本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中的第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49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课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天鹅和鸭子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21817" r="888" b="0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2637000"/>
            <a:ext cx="77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隶书"/>
              </a:rPr>
              <a:t>   </a:t>
            </a: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隶书"/>
              </a:rPr>
              <a:t>自相矛盾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54936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韩非子，战国后期的人，是荀子的学生，先秦法家思想集大成者。著名政治理论家，卓越的唯物主义哲学家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2920" y="26028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成语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3317760" cy="252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58760" y="1773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27480" y="379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521080" cy="2511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84720" y="177336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2920" y="26028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成语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8480" y="1628640"/>
            <a:ext cx="23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相矛盾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2997360"/>
            <a:ext cx="77724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矛：古代兵器，在长杆的一端装有青铜或铁制成的枪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4508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盾：盾牌，用来防护身体、遮挡刀箭的武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61360" y="593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自学要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1828800"/>
            <a:ext cx="7391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借助课后的拼音把课文读通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把本课的生字、新词在课文中圈   出来读几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再读课文画出不明白的词语、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熟练地朗读课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2920" y="26028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成语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66600" y="4148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chu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060640"/>
            <a:ext cx="926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máo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ùn  chǔ  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i  ruì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285264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矛     盾　楚    卖　锐　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04880" y="486900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戳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41300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叫卖      夸口          不论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锐利      坚固          寓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自相矛盾        哑口无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13:12:13Z</dcterms:created>
  <dc:creator/>
  <dc:description/>
  <cp:keywords/>
  <dc:language>en-US</dc:language>
  <cp:lastModifiedBy>微软用户</cp:lastModifiedBy>
  <cp:lastPrinted>1899-12-30T00:00:00Z</cp:lastPrinted>
  <dcterms:modified xsi:type="dcterms:W3CDTF">2020-05-22T02:36:07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