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92D-BBDB-48F9-B223-9A4E486F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A8F-367D-4AB4-BD91-65FDB28D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CD6-8463-4CD1-9173-D4A97C79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024-496F-4D4F-B6C6-E56FD003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BD9B-421C-4832-8E29-6FAEAC10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487C-6693-4261-B53C-A72F12E9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FE9A-49CF-4F3E-B5CD-AA384BC1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1D78-C605-493E-B060-89AE5BA3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9B4A-96E1-4E2E-8519-A99DBA6D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ABE-3757-4D66-A491-ECFCF6E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92F2-0261-4DBA-843F-29E243E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431-57F5-4B10-ACF7-2C30BED6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AEAA-9D6A-4CE7-9515-C8182394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FE2E-4236-428F-B26E-6E75DBB0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ED0E-A74F-4190-B9F9-7DF793A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6D2E-9780-4A86-95EA-95A57D89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6546-A737-4EC0-AFA4-19E51754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FF8-89E5-4400-8BA9-D8DF84F0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572-AEC0-420F-83F3-4496BA35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854-EA98-462F-801D-1118836E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014-9783-45EA-B181-8725B40A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23F-18CA-4BC9-B408-DAD94E3E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B0B-04FC-490C-B6EC-CEA57E25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BB2-EACF-47BE-9556-64329F6C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8872-0164-45C3-A884-2D93D2901E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C630-233B-4646-83ED-19485252AE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62760" y="2295360"/>
            <a:ext cx="28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教版一年级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340000" y="836640"/>
            <a:ext cx="41148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6</a:t>
            </a: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、要下雨了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神秘园之歌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65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040" y="3017880"/>
            <a:ext cx="311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71000" cy="684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06520" y="836640"/>
            <a:ext cx="4965840" cy="22334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440" y="836640"/>
            <a:ext cx="482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小鱼说：“要下雨了，水里闷得很，我们到水面上来透透气。小白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你快回家吧，小心淋着雨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78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19040" y="262080"/>
            <a:ext cx="671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看见路边有一大群蚂蚁，就把要下雨的消息告诉了蚂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508644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只大蚂蚁说：“是要下雨了，我们正忙着搬东西了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3200" y="26028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白兔连忙挎起篮子往家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03280" y="260280"/>
            <a:ext cx="6121440" cy="2332080"/>
          </a:xfrm>
          <a:prstGeom prst="wedgeEllipseCallout">
            <a:avLst>
              <a:gd name="adj1" fmla="val -32675"/>
              <a:gd name="adj2" fmla="val 637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620640"/>
            <a:ext cx="56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一边跑，一边喊：“妈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妈妈，要下雨了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86960" y="47628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白兔加快步子往家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493704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轰隆隆，天空响起了一阵雷声。哗，哗，哗，大雨真的下起来了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348000" y="2133720"/>
            <a:ext cx="412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Times New Roman"/>
              </a:rPr>
              <a:t>大雨下起来了</a:t>
            </a:r>
            <a:r>
              <a:rPr b="0" lang="zh-CN" sz="4800" spc="-1" strike="noStrike">
                <a:solidFill>
                  <a:srgbClr val="3399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11640" y="350028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Times New Roman"/>
              </a:rPr>
              <a:t>大雨        下起来了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836720" y="477720"/>
            <a:ext cx="2951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一比：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429000"/>
            <a:ext cx="14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Times New Roman"/>
              </a:rPr>
              <a:t>真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43280" y="54936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读读说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484280"/>
            <a:ext cx="74167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们正忙着搬东西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李老师正忙着改作业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80008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正忙着</a:t>
            </a:r>
            <a:r>
              <a:rPr b="1" lang="zh-CN" sz="4000" spc="-1" strike="noStrike" u="sng">
                <a:solidFill>
                  <a:srgbClr val="80008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contrast="42000"/>
          </a:blip>
          <a:srcRect l="0" t="0" r="29000" b="26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rcRect l="0" t="0" r="30001" b="2800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705720" y="0"/>
              <a:ext cx="1280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120" y="0"/>
              <a:ext cx="2133360" cy="36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乌龟背上出汗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4600" y="228600"/>
              <a:ext cx="219132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要下雨了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0" y="0"/>
            <a:ext cx="9144000" cy="7029000"/>
            <a:chOff x="0" y="0"/>
            <a:chExt cx="9144000" cy="7029000"/>
          </a:xfrm>
        </p:grpSpPr>
        <p:pic>
          <p:nvPicPr>
            <p:cNvPr id="150" name="" descr=""/>
            <p:cNvPicPr/>
            <p:nvPr/>
          </p:nvPicPr>
          <p:blipFill>
            <a:blip r:embed="rId3"/>
            <a:srcRect l="0" t="0" r="0" b="4125"/>
            <a:stretch/>
          </p:blipFill>
          <p:spPr>
            <a:xfrm>
              <a:off x="0" y="0"/>
              <a:ext cx="9144000" cy="70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124000" y="341640"/>
              <a:ext cx="1008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cc"/>
                  </a:solidFill>
                  <a:latin typeface="Times New Roman"/>
                </a:rPr>
                <a:t>蜻蜓低飞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8000" y="2333520"/>
              <a:ext cx="936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要下雨了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0"/>
            <a:ext cx="9144000" cy="7029000"/>
            <a:chOff x="0" y="0"/>
            <a:chExt cx="9144000" cy="702900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rcRect l="0" t="0" r="0" b="9050"/>
            <a:stretch/>
          </p:blipFill>
          <p:spPr>
            <a:xfrm>
              <a:off x="0" y="0"/>
              <a:ext cx="9144000" cy="70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664640" y="2112840"/>
              <a:ext cx="1826280" cy="32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知了停鸣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15920" y="268200"/>
              <a:ext cx="1826280" cy="31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要下雨了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96532E-006 L -0.25191 -0.25179 E">
                                      <p:cBhvr>
                                        <p:cTn id="166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96532E-006 L 0.25208 -0.25179 E">
                                      <p:cBhvr>
                                        <p:cTn id="17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6" nodeType="after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8555E-006 L -0.25191 0.2393 E">
                                      <p:cBhvr>
                                        <p:cTn id="1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8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8555E-006 L 0.25208 0.2393 E">
                                      <p:cBhvr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47680" y="0"/>
            <a:ext cx="9728280" cy="688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247680" y="-22320"/>
            <a:ext cx="9931320" cy="680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-176040" y="-22320"/>
            <a:ext cx="9929520" cy="6834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-247680" y="3502080"/>
            <a:ext cx="488304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645080" y="3502080"/>
            <a:ext cx="5043600" cy="338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4645080" y="44280"/>
            <a:ext cx="4895640" cy="338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30240" y="9874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ccff"/>
                </a:solidFill>
                <a:latin typeface="Times New Roman"/>
              </a:rPr>
              <a:t>要下雨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89917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63640" y="587700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乌云密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580536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狂风大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227664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电闪雷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792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74720" y="0"/>
            <a:ext cx="811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pō        gē       mēn </a:t>
            </a:r>
            <a:r>
              <a:rPr b="0" lang="zh-CN" sz="5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 shē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33480" y="909720"/>
            <a:ext cx="884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坡  割草   闷热 </a:t>
            </a:r>
            <a:r>
              <a:rPr b="1" lang="zh-CN" sz="5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伸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98280" y="5516640"/>
            <a:ext cx="94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消息  搬家   一阵   哗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53000"/>
            <a:ext cx="90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xiāo   </a:t>
            </a:r>
            <a:r>
              <a:rPr b="0" lang="zh-CN" sz="5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bān     </a:t>
            </a:r>
            <a:r>
              <a:rPr b="0" lang="zh-CN" sz="5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 zhèn   </a:t>
            </a:r>
            <a:r>
              <a:rPr b="0" lang="zh-CN" sz="5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hu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1080" y="2278080"/>
            <a:ext cx="89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hǎn   </a:t>
            </a:r>
            <a:r>
              <a:rPr b="0" lang="zh-CN" sz="5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chóng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áo shī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0" y="3286080"/>
            <a:ext cx="92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喊  小 虫</a:t>
            </a: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潮  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25280" y="-19080"/>
            <a:ext cx="9269280" cy="697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79960" y="838080"/>
            <a:ext cx="39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白兔弯着腰在山坡上割草。天气很闷，小白兔直起身子，伸了伸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63640" y="2205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小白兔割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6720" y="299736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小白兔在山坡上割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4508640"/>
            <a:ext cx="64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小白兔弯着腰在山坡上割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3640" y="1052640"/>
            <a:ext cx="274320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一读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3480" y="-23760"/>
            <a:ext cx="9141120" cy="8267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260280"/>
            <a:ext cx="5473800" cy="2089080"/>
          </a:xfrm>
          <a:prstGeom prst="wedgeRoundRectCallout">
            <a:avLst>
              <a:gd name="adj1" fmla="val -14500"/>
              <a:gd name="adj2" fmla="val 115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549360"/>
            <a:ext cx="50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燕子从他头上飞过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白兔大声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燕子，燕子，你为什么飞得这么低呀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-311040"/>
            <a:ext cx="9144000" cy="963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26920" y="476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燕子边飞边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下雨了。空气很潮湿，虫子的翅膀沾了小水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不高，我正忙着捉虫子呢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37520" cy="680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小白兔往前边池子里一看，小鱼都游到水上来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是要下雨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c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73440" y="981000"/>
            <a:ext cx="4678200" cy="2233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4720" y="1197000"/>
            <a:ext cx="495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白兔跑过去，问：“小鱼，小鱼，今天怎么有空出来了呀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cp:lastPrinted>1899-12-30T00:00:00Z</cp:lastPrinted>
  <dcterms:modified xsi:type="dcterms:W3CDTF">2012-04-15T11:11:4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