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hammer.wav" ContentType="audio/x-wav"/>
  <Override PartName="/ppt/media/CHIMES.WAV" ContentType="audio/x-wav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EB0-44E7-4F7A-A168-EC14D860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DA4-B41E-4144-AAB3-4CC15DD3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04D-1154-45F4-BDC0-71B18ED6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2DA-B121-4989-95B7-A7AF8F37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AED1-9747-4FFB-9034-60BBBBD4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64CB-D591-4A7C-A4FF-507D4FDE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55EE-6646-4288-AF0C-1DE6FD94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D6C-6D3E-480F-B441-83386F2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A88C-F8BC-400F-9AFE-C654486F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0E6B-A401-4B99-8E6C-5EFC3D21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3D67-079C-4FFB-9C4E-FFA99765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84D-6521-4E2A-83DB-472D21BB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B405-2220-46C8-B95A-14899346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3C11-C303-41C7-A572-5AE7EC5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31EE-6540-4A9C-82A6-5216191A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C3EE-A192-47E0-A1A1-D1549BC2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6BB4-856D-47BD-B733-7A8A3A11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8692-8631-4105-AA91-05CD88A6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A800-3D6F-4651-BD47-C09A9B67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F33E1-13C2-4EC0-B054-6048A246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C68D-0E5B-4EE2-AC56-3A5589D4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1409-CE83-4857-AE77-3DE9BEC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6C0-BB5C-4A7C-97C1-E4DD39C6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D41E-32CB-4858-8B32-178D56E8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D1C4-ED38-4937-A356-026FBDD0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5E1F-A9EE-4E89-A65B-6ADB1926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2A3D-8A78-4788-8E7E-3925CFD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7C69-7AAC-4CE6-B1DC-BAE6553C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5239-04CC-4667-BF27-2456B589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5F163-3FA0-4485-9497-93DEF995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0F0D3-5483-4694-AC4B-880391A9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2DAFB-B1B7-4866-BB76-3BDA82D2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9CDA2-01DE-48C3-B253-3BB7E4B6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6A9-1FE0-47BC-924E-E326DFAE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1B273-8C6B-402D-B3E1-6D11A773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8D1CC-93F8-4BC9-AEFA-D6DEEA19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5658E-91E4-4FD7-9E52-81409A71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192A-593C-4D94-B9B7-D490CA2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6A0D0-2BFB-45C9-A344-8BDB709F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DF0B-BFB8-42D0-AB65-7C3A6AA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48D6-4EDD-4D0E-84DE-2ABDC5FE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2739-3183-4EDF-93CD-1C281B24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86B7-00F8-4A59-98D1-2FBC7B9C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D88-C5B5-4DCD-BC42-1DD56419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3C8-48C6-470E-81AC-AB38DE4E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DCC-E95F-4C57-8FC7-A23CD1F7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ECA-8106-423C-981D-6DAFDD1C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6FF-FA1A-4A9D-BF98-2928F460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F653-C8A4-44A7-8665-C0565C2243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54BC-AAA4-4D4F-8999-80F3F31D42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24D8-8261-4F3F-A08C-80A1C0F8A7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7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5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8F71-E66B-4A92-8FE7-2A5F62CB12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25192.com/" TargetMode="External"/><Relationship Id="rId3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>
            <a:off x="1692360" y="1557360"/>
            <a:ext cx="619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16 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要下雨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2050920" y="765000"/>
          <a:ext cx="6019920" cy="563580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3288240" y="33336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2057400" y="765000"/>
          <a:ext cx="6019920" cy="563580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288240" y="33336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吧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057400" y="765000"/>
          <a:ext cx="6019920" cy="563580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288240" y="33336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虫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050920" y="765000"/>
          <a:ext cx="6019920" cy="563580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3288240" y="33336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往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050920" y="765000"/>
          <a:ext cx="6019920" cy="563580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288240" y="33336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050920" y="765000"/>
          <a:ext cx="6019920" cy="563580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283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3288240" y="333360"/>
            <a:ext cx="32288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4360" y="404640"/>
            <a:ext cx="7777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下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弯着腰在山坡上割草。天气很闷，小白兔直起身子，伸了伸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燕子从他头上飞过。小白兔大声喊：“燕子，燕子，你为什么飞得这么低呀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燕子边飞边说：“要下雨了。空气很潮湿，虫子的翅膀沾了小水珠，飞不高，我正忙着捉虫子呢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要下雨了吗？小白兔往前边池子里一看，小鱼都游到水面上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跑过去问：“小鱼，小鱼，今天怎么有空出来呀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鱼说：“要下雨了。水里闷得很，我们到水面上来透透气。小白兔，你快回家吧，小心淋着雨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连忙挎起篮子往家跑。他看见路边有一大群蚂蚁，就把要下雨的消息告诉了蚂蚁。一只大蚂蚁说：“是要下雨了，我们正忙着搬东西呢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加快步子往家跑。他一边跑一边喊：“妈妈，妈妈，要下雨了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轰隆隆，天空响起了一阵雷声。哗，哗，哗，大雨真的下起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1484280"/>
            <a:ext cx="865080" cy="360360"/>
          </a:xfrm>
          <a:prstGeom prst="ellipse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4149720"/>
            <a:ext cx="1224000" cy="431640"/>
          </a:xfrm>
          <a:prstGeom prst="ellipse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2708280"/>
            <a:ext cx="720720" cy="360360"/>
          </a:xfrm>
          <a:prstGeom prst="ellipse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9200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山坡   伸了伸腰   搬东西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潮湿   天气很闷   大声喊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消息   一阵雷声   捉虫子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割草   加快步子   哗哗哗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有空   挎着篮子   弯着腰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95640" y="404640"/>
            <a:ext cx="388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词语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364000" y="549360"/>
            <a:ext cx="352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白兔弯着腰在山坡上割草。天气很闷，小白兔直起身子，伸了伸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9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55640" y="593640"/>
            <a:ext cx="86756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ō      gē         mēn      cháo sh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山坡      割 草    闷得很    潮   湿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shēn                   hǎn    chó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伸  腰         大 声 喊      虫 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iāo      bān         zhèn     huā hu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消 息    搬 家      一  阵     哗  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85440" cy="8497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763640" y="458136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324000" y="-603360"/>
            <a:ext cx="9685440" cy="84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0260000" cy="74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10260000" cy="6929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211640" y="5229360"/>
            <a:ext cx="46814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要下雨了，我们正忙着搬东西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24360" y="836640"/>
            <a:ext cx="338436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蚂蚁，蚂蚁，要下雨了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9828360" cy="7101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-252360" y="40464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白兔加快步子往家跑。他一边跑一边喊：“妈妈，妈妈，要下雨了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轰隆隆，天空响起了一阵雷声。哗，哗，哗，大雨真的下起来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404640"/>
            <a:ext cx="7777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下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弯着腰在山坡上割草。天气很闷，小白兔直起身子，伸了伸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燕子从他头上飞过。小白兔大声喊：“燕子，燕子，你为什么飞得这么低呀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燕子边飞边说：“要下雨了。空气很潮湿，虫子的翅膀沾了小水珠，飞不高，我正忙着捉虫子呢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要下雨了吗？小白兔往前边池子里一看，小鱼都游到水面上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跑过去问：“小鱼，小鱼，今天怎么有空出来呀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鱼说：“要下雨了。水里闷得很，我们到水面上来透透气。小白兔，你快回家吧，小心淋着雨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连忙挎起篮子往家跑。他看见路边有一大群蚂蚁，就把要下雨的消息告诉了蚂蚁。一只大蚂蚁说：“是要下雨了，我们正忙着搬东西呢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白兔加快步子往家跑。他一边跑一边喊：“妈妈，妈妈，要下雨了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轰隆隆，天空响起了一阵雷声。哗，哗，哗，大雨真的下起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2997360"/>
            <a:ext cx="172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32000" y="4508640"/>
            <a:ext cx="30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4869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885080" y="450864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2000" y="5445000"/>
            <a:ext cx="25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40360" y="5445000"/>
            <a:ext cx="41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573408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435640" y="2133720"/>
            <a:ext cx="13716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不相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76720" y="357336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半信半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419640" y="544500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完全相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763640" y="1700280"/>
            <a:ext cx="65534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小白兔回到家里，会对妈妈说些什么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?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兔妈妈会说什么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116000" y="476280"/>
            <a:ext cx="741672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口头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下雨了，燕子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下雨了，小鱼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下雨了，蚂蚁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下雨了，天气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08000" y="765000"/>
          <a:ext cx="8839080" cy="5508720"/>
        </p:xfrm>
        <a:graphic>
          <a:graphicData uri="http://schemas.openxmlformats.org/drawingml/2006/table">
            <a:tbl>
              <a:tblPr/>
              <a:tblGrid>
                <a:gridCol w="1066680"/>
                <a:gridCol w="3276720"/>
                <a:gridCol w="1143000"/>
                <a:gridCol w="3352680"/>
              </a:tblGrid>
              <a:tr h="53820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因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所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1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2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1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2073960" y="83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下雨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3049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02680" y="1341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里很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81360" y="1268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鱼要到水面上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5396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里很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73960" y="184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下雨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218360" y="1844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空气很潮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64600" y="2565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空气很潮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97640" y="2421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虫的翅膀上沾了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小水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76360" y="350028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虫的翅膀上沾了许多小水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72360" y="3716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飞不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64600" y="465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虫飞不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7172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燕子飞得很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26160" y="5516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燕子飞得很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62720" y="5516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捉到虫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2" action="ppaction://hlinksldjump"/>
          </p:cNvPr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411280" y="1628640"/>
            <a:ext cx="4896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为什么飞得这么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正忙着捉虫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要下雨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天怎么有空出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快回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正忙着搬东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620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读句子，注意语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46200" y="1197000"/>
            <a:ext cx="849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山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坡    割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草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闷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得很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潮湿    虫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子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喊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消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息    一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阵   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伸伸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腰   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搬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东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755640" y="2492280"/>
            <a:ext cx="180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6227640" y="1413000"/>
            <a:ext cx="18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755640" y="1413000"/>
            <a:ext cx="180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7667640" y="5877000"/>
            <a:ext cx="1008000" cy="6476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612" h="21600">
                <a:moveTo>
                  <a:pt x="0" y="0"/>
                </a:moveTo>
                <a:lnTo>
                  <a:pt x="33612" y="0"/>
                </a:lnTo>
                <a:lnTo>
                  <a:pt x="33612" y="21600"/>
                </a:lnTo>
                <a:lnTo>
                  <a:pt x="0" y="21600"/>
                </a:lnTo>
                <a:close/>
              </a:path>
              <a:path fill="lightenLess" w="33612" h="21600">
                <a:moveTo>
                  <a:pt x="0" y="0"/>
                </a:moveTo>
                <a:lnTo>
                  <a:pt x="33612" y="0"/>
                </a:lnTo>
                <a:lnTo>
                  <a:pt x="32212" y="1400"/>
                </a:lnTo>
                <a:lnTo>
                  <a:pt x="1400" y="1400"/>
                </a:lnTo>
                <a:close/>
              </a:path>
              <a:path fill="darken" w="33612" h="21600">
                <a:moveTo>
                  <a:pt x="33612" y="0"/>
                </a:moveTo>
                <a:lnTo>
                  <a:pt x="33612" y="21600"/>
                </a:lnTo>
                <a:lnTo>
                  <a:pt x="32212" y="20200"/>
                </a:lnTo>
                <a:lnTo>
                  <a:pt x="32212" y="1400"/>
                </a:lnTo>
                <a:close/>
              </a:path>
              <a:path fill="darkenLess" w="33612" h="21600">
                <a:moveTo>
                  <a:pt x="33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12" y="20200"/>
                </a:lnTo>
                <a:close/>
              </a:path>
              <a:path fill="lighten" w="33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12" h="21600">
                <a:moveTo>
                  <a:pt x="9800" y="3794"/>
                </a:moveTo>
                <a:lnTo>
                  <a:pt x="23812" y="10800"/>
                </a:lnTo>
                <a:lnTo>
                  <a:pt x="9800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2276640"/>
            <a:ext cx="619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正忙着搬东西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老师正忙着改作业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4724280"/>
            <a:ext cx="162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41497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407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27640" y="4724280"/>
            <a:ext cx="2633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987640" y="765000"/>
            <a:ext cx="244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句式练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050920" y="981000"/>
            <a:ext cx="583272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虹日头西虹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蜘蛛结网天放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上钩钩云，地上雨淋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久晴鹊噪雨，久雨鹊噪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久晴大雾必阴，久雨大雾必晴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缸出汗蛤蟆叫，不久将有大雨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燕子低飞蛇过道，蚂蚁搬家山戴帽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156360" y="260280"/>
            <a:ext cx="244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天气谚语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476360" y="1413000"/>
            <a:ext cx="6934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大自然的语言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真是妙不可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不爱学习的人总也看不懂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粗心大意的人永远看不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1640" y="148428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要下雨了，空气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潮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虫子的翅膀沾了小水珠，飞不高，我正忙着捉虫子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7885080" y="573408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1640" y="15573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水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闷得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我们到水面上来透透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7885080" y="573408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更多精彩课件请到</a:t>
            </a: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www.25192.com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下载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87640" y="4076640"/>
            <a:ext cx="297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www.25192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00400" y="32004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>
                    <a:alpha val="74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松鼠课件站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>
                  <a:alpha val="74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97680" y="155736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白兔弯着腰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山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割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7885080" y="573408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619280" y="184464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坡  割  闷  伸  喊  潮  湿  虫  消  搬  阵  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5928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020070709405027066546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63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iecool"/>
          <p:cNvPicPr/>
          <p:nvPr/>
        </p:nvPicPr>
        <p:blipFill>
          <a:blip r:embed="rId3"/>
          <a:stretch/>
        </p:blipFill>
        <p:spPr>
          <a:xfrm>
            <a:off x="-36360" y="0"/>
            <a:ext cx="9432720" cy="767700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30"/>
          <p:cNvGrpSpPr/>
          <p:nvPr/>
        </p:nvGrpSpPr>
        <p:grpSpPr>
          <a:xfrm>
            <a:off x="2629080" y="404640"/>
            <a:ext cx="1222200" cy="1465560"/>
            <a:chOff x="2629080" y="404640"/>
            <a:chExt cx="1222200" cy="1465560"/>
          </a:xfrm>
        </p:grpSpPr>
        <p:pic>
          <p:nvPicPr>
            <p:cNvPr id="186" name="Picture 5" descr="未标题-1 拷贝"/>
            <p:cNvPicPr/>
            <p:nvPr/>
          </p:nvPicPr>
          <p:blipFill>
            <a:blip r:embed="rId4"/>
            <a:stretch/>
          </p:blipFill>
          <p:spPr>
            <a:xfrm>
              <a:off x="2637720" y="404640"/>
              <a:ext cx="1213560" cy="13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6"/>
            <p:cNvSpPr/>
            <p:nvPr/>
          </p:nvSpPr>
          <p:spPr>
            <a:xfrm>
              <a:off x="2629080" y="404640"/>
              <a:ext cx="1162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坡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1"/>
          <p:cNvGrpSpPr/>
          <p:nvPr/>
        </p:nvGrpSpPr>
        <p:grpSpPr>
          <a:xfrm>
            <a:off x="3995640" y="333360"/>
            <a:ext cx="1361880" cy="1465560"/>
            <a:chOff x="3995640" y="333360"/>
            <a:chExt cx="1361880" cy="1465560"/>
          </a:xfrm>
        </p:grpSpPr>
        <p:pic>
          <p:nvPicPr>
            <p:cNvPr id="189" name="Picture 32" descr="未标题-1 拷贝"/>
            <p:cNvPicPr/>
            <p:nvPr/>
          </p:nvPicPr>
          <p:blipFill>
            <a:blip r:embed="rId5"/>
            <a:stretch/>
          </p:blipFill>
          <p:spPr>
            <a:xfrm>
              <a:off x="4005000" y="333360"/>
              <a:ext cx="135252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33"/>
            <p:cNvSpPr/>
            <p:nvPr/>
          </p:nvSpPr>
          <p:spPr>
            <a:xfrm>
              <a:off x="3995640" y="333360"/>
              <a:ext cx="129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割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4"/>
          <p:cNvGrpSpPr/>
          <p:nvPr/>
        </p:nvGrpSpPr>
        <p:grpSpPr>
          <a:xfrm>
            <a:off x="5508720" y="476280"/>
            <a:ext cx="1371600" cy="1465560"/>
            <a:chOff x="5508720" y="476280"/>
            <a:chExt cx="1371600" cy="1465560"/>
          </a:xfrm>
        </p:grpSpPr>
        <p:pic>
          <p:nvPicPr>
            <p:cNvPr id="192" name="Picture 35" descr="未标题-1 拷贝"/>
            <p:cNvPicPr/>
            <p:nvPr/>
          </p:nvPicPr>
          <p:blipFill>
            <a:blip r:embed="rId6"/>
            <a:stretch/>
          </p:blipFill>
          <p:spPr>
            <a:xfrm>
              <a:off x="5518440" y="476280"/>
              <a:ext cx="1361880" cy="13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36"/>
            <p:cNvSpPr/>
            <p:nvPr/>
          </p:nvSpPr>
          <p:spPr>
            <a:xfrm>
              <a:off x="5508720" y="476280"/>
              <a:ext cx="130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伸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1187280" y="1700280"/>
            <a:ext cx="1312560" cy="1465560"/>
            <a:chOff x="1187280" y="1700280"/>
            <a:chExt cx="1312560" cy="1465560"/>
          </a:xfrm>
        </p:grpSpPr>
        <p:pic>
          <p:nvPicPr>
            <p:cNvPr id="195" name="Picture 38" descr="未标题-1 拷贝"/>
            <p:cNvPicPr/>
            <p:nvPr/>
          </p:nvPicPr>
          <p:blipFill>
            <a:blip r:embed="rId7"/>
            <a:stretch/>
          </p:blipFill>
          <p:spPr>
            <a:xfrm>
              <a:off x="1196280" y="1700280"/>
              <a:ext cx="130356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39"/>
            <p:cNvSpPr/>
            <p:nvPr/>
          </p:nvSpPr>
          <p:spPr>
            <a:xfrm>
              <a:off x="1187280" y="1700280"/>
              <a:ext cx="1250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闷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40"/>
          <p:cNvGrpSpPr/>
          <p:nvPr/>
        </p:nvGrpSpPr>
        <p:grpSpPr>
          <a:xfrm>
            <a:off x="2916360" y="1844640"/>
            <a:ext cx="1296360" cy="1465560"/>
            <a:chOff x="2916360" y="1844640"/>
            <a:chExt cx="1296360" cy="1465560"/>
          </a:xfrm>
        </p:grpSpPr>
        <p:pic>
          <p:nvPicPr>
            <p:cNvPr id="198" name="Picture 41" descr="未标题-1 拷贝"/>
            <p:cNvPicPr/>
            <p:nvPr/>
          </p:nvPicPr>
          <p:blipFill>
            <a:blip r:embed="rId8"/>
            <a:stretch/>
          </p:blipFill>
          <p:spPr>
            <a:xfrm>
              <a:off x="2925360" y="1844640"/>
              <a:ext cx="1287360" cy="136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42"/>
            <p:cNvSpPr/>
            <p:nvPr/>
          </p:nvSpPr>
          <p:spPr>
            <a:xfrm>
              <a:off x="2916360" y="1844640"/>
              <a:ext cx="1235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虫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43"/>
          <p:cNvGrpSpPr/>
          <p:nvPr/>
        </p:nvGrpSpPr>
        <p:grpSpPr>
          <a:xfrm>
            <a:off x="4500720" y="1773360"/>
            <a:ext cx="1287000" cy="1465560"/>
            <a:chOff x="4500720" y="1773360"/>
            <a:chExt cx="1287000" cy="1465560"/>
          </a:xfrm>
        </p:grpSpPr>
        <p:pic>
          <p:nvPicPr>
            <p:cNvPr id="201" name="Picture 44" descr="未标题-1 拷贝"/>
            <p:cNvPicPr/>
            <p:nvPr/>
          </p:nvPicPr>
          <p:blipFill>
            <a:blip r:embed="rId9"/>
            <a:stretch/>
          </p:blipFill>
          <p:spPr>
            <a:xfrm>
              <a:off x="4509720" y="1773360"/>
              <a:ext cx="1278000" cy="13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45"/>
            <p:cNvSpPr/>
            <p:nvPr/>
          </p:nvSpPr>
          <p:spPr>
            <a:xfrm>
              <a:off x="4500720" y="1773360"/>
              <a:ext cx="122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搬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6"/>
          <p:cNvGrpSpPr/>
          <p:nvPr/>
        </p:nvGrpSpPr>
        <p:grpSpPr>
          <a:xfrm>
            <a:off x="6588000" y="1700280"/>
            <a:ext cx="1299960" cy="1465560"/>
            <a:chOff x="6588000" y="1700280"/>
            <a:chExt cx="1299960" cy="1465560"/>
          </a:xfrm>
        </p:grpSpPr>
        <p:pic>
          <p:nvPicPr>
            <p:cNvPr id="204" name="Picture 47" descr="未标题-1 拷贝"/>
            <p:cNvPicPr/>
            <p:nvPr/>
          </p:nvPicPr>
          <p:blipFill>
            <a:blip r:embed="rId10"/>
            <a:stretch/>
          </p:blipFill>
          <p:spPr>
            <a:xfrm>
              <a:off x="6597000" y="1700280"/>
              <a:ext cx="1290960" cy="14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48"/>
            <p:cNvSpPr/>
            <p:nvPr/>
          </p:nvSpPr>
          <p:spPr>
            <a:xfrm>
              <a:off x="6588000" y="1700280"/>
              <a:ext cx="1238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喊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49"/>
          <p:cNvGrpSpPr/>
          <p:nvPr/>
        </p:nvGrpSpPr>
        <p:grpSpPr>
          <a:xfrm>
            <a:off x="539640" y="3068640"/>
            <a:ext cx="1224000" cy="1465560"/>
            <a:chOff x="539640" y="3068640"/>
            <a:chExt cx="1224000" cy="1465560"/>
          </a:xfrm>
        </p:grpSpPr>
        <p:pic>
          <p:nvPicPr>
            <p:cNvPr id="207" name="Picture 50" descr="未标题-1 拷贝"/>
            <p:cNvPicPr/>
            <p:nvPr/>
          </p:nvPicPr>
          <p:blipFill>
            <a:blip r:embed="rId11"/>
            <a:stretch/>
          </p:blipFill>
          <p:spPr>
            <a:xfrm>
              <a:off x="548280" y="3068640"/>
              <a:ext cx="1215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51"/>
            <p:cNvSpPr/>
            <p:nvPr/>
          </p:nvSpPr>
          <p:spPr>
            <a:xfrm>
              <a:off x="539640" y="3068640"/>
              <a:ext cx="1166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潮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2"/>
          <p:cNvGrpSpPr/>
          <p:nvPr/>
        </p:nvGrpSpPr>
        <p:grpSpPr>
          <a:xfrm>
            <a:off x="2050920" y="3141720"/>
            <a:ext cx="1295280" cy="1465560"/>
            <a:chOff x="2050920" y="3141720"/>
            <a:chExt cx="1295280" cy="1465560"/>
          </a:xfrm>
        </p:grpSpPr>
        <p:pic>
          <p:nvPicPr>
            <p:cNvPr id="210" name="Picture 53" descr="未标题-1 拷贝"/>
            <p:cNvPicPr/>
            <p:nvPr/>
          </p:nvPicPr>
          <p:blipFill>
            <a:blip r:embed="rId12"/>
            <a:stretch/>
          </p:blipFill>
          <p:spPr>
            <a:xfrm>
              <a:off x="2059920" y="3141720"/>
              <a:ext cx="1286280" cy="132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54"/>
            <p:cNvSpPr/>
            <p:nvPr/>
          </p:nvSpPr>
          <p:spPr>
            <a:xfrm>
              <a:off x="2050920" y="3141720"/>
              <a:ext cx="1234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湿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55"/>
          <p:cNvGrpSpPr/>
          <p:nvPr/>
        </p:nvGrpSpPr>
        <p:grpSpPr>
          <a:xfrm>
            <a:off x="3635280" y="3141720"/>
            <a:ext cx="1368000" cy="1465560"/>
            <a:chOff x="3635280" y="3141720"/>
            <a:chExt cx="1368000" cy="1465560"/>
          </a:xfrm>
        </p:grpSpPr>
        <p:pic>
          <p:nvPicPr>
            <p:cNvPr id="213" name="Picture 56" descr="未标题-1 拷贝"/>
            <p:cNvPicPr/>
            <p:nvPr/>
          </p:nvPicPr>
          <p:blipFill>
            <a:blip r:embed="rId13"/>
            <a:stretch/>
          </p:blipFill>
          <p:spPr>
            <a:xfrm>
              <a:off x="3644640" y="3141720"/>
              <a:ext cx="135864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57"/>
            <p:cNvSpPr/>
            <p:nvPr/>
          </p:nvSpPr>
          <p:spPr>
            <a:xfrm>
              <a:off x="3635280" y="3141720"/>
              <a:ext cx="1303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哗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61"/>
          <p:cNvGrpSpPr/>
          <p:nvPr/>
        </p:nvGrpSpPr>
        <p:grpSpPr>
          <a:xfrm>
            <a:off x="5435640" y="2924280"/>
            <a:ext cx="1228320" cy="1465560"/>
            <a:chOff x="5435640" y="2924280"/>
            <a:chExt cx="1228320" cy="1465560"/>
          </a:xfrm>
        </p:grpSpPr>
        <p:pic>
          <p:nvPicPr>
            <p:cNvPr id="216" name="Picture 62" descr="未标题-1 拷贝"/>
            <p:cNvPicPr/>
            <p:nvPr/>
          </p:nvPicPr>
          <p:blipFill>
            <a:blip r:embed="rId14"/>
            <a:stretch/>
          </p:blipFill>
          <p:spPr>
            <a:xfrm>
              <a:off x="5444280" y="2924280"/>
              <a:ext cx="121968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63"/>
            <p:cNvSpPr/>
            <p:nvPr/>
          </p:nvSpPr>
          <p:spPr>
            <a:xfrm>
              <a:off x="5435640" y="2924280"/>
              <a:ext cx="1170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阵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64"/>
          <p:cNvGrpSpPr/>
          <p:nvPr/>
        </p:nvGrpSpPr>
        <p:grpSpPr>
          <a:xfrm>
            <a:off x="6877080" y="3213000"/>
            <a:ext cx="1352160" cy="1465560"/>
            <a:chOff x="6877080" y="3213000"/>
            <a:chExt cx="1352160" cy="1465560"/>
          </a:xfrm>
        </p:grpSpPr>
        <p:pic>
          <p:nvPicPr>
            <p:cNvPr id="219" name="Picture 65" descr="未标题-1 拷贝"/>
            <p:cNvPicPr/>
            <p:nvPr/>
          </p:nvPicPr>
          <p:blipFill>
            <a:blip r:embed="rId15"/>
            <a:stretch/>
          </p:blipFill>
          <p:spPr>
            <a:xfrm>
              <a:off x="6886440" y="3213000"/>
              <a:ext cx="1342800" cy="14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66"/>
            <p:cNvSpPr/>
            <p:nvPr/>
          </p:nvSpPr>
          <p:spPr>
            <a:xfrm>
              <a:off x="6877080" y="3213000"/>
              <a:ext cx="1288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0" spc="-1" strike="noStrike">
                  <a:solidFill>
                    <a:srgbClr val="ffffff"/>
                  </a:solidFill>
                  <a:latin typeface="Arial"/>
                </a:rPr>
                <a:t>消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8094E-006 L -0.00399 0.75347 E">
                                      <p:cBhvr>
                                        <p:cTn id="6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8529E-007 L -0.00365 0.74306 E">
                                      <p:cBhvr>
                                        <p:cTn id="11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04046E-006 L 0.00365 0.70821 E">
                                      <p:cBhvr>
                                        <p:cTn id="16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312E-006 L -0.01198 0.54035 E">
                                      <p:cBhvr>
                                        <p:cTn id="21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526E-006 L -0.01198 0.47768 E">
                                      <p:cBhvr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89017E-007 L -0.01163 0.46636 E">
                                      <p:cBhvr>
                                        <p:cTn id="31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48555E-006 L -0.004 0.46705 E">
                                      <p:cBhvr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1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6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1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56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1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09:38Z</dcterms:created>
  <dc:creator>微软用户</dc:creator>
  <dc:description/>
  <dc:language>en-US</dc:language>
  <cp:lastModifiedBy>hcxx</cp:lastModifiedBy>
  <dcterms:modified xsi:type="dcterms:W3CDTF">2013-01-21T02:30:25Z</dcterms:modified>
  <cp:revision>101</cp:revision>
  <dc:subject/>
  <dc:title>幻灯片 1</dc:title>
</cp:coreProperties>
</file>