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4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MTN_003.WAV" ContentType="audio/x-wav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B1F-CEAB-473A-AEAE-9E8757EF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A44-C9D3-4954-91AD-0B936628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F78-6B69-456A-A770-3F8CAF17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B42-9BFD-491F-9FC4-9908CBDA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857-0CC1-496E-B3C1-B09CDF20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E71-6F06-4001-B9E3-15067CAC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10F-9620-4DEB-A340-81C35FBE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5CD-89A7-433D-966C-71B4BC8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DDB-49B0-4F16-8D9F-ABBCC8CA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D7F-3615-4736-AD80-5B11AF22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7B3-2038-4FF1-8A66-F1D250E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61A-BF78-46D5-A355-F596AFFA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2E64-BC9F-44B3-9BBF-3F9B3BA7EA16}" type="datetime3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29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B97B-1751-4D19-8523-6E2745950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audio" Target="../media/chimes.wav"/><Relationship Id="rId4" Type="http://schemas.openxmlformats.org/officeDocument/2006/relationships/audio" Target="../media/MTN_003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09680" y="914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要 下 雨 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76520" y="3625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         </a:t>
            </a: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新蔡黄楼中心小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9D6-FEF8-4225-ABFC-338DC21367B2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67270-F993-48EF-8176-9E0E61325AA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6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6E1-14F3-4648-B30B-7A4C83B67AE2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DBD35-F237-49FD-A25B-FB0214D17B1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99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027"/>
          <p:cNvSpPr/>
          <p:nvPr/>
        </p:nvSpPr>
        <p:spPr>
          <a:xfrm>
            <a:off x="685800" y="1035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请小朋友们打开课本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68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页。这段话讲了谁在什么地方，干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028"/>
          <p:cNvSpPr/>
          <p:nvPr/>
        </p:nvSpPr>
        <p:spPr>
          <a:xfrm>
            <a:off x="685800" y="2819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这时，小白兔有什么感觉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29"/>
          <p:cNvSpPr/>
          <p:nvPr/>
        </p:nvSpPr>
        <p:spPr>
          <a:xfrm>
            <a:off x="685800" y="4267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直起了身子，这时，它看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49A-B116-490A-9207-6D9610DB211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622A7-1965-4262-8B36-069AE26353E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2666880" y="2286000"/>
            <a:ext cx="2514600" cy="1828800"/>
          </a:xfrm>
          <a:prstGeom prst="wedgeRoundRectCallout">
            <a:avLst>
              <a:gd name="adj1" fmla="val -39583"/>
              <a:gd name="adj2" fmla="val 6701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燕子，燕子，你为什么飞得这么低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533520" y="31896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看图比较，小燕子与平时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33520" y="91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看到后又是怎么做的呢？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523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燕子是怎么回答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7"/>
          <p:cNvSpPr/>
          <p:nvPr/>
        </p:nvSpPr>
        <p:spPr>
          <a:xfrm rot="10800000">
            <a:off x="4800600" y="3048120"/>
            <a:ext cx="4038480" cy="2133360"/>
          </a:xfrm>
          <a:prstGeom prst="wedgeRectCallout">
            <a:avLst>
              <a:gd name="adj1" fmla="val 36555"/>
              <a:gd name="adj2" fmla="val 68671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空气很潮湿，虫子的翅膀沾了小水珠，飞不高。我正忙着捉虫子呢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8580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燕子的话，小白兔的心里是怎么想的呢？后来又看见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E13-7C30-4275-A733-B76A42BD806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7DD47-7C94-4F09-BB7D-DEE3373AB96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3520" y="457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观察，小鱼与平时有什么不一样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352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觉得很奇怪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6400800" y="228600"/>
            <a:ext cx="2743200" cy="2590920"/>
          </a:xfrm>
          <a:prstGeom prst="cloudCallout">
            <a:avLst>
              <a:gd name="adj1" fmla="val -68347"/>
              <a:gd name="adj2" fmla="val 4418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小鱼，小鱼，今天怎么有空出来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鱼把什么消息告诉了小白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057400" y="3048120"/>
            <a:ext cx="3581280" cy="1904760"/>
          </a:xfrm>
          <a:prstGeom prst="wedgeRoundRectCallout">
            <a:avLst>
              <a:gd name="adj1" fmla="val -45879"/>
              <a:gd name="adj2" fmla="val 6758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水里闷得很，我们到水面上来透透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447920" y="2362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还说了些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057400" y="3809880"/>
            <a:ext cx="3733920" cy="1067040"/>
          </a:xfrm>
          <a:prstGeom prst="wedgeRectCallout">
            <a:avLst>
              <a:gd name="adj1" fmla="val -43152"/>
              <a:gd name="adj2" fmla="val 843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小白兔，你快回家吧，小心淋着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41360" y="5735520"/>
            <a:ext cx="748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小鱼的话，小白兔相信要下雨了吗？在回家的路上，又碰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E1C-642F-48AA-85C3-5C750EDB016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F64DA-C5C1-4C55-9F8D-6E52EE580A4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09480" y="685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碰到多少只蚂蚁？它做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09480" y="1295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说了些什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4038480" y="3581280"/>
            <a:ext cx="3810240" cy="1219320"/>
          </a:xfrm>
          <a:prstGeom prst="wedgeRoundRectCallout">
            <a:avLst>
              <a:gd name="adj1" fmla="val -43500"/>
              <a:gd name="adj2" fmla="val 6119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是要下雨了，我们正忙着搬东西呢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09480" y="19191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是往哪个方向搬呢？为什么这样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09480" y="2558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的话使小白兔更加相信要下雨了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F1C-C923-4024-B267-2D63606C813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B4C79-E978-48E7-9BB9-D097B5AC653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5800" y="9144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一边跑一边喊，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209680" y="2743200"/>
            <a:ext cx="3353040" cy="1219320"/>
          </a:xfrm>
          <a:prstGeom prst="wedgeRoundRectCallout">
            <a:avLst>
              <a:gd name="adj1" fmla="val 45263"/>
              <a:gd name="adj2" fmla="val 82814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妈妈，妈妈，要下雨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85800" y="1676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结果，真的下雨了吗？雨下得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762120" y="4191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练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23880" y="48006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课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8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523880" y="5410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8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页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F1B-7648-4727-BA16-F16D52B0BA1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26F0D-8013-4487-AFA9-715D086A010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N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ff33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2120" y="6858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组成句子写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14400" y="13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说话        蚂蚁        正在        小白兔        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514600" y="2209680"/>
            <a:ext cx="4495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Times New Roman"/>
                <a:ea typeface="楷体_GB2312"/>
              </a:rPr>
              <a:t>小白兔正在跟蚂蚁说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590920" y="31240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宋体"/>
                <a:ea typeface="楷体_GB2312"/>
              </a:rPr>
              <a:t>蚂蚁正在跟小白兔说话</a:t>
            </a: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838080" y="3962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妈妈        要        了        我        下雨        告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666880" y="4678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楷体_GB2312"/>
                <a:ea typeface="楷体_GB2312"/>
              </a:rPr>
              <a:t>我告诉妈妈要下雨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D2F-D738-4F21-9B0D-6A0D56D8127D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698D4-FDAB-4D97-BF54-7E85DE1CC083}" type="datetime3">
              <a:rPr lang="en-US"/>
              <a:t>July 29, 2026</a:t>
            </a:fld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33cc"/>
            </a:gs>
            <a:gs pos="100000">
              <a:srgbClr val="66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371600" y="990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读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676520" y="2209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676520" y="342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在山坡上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8954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在山坡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217320" y="44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弯着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356-7C1E-423F-B6CD-4BB8CE50081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DF8AB-99BA-46D5-B3CE-4D6A62A4E4FF}" type="datetime3">
              <a:rPr lang="en-US"/>
              <a:t>July 29, 2026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标题 1"/>
          <p:cNvSpPr/>
          <p:nvPr/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88000" y="5445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A9F-1316-4989-812B-E675A4ABB96B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DAB6B-E82B-48E4-B453-5D17D2A5F57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2T02:56:55Z</dcterms:created>
  <dc:creator>cfm</dc:creator>
  <dc:description/>
  <dc:language>en-US</dc:language>
  <cp:lastModifiedBy>微软用户</cp:lastModifiedBy>
  <dcterms:modified xsi:type="dcterms:W3CDTF">2013-11-18T23:32:52Z</dcterms:modified>
  <cp:revision>12</cp:revision>
  <dc:subject/>
  <dc:title>PowerPoint 演示文稿</dc:title>
</cp:coreProperties>
</file>