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2.tif" ContentType="image/tiff"/>
  <Override PartName="/ppt/media/image1.png" ContentType="image/png"/>
  <Override PartName="/ppt/media/image11.tif" ContentType="image/tiff"/>
  <Override PartName="/ppt/media/image10.gif" ContentType="image/gif"/>
  <Override PartName="/ppt/media/image9.gif" ContentType="image/gif"/>
  <Override PartName="/ppt/media/image7.png" ContentType="image/png"/>
  <Override PartName="/ppt/media/image20.jpeg" ContentType="image/jpeg"/>
  <Override PartName="/ppt/media/image14.gif" ContentType="image/gif"/>
  <Override PartName="/ppt/media/image19.jpeg" ContentType="image/jpeg"/>
  <Override PartName="/ppt/media/image15.gif" ContentType="image/gif"/>
  <Override PartName="/ppt/media/image2.jpeg" ContentType="image/jpeg"/>
  <Override PartName="/ppt/media/image3.png" ContentType="image/png"/>
  <Override PartName="/ppt/media/image6.png" ContentType="image/png"/>
  <Override PartName="/ppt/media/image17.tif" ContentType="image/tiff"/>
  <Override PartName="/ppt/media/image18.jpeg" ContentType="image/jpeg"/>
  <Override PartName="/ppt/media/image8.gif" ContentType="image/gif"/>
  <Override PartName="/ppt/media/image4.jpeg" ContentType="image/jpeg"/>
  <Override PartName="/ppt/media/image13.tif" ContentType="image/tiff"/>
  <Override PartName="/ppt/media/image5.png" ContentType="image/png"/>
  <Override PartName="/ppt/media/image16.tif" ContentType="image/tiff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98C3-A4E8-479F-92A9-113A735D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9CD0-06C0-4459-A3AD-8685C4A5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A0B94-6AAE-474D-A7E1-63B419B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726D-C405-42FF-B766-0BCCB5A4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C0C8F-5FE0-4962-BC2B-711C7AA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0BD2-02A8-43E9-A7AC-D1B52A2A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8163-4AB9-420C-BF67-5DECB454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FAC97-D5CC-4243-A34C-8D9C1E8A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1EAFB-BCD0-4352-A187-E7D0AFE1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04090-14F0-4171-A436-9BCEF798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BF388-5F2A-4DAD-AEDD-AFDE5A26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B5577-84C0-4199-A68B-55286D0F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C505E-23D2-422F-99E9-96B68AB4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C487E-85C1-4BFF-ACD4-698787C2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63E82-1851-451F-A0E0-6CD71C49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94943-E0B6-406E-9968-8F35C73B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916A-0988-43CA-8119-1BF5D2E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7D887-4C8D-4F81-8D2A-9B758539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933D0-2ED0-40B6-8C3A-601DD9E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65D98-5160-432B-B306-91A5B208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8A950-4DD7-47E5-B6EE-3B9137EB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21BB-A8EC-4327-8391-FC933006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1B49B-C75E-4C7D-9330-EC5DD346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B9F3B-EEE5-4474-8946-9E7466BF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6768F-FE2B-4A98-8C73-392C58E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654A2-F127-4152-9D5B-5E08CFEC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71B9D-78E8-4752-BF3D-11A630A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07151-5D95-40A6-A448-46448658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37431-A317-414A-88BA-D0394C6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E71DB-BD32-45E1-BB2A-B3D69BAA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C9C-4A3F-41BE-ADF3-DFF780EF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07674-386D-4DAE-98D3-56EDF1A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14DC9-73F5-4E1A-B31D-EC1D36D1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22F59-B7BB-4698-8A61-9321BAA4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A71AC-7925-4353-9DA8-0053DE37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C9075-2BA7-4040-9893-F6F50298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1B03D-A76C-42C3-B266-7288C91D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B22A-002A-4944-9541-CBCFCDA6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81A6B-5B9A-4466-A13A-0F8D4CB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A1F08-27E3-4DED-BE53-040FD6B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163B-7223-4470-BFA1-A54B57C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821-9641-4F5E-AA57-C7CBD33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96AD6-5DAF-4428-A4A3-E12DF52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36EFF-029A-48A3-AF34-984A34EC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4509F-3499-4505-AAAB-944799F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D59C9-CB49-4817-B080-4429F41D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148FC-DCB4-4C44-8D56-CD19F8C8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B656B-B057-491A-AC80-6FB3409A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0BCBE-B4CB-40C6-9AF9-8AB5EC8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D426F-05A9-49D9-A1ED-9D43818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C5526-4877-4BC7-BA42-136DE526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1EE2F-7CF5-429E-AF3D-B16EEE1C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4AA-137A-4E21-81DC-00AF5B6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427CB-60DA-4EB4-A130-3CD26287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BF125-2FF5-4FE2-B137-FBC1BAF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65C45-70F7-47A8-9FDF-12EB8C70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3E8B6-927D-4CB3-B6C7-64B90BC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BA126-87EC-4C6D-8BFC-73F2931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5CCC9-CCED-4260-8999-31881F17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9B503-5FF7-429B-9874-DF5F82FB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94767-EC47-4DCC-9478-3CD16010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B0CBD-8DEA-497B-B0C7-7343196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9180A-18C5-4835-8242-568B0BD5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5CC-B3A0-4ACC-B3FA-7358A179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A9AC3-30D4-40E2-A95D-0518C95A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F98C2-D6F1-42BA-B085-E519F1E2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8EBCC-B3C0-4699-BAC9-7ADE153C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AA19A-0FD4-419C-B022-5C3AAB3F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934F9-1BCC-48A2-8D8E-77420613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B90DD-C7FB-4BFA-A76F-04151FE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AC905-2126-4F70-A358-D656F51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30819-58D0-4999-B0C9-16838253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F9D67-2A0D-4A53-AD11-B7CD0430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54085-6DBD-460E-A6B3-F48D794C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69A-B535-4030-92F6-638D985E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5D904-4E5E-4050-AD50-A8649CD7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2C3F1-370B-47E1-B800-146DC327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92D2F-7F52-46BB-B7DC-2BA03FDA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7A7F6-2A2C-41A6-8107-3A8AF8D5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45918-486C-4AEA-A6F1-303A4BD0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72884-5EA1-40D6-A9E9-DAFBA0D4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1CF46-FCCA-42D5-A95C-A287BD96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85080-19FD-4E5B-8E4B-84B5B9B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3A66F-E0C9-4A2A-90B2-10D526A8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E97AE-4A74-4CCE-AFC1-3EDEFCF1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D85-1AA7-4CA8-A187-EE3B4074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5DA24-0632-4F73-B896-D4650545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358BA-96AA-480A-8511-6B51A55C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BA794-C860-4E13-AC96-E343DF58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98CCC-3448-47B8-B9AA-FB8F826D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3DB88-E240-4721-A52C-428D5673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96E494-18CB-4BEB-98AA-8FF48D8C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209D1-3DA4-4620-90BE-234F4379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017C3-2B59-4508-B31F-C61437DF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19B18-BCC3-4915-8F4B-4D8C4B9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0C7AC-8BF4-4D23-B2B7-0016727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EC5-3822-4432-8807-8B6F753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9F644-B6A3-4FC0-AF09-F73D1F60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B97D2-F6E6-445D-B28A-D1AC285B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C0528-BE7C-43A4-B09D-EBC5D31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B7894-F872-470B-B86E-4BBF8FFB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CD478F-452C-4A9D-83BA-88E505B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37662-8271-4A6C-9B7B-E3510B6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BBB89-A0BF-4C56-A533-B9B70765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34B9B-F69D-4C84-BE11-2913A76C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888EE-6E66-4C17-881D-646271B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D2F77-9694-4CDA-A904-FA76C780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6D0-5409-4951-B89A-B09CF94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3CFF2-C89F-4A59-87C6-6710253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4278A-243E-47D8-9A95-3F6B7B2E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3D190-60FA-49AF-A618-1EB43A3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A531A-3F54-4DE1-9E8A-055A6B4C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7EB47-8D33-4BD4-934C-73E0E64B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973C2-D6F0-4FC7-A9CA-2925AF87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80525-21E9-45FC-8E7E-EE6CD861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34DEA-A059-4D96-88F4-67DF6EB3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FD7F0-0EB2-499F-9074-3F0E5D00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D2F60-0A0C-401C-9CB0-1AD4179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123-1800-46AF-A71E-0670AE56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9FDF5-C870-4C5E-AFC3-F086788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EFD79-6581-42CE-9227-6485CE94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47754-BC7B-4A0C-93F4-DE361675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D6AA2-B2F8-40ED-A398-BD8005F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8EB3E-6CD2-4125-8111-7A5D62D0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15E64-C44A-4409-9169-92202305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57E56-DEF8-4F09-8EF3-87CF38D7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EFB91-B6D2-48E1-A476-17DB50F7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D4E71-B00D-4851-9269-C20BCB22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38BF0-4FAA-484E-B13E-2EE3BD9B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83A-6447-4912-ABD0-75BD6F30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A3C6F-E6ED-4A1A-B3EC-6B551573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AC497-EE2E-41BA-8534-02A3364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418F3-2852-4343-BDD5-E464178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3B109-C693-43E7-AFBC-AA670F5A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E2B23-7391-4546-8A76-6BE0C8AF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97E37-010D-449B-9CB5-6C12B786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AE3C23-DE21-457B-B486-6948A02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43BF1-87CF-4F42-8D72-9D7571FD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04500-4B42-470A-8A36-D256BE40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8F5-D816-4389-BFC7-C88A8D5C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8A1-FF10-40AD-8FB5-20A0B62E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4E0-C190-4355-A5D6-604BD0F5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C569-B185-4FC5-8714-AD05CB69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FFFB-CC17-406A-841C-B1EEFE8D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ECA6-0510-4512-9189-7552CAC4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980D-A7EB-4B53-B68C-A52BB57A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A9B-89D8-4F62-93E6-5FE215EB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1F8C-3819-4514-8A0C-147A12E3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3FF8-1001-4F04-BAC0-580B3B12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04F5-9221-494B-B443-8DFED2E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B69-6BCC-42C1-B46A-97427CF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4514-AEFD-4D12-9ED8-91B9434C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69DD-F406-4291-91EC-53B2264A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C379-9CCA-4D40-A985-6661B5ED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E01A-E76A-4502-BC89-FB0206B1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0C8B-E6A8-4F3F-A1CA-E7D9FEA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5BC8-C7FB-4DB8-BC4B-C5A67B2E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13940-AB60-40F6-8C9D-D5CCF99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3B35-D590-4A4F-80B3-4053DC0A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6066-C489-4263-9A50-3F82B0E1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9A81-755B-4C18-AAFF-7FB9C9F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E322D-9B5B-41FE-ADC0-0DF68E07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51FD-33B0-405E-B8F4-68E8AED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C0B9-11C3-4CD2-A97A-E40AE30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3ECC-76DB-472A-990C-5CEB96DE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FFB5-108D-49D9-83ED-B2326C7A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7FFF-D42B-4F41-9CEF-8D67AF7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CEC0-50A7-493B-AF4D-271C2289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364A-46D0-4F1B-9F14-293E483C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1F31-1FD1-4B6D-BA53-21DC579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49343-0BDF-4201-A611-28441FD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D195-90AC-41F2-806A-1EE3C6F5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E0F9-4318-4C89-8B5F-28502B3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C25AD-348B-4DFE-BDA6-22C5F6AA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4924-3587-445B-B894-5ACA3B2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950F-38E0-44D3-A03D-D7645A91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0CC2D-7B61-4FAF-8A8D-EAA857FB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6074-88B1-4F7A-939A-E2C5E66F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72D3-2CF8-4CE7-BE2C-C6D43B39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F021A-CA4C-483C-A135-91E8159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EB94-D6B1-4058-9C46-F3DE709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B4D4-8B84-4BF3-94EC-189A4299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FF6E-DA16-4AC6-A04C-E842A74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1589-73AE-4710-A173-00FF09B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C72E-CEEB-425A-A1DB-9B972F1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8C27E-BCAC-4E47-9F3A-E7E36F59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819E-04E5-4D40-BACD-00F391F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899D-1845-40CB-B9B5-814601BE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2207-A797-4752-B789-DFF1AF0B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A1D5-D815-48A7-A391-9F9DDDFD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0BD0-7A2A-41A9-9306-4418C04F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0C9B-1B59-46DE-9324-61848E9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2DA0C-B8C6-45F5-8EFC-DA9680D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9E383-1C2D-4090-AF1C-EEAD9A29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61BE-65E2-4B3A-831F-C7C822D9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F009-09C5-48B0-9AD8-FF04D41B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E735F-9D93-4B13-A82F-0D69318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493B-DBCC-4429-A960-04A3A4A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DE778-3637-41E5-862B-385146BF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F689-1116-4DC6-A6E4-B521B9E3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2C014-8561-4336-AA02-B2A2E224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3254-A8E7-4326-8B0D-E8963F24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E32D-E3BC-45A0-8006-C67B5BF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9198E-408A-4EED-939B-DC3F567F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9FD0-CC08-4F54-B3FB-B6A0BA2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974FD-9DC2-4CEA-8B01-C8F3BB61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02C44-FB37-43A9-9037-A1B8015C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29380-1F1F-4EAF-80AF-1678E31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3826-C8D0-435D-8D64-ADCF5EA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75D9-6AD8-4B76-A3A0-D60F786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22EB-F10E-4752-95E5-25DB717F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A473-602D-4346-BEE0-905C7AA0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2A00-2D2B-40C8-9276-63AEDBA9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BD664-9E68-49D5-BC38-66954596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2019-28C6-4A25-B68D-47F72726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557B3-DE2D-4F62-A76D-D8FACBC4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0369-D7D0-4AF4-801E-3DAFFD673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EC54-907B-4749-BF47-0C5F36F48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29FD-B8D1-4500-97CA-BAF618F654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E669-2AFA-486B-8214-B08EBFCC5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F8DB-FCF9-47DF-83C2-45BE48868E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C08B-41FA-4DBD-B534-99D13EE03D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4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4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4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514A-B74E-4A59-83CD-E0B7F6187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4B45-5550-43A7-8383-765974F14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dt" idx="4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5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5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C78-BD89-446C-B880-94EF95726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dt" idx="5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ftr" idx="5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sldNum" idx="5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0FDD-DA09-4813-A5DD-A642B8E5D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4949-FB19-4D6C-A57E-0155BFA46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CEA1-66F0-418C-83EB-B77FD32E9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C465-D30E-491A-98A9-A320ECF90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C8E-3DCC-4C85-B8AA-77A8CEB2D4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6AB6-1453-47D0-BE53-8F2AB8779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5087-C726-46A5-B059-CFE458F3B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783E-387B-4473-A16E-591A3E66FA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2359-7B24-4A6D-AB8F-BFE9963E4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tif"/><Relationship Id="rId6" Type="http://schemas.openxmlformats.org/officeDocument/2006/relationships/image" Target="../media/image17.tif"/><Relationship Id="rId7" Type="http://schemas.openxmlformats.org/officeDocument/2006/relationships/image" Target="../media/image14.gif"/><Relationship Id="rId8" Type="http://schemas.openxmlformats.org/officeDocument/2006/relationships/image" Target="../media/image16.tif"/><Relationship Id="rId9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tif"/><Relationship Id="rId7" Type="http://schemas.openxmlformats.org/officeDocument/2006/relationships/image" Target="../media/image12.tif"/><Relationship Id="rId8" Type="http://schemas.openxmlformats.org/officeDocument/2006/relationships/image" Target="../media/image13.tif"/><Relationship Id="rId9" Type="http://schemas.openxmlformats.org/officeDocument/2006/relationships/image" Target="../media/image8.gif"/><Relationship Id="rId10" Type="http://schemas.openxmlformats.org/officeDocument/2006/relationships/image" Target="../media/image11.tif"/><Relationship Id="rId1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60" name="矩形 5"/>
          <p:cNvSpPr/>
          <p:nvPr/>
        </p:nvSpPr>
        <p:spPr>
          <a:xfrm>
            <a:off x="1701720" y="22510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⑧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雨点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7"/>
          <p:cNvSpPr/>
          <p:nvPr/>
        </p:nvSpPr>
        <p:spPr>
          <a:xfrm>
            <a:off x="495360" y="987480"/>
            <a:ext cx="969840" cy="398880"/>
          </a:xfrm>
          <a:prstGeom prst="rect">
            <a:avLst/>
          </a:pr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课  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1" descr="从"/>
          <p:cNvPicPr/>
          <p:nvPr/>
        </p:nvPicPr>
        <p:blipFill>
          <a:blip r:embed="rId3"/>
          <a:stretch/>
        </p:blipFill>
        <p:spPr>
          <a:xfrm>
            <a:off x="887400" y="1771560"/>
            <a:ext cx="3759120" cy="26323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你"/>
          <p:cNvPicPr/>
          <p:nvPr/>
        </p:nvPicPr>
        <p:blipFill>
          <a:blip r:embed="rId4"/>
          <a:stretch/>
        </p:blipFill>
        <p:spPr>
          <a:xfrm>
            <a:off x="4413240" y="1625760"/>
            <a:ext cx="3792600" cy="26542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" descr="KT从"/>
          <p:cNvPicPr/>
          <p:nvPr/>
        </p:nvPicPr>
        <p:blipFill>
          <a:blip r:embed="rId5"/>
          <a:stretch/>
        </p:blipFill>
        <p:spPr>
          <a:xfrm>
            <a:off x="1427040" y="4280040"/>
            <a:ext cx="2679840" cy="65700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" descr="KT你"/>
          <p:cNvPicPr/>
          <p:nvPr/>
        </p:nvPicPr>
        <p:blipFill>
          <a:blip r:embed="rId6"/>
          <a:stretch/>
        </p:blipFill>
        <p:spPr>
          <a:xfrm>
            <a:off x="4784760" y="4375080"/>
            <a:ext cx="3325680" cy="4669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" descr="从"/>
          <p:cNvPicPr/>
          <p:nvPr/>
        </p:nvPicPr>
        <p:blipFill>
          <a:blip r:embed="rId7"/>
          <a:stretch/>
        </p:blipFill>
        <p:spPr>
          <a:xfrm>
            <a:off x="880920" y="1771560"/>
            <a:ext cx="3759480" cy="2632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" descr="KT从"/>
          <p:cNvPicPr/>
          <p:nvPr/>
        </p:nvPicPr>
        <p:blipFill>
          <a:blip r:embed="rId8"/>
          <a:stretch/>
        </p:blipFill>
        <p:spPr>
          <a:xfrm>
            <a:off x="1420920" y="4280040"/>
            <a:ext cx="26794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文本框 6"/>
          <p:cNvSpPr/>
          <p:nvPr/>
        </p:nvSpPr>
        <p:spPr>
          <a:xfrm>
            <a:off x="1368360" y="460440"/>
            <a:ext cx="6953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问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半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从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7"/>
          <p:cNvSpPr/>
          <p:nvPr/>
        </p:nvSpPr>
        <p:spPr>
          <a:xfrm>
            <a:off x="2755800" y="577800"/>
            <a:ext cx="246384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问    下问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10"/>
          <p:cNvSpPr/>
          <p:nvPr/>
        </p:nvSpPr>
        <p:spPr>
          <a:xfrm>
            <a:off x="2755800" y="2759040"/>
            <a:ext cx="239724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半    大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13"/>
          <p:cNvSpPr/>
          <p:nvPr/>
        </p:nvSpPr>
        <p:spPr>
          <a:xfrm>
            <a:off x="2735280" y="1650960"/>
            <a:ext cx="250488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人    有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1"/>
          <p:cNvSpPr/>
          <p:nvPr/>
        </p:nvSpPr>
        <p:spPr>
          <a:xfrm>
            <a:off x="2735280" y="3813120"/>
            <a:ext cx="239724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来    从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2"/>
          <p:cNvSpPr/>
          <p:nvPr/>
        </p:nvSpPr>
        <p:spPr>
          <a:xfrm>
            <a:off x="6046920" y="577800"/>
            <a:ext cx="2463840" cy="5814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们    你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图片 2" descr="图片1"/>
          <p:cNvPicPr/>
          <p:nvPr/>
        </p:nvPicPr>
        <p:blipFill>
          <a:blip r:embed="rId2"/>
          <a:stretch/>
        </p:blipFill>
        <p:spPr>
          <a:xfrm>
            <a:off x="-9360" y="-61920"/>
            <a:ext cx="916128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 2" descr="01033310.jpg.thumb"/>
          <p:cNvPicPr/>
          <p:nvPr/>
        </p:nvPicPr>
        <p:blipFill>
          <a:blip r:embed="rId2"/>
          <a:stretch/>
        </p:blipFill>
        <p:spPr>
          <a:xfrm>
            <a:off x="414360" y="2004840"/>
            <a:ext cx="1276200" cy="1035360"/>
          </a:xfrm>
          <a:prstGeom prst="rect">
            <a:avLst/>
          </a:prstGeom>
          <a:ln w="0">
            <a:noFill/>
          </a:ln>
        </p:spPr>
      </p:pic>
      <p:sp>
        <p:nvSpPr>
          <p:cNvPr id="802" name="文本框 5"/>
          <p:cNvSpPr/>
          <p:nvPr/>
        </p:nvSpPr>
        <p:spPr>
          <a:xfrm>
            <a:off x="2436840" y="190188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6"/>
          <p:cNvSpPr/>
          <p:nvPr/>
        </p:nvSpPr>
        <p:spPr>
          <a:xfrm>
            <a:off x="2436840" y="266400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7"/>
          <p:cNvSpPr/>
          <p:nvPr/>
        </p:nvSpPr>
        <p:spPr>
          <a:xfrm>
            <a:off x="2436840" y="344340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0"/>
          <p:cNvSpPr/>
          <p:nvPr/>
        </p:nvSpPr>
        <p:spPr>
          <a:xfrm>
            <a:off x="2436840" y="4200480"/>
            <a:ext cx="9237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11"/>
          <p:cNvSpPr/>
          <p:nvPr/>
        </p:nvSpPr>
        <p:spPr>
          <a:xfrm>
            <a:off x="4106880" y="190188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2"/>
          <p:cNvSpPr/>
          <p:nvPr/>
        </p:nvSpPr>
        <p:spPr>
          <a:xfrm>
            <a:off x="4108320" y="26640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13"/>
          <p:cNvSpPr/>
          <p:nvPr/>
        </p:nvSpPr>
        <p:spPr>
          <a:xfrm>
            <a:off x="4110120" y="34974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图片 14" descr="20140826091315664"/>
          <p:cNvPicPr/>
          <p:nvPr/>
        </p:nvPicPr>
        <p:blipFill>
          <a:blip r:embed="rId3"/>
          <a:stretch/>
        </p:blipFill>
        <p:spPr>
          <a:xfrm>
            <a:off x="6288120" y="2714760"/>
            <a:ext cx="2379600" cy="2157120"/>
          </a:xfrm>
          <a:prstGeom prst="rect">
            <a:avLst/>
          </a:prstGeom>
          <a:ln w="0">
            <a:noFill/>
          </a:ln>
        </p:spPr>
      </p:pic>
      <p:sp>
        <p:nvSpPr>
          <p:cNvPr id="810" name="文本框 13"/>
          <p:cNvSpPr/>
          <p:nvPr/>
        </p:nvSpPr>
        <p:spPr>
          <a:xfrm>
            <a:off x="4106880" y="419904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1"/>
          <p:cNvSpPr/>
          <p:nvPr/>
        </p:nvSpPr>
        <p:spPr>
          <a:xfrm>
            <a:off x="5638680" y="190188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1"/>
          <p:cNvSpPr/>
          <p:nvPr/>
        </p:nvSpPr>
        <p:spPr>
          <a:xfrm>
            <a:off x="109440" y="14382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1"/>
          <p:cNvSpPr/>
          <p:nvPr/>
        </p:nvSpPr>
        <p:spPr>
          <a:xfrm>
            <a:off x="5638680" y="26640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绿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1"/>
          <p:cNvSpPr/>
          <p:nvPr/>
        </p:nvSpPr>
        <p:spPr>
          <a:xfrm>
            <a:off x="5638680" y="3443400"/>
            <a:ext cx="92556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11"/>
          <p:cNvSpPr/>
          <p:nvPr/>
        </p:nvSpPr>
        <p:spPr>
          <a:xfrm>
            <a:off x="7077240" y="1901880"/>
            <a:ext cx="925200" cy="7034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3"/>
          <p:cNvSpPr/>
          <p:nvPr/>
        </p:nvSpPr>
        <p:spPr>
          <a:xfrm>
            <a:off x="235080" y="3632040"/>
            <a:ext cx="86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数不清的雨点儿，从云彩里飘落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65" name="文本框 3"/>
          <p:cNvSpPr/>
          <p:nvPr/>
        </p:nvSpPr>
        <p:spPr>
          <a:xfrm>
            <a:off x="219240" y="233280"/>
            <a:ext cx="62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半空中，大雨点儿问小雨点儿：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你要到哪里去？</a:t>
            </a:r>
            <a:r>
              <a:rPr b="0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3"/>
          <p:cNvSpPr/>
          <p:nvPr/>
        </p:nvSpPr>
        <p:spPr>
          <a:xfrm>
            <a:off x="127080" y="2085840"/>
            <a:ext cx="3879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雨点儿回答：“我要去有花有草的地方，你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" descr="图片1"/>
          <p:cNvPicPr/>
          <p:nvPr/>
        </p:nvPicPr>
        <p:blipFill>
          <a:blip r:embed="rId2"/>
          <a:stretch/>
        </p:blipFill>
        <p:spPr>
          <a:xfrm>
            <a:off x="0" y="-17640"/>
            <a:ext cx="9161640" cy="51786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3"/>
          <p:cNvSpPr/>
          <p:nvPr/>
        </p:nvSpPr>
        <p:spPr>
          <a:xfrm>
            <a:off x="4716360" y="2193840"/>
            <a:ext cx="4097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雨点儿回答：“我要去有花有草的地方，你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70" name="文本框 3"/>
          <p:cNvSpPr/>
          <p:nvPr/>
        </p:nvSpPr>
        <p:spPr>
          <a:xfrm>
            <a:off x="189000" y="13525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7171"/>
                </a:solidFill>
                <a:latin typeface="华文隶书"/>
                <a:ea typeface="华文隶书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雨点儿说：“我要去没有花没有草的地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72" name="文本框 3"/>
          <p:cNvSpPr/>
          <p:nvPr/>
        </p:nvSpPr>
        <p:spPr>
          <a:xfrm>
            <a:off x="314280" y="129852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久，有花有草的地方，花更红了，草更绿了。没有花没有草的地方，开出了红的花，长出了绿的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3"/>
          <p:cNvSpPr/>
          <p:nvPr/>
        </p:nvSpPr>
        <p:spPr>
          <a:xfrm>
            <a:off x="1658880" y="1287360"/>
            <a:ext cx="71262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读课文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雨点儿要去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大雨点儿要去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76" name="文本框 3"/>
          <p:cNvSpPr/>
          <p:nvPr/>
        </p:nvSpPr>
        <p:spPr>
          <a:xfrm>
            <a:off x="1809720" y="1306440"/>
            <a:ext cx="6783480" cy="27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、读下面句子，注意好停顿。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不久，有花有草的地方，花更红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草更绿了。没有花没有草的地方，开出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红的花，长出了绿的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图片 2" descr="图片1"/>
          <p:cNvPicPr/>
          <p:nvPr/>
        </p:nvPicPr>
        <p:blipFill>
          <a:blip r:embed="rId2"/>
          <a:stretch/>
        </p:blipFill>
        <p:spPr>
          <a:xfrm>
            <a:off x="-9360" y="-17640"/>
            <a:ext cx="9161280" cy="5178600"/>
          </a:xfrm>
          <a:prstGeom prst="rect">
            <a:avLst/>
          </a:prstGeom>
          <a:ln w="0">
            <a:noFill/>
          </a:ln>
        </p:spPr>
      </p:pic>
      <p:sp>
        <p:nvSpPr>
          <p:cNvPr id="778" name="文本框 1"/>
          <p:cNvSpPr/>
          <p:nvPr/>
        </p:nvSpPr>
        <p:spPr>
          <a:xfrm>
            <a:off x="109440" y="14382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" descr="问"/>
          <p:cNvPicPr/>
          <p:nvPr/>
        </p:nvPicPr>
        <p:blipFill>
          <a:blip r:embed="rId3"/>
          <a:stretch/>
        </p:blipFill>
        <p:spPr>
          <a:xfrm>
            <a:off x="109440" y="1925640"/>
            <a:ext cx="3583080" cy="25081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" descr="有"/>
          <p:cNvPicPr/>
          <p:nvPr/>
        </p:nvPicPr>
        <p:blipFill>
          <a:blip r:embed="rId4"/>
          <a:stretch/>
        </p:blipFill>
        <p:spPr>
          <a:xfrm>
            <a:off x="2819520" y="1925640"/>
            <a:ext cx="3678120" cy="25750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" descr="半"/>
          <p:cNvPicPr/>
          <p:nvPr/>
        </p:nvPicPr>
        <p:blipFill>
          <a:blip r:embed="rId5"/>
          <a:stretch/>
        </p:blipFill>
        <p:spPr>
          <a:xfrm>
            <a:off x="5411880" y="1951200"/>
            <a:ext cx="3639960" cy="25495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" descr="KT问"/>
          <p:cNvPicPr/>
          <p:nvPr/>
        </p:nvPicPr>
        <p:blipFill>
          <a:blip r:embed="rId6"/>
          <a:stretch/>
        </p:blipFill>
        <p:spPr>
          <a:xfrm>
            <a:off x="450720" y="4384800"/>
            <a:ext cx="2660760" cy="4363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" descr="KT有"/>
          <p:cNvPicPr/>
          <p:nvPr/>
        </p:nvPicPr>
        <p:blipFill>
          <a:blip r:embed="rId7"/>
          <a:stretch/>
        </p:blipFill>
        <p:spPr>
          <a:xfrm>
            <a:off x="3368520" y="4384800"/>
            <a:ext cx="2578320" cy="422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" descr="KT半"/>
          <p:cNvPicPr/>
          <p:nvPr/>
        </p:nvPicPr>
        <p:blipFill>
          <a:blip r:embed="rId8"/>
          <a:stretch/>
        </p:blipFill>
        <p:spPr>
          <a:xfrm>
            <a:off x="6272280" y="4433760"/>
            <a:ext cx="2100240" cy="4273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" descr="问"/>
          <p:cNvPicPr/>
          <p:nvPr/>
        </p:nvPicPr>
        <p:blipFill>
          <a:blip r:embed="rId9"/>
          <a:stretch/>
        </p:blipFill>
        <p:spPr>
          <a:xfrm>
            <a:off x="101520" y="1919160"/>
            <a:ext cx="3584520" cy="25084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" descr="KT问"/>
          <p:cNvPicPr/>
          <p:nvPr/>
        </p:nvPicPr>
        <p:blipFill>
          <a:blip r:embed="rId10"/>
          <a:stretch/>
        </p:blipFill>
        <p:spPr>
          <a:xfrm>
            <a:off x="442800" y="4378320"/>
            <a:ext cx="26622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7:02:00Z</dcterms:created>
  <dc:creator>Administrator</dc:creator>
  <dc:description/>
  <dc:language>en-US</dc:language>
  <cp:lastModifiedBy>wuhan</cp:lastModifiedBy>
  <dcterms:modified xsi:type="dcterms:W3CDTF">2020-05-20T02:18:17Z</dcterms:modified>
  <cp:revision>13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