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B77-AB09-40D8-ADEA-0A7F47AA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888-FF54-4F7A-A88B-CA5E897B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AE9-7F3C-4203-AA54-9A6E78F5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736-A2AE-4280-8AB3-0C90B82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E54-21FD-46FB-9F98-67B2E9A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52B-28CA-411E-B9EE-0F333633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382-3346-4074-A3B0-3ABD3A6E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C0-3799-4C22-A7A0-34A4D9C1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195-AECD-4FE4-AC0B-C0701B9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808-6FAD-4E64-BA2C-EB3B3A8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B9B-D140-41AD-90AE-CC587DE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203-8F53-4D75-8B7F-CAB74C0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09B2-C065-4A7B-8F89-E3955C261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pic/3/11829427649132192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995640" y="476280"/>
            <a:ext cx="5148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方正行楷简体"/>
              </a:rPr>
              <a:t>游栖霞紫云洞记 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方正行楷简体"/>
              <a:ea typeface="方正行楷简体"/>
            </a:endParaRPr>
          </a:p>
        </p:txBody>
      </p:sp>
      <p:pic>
        <p:nvPicPr>
          <p:cNvPr id="42" name="Picture 7" descr="11829427649132192_sma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88200" y="2781360"/>
            <a:ext cx="2755800" cy="4076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889520" y="3644280"/>
            <a:ext cx="106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89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方正行楷简体"/>
                <a:ea typeface="方正行楷简体"/>
              </a:rPr>
              <a:t>林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3576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1781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图而藏之   名词作动词，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洞壁穹窿斜上  名词作状语 象天空那样中间隆起而四面下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根下插，    名词作状语   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山径至栖霞禅院止焉     名词作状语  取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59720" y="35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958760" y="2293920"/>
            <a:ext cx="3469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省略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泉穴（于）南壁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茶（于）僧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751760" y="3938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特殊句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195640" y="404640"/>
            <a:ext cx="4114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方正行楷简体"/>
              </a:rPr>
              <a:t>作者简介</a:t>
            </a:r>
            <a:endParaRPr b="1" i="1" lang="en-US" sz="8000" spc="1" strike="noStrike">
              <a:ln w="9360">
                <a:solidFill>
                  <a:srgbClr val="0099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方正行楷简体"/>
              <a:ea typeface="方正行楷简体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31518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林纾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1852—1924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年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中国近代文学家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翻译家。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原名群玉、秉辉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字琴南，号畏庐、畏庐居士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，别署冷红生。晚称蠡叟、践卓翁、六桥补柳翁、春觉斋主人。室名春觉斋、烟云楼等。福建闽县（今福州）人，我国近代著名文学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Arial"/>
                <a:ea typeface="华文行楷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方正行楷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林纾青年时代便关心世界形势，认为中国要富强，必须学习西方。中年而后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尽购中国所有东西洋译本读之，提要钩元而会其通，为省中后起英隽所矜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。他不懂外语，不能读原著，只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玩索译本，默印心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，常向马尾船政学堂师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质西书疑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。后来他与朋友王寿昌、魏易、王庆骥、王庆通等人合作，翻译外国小说，曾笔述英、法、美、比、俄、挪威、瑞士、希腊、日本和西班牙等十几个国家的几十名作家的作品。一生著译甚丰，翻译小说达二百余种，为中国近代译界所罕见，曾被人誉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译界之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行楷简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方正行楷简体"/>
                <a:ea typeface="方正行楷简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Arial"/>
                <a:ea typeface="华文行楷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林纾除翻译小说外，文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畏庐文集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续集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三集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，诗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畏庐诗存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闽中新乐府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，自著小说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京华碧血录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巾帼阳秋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冤海灵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金陵秋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等，笔记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畏庐漫录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畏庐笔记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畏庐琐记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技击余闻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等，传奇有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蜀鹃啼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合浦珠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天妃庙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等。还有古文研究著作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韩柳文研究法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春觉斋论文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以及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左孟庄骚精华录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左传撷华</a:t>
            </a:r>
            <a:r>
              <a:rPr b="1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等。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代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紫云洞在杭州市岳王庙后山栖霞岭上，洞分前洞、后洞，洞洞相连，前洞较为宽敞，光线从半掩半覆的悬崖峭壁间透入。岩石略带紫色，紫云洞之名由此而来。作者在光绪二十五年由赏此洞，遂作此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14200" y="27594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为写景的游记，作者笔下的栖霞紫云洞有何特点？写作顺序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83000" y="500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研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30200" y="25876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学生以导游的身份，对紫云洞进行介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绕“奇”字对其中某一画面进行扩展描写的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83000" y="500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研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756240" y="47808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言实词、虚词、句式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85840" y="1649520"/>
            <a:ext cx="843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假字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被重锦： 被同“披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斗见天光  斗：同“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盘散乃可下 盘散：同“蹒跚”、“盘跚”，旋转着行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920" y="143784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盘散乃可下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： 盘散：同“蹒跚”、“盘跚”，旋转着行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：盘子里的东西散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武以外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：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：武功，武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660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2:06:12Z</dcterms:created>
  <dc:creator>番茄花园</dc:creator>
  <dc:description/>
  <dc:language>en-US</dc:language>
  <cp:lastModifiedBy>USER</cp:lastModifiedBy>
  <dcterms:modified xsi:type="dcterms:W3CDTF">2008-05-16T00:40:45Z</dcterms:modified>
  <cp:revision>9</cp:revision>
  <dc:subject/>
  <dc:title>幻灯片 1</dc:title>
</cp:coreProperties>
</file>