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wind.wav" ContentType="audio/x-wav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7.xml" ContentType="application/vnd.openxmlformats-officedocument.presentationml.comments+xml"/>
  <Override PartName="/ppt/comments/comment17.xml" ContentType="application/vnd.openxmlformats-officedocument.presentationml.comments+xml"/>
  <Override PartName="/ppt/comments/comment2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2" name="www.xkb1.com" initials="w" lastIdx="1" clrIdx="2"/>
  <p:cmAuthor id="1" name="xbany" initials="x" lastIdx="1" clrIdx="1"/>
  <p:cmAuthor id="0" name="绿色圃中小学教育网" initials="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1" dt="2017-11-27T16:15:43.796000000" idx="1">
    <p:pos x="6125" y="810"/>
    <p:text>比克尔下载站</p:text>
  </p:cm>
</p:cmLst>
</file>

<file path=ppt/comments/comment25.xml><?xml version="1.0" encoding="utf-8"?>
<p:cmLst xmlns:p="http://schemas.openxmlformats.org/presentationml/2006/main">
  <p:cm authorId="2" dt="2016-08-26T23:02:37.267000000" idx="1">
    <p:pos x="1567" y="618"/>
    <p:text/>
  </p:cm>
</p:cmLst>
</file>

<file path=ppt/comments/comment7.xml><?xml version="1.0" encoding="utf-8"?>
<p:cmLst xmlns:p="http://schemas.openxmlformats.org/presentationml/2006/main">
  <p:cm authorId="0" dt="2016-08-29T15:28:26.192000000" idx="1">
    <p:pos x="4140" y="637"/>
    <p:text>
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E57E-E5C5-48DD-B3DB-65C3F260EF70}" type="slidenum">
              <a:rPr b="0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2411280" y="126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秋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图片 6" descr="u=764711518,2660596506&amp;fm=21&amp;gp=0[1].jpg"/>
          <p:cNvPicPr/>
          <p:nvPr/>
        </p:nvPicPr>
        <p:blipFill>
          <a:blip r:embed="rId1"/>
          <a:stretch/>
        </p:blipFill>
        <p:spPr>
          <a:xfrm>
            <a:off x="1042920" y="2492280"/>
            <a:ext cx="7093080" cy="33559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418680" y="6453360"/>
            <a:ext cx="34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nán fē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南  飞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716800" y="441972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086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ā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i hu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ì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开 会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365720" y="472428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68580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è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  z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个   子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059200" y="480060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201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pic>
        <p:nvPicPr>
          <p:cNvPr id="204" name="矩形 1" descr=""/>
          <p:cNvPicPr/>
          <p:nvPr/>
        </p:nvPicPr>
        <p:blipFill>
          <a:blip r:embed="rId3"/>
          <a:stretch/>
        </p:blipFill>
        <p:spPr>
          <a:xfrm>
            <a:off x="542880" y="1981080"/>
            <a:ext cx="2139840" cy="858960"/>
          </a:xfrm>
          <a:prstGeom prst="rect">
            <a:avLst/>
          </a:prstGeom>
          <a:ln w="0">
            <a:noFill/>
          </a:ln>
        </p:spPr>
      </p:pic>
      <p:sp>
        <p:nvSpPr>
          <p:cNvPr id="205" name="文本框 8"/>
          <p:cNvSpPr/>
          <p:nvPr/>
        </p:nvSpPr>
        <p:spPr>
          <a:xfrm>
            <a:off x="3191040" y="3405240"/>
            <a:ext cx="577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楷体"/>
                <a:ea typeface="楷体"/>
              </a:rPr>
              <a:t>组词：吃了   到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图片 3" descr=""/>
          <p:cNvPicPr/>
          <p:nvPr/>
        </p:nvPicPr>
        <p:blipFill>
          <a:blip r:embed="rId4"/>
          <a:stretch/>
        </p:blipFill>
        <p:spPr>
          <a:xfrm>
            <a:off x="539640" y="3141720"/>
            <a:ext cx="2446560" cy="24462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1279440" y="298440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826920" y="3357720"/>
            <a:ext cx="181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3276720" y="26668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楷体"/>
                <a:ea typeface="楷体"/>
              </a:rPr>
              <a:t>结构：独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211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pic>
        <p:nvPicPr>
          <p:cNvPr id="214" name="矩形 1" descr=""/>
          <p:cNvPicPr/>
          <p:nvPr/>
        </p:nvPicPr>
        <p:blipFill>
          <a:blip r:embed="rId3"/>
          <a:stretch/>
        </p:blipFill>
        <p:spPr>
          <a:xfrm>
            <a:off x="542880" y="1981080"/>
            <a:ext cx="2139840" cy="858960"/>
          </a:xfrm>
          <a:prstGeom prst="rect">
            <a:avLst/>
          </a:prstGeom>
          <a:ln w="0">
            <a:noFill/>
          </a:ln>
        </p:spPr>
      </p:pic>
      <p:sp>
        <p:nvSpPr>
          <p:cNvPr id="215" name="文本框 8"/>
          <p:cNvSpPr/>
          <p:nvPr/>
        </p:nvSpPr>
        <p:spPr>
          <a:xfrm>
            <a:off x="3084480" y="3470400"/>
            <a:ext cx="58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楷体"/>
                <a:ea typeface="楷体"/>
              </a:rPr>
              <a:t>组词：孩子    儿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图片 3" descr=""/>
          <p:cNvPicPr/>
          <p:nvPr/>
        </p:nvPicPr>
        <p:blipFill>
          <a:blip r:embed="rId4"/>
          <a:stretch/>
        </p:blipFill>
        <p:spPr>
          <a:xfrm>
            <a:off x="539640" y="2924280"/>
            <a:ext cx="2446560" cy="24462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826920" y="3141720"/>
            <a:ext cx="181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子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3276720" y="26668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楷体"/>
                <a:ea typeface="楷体"/>
              </a:rPr>
              <a:t>结构：独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7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220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1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pic>
        <p:nvPicPr>
          <p:cNvPr id="223" name="矩形 1" descr=""/>
          <p:cNvPicPr/>
          <p:nvPr/>
        </p:nvPicPr>
        <p:blipFill>
          <a:blip r:embed="rId3"/>
          <a:stretch/>
        </p:blipFill>
        <p:spPr>
          <a:xfrm>
            <a:off x="542880" y="1981080"/>
            <a:ext cx="2139840" cy="85896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8"/>
          <p:cNvSpPr/>
          <p:nvPr/>
        </p:nvSpPr>
        <p:spPr>
          <a:xfrm>
            <a:off x="3191040" y="3357720"/>
            <a:ext cx="577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楷体"/>
                <a:ea typeface="楷体"/>
              </a:rPr>
              <a:t>组词：人们</a:t>
            </a:r>
            <a:r>
              <a:rPr b="0" lang="en-US" sz="3200" spc="-1" strike="noStrike">
                <a:solidFill>
                  <a:srgbClr val="99cc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99cc00"/>
                </a:solidFill>
                <a:latin typeface="楷体"/>
                <a:ea typeface="楷体"/>
              </a:rPr>
              <a:t>大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3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2446200" cy="24462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755640" y="3357720"/>
            <a:ext cx="18144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3276720" y="26668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楷体"/>
                <a:ea typeface="楷体"/>
              </a:rPr>
              <a:t>结构：独体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7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229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0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pic>
        <p:nvPicPr>
          <p:cNvPr id="232" name="矩形 1" descr=""/>
          <p:cNvPicPr/>
          <p:nvPr/>
        </p:nvPicPr>
        <p:blipFill>
          <a:blip r:embed="rId3"/>
          <a:stretch/>
        </p:blipFill>
        <p:spPr>
          <a:xfrm>
            <a:off x="542880" y="1981080"/>
            <a:ext cx="2139840" cy="858960"/>
          </a:xfrm>
          <a:prstGeom prst="rect">
            <a:avLst/>
          </a:prstGeom>
          <a:ln w="0">
            <a:noFill/>
          </a:ln>
        </p:spPr>
      </p:pic>
      <p:sp>
        <p:nvSpPr>
          <p:cNvPr id="233" name="文本框 8"/>
          <p:cNvSpPr/>
          <p:nvPr/>
        </p:nvSpPr>
        <p:spPr>
          <a:xfrm>
            <a:off x="3191040" y="3357720"/>
            <a:ext cx="562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楷体"/>
                <a:ea typeface="楷体"/>
              </a:rPr>
              <a:t>组词：大小   大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图片 3" descr=""/>
          <p:cNvPicPr/>
          <p:nvPr/>
        </p:nvPicPr>
        <p:blipFill>
          <a:blip r:embed="rId4"/>
          <a:stretch/>
        </p:blipFill>
        <p:spPr>
          <a:xfrm>
            <a:off x="611280" y="3141720"/>
            <a:ext cx="2446200" cy="24462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5"/>
          <p:cNvSpPr/>
          <p:nvPr/>
        </p:nvSpPr>
        <p:spPr>
          <a:xfrm>
            <a:off x="971640" y="3429000"/>
            <a:ext cx="18144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3276720" y="26668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楷体"/>
                <a:ea typeface="楷体"/>
              </a:rPr>
              <a:t>结构：独体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7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196640"/>
            <a:ext cx="91440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秋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天气凉了，树叶黄了。一片片叶子从树上落下来。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空那么蓝，那么高。一群大雁往南飞，一会儿排成个“人”字，一会儿排成个“一”字。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‖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！秋天来了！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239" name="直线连接符 21"/>
          <p:cNvSpPr/>
          <p:nvPr/>
        </p:nvSpPr>
        <p:spPr>
          <a:xfrm flipV="1">
            <a:off x="179280" y="134136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4"/>
          <p:cNvSpPr/>
          <p:nvPr/>
        </p:nvSpPr>
        <p:spPr>
          <a:xfrm>
            <a:off x="0" y="1484280"/>
            <a:ext cx="90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凉了，树叶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黄了，一片片叶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树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落下来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4"/>
          <p:cNvSpPr/>
          <p:nvPr/>
        </p:nvSpPr>
        <p:spPr>
          <a:xfrm>
            <a:off x="0" y="1066680"/>
            <a:ext cx="98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b050"/>
                </a:solidFill>
                <a:latin typeface="黑体"/>
                <a:ea typeface="黑体"/>
              </a:rPr>
              <a:t>果园里，梨子（   ），苹果（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b050"/>
                </a:solidFill>
                <a:latin typeface="黑体"/>
                <a:ea typeface="黑体"/>
              </a:rPr>
              <a:t>），葡萄</a:t>
            </a:r>
            <a:r>
              <a:rPr b="1" lang="en-US" sz="3600" spc="-1" strike="noStrike">
                <a:solidFill>
                  <a:srgbClr val="00b05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b050"/>
                </a:solidFill>
                <a:latin typeface="黑体"/>
                <a:ea typeface="黑体"/>
              </a:rPr>
              <a:t>），丰收的季节到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4788000" y="1413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黄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7667640" y="1484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红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1116000" y="1989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紫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520560" y="3677760"/>
            <a:ext cx="81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雁群为什么总排成“一”字或“人”字形队伍飞行呢？这是因为大雁飞行的路程很长，它们除了靠扇动翅膀飞行之外，也常利用上升气流在天空中滑翔，使翅膀得到间断的休息空隙，以节省自己的体力。当雁群飞行时，前面雁的翅膀在空中划过，膀尖上会产生一股微弱的上升气流，后边的雁为了利用这股气流，就紧跟在前雁膀尖的后面飞，这样一个跟着一个，就排成了整齐队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0" y="907560"/>
            <a:ext cx="914400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qiūtiāndàole,wǒmenzhōuwéifāshē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秋  天  到了，我们  周围  发 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lenǎxiēbiàn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huà,zìjǐzàishūzhōnghu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了哪些   变    化，自己在  书     中    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iàlái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下  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52480" y="3933360"/>
            <a:ext cx="64911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ué xí fǎ bǎo sān</a:t>
            </a:r>
            <a:br>
              <a:rPr sz="4400"/>
            </a:b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学习法宝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秋天的变化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天气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 ）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树叶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 ）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     ）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3"/>
          <p:cNvSpPr/>
          <p:nvPr/>
        </p:nvSpPr>
        <p:spPr>
          <a:xfrm flipH="1">
            <a:off x="5074560" y="2925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凉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4998960" y="379404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落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4846680" y="44989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南飞了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标题 1"/>
          <p:cNvSpPr/>
          <p:nvPr/>
        </p:nvSpPr>
        <p:spPr>
          <a:xfrm>
            <a:off x="0" y="533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8"/>
          <p:cNvGrpSpPr/>
          <p:nvPr/>
        </p:nvGrpSpPr>
        <p:grpSpPr>
          <a:xfrm>
            <a:off x="0" y="476280"/>
            <a:ext cx="2374560" cy="1223640"/>
            <a:chOff x="0" y="476280"/>
            <a:chExt cx="2374560" cy="1223640"/>
          </a:xfrm>
        </p:grpSpPr>
        <p:pic>
          <p:nvPicPr>
            <p:cNvPr id="253" name="Picture 9" descr="xxyw2bp71"/>
            <p:cNvPicPr/>
            <p:nvPr/>
          </p:nvPicPr>
          <p:blipFill>
            <a:blip r:embed="rId1"/>
            <a:srcRect l="75265" t="58295" r="4683" b="29563"/>
            <a:stretch/>
          </p:blipFill>
          <p:spPr>
            <a:xfrm>
              <a:off x="1017720" y="476280"/>
              <a:ext cx="1356840" cy="10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0" descr="xxyw2bp70"/>
            <p:cNvPicPr/>
            <p:nvPr/>
          </p:nvPicPr>
          <p:blipFill>
            <a:blip r:embed="rId2"/>
            <a:srcRect l="0" t="40466" r="78142" b="43021"/>
            <a:stretch/>
          </p:blipFill>
          <p:spPr>
            <a:xfrm>
              <a:off x="0" y="603360"/>
              <a:ext cx="1394280" cy="109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WordArt 11"/>
          <p:cNvSpPr txBox="1"/>
          <p:nvPr/>
        </p:nvSpPr>
        <p:spPr>
          <a:xfrm>
            <a:off x="2700360" y="620640"/>
            <a:ext cx="24480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交流会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6" name="Rectangle 13"/>
          <p:cNvSpPr/>
          <p:nvPr/>
        </p:nvSpPr>
        <p:spPr>
          <a:xfrm>
            <a:off x="0" y="1600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说一说：秋天到了，你的周围有什么变化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楷体_GB2312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1619280" y="2819520"/>
            <a:ext cx="2952720" cy="1828800"/>
          </a:xfrm>
          <a:prstGeom prst="wedgeEllipseCallout">
            <a:avLst>
              <a:gd name="adj1" fmla="val -42203"/>
              <a:gd name="adj2" fmla="val 85939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黑体"/>
              </a:rPr>
              <a:t>秋天到了，树叶都变黄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15" descr="朋朋"/>
          <p:cNvPicPr/>
          <p:nvPr/>
        </p:nvPicPr>
        <p:blipFill>
          <a:blip r:embed="rId6"/>
          <a:stretch/>
        </p:blipFill>
        <p:spPr>
          <a:xfrm>
            <a:off x="324000" y="4508640"/>
            <a:ext cx="1617480" cy="21384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16"/>
          <p:cNvSpPr/>
          <p:nvPr/>
        </p:nvSpPr>
        <p:spPr>
          <a:xfrm>
            <a:off x="3059280" y="4365720"/>
            <a:ext cx="3311280" cy="1655640"/>
          </a:xfrm>
          <a:prstGeom prst="wedgeEllipseCallout">
            <a:avLst>
              <a:gd name="adj1" fmla="val 30777"/>
              <a:gd name="adj2" fmla="val -51245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秋天到了，衣服比以前穿多了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7" descr="明明"/>
          <p:cNvPicPr/>
          <p:nvPr/>
        </p:nvPicPr>
        <p:blipFill>
          <a:blip r:embed="rId8"/>
          <a:stretch/>
        </p:blipFill>
        <p:spPr>
          <a:xfrm rot="192000">
            <a:off x="5470200" y="2948040"/>
            <a:ext cx="176544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qiutian1_0015"/>
          <p:cNvPicPr/>
          <p:nvPr/>
        </p:nvPicPr>
        <p:blipFill>
          <a:blip r:embed="rId1"/>
          <a:stretch/>
        </p:blipFill>
        <p:spPr>
          <a:xfrm>
            <a:off x="3124080" y="52578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qiutian1_0015"/>
          <p:cNvPicPr/>
          <p:nvPr/>
        </p:nvPicPr>
        <p:blipFill>
          <a:blip r:embed="rId2"/>
          <a:stretch/>
        </p:blipFill>
        <p:spPr>
          <a:xfrm>
            <a:off x="5148360" y="494172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qiutian1_0015"/>
          <p:cNvPicPr/>
          <p:nvPr/>
        </p:nvPicPr>
        <p:blipFill>
          <a:blip r:embed="rId3"/>
          <a:stretch/>
        </p:blipFill>
        <p:spPr>
          <a:xfrm>
            <a:off x="6858000" y="5181480"/>
            <a:ext cx="1357200" cy="1238400"/>
          </a:xfrm>
          <a:prstGeom prst="rect">
            <a:avLst/>
          </a:prstGeom>
          <a:ln w="0">
            <a:noFill/>
          </a:ln>
        </p:spPr>
      </p:pic>
      <p:sp>
        <p:nvSpPr>
          <p:cNvPr id="264" name="WordArt 5"/>
          <p:cNvSpPr txBox="1"/>
          <p:nvPr/>
        </p:nvSpPr>
        <p:spPr>
          <a:xfrm>
            <a:off x="609480" y="609480"/>
            <a:ext cx="2664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画秋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65" name="Line 6"/>
          <p:cNvSpPr/>
          <p:nvPr/>
        </p:nvSpPr>
        <p:spPr>
          <a:xfrm flipV="1">
            <a:off x="762120" y="1447560"/>
            <a:ext cx="2447640" cy="2156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2209680" y="1371600"/>
            <a:ext cx="144720" cy="144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523880" y="1447920"/>
            <a:ext cx="198720" cy="1648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533520" y="1905120"/>
            <a:ext cx="7423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c0504d"/>
                </a:solidFill>
                <a:latin typeface="华文中宋"/>
                <a:ea typeface="华文中宋"/>
              </a:rPr>
              <a:t>学完了课文，你对秋天有了哪些新的认识呢？把它画下来吧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10" descr="图片0"/>
          <p:cNvPicPr/>
          <p:nvPr/>
        </p:nvPicPr>
        <p:blipFill>
          <a:blip r:embed="rId4"/>
          <a:stretch/>
        </p:blipFill>
        <p:spPr>
          <a:xfrm>
            <a:off x="457200" y="4267080"/>
            <a:ext cx="21589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iūtiāndeyánsè,gāoliángshuōshìhóng sè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天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颜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色，高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粱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红色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ǔzishuōshìhuángsède,dòujiáshuōshìhèsè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谷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子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黄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色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，豆荚说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是褐色的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óngshānshàngláideháizishuō:nímendōucuò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从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山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上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来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孩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子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你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都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错了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iūtiānshìwǔyánliùsède,   búxìníqiáowǒdelánz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天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是五颜六色的，不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你瞧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我的篮子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秋天的颜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6934320" y="1447920"/>
            <a:ext cx="167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2438280" y="266688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7010280" y="266688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7696080" y="3886200"/>
            <a:ext cx="190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1523880" y="518148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﹒ 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2209680" y="518148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2743200" y="518148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6477120" y="5105520"/>
            <a:ext cx="121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秋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树叶：黄  落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大雁：往南飞   一会儿     “人”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一会儿     “一”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5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282" name="直线连接符 21"/>
          <p:cNvSpPr/>
          <p:nvPr/>
        </p:nvSpPr>
        <p:spPr>
          <a:xfrm flipV="1">
            <a:off x="395280" y="155736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6"/>
          <p:cNvSpPr/>
          <p:nvPr/>
        </p:nvSpPr>
        <p:spPr>
          <a:xfrm>
            <a:off x="720720" y="185112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　本文抓住时间特点，选取初秋季节典型景物的变化，描绘出一副天高云淡、五谷丰登的秋景图，展现出作者对秋天的喜爱、赞美之情及迎接秋季的喜悦之情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560520" y="2060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全文有三个自然段，每段观察角度、观察点各不相同，合起来构成一幅秋季全景图。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6"/>
          <p:cNvSpPr/>
          <p:nvPr/>
        </p:nvSpPr>
        <p:spPr>
          <a:xfrm>
            <a:off x="755640" y="3222360"/>
            <a:ext cx="76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秋天的景色是美丽的，秋天的景色是迷人的，请同学们拿出你们多彩的画笔，画出你心目中的秋天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课后请同学们留心观察外面的秋色，回到家里给家人讲讲秋天天气有什么变化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6"/>
          <p:cNvSpPr/>
          <p:nvPr/>
        </p:nvSpPr>
        <p:spPr>
          <a:xfrm>
            <a:off x="108000" y="19112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　怀着激动的心情朗读课文，想象着国庆节那天欢快的场面，我的心中激荡起层层涟漪。作为中华民族的儿女，在祖国妈妈诞辰之际，用优异的成绩为她献上最美好的礼物吧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1844280"/>
            <a:ext cx="6705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qiū tiā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386028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秋 </a:t>
            </a:r>
            <a:r>
              <a:rPr b="1" lang="zh-CN" sz="1000" spc="-1" strike="noStrike">
                <a:solidFill>
                  <a:srgbClr val="000000"/>
                </a:solidFill>
                <a:latin typeface="Calibri"/>
                <a:ea typeface="楷体_GB2312"/>
              </a:rPr>
              <a:t> 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天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494080" y="585144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019240" cy="533520"/>
          </a:xfrm>
          <a:prstGeom prst="rect">
            <a:avLst/>
          </a:prstGeom>
          <a:ln w="0">
            <a:noFill/>
          </a:ln>
        </p:spPr>
      </p:pic>
      <p:grpSp>
        <p:nvGrpSpPr>
          <p:cNvPr id="167" name="组合 5"/>
          <p:cNvGrpSpPr/>
          <p:nvPr/>
        </p:nvGrpSpPr>
        <p:grpSpPr>
          <a:xfrm>
            <a:off x="468360" y="692280"/>
            <a:ext cx="2073240" cy="661680"/>
            <a:chOff x="468360" y="692280"/>
            <a:chExt cx="2073240" cy="661680"/>
          </a:xfrm>
        </p:grpSpPr>
        <p:sp>
          <p:nvSpPr>
            <p:cNvPr id="168" name="直线连接符 21"/>
            <p:cNvSpPr/>
            <p:nvPr/>
          </p:nvSpPr>
          <p:spPr>
            <a:xfrm flipV="1">
              <a:off x="468360" y="692280"/>
              <a:ext cx="2073240" cy="6616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WordArt 8"/>
          <p:cNvSpPr txBox="1"/>
          <p:nvPr/>
        </p:nvSpPr>
        <p:spPr>
          <a:xfrm>
            <a:off x="6875640" y="765000"/>
            <a:ext cx="14000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读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18680" y="6453360"/>
            <a:ext cx="34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1547280"/>
            <a:ext cx="91440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秋天的变化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天气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树叶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 ）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 ）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3"/>
          <p:cNvSpPr/>
          <p:nvPr/>
        </p:nvSpPr>
        <p:spPr>
          <a:xfrm flipH="1">
            <a:off x="5074560" y="30733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凉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5075280" y="38098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落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4923000" y="454176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南飞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标题 1"/>
          <p:cNvSpPr/>
          <p:nvPr/>
        </p:nvSpPr>
        <p:spPr>
          <a:xfrm>
            <a:off x="0" y="533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线连接符 21"/>
          <p:cNvSpPr/>
          <p:nvPr/>
        </p:nvSpPr>
        <p:spPr>
          <a:xfrm flipV="1">
            <a:off x="324000" y="162864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7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6"/>
          <p:cNvSpPr txBox="1"/>
          <p:nvPr/>
        </p:nvSpPr>
        <p:spPr>
          <a:xfrm>
            <a:off x="1752480" y="1752480"/>
            <a:ext cx="601056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黑体"/>
              </a:rPr>
              <a:t>同学们，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黑体"/>
              </a:rPr>
              <a:t>  </a:t>
            </a: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黑体"/>
              </a:rPr>
              <a:t>再见！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黑体"/>
              <a:ea typeface="黑体"/>
            </a:endParaRPr>
          </a:p>
        </p:txBody>
      </p:sp>
      <p:pic>
        <p:nvPicPr>
          <p:cNvPr id="304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dào l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3357720"/>
            <a:ext cx="8229600" cy="26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到 </a:t>
            </a:r>
            <a:r>
              <a:rPr b="1" lang="zh-CN" sz="8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了 </a:t>
            </a:r>
            <a:r>
              <a:rPr b="1" lang="zh-CN" sz="1000" spc="-1" strike="noStrike">
                <a:solidFill>
                  <a:srgbClr val="000000"/>
                </a:solidFill>
                <a:latin typeface="Calibri"/>
                <a:ea typeface="楷体_GB2312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565360" y="515160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18680" y="6453360"/>
            <a:ext cx="34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678168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tiān qì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天 气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5031000" y="464832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8724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 pià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一 片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438800" y="465300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426200" y="324648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lái l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来  了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070440" y="486900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ā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n k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ō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9600" spc="-1" strike="noStrike">
                <a:solidFill>
                  <a:srgbClr val="000000"/>
                </a:solidFill>
                <a:latin typeface="DotumChe"/>
                <a:ea typeface="DotumChe"/>
              </a:rPr>
              <a:t>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天   空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5229360" y="479412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229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DotumChe"/>
                <a:ea typeface="DotumChe"/>
              </a:rPr>
              <a:t>g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ā</a:t>
            </a:r>
            <a:r>
              <a:rPr b="1" lang="en-US" sz="9600" spc="-1" strike="noStrike">
                <a:solidFill>
                  <a:srgbClr val="000000"/>
                </a:solidFill>
                <a:latin typeface="DotumChe"/>
                <a:ea typeface="DotumChe"/>
              </a:rPr>
              <a:t>o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k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ō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9600" spc="-1" strike="noStrike">
                <a:solidFill>
                  <a:srgbClr val="000000"/>
                </a:solidFill>
                <a:latin typeface="Dotum"/>
                <a:ea typeface="Dotum"/>
              </a:rPr>
              <a:t>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22960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15000" spc="-1" strike="noStrike">
                <a:solidFill>
                  <a:srgbClr val="000000"/>
                </a:solidFill>
                <a:latin typeface="Calibri"/>
                <a:ea typeface="楷体_GB2312"/>
              </a:rPr>
              <a:t>高   空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516400" y="4648320"/>
            <a:ext cx="6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xbany</cp:lastModifiedBy>
  <dcterms:modified xsi:type="dcterms:W3CDTF">2017-11-27T08:23:24Z</dcterms:modified>
  <cp:revision>2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715</vt:lpwstr>
  </property>
</Properties>
</file>