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gif" ContentType="image/gif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A9C-9FFB-4549-BA30-30C649B3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5B50-254F-4D72-B8FC-E02B4089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C24-753A-4736-A2BC-0F87EA5A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AAF-C3B8-4DEF-BE29-104CFEB0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E50-E450-4D8A-9DE5-FA393C91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8F5-CC44-44F9-9EBB-D17A93C2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05D-8E09-4480-904B-9C853627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39E-166C-467A-8E21-FE7605D6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75F-5E04-4BD9-ABDB-A120E273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AAB-89EA-415E-A9EB-5D1F78EA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E4C-A4BE-43A6-92A5-CA81F361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8DB-685E-4A8C-B35C-4531A87F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efefe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1067-62C4-4FA4-94B2-C01F5DCA8C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" Target="slide7.xml"/><Relationship Id="rId5" Type="http://schemas.openxmlformats.org/officeDocument/2006/relationships/image" Target="../media/image6.png"/><Relationship Id="rId6" Type="http://schemas.openxmlformats.org/officeDocument/2006/relationships/slide" Target="slide7.xm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efefe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04640"/>
            <a:ext cx="287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1905120"/>
            <a:ext cx="73152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他等啊等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一直不见汽车的影子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元元决定走到学校去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838080"/>
            <a:ext cx="12574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efefe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37160" y="4151160"/>
            <a:ext cx="2706840" cy="2706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04920" y="4636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名言警句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057400"/>
            <a:ext cx="8001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一寸光阴一寸金，寸金难买寸光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20040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时间就是生命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0120" y="4191120"/>
            <a:ext cx="1195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一个人只要把握住生命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每一分钟，就一定会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美好的一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1905120"/>
            <a:ext cx="762120" cy="796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4267080"/>
            <a:ext cx="65556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3200400"/>
            <a:ext cx="6555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56400" y="1809720"/>
            <a:ext cx="56026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二天的元元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----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1438200" cy="1361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667960" y="28656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闹钟又响了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efefe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220968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0" y="0"/>
          <a:ext cx="201780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017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059280" y="260280"/>
            <a:ext cx="3570120" cy="13129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一分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efefe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30160" y="2286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50920" y="17524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  <a:ea typeface="楷体_GB2312"/>
              </a:rPr>
              <a:t>后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18160" y="16765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  <a:ea typeface="楷体_GB2312"/>
              </a:rPr>
              <a:t>哈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13640" y="16938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  <a:ea typeface="楷体_GB2312"/>
              </a:rPr>
              <a:t>叹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06440" y="31240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  <a:ea typeface="楷体_GB2312"/>
              </a:rPr>
              <a:t>丁零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99040" y="3124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  <a:ea typeface="楷体_GB2312"/>
              </a:rPr>
              <a:t>决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65920" y="3124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  <a:ea typeface="楷体_GB2312"/>
              </a:rPr>
              <a:t>迟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03560" y="4648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Arial"/>
                <a:ea typeface="楷体_GB2312"/>
              </a:rPr>
              <a:t>闹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0"/>
          <a:ext cx="13017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13017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efefe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217944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133720" cy="1901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276720" y="502920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276720" y="3352680"/>
            <a:ext cx="2209680" cy="1752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3200400" y="137160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248520" y="1371600"/>
            <a:ext cx="213336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6324480" y="320040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858000" y="3505320"/>
            <a:ext cx="990720" cy="1191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0320" y="1600200"/>
            <a:ext cx="729360" cy="1191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3429000"/>
            <a:ext cx="1030320" cy="1191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3505320"/>
            <a:ext cx="1143000" cy="1191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5257800"/>
            <a:ext cx="1143000" cy="1191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1752480"/>
            <a:ext cx="1143000" cy="1191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676520"/>
            <a:ext cx="990720" cy="1191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209680" cy="129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186720" y="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你还会读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380880" y="5029200"/>
            <a:ext cx="2179800" cy="18288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5257800"/>
            <a:ext cx="1030320" cy="1191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6324480" y="502920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010280" y="5257800"/>
            <a:ext cx="990720" cy="1191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efefe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24840" y="16002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他背着书包上学去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1218960" cy="1073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094120" y="3348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姚体"/>
              </a:rPr>
              <a:t>大家读一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76200" y="1600200"/>
            <a:ext cx="157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背着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书包上学去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19880" y="2386080"/>
            <a:ext cx="17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bēİ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80880" y="3581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后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19520" y="3678120"/>
            <a:ext cx="1238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隶书"/>
              </a:rPr>
              <a:t>[b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èi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12193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efefe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2492280"/>
            <a:ext cx="828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32000" y="2286000"/>
            <a:ext cx="493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元元打了个哈欠，翻了个身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心想：再睡一分钟吧，就一分钟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不会迟到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efefe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05760" y="5025960"/>
            <a:ext cx="58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元元非常后悔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7391520" y="64771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-228600"/>
          <a:ext cx="6400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28600"/>
                    <a:ext cx="6400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7924680" y="64771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6781680" y="6477120"/>
            <a:ext cx="457200" cy="380880"/>
          </a:xfrm>
          <a:prstGeom prst="smileyFace">
            <a:avLst>
              <a:gd name="adj" fmla="val 9282"/>
            </a:avLst>
          </a:prstGeom>
          <a:solidFill>
            <a:srgbClr val="e9b5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534520" y="6324480"/>
            <a:ext cx="609480" cy="533520"/>
          </a:xfrm>
          <a:prstGeom prst="rightArrow">
            <a:avLst>
              <a:gd name="adj1" fmla="val 50000"/>
              <a:gd name="adj2" fmla="val 28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0"/>
            <a:ext cx="4572000" cy="2895480"/>
          </a:xfrm>
          <a:prstGeom prst="cloudCallout">
            <a:avLst>
              <a:gd name="adj1" fmla="val -69759"/>
              <a:gd name="adj2" fmla="val -350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04920"/>
            <a:ext cx="354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元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今天你迟到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efefe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M_001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11353680" cy="8131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90520" y="2133720"/>
            <a:ext cx="596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他叹了口气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说：“要是早一分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就好了。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781680" y="609480"/>
            <a:ext cx="12574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efefe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46280" y="4187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67080"/>
            <a:ext cx="8839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他又叹了口气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说：“要是早一分钟就好了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2743200"/>
            <a:ext cx="3505320" cy="914400"/>
          </a:xfrm>
          <a:prstGeom prst="cloudCallout">
            <a:avLst>
              <a:gd name="adj1" fmla="val 49907"/>
              <a:gd name="adj2" fmla="val -12413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28195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等等我啊！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dfx</cp:lastModifiedBy>
  <dcterms:modified xsi:type="dcterms:W3CDTF">2004-09-14T00:41:52Z</dcterms:modified>
  <cp:revision>10</cp:revision>
  <dc:subject/>
  <dc:title>PowerPoint 演示文稿</dc:title>
</cp:coreProperties>
</file>