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78D6-EE63-49E0-BD3D-7993CDEF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576E-5CBD-46E9-9951-7A68D2EB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D0D5-A5F6-4938-99D8-FBFDC5B0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5944-BC5F-4B3C-A4E9-5F9C78EC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2612-2A1E-4AEA-9E1A-16742299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D1F7-233F-4E8D-931F-F23E3C5A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6BDF-D6D9-4A2A-A37D-D49EF05B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39A2-8D5A-4B95-93DD-E461D03F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7247-D943-481F-B649-66371100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4DCA-5A8A-46B1-93FE-8156EED1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CA2E-FB72-45E2-A8D5-4FD3D12D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639B-2CAB-4B01-9010-CD3F88E6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BF9F-0E0C-4B82-AB5C-CCE352C3EE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4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4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4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6481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i="1" lang="zh-CN" sz="9600" spc="-1" strike="noStrike">
                <a:solidFill>
                  <a:srgbClr val="000000"/>
                </a:solidFill>
                <a:latin typeface="Arial"/>
              </a:rPr>
              <a:t>一分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4581360"/>
            <a:ext cx="590400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北辰路实验小学：史亚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rcRect l="0" t="0" r="-2081" b="0"/>
          <a:stretch/>
        </p:blipFill>
        <p:spPr>
          <a:xfrm>
            <a:off x="0" y="1268280"/>
            <a:ext cx="7307280" cy="388332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900000" y="2060640"/>
            <a:ext cx="5400360" cy="1708920"/>
            <a:chOff x="900000" y="2060640"/>
            <a:chExt cx="5400360" cy="1708920"/>
          </a:xfrm>
        </p:grpSpPr>
        <p:sp>
          <p:nvSpPr>
            <p:cNvPr id="84" name=""/>
            <p:cNvSpPr/>
            <p:nvPr/>
          </p:nvSpPr>
          <p:spPr>
            <a:xfrm>
              <a:off x="900000" y="3769560"/>
              <a:ext cx="540036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00000" y="2060640"/>
              <a:ext cx="5400360" cy="0"/>
            </a:xfrm>
            <a:prstGeom prst="line">
              <a:avLst/>
            </a:prstGeom>
            <a:ln w="19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755640" y="1628640"/>
            <a:ext cx="611820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钟    零    闹    哈   欠    迟    叹    决    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076720" y="5673600"/>
            <a:ext cx="1812960" cy="569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755640" y="1844640"/>
              <a:ext cx="216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一分钟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92360" y="1844640"/>
              <a:ext cx="1549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闹钟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51640" y="1844640"/>
              <a:ext cx="153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哈欠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94560" y="1844640"/>
              <a:ext cx="1549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迟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0000" y="3284640"/>
              <a:ext cx="223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丁零零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26920" y="3213000"/>
              <a:ext cx="1549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决定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92360" y="3213000"/>
              <a:ext cx="1549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后悔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00000" y="4508640"/>
              <a:ext cx="2305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叹气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419640" y="2349360"/>
            <a:ext cx="36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971640" y="2709720"/>
            <a:ext cx="172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155736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lí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1844640"/>
            <a:ext cx="24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（零时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26440" y="2421000"/>
            <a:ext cx="18262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组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2720" y="3286080"/>
            <a:ext cx="24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（零分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836640" y="1268280"/>
            <a:ext cx="138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3" action="ppaction://hlinksldjump"/>
          </p:cNvPr>
          <p:cNvSpPr/>
          <p:nvPr/>
        </p:nvSpPr>
        <p:spPr>
          <a:xfrm>
            <a:off x="911160" y="4292640"/>
            <a:ext cx="160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1160" y="549360"/>
            <a:ext cx="174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nà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1160" y="3500280"/>
            <a:ext cx="225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zhō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74680" y="1268280"/>
            <a:ext cx="1521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组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32040" y="4076640"/>
            <a:ext cx="103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组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24280" y="981000"/>
            <a:ext cx="233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热闹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24280" y="2205000"/>
            <a:ext cx="262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闹脾气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24280" y="3789360"/>
            <a:ext cx="233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闹钟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24280" y="5013360"/>
            <a:ext cx="233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钟表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47600" y="836640"/>
            <a:ext cx="20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h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3240" y="3716280"/>
            <a:ext cx="13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qi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684360" y="1557360"/>
            <a:ext cx="138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903240" y="4437000"/>
            <a:ext cx="138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24400" y="836640"/>
            <a:ext cx="356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哈哈大笑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47520" y="1341360"/>
            <a:ext cx="1521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组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19160" y="4221000"/>
            <a:ext cx="1521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组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24400" y="2205000"/>
            <a:ext cx="203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哈欠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49520" y="5013360"/>
            <a:ext cx="247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欠安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49520" y="3716280"/>
            <a:ext cx="247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欠条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835280" y="155736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ch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1692360" y="2205000"/>
            <a:ext cx="187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52560" y="2205000"/>
            <a:ext cx="1521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组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306864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（迟缓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4720" y="155736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（迟到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692360" y="184464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t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1476360" y="2708280"/>
            <a:ext cx="15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65280" y="2421000"/>
            <a:ext cx="1521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组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95640" y="335772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（赞叹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5640" y="1773360"/>
            <a:ext cx="21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（叹气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05080" y="111276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ju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47440" y="2708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（决斗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95640" y="126828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（决心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49280" y="1700280"/>
            <a:ext cx="152100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组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191628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187280" y="2997360"/>
            <a:ext cx="140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258200" y="198900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hu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33280" y="2637000"/>
            <a:ext cx="15210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组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15800" y="1989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（悔过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44160" y="3573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（后悔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908000" y="1125360"/>
              <a:ext cx="5328000" cy="2448000"/>
            </a:xfrm>
            <a:prstGeom prst="flowChartAlternateProcess">
              <a:avLst/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6543720" y="1685880"/>
              <a:ext cx="481320" cy="1360440"/>
              <a:chOff x="6543720" y="1685880"/>
              <a:chExt cx="481320" cy="1360440"/>
            </a:xfrm>
          </p:grpSpPr>
          <p:sp>
            <p:nvSpPr>
              <p:cNvPr id="155" name=""/>
              <p:cNvSpPr/>
              <p:nvPr/>
            </p:nvSpPr>
            <p:spPr>
              <a:xfrm>
                <a:off x="6543720" y="1685880"/>
                <a:ext cx="432000" cy="432000"/>
              </a:xfrm>
              <a:prstGeom prst="ellipse">
                <a:avLst/>
              </a:prstGeom>
              <a:solidFill>
                <a:srgbClr val="ff00ff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门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6543720" y="2403720"/>
                <a:ext cx="481320" cy="642600"/>
                <a:chOff x="6543720" y="2403720"/>
                <a:chExt cx="481320" cy="6426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543720" y="2594160"/>
                  <a:ext cx="431280" cy="432000"/>
                </a:xfrm>
                <a:prstGeom prst="ellipse">
                  <a:avLst/>
                </a:prstGeom>
                <a:solidFill>
                  <a:srgbClr val="ff00ff">
                    <a:alpha val="2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570000" y="2403720"/>
                  <a:ext cx="4550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00"/>
                      </a:solidFill>
                      <a:latin typeface="Times New Roman"/>
                      <a:ea typeface="楷体_GB2312"/>
                    </a:rPr>
                    <a:t>辶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9" name=""/>
            <p:cNvGrpSpPr/>
            <p:nvPr/>
          </p:nvGrpSpPr>
          <p:grpSpPr>
            <a:xfrm>
              <a:off x="3225600" y="1301760"/>
              <a:ext cx="524160" cy="651960"/>
              <a:chOff x="3225600" y="1301760"/>
              <a:chExt cx="524160" cy="651960"/>
            </a:xfrm>
          </p:grpSpPr>
          <p:graphicFrame>
            <p:nvGraphicFramePr>
              <p:cNvPr id="160" name=""/>
              <p:cNvGraphicFramePr/>
              <p:nvPr/>
            </p:nvGraphicFramePr>
            <p:xfrm>
              <a:off x="3225600" y="1449000"/>
              <a:ext cx="490680" cy="5047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225600" y="1449000"/>
                        <a:ext cx="490680" cy="504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2" name=""/>
              <p:cNvSpPr/>
              <p:nvPr/>
            </p:nvSpPr>
            <p:spPr>
              <a:xfrm>
                <a:off x="3294720" y="130176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462040" y="1685880"/>
              <a:ext cx="431640" cy="1266840"/>
              <a:chOff x="2462040" y="1685880"/>
              <a:chExt cx="431640" cy="1266840"/>
            </a:xfrm>
          </p:grpSpPr>
          <p:sp>
            <p:nvSpPr>
              <p:cNvPr id="164" name=""/>
              <p:cNvSpPr/>
              <p:nvPr/>
            </p:nvSpPr>
            <p:spPr>
              <a:xfrm>
                <a:off x="2462040" y="2521080"/>
                <a:ext cx="431640" cy="431640"/>
              </a:xfrm>
              <a:prstGeom prst="ellipse">
                <a:avLst/>
              </a:prstGeom>
              <a:solidFill>
                <a:srgbClr val="ff00ff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口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462040" y="1685880"/>
                <a:ext cx="431640" cy="432000"/>
              </a:xfrm>
              <a:prstGeom prst="ellipse">
                <a:avLst/>
              </a:prstGeom>
              <a:solidFill>
                <a:srgbClr val="ff00ff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钅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5799240" y="2093760"/>
              <a:ext cx="511560" cy="642600"/>
              <a:chOff x="5799240" y="2093760"/>
              <a:chExt cx="511560" cy="642600"/>
            </a:xfrm>
          </p:grpSpPr>
          <p:graphicFrame>
            <p:nvGraphicFramePr>
              <p:cNvPr id="167" name=""/>
              <p:cNvGraphicFramePr/>
              <p:nvPr/>
            </p:nvGraphicFramePr>
            <p:xfrm>
              <a:off x="5799240" y="2220840"/>
              <a:ext cx="490320" cy="5047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6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799240" y="2220840"/>
                        <a:ext cx="490320" cy="504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9" name=""/>
              <p:cNvSpPr/>
              <p:nvPr/>
            </p:nvSpPr>
            <p:spPr>
              <a:xfrm>
                <a:off x="5855760" y="209376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市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543560" y="1197000"/>
              <a:ext cx="505080" cy="662040"/>
              <a:chOff x="4543560" y="1197000"/>
              <a:chExt cx="505080" cy="662040"/>
            </a:xfrm>
          </p:grpSpPr>
          <p:graphicFrame>
            <p:nvGraphicFramePr>
              <p:cNvPr id="171" name=""/>
              <p:cNvGraphicFramePr/>
              <p:nvPr/>
            </p:nvGraphicFramePr>
            <p:xfrm>
              <a:off x="4543560" y="1353960"/>
              <a:ext cx="490680" cy="5050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2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543560" y="1353960"/>
                        <a:ext cx="490680" cy="505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3" name=""/>
              <p:cNvSpPr/>
              <p:nvPr/>
            </p:nvSpPr>
            <p:spPr>
              <a:xfrm>
                <a:off x="4593600" y="119700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欠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5789520" y="1311120"/>
              <a:ext cx="521280" cy="642960"/>
              <a:chOff x="5789520" y="1311120"/>
              <a:chExt cx="521280" cy="642960"/>
            </a:xfrm>
          </p:grpSpPr>
          <p:graphicFrame>
            <p:nvGraphicFramePr>
              <p:cNvPr id="175" name=""/>
              <p:cNvGraphicFramePr/>
              <p:nvPr/>
            </p:nvGraphicFramePr>
            <p:xfrm>
              <a:off x="5789520" y="1449000"/>
              <a:ext cx="490680" cy="5050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76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789520" y="1449000"/>
                        <a:ext cx="490680" cy="505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7" name=""/>
              <p:cNvSpPr/>
              <p:nvPr/>
            </p:nvSpPr>
            <p:spPr>
              <a:xfrm>
                <a:off x="5855760" y="131112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合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029120" y="2637000"/>
              <a:ext cx="514800" cy="642600"/>
              <a:chOff x="4029120" y="2637000"/>
              <a:chExt cx="514800" cy="642600"/>
            </a:xfrm>
          </p:grpSpPr>
          <p:graphicFrame>
            <p:nvGraphicFramePr>
              <p:cNvPr id="179" name=""/>
              <p:cNvGraphicFramePr/>
              <p:nvPr/>
            </p:nvGraphicFramePr>
            <p:xfrm>
              <a:off x="4029120" y="2773440"/>
              <a:ext cx="490680" cy="5047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0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4029120" y="2773440"/>
                        <a:ext cx="490680" cy="504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1" name=""/>
              <p:cNvSpPr/>
              <p:nvPr/>
            </p:nvSpPr>
            <p:spPr>
              <a:xfrm>
                <a:off x="4088880" y="263700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又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3233520" y="2084400"/>
              <a:ext cx="516600" cy="642600"/>
              <a:chOff x="3233520" y="2084400"/>
              <a:chExt cx="516600" cy="642600"/>
            </a:xfrm>
          </p:grpSpPr>
          <p:graphicFrame>
            <p:nvGraphicFramePr>
              <p:cNvPr id="183" name=""/>
              <p:cNvGraphicFramePr/>
              <p:nvPr/>
            </p:nvGraphicFramePr>
            <p:xfrm>
              <a:off x="3233520" y="2220840"/>
              <a:ext cx="490680" cy="5047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4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233520" y="2220840"/>
                        <a:ext cx="490680" cy="504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5" name=""/>
              <p:cNvSpPr/>
              <p:nvPr/>
            </p:nvSpPr>
            <p:spPr>
              <a:xfrm>
                <a:off x="3295080" y="208440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中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5076720" y="2565360"/>
              <a:ext cx="641160" cy="718920"/>
              <a:chOff x="5076720" y="2565360"/>
              <a:chExt cx="641160" cy="718920"/>
            </a:xfrm>
          </p:grpSpPr>
          <p:graphicFrame>
            <p:nvGraphicFramePr>
              <p:cNvPr id="187" name=""/>
              <p:cNvGraphicFramePr/>
              <p:nvPr/>
            </p:nvGraphicFramePr>
            <p:xfrm>
              <a:off x="5090760" y="2736000"/>
              <a:ext cx="490680" cy="54828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188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5090760" y="2736000"/>
                        <a:ext cx="490680" cy="54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9" name=""/>
              <p:cNvSpPr/>
              <p:nvPr/>
            </p:nvSpPr>
            <p:spPr>
              <a:xfrm>
                <a:off x="5076720" y="2565360"/>
                <a:ext cx="641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井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1979640" y="4365720"/>
            <a:ext cx="5832000" cy="2166840"/>
            <a:chOff x="1979640" y="4365720"/>
            <a:chExt cx="5832000" cy="2166840"/>
          </a:xfrm>
        </p:grpSpPr>
        <p:pic>
          <p:nvPicPr>
            <p:cNvPr id="191" name="" descr=""/>
            <p:cNvPicPr/>
            <p:nvPr/>
          </p:nvPicPr>
          <p:blipFill>
            <a:blip r:embed="rId17"/>
            <a:stretch/>
          </p:blipFill>
          <p:spPr>
            <a:xfrm>
              <a:off x="1979640" y="4732200"/>
              <a:ext cx="4192200" cy="141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184120" y="4817880"/>
              <a:ext cx="37447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　　口字旁和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”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组成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叹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叹气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18"/>
            <a:srcRect l="-13245" t="-12719" r="-12353" b="-7859"/>
            <a:stretch/>
          </p:blipFill>
          <p:spPr>
            <a:xfrm>
              <a:off x="6246720" y="4365720"/>
              <a:ext cx="1564920" cy="216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"/>
          <p:cNvSpPr/>
          <p:nvPr/>
        </p:nvSpPr>
        <p:spPr>
          <a:xfrm>
            <a:off x="539640" y="1268280"/>
            <a:ext cx="79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找朋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68360" y="3860640"/>
            <a:ext cx="490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钟   叹   闹   进   迟   哈   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2376360" cy="691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258920" y="3645000"/>
            <a:ext cx="2376360" cy="693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258920" y="5084640"/>
            <a:ext cx="229068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-1035000"/>
            <a:ext cx="15386040" cy="10972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8000" y="476280"/>
            <a:ext cx="85327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丁        ，      响了。元元打了个        ，翻了个身，心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再睡一分钟吧，就一分钟，不会    到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11280" y="3141720"/>
            <a:ext cx="4203720" cy="336708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rId5" action="ppaction://hlinksldjump"/>
          </p:cNvPr>
          <p:cNvSpPr/>
          <p:nvPr/>
        </p:nvSpPr>
        <p:spPr>
          <a:xfrm>
            <a:off x="1258920" y="765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零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6" action="ppaction://hlinksldjump"/>
          </p:cNvPr>
          <p:cNvSpPr/>
          <p:nvPr/>
        </p:nvSpPr>
        <p:spPr>
          <a:xfrm>
            <a:off x="2411280" y="692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闹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7" action="ppaction://hlinksldjump"/>
          </p:cNvPr>
          <p:cNvSpPr/>
          <p:nvPr/>
        </p:nvSpPr>
        <p:spPr>
          <a:xfrm>
            <a:off x="7093080" y="69228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哈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8" action="ppaction://hlinksldjump"/>
          </p:cNvPr>
          <p:cNvSpPr/>
          <p:nvPr/>
        </p:nvSpPr>
        <p:spPr>
          <a:xfrm>
            <a:off x="1908000" y="249228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395280" y="836640"/>
            <a:ext cx="8209080" cy="4500360"/>
            <a:chOff x="395280" y="836640"/>
            <a:chExt cx="8209080" cy="4500360"/>
          </a:xfrm>
        </p:grpSpPr>
        <p:sp>
          <p:nvSpPr>
            <p:cNvPr id="57" name=""/>
            <p:cNvSpPr/>
            <p:nvPr/>
          </p:nvSpPr>
          <p:spPr>
            <a:xfrm>
              <a:off x="395280" y="836640"/>
              <a:ext cx="820908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过了一分钟，元元起来了。他很快地洗了脸，吃了早点，就背着书包上学去了。走到十字路口，他看见前面是绿灯，刚想走过去，红灯亮了。他     了口气，说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7640" y="4365360"/>
              <a:ext cx="48243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要是早一分钟就好了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912000" y="3717720"/>
              <a:ext cx="71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rcRect l="0" t="0" r="2813" b="567"/>
          <a:stretch/>
        </p:blipFill>
        <p:spPr>
          <a:xfrm>
            <a:off x="0" y="-1539720"/>
            <a:ext cx="11901600" cy="975024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179280" y="907920"/>
            <a:ext cx="8137440" cy="5295600"/>
            <a:chOff x="179280" y="907920"/>
            <a:chExt cx="8137440" cy="5295600"/>
          </a:xfrm>
        </p:grpSpPr>
        <p:sp>
          <p:nvSpPr>
            <p:cNvPr id="62" name=""/>
            <p:cNvSpPr/>
            <p:nvPr/>
          </p:nvSpPr>
          <p:spPr>
            <a:xfrm>
              <a:off x="179280" y="907920"/>
              <a:ext cx="8137440" cy="18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他等了好一会儿，才走过十字路口。他向停在车站的公共汽车跑去，眼看就跑到车站了，车子开 了。他又叹了口气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说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9280" y="4626000"/>
              <a:ext cx="16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要是早一分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71440" y="5560920"/>
              <a:ext cx="131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就好了。”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979640" y="2565360"/>
            <a:ext cx="4284720" cy="4005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42920" y="404640"/>
            <a:ext cx="61930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等啊等，一直不见汽车的影子，元元  定走到学校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1844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0"/>
            <a:ext cx="8172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了学校，已经上课了。元元红着脸，低着头，坐到了自己的座位上。李老师看了看手表，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元，今天你迟到了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35640" y="3500280"/>
            <a:ext cx="4608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11280" y="2852640"/>
            <a:ext cx="67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元元非常后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    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24360" y="2781360"/>
            <a:ext cx="11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楷体_GB2312"/>
              </a:rPr>
              <a:t>悔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69228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用书上的一句话来说说元元此时的心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11280" y="907920"/>
            <a:ext cx="828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时，你觉得这一分钟重要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rcRect l="0" t="0" r="2396" b="3054"/>
          <a:stretch/>
        </p:blipFill>
        <p:spPr>
          <a:xfrm>
            <a:off x="2556000" y="2637000"/>
            <a:ext cx="4103640" cy="3744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948360" y="5661000"/>
            <a:ext cx="1812960" cy="569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11280" y="1773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想对元元说点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01:27:00Z</dcterms:created>
  <dc:creator>zhangshufang</dc:creator>
  <dc:description/>
  <dc:language>en-US</dc:language>
  <cp:lastModifiedBy>zmj</cp:lastModifiedBy>
  <dcterms:modified xsi:type="dcterms:W3CDTF">2012-08-03T13:00:59Z</dcterms:modified>
  <cp:revision>223</cp:revision>
  <dc:subject/>
  <dc:title>幻灯片 1</dc:title>
</cp:coreProperties>
</file>