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0796-1F08-460F-A98D-A59D9C8E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DC17-5064-4713-A903-1E4C7CEC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B00D-BB87-4D4A-B1BC-7AB55931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9A1-B216-4670-8817-E0F09CDB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89B-1EB0-4005-802E-5FC587A7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3300-4CD5-42EA-8563-C3030E0D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BB7A-5674-4EFA-96BA-465BA7DB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F34-C0BA-4EC9-B7DA-501EC12A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B094-C21C-4EB8-A90F-2888ECBC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97D-0A1D-435D-B738-A5BEC93D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20C-00CB-4901-BEFA-7BD17630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EE8-9714-482D-980B-7CBEA32B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56E5-1874-42C7-AC9F-26552A533C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18cb14d9d4b8b797c95e1d10cff19fbe1cde65a326116b03a4ad4c95b98d35aa73eb196b5164589b4c99b3a39b116310ef6ab62bf72ed367943417811430a1a10e27c5f8&amp;a=24&amp;b=29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2209680"/>
            <a:ext cx="88390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c646bd"/>
                </a:solidFill>
                <a:latin typeface="楷体_GB2312"/>
                <a:ea typeface="楷体_GB2312"/>
              </a:rPr>
              <a:t>7</a:t>
            </a:r>
            <a:r>
              <a:rPr b="1" lang="zh-CN" sz="11700" spc="-1" strike="noStrike">
                <a:solidFill>
                  <a:srgbClr val="c646bd"/>
                </a:solidFill>
                <a:latin typeface="楷体_GB2312"/>
                <a:ea typeface="楷体_GB2312"/>
              </a:rPr>
              <a:t>、一分钟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21337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他叹了口气，说：“要是早一分钟就好了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545520" cy="6019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05120" y="5943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警察叔叔您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4690"/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53341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火啊，你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786000" y="533520"/>
            <a:ext cx="1399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间就是生命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28036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一寸光阴一寸金，寸金难买寸光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43000" y="1676520"/>
            <a:ext cx="69343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作业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试试一分钟你都能做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些有意义的事，做好记录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与大家交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685800"/>
            <a:ext cx="876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迟到   闹钟   决定   背着   哈欠   分钟   叹气   迟到   丁零零   座位   后悔   公共汽车   翻身   汽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600600">
            <a:off x="3643560" y="1503720"/>
            <a:ext cx="46483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“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分钟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”在课文中指的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159876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元元打了个哈欠，翻了个身，心想：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再睡一分钟吧，就一分钟，不会迟到的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>
            <a:lum bright="12000"/>
          </a:blip>
          <a:stretch/>
        </p:blipFill>
        <p:spPr>
          <a:xfrm rot="1288200">
            <a:off x="6400800" y="358128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 rot="20536200">
            <a:off x="151920" y="304560"/>
            <a:ext cx="175284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7 一分钟（二年级上） - 向前 - 向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1676520" y="152280"/>
            <a:ext cx="5699160" cy="6705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09480"/>
            <a:ext cx="9144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找一找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元元把时间丢在哪了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19320" y="1779480"/>
            <a:ext cx="75438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十字路口错过红绿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公共汽车站错过公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去学校的路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3880" y="3276720"/>
            <a:ext cx="6553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c00000"/>
                </a:solidFill>
                <a:latin typeface="宋体"/>
              </a:rPr>
              <a:t>四人小组合作读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c00000"/>
                </a:solidFill>
                <a:latin typeface="宋体"/>
              </a:rPr>
              <a:t>讨论从哪些句子还能看出元元很后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05120" y="3048120"/>
            <a:ext cx="624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2575080"/>
            <a:ext cx="655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c00000"/>
                </a:solidFill>
                <a:latin typeface="宋体"/>
              </a:rPr>
              <a:t>四人小组合作读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c00000"/>
                </a:solidFill>
                <a:latin typeface="宋体"/>
              </a:rPr>
              <a:t>讨论从哪些句子还能看出元元很后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宁</dc:creator>
  <dc:description/>
  <dc:language>en-US</dc:language>
  <cp:lastModifiedBy>USER</cp:lastModifiedBy>
  <dcterms:modified xsi:type="dcterms:W3CDTF">2010-10-15T12:12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