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chimes.wav" ContentType="audio/x-wav"/>
  <Override PartName="/ppt/media/image16.png" ContentType="image/png"/>
  <Override PartName="/ppt/media/camera.wav" ContentType="audio/x-wav"/>
  <Override PartName="/ppt/media/image21.jpeg" ContentType="image/jpeg"/>
  <Override PartName="/ppt/media/image7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push.wav" ContentType="audio/x-wav"/>
  <Override PartName="/ppt/media/image2.jpeg" ContentType="image/jpeg"/>
  <Override PartName="/ppt/media/image8.jpeg" ContentType="image/jpeg"/>
  <Override PartName="/ppt/media/image4.png" ContentType="image/png"/>
  <Override PartName="/ppt/media/image10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0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png" ContentType="image/png"/>
  <Override PartName="/ppt/media/image14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789-664D-44C3-9A39-DC032164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213-6BF3-4A59-B9CA-D29458DA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0C7-6A1C-4B4E-8554-F724C4DD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BF2-80AF-48F7-B948-87656EB2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71E-8E78-492D-B5A5-CD353660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D90-AE96-4F9E-B90D-8A1A917D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296-ACEE-4A8A-98A2-FBA7F823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205-324E-4669-A5BC-9162307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509-1750-46AC-AA6C-82544397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E22-0B91-45C0-A224-6DBFFFFE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F59-9F06-48E1-AA07-E18FE6B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55C-DD5D-45FF-ABA9-CD5F6434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DC00-BEB2-4128-AE74-20B6A6DB5D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236232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13.   yè      s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夜    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51814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胆子   原来   从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故事   窗外   从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睡觉   夜晚   勇敢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228600"/>
            <a:ext cx="4953240" cy="998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581280" y="609480"/>
            <a:ext cx="205740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词语花篮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yǒng    shu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dǎn   gǎn  chuāng  c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zài   shì     yuán    jià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5720" y="1557360"/>
            <a:ext cx="248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用       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16200" y="3578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5120" y="3357720"/>
            <a:ext cx="577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胆     敢       窗       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224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再     事       原       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2438280"/>
            <a:ext cx="6782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从前胆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小很小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一黑就不敢往外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7920" y="53352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妈妈把</a:t>
            </a:r>
            <a:r>
              <a:rPr b="1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勇敢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的故事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讲了又讲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9144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luànti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可我一看窗外心就</a:t>
            </a:r>
            <a:r>
              <a:rPr b="1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乱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76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2120" y="685800"/>
            <a:ext cx="807696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爸爸晚上偏要拉我出去散</a:t>
            </a: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步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dōu xi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à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n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w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ē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来花草都像白天一样微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p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71600" y="182880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b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144792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219320"/>
            <a:ext cx="3200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137160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（布娃娃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25909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（散   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14600" y="16002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步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8120" y="380880"/>
            <a:ext cx="2666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我  会  填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1676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7432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进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妈妈送我一个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娃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16002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步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1676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布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jì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3333 L -0.06667 0.15555 E">
                                      <p:cBhvr>
                                        <p:cTn id="143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2222 L 0.175 0.14444 E">
                                      <p:cBhvr>
                                        <p:cTn id="147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3880" y="2057400"/>
            <a:ext cx="6553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从此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黑再黑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夜晚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也能看见小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怎样在月光下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睡觉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20971200">
            <a:off x="304920" y="457200"/>
            <a:ext cx="228600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启体简体"/>
              </a:rPr>
              <a:t>我能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启体简体"/>
              <a:ea typeface="方正启体简体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981080"/>
            <a:ext cx="83818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从此再黑再黑的夜晚，我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看见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í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ng                              w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萤火虫在空中飞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2280"/>
            <a:ext cx="9144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从此再黑再黑的夜晚，我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看见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萤火虫在空中飞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4885 L 0 -0.61551 E">
                                      <p:cBhvr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187632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914400"/>
            <a:ext cx="259056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895480" y="2514600"/>
            <a:ext cx="2514600" cy="2314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638680" y="2743200"/>
            <a:ext cx="2362320" cy="217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143000"/>
            <a:ext cx="144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362320"/>
            <a:ext cx="236232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2438280"/>
            <a:ext cx="167616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480060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Motion origin="layout" path="M -0.09583 0.09653 L 0.04584 0.09653 E">
                                      <p:cBhvr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0.08542 L -0.125 0.08542 E">
                                      <p:cBhvr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52280"/>
            <a:ext cx="9144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从此再黑再黑的夜晚，我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看见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2590920"/>
            <a:ext cx="83818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从此再黑再黑的夜晚，我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听见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848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rcRect l="0" t="3524" r="0" b="11895"/>
          <a:stretch/>
        </p:blipFill>
        <p:spPr>
          <a:xfrm>
            <a:off x="152280" y="0"/>
            <a:ext cx="3429000" cy="26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379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584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588000" y="189000"/>
            <a:ext cx="432000" cy="1008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8e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60708" b="4894"/>
          <a:stretch/>
        </p:blipFill>
        <p:spPr>
          <a:xfrm>
            <a:off x="0" y="-8229600"/>
            <a:ext cx="9220320" cy="1508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7990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309600">
            <a:off x="6095880" y="-3190680"/>
            <a:ext cx="7086600" cy="6380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1371600"/>
            <a:ext cx="1676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533520" y="1295280"/>
            <a:ext cx="24382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chu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1295280"/>
            <a:ext cx="24382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sh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295280"/>
            <a:ext cx="24382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shu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0.06667 C -0.07951 0.29514 -0.18958 0.65694 -0.24271 0.79375 C -0.29583 0.93056 -0.28038 0.76111 -0.28802 0.75417 E">
                                      <p:cBhvr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144792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99072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209680"/>
            <a:ext cx="472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143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Arial"/>
                <a:ea typeface="楷体_GB2312"/>
              </a:rPr>
              <a:t>天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362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Arial"/>
                <a:ea typeface="楷体_GB2312"/>
              </a:rPr>
              <a:t>窗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763120" y="5867280"/>
            <a:ext cx="380880" cy="5860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86080"/>
              <a:gd name="textAreaBottom" fmla="*/ 561600 h 586080"/>
            </a:gdLst>
            <a:ahLst/>
            <a:rect l="textAreaLeft" t="textAreaTop" r="textAreaRight" b="textAreaBottom"/>
            <a:pathLst>
              <a:path w="21600" h="33226">
                <a:moveTo>
                  <a:pt x="0" y="0"/>
                </a:moveTo>
                <a:lnTo>
                  <a:pt x="21600" y="0"/>
                </a:lnTo>
                <a:lnTo>
                  <a:pt x="21600" y="33226"/>
                </a:lnTo>
                <a:lnTo>
                  <a:pt x="0" y="33226"/>
                </a:lnTo>
                <a:close/>
              </a:path>
              <a:path fill="lightenLess" w="21600" h="332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226">
                <a:moveTo>
                  <a:pt x="21600" y="0"/>
                </a:moveTo>
                <a:lnTo>
                  <a:pt x="21600" y="33226"/>
                </a:lnTo>
                <a:lnTo>
                  <a:pt x="20200" y="31826"/>
                </a:lnTo>
                <a:lnTo>
                  <a:pt x="20200" y="1400"/>
                </a:lnTo>
                <a:close/>
              </a:path>
              <a:path fill="darkenLess" w="21600" h="33226">
                <a:moveTo>
                  <a:pt x="21600" y="33226"/>
                </a:moveTo>
                <a:lnTo>
                  <a:pt x="0" y="33226"/>
                </a:lnTo>
                <a:lnTo>
                  <a:pt x="1400" y="31826"/>
                </a:lnTo>
                <a:lnTo>
                  <a:pt x="20200" y="31826"/>
                </a:lnTo>
                <a:close/>
              </a:path>
              <a:path fill="lighten" w="21600" h="33226">
                <a:moveTo>
                  <a:pt x="0" y="3322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826"/>
                </a:lnTo>
                <a:close/>
              </a:path>
              <a:path fill="darken" w="21600" h="33226">
                <a:moveTo>
                  <a:pt x="3794" y="16613"/>
                </a:moveTo>
                <a:lnTo>
                  <a:pt x="17806" y="9607"/>
                </a:lnTo>
                <a:lnTo>
                  <a:pt x="17806" y="2362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60708" b="4894"/>
          <a:stretch/>
        </p:blipFill>
        <p:spPr>
          <a:xfrm>
            <a:off x="0" y="-8229600"/>
            <a:ext cx="9220320" cy="1508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0" b="7990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309600">
            <a:off x="3657600" y="1981080"/>
            <a:ext cx="7086600" cy="638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24080" y="1371600"/>
            <a:ext cx="1676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533520" y="1295280"/>
            <a:ext cx="243828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chu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1371600"/>
            <a:ext cx="24382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sh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1371600"/>
            <a:ext cx="24382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shu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1828800"/>
            <a:ext cx="3352680" cy="3048120"/>
          </a:xfrm>
          <a:prstGeom prst="irregularSeal1">
            <a:avLst/>
          </a:prstGeom>
          <a:solidFill>
            <a:srgbClr val="bbe0e3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Arial"/>
              </a:rPr>
              <a:t>c</a:t>
            </a:r>
            <a:r>
              <a:rPr b="1" lang="zh-CN" sz="5400" spc="-1" strike="noStrike">
                <a:solidFill>
                  <a:srgbClr val="ff66cc"/>
                </a:solidFill>
                <a:latin typeface="Arial"/>
              </a:rPr>
              <a:t>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ff"/>
                </a:solidFill>
                <a:latin typeface="Arial"/>
                <a:ea typeface="楷体_GB2312"/>
              </a:rPr>
              <a:t>此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1828800"/>
            <a:ext cx="3352680" cy="2971800"/>
          </a:xfrm>
          <a:prstGeom prst="irregularSeal1">
            <a:avLst/>
          </a:prstGeom>
          <a:solidFill>
            <a:srgbClr val="bbe0e3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Arial"/>
              </a:rPr>
              <a:t>z</a:t>
            </a:r>
            <a:r>
              <a:rPr b="0" lang="zh-CN" sz="6000" spc="-1" strike="noStrike">
                <a:solidFill>
                  <a:srgbClr val="ff66cc"/>
                </a:solidFill>
                <a:latin typeface="Arial"/>
              </a:rPr>
              <a:t>à</a:t>
            </a:r>
            <a:r>
              <a:rPr b="0" lang="zh-CN" sz="5400" spc="-1" strike="noStrike">
                <a:solidFill>
                  <a:srgbClr val="ff66cc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ff"/>
                </a:solidFill>
                <a:latin typeface="Arial"/>
                <a:ea typeface="楷体_GB2312"/>
              </a:rPr>
              <a:t>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95280" y="16765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zà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12952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762120"/>
            <a:ext cx="403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2860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1828800"/>
            <a:ext cx="3352680" cy="3048120"/>
          </a:xfrm>
          <a:prstGeom prst="irregularSeal1">
            <a:avLst/>
          </a:prstGeom>
          <a:solidFill>
            <a:srgbClr val="bbe0e3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Arial"/>
              </a:rPr>
              <a:t>c</a:t>
            </a:r>
            <a:r>
              <a:rPr b="1" lang="zh-CN" sz="5400" spc="-1" strike="noStrike">
                <a:solidFill>
                  <a:srgbClr val="ff66cc"/>
                </a:solidFill>
                <a:latin typeface="Arial"/>
              </a:rPr>
              <a:t>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ff"/>
                </a:solidFill>
                <a:latin typeface="Arial"/>
                <a:ea typeface="楷体_GB2312"/>
              </a:rPr>
              <a:t>此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1828800"/>
            <a:ext cx="3352680" cy="2971800"/>
          </a:xfrm>
          <a:prstGeom prst="irregularSeal1">
            <a:avLst/>
          </a:prstGeom>
          <a:solidFill>
            <a:srgbClr val="bbe0e3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Arial"/>
              </a:rPr>
              <a:t>z</a:t>
            </a:r>
            <a:r>
              <a:rPr b="0" lang="zh-CN" sz="6000" spc="-1" strike="noStrike">
                <a:solidFill>
                  <a:srgbClr val="ff66cc"/>
                </a:solidFill>
                <a:latin typeface="Arial"/>
              </a:rPr>
              <a:t>à</a:t>
            </a:r>
            <a:r>
              <a:rPr b="0" lang="zh-CN" sz="5400" spc="-1" strike="noStrike">
                <a:solidFill>
                  <a:srgbClr val="ff66cc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ff"/>
                </a:solidFill>
                <a:latin typeface="Arial"/>
                <a:ea typeface="楷体_GB2312"/>
              </a:rPr>
              <a:t>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8899" r="-1658" b="-1054"/>
          <a:stretch/>
        </p:blipFill>
        <p:spPr>
          <a:xfrm>
            <a:off x="0" y="0"/>
            <a:ext cx="9296280" cy="7315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22200" t="28568" r="-10974" b="0"/>
          <a:stretch/>
        </p:blipFill>
        <p:spPr>
          <a:xfrm>
            <a:off x="1600200" y="2438280"/>
            <a:ext cx="255600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22200" t="28568" r="-10974" b="0"/>
          <a:stretch/>
        </p:blipFill>
        <p:spPr>
          <a:xfrm>
            <a:off x="5257800" y="2438280"/>
            <a:ext cx="255600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 rot="818400">
            <a:off x="304560" y="-456840"/>
            <a:ext cx="1466640" cy="413388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rId5" action="ppaction://hlinksldjump"/>
          </p:cNvPr>
          <p:cNvSpPr/>
          <p:nvPr/>
        </p:nvSpPr>
        <p:spPr>
          <a:xfrm>
            <a:off x="1981080" y="1371600"/>
            <a:ext cx="16002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cc"/>
                </a:solidFill>
                <a:latin typeface="Arial"/>
              </a:rPr>
              <a:t>yu</a:t>
            </a:r>
            <a:r>
              <a:rPr b="0" lang="zh-CN" sz="5400" spc="-1" strike="noStrike">
                <a:solidFill>
                  <a:srgbClr val="ff66cc"/>
                </a:solidFill>
                <a:latin typeface="Arial"/>
              </a:rPr>
              <a:t>á</a:t>
            </a:r>
            <a:r>
              <a:rPr b="0" lang="zh-CN" sz="4800" spc="-1" strike="noStrike">
                <a:solidFill>
                  <a:srgbClr val="ff66cc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1447920"/>
            <a:ext cx="16765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Arial"/>
              </a:rPr>
              <a:t>ji</a:t>
            </a:r>
            <a:r>
              <a:rPr b="0" lang="zh-CN" sz="5400" spc="-1" strike="noStrike">
                <a:solidFill>
                  <a:srgbClr val="ff3399"/>
                </a:solidFill>
                <a:latin typeface="Arial"/>
              </a:rPr>
              <a:t>à</a:t>
            </a:r>
            <a:r>
              <a:rPr b="0" lang="zh-CN" sz="4800" spc="-1" strike="noStrike">
                <a:solidFill>
                  <a:srgbClr val="ff3399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02-28T08:27:0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