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8A2-51E2-4BD7-86E4-F03EDAD1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628-CAB1-4BDB-AA01-F717E7BF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17D42-359F-4F0B-9BEF-4011057D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1AA-2450-44B1-ACEA-2B5B0A8F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B8DD8-55DD-463D-BC86-9163958A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BD0C5-6B1C-4F5D-927E-1456C4CF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FB607-89BD-41D6-9179-0ECF9B14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180DD-2F1F-4183-9106-CDFAB252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9BD4F-2E1C-4856-BBA2-6B4CC488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6787-DDBF-447D-859E-CC9A738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1C21C-40BD-4CB5-9DDC-DBE00F0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FDB48-843F-433E-8BED-251963F9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DE01A-F97A-40C7-99E9-8733B67C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D1877-F51C-43B0-87C5-BA7F288C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BAB-D792-401B-9615-D0FFF753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DB5B2-24E5-42A3-84EF-C7CA334A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9DA8B-9E8F-470A-B511-A50650E7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AC38-B1C8-478E-B480-F5B038D7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19714-5240-45AF-878F-9561E2EE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C4F93-C8E1-4C9B-B21D-1C63B1D3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9D1DE-A933-45FD-BB83-F7E8659D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4C16C-190B-4C46-8556-E2F01816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DBF21-8ABD-4799-A7CE-BC168F16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65D8-5D58-4129-9F89-0174C7FA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3AFBC-1466-491D-A7EC-B3A9E688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FC0D-78D6-4863-BB46-D7D46A95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B26C9-F930-4D3E-A7A0-806D2F6C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D9FDC-3C23-4768-A66B-7A90D2B8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04BDA-E2E4-4640-BF34-07FF75F2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8FB4-551B-4058-9CA4-D802CEAF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6D3D-B3D8-457D-A14D-4AB666E0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654B-61AE-40D6-990C-CC508DE1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13D9-0BE1-4478-A1D5-C4250E79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11D8-6054-4FAA-960D-ED7A0A24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7066-D4BD-407C-9B50-62B32E3D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259-B127-4083-909A-379C1EF5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76E3-B8D6-4076-AAF5-22551C4C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7CDB-4CD7-4B36-A758-C4B48B2C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2470-4B0A-4925-82C0-4B2F2E21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C74E-C3D1-438E-A66E-7D334FE8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CB46-E77B-4C0F-BAB2-59F786AD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54D7-7D3F-4D0C-8C8A-7439449F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0019-3AAC-42BF-9108-0C2B0593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B601-70BD-499C-A664-4C8679F1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F9C7-FA39-4868-9AA2-455F338B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13CE-8C39-440B-9EF7-FFF5A9D9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D82-1B4E-4CF9-BC9F-12BFA6B3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36C1-E460-49C1-B194-2553797F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035C-555C-4366-A560-49201D20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76110-3C31-4151-AC0F-2FC2D2E8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4792-1358-4373-A5C1-6AAF7B6B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5F7A-C4EE-4D61-8B54-16D88841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3E8B-E91F-4081-A93C-E97BC7FB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752F9-2E33-4586-A90F-02F0FC66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E96D-4999-445E-9BC5-8397378F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4AD44-EFB7-4936-ACEF-F41068A6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014A0-8CDE-404D-B25B-1DA3AD02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75C-F4E8-4548-AD02-5DAAD5A4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963E-39F6-4C1C-AC0B-0FFA531E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003C8-F93E-4C3C-81C0-60A6FD9E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EE42-7FD7-4F0B-BB2A-E72BE343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32F17-5C0B-4B77-934A-FA3400BD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7C58-701F-4ACA-8F1C-808A4FF2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DA99-B262-4219-A874-B4F0E010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F448-6F2E-4F93-AD93-C0238B10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6F139-1A4A-4D89-B200-967458F8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B3FC-9329-4061-9E4B-5CEC570E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CDD71-82CA-41E6-9BD1-62676F8D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87F-2CA2-40D3-AD85-BEC26135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0906B-0891-4610-9C53-5345730F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AE51E-E24A-4443-944B-56520F73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3643F-218B-4415-8A55-C4DF8B9C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22C45-42AF-498F-BE1D-FF0F10FC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95A4A-2F05-492D-91E1-B8AE870B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1640D-DEE2-4AE7-A0F9-BE45D82E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65A62-0037-4F57-8479-246AC29C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C199-ABBC-490F-9C1F-D7C06599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93CC9-A9DA-4AB5-9124-AB4343C5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D7A1C-4569-4674-8808-F6C9529C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2A7-87DA-4977-A8B8-7680752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19BD6-85C8-48AD-BC7F-C4FD3485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B2F-3730-4FAD-9A93-EE5269C6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78A-7CDC-4B0B-8FE4-7B07C401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5C8-30BD-4D64-A919-CF6EFF65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98DC-359D-4AFC-8C35-895AED608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DA42-570F-4565-8439-B0951A30EC0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E745-86CB-4C9E-B419-180710C2EAF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6C23-B14D-4C39-85D6-74E9D219A09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93A0-F903-4F93-BB60-F0811D8F086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title"/>
          </p:nvPr>
        </p:nvSpPr>
        <p:spPr>
          <a:xfrm>
            <a:off x="1114560" y="35017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cf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cfcf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C11E-DF27-4FCD-B1FF-F51EFBBF9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3850-AFFA-4FA0-B75F-A42603719EED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72000" y="1486080"/>
            <a:ext cx="54705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AAB8-E394-48E5-AFEA-97A0A20C7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79B8-E980-4936-9CF9-51AF1E33D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70180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image" Target="../media/image23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6073642-"/>
          <p:cNvPicPr/>
          <p:nvPr/>
        </p:nvPicPr>
        <p:blipFill>
          <a:blip r:embed="rId2"/>
          <a:stretch/>
        </p:blipFill>
        <p:spPr>
          <a:xfrm>
            <a:off x="-298440" y="-220680"/>
            <a:ext cx="9747360" cy="730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-374760" y="0"/>
            <a:ext cx="974736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Calibri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-374760" y="0"/>
            <a:ext cx="9747360" cy="714996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14600" y="1752480"/>
            <a:ext cx="6324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ff3399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ff3399"/>
                </a:solidFill>
                <a:latin typeface="Calibri"/>
              </a:rPr>
              <a:t>dǎn            yǒng            gǎn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Calibri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c0504d"/>
                </a:solidFill>
                <a:latin typeface="Calibri"/>
                <a:ea typeface="楷体_GB2312"/>
              </a:rPr>
              <a:t>胆         勇         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</a:rPr>
              <a:t>shì      chuān</a:t>
            </a:r>
            <a:r>
              <a:rPr b="0" lang="zh-CN" sz="3200" spc="-1" strike="noStrike">
                <a:solidFill>
                  <a:srgbClr val="ff3399"/>
                </a:solidFill>
                <a:latin typeface="Calibri"/>
              </a:rPr>
              <a:t>g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</a:rPr>
              <a:t>    yuán 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Calibri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c0504d"/>
                </a:solidFill>
                <a:latin typeface="Calibri"/>
                <a:ea typeface="楷体_GB2312"/>
              </a:rPr>
              <a:t>事         窗        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</a:rPr>
              <a:t>cǐ    zài   shuì     jià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Calibri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c0504d"/>
                </a:solidFill>
                <a:latin typeface="Calibri"/>
                <a:ea typeface="楷体_GB2312"/>
              </a:rPr>
              <a:t>此    再     睡        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/>
          <p:nvPr/>
        </p:nvSpPr>
        <p:spPr>
          <a:xfrm>
            <a:off x="3967200" y="193680"/>
            <a:ext cx="134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-374760" y="0"/>
            <a:ext cx="9747360" cy="73152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Calibri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04920" y="0"/>
            <a:ext cx="8508960" cy="64771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-755640" y="-677880"/>
            <a:ext cx="11042640" cy="828828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819520" y="121896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胆      勇        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事      窗        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此     再       睡      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/>
          <p:nvPr/>
        </p:nvSpPr>
        <p:spPr>
          <a:xfrm>
            <a:off x="4343400" y="2286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-298440" y="-220680"/>
            <a:ext cx="9747360" cy="73072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alibri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-298440" y="-220680"/>
            <a:ext cx="9671040" cy="72565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09680" y="838080"/>
            <a:ext cx="69343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yǒn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g g</a:t>
            </a: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ǎn    cón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g </a:t>
            </a: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cǐ     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g </a:t>
            </a: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ù sh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c0504d"/>
                </a:solidFill>
                <a:latin typeface="黑体"/>
                <a:ea typeface="黑体"/>
              </a:rPr>
              <a:t>勇  敢    从 此     故 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chuān</a:t>
            </a:r>
            <a:r>
              <a:rPr b="0" lang="zh-CN" sz="2800" spc="-1" strike="noStrike">
                <a:solidFill>
                  <a:srgbClr val="6600cc"/>
                </a:solidFill>
                <a:latin typeface="Calibri"/>
              </a:rPr>
              <a:t>g </a:t>
            </a: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wài   yuán lái     sàn b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c0504d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c0504d"/>
                </a:solidFill>
                <a:latin typeface="黑体"/>
                <a:ea typeface="黑体"/>
              </a:rPr>
              <a:t>窗  外    原  来     散 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wēi xiào    shuì jiào    yè  wǎ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c0504d"/>
                </a:solidFill>
                <a:latin typeface="黑体"/>
                <a:ea typeface="黑体"/>
              </a:rPr>
              <a:t>微 笑      睡 觉      夜 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08960" cy="63878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362320" y="1295280"/>
            <a:ext cx="6019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c0504d"/>
                </a:solidFill>
                <a:latin typeface="Arial"/>
              </a:rPr>
              <a:t>勇 敢   从 此    讲 故 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c0504d"/>
                </a:solidFill>
                <a:latin typeface="Arial"/>
              </a:rPr>
              <a:t>窗 外    原 来    散 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c0504d"/>
                </a:solidFill>
                <a:latin typeface="Arial"/>
              </a:rPr>
              <a:t>微 笑    睡 觉    夜 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Noname1"/>
          <p:cNvPicPr/>
          <p:nvPr/>
        </p:nvPicPr>
        <p:blipFill>
          <a:blip r:embed="rId2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Noname1"/>
          <p:cNvPicPr/>
          <p:nvPr/>
        </p:nvPicPr>
        <p:blipFill>
          <a:blip r:embed="rId3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Noname1"/>
          <p:cNvPicPr/>
          <p:nvPr/>
        </p:nvPicPr>
        <p:blipFill>
          <a:blip r:embed="rId4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Noname1"/>
          <p:cNvPicPr/>
          <p:nvPr/>
        </p:nvPicPr>
        <p:blipFill>
          <a:blip r:embed="rId5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Noname1"/>
          <p:cNvPicPr/>
          <p:nvPr/>
        </p:nvPicPr>
        <p:blipFill>
          <a:blip r:embed="rId6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Noname1"/>
          <p:cNvPicPr/>
          <p:nvPr/>
        </p:nvPicPr>
        <p:blipFill>
          <a:blip r:embed="rId7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2"/>
          <p:cNvSpPr/>
          <p:nvPr/>
        </p:nvSpPr>
        <p:spPr>
          <a:xfrm>
            <a:off x="2362320" y="990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z</a:t>
            </a:r>
            <a:r>
              <a:rPr b="0" lang="zh-CN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à</a:t>
            </a: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3"/>
          <p:cNvSpPr/>
          <p:nvPr/>
        </p:nvSpPr>
        <p:spPr>
          <a:xfrm>
            <a:off x="4724280" y="42861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见   再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4"/>
          <p:cNvSpPr/>
          <p:nvPr/>
        </p:nvSpPr>
        <p:spPr>
          <a:xfrm>
            <a:off x="838080" y="5105520"/>
            <a:ext cx="7391520" cy="703440"/>
          </a:xfrm>
          <a:prstGeom prst="rect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临走前，毛毛很有礼貌地跟大家说再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485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8" name="Picture 19" descr="Noname2"/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8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体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39"/>
          <p:cNvSpPr/>
          <p:nvPr/>
        </p:nvSpPr>
        <p:spPr>
          <a:xfrm>
            <a:off x="2313000" y="2362320"/>
            <a:ext cx="1096920" cy="22536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41"/>
          <p:cNvSpPr/>
          <p:nvPr/>
        </p:nvSpPr>
        <p:spPr>
          <a:xfrm>
            <a:off x="2438280" y="2793960"/>
            <a:ext cx="127080" cy="11239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2"/>
          <p:cNvSpPr/>
          <p:nvPr/>
        </p:nvSpPr>
        <p:spPr>
          <a:xfrm>
            <a:off x="2505240" y="2709720"/>
            <a:ext cx="799920" cy="13147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40"/>
          <p:cNvSpPr/>
          <p:nvPr/>
        </p:nvSpPr>
        <p:spPr>
          <a:xfrm>
            <a:off x="2781360" y="2505240"/>
            <a:ext cx="128520" cy="86508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43"/>
          <p:cNvSpPr/>
          <p:nvPr/>
        </p:nvSpPr>
        <p:spPr>
          <a:xfrm>
            <a:off x="2625840" y="3002040"/>
            <a:ext cx="446040" cy="11736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44"/>
          <p:cNvSpPr/>
          <p:nvPr/>
        </p:nvSpPr>
        <p:spPr>
          <a:xfrm>
            <a:off x="1968480" y="3241800"/>
            <a:ext cx="1773360" cy="27468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724280" y="1967040"/>
            <a:ext cx="2286000" cy="703440"/>
            <a:chOff x="4724280" y="1967040"/>
            <a:chExt cx="2286000" cy="703440"/>
          </a:xfrm>
        </p:grpSpPr>
        <p:sp>
          <p:nvSpPr>
            <p:cNvPr id="499" name="Text Box 23"/>
            <p:cNvSpPr/>
            <p:nvPr/>
          </p:nvSpPr>
          <p:spPr>
            <a:xfrm>
              <a:off x="4724280" y="196704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5"/>
            <p:cNvSpPr/>
            <p:nvPr/>
          </p:nvSpPr>
          <p:spPr>
            <a:xfrm>
              <a:off x="6248160" y="2210040"/>
              <a:ext cx="762120" cy="2286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Freeform 53"/>
          <p:cNvSpPr/>
          <p:nvPr/>
        </p:nvSpPr>
        <p:spPr>
          <a:xfrm>
            <a:off x="2314440" y="2362320"/>
            <a:ext cx="1096920" cy="22536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55"/>
          <p:cNvSpPr/>
          <p:nvPr/>
        </p:nvSpPr>
        <p:spPr>
          <a:xfrm>
            <a:off x="2440080" y="2793960"/>
            <a:ext cx="127080" cy="11239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56"/>
          <p:cNvSpPr/>
          <p:nvPr/>
        </p:nvSpPr>
        <p:spPr>
          <a:xfrm>
            <a:off x="2506680" y="2709720"/>
            <a:ext cx="799920" cy="13147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57"/>
          <p:cNvSpPr/>
          <p:nvPr/>
        </p:nvSpPr>
        <p:spPr>
          <a:xfrm>
            <a:off x="2627280" y="3002040"/>
            <a:ext cx="446040" cy="11736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54"/>
          <p:cNvSpPr/>
          <p:nvPr/>
        </p:nvSpPr>
        <p:spPr>
          <a:xfrm>
            <a:off x="2781360" y="2500200"/>
            <a:ext cx="128520" cy="8654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58"/>
          <p:cNvSpPr/>
          <p:nvPr/>
        </p:nvSpPr>
        <p:spPr>
          <a:xfrm>
            <a:off x="1969920" y="3241800"/>
            <a:ext cx="1773360" cy="2746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Noname1"/>
          <p:cNvPicPr/>
          <p:nvPr/>
        </p:nvPicPr>
        <p:blipFill>
          <a:blip r:embed="rId2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Noname1"/>
          <p:cNvPicPr/>
          <p:nvPr/>
        </p:nvPicPr>
        <p:blipFill>
          <a:blip r:embed="rId3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Noname1"/>
          <p:cNvPicPr/>
          <p:nvPr/>
        </p:nvPicPr>
        <p:blipFill>
          <a:blip r:embed="rId4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Noname1"/>
          <p:cNvPicPr/>
          <p:nvPr/>
        </p:nvPicPr>
        <p:blipFill>
          <a:blip r:embed="rId5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Noname1"/>
          <p:cNvPicPr/>
          <p:nvPr/>
        </p:nvPicPr>
        <p:blipFill>
          <a:blip r:embed="rId6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Noname1"/>
          <p:cNvPicPr/>
          <p:nvPr/>
        </p:nvPicPr>
        <p:blipFill>
          <a:blip r:embed="rId7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2362320" y="990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sh</a:t>
            </a:r>
            <a:r>
              <a:rPr b="0" lang="zh-CN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4724280" y="42861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   事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914400" y="5334120"/>
            <a:ext cx="7238880" cy="703440"/>
          </a:xfrm>
          <a:prstGeom prst="rect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每天睡觉之前，妈妈都会给我讲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521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4" name="Picture 19" descr="Noname2"/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体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0"/>
          <p:cNvSpPr/>
          <p:nvPr/>
        </p:nvSpPr>
        <p:spPr>
          <a:xfrm>
            <a:off x="2414520" y="2773440"/>
            <a:ext cx="154080" cy="2887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36"/>
          <p:cNvSpPr/>
          <p:nvPr/>
        </p:nvSpPr>
        <p:spPr>
          <a:xfrm>
            <a:off x="2422440" y="3011400"/>
            <a:ext cx="1040040" cy="45576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33"/>
          <p:cNvSpPr/>
          <p:nvPr/>
        </p:nvSpPr>
        <p:spPr>
          <a:xfrm>
            <a:off x="2386080" y="3436920"/>
            <a:ext cx="1000080" cy="15228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4"/>
          <p:cNvSpPr/>
          <p:nvPr/>
        </p:nvSpPr>
        <p:spPr>
          <a:xfrm>
            <a:off x="2073240" y="2468520"/>
            <a:ext cx="1628640" cy="2286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5"/>
          <p:cNvSpPr/>
          <p:nvPr/>
        </p:nvSpPr>
        <p:spPr>
          <a:xfrm>
            <a:off x="2484360" y="2676600"/>
            <a:ext cx="916200" cy="2268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31"/>
          <p:cNvSpPr/>
          <p:nvPr/>
        </p:nvSpPr>
        <p:spPr>
          <a:xfrm>
            <a:off x="2548080" y="2882880"/>
            <a:ext cx="755640" cy="1429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32"/>
          <p:cNvSpPr/>
          <p:nvPr/>
        </p:nvSpPr>
        <p:spPr>
          <a:xfrm>
            <a:off x="2149560" y="3201840"/>
            <a:ext cx="1579320" cy="2318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48"/>
          <p:cNvSpPr/>
          <p:nvPr/>
        </p:nvSpPr>
        <p:spPr>
          <a:xfrm>
            <a:off x="2409840" y="2773440"/>
            <a:ext cx="154080" cy="2887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9"/>
          <p:cNvSpPr/>
          <p:nvPr/>
        </p:nvSpPr>
        <p:spPr>
          <a:xfrm>
            <a:off x="2590920" y="2286000"/>
            <a:ext cx="344520" cy="17971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52"/>
          <p:cNvSpPr/>
          <p:nvPr/>
        </p:nvSpPr>
        <p:spPr>
          <a:xfrm>
            <a:off x="2057400" y="2467080"/>
            <a:ext cx="1628640" cy="2286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53"/>
          <p:cNvSpPr/>
          <p:nvPr/>
        </p:nvSpPr>
        <p:spPr>
          <a:xfrm>
            <a:off x="2489040" y="2666880"/>
            <a:ext cx="916200" cy="22716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54"/>
          <p:cNvSpPr/>
          <p:nvPr/>
        </p:nvSpPr>
        <p:spPr>
          <a:xfrm>
            <a:off x="2425680" y="3009960"/>
            <a:ext cx="1039680" cy="4554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50"/>
          <p:cNvSpPr/>
          <p:nvPr/>
        </p:nvSpPr>
        <p:spPr>
          <a:xfrm>
            <a:off x="2133720" y="3200400"/>
            <a:ext cx="1579320" cy="2318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51"/>
          <p:cNvSpPr/>
          <p:nvPr/>
        </p:nvSpPr>
        <p:spPr>
          <a:xfrm>
            <a:off x="2374920" y="3441600"/>
            <a:ext cx="1000080" cy="1526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49"/>
          <p:cNvSpPr/>
          <p:nvPr/>
        </p:nvSpPr>
        <p:spPr>
          <a:xfrm>
            <a:off x="2540160" y="2882880"/>
            <a:ext cx="755640" cy="1429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47"/>
          <p:cNvSpPr/>
          <p:nvPr/>
        </p:nvSpPr>
        <p:spPr>
          <a:xfrm>
            <a:off x="2590920" y="2286000"/>
            <a:ext cx="344520" cy="17971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724280" y="1967040"/>
            <a:ext cx="2590920" cy="703440"/>
            <a:chOff x="4724280" y="1967040"/>
            <a:chExt cx="2590920" cy="703440"/>
          </a:xfrm>
        </p:grpSpPr>
        <p:sp>
          <p:nvSpPr>
            <p:cNvPr id="545" name="Text Box 23"/>
            <p:cNvSpPr/>
            <p:nvPr/>
          </p:nvSpPr>
          <p:spPr>
            <a:xfrm>
              <a:off x="4724280" y="196704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6"/>
            <p:cNvSpPr/>
            <p:nvPr/>
          </p:nvSpPr>
          <p:spPr>
            <a:xfrm>
              <a:off x="6448320" y="2133720"/>
              <a:ext cx="866880" cy="2286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Noname1"/>
          <p:cNvPicPr/>
          <p:nvPr/>
        </p:nvPicPr>
        <p:blipFill>
          <a:blip r:embed="rId2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Noname1"/>
          <p:cNvPicPr/>
          <p:nvPr/>
        </p:nvPicPr>
        <p:blipFill>
          <a:blip r:embed="rId3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Noname1"/>
          <p:cNvPicPr/>
          <p:nvPr/>
        </p:nvPicPr>
        <p:blipFill>
          <a:blip r:embed="rId4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Noname1"/>
          <p:cNvPicPr/>
          <p:nvPr/>
        </p:nvPicPr>
        <p:blipFill>
          <a:blip r:embed="rId5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Noname1"/>
          <p:cNvPicPr/>
          <p:nvPr/>
        </p:nvPicPr>
        <p:blipFill>
          <a:blip r:embed="rId6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Noname1"/>
          <p:cNvPicPr/>
          <p:nvPr/>
        </p:nvPicPr>
        <p:blipFill>
          <a:blip r:embed="rId7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2209680" y="990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ji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GB Pinyinok-C"/>
              </a:rPr>
              <a:t>ă</a:t>
            </a: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4724280" y="41148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述   讲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685800" y="5105520"/>
            <a:ext cx="7467480" cy="703440"/>
          </a:xfrm>
          <a:prstGeom prst="rect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最爱听爷爷讲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561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4" name="Picture 19" descr="Noname2"/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9"/>
          <p:cNvSpPr/>
          <p:nvPr/>
        </p:nvSpPr>
        <p:spPr>
          <a:xfrm>
            <a:off x="2674800" y="2800440"/>
            <a:ext cx="878040" cy="1904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2"/>
          <p:cNvSpPr/>
          <p:nvPr/>
        </p:nvSpPr>
        <p:spPr>
          <a:xfrm>
            <a:off x="2558880" y="3103560"/>
            <a:ext cx="1216080" cy="2318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0"/>
          <p:cNvSpPr/>
          <p:nvPr/>
        </p:nvSpPr>
        <p:spPr>
          <a:xfrm>
            <a:off x="2550960" y="2558880"/>
            <a:ext cx="444600" cy="13608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1"/>
          <p:cNvSpPr/>
          <p:nvPr/>
        </p:nvSpPr>
        <p:spPr>
          <a:xfrm>
            <a:off x="3152880" y="2395440"/>
            <a:ext cx="171360" cy="16430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3"/>
          <p:cNvSpPr/>
          <p:nvPr/>
        </p:nvSpPr>
        <p:spPr>
          <a:xfrm>
            <a:off x="2322360" y="2486160"/>
            <a:ext cx="282600" cy="1951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4"/>
          <p:cNvSpPr/>
          <p:nvPr/>
        </p:nvSpPr>
        <p:spPr>
          <a:xfrm>
            <a:off x="1981080" y="2946240"/>
            <a:ext cx="703440" cy="9162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724280" y="1557360"/>
            <a:ext cx="3443400" cy="1316160"/>
            <a:chOff x="4724280" y="1557360"/>
            <a:chExt cx="3443400" cy="1316160"/>
          </a:xfrm>
        </p:grpSpPr>
        <p:sp>
          <p:nvSpPr>
            <p:cNvPr id="575" name="Text Box 36"/>
            <p:cNvSpPr/>
            <p:nvPr/>
          </p:nvSpPr>
          <p:spPr>
            <a:xfrm>
              <a:off x="4724280" y="196704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言字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7"/>
            <p:cNvSpPr/>
            <p:nvPr/>
          </p:nvSpPr>
          <p:spPr>
            <a:xfrm>
              <a:off x="7467480" y="1981080"/>
              <a:ext cx="700200" cy="892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8"/>
            <p:cNvSpPr/>
            <p:nvPr/>
          </p:nvSpPr>
          <p:spPr>
            <a:xfrm>
              <a:off x="7789680" y="1557360"/>
              <a:ext cx="289080" cy="2048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Freeform 39"/>
          <p:cNvSpPr/>
          <p:nvPr/>
        </p:nvSpPr>
        <p:spPr>
          <a:xfrm>
            <a:off x="2674800" y="2800440"/>
            <a:ext cx="878040" cy="1904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2"/>
          <p:cNvSpPr/>
          <p:nvPr/>
        </p:nvSpPr>
        <p:spPr>
          <a:xfrm>
            <a:off x="2558880" y="3103560"/>
            <a:ext cx="1216080" cy="2318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3"/>
          <p:cNvSpPr/>
          <p:nvPr/>
        </p:nvSpPr>
        <p:spPr>
          <a:xfrm>
            <a:off x="2322360" y="2486160"/>
            <a:ext cx="282600" cy="1951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4"/>
          <p:cNvSpPr/>
          <p:nvPr/>
        </p:nvSpPr>
        <p:spPr>
          <a:xfrm>
            <a:off x="1981080" y="2946240"/>
            <a:ext cx="703440" cy="9162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0"/>
          <p:cNvSpPr/>
          <p:nvPr/>
        </p:nvSpPr>
        <p:spPr>
          <a:xfrm>
            <a:off x="2540160" y="2552760"/>
            <a:ext cx="444240" cy="13604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1"/>
          <p:cNvSpPr/>
          <p:nvPr/>
        </p:nvSpPr>
        <p:spPr>
          <a:xfrm>
            <a:off x="3149640" y="2400480"/>
            <a:ext cx="171360" cy="16430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Noname1"/>
          <p:cNvPicPr/>
          <p:nvPr/>
        </p:nvPicPr>
        <p:blipFill>
          <a:blip r:embed="rId2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Noname1"/>
          <p:cNvPicPr/>
          <p:nvPr/>
        </p:nvPicPr>
        <p:blipFill>
          <a:blip r:embed="rId3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Noname1"/>
          <p:cNvPicPr/>
          <p:nvPr/>
        </p:nvPicPr>
        <p:blipFill>
          <a:blip r:embed="rId4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Noname1"/>
          <p:cNvPicPr/>
          <p:nvPr/>
        </p:nvPicPr>
        <p:blipFill>
          <a:blip r:embed="rId5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Noname1"/>
          <p:cNvPicPr/>
          <p:nvPr/>
        </p:nvPicPr>
        <p:blipFill>
          <a:blip r:embed="rId6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Noname1"/>
          <p:cNvPicPr/>
          <p:nvPr/>
        </p:nvPicPr>
        <p:blipFill>
          <a:blip r:embed="rId7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2514600" y="990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l</a:t>
            </a:r>
            <a:r>
              <a:rPr b="0" lang="zh-CN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4724280" y="42861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上   拖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1066680" y="5334120"/>
            <a:ext cx="7010640" cy="703440"/>
          </a:xfrm>
          <a:prstGeom prst="rect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晚上，爸爸拉上我出去散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598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1" name="Picture 19" descr="Noname2"/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8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30"/>
          <p:cNvSpPr/>
          <p:nvPr/>
        </p:nvSpPr>
        <p:spPr>
          <a:xfrm>
            <a:off x="2162160" y="2905200"/>
            <a:ext cx="630360" cy="1728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29"/>
          <p:cNvSpPr/>
          <p:nvPr/>
        </p:nvSpPr>
        <p:spPr>
          <a:xfrm>
            <a:off x="2290680" y="2441520"/>
            <a:ext cx="316080" cy="16020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31"/>
          <p:cNvSpPr/>
          <p:nvPr/>
        </p:nvSpPr>
        <p:spPr>
          <a:xfrm>
            <a:off x="3063960" y="2511360"/>
            <a:ext cx="295200" cy="19836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32"/>
          <p:cNvSpPr/>
          <p:nvPr/>
        </p:nvSpPr>
        <p:spPr>
          <a:xfrm>
            <a:off x="2887560" y="2879640"/>
            <a:ext cx="706680" cy="1825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33"/>
          <p:cNvSpPr/>
          <p:nvPr/>
        </p:nvSpPr>
        <p:spPr>
          <a:xfrm>
            <a:off x="2901960" y="3220920"/>
            <a:ext cx="182520" cy="2286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34"/>
          <p:cNvSpPr/>
          <p:nvPr/>
        </p:nvSpPr>
        <p:spPr>
          <a:xfrm>
            <a:off x="1994040" y="3200400"/>
            <a:ext cx="774720" cy="5047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35"/>
          <p:cNvSpPr/>
          <p:nvPr/>
        </p:nvSpPr>
        <p:spPr>
          <a:xfrm>
            <a:off x="2652840" y="3562200"/>
            <a:ext cx="1157040" cy="1890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36"/>
          <p:cNvSpPr/>
          <p:nvPr/>
        </p:nvSpPr>
        <p:spPr>
          <a:xfrm>
            <a:off x="3209760" y="3097080"/>
            <a:ext cx="246240" cy="54468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724280" y="1523880"/>
            <a:ext cx="3428640" cy="1373040"/>
            <a:chOff x="4724280" y="1523880"/>
            <a:chExt cx="3428640" cy="1373040"/>
          </a:xfrm>
        </p:grpSpPr>
        <p:sp>
          <p:nvSpPr>
            <p:cNvPr id="614" name="Text Box 23"/>
            <p:cNvSpPr/>
            <p:nvPr/>
          </p:nvSpPr>
          <p:spPr>
            <a:xfrm>
              <a:off x="4724280" y="196668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提手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7468920" y="1523880"/>
              <a:ext cx="684000" cy="1373040"/>
              <a:chOff x="7468920" y="1523880"/>
              <a:chExt cx="684000" cy="1373040"/>
            </a:xfrm>
          </p:grpSpPr>
          <p:sp>
            <p:nvSpPr>
              <p:cNvPr id="616" name="Freeform 37"/>
              <p:cNvSpPr/>
              <p:nvPr/>
            </p:nvSpPr>
            <p:spPr>
              <a:xfrm>
                <a:off x="7723440" y="1523880"/>
                <a:ext cx="270360" cy="137304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8"/>
              <p:cNvSpPr/>
              <p:nvPr/>
            </p:nvSpPr>
            <p:spPr>
              <a:xfrm>
                <a:off x="7612920" y="1921320"/>
                <a:ext cx="540000" cy="14796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9"/>
              <p:cNvSpPr/>
              <p:nvPr/>
            </p:nvSpPr>
            <p:spPr>
              <a:xfrm>
                <a:off x="7468920" y="2174400"/>
                <a:ext cx="663840" cy="43236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Freeform 43"/>
          <p:cNvSpPr/>
          <p:nvPr/>
        </p:nvSpPr>
        <p:spPr>
          <a:xfrm>
            <a:off x="2146320" y="2908440"/>
            <a:ext cx="630360" cy="1728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42"/>
          <p:cNvSpPr/>
          <p:nvPr/>
        </p:nvSpPr>
        <p:spPr>
          <a:xfrm>
            <a:off x="2286000" y="2438280"/>
            <a:ext cx="316080" cy="16020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44"/>
          <p:cNvSpPr/>
          <p:nvPr/>
        </p:nvSpPr>
        <p:spPr>
          <a:xfrm>
            <a:off x="3062160" y="2508120"/>
            <a:ext cx="295560" cy="1987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45"/>
          <p:cNvSpPr/>
          <p:nvPr/>
        </p:nvSpPr>
        <p:spPr>
          <a:xfrm>
            <a:off x="2886120" y="2876400"/>
            <a:ext cx="706320" cy="1828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6"/>
          <p:cNvSpPr/>
          <p:nvPr/>
        </p:nvSpPr>
        <p:spPr>
          <a:xfrm>
            <a:off x="2900520" y="3218040"/>
            <a:ext cx="182520" cy="2286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47"/>
          <p:cNvSpPr/>
          <p:nvPr/>
        </p:nvSpPr>
        <p:spPr>
          <a:xfrm>
            <a:off x="1992240" y="3197160"/>
            <a:ext cx="774720" cy="5047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49"/>
          <p:cNvSpPr/>
          <p:nvPr/>
        </p:nvSpPr>
        <p:spPr>
          <a:xfrm>
            <a:off x="3208320" y="3094200"/>
            <a:ext cx="246240" cy="5443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8"/>
          <p:cNvSpPr/>
          <p:nvPr/>
        </p:nvSpPr>
        <p:spPr>
          <a:xfrm>
            <a:off x="2651040" y="3559320"/>
            <a:ext cx="1157400" cy="1886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Noname1"/>
          <p:cNvPicPr/>
          <p:nvPr/>
        </p:nvPicPr>
        <p:blipFill>
          <a:blip r:embed="rId2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" descr="Noname1"/>
          <p:cNvPicPr/>
          <p:nvPr/>
        </p:nvPicPr>
        <p:blipFill>
          <a:blip r:embed="rId3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Noname1"/>
          <p:cNvPicPr/>
          <p:nvPr/>
        </p:nvPicPr>
        <p:blipFill>
          <a:blip r:embed="rId4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" descr="Noname1"/>
          <p:cNvPicPr/>
          <p:nvPr/>
        </p:nvPicPr>
        <p:blipFill>
          <a:blip r:embed="rId5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6" descr="Noname1"/>
          <p:cNvPicPr/>
          <p:nvPr/>
        </p:nvPicPr>
        <p:blipFill>
          <a:blip r:embed="rId6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Noname1"/>
          <p:cNvPicPr/>
          <p:nvPr/>
        </p:nvPicPr>
        <p:blipFill>
          <a:blip r:embed="rId7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2286000" y="990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w</a:t>
            </a:r>
            <a:r>
              <a:rPr b="0" lang="zh-CN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à</a:t>
            </a: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4724280" y="42861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面   外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4"/>
          <p:cNvSpPr/>
          <p:nvPr/>
        </p:nvSpPr>
        <p:spPr>
          <a:xfrm>
            <a:off x="685800" y="5334120"/>
            <a:ext cx="7315200" cy="703440"/>
          </a:xfrm>
          <a:prstGeom prst="rect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天黑以后，我就不敢往外面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641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4" name="Picture 19" descr="Noname2"/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8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29"/>
          <p:cNvSpPr/>
          <p:nvPr/>
        </p:nvSpPr>
        <p:spPr>
          <a:xfrm>
            <a:off x="3048120" y="2362320"/>
            <a:ext cx="171360" cy="17460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30"/>
          <p:cNvSpPr/>
          <p:nvPr/>
        </p:nvSpPr>
        <p:spPr>
          <a:xfrm>
            <a:off x="3164040" y="2933640"/>
            <a:ext cx="552240" cy="3110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31"/>
          <p:cNvSpPr/>
          <p:nvPr/>
        </p:nvSpPr>
        <p:spPr>
          <a:xfrm>
            <a:off x="2073240" y="2793960"/>
            <a:ext cx="828720" cy="9860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32"/>
          <p:cNvSpPr/>
          <p:nvPr/>
        </p:nvSpPr>
        <p:spPr>
          <a:xfrm>
            <a:off x="2281320" y="3112920"/>
            <a:ext cx="258840" cy="2048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33"/>
          <p:cNvSpPr/>
          <p:nvPr/>
        </p:nvSpPr>
        <p:spPr>
          <a:xfrm>
            <a:off x="2131920" y="2535120"/>
            <a:ext cx="505080" cy="64476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724280" y="1600200"/>
            <a:ext cx="3419640" cy="1244520"/>
            <a:chOff x="4724280" y="1600200"/>
            <a:chExt cx="3419640" cy="1244520"/>
          </a:xfrm>
        </p:grpSpPr>
        <p:sp>
          <p:nvSpPr>
            <p:cNvPr id="654" name="Text Box 23"/>
            <p:cNvSpPr/>
            <p:nvPr/>
          </p:nvSpPr>
          <p:spPr>
            <a:xfrm>
              <a:off x="4724280" y="196704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夕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7315200" y="1600200"/>
              <a:ext cx="828720" cy="1244520"/>
              <a:chOff x="7315200" y="1600200"/>
              <a:chExt cx="828720" cy="1244520"/>
            </a:xfrm>
          </p:grpSpPr>
          <p:sp>
            <p:nvSpPr>
              <p:cNvPr id="656" name="Freeform 34"/>
              <p:cNvSpPr/>
              <p:nvPr/>
            </p:nvSpPr>
            <p:spPr>
              <a:xfrm>
                <a:off x="7315200" y="1859040"/>
                <a:ext cx="828720" cy="98568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5"/>
              <p:cNvSpPr/>
              <p:nvPr/>
            </p:nvSpPr>
            <p:spPr>
              <a:xfrm>
                <a:off x="7523280" y="2178000"/>
                <a:ext cx="258480" cy="20484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6"/>
              <p:cNvSpPr/>
              <p:nvPr/>
            </p:nvSpPr>
            <p:spPr>
              <a:xfrm>
                <a:off x="7373880" y="1600200"/>
                <a:ext cx="504720" cy="64440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Freeform 39"/>
          <p:cNvSpPr/>
          <p:nvPr/>
        </p:nvSpPr>
        <p:spPr>
          <a:xfrm>
            <a:off x="3054240" y="2362320"/>
            <a:ext cx="171720" cy="17460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40"/>
          <p:cNvSpPr/>
          <p:nvPr/>
        </p:nvSpPr>
        <p:spPr>
          <a:xfrm>
            <a:off x="3170160" y="2933640"/>
            <a:ext cx="552600" cy="3110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41"/>
          <p:cNvSpPr/>
          <p:nvPr/>
        </p:nvSpPr>
        <p:spPr>
          <a:xfrm>
            <a:off x="2079720" y="2793960"/>
            <a:ext cx="828720" cy="9860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42"/>
          <p:cNvSpPr/>
          <p:nvPr/>
        </p:nvSpPr>
        <p:spPr>
          <a:xfrm>
            <a:off x="2287440" y="3112920"/>
            <a:ext cx="258840" cy="2048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43"/>
          <p:cNvSpPr/>
          <p:nvPr/>
        </p:nvSpPr>
        <p:spPr>
          <a:xfrm>
            <a:off x="2138400" y="2535120"/>
            <a:ext cx="504720" cy="64476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Noname1"/>
          <p:cNvPicPr/>
          <p:nvPr/>
        </p:nvPicPr>
        <p:blipFill>
          <a:blip r:embed="rId2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" descr="Noname1"/>
          <p:cNvPicPr/>
          <p:nvPr/>
        </p:nvPicPr>
        <p:blipFill>
          <a:blip r:embed="rId3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" descr="Noname1"/>
          <p:cNvPicPr/>
          <p:nvPr/>
        </p:nvPicPr>
        <p:blipFill>
          <a:blip r:embed="rId4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Noname1"/>
          <p:cNvPicPr/>
          <p:nvPr/>
        </p:nvPicPr>
        <p:blipFill>
          <a:blip r:embed="rId5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" descr="Noname1"/>
          <p:cNvPicPr/>
          <p:nvPr/>
        </p:nvPicPr>
        <p:blipFill>
          <a:blip r:embed="rId6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7" descr="Noname1"/>
          <p:cNvPicPr/>
          <p:nvPr/>
        </p:nvPicPr>
        <p:blipFill>
          <a:blip r:embed="rId7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2"/>
          <p:cNvSpPr/>
          <p:nvPr/>
        </p:nvSpPr>
        <p:spPr>
          <a:xfrm>
            <a:off x="2438280" y="990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c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GB Pinyinok-C"/>
              </a:rPr>
              <a:t>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3"/>
          <p:cNvSpPr/>
          <p:nvPr/>
        </p:nvSpPr>
        <p:spPr>
          <a:xfrm>
            <a:off x="4724280" y="42861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   此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762120" y="5334120"/>
            <a:ext cx="7238880" cy="703440"/>
          </a:xfrm>
          <a:prstGeom prst="rect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从此，我再也不怕黑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678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1" name="Picture 19" descr="Noname2"/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8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29"/>
          <p:cNvSpPr/>
          <p:nvPr/>
        </p:nvSpPr>
        <p:spPr>
          <a:xfrm>
            <a:off x="2460600" y="2597040"/>
            <a:ext cx="201600" cy="10112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30"/>
          <p:cNvSpPr/>
          <p:nvPr/>
        </p:nvSpPr>
        <p:spPr>
          <a:xfrm>
            <a:off x="2201760" y="3084480"/>
            <a:ext cx="176400" cy="6206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31"/>
          <p:cNvSpPr/>
          <p:nvPr/>
        </p:nvSpPr>
        <p:spPr>
          <a:xfrm>
            <a:off x="2616120" y="3029040"/>
            <a:ext cx="324000" cy="14436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32"/>
          <p:cNvSpPr/>
          <p:nvPr/>
        </p:nvSpPr>
        <p:spPr>
          <a:xfrm>
            <a:off x="2065320" y="3452760"/>
            <a:ext cx="835200" cy="4111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34"/>
          <p:cNvSpPr/>
          <p:nvPr/>
        </p:nvSpPr>
        <p:spPr>
          <a:xfrm>
            <a:off x="3057480" y="2806560"/>
            <a:ext cx="493920" cy="4082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33"/>
          <p:cNvSpPr/>
          <p:nvPr/>
        </p:nvSpPr>
        <p:spPr>
          <a:xfrm>
            <a:off x="2973240" y="2438280"/>
            <a:ext cx="836640" cy="140976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4724280" y="1600200"/>
            <a:ext cx="3389400" cy="1266840"/>
            <a:chOff x="4724280" y="1600200"/>
            <a:chExt cx="3389400" cy="1266840"/>
          </a:xfrm>
        </p:grpSpPr>
        <p:sp>
          <p:nvSpPr>
            <p:cNvPr id="692" name="Text Box 23"/>
            <p:cNvSpPr/>
            <p:nvPr/>
          </p:nvSpPr>
          <p:spPr>
            <a:xfrm>
              <a:off x="4724280" y="196704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止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7238880" y="1600200"/>
              <a:ext cx="874800" cy="1266840"/>
              <a:chOff x="7238880" y="1600200"/>
              <a:chExt cx="874800" cy="1266840"/>
            </a:xfrm>
          </p:grpSpPr>
          <p:sp>
            <p:nvSpPr>
              <p:cNvPr id="694" name="Freeform 35"/>
              <p:cNvSpPr/>
              <p:nvPr/>
            </p:nvSpPr>
            <p:spPr>
              <a:xfrm>
                <a:off x="7634160" y="1600200"/>
                <a:ext cx="201600" cy="101124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6"/>
              <p:cNvSpPr/>
              <p:nvPr/>
            </p:nvSpPr>
            <p:spPr>
              <a:xfrm>
                <a:off x="7375320" y="2087640"/>
                <a:ext cx="176400" cy="62064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7"/>
              <p:cNvSpPr/>
              <p:nvPr/>
            </p:nvSpPr>
            <p:spPr>
              <a:xfrm>
                <a:off x="7789680" y="2031840"/>
                <a:ext cx="324000" cy="14472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8"/>
              <p:cNvSpPr/>
              <p:nvPr/>
            </p:nvSpPr>
            <p:spPr>
              <a:xfrm>
                <a:off x="7238880" y="2455920"/>
                <a:ext cx="835200" cy="41112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Freeform 41"/>
          <p:cNvSpPr/>
          <p:nvPr/>
        </p:nvSpPr>
        <p:spPr>
          <a:xfrm>
            <a:off x="2463840" y="2597040"/>
            <a:ext cx="201600" cy="10112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42"/>
          <p:cNvSpPr/>
          <p:nvPr/>
        </p:nvSpPr>
        <p:spPr>
          <a:xfrm>
            <a:off x="2205000" y="3084480"/>
            <a:ext cx="176400" cy="6206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43"/>
          <p:cNvSpPr/>
          <p:nvPr/>
        </p:nvSpPr>
        <p:spPr>
          <a:xfrm>
            <a:off x="2619360" y="3029040"/>
            <a:ext cx="324000" cy="14436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44"/>
          <p:cNvSpPr/>
          <p:nvPr/>
        </p:nvSpPr>
        <p:spPr>
          <a:xfrm>
            <a:off x="2068560" y="3452760"/>
            <a:ext cx="834840" cy="4111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46"/>
          <p:cNvSpPr/>
          <p:nvPr/>
        </p:nvSpPr>
        <p:spPr>
          <a:xfrm>
            <a:off x="3060720" y="2806560"/>
            <a:ext cx="493560" cy="4082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47" descr=""/>
          <p:cNvPicPr/>
          <p:nvPr/>
        </p:nvPicPr>
        <p:blipFill>
          <a:blip r:embed="rId9"/>
          <a:srcRect l="0" t="0" r="34834" b="-1310"/>
          <a:stretch/>
        </p:blipFill>
        <p:spPr>
          <a:xfrm>
            <a:off x="2957400" y="2438280"/>
            <a:ext cx="552600" cy="1447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8" descr=""/>
          <p:cNvPicPr/>
          <p:nvPr/>
        </p:nvPicPr>
        <p:blipFill>
          <a:blip r:embed="rId10"/>
          <a:srcRect l="64656" t="59677" r="-510" b="0"/>
          <a:stretch/>
        </p:blipFill>
        <p:spPr>
          <a:xfrm>
            <a:off x="3505320" y="3276720"/>
            <a:ext cx="3045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1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Noname1"/>
          <p:cNvPicPr/>
          <p:nvPr/>
        </p:nvPicPr>
        <p:blipFill>
          <a:blip r:embed="rId2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" descr="Noname1"/>
          <p:cNvPicPr/>
          <p:nvPr/>
        </p:nvPicPr>
        <p:blipFill>
          <a:blip r:embed="rId3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" descr="Noname1"/>
          <p:cNvPicPr/>
          <p:nvPr/>
        </p:nvPicPr>
        <p:blipFill>
          <a:blip r:embed="rId4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" descr="Noname1"/>
          <p:cNvPicPr/>
          <p:nvPr/>
        </p:nvPicPr>
        <p:blipFill>
          <a:blip r:embed="rId5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" descr="Noname1"/>
          <p:cNvPicPr/>
          <p:nvPr/>
        </p:nvPicPr>
        <p:blipFill>
          <a:blip r:embed="rId6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7" descr="Noname1"/>
          <p:cNvPicPr/>
          <p:nvPr/>
        </p:nvPicPr>
        <p:blipFill>
          <a:blip r:embed="rId7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2"/>
          <p:cNvSpPr/>
          <p:nvPr/>
        </p:nvSpPr>
        <p:spPr>
          <a:xfrm>
            <a:off x="2362320" y="990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g</a:t>
            </a:r>
            <a:r>
              <a:rPr b="0" lang="zh-CN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4724280" y="42861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   事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066680" y="5257800"/>
            <a:ext cx="6934320" cy="703440"/>
          </a:xfrm>
          <a:prstGeom prst="rect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今天，我在上学路上看到一起交通事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719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2" name="Picture 19" descr="Noname2"/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8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29"/>
          <p:cNvSpPr/>
          <p:nvPr/>
        </p:nvSpPr>
        <p:spPr>
          <a:xfrm>
            <a:off x="2755800" y="2514600"/>
            <a:ext cx="480960" cy="77616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30"/>
          <p:cNvSpPr/>
          <p:nvPr/>
        </p:nvSpPr>
        <p:spPr>
          <a:xfrm>
            <a:off x="2932200" y="2936880"/>
            <a:ext cx="649080" cy="2016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31"/>
          <p:cNvSpPr/>
          <p:nvPr/>
        </p:nvSpPr>
        <p:spPr>
          <a:xfrm>
            <a:off x="2039760" y="3016080"/>
            <a:ext cx="774720" cy="20196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32"/>
          <p:cNvSpPr/>
          <p:nvPr/>
        </p:nvSpPr>
        <p:spPr>
          <a:xfrm>
            <a:off x="2400480" y="2587680"/>
            <a:ext cx="185400" cy="85068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33"/>
          <p:cNvSpPr/>
          <p:nvPr/>
        </p:nvSpPr>
        <p:spPr>
          <a:xfrm>
            <a:off x="2149560" y="3424320"/>
            <a:ext cx="168120" cy="4921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34"/>
          <p:cNvSpPr/>
          <p:nvPr/>
        </p:nvSpPr>
        <p:spPr>
          <a:xfrm>
            <a:off x="2225520" y="3368520"/>
            <a:ext cx="552600" cy="36036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35"/>
          <p:cNvSpPr/>
          <p:nvPr/>
        </p:nvSpPr>
        <p:spPr>
          <a:xfrm>
            <a:off x="2284560" y="3676680"/>
            <a:ext cx="434880" cy="1094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36"/>
          <p:cNvSpPr/>
          <p:nvPr/>
        </p:nvSpPr>
        <p:spPr>
          <a:xfrm>
            <a:off x="2637000" y="3073320"/>
            <a:ext cx="672840" cy="7952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37"/>
          <p:cNvSpPr/>
          <p:nvPr/>
        </p:nvSpPr>
        <p:spPr>
          <a:xfrm>
            <a:off x="2835360" y="3290760"/>
            <a:ext cx="974520" cy="6541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724280" y="1600200"/>
            <a:ext cx="3436920" cy="1434600"/>
            <a:chOff x="4724280" y="1600200"/>
            <a:chExt cx="3436920" cy="1434600"/>
          </a:xfrm>
        </p:grpSpPr>
        <p:sp>
          <p:nvSpPr>
            <p:cNvPr id="736" name="Text Box 39"/>
            <p:cNvSpPr/>
            <p:nvPr/>
          </p:nvSpPr>
          <p:spPr>
            <a:xfrm>
              <a:off x="4724280" y="196704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反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7315200" y="1600200"/>
              <a:ext cx="846000" cy="1434600"/>
              <a:chOff x="7315200" y="1600200"/>
              <a:chExt cx="846000" cy="1434600"/>
            </a:xfrm>
          </p:grpSpPr>
          <p:sp>
            <p:nvSpPr>
              <p:cNvPr id="738" name="Freeform 41"/>
              <p:cNvSpPr/>
              <p:nvPr/>
            </p:nvSpPr>
            <p:spPr>
              <a:xfrm>
                <a:off x="7437960" y="1600200"/>
                <a:ext cx="289800" cy="67968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42"/>
              <p:cNvSpPr/>
              <p:nvPr/>
            </p:nvSpPr>
            <p:spPr>
              <a:xfrm>
                <a:off x="7507080" y="2015280"/>
                <a:ext cx="490680" cy="18036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43"/>
              <p:cNvSpPr/>
              <p:nvPr/>
            </p:nvSpPr>
            <p:spPr>
              <a:xfrm>
                <a:off x="7433280" y="2352600"/>
                <a:ext cx="727920" cy="68220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4"/>
              <p:cNvSpPr/>
              <p:nvPr/>
            </p:nvSpPr>
            <p:spPr>
              <a:xfrm>
                <a:off x="7315200" y="2154240"/>
                <a:ext cx="470520" cy="79884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Freeform 45"/>
          <p:cNvSpPr/>
          <p:nvPr/>
        </p:nvSpPr>
        <p:spPr>
          <a:xfrm>
            <a:off x="2762280" y="2514600"/>
            <a:ext cx="480960" cy="77616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46"/>
          <p:cNvSpPr/>
          <p:nvPr/>
        </p:nvSpPr>
        <p:spPr>
          <a:xfrm>
            <a:off x="2938320" y="2936880"/>
            <a:ext cx="649440" cy="2016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47"/>
          <p:cNvSpPr/>
          <p:nvPr/>
        </p:nvSpPr>
        <p:spPr>
          <a:xfrm>
            <a:off x="2046240" y="3016080"/>
            <a:ext cx="774720" cy="20196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48"/>
          <p:cNvSpPr/>
          <p:nvPr/>
        </p:nvSpPr>
        <p:spPr>
          <a:xfrm>
            <a:off x="2406600" y="2587680"/>
            <a:ext cx="185760" cy="8506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49"/>
          <p:cNvSpPr/>
          <p:nvPr/>
        </p:nvSpPr>
        <p:spPr>
          <a:xfrm>
            <a:off x="2155680" y="3424320"/>
            <a:ext cx="168480" cy="4921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50"/>
          <p:cNvSpPr/>
          <p:nvPr/>
        </p:nvSpPr>
        <p:spPr>
          <a:xfrm>
            <a:off x="2232000" y="3368520"/>
            <a:ext cx="552600" cy="36036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51"/>
          <p:cNvSpPr/>
          <p:nvPr/>
        </p:nvSpPr>
        <p:spPr>
          <a:xfrm>
            <a:off x="2290680" y="3676680"/>
            <a:ext cx="434880" cy="1094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52"/>
          <p:cNvSpPr/>
          <p:nvPr/>
        </p:nvSpPr>
        <p:spPr>
          <a:xfrm>
            <a:off x="2643120" y="3073320"/>
            <a:ext cx="673200" cy="7952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53"/>
          <p:cNvSpPr/>
          <p:nvPr/>
        </p:nvSpPr>
        <p:spPr>
          <a:xfrm>
            <a:off x="2841480" y="3290760"/>
            <a:ext cx="974880" cy="6541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7000"/>
                            </p:stCondLst>
                            <p:childTnLst>
                              <p:par>
                                <p:cTn id="4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8000"/>
                            </p:stCondLst>
                            <p:childTnLst>
                              <p:par>
                                <p:cTn id="4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Noname1"/>
          <p:cNvPicPr/>
          <p:nvPr/>
        </p:nvPicPr>
        <p:blipFill>
          <a:blip r:embed="rId2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" descr="Noname1"/>
          <p:cNvPicPr/>
          <p:nvPr/>
        </p:nvPicPr>
        <p:blipFill>
          <a:blip r:embed="rId3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4" descr="Noname1"/>
          <p:cNvPicPr/>
          <p:nvPr/>
        </p:nvPicPr>
        <p:blipFill>
          <a:blip r:embed="rId4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Noname1"/>
          <p:cNvPicPr/>
          <p:nvPr/>
        </p:nvPicPr>
        <p:blipFill>
          <a:blip r:embed="rId5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Noname1"/>
          <p:cNvPicPr/>
          <p:nvPr/>
        </p:nvPicPr>
        <p:blipFill>
          <a:blip r:embed="rId6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" descr="Noname1"/>
          <p:cNvPicPr/>
          <p:nvPr/>
        </p:nvPicPr>
        <p:blipFill>
          <a:blip r:embed="rId7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2438280" y="990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b</a:t>
            </a:r>
            <a:r>
              <a:rPr b="0" lang="zh-CN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3"/>
          <p:cNvSpPr/>
          <p:nvPr/>
        </p:nvSpPr>
        <p:spPr>
          <a:xfrm>
            <a:off x="4724280" y="42861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步   步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4"/>
          <p:cNvSpPr/>
          <p:nvPr/>
        </p:nvSpPr>
        <p:spPr>
          <a:xfrm>
            <a:off x="1066680" y="5334120"/>
            <a:ext cx="7010640" cy="703440"/>
          </a:xfrm>
          <a:prstGeom prst="rect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饭后散散步对身体有好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765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8" name="Picture 19" descr="Noname2"/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28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下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9"/>
          <p:cNvSpPr/>
          <p:nvPr/>
        </p:nvSpPr>
        <p:spPr>
          <a:xfrm>
            <a:off x="2432160" y="3230640"/>
            <a:ext cx="195120" cy="38088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30"/>
          <p:cNvSpPr/>
          <p:nvPr/>
        </p:nvSpPr>
        <p:spPr>
          <a:xfrm>
            <a:off x="2286000" y="3124080"/>
            <a:ext cx="1160640" cy="9986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31"/>
          <p:cNvSpPr/>
          <p:nvPr/>
        </p:nvSpPr>
        <p:spPr>
          <a:xfrm>
            <a:off x="2120760" y="2905200"/>
            <a:ext cx="1581120" cy="2682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32"/>
          <p:cNvSpPr/>
          <p:nvPr/>
        </p:nvSpPr>
        <p:spPr>
          <a:xfrm>
            <a:off x="2505240" y="2619360"/>
            <a:ext cx="171360" cy="44928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33"/>
          <p:cNvSpPr/>
          <p:nvPr/>
        </p:nvSpPr>
        <p:spPr>
          <a:xfrm>
            <a:off x="2846520" y="2374920"/>
            <a:ext cx="182520" cy="64620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34"/>
          <p:cNvSpPr/>
          <p:nvPr/>
        </p:nvSpPr>
        <p:spPr>
          <a:xfrm>
            <a:off x="2979720" y="2573280"/>
            <a:ext cx="450720" cy="13644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35"/>
          <p:cNvSpPr/>
          <p:nvPr/>
        </p:nvSpPr>
        <p:spPr>
          <a:xfrm>
            <a:off x="2819520" y="3035160"/>
            <a:ext cx="182520" cy="587520"/>
          </a:xfrm>
          <a:prstGeom prst="pie">
            <a:avLst/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724280" y="1752480"/>
            <a:ext cx="3790800" cy="917640"/>
            <a:chOff x="4724280" y="1752480"/>
            <a:chExt cx="3790800" cy="917640"/>
          </a:xfrm>
        </p:grpSpPr>
        <p:sp>
          <p:nvSpPr>
            <p:cNvPr id="780" name="Text Box 23"/>
            <p:cNvSpPr/>
            <p:nvPr/>
          </p:nvSpPr>
          <p:spPr>
            <a:xfrm>
              <a:off x="4724280" y="196668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止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6933960" y="1752480"/>
              <a:ext cx="1581120" cy="798480"/>
              <a:chOff x="6933960" y="1752480"/>
              <a:chExt cx="1581120" cy="798480"/>
            </a:xfrm>
          </p:grpSpPr>
          <p:sp>
            <p:nvSpPr>
              <p:cNvPr id="782" name="Freeform 36"/>
              <p:cNvSpPr/>
              <p:nvPr/>
            </p:nvSpPr>
            <p:spPr>
              <a:xfrm>
                <a:off x="6933960" y="2282760"/>
                <a:ext cx="1581120" cy="26820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37"/>
              <p:cNvSpPr/>
              <p:nvPr/>
            </p:nvSpPr>
            <p:spPr>
              <a:xfrm>
                <a:off x="7318080" y="1996920"/>
                <a:ext cx="171360" cy="44928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38"/>
              <p:cNvSpPr/>
              <p:nvPr/>
            </p:nvSpPr>
            <p:spPr>
              <a:xfrm>
                <a:off x="7659360" y="1752480"/>
                <a:ext cx="182520" cy="64620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39"/>
              <p:cNvSpPr/>
              <p:nvPr/>
            </p:nvSpPr>
            <p:spPr>
              <a:xfrm>
                <a:off x="7792920" y="1950840"/>
                <a:ext cx="450720" cy="13644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6" name="Freeform 42"/>
          <p:cNvSpPr/>
          <p:nvPr/>
        </p:nvSpPr>
        <p:spPr>
          <a:xfrm>
            <a:off x="2433600" y="3228840"/>
            <a:ext cx="195480" cy="3812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43"/>
          <p:cNvSpPr/>
          <p:nvPr/>
        </p:nvSpPr>
        <p:spPr>
          <a:xfrm>
            <a:off x="2287440" y="3122640"/>
            <a:ext cx="1160640" cy="9986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45"/>
          <p:cNvSpPr/>
          <p:nvPr/>
        </p:nvSpPr>
        <p:spPr>
          <a:xfrm>
            <a:off x="2506680" y="2617920"/>
            <a:ext cx="171360" cy="4492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46"/>
          <p:cNvSpPr/>
          <p:nvPr/>
        </p:nvSpPr>
        <p:spPr>
          <a:xfrm>
            <a:off x="2847960" y="2373480"/>
            <a:ext cx="182520" cy="6458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47"/>
          <p:cNvSpPr/>
          <p:nvPr/>
        </p:nvSpPr>
        <p:spPr>
          <a:xfrm>
            <a:off x="2981160" y="2571840"/>
            <a:ext cx="451080" cy="1364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48"/>
          <p:cNvSpPr/>
          <p:nvPr/>
        </p:nvSpPr>
        <p:spPr>
          <a:xfrm>
            <a:off x="2820960" y="3033720"/>
            <a:ext cx="182520" cy="5875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44"/>
          <p:cNvSpPr/>
          <p:nvPr/>
        </p:nvSpPr>
        <p:spPr>
          <a:xfrm>
            <a:off x="2122560" y="2903400"/>
            <a:ext cx="1581120" cy="26856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2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0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509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81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2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796" name=""/>
          <p:cNvGrpSpPr/>
          <p:nvPr/>
        </p:nvGrpSpPr>
        <p:grpSpPr>
          <a:xfrm>
            <a:off x="0" y="2286000"/>
            <a:ext cx="8915040" cy="4298400"/>
            <a:chOff x="0" y="2286000"/>
            <a:chExt cx="8915040" cy="4298400"/>
          </a:xfrm>
        </p:grpSpPr>
        <p:sp>
          <p:nvSpPr>
            <p:cNvPr id="797" name="Text Box 4"/>
            <p:cNvSpPr/>
            <p:nvPr/>
          </p:nvSpPr>
          <p:spPr>
            <a:xfrm>
              <a:off x="0" y="2286000"/>
              <a:ext cx="89150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13   </a:t>
              </a: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夜    色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5"/>
            <p:cNvSpPr/>
            <p:nvPr/>
          </p:nvSpPr>
          <p:spPr>
            <a:xfrm>
              <a:off x="1180080" y="4174920"/>
              <a:ext cx="682524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</a:rPr>
                <a:t>第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r>
                <a:rPr b="1" lang="zh-CN" sz="4800" spc="-1" strike="noStrike">
                  <a:solidFill>
                    <a:srgbClr val="006600"/>
                  </a:solidFill>
                  <a:latin typeface="Arial"/>
                </a:rPr>
                <a:t>课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3166560" y="0"/>
            <a:ext cx="292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们</a:t>
            </a:r>
            <a:r>
              <a:rPr b="0" lang="zh-CN" sz="4000" spc="-1" strike="noStrike">
                <a:solidFill>
                  <a:srgbClr val="6600ff"/>
                </a:solidFill>
                <a:latin typeface="Arial"/>
              </a:rPr>
              <a:t>一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起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复习生字宝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4"/>
          <p:cNvSpPr/>
          <p:nvPr/>
        </p:nvSpPr>
        <p:spPr>
          <a:xfrm>
            <a:off x="3673800" y="990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4"/>
          <p:cNvSpPr/>
          <p:nvPr/>
        </p:nvSpPr>
        <p:spPr>
          <a:xfrm>
            <a:off x="3826080" y="10666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4"/>
          <p:cNvSpPr/>
          <p:nvPr/>
        </p:nvSpPr>
        <p:spPr>
          <a:xfrm>
            <a:off x="3673800" y="990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4"/>
          <p:cNvSpPr/>
          <p:nvPr/>
        </p:nvSpPr>
        <p:spPr>
          <a:xfrm>
            <a:off x="3749760" y="10666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4"/>
          <p:cNvSpPr/>
          <p:nvPr/>
        </p:nvSpPr>
        <p:spPr>
          <a:xfrm>
            <a:off x="3826080" y="1143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72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4"/>
          <p:cNvSpPr/>
          <p:nvPr/>
        </p:nvSpPr>
        <p:spPr>
          <a:xfrm>
            <a:off x="3826080" y="1295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4"/>
          <p:cNvSpPr/>
          <p:nvPr/>
        </p:nvSpPr>
        <p:spPr>
          <a:xfrm>
            <a:off x="3826080" y="990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4"/>
          <p:cNvSpPr/>
          <p:nvPr/>
        </p:nvSpPr>
        <p:spPr>
          <a:xfrm>
            <a:off x="3602160" y="5000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</a:rPr>
              <a:t>我从前是怎样的孩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一黑就不敢往外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看窗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就乱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995764_132606073_2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Calibri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58400" cy="737064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514240" y="533160"/>
            <a:ext cx="6248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从前胆子很小很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天一黑就不敢往外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妈妈把勇敢的</a:t>
            </a: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故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讲了又讲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可我一看窗</a:t>
            </a: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外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心就乱跳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20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20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2000"/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3924360" cy="39243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438280" y="76320"/>
            <a:ext cx="6400800" cy="29718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3399"/>
                </a:solidFill>
                <a:latin typeface="楷体"/>
                <a:ea typeface="楷体"/>
              </a:rPr>
              <a:t>、“我”为什么会“心乱跳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"/>
                <a:ea typeface="楷体"/>
              </a:rPr>
              <a:t>这时“我”心里都想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楷体"/>
                <a:ea typeface="楷体"/>
              </a:rPr>
              <a:t>、课文中的小朋友是一个怎么样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"/>
                <a:ea typeface="楷体"/>
              </a:rPr>
              <a:t>孩子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1484280" y="1484280"/>
            <a:ext cx="6175440" cy="464184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58400" cy="737064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2819520" y="1905120"/>
            <a:ext cx="45720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</a:rPr>
              <a:t>爸爸晚上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偏要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</a:rPr>
              <a:t>拉我出去散步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</a:rPr>
              <a:t>原来花草都像白天一样微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</a:rPr>
              <a:t>从此再黑再黑的夜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1f497d"/>
                </a:solidFill>
                <a:uFillTx/>
                <a:latin typeface="Arial"/>
              </a:rPr>
              <a:t>我也能看见小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1f497d"/>
                </a:solidFill>
                <a:uFillTx/>
                <a:latin typeface="Arial"/>
              </a:rPr>
              <a:t>怎样在月光下睡觉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20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20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20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2000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2000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2000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2895480" y="76320"/>
            <a:ext cx="5867640" cy="29718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9966"/>
                </a:solidFill>
                <a:latin typeface="Arial"/>
              </a:rPr>
              <a:t>、和爸爸一起出去散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9966"/>
                </a:solidFill>
                <a:latin typeface="Arial"/>
              </a:rPr>
              <a:t>我”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9966"/>
                </a:solidFill>
                <a:latin typeface="Arial"/>
              </a:rPr>
              <a:t>、你平时看到的花草好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Arial"/>
              </a:rPr>
              <a:t>它们是什么样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现在的我变了吗？变成什么样了？为什么呢？</a:t>
            </a:r>
            <a:endParaRPr b="0" lang="en-US" sz="40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80"/>
                </a:solidFill>
                <a:latin typeface="Arial"/>
              </a:rPr>
              <a:t>想象小鸟在月光下睡觉的情景。</a:t>
            </a:r>
            <a:endParaRPr b="0" lang="en-US" sz="3600" spc="-1" strike="noStrike">
              <a:solidFill>
                <a:srgbClr val="b3b3b3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6782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0" y="-71280"/>
            <a:ext cx="9144000" cy="6852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-298440" y="-220680"/>
            <a:ext cx="9747360" cy="7307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446" name=""/>
          <p:cNvGrpSpPr/>
          <p:nvPr/>
        </p:nvGrpSpPr>
        <p:grpSpPr>
          <a:xfrm>
            <a:off x="228600" y="2286000"/>
            <a:ext cx="8915040" cy="4298400"/>
            <a:chOff x="228600" y="2286000"/>
            <a:chExt cx="8915040" cy="4298400"/>
          </a:xfrm>
        </p:grpSpPr>
        <p:sp>
          <p:nvSpPr>
            <p:cNvPr id="447" name="Text Box 4"/>
            <p:cNvSpPr/>
            <p:nvPr/>
          </p:nvSpPr>
          <p:spPr>
            <a:xfrm>
              <a:off x="228600" y="2286000"/>
              <a:ext cx="89150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13   </a:t>
              </a: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夜    色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5"/>
            <p:cNvSpPr/>
            <p:nvPr/>
          </p:nvSpPr>
          <p:spPr>
            <a:xfrm>
              <a:off x="1408680" y="4174920"/>
              <a:ext cx="682524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509904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81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35:26Z</dcterms:created>
  <dc:creator/>
  <dc:description/>
  <dc:language>en-US</dc:language>
  <cp:lastModifiedBy>Mr.dai</cp:lastModifiedBy>
  <dcterms:modified xsi:type="dcterms:W3CDTF">2014-03-29T15:21:2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