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8.jpeg" ContentType="image/jpeg"/>
  <Override PartName="/ppt/media/image1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26.jpeg" ContentType="image/jpeg"/>
  <Override PartName="/ppt/media/image42.png" ContentType="image/png"/>
  <Override PartName="/ppt/media/image2.jpeg" ContentType="image/jpeg"/>
  <Override PartName="/ppt/media/image23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3D7-8984-438C-A0BC-B1F65E2E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A16-8580-49A8-98FE-C7D04415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B76-9A79-4F64-9CBA-82785382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2AB-65A1-4811-8F16-948AFCB6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3D4-A43B-490D-9826-E69C43DC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7A1-E4EF-47A9-9858-E530B33A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258-D3EA-46AB-9523-EFA07947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120-428F-45C8-9D66-E23DFAC5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D28-5879-42C9-84D0-E8E79138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FB5-601B-436C-A1F6-0D5A1D90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071-1351-432C-829A-B592C318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A23-F997-4E12-9E6A-CE5DBD3A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CCCD-8E36-4E4D-A57E-D37DEA6A2D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228600" y="2286000"/>
            <a:ext cx="8915040" cy="3444480"/>
            <a:chOff x="228600" y="2286000"/>
            <a:chExt cx="8915040" cy="3444480"/>
          </a:xfrm>
        </p:grpSpPr>
        <p:sp>
          <p:nvSpPr>
            <p:cNvPr id="43" name="Text Box 4"/>
            <p:cNvSpPr/>
            <p:nvPr/>
          </p:nvSpPr>
          <p:spPr>
            <a:xfrm>
              <a:off x="228600" y="2286000"/>
              <a:ext cx="89150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13   </a:t>
              </a: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夜    色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5"/>
            <p:cNvSpPr/>
            <p:nvPr/>
          </p:nvSpPr>
          <p:spPr>
            <a:xfrm>
              <a:off x="1408680" y="4173840"/>
              <a:ext cx="6825240" cy="15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%BF%A8%CD%A8%D2%B9%C9%AB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6073642-"/>
          <p:cNvPicPr/>
          <p:nvPr/>
        </p:nvPicPr>
        <p:blipFill>
          <a:blip r:embed="rId1"/>
          <a:stretch/>
        </p:blipFill>
        <p:spPr>
          <a:xfrm>
            <a:off x="-298440" y="-222120"/>
            <a:ext cx="9747360" cy="73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6073642-"/>
          <p:cNvPicPr/>
          <p:nvPr/>
        </p:nvPicPr>
        <p:blipFill>
          <a:blip r:embed="rId1"/>
          <a:stretch/>
        </p:blipFill>
        <p:spPr>
          <a:xfrm>
            <a:off x="-298440" y="-222120"/>
            <a:ext cx="9747360" cy="730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DSCN1072"/>
          <p:cNvPicPr/>
          <p:nvPr/>
        </p:nvPicPr>
        <p:blipFill>
          <a:blip r:embed="rId2"/>
          <a:stretch/>
        </p:blipFill>
        <p:spPr>
          <a:xfrm>
            <a:off x="-2448000" y="-1836720"/>
            <a:ext cx="14043240" cy="1053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6073642-"/>
          <p:cNvPicPr/>
          <p:nvPr/>
        </p:nvPicPr>
        <p:blipFill>
          <a:blip r:embed="rId1"/>
          <a:stretch/>
        </p:blipFill>
        <p:spPr>
          <a:xfrm>
            <a:off x="-298440" y="-222120"/>
            <a:ext cx="9747360" cy="730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DSCN1073"/>
          <p:cNvPicPr/>
          <p:nvPr/>
        </p:nvPicPr>
        <p:blipFill>
          <a:blip r:embed="rId2"/>
          <a:stretch/>
        </p:blipFill>
        <p:spPr>
          <a:xfrm>
            <a:off x="-2448000" y="-1836720"/>
            <a:ext cx="14043240" cy="1053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z左面"/>
          <p:cNvPicPr/>
          <p:nvPr/>
        </p:nvPicPr>
        <p:blipFill>
          <a:blip r:embed="rId1"/>
          <a:stretch/>
        </p:blipFill>
        <p:spPr>
          <a:xfrm>
            <a:off x="304920" y="304920"/>
            <a:ext cx="8508960" cy="6387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桌面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362320" y="915840"/>
            <a:ext cx="601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9966"/>
                </a:solidFill>
                <a:latin typeface="Arial"/>
              </a:rPr>
              <a:t>自学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借助汉语拼音自读课文，把儿歌读通顺、读正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标出儿歌共有几句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z左面"/>
          <p:cNvPicPr/>
          <p:nvPr/>
        </p:nvPicPr>
        <p:blipFill>
          <a:blip r:embed="rId1"/>
          <a:stretch/>
        </p:blipFill>
        <p:spPr>
          <a:xfrm>
            <a:off x="304920" y="304920"/>
            <a:ext cx="8508960" cy="6387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桌面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362320" y="915840"/>
            <a:ext cx="60195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9966"/>
                </a:solidFill>
                <a:latin typeface="Arial"/>
              </a:rPr>
              <a:t>我会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我从前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胆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子很小很小，天一黑就不敢往外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妈妈把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勇敢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故事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讲了又讲，可我一看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窗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外心就乱跳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z左面"/>
          <p:cNvPicPr/>
          <p:nvPr/>
        </p:nvPicPr>
        <p:blipFill>
          <a:blip r:embed="rId1"/>
          <a:stretch/>
        </p:blipFill>
        <p:spPr>
          <a:xfrm>
            <a:off x="304920" y="304920"/>
            <a:ext cx="8508960" cy="6387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桌面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362320" y="915840"/>
            <a:ext cx="60195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9966"/>
                </a:solidFill>
                <a:latin typeface="Arial"/>
              </a:rPr>
              <a:t>我会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爸爸晚上偏要拉我出去散步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原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来花草都像白天一样微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从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此再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黑再黑的夜晚我也能看见小鸟怎样在月光下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睡觉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z左面"/>
          <p:cNvPicPr/>
          <p:nvPr/>
        </p:nvPicPr>
        <p:blipFill>
          <a:blip r:embed="rId1"/>
          <a:stretch/>
        </p:blipFill>
        <p:spPr>
          <a:xfrm>
            <a:off x="304920" y="304920"/>
            <a:ext cx="8508960" cy="638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桌面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362320" y="915840"/>
            <a:ext cx="601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9966"/>
                </a:solidFill>
                <a:latin typeface="Arial"/>
              </a:rPr>
              <a:t>小组学习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合作学习生字，把字读正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说说你用什么好方法记住它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995764_132606073_2"/>
          <p:cNvPicPr/>
          <p:nvPr/>
        </p:nvPicPr>
        <p:blipFill>
          <a:blip r:embed="rId1"/>
          <a:stretch/>
        </p:blipFill>
        <p:spPr>
          <a:xfrm>
            <a:off x="-374760" y="0"/>
            <a:ext cx="974736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_imgloadCAJI7XVS"/>
          <p:cNvPicPr/>
          <p:nvPr/>
        </p:nvPicPr>
        <p:blipFill>
          <a:blip r:embed="rId2"/>
          <a:stretch/>
        </p:blipFill>
        <p:spPr>
          <a:xfrm>
            <a:off x="-374760" y="0"/>
            <a:ext cx="9747360" cy="714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600" y="1752480"/>
            <a:ext cx="6324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ǎn            yǒng            gǎn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胆         勇         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shì      chuā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    yuá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事         窗        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cǐ    zài    shuì      j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此     再     睡        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970440" y="192240"/>
            <a:ext cx="134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995764_132606073_2"/>
          <p:cNvPicPr/>
          <p:nvPr/>
        </p:nvPicPr>
        <p:blipFill>
          <a:blip r:embed="rId1"/>
          <a:stretch/>
        </p:blipFill>
        <p:spPr>
          <a:xfrm>
            <a:off x="-374760" y="0"/>
            <a:ext cx="974736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_imgloadCAJI7XVS"/>
          <p:cNvPicPr/>
          <p:nvPr/>
        </p:nvPicPr>
        <p:blipFill>
          <a:blip r:embed="rId2"/>
          <a:stretch/>
        </p:blipFill>
        <p:spPr>
          <a:xfrm>
            <a:off x="-379440" y="0"/>
            <a:ext cx="9745560" cy="71499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14600" y="1752480"/>
            <a:ext cx="6324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ǎn          gǎn         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yuán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胆       敢         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sh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ì     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ch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uā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ǒng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事         窗      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c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ǐ   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z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ài    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sh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uì    j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此     再     睡        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068720" y="192240"/>
            <a:ext cx="165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的发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h2_234"/>
          <p:cNvPicPr/>
          <p:nvPr/>
        </p:nvPicPr>
        <p:blipFill>
          <a:blip r:embed="rId1"/>
          <a:stretch/>
        </p:blipFill>
        <p:spPr>
          <a:xfrm>
            <a:off x="-317520" y="-380880"/>
            <a:ext cx="9747360" cy="7632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771640" y="404640"/>
            <a:ext cx="42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夜景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995764_132606073_2"/>
          <p:cNvPicPr/>
          <p:nvPr/>
        </p:nvPicPr>
        <p:blipFill>
          <a:blip r:embed="rId1"/>
          <a:stretch/>
        </p:blipFill>
        <p:spPr>
          <a:xfrm>
            <a:off x="-374760" y="0"/>
            <a:ext cx="974736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小猪"/>
          <p:cNvPicPr/>
          <p:nvPr/>
        </p:nvPicPr>
        <p:blipFill>
          <a:blip r:embed="rId2"/>
          <a:stretch/>
        </p:blipFill>
        <p:spPr>
          <a:xfrm>
            <a:off x="304920" y="0"/>
            <a:ext cx="8508960" cy="647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http_imgloadCAJI7XVS"/>
          <p:cNvPicPr/>
          <p:nvPr/>
        </p:nvPicPr>
        <p:blipFill>
          <a:blip r:embed="rId3"/>
          <a:stretch/>
        </p:blipFill>
        <p:spPr>
          <a:xfrm>
            <a:off x="-760320" y="-684360"/>
            <a:ext cx="11042640" cy="8288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21896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胆      勇        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事      窗        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此     再       睡      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590920" y="228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我能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995764_132606073_2"/>
          <p:cNvPicPr/>
          <p:nvPr/>
        </p:nvPicPr>
        <p:blipFill>
          <a:blip r:embed="rId1"/>
          <a:stretch/>
        </p:blipFill>
        <p:spPr>
          <a:xfrm>
            <a:off x="-298440" y="-222120"/>
            <a:ext cx="9747360" cy="7308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桌面"/>
          <p:cNvPicPr/>
          <p:nvPr/>
        </p:nvPicPr>
        <p:blipFill>
          <a:blip r:embed="rId2"/>
          <a:stretch/>
        </p:blipFill>
        <p:spPr>
          <a:xfrm>
            <a:off x="-303120" y="-227160"/>
            <a:ext cx="9671040" cy="7258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最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yǒ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ǎn    có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cǐ   jiǎ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ù  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勇 敢   从 此   讲 故 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chuā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wài     yuán lái     sàn   b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窗 外   原 来   散 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wēi xiào     shuì jiào     yè  w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微 笑   睡 觉   夜 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z左面"/>
          <p:cNvPicPr/>
          <p:nvPr/>
        </p:nvPicPr>
        <p:blipFill>
          <a:blip r:embed="rId1"/>
          <a:stretch/>
        </p:blipFill>
        <p:spPr>
          <a:xfrm>
            <a:off x="304920" y="304920"/>
            <a:ext cx="8508960" cy="638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桌面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362320" y="1295280"/>
            <a:ext cx="6019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勇 敢   从 此    讲 故 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窗 外    原 来    散 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微 笑    睡 觉    夜 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995764_132606073_2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http_imgloadCATH4L16"/>
          <p:cNvPicPr/>
          <p:nvPr/>
        </p:nvPicPr>
        <p:blipFill>
          <a:blip r:embed="rId2"/>
          <a:stretch/>
        </p:blipFill>
        <p:spPr>
          <a:xfrm>
            <a:off x="0" y="0"/>
            <a:ext cx="10058400" cy="7370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14240" y="533160"/>
            <a:ext cx="6248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从前胆子很小很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一黑就不敢往外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把勇敢的故事讲了又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窗外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乱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990720" y="958680"/>
            <a:ext cx="7670520" cy="589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990720" y="958680"/>
            <a:ext cx="7670520" cy="589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2666880" y="3276720"/>
            <a:ext cx="3305160" cy="3222000"/>
            <a:chOff x="2666880" y="3276720"/>
            <a:chExt cx="3305160" cy="3222000"/>
          </a:xfrm>
        </p:grpSpPr>
        <p:sp>
          <p:nvSpPr>
            <p:cNvPr id="127" name="Rectangle 6"/>
            <p:cNvSpPr/>
            <p:nvPr/>
          </p:nvSpPr>
          <p:spPr>
            <a:xfrm>
              <a:off x="2689560" y="3276720"/>
              <a:ext cx="3243960" cy="3209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2666880" y="4924440"/>
              <a:ext cx="330516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4319280" y="3288960"/>
              <a:ext cx="0" cy="320976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9" descr="zai的拼音"/>
          <p:cNvPicPr/>
          <p:nvPr/>
        </p:nvPicPr>
        <p:blipFill>
          <a:blip r:embed="rId2"/>
          <a:stretch/>
        </p:blipFill>
        <p:spPr>
          <a:xfrm>
            <a:off x="2819520" y="1143000"/>
            <a:ext cx="3047760" cy="2124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6612840" y="4572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再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613920" y="5424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再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再1"/>
          <p:cNvPicPr/>
          <p:nvPr/>
        </p:nvPicPr>
        <p:blipFill>
          <a:blip r:embed="rId3"/>
          <a:stretch/>
        </p:blipFill>
        <p:spPr>
          <a:xfrm>
            <a:off x="2819520" y="3295800"/>
            <a:ext cx="3200400" cy="298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再2"/>
          <p:cNvPicPr/>
          <p:nvPr/>
        </p:nvPicPr>
        <p:blipFill>
          <a:blip r:embed="rId4"/>
          <a:stretch/>
        </p:blipFill>
        <p:spPr>
          <a:xfrm>
            <a:off x="2819520" y="3295800"/>
            <a:ext cx="3200400" cy="2989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再3"/>
          <p:cNvPicPr/>
          <p:nvPr/>
        </p:nvPicPr>
        <p:blipFill>
          <a:blip r:embed="rId5"/>
          <a:stretch/>
        </p:blipFill>
        <p:spPr>
          <a:xfrm>
            <a:off x="2819520" y="3295800"/>
            <a:ext cx="3200400" cy="298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再4"/>
          <p:cNvPicPr/>
          <p:nvPr/>
        </p:nvPicPr>
        <p:blipFill>
          <a:blip r:embed="rId6"/>
          <a:stretch/>
        </p:blipFill>
        <p:spPr>
          <a:xfrm>
            <a:off x="2819520" y="3295800"/>
            <a:ext cx="3200400" cy="2989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再5"/>
          <p:cNvPicPr/>
          <p:nvPr/>
        </p:nvPicPr>
        <p:blipFill>
          <a:blip r:embed="rId7"/>
          <a:stretch/>
        </p:blipFill>
        <p:spPr>
          <a:xfrm>
            <a:off x="2819520" y="3295800"/>
            <a:ext cx="3200400" cy="2989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再6"/>
          <p:cNvPicPr/>
          <p:nvPr/>
        </p:nvPicPr>
        <p:blipFill>
          <a:blip r:embed="rId8"/>
          <a:stretch/>
        </p:blipFill>
        <p:spPr>
          <a:xfrm>
            <a:off x="2819520" y="3295800"/>
            <a:ext cx="32004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457200" y="1447920"/>
            <a:ext cx="8153280" cy="541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648320" y="3429000"/>
            <a:ext cx="2590560" cy="2350800"/>
            <a:chOff x="4648320" y="3429000"/>
            <a:chExt cx="2590560" cy="2350800"/>
          </a:xfrm>
        </p:grpSpPr>
        <p:sp>
          <p:nvSpPr>
            <p:cNvPr id="142" name="Rectangle 5"/>
            <p:cNvSpPr/>
            <p:nvPr/>
          </p:nvSpPr>
          <p:spPr>
            <a:xfrm>
              <a:off x="4665960" y="3429000"/>
              <a:ext cx="2542680" cy="23418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6"/>
            <p:cNvSpPr/>
            <p:nvPr/>
          </p:nvSpPr>
          <p:spPr>
            <a:xfrm>
              <a:off x="4648320" y="4631040"/>
              <a:ext cx="259056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>
              <a:off x="5943600" y="3438000"/>
              <a:ext cx="0" cy="234180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4724280" y="3290760"/>
            <a:ext cx="303228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3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讲</a:t>
            </a:r>
            <a:endParaRPr b="0" lang="en-US" sz="1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547520" y="1743120"/>
            <a:ext cx="2433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ffff"/>
                </a:solidFill>
                <a:latin typeface="Arial"/>
              </a:rPr>
              <a:t>jiǎng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7220160" y="3733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讲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7220160" y="5043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讲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556440" y="4952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故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556440" y="3733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故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838080" y="3429000"/>
            <a:ext cx="2667240" cy="2374560"/>
            <a:chOff x="838080" y="3429000"/>
            <a:chExt cx="2667240" cy="2374560"/>
          </a:xfrm>
        </p:grpSpPr>
        <p:sp>
          <p:nvSpPr>
            <p:cNvPr id="152" name="Rectangle 15"/>
            <p:cNvSpPr/>
            <p:nvPr/>
          </p:nvSpPr>
          <p:spPr>
            <a:xfrm>
              <a:off x="856440" y="3429000"/>
              <a:ext cx="2617920" cy="23655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>
              <a:off x="838080" y="4643280"/>
              <a:ext cx="2667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7"/>
            <p:cNvSpPr/>
            <p:nvPr/>
          </p:nvSpPr>
          <p:spPr>
            <a:xfrm>
              <a:off x="2171520" y="3438000"/>
              <a:ext cx="0" cy="236556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8"/>
          <p:cNvSpPr/>
          <p:nvPr/>
        </p:nvSpPr>
        <p:spPr>
          <a:xfrm>
            <a:off x="1247760" y="3124080"/>
            <a:ext cx="16286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故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1371960" y="1644480"/>
            <a:ext cx="148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Arial"/>
              </a:rPr>
              <a:t>gù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990720" y="1295280"/>
            <a:ext cx="7210440" cy="5257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743200" y="3429000"/>
            <a:ext cx="3352680" cy="2917440"/>
            <a:chOff x="2743200" y="3429000"/>
            <a:chExt cx="3352680" cy="2917440"/>
          </a:xfrm>
        </p:grpSpPr>
        <p:sp>
          <p:nvSpPr>
            <p:cNvPr id="160" name="Rectangle 5"/>
            <p:cNvSpPr/>
            <p:nvPr/>
          </p:nvSpPr>
          <p:spPr>
            <a:xfrm>
              <a:off x="2766240" y="3429000"/>
              <a:ext cx="3290760" cy="2906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"/>
            <p:cNvSpPr/>
            <p:nvPr/>
          </p:nvSpPr>
          <p:spPr>
            <a:xfrm>
              <a:off x="2743200" y="4920840"/>
              <a:ext cx="33526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7"/>
            <p:cNvSpPr/>
            <p:nvPr/>
          </p:nvSpPr>
          <p:spPr>
            <a:xfrm>
              <a:off x="4419360" y="3440160"/>
              <a:ext cx="0" cy="290628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8"/>
          <p:cNvSpPr/>
          <p:nvPr/>
        </p:nvSpPr>
        <p:spPr>
          <a:xfrm>
            <a:off x="3346560" y="297180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故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659760" y="1447920"/>
            <a:ext cx="1732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g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6610680" y="43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故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610680" y="5029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故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330720" y="297180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故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643920" y="1447920"/>
            <a:ext cx="1732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g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6610680" y="43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故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6610680" y="5029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故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330720" y="297180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故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3643920" y="1447920"/>
            <a:ext cx="1732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g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6610680" y="43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故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3330720" y="297180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故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3643920" y="1447920"/>
            <a:ext cx="1732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g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6324480" y="5029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3330720" y="297180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故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3643920" y="1447920"/>
            <a:ext cx="1732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g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990720" y="1371600"/>
            <a:ext cx="7238880" cy="5486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2819520" y="3940200"/>
            <a:ext cx="3352680" cy="2917440"/>
            <a:chOff x="2819520" y="3940200"/>
            <a:chExt cx="3352680" cy="2917440"/>
          </a:xfrm>
        </p:grpSpPr>
        <p:sp>
          <p:nvSpPr>
            <p:cNvPr id="182" name="Rectangle 5"/>
            <p:cNvSpPr/>
            <p:nvPr/>
          </p:nvSpPr>
          <p:spPr>
            <a:xfrm>
              <a:off x="2842560" y="3940200"/>
              <a:ext cx="3290760" cy="2906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2819520" y="5432040"/>
              <a:ext cx="33526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>
              <a:off x="4495680" y="3951360"/>
              <a:ext cx="0" cy="290628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8"/>
          <p:cNvSpPr/>
          <p:nvPr/>
        </p:nvSpPr>
        <p:spPr>
          <a:xfrm>
            <a:off x="3581280" y="22860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h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6842520" y="4191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大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662940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小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事 1"/>
          <p:cNvPicPr/>
          <p:nvPr/>
        </p:nvPicPr>
        <p:blipFill>
          <a:blip r:embed="rId2"/>
          <a:stretch/>
        </p:blipFill>
        <p:spPr>
          <a:xfrm>
            <a:off x="3124080" y="407664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事 2"/>
          <p:cNvPicPr/>
          <p:nvPr/>
        </p:nvPicPr>
        <p:blipFill>
          <a:blip r:embed="rId3"/>
          <a:stretch/>
        </p:blipFill>
        <p:spPr>
          <a:xfrm>
            <a:off x="3124080" y="407664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事 3"/>
          <p:cNvPicPr/>
          <p:nvPr/>
        </p:nvPicPr>
        <p:blipFill>
          <a:blip r:embed="rId4"/>
          <a:stretch/>
        </p:blipFill>
        <p:spPr>
          <a:xfrm>
            <a:off x="3124080" y="407664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事 4 拷贝"/>
          <p:cNvPicPr/>
          <p:nvPr/>
        </p:nvPicPr>
        <p:blipFill>
          <a:blip r:embed="rId5"/>
          <a:stretch/>
        </p:blipFill>
        <p:spPr>
          <a:xfrm>
            <a:off x="3124080" y="4076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1066680" y="1447920"/>
            <a:ext cx="7058160" cy="506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2971800" y="3352680"/>
            <a:ext cx="3505320" cy="3033360"/>
            <a:chOff x="2971800" y="3352680"/>
            <a:chExt cx="3505320" cy="3033360"/>
          </a:xfrm>
        </p:grpSpPr>
        <p:sp>
          <p:nvSpPr>
            <p:cNvPr id="195" name="Rectangle 5"/>
            <p:cNvSpPr/>
            <p:nvPr/>
          </p:nvSpPr>
          <p:spPr>
            <a:xfrm>
              <a:off x="2995920" y="3352680"/>
              <a:ext cx="3440520" cy="30218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>
              <a:off x="2971800" y="4903920"/>
              <a:ext cx="35053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4724280" y="3364200"/>
              <a:ext cx="0" cy="302184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8"/>
          <p:cNvSpPr/>
          <p:nvPr/>
        </p:nvSpPr>
        <p:spPr>
          <a:xfrm>
            <a:off x="3200400" y="2895480"/>
            <a:ext cx="31240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外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6839280" y="449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外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841800" y="5029200"/>
            <a:ext cx="1127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外边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1" descr="wai的拼音"/>
          <p:cNvPicPr/>
          <p:nvPr/>
        </p:nvPicPr>
        <p:blipFill>
          <a:blip r:embed="rId2"/>
          <a:stretch/>
        </p:blipFill>
        <p:spPr>
          <a:xfrm>
            <a:off x="3200400" y="1371600"/>
            <a:ext cx="291456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http_imgloadCATH4L16"/>
          <p:cNvPicPr/>
          <p:nvPr/>
        </p:nvPicPr>
        <p:blipFill>
          <a:blip r:embed="rId1"/>
          <a:stretch/>
        </p:blipFill>
        <p:spPr>
          <a:xfrm>
            <a:off x="1484280" y="1600200"/>
            <a:ext cx="6175440" cy="4525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_imgloadCATH4L16"/>
          <p:cNvPicPr/>
          <p:nvPr/>
        </p:nvPicPr>
        <p:blipFill>
          <a:blip r:embed="rId2"/>
          <a:stretch/>
        </p:blipFill>
        <p:spPr>
          <a:xfrm>
            <a:off x="0" y="0"/>
            <a:ext cx="10058400" cy="7370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2819520" y="1905120"/>
            <a:ext cx="45720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爸爸晚上偏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出去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来花草都像白天一样微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黑的夜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也能看见小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在月光下睡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h2_234"/>
          <p:cNvPicPr/>
          <p:nvPr/>
        </p:nvPicPr>
        <p:blipFill>
          <a:blip r:embed="rId1"/>
          <a:stretch/>
        </p:blipFill>
        <p:spPr>
          <a:xfrm>
            <a:off x="-298440" y="-374760"/>
            <a:ext cx="9747360" cy="7632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771640" y="404640"/>
            <a:ext cx="42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夜景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65850078201212302104562875454022602_000"/>
          <p:cNvPicPr/>
          <p:nvPr/>
        </p:nvPicPr>
        <p:blipFill>
          <a:blip r:embed="rId2"/>
          <a:stretch/>
        </p:blipFill>
        <p:spPr>
          <a:xfrm>
            <a:off x="-527040" y="-603360"/>
            <a:ext cx="9975960" cy="791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1066680" y="1447920"/>
            <a:ext cx="7110360" cy="541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2666880" y="3809880"/>
            <a:ext cx="3276720" cy="2689200"/>
            <a:chOff x="2666880" y="3809880"/>
            <a:chExt cx="3276720" cy="2689200"/>
          </a:xfrm>
        </p:grpSpPr>
        <p:sp>
          <p:nvSpPr>
            <p:cNvPr id="209" name="Rectangle 5"/>
            <p:cNvSpPr/>
            <p:nvPr/>
          </p:nvSpPr>
          <p:spPr>
            <a:xfrm>
              <a:off x="2689200" y="3809880"/>
              <a:ext cx="3216240" cy="2678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2666880" y="5185080"/>
              <a:ext cx="3276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7"/>
            <p:cNvSpPr/>
            <p:nvPr/>
          </p:nvSpPr>
          <p:spPr>
            <a:xfrm>
              <a:off x="4305240" y="3820320"/>
              <a:ext cx="0" cy="267876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8"/>
          <p:cNvSpPr/>
          <p:nvPr/>
        </p:nvSpPr>
        <p:spPr>
          <a:xfrm>
            <a:off x="3733920" y="1905120"/>
            <a:ext cx="1600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100" spc="-1" strike="noStrike">
                <a:solidFill>
                  <a:srgbClr val="ffffff"/>
                </a:solidFill>
                <a:latin typeface="Arial"/>
              </a:rPr>
              <a:t>lā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6382080" y="4518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拉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382080" y="5562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拉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拉2"/>
          <p:cNvPicPr/>
          <p:nvPr/>
        </p:nvPicPr>
        <p:blipFill>
          <a:blip r:embed="rId2"/>
          <a:stretch/>
        </p:blipFill>
        <p:spPr>
          <a:xfrm>
            <a:off x="2819520" y="3833640"/>
            <a:ext cx="2666880" cy="2490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拉1"/>
          <p:cNvPicPr/>
          <p:nvPr/>
        </p:nvPicPr>
        <p:blipFill>
          <a:blip r:embed="rId3"/>
          <a:stretch/>
        </p:blipFill>
        <p:spPr>
          <a:xfrm>
            <a:off x="2895480" y="3886200"/>
            <a:ext cx="2667240" cy="2490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拉1"/>
          <p:cNvPicPr/>
          <p:nvPr/>
        </p:nvPicPr>
        <p:blipFill>
          <a:blip r:embed="rId4"/>
          <a:stretch/>
        </p:blipFill>
        <p:spPr>
          <a:xfrm>
            <a:off x="2895480" y="3886200"/>
            <a:ext cx="260028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542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1066680" y="1371600"/>
            <a:ext cx="7058160" cy="533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2971800" y="3276720"/>
            <a:ext cx="3305160" cy="3222000"/>
            <a:chOff x="2971800" y="3276720"/>
            <a:chExt cx="3305160" cy="3222000"/>
          </a:xfrm>
        </p:grpSpPr>
        <p:sp>
          <p:nvSpPr>
            <p:cNvPr id="221" name="Rectangle 5"/>
            <p:cNvSpPr/>
            <p:nvPr/>
          </p:nvSpPr>
          <p:spPr>
            <a:xfrm>
              <a:off x="2994480" y="3276720"/>
              <a:ext cx="3243960" cy="3209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2971800" y="4924440"/>
              <a:ext cx="330516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4624200" y="3288960"/>
              <a:ext cx="0" cy="320976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8"/>
          <p:cNvSpPr/>
          <p:nvPr/>
        </p:nvSpPr>
        <p:spPr>
          <a:xfrm>
            <a:off x="3733920" y="167652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b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6400800" y="4114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步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一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1" descr="步2"/>
          <p:cNvPicPr/>
          <p:nvPr/>
        </p:nvPicPr>
        <p:blipFill>
          <a:blip r:embed="rId2"/>
          <a:stretch/>
        </p:blipFill>
        <p:spPr>
          <a:xfrm>
            <a:off x="3048120" y="3505320"/>
            <a:ext cx="3124080" cy="2917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步1"/>
          <p:cNvPicPr/>
          <p:nvPr/>
        </p:nvPicPr>
        <p:blipFill>
          <a:blip r:embed="rId3"/>
          <a:stretch/>
        </p:blipFill>
        <p:spPr>
          <a:xfrm>
            <a:off x="3048120" y="3483000"/>
            <a:ext cx="3124080" cy="2917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步2"/>
          <p:cNvPicPr/>
          <p:nvPr/>
        </p:nvPicPr>
        <p:blipFill>
          <a:blip r:embed="rId4"/>
          <a:stretch/>
        </p:blipFill>
        <p:spPr>
          <a:xfrm>
            <a:off x="3048120" y="3554280"/>
            <a:ext cx="30477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585" dur="2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914400" y="1295280"/>
            <a:ext cx="713412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895480" y="3352680"/>
            <a:ext cx="3200400" cy="2666880"/>
            <a:chOff x="2895480" y="3352680"/>
            <a:chExt cx="3200400" cy="2666880"/>
          </a:xfrm>
        </p:grpSpPr>
        <p:sp>
          <p:nvSpPr>
            <p:cNvPr id="233" name="Rectangle 5"/>
            <p:cNvSpPr/>
            <p:nvPr/>
          </p:nvSpPr>
          <p:spPr>
            <a:xfrm>
              <a:off x="2917440" y="3352680"/>
              <a:ext cx="3141360" cy="26568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>
              <a:off x="2895480" y="4716360"/>
              <a:ext cx="32004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7"/>
            <p:cNvSpPr/>
            <p:nvPr/>
          </p:nvSpPr>
          <p:spPr>
            <a:xfrm>
              <a:off x="4495680" y="3362760"/>
              <a:ext cx="0" cy="265680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8"/>
          <p:cNvSpPr/>
          <p:nvPr/>
        </p:nvSpPr>
        <p:spPr>
          <a:xfrm>
            <a:off x="3048120" y="2743200"/>
            <a:ext cx="32446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ffff"/>
                </a:solidFill>
                <a:latin typeface="Times New Roman"/>
                <a:ea typeface="楷体"/>
              </a:rPr>
              <a:t>此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419720" y="228600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657600" y="1447920"/>
            <a:ext cx="1593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ǐ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6458400" y="43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从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458400" y="5181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此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008080723374697069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4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325725preview4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62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732084"/>
          <p:cNvPicPr/>
          <p:nvPr/>
        </p:nvPicPr>
        <p:blipFill>
          <a:blip r:embed="rId3"/>
          <a:stretch/>
        </p:blipFill>
        <p:spPr>
          <a:xfrm>
            <a:off x="-298440" y="0"/>
            <a:ext cx="94424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7320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08080723374697069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4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325725preview4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62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7634210"/>
          <p:cNvPicPr/>
          <p:nvPr/>
        </p:nvPicPr>
        <p:blipFill>
          <a:blip r:embed="rId3"/>
          <a:stretch/>
        </p:blipFill>
        <p:spPr>
          <a:xfrm>
            <a:off x="2895480" y="2317680"/>
            <a:ext cx="3353040" cy="222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7634210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6073642-"/>
          <p:cNvPicPr/>
          <p:nvPr/>
        </p:nvPicPr>
        <p:blipFill>
          <a:blip r:embed="rId1"/>
          <a:stretch/>
        </p:blipFill>
        <p:spPr>
          <a:xfrm>
            <a:off x="-298440" y="-222120"/>
            <a:ext cx="9747360" cy="730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24701280124891125"/>
          <p:cNvPicPr/>
          <p:nvPr/>
        </p:nvPicPr>
        <p:blipFill>
          <a:blip r:embed="rId2"/>
          <a:stretch/>
        </p:blipFill>
        <p:spPr>
          <a:xfrm>
            <a:off x="-374760" y="-450720"/>
            <a:ext cx="9823680" cy="761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692819445442710"/>
          <p:cNvPicPr/>
          <p:nvPr/>
        </p:nvPicPr>
        <p:blipFill>
          <a:blip r:embed="rId1"/>
          <a:stretch/>
        </p:blipFill>
        <p:spPr>
          <a:xfrm>
            <a:off x="838080" y="685800"/>
            <a:ext cx="7400880" cy="554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500_9df4_43361d5b_43361d5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莫斯科郊外的晚上.mp3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10314_1"/>
          <p:cNvPicPr/>
          <p:nvPr/>
        </p:nvPicPr>
        <p:blipFill>
          <a:blip r:embed="rId3"/>
          <a:stretch/>
        </p:blipFill>
        <p:spPr>
          <a:xfrm>
            <a:off x="-603360" y="0"/>
            <a:ext cx="10356840" cy="70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06110206051121912"/>
          <p:cNvPicPr/>
          <p:nvPr/>
        </p:nvPicPr>
        <p:blipFill>
          <a:blip r:embed="rId1"/>
          <a:stretch/>
        </p:blipFill>
        <p:spPr>
          <a:xfrm>
            <a:off x="-298440" y="-222120"/>
            <a:ext cx="9747360" cy="730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389284"/>
          <p:cNvPicPr/>
          <p:nvPr/>
        </p:nvPicPr>
        <p:blipFill>
          <a:blip r:embed="rId2"/>
          <a:stretch/>
        </p:blipFill>
        <p:spPr>
          <a:xfrm>
            <a:off x="-298440" y="-374760"/>
            <a:ext cx="9823320" cy="753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03:15:34Z</dcterms:created>
  <dc:creator/>
  <dc:description/>
  <cp:keywords/>
  <dc:language>en-US</dc:language>
  <cp:lastModifiedBy>微软用户</cp:lastModifiedBy>
  <dcterms:modified xsi:type="dcterms:W3CDTF">2017-02-28T08:26:39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  <property fmtid="{D5CDD505-2E9C-101B-9397-08002B2CF9AE}" pid="3" name="Version">
    <vt:r8>1</vt:r8>
  </property>
</Properties>
</file>