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gif" ContentType="image/gif"/>
  <Override PartName="/ppt/media/image9.gif" ContentType="image/gif"/>
  <Override PartName="/ppt/media/image17.png" ContentType="image/png"/>
  <Override PartName="/ppt/media/image4.jpeg" ContentType="image/jpeg"/>
  <Override PartName="/ppt/media/image8.gif" ContentType="image/gif"/>
  <Override PartName="/ppt/media/image1.png" ContentType="image/png"/>
  <Override PartName="/ppt/media/image2.jpeg" ContentType="image/jpeg"/>
  <Override PartName="/ppt/media/image13.gif" ContentType="image/gif"/>
  <Override PartName="/ppt/media/image16.jpeg" ContentType="image/jpeg"/>
  <Override PartName="/ppt/media/image14.png" ContentType="image/png"/>
  <Override PartName="/ppt/media/image11.gif" ContentType="image/gif"/>
  <Override PartName="/ppt/media/image7.gif" ContentType="image/gif"/>
  <Override PartName="/ppt/media/image5.jpeg" ContentType="image/jpeg"/>
  <Override PartName="/ppt/media/image12.gif" ContentType="image/gif"/>
  <Override PartName="/ppt/media/image3.jpeg" ContentType="image/jpeg"/>
  <Override PartName="/ppt/media/image15.png" ContentType="image/pn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CCC1-3EC9-4923-B30D-44F345028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C858-782D-4CA6-9637-A0BAF8262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E18F-FCE3-42BB-AAD1-1491618EC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9968-B3D0-4038-BBA6-119235644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6120-D91C-4827-8A89-39C161F1A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67DE-B86A-4F3C-8F9A-24669C30B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8C83-8649-47D2-BA37-DF714A2A8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9790-9761-4ABC-BF6F-C0ABC4183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0EA0-161B-4412-BB3F-5A4F815D0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3BEE-7F58-4CB9-8645-904CE0CBA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67AF-E44E-4782-92E7-12BBAD8D9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FE6E-C6DA-4538-AE57-386937CD7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0D45A-0240-4AC5-9426-080DCA88B4E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gif"/><Relationship Id="rId3" Type="http://schemas.openxmlformats.org/officeDocument/2006/relationships/image" Target="../media/image10.gif"/><Relationship Id="rId4" Type="http://schemas.openxmlformats.org/officeDocument/2006/relationships/image" Target="../media/image11.gi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-30240"/>
            <a:ext cx="9601200" cy="68882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124080" y="3886200"/>
            <a:ext cx="3124440" cy="825120"/>
          </a:xfrm>
          <a:prstGeom prst="rect">
            <a:avLst/>
          </a:prstGeom>
          <a:solidFill>
            <a:srgbClr val="66ff33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ff"/>
                </a:solidFill>
                <a:latin typeface="Arial"/>
              </a:rPr>
              <a:t>夏夜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257800" y="3886200"/>
            <a:ext cx="83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美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0"/>
            <a:ext cx="70102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人教新课标语文一年级下册第四单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6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523800" y="390600"/>
            <a:ext cx="8096400" cy="60768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4648320" y="99072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小蚂蚁，你怎么啦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33520" y="838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1523880"/>
            <a:ext cx="2590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我不小心掉进池塘，上不了岸啦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523800" y="390600"/>
            <a:ext cx="8096400" cy="60768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4648320" y="99072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小蚂蚁，你怎么啦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33520" y="838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1523880"/>
            <a:ext cx="2590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我不小心掉进池塘，上不了岸啦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156360" y="2060640"/>
            <a:ext cx="228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快上来吧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23800" y="390600"/>
            <a:ext cx="8096400" cy="60768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4648320" y="99072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小蚂蚁，你怎么啦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33520" y="838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520" y="1523880"/>
            <a:ext cx="2590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我不小心掉进池塘，上不了岸啦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156360" y="2060640"/>
            <a:ext cx="244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快上来吧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4360" y="3933720"/>
            <a:ext cx="39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谢谢您，睡莲姑姑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523800" y="390600"/>
            <a:ext cx="8096400" cy="60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24382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分段读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" y="1295280"/>
            <a:ext cx="8915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ff"/>
                </a:solidFill>
                <a:latin typeface="Times New Roman"/>
              </a:rPr>
              <a:t>1.</a:t>
            </a:r>
            <a:r>
              <a:rPr b="0" lang="zh-CN" sz="7200" spc="-1" strike="noStrike">
                <a:solidFill>
                  <a:srgbClr val="ff00ff"/>
                </a:solidFill>
                <a:latin typeface="Times New Roman"/>
              </a:rPr>
              <a:t>在小动物们的帮助下，小蚂蚁怎样？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ff"/>
                </a:solidFill>
                <a:latin typeface="Times New Roman"/>
              </a:rPr>
              <a:t>2.</a:t>
            </a:r>
            <a:r>
              <a:rPr b="0" lang="zh-CN" sz="7200" spc="-1" strike="noStrike">
                <a:solidFill>
                  <a:srgbClr val="ff00ff"/>
                </a:solidFill>
                <a:latin typeface="Times New Roman"/>
              </a:rPr>
              <a:t>边读边思考：星星为什么高兴？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7620120" y="0"/>
            <a:ext cx="1523880" cy="9907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3352680" y="0"/>
            <a:ext cx="990720" cy="9176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5076720" y="0"/>
            <a:ext cx="1447920" cy="12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523800" y="390600"/>
            <a:ext cx="8096400" cy="60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457200" y="1219320"/>
            <a:ext cx="8686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66ff"/>
                </a:solidFill>
                <a:latin typeface="Times New Roman"/>
              </a:rPr>
              <a:t>1.</a:t>
            </a:r>
            <a:r>
              <a:rPr b="1" lang="zh-CN" sz="5400" spc="-1" strike="noStrike">
                <a:solidFill>
                  <a:srgbClr val="0066ff"/>
                </a:solidFill>
                <a:latin typeface="Times New Roman"/>
              </a:rPr>
              <a:t>你喜欢文中的谁？为什么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66ff"/>
                </a:solidFill>
                <a:latin typeface="Times New Roman"/>
              </a:rPr>
              <a:t>2.</a:t>
            </a:r>
            <a:r>
              <a:rPr b="1" lang="zh-CN" sz="5400" spc="-1" strike="noStrike">
                <a:solidFill>
                  <a:srgbClr val="0066ff"/>
                </a:solidFill>
                <a:latin typeface="Times New Roman"/>
              </a:rPr>
              <a:t>你觉得夏夜美在哪儿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66ff"/>
                </a:solidFill>
                <a:latin typeface="Times New Roman"/>
              </a:rPr>
              <a:t>3.</a:t>
            </a:r>
            <a:r>
              <a:rPr b="1" lang="zh-CN" sz="5400" spc="-1" strike="noStrike">
                <a:solidFill>
                  <a:srgbClr val="0066ff"/>
                </a:solidFill>
                <a:latin typeface="Times New Roman"/>
              </a:rPr>
              <a:t>夏夜的景色这么美，小动物们助人为乐的精神更美</a:t>
            </a:r>
            <a:r>
              <a:rPr b="0" lang="zh-CN" sz="5400" spc="-1" strike="noStrike">
                <a:solidFill>
                  <a:srgbClr val="0066ff"/>
                </a:solidFill>
                <a:latin typeface="Times New Roman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7340760" y="5257800"/>
            <a:ext cx="142236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981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拓展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33520" y="990720"/>
            <a:ext cx="9144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青青的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小山      </a:t>
            </a: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青青的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____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绿绿的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草坪      </a:t>
            </a: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绿绿的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____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弯弯的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小路     </a:t>
            </a: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 弯弯的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____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红红的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苹果      </a:t>
            </a: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红红的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____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3276720" y="228600"/>
            <a:ext cx="25146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练习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" y="911160"/>
            <a:ext cx="79246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红红的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————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   </a:t>
            </a: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高高的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———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      </a:t>
            </a: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长长的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———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          </a:t>
            </a: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闪闪的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———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              </a:t>
            </a: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亮亮的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———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                 </a:t>
            </a: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大大的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———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                     </a:t>
            </a: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蓝蓝的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2666880" y="0"/>
            <a:ext cx="381024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2"/>
          <a:srcRect l="0" t="0" r="35939" b="5017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rcRect l="0" t="57437" r="0" b="0"/>
          <a:stretch/>
        </p:blipFill>
        <p:spPr>
          <a:xfrm>
            <a:off x="76320" y="0"/>
            <a:ext cx="8915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边听边想：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故事中一共有几个小动物？在他们之间发生一件什么事情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rcRect l="34004" t="12421" r="24154" b="39266"/>
          <a:stretch/>
        </p:blipFill>
        <p:spPr>
          <a:xfrm>
            <a:off x="6172200" y="1523880"/>
            <a:ext cx="2590920" cy="20574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rcRect l="20462" t="42843" r="62310" b="30312"/>
          <a:stretch/>
        </p:blipFill>
        <p:spPr>
          <a:xfrm>
            <a:off x="4572000" y="1752480"/>
            <a:ext cx="1563840" cy="1676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rcRect l="72160" t="71481" r="0" b="0"/>
          <a:stretch/>
        </p:blipFill>
        <p:spPr>
          <a:xfrm>
            <a:off x="1981080" y="1670040"/>
            <a:ext cx="2514600" cy="16668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rcRect l="50006" t="37302" r="30312" b="42948"/>
          <a:stretch/>
        </p:blipFill>
        <p:spPr>
          <a:xfrm>
            <a:off x="152280" y="1600200"/>
            <a:ext cx="1752840" cy="17622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80880" y="3505320"/>
            <a:ext cx="8077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zh-CN" sz="4400" spc="-1" strike="noStrike">
                <a:solidFill>
                  <a:srgbClr val="3333ff"/>
                </a:solidFill>
                <a:latin typeface="Arial"/>
              </a:rPr>
              <a:t>一只小蚂蚁不小心掉进池塘，睡莲姑姑把他救上岸。后来蜻蜓背上小蚂蚁，萤火虫点灯笼，一起把他送回家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2"/>
          <a:srcRect l="0" t="0" r="35939" b="5017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0" r="0" b="3735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2057400" y="2743200"/>
            <a:ext cx="510552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谢谢指导</a:t>
            </a:r>
            <a:endParaRPr b="1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252360" y="189000"/>
            <a:ext cx="8637480" cy="6480000"/>
          </a:xfrm>
          <a:prstGeom prst="rect">
            <a:avLst/>
          </a:prstGeom>
          <a:ln w="0">
            <a:noFill/>
          </a:ln>
        </p:spPr>
      </p:pic>
      <p:sp>
        <p:nvSpPr>
          <p:cNvPr id="52" name="">
            <a:hlinkClick r:id="" action="ppaction://hlinkshowjump?jump=previousslide"/>
          </p:cNvPr>
          <p:cNvSpPr/>
          <p:nvPr/>
        </p:nvSpPr>
        <p:spPr>
          <a:xfrm>
            <a:off x="7543800" y="6019920"/>
            <a:ext cx="380880" cy="380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>
            <a:hlinkClick r:id="" action="ppaction://hlinkshowjump?jump=nextslide"/>
          </p:cNvPr>
          <p:cNvSpPr/>
          <p:nvPr/>
        </p:nvSpPr>
        <p:spPr>
          <a:xfrm>
            <a:off x="8077320" y="5943600"/>
            <a:ext cx="45720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908000" y="476280"/>
            <a:ext cx="72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63640" y="333360"/>
            <a:ext cx="10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liá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708360" y="476280"/>
            <a:ext cx="9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708360" y="33336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k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940360" y="333360"/>
            <a:ext cx="129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zhē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26920" y="1700280"/>
            <a:ext cx="86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p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700360" y="177336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gē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164360" y="1700280"/>
            <a:ext cx="86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yā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26920" y="3141720"/>
            <a:ext cx="9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p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708360" y="3141720"/>
            <a:ext cx="93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fē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084720" y="3068640"/>
            <a:ext cx="17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gǎn j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84360" y="4581360"/>
            <a:ext cx="187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xiè xi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356000" y="4581360"/>
            <a:ext cx="7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j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804000" y="4581360"/>
            <a:ext cx="9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sh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252360" y="189000"/>
            <a:ext cx="8637480" cy="6480000"/>
          </a:xfrm>
          <a:prstGeom prst="rect">
            <a:avLst/>
          </a:prstGeom>
          <a:ln w="0">
            <a:noFill/>
          </a:ln>
        </p:spPr>
      </p:pic>
      <p:sp>
        <p:nvSpPr>
          <p:cNvPr id="69" name="">
            <a:hlinkClick r:id="" action="ppaction://hlinkshowjump?jump=previousslide"/>
          </p:cNvPr>
          <p:cNvSpPr/>
          <p:nvPr/>
        </p:nvSpPr>
        <p:spPr>
          <a:xfrm>
            <a:off x="7543800" y="6019920"/>
            <a:ext cx="380880" cy="380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>
            <a:hlinkClick r:id="" action="ppaction://hlinkshowjump?jump=nextslide"/>
          </p:cNvPr>
          <p:cNvSpPr/>
          <p:nvPr/>
        </p:nvSpPr>
        <p:spPr>
          <a:xfrm>
            <a:off x="8077320" y="5943600"/>
            <a:ext cx="45720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2"/>
          <a:srcRect l="0" t="0" r="35939" b="5017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04920" y="304920"/>
            <a:ext cx="3047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我会认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80880" y="1523880"/>
            <a:ext cx="85345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连——</a:t>
            </a:r>
            <a:r>
              <a:rPr b="0" lang="zh-CN" sz="4000" spc="-1" strike="noStrike">
                <a:solidFill>
                  <a:srgbClr val="3333ff"/>
                </a:solidFill>
                <a:latin typeface="Arial"/>
              </a:rPr>
              <a:t>莲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要——</a:t>
            </a:r>
            <a:r>
              <a:rPr b="0" lang="zh-CN" sz="4000" spc="-1" strike="noStrike">
                <a:solidFill>
                  <a:srgbClr val="3333ff"/>
                </a:solidFill>
                <a:latin typeface="Arial"/>
              </a:rPr>
              <a:t>腰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争——</a:t>
            </a:r>
            <a:r>
              <a:rPr b="0" lang="zh-CN" sz="4000" spc="-1" strike="noStrike">
                <a:solidFill>
                  <a:srgbClr val="3333ff"/>
                </a:solidFill>
                <a:latin typeface="Arial"/>
              </a:rPr>
              <a:t>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八——</a:t>
            </a:r>
            <a:r>
              <a:rPr b="0" lang="zh-CN" sz="4000" spc="-1" strike="noStrike">
                <a:solidFill>
                  <a:srgbClr val="3333ff"/>
                </a:solidFill>
                <a:latin typeface="Arial"/>
              </a:rPr>
              <a:t>趴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跟——</a:t>
            </a:r>
            <a:r>
              <a:rPr b="0" lang="zh-CN" sz="4000" spc="-1" strike="noStrike">
                <a:solidFill>
                  <a:srgbClr val="3333ff"/>
                </a:solidFill>
                <a:latin typeface="Arial"/>
              </a:rPr>
              <a:t>根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把——</a:t>
            </a:r>
            <a:r>
              <a:rPr b="0" lang="zh-CN" sz="4000" spc="-1" strike="noStrike">
                <a:solidFill>
                  <a:srgbClr val="3333ff"/>
                </a:solidFill>
                <a:latin typeface="Arial"/>
              </a:rPr>
              <a:t>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是——</a:t>
            </a:r>
            <a:r>
              <a:rPr b="0" lang="zh-CN" sz="4000" spc="-1" strike="noStrike">
                <a:solidFill>
                  <a:srgbClr val="3333ff"/>
                </a:solidFill>
                <a:latin typeface="Arial"/>
              </a:rPr>
              <a:t>非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哭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4000" spc="-1" strike="noStrike">
                <a:solidFill>
                  <a:srgbClr val="3333ff"/>
                </a:solidFill>
                <a:latin typeface="Arial"/>
              </a:rPr>
              <a:t>笑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4000" spc="-1" strike="noStrike">
                <a:solidFill>
                  <a:srgbClr val="3333ff"/>
                </a:solidFill>
                <a:latin typeface="Arial"/>
              </a:rPr>
              <a:t>感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4000" spc="-1" strike="noStrike">
                <a:solidFill>
                  <a:srgbClr val="3333ff"/>
                </a:solidFill>
                <a:latin typeface="Arial"/>
              </a:rPr>
              <a:t>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ff"/>
                </a:solidFill>
                <a:latin typeface="Arial"/>
              </a:rPr>
              <a:t>急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——级                              </a:t>
            </a:r>
            <a:r>
              <a:rPr b="0" lang="zh-CN" sz="4000" spc="-1" strike="noStrike">
                <a:solidFill>
                  <a:srgbClr val="3333ff"/>
                </a:solidFill>
                <a:latin typeface="Arial"/>
              </a:rPr>
              <a:t>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638680" y="3962520"/>
            <a:ext cx="91440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2"/>
          <a:srcRect l="0" t="0" r="35939" b="5017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rcRect l="0" t="8973" r="0" b="42821"/>
          <a:stretch/>
        </p:blipFill>
        <p:spPr>
          <a:xfrm>
            <a:off x="457200" y="228600"/>
            <a:ext cx="838188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2"/>
          <a:srcRect l="0" t="0" r="35939" b="5017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304920" y="380880"/>
            <a:ext cx="7924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拼音难点我不怕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219320" y="2362320"/>
            <a:ext cx="746748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莲     睁     根     感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时     谢     非    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1523880"/>
            <a:ext cx="1447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838080" y="22860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752480" y="22860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343400" y="1447920"/>
            <a:ext cx="1219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23623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800600" y="22860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095880" y="1523880"/>
            <a:ext cx="1219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553080" y="2286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743200" y="419112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00400" y="4800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419720" y="4114800"/>
            <a:ext cx="114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724280" y="487692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867280" y="4267080"/>
            <a:ext cx="1219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248520" y="4876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143000" y="13716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ff"/>
                </a:solidFill>
                <a:latin typeface="Arial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523880" y="129528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3333ff"/>
                </a:solidFill>
                <a:latin typeface="Arial"/>
              </a:rPr>
              <a:t>á</a:t>
            </a:r>
            <a:r>
              <a:rPr b="0" lang="zh-CN" sz="5400" spc="-1" strike="noStrike">
                <a:solidFill>
                  <a:srgbClr val="3333ff"/>
                </a:solidFill>
                <a:latin typeface="Arial"/>
              </a:rPr>
              <a:t>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514600" y="1523880"/>
            <a:ext cx="1828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ff"/>
                </a:solidFill>
                <a:latin typeface="Arial"/>
              </a:rPr>
              <a:t>zhē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724280" y="144792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3333ff"/>
                </a:solidFill>
                <a:latin typeface="Arial"/>
              </a:rPr>
              <a:t>ē</a:t>
            </a:r>
            <a:r>
              <a:rPr b="0" lang="zh-CN" sz="4800" spc="-1" strike="noStrike">
                <a:solidFill>
                  <a:srgbClr val="3333ff"/>
                </a:solidFill>
                <a:latin typeface="Arial"/>
              </a:rPr>
              <a:t>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400800" y="1523880"/>
            <a:ext cx="106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ff"/>
                </a:solidFill>
                <a:latin typeface="Arial"/>
              </a:rPr>
              <a:t>ǎ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4052880"/>
            <a:ext cx="106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ff"/>
                </a:solidFill>
                <a:latin typeface="Arial"/>
              </a:rPr>
              <a:t>shí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048120" y="4038480"/>
            <a:ext cx="761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3333ff"/>
                </a:solidFill>
                <a:latin typeface="Arial"/>
              </a:rPr>
              <a:t>iè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48320" y="4038480"/>
            <a:ext cx="914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3333ff"/>
                </a:solidFill>
                <a:latin typeface="Arial"/>
              </a:rPr>
              <a:t>ē</a:t>
            </a:r>
            <a:r>
              <a:rPr b="0" lang="zh-CN" sz="5400" spc="-1" strike="noStrike">
                <a:solidFill>
                  <a:srgbClr val="3333ff"/>
                </a:solidFill>
                <a:latin typeface="Arial"/>
              </a:rPr>
              <a:t>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172200" y="4191120"/>
            <a:ext cx="99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ff"/>
                </a:solidFill>
                <a:latin typeface="Arial"/>
              </a:rPr>
              <a:t>ā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523800" y="390600"/>
            <a:ext cx="8096400" cy="60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523800" y="390600"/>
            <a:ext cx="8096400" cy="60768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4648320" y="99072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小蚂蚁，你怎么啦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1-12-30T03:16:12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