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33.gif" ContentType="image/gif"/>
  <Override PartName="/ppt/media/image17.jpeg" ContentType="image/jpeg"/>
  <Override PartName="/ppt/media/image7.png" ContentType="image/png"/>
  <Override PartName="/ppt/media/image32.png" ContentType="image/png"/>
  <Override PartName="/ppt/media/image8.png" ContentType="image/png"/>
  <Override PartName="/ppt/media/image39.jpeg" ContentType="image/jpeg"/>
  <Override PartName="/ppt/media/image9.png" ContentType="image/png"/>
  <Override PartName="/ppt/media/image34.png" ContentType="image/png"/>
  <Override PartName="/ppt/media/image40.jpeg" ContentType="image/jpeg"/>
  <Override PartName="/ppt/media/%E4%B8%81.WAV" ContentType="audio/x-wav"/>
  <Override PartName="/ppt/media/image38.jpeg" ContentType="image/jpeg"/>
  <Override PartName="/ppt/media/image28.png" ContentType="image/png"/>
  <Override PartName="/ppt/media/image5.png" ContentType="image/png"/>
  <Override PartName="/ppt/media/image35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explode.wav" ContentType="audio/x-wav"/>
  <Override PartName="/ppt/media/image4.jpeg" ContentType="image/jpeg"/>
  <Override PartName="/ppt/media/image25.png" ContentType="image/png"/>
  <Override PartName="/ppt/media/image13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2.png" ContentType="image/png"/>
  <Override PartName="/ppt/media/image10.jpeg" ContentType="image/jpeg"/>
  <Override PartName="/ppt/media/image14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0886-E36B-4495-9444-FE0E2B14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3D1C-5F3B-432B-B72B-254FAC99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7FF1-6FD7-46E2-986D-61E61C6C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1A6F-15BD-4F1C-9964-7A2F23B39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D82E-558C-469A-A05E-1FD3797E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8C79-09DB-48EC-AB48-0866B183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5A64-C378-48E5-886B-F13E763C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8869-127F-47A1-AD56-4F82FB89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5D7C-DCC7-4A04-B2BE-EF1D9D7B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70DA-6000-4EFB-BC43-A07B59DD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4CC9-E139-4E8C-B6EE-9C88670E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AB65-32D4-4E7C-BE61-50918552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D2F8-6B46-420C-9042-32CF8B97DD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25192.com/" TargetMode="Externa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&#19969;.WAV"/><Relationship Id="rId4" Type="http://schemas.openxmlformats.org/officeDocument/2006/relationships/audio" Target="../media/&#19969;.WAV"/><Relationship Id="rId5" Type="http://schemas.openxmlformats.org/officeDocument/2006/relationships/audio" Target="../media/&#19969;.WAV"/><Relationship Id="rId6" Type="http://schemas.openxmlformats.org/officeDocument/2006/relationships/audio" Target="../media/&#19969;.WAV"/><Relationship Id="rId7" Type="http://schemas.openxmlformats.org/officeDocument/2006/relationships/audio" Target="../media/&#19969;.WAV"/><Relationship Id="rId8" Type="http://schemas.openxmlformats.org/officeDocument/2006/relationships/audio" Target="../media/&#19969;.WAV"/><Relationship Id="rId9" Type="http://schemas.openxmlformats.org/officeDocument/2006/relationships/audio" Target="../media/&#19969;.WAV"/><Relationship Id="rId10" Type="http://schemas.openxmlformats.org/officeDocument/2006/relationships/audio" Target="../media/&#19969;.WAV"/><Relationship Id="rId11" Type="http://schemas.openxmlformats.org/officeDocument/2006/relationships/audio" Target="../media/&#19969;.WAV"/><Relationship Id="rId12" Type="http://schemas.openxmlformats.org/officeDocument/2006/relationships/audio" Target="../media/&#19969;.WAV"/><Relationship Id="rId13" Type="http://schemas.openxmlformats.org/officeDocument/2006/relationships/audio" Target="../media/&#19969;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0066"/>
                </a:solidFill>
                <a:latin typeface="Arial"/>
                <a:ea typeface="楷体_GB2312"/>
              </a:rPr>
              <a:t>夏夜多美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0920" y="0"/>
            <a:ext cx="2735280" cy="16286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我会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831708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38200" y="1413000"/>
            <a:ext cx="770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莲　哭　睁　趴　根　腰　爬　非　感　激　谢　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43828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3962520"/>
            <a:ext cx="25146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200" spc="-1" strike="noStrike">
                <a:solidFill>
                  <a:srgbClr val="ff0066"/>
                </a:solidFill>
                <a:latin typeface="Arial"/>
                <a:ea typeface="楷体_GB2312"/>
              </a:rPr>
              <a:t>感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81680" y="228600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9880" y="2514600"/>
            <a:ext cx="1881360" cy="1533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05120" y="990720"/>
            <a:ext cx="167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0400" y="60948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53352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91440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5029200"/>
            <a:ext cx="1881360" cy="1533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533520" y="4572000"/>
            <a:ext cx="137160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1495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猜一猜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5019840"/>
            <a:ext cx="6858000" cy="184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一寸光阴一寸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 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（打一字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438280" y="1905120"/>
            <a:ext cx="2286000" cy="2590200"/>
            <a:chOff x="2438280" y="1905120"/>
            <a:chExt cx="2286000" cy="2590200"/>
          </a:xfrm>
        </p:grpSpPr>
        <p:sp>
          <p:nvSpPr>
            <p:cNvPr id="90" name=""/>
            <p:cNvSpPr/>
            <p:nvPr/>
          </p:nvSpPr>
          <p:spPr>
            <a:xfrm>
              <a:off x="2438280" y="1905120"/>
              <a:ext cx="1143000" cy="1295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81280" y="1905120"/>
              <a:ext cx="1143000" cy="1295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38280" y="3200400"/>
              <a:ext cx="1143000" cy="129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81280" y="3200400"/>
              <a:ext cx="1143000" cy="129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438280" y="1752480"/>
            <a:ext cx="2286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ffffff"/>
                </a:solidFill>
                <a:latin typeface="Arial"/>
                <a:ea typeface="楷体_GB2312"/>
              </a:rPr>
              <a:t>时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228600"/>
            <a:ext cx="213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66"/>
                </a:solidFill>
                <a:latin typeface="宋体"/>
              </a:rPr>
              <a:t>shí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762120"/>
            <a:ext cx="29718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时间  时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时候  小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时空  惜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小时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90720" y="6094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想一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1700280"/>
            <a:ext cx="806436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课文中写了睡莲——小蚂蚁——（      ）——（       ）——（   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是它们构成夏夜美丽的景色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90720" y="60948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想一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286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课文中写了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睡莲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小蚂蚁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——（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蜻蜓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）——（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萤火虫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）——（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星星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），是它们构成夏夜美丽的景色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28600" y="495288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夏夜，公园里静悄悄的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3645000"/>
            <a:ext cx="89647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水池里，睡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莲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刚闭上眼睛，就被呜呜的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哭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声惊醒了。她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开眼睛一看，是一只蚂蚁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趴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在一根水草上。睡莲问：“小蚂蚁，你怎么了？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8088120" cy="3500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95280" y="4419720"/>
            <a:ext cx="84247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97800" cy="3637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38386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小蚂蚁说：“我不小心掉进池塘，上不了岸啦！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快上来吧！”睡莲弯弯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腰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，让他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爬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了上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97800" cy="4038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429264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小蚂蚁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非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常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感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，连声说：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“谢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谢您，睡莲姑姑。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839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睡莲说：“今晚就在这儿住下吧！你瞧，夏夜多美啊！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小蚂蚁摇摇头，说：“我得回家，要不，爸爸妈妈会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着急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的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4221000"/>
            <a:ext cx="91440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课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55760" y="706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4292640"/>
            <a:ext cx="9144000" cy="25653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9096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他问：“睡莲姑姑，有什么事吗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蚂蚁想回家，可我没办法送他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蜻蜓说：“让我来送小蚂蚁吧！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睡莲问：“天这么黑，你能行吗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3068640"/>
            <a:ext cx="9144000" cy="36370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7924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一只萤火虫飞来了，说：“我来给你们照亮。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5486400"/>
            <a:ext cx="7905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560" y="837720"/>
            <a:ext cx="84582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zh-CN" sz="5400" spc="-1" strike="noStrike">
                <a:solidFill>
                  <a:srgbClr val="333399"/>
                </a:solidFill>
                <a:latin typeface="Arial"/>
                <a:ea typeface="楷体_GB2312"/>
              </a:rPr>
              <a:t>小蚂蚁爬上“飞机”，蜻蜓起飞了。萤火虫在前面点起了亮晶晶的小灯笼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3500280"/>
            <a:ext cx="91440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257440" y="8377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萤火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876920" cy="3632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191120" y="2881440"/>
            <a:ext cx="480060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458200" cy="41911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4313160"/>
            <a:ext cx="8839080" cy="22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蜻蜓飞呀飞，飞过青青的假山，飞过绿绿的草坪，飞到一座花坛前，小蚂蚁到家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-396720" y="-1179360"/>
            <a:ext cx="9753480" cy="8570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620640"/>
            <a:ext cx="9217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星星看见了，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高兴地</a:t>
            </a: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眨着眼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。</a:t>
            </a: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啊，多美的夏夜呀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7080" cy="6912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24000" y="4941720"/>
            <a:ext cx="85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 </a:t>
            </a: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星星被这一切感动了，你想说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590920" y="380880"/>
            <a:ext cx="2836800" cy="4667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495680" y="304920"/>
            <a:ext cx="2840040" cy="4724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711440" y="457200"/>
            <a:ext cx="2813040" cy="4648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2971800" y="1371600"/>
            <a:ext cx="2916360" cy="4781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228600" y="1523880"/>
            <a:ext cx="2971800" cy="4972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6226200" y="152280"/>
            <a:ext cx="2736720" cy="4496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1600200" y="228600"/>
            <a:ext cx="3168720" cy="5257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685800" y="152280"/>
            <a:ext cx="3400560" cy="5715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0"/>
          <a:stretch/>
        </p:blipFill>
        <p:spPr>
          <a:xfrm>
            <a:off x="2971800" y="304920"/>
            <a:ext cx="3021120" cy="5029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1"/>
          <a:stretch/>
        </p:blipFill>
        <p:spPr>
          <a:xfrm>
            <a:off x="3886200" y="380880"/>
            <a:ext cx="2959200" cy="4876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2"/>
          <a:stretch/>
        </p:blipFill>
        <p:spPr>
          <a:xfrm>
            <a:off x="838080" y="228600"/>
            <a:ext cx="2865600" cy="4724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3"/>
          <a:stretch/>
        </p:blipFill>
        <p:spPr>
          <a:xfrm>
            <a:off x="5486400" y="304920"/>
            <a:ext cx="2857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2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5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7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9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1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5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87280" y="765000"/>
            <a:ext cx="27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67280" y="357336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84720" y="4724280"/>
            <a:ext cx="215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472428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62864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青青的假山    青青的—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绿绿的草坪    绿绿的—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弯弯的小路    弯弯的—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7120" y="1274760"/>
            <a:ext cx="592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24000" y="40464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读读说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15884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ox(in)" transition="out">
                                      <p:cBhvr additive="repl">
                                        <p:cTn id="35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43196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青青的小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青青的苹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青青的山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7280" y="0"/>
            <a:ext cx="5076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绿绿的树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绿绿的小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绿绿的柳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19280" y="3284640"/>
            <a:ext cx="51134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弯弯的月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弯弯的镰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弯弯的香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911160"/>
            <a:ext cx="79246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红红的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———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高高的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——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长长的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——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闪闪的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——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              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亮亮的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——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                 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大大的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——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                     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蓝蓝的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38102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他  她  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1258560"/>
            <a:ext cx="8664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（       ）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们正在操场上做游戏呢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奶奶脱下（    ）的棉衣，放到阳台上去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青蛙是益虫，（    ）一小时内吃掉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0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只苍蝇或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40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只蚊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哥哥骑着（    ）的新自行车出去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121932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33920" y="205740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335268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472428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3097440" cy="3240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211640" y="1127160"/>
            <a:ext cx="3240000" cy="30938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39640" y="4508640"/>
            <a:ext cx="30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幼圆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幼圆"/>
              </a:rPr>
              <a:t>他们   他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6360" y="450864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幼圆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幼圆"/>
              </a:rPr>
              <a:t>是她   她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26920" y="247680"/>
            <a:ext cx="2448000" cy="2460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851280" y="307800"/>
            <a:ext cx="2305080" cy="2329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042920" y="3284640"/>
            <a:ext cx="2449440" cy="2232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3851280" y="3213000"/>
            <a:ext cx="2448000" cy="2232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84360" y="27147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过时   过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24360" y="26416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送人   送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573408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让路   让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51280" y="566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时间    时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更多精彩课件请到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25192.com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下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987640" y="4076640"/>
            <a:ext cx="2971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www.25192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00400" y="320040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800000">
                    <a:alpha val="74000"/>
                  </a:srgbClr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松鼠课件站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800000">
                  <a:alpha val="74000"/>
                </a:srgbClr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55680"/>
            <a:ext cx="882000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幼圆"/>
              </a:rPr>
              <a:t>li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á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幼圆"/>
              </a:rPr>
              <a:t>n     kū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幼圆"/>
              </a:rPr>
              <a:t>　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幼圆"/>
              </a:rPr>
              <a:t>zhēng    pā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幼圆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幼圆"/>
              </a:rPr>
              <a:t>睡莲  哭声   睁 开   趴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幼圆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幼圆"/>
              </a:rPr>
              <a:t>ɡēn        yāo    p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á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幼圆"/>
              </a:rPr>
              <a:t>           fēi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幼圆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幼圆"/>
              </a:rPr>
              <a:t>一根   弯腰    爬上来 非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幼圆"/>
              </a:rPr>
              <a:t>ɡǎn jī     xiè            jí          shí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幼圆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幼圆"/>
              </a:rPr>
              <a:t> 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幼圆"/>
              </a:rPr>
              <a:t>感激   谢谢   着急   这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95360" y="533520"/>
            <a:ext cx="8153280" cy="53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睡莲  哭声  睁开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趴着  一根  弯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爬上来 非常  感激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谢谢您 着急 这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716360" y="189000"/>
            <a:ext cx="4427640" cy="3973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2733840"/>
            <a:ext cx="6299280" cy="4124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186280" y="386064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睡莲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13200" y="393372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哭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13200" y="393372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睁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13200" y="393372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趴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3960" y="407664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一根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57920" y="393372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弯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57920" y="400536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爬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13200" y="407664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非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57920" y="393372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感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86280" y="400536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着急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86280" y="400536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这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4%B8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4%B8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5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4%B8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7500"/>
                            </p:stCondLst>
                            <p:childTnLst>
                              <p:par>
                                <p:cTn id="3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4%B8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E4%B8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E4%B8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5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E4%B8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7500"/>
                            </p:stCondLst>
                            <p:childTnLst>
                              <p:par>
                                <p:cTn id="7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8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E4%B8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0"/>
                            </p:stCondLst>
                            <p:childTnLst>
                              <p:par>
                                <p:cTn id="8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5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E4%B8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2500"/>
                            </p:stCondLst>
                            <p:childTnLst>
                              <p:par>
                                <p:cTn id="9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300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E4%B8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E4%B8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2:28:01Z</dcterms:created>
  <dc:creator>微软用户</dc:creator>
  <dc:description/>
  <dc:language>en-US</dc:language>
  <cp:lastModifiedBy>hcxx</cp:lastModifiedBy>
  <dcterms:modified xsi:type="dcterms:W3CDTF">2013-01-21T02:43:36Z</dcterms:modified>
  <cp:revision>113</cp:revision>
  <dc:subject/>
  <dc:title>幻灯片 1</dc:title>
</cp:coreProperties>
</file>