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13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12.gif" ContentType="image/gif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815-7BE2-49EE-8710-80D07622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D12-5717-4CEE-94EC-21A0EB9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CF7-9AA3-4892-A6F2-2C57148B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755-1C21-4CE6-B46B-60CD6099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A5BD-8E43-4BEB-983E-A0FA9BA2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FF2-69BF-4814-ADA3-A0C49922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70A7-C685-4199-99EE-02E7BCD2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8FAF-150D-4883-871A-54938C4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263D-1224-4BEC-A4EF-E389711E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7C4-69D7-41F2-8226-CB3CD143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BB92-DD3E-425B-8DB9-E313EFA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A71-AAC6-4896-9742-0B76DE0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6AD-6F33-4587-B5F9-F8F9CBD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ABD-6DB8-4F1D-AD0A-A6A00E0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CA87-B7E5-4D22-91EB-2CE5CD3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002-2824-4F0A-9614-AAC654FB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EEE1-1C2E-4E91-BFAB-50A58A5E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476-B195-4DC4-8CCD-372B3CC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A1B-2FB2-4075-A1E0-53D6B45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973-1252-4C5F-ABF6-87791BA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0AF-0E54-4499-ADD9-21EB681B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C38-4E93-46AB-86AD-344ECCDC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F8E-57ED-4A69-9EC1-176FFFE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EF0-2AB1-4BA6-8005-8BDDFA7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D54A-71C8-405D-B52A-EF0FE678C3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D6A5-3612-4792-9F1A-889A5AD6F3A7}" type="slidenum">
              <a:rPr b="0" lang="zh-CN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309760" y="406728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moban/     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han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gy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e/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jieri/    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sucai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beijing/ 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tubiao/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/x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iazai/        PPT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powerpoi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nt/  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word/   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 Ex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cel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excel/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ziliao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kejian/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/fanwen/    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3" name="Picture 2" descr="小学语文（散文）02-1"/>
          <p:cNvPicPr/>
          <p:nvPr/>
        </p:nvPicPr>
        <p:blipFill>
          <a:blip r:embed="rId2"/>
          <a:stretch/>
        </p:blipFill>
        <p:spPr>
          <a:xfrm>
            <a:off x="990720" y="99072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660680" y="1752480"/>
            <a:ext cx="597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　　有时落在山腰，有时挂在树梢。有时像个圆盘，有时像把镰刀。 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234320" y="129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猜谜语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6" name="Picture 6" descr="100100000138"/>
          <p:cNvPicPr/>
          <p:nvPr/>
        </p:nvPicPr>
        <p:blipFill>
          <a:blip r:embed="rId3"/>
          <a:stretch/>
        </p:blipFill>
        <p:spPr>
          <a:xfrm>
            <a:off x="1219320" y="2827440"/>
            <a:ext cx="6933960" cy="348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066680" y="990720"/>
            <a:ext cx="2590920" cy="53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小小的船"/>
          <p:cNvPicPr/>
          <p:nvPr/>
        </p:nvPicPr>
        <p:blipFill>
          <a:blip r:embed="rId3"/>
          <a:stretch/>
        </p:blipFill>
        <p:spPr>
          <a:xfrm>
            <a:off x="971640" y="1523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71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67057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1605240" y="1692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儿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675320" y="1716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523880" y="2622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675320" y="26528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625760" y="3618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75320" y="36482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523880" y="4699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675320" y="472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579680" y="5597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）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00" name="Picture 15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153080" y="1963800"/>
            <a:ext cx="713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亮像                     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34080" y="31338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空像                     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34080" y="428616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像                     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-1249200" y="5437080"/>
            <a:ext cx="118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的       像                     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627880" y="189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646960" y="3062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大海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646960" y="4213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宝石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239480" y="2198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船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58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见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074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坐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39480" y="3390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看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058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弯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074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058920" y="4606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蓝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94800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94656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星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812240" y="2408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722040" y="2443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弓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73840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51788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口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812240" y="355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目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722040" y="359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见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73840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门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751788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日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3722040" y="4784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艹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27" name="Picture 22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1440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159440" y="1319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嫦娥奔月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781360" y="1828800"/>
            <a:ext cx="3587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9072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3292200" y="2071800"/>
            <a:ext cx="409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　　我会画：把你看到或想象到的星空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画下来。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028760" y="39099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辩论会：月亮上面真的有嫦娥吗？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4" name="Picture 6" descr="卡通脸"/>
          <p:cNvPicPr/>
          <p:nvPr/>
        </p:nvPicPr>
        <p:blipFill>
          <a:blip r:embed="rId3"/>
          <a:stretch/>
        </p:blipFill>
        <p:spPr>
          <a:xfrm>
            <a:off x="1523880" y="3809880"/>
            <a:ext cx="99072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我会画"/>
          <p:cNvPicPr/>
          <p:nvPr/>
        </p:nvPicPr>
        <p:blipFill>
          <a:blip r:embed="rId4"/>
          <a:stretch/>
        </p:blipFill>
        <p:spPr>
          <a:xfrm>
            <a:off x="1197000" y="2057400"/>
            <a:ext cx="1100160" cy="1371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2195640" y="530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3-10-17T12:54:31Z</dcterms:modified>
  <cp:revision>16</cp:revision>
  <dc:subject/>
  <dc:title>PowerPoint Presentation</dc:title>
</cp:coreProperties>
</file>