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tif" ContentType="image/tiff"/>
  <Override PartName="/ppt/media/image10.tif" ContentType="image/tiff"/>
  <Override PartName="/ppt/media/image9.gif" ContentType="image/gif"/>
  <Override PartName="/ppt/media/image15.tif" ContentType="image/tiff"/>
  <Override PartName="/ppt/media/image1.png" ContentType="image/png"/>
  <Override PartName="/ppt/media/image17.jpeg" ContentType="image/jpeg"/>
  <Override PartName="/ppt/media/image14.tif" ContentType="image/tiff"/>
  <Override PartName="/ppt/media/image2.jpeg" ContentType="image/jpeg"/>
  <Override PartName="/ppt/media/image3.tif" ContentType="image/tiff"/>
  <Override PartName="/ppt/media/image4.jpeg" ContentType="image/jpeg"/>
  <Override PartName="/ppt/media/image8.gif" ContentType="image/gif"/>
  <Override PartName="/ppt/media/image13.gif" ContentType="image/gif"/>
  <Override PartName="/ppt/media/image16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A42-B852-4D48-8414-A1B58D92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9A7-9752-4F6E-A3B6-22742144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371-B660-4E88-BC27-8BC49D46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9C9-7A88-47EB-9081-96E64EF2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B09-2325-4082-91CC-479327C2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7F9-3F5E-4C7A-A228-6DBDC0D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803-E811-423B-BFB9-86D5AE47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DF3-B090-4996-852A-30D48269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CD5-6825-4F02-9F04-74B3850E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4EB-33B9-4059-AE2F-3983A5F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8BD-D15C-4DC7-BD73-C26579E4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27A-E9B9-4B5C-8ED3-4966257F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4A27-9C3E-4E4A-84DB-A38ECA34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EC2E-159F-4C89-978A-8C66C102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FC4B-72C8-47D7-A8BF-D72D75A5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7DDC-DF73-4879-8A58-4797F24B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F335-F054-43AE-B70B-02900C27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5D75-2EA8-4C08-BF02-2C365DBB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4D98-5B13-4F93-A599-1208AC4A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EC74-F8C4-4025-8D29-CFA60C65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DB9E-27F2-413D-AFE5-9A0C15BC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DB12-7469-4862-B55E-51DB90F6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7B6D-4CDE-4CC5-9B32-DC2DEF77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8049-FBFD-4D23-9232-66F2AAA9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63A7-9A0F-4CCB-B406-FAF52AA3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0700-AB9F-4989-85E3-785B7E0C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2341-796F-412A-9641-0E002AA9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28D3-2C57-4CE5-9CC3-E2DCE464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1FBC-3F2B-4A05-8585-87B117D5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2DB0-733F-434E-AA9E-D1C7B87D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61B0-9966-4626-8347-73B58B7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45B1-8DB6-4A56-A811-8E40763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C863-3051-4CF6-B930-6C1B3059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15F9-1AB0-4F5D-8E03-6576551A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A93E-A8E7-44C8-A1FF-1FB959BF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40B2-330B-4BD6-87CC-71781C0F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045A-71A5-45CB-86E5-BDE93833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2368B-F1C2-4696-B1F5-6C5E97A1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3FE9-99CC-4946-98B3-032A5382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EB83-F057-4E7E-89FF-0CAA2525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D54F-FABB-456A-B115-964C2B66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602E-275C-4693-9A09-1EECF010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88C0-803F-4255-9FDA-F944CD31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2CDB9-1B1B-49AD-8946-F3E7345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E2C4-45DD-4AD8-9CFB-02759E90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D8FA-5F11-464D-A4AA-F7C053E9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DA9D-72C4-4BDB-A43E-C76FE20C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14B5-B390-4B98-BB81-15E55FA2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4AB0-A009-48A9-AAD8-EB20F6A46A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A769-8E36-4EDA-8F6D-527E299E66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790A-418A-4A97-A7B5-DD21006B03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6973-D488-4BFA-9099-0316A155F6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tif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tif"/><Relationship Id="rId6" Type="http://schemas.openxmlformats.org/officeDocument/2006/relationships/image" Target="../media/image11.tif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tif"/><Relationship Id="rId5" Type="http://schemas.openxmlformats.org/officeDocument/2006/relationships/image" Target="../media/image15.tif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7"/>
          <p:cNvSpPr/>
          <p:nvPr/>
        </p:nvSpPr>
        <p:spPr>
          <a:xfrm>
            <a:off x="474840" y="995400"/>
            <a:ext cx="969840" cy="398880"/>
          </a:xfrm>
          <a:prstGeom prst="rect">
            <a:avLst/>
          </a:pr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课  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" descr="优异LOGO"/>
          <p:cNvPicPr/>
          <p:nvPr/>
        </p:nvPicPr>
        <p:blipFill>
          <a:blip r:embed="rId2"/>
          <a:stretch/>
        </p:blipFill>
        <p:spPr>
          <a:xfrm>
            <a:off x="162000" y="160200"/>
            <a:ext cx="1795320" cy="640080"/>
          </a:xfrm>
          <a:prstGeom prst="rect">
            <a:avLst/>
          </a:prstGeom>
          <a:ln w="0">
            <a:noFill/>
          </a:ln>
        </p:spPr>
      </p:pic>
      <p:sp>
        <p:nvSpPr>
          <p:cNvPr id="275" name="矩形 5"/>
          <p:cNvSpPr/>
          <p:nvPr/>
        </p:nvSpPr>
        <p:spPr>
          <a:xfrm>
            <a:off x="2414520" y="2068560"/>
            <a:ext cx="506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⑪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项 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3"/>
          <p:cNvSpPr/>
          <p:nvPr/>
        </p:nvSpPr>
        <p:spPr>
          <a:xfrm>
            <a:off x="514440" y="1650960"/>
            <a:ext cx="6148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例：雪白雪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我会说：金黄金黄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—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     ———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"/>
          <p:cNvSpPr/>
          <p:nvPr/>
        </p:nvSpPr>
        <p:spPr>
          <a:xfrm>
            <a:off x="3186000" y="32050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Arial"/>
                <a:ea typeface="宋体"/>
              </a:rPr>
              <a:t>火红火红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2"/>
          <p:cNvSpPr/>
          <p:nvPr/>
        </p:nvSpPr>
        <p:spPr>
          <a:xfrm>
            <a:off x="3186000" y="399096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Arial"/>
                <a:ea typeface="宋体"/>
              </a:rPr>
              <a:t>碧绿碧绿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文本框 1"/>
          <p:cNvSpPr/>
          <p:nvPr/>
        </p:nvSpPr>
        <p:spPr>
          <a:xfrm>
            <a:off x="109440" y="14382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" descr="白"/>
          <p:cNvPicPr/>
          <p:nvPr/>
        </p:nvPicPr>
        <p:blipFill>
          <a:blip r:embed="rId3"/>
          <a:stretch/>
        </p:blipFill>
        <p:spPr>
          <a:xfrm>
            <a:off x="930240" y="1768320"/>
            <a:ext cx="3789360" cy="265140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3" descr="的"/>
          <p:cNvPicPr/>
          <p:nvPr/>
        </p:nvPicPr>
        <p:blipFill>
          <a:blip r:embed="rId4"/>
          <a:stretch/>
        </p:blipFill>
        <p:spPr>
          <a:xfrm>
            <a:off x="4551480" y="1711440"/>
            <a:ext cx="3936960" cy="275436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" descr="KT白"/>
          <p:cNvPicPr/>
          <p:nvPr/>
        </p:nvPicPr>
        <p:blipFill>
          <a:blip r:embed="rId5"/>
          <a:stretch/>
        </p:blipFill>
        <p:spPr>
          <a:xfrm>
            <a:off x="1309680" y="4397400"/>
            <a:ext cx="2863800" cy="58248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1" descr="KT的"/>
          <p:cNvPicPr/>
          <p:nvPr/>
        </p:nvPicPr>
        <p:blipFill>
          <a:blip r:embed="rId6"/>
          <a:stretch/>
        </p:blipFill>
        <p:spPr>
          <a:xfrm>
            <a:off x="4630680" y="4465800"/>
            <a:ext cx="36324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4" descr="又"/>
          <p:cNvPicPr/>
          <p:nvPr/>
        </p:nvPicPr>
        <p:blipFill>
          <a:blip r:embed="rId2"/>
          <a:stretch/>
        </p:blipFill>
        <p:spPr>
          <a:xfrm>
            <a:off x="704880" y="1681200"/>
            <a:ext cx="4073400" cy="285264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5" descr="和"/>
          <p:cNvPicPr/>
          <p:nvPr/>
        </p:nvPicPr>
        <p:blipFill>
          <a:blip r:embed="rId3"/>
          <a:stretch/>
        </p:blipFill>
        <p:spPr>
          <a:xfrm>
            <a:off x="4309920" y="1646280"/>
            <a:ext cx="412452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1" descr="KT又"/>
          <p:cNvPicPr/>
          <p:nvPr/>
        </p:nvPicPr>
        <p:blipFill>
          <a:blip r:embed="rId4"/>
          <a:stretch/>
        </p:blipFill>
        <p:spPr>
          <a:xfrm>
            <a:off x="1994040" y="4384800"/>
            <a:ext cx="1244520" cy="62532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" descr="KT和"/>
          <p:cNvPicPr/>
          <p:nvPr/>
        </p:nvPicPr>
        <p:blipFill>
          <a:blip r:embed="rId5"/>
          <a:stretch/>
        </p:blipFill>
        <p:spPr>
          <a:xfrm>
            <a:off x="4495680" y="4384800"/>
            <a:ext cx="398304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文本框 6"/>
          <p:cNvSpPr/>
          <p:nvPr/>
        </p:nvSpPr>
        <p:spPr>
          <a:xfrm>
            <a:off x="1362240" y="390600"/>
            <a:ext cx="695304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白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和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7"/>
          <p:cNvSpPr/>
          <p:nvPr/>
        </p:nvSpPr>
        <p:spPr>
          <a:xfrm>
            <a:off x="2735280" y="506520"/>
            <a:ext cx="2463840" cy="5814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白云    白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0"/>
          <p:cNvSpPr/>
          <p:nvPr/>
        </p:nvSpPr>
        <p:spPr>
          <a:xfrm>
            <a:off x="2714760" y="2766960"/>
            <a:ext cx="2504880" cy="5814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又一次  又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3"/>
          <p:cNvSpPr/>
          <p:nvPr/>
        </p:nvSpPr>
        <p:spPr>
          <a:xfrm>
            <a:off x="2714760" y="1579680"/>
            <a:ext cx="2504880" cy="5814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的    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"/>
          <p:cNvSpPr/>
          <p:nvPr/>
        </p:nvSpPr>
        <p:spPr>
          <a:xfrm>
            <a:off x="2681280" y="3755880"/>
            <a:ext cx="2505240" cy="5814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平    人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2" descr="01033310.jpg.thumb"/>
          <p:cNvPicPr/>
          <p:nvPr/>
        </p:nvPicPr>
        <p:blipFill>
          <a:blip r:embed="rId2"/>
          <a:stretch/>
        </p:blipFill>
        <p:spPr>
          <a:xfrm>
            <a:off x="414360" y="2004840"/>
            <a:ext cx="1276200" cy="1035360"/>
          </a:xfrm>
          <a:prstGeom prst="rect">
            <a:avLst/>
          </a:prstGeom>
          <a:ln w="0">
            <a:noFill/>
          </a:ln>
        </p:spPr>
      </p:pic>
      <p:sp>
        <p:nvSpPr>
          <p:cNvPr id="325" name="文本框 5"/>
          <p:cNvSpPr/>
          <p:nvPr/>
        </p:nvSpPr>
        <p:spPr>
          <a:xfrm>
            <a:off x="2436840" y="190188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6"/>
          <p:cNvSpPr/>
          <p:nvPr/>
        </p:nvSpPr>
        <p:spPr>
          <a:xfrm>
            <a:off x="2436840" y="266400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7"/>
          <p:cNvSpPr/>
          <p:nvPr/>
        </p:nvSpPr>
        <p:spPr>
          <a:xfrm>
            <a:off x="2436840" y="344340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0"/>
          <p:cNvSpPr/>
          <p:nvPr/>
        </p:nvSpPr>
        <p:spPr>
          <a:xfrm>
            <a:off x="2436840" y="420048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1"/>
          <p:cNvSpPr/>
          <p:nvPr/>
        </p:nvSpPr>
        <p:spPr>
          <a:xfrm>
            <a:off x="4106880" y="190188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2"/>
          <p:cNvSpPr/>
          <p:nvPr/>
        </p:nvSpPr>
        <p:spPr>
          <a:xfrm>
            <a:off x="4108320" y="26640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3"/>
          <p:cNvSpPr/>
          <p:nvPr/>
        </p:nvSpPr>
        <p:spPr>
          <a:xfrm>
            <a:off x="4110120" y="34974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图片 14" descr="20140826091315664"/>
          <p:cNvPicPr/>
          <p:nvPr/>
        </p:nvPicPr>
        <p:blipFill>
          <a:blip r:embed="rId3"/>
          <a:stretch/>
        </p:blipFill>
        <p:spPr>
          <a:xfrm>
            <a:off x="6288120" y="2714760"/>
            <a:ext cx="2379600" cy="2157120"/>
          </a:xfrm>
          <a:prstGeom prst="rect">
            <a:avLst/>
          </a:prstGeom>
          <a:ln w="0">
            <a:noFill/>
          </a:ln>
        </p:spPr>
      </p:pic>
      <p:sp>
        <p:nvSpPr>
          <p:cNvPr id="333" name="文本框 13"/>
          <p:cNvSpPr/>
          <p:nvPr/>
        </p:nvSpPr>
        <p:spPr>
          <a:xfrm>
            <a:off x="4106880" y="419904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1"/>
          <p:cNvSpPr/>
          <p:nvPr/>
        </p:nvSpPr>
        <p:spPr>
          <a:xfrm>
            <a:off x="5638680" y="190188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"/>
          <p:cNvSpPr/>
          <p:nvPr/>
        </p:nvSpPr>
        <p:spPr>
          <a:xfrm>
            <a:off x="109440" y="14382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1"/>
          <p:cNvSpPr/>
          <p:nvPr/>
        </p:nvSpPr>
        <p:spPr>
          <a:xfrm>
            <a:off x="5638680" y="26640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1"/>
          <p:cNvSpPr/>
          <p:nvPr/>
        </p:nvSpPr>
        <p:spPr>
          <a:xfrm>
            <a:off x="5638680" y="34434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2"/>
          <p:cNvSpPr/>
          <p:nvPr/>
        </p:nvSpPr>
        <p:spPr>
          <a:xfrm>
            <a:off x="0" y="1447920"/>
            <a:ext cx="9144000" cy="1098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701640" y="2843280"/>
            <a:ext cx="49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2d050"/>
                </a:solidFill>
                <a:latin typeface="Arial"/>
                <a:ea typeface="宋体"/>
              </a:rPr>
              <a:t>更多精彩视频内容，敬请关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"/>
          <p:cNvSpPr/>
          <p:nvPr/>
        </p:nvSpPr>
        <p:spPr>
          <a:xfrm>
            <a:off x="2862360" y="1673280"/>
            <a:ext cx="3510000" cy="674640"/>
          </a:xfrm>
          <a:custGeom>
            <a:avLst/>
            <a:gdLst/>
            <a:ahLst/>
            <a:rect l="l" t="t" r="r" b="b"/>
            <a:pathLst>
              <a:path w="17843" h="4118">
                <a:moveTo>
                  <a:pt x="6664" y="2746"/>
                </a:moveTo>
                <a:cubicBezTo>
                  <a:pt x="6573" y="3028"/>
                  <a:pt x="6471" y="3294"/>
                  <a:pt x="6357" y="3542"/>
                </a:cubicBezTo>
                <a:cubicBezTo>
                  <a:pt x="6334" y="3587"/>
                  <a:pt x="6306" y="3638"/>
                  <a:pt x="6272" y="3695"/>
                </a:cubicBezTo>
                <a:cubicBezTo>
                  <a:pt x="6272" y="3695"/>
                  <a:pt x="6277" y="3695"/>
                  <a:pt x="6289" y="3695"/>
                </a:cubicBezTo>
                <a:cubicBezTo>
                  <a:pt x="6368" y="3729"/>
                  <a:pt x="6431" y="3745"/>
                  <a:pt x="6476" y="3745"/>
                </a:cubicBezTo>
                <a:cubicBezTo>
                  <a:pt x="6601" y="3757"/>
                  <a:pt x="6664" y="3672"/>
                  <a:pt x="6664" y="3491"/>
                </a:cubicBezTo>
                <a:cubicBezTo>
                  <a:pt x="6664" y="3243"/>
                  <a:pt x="6664" y="2994"/>
                  <a:pt x="6664" y="2746"/>
                </a:cubicBezTo>
                <a:close/>
                <a:moveTo>
                  <a:pt x="2081" y="2746"/>
                </a:moveTo>
                <a:cubicBezTo>
                  <a:pt x="1990" y="3028"/>
                  <a:pt x="1887" y="3294"/>
                  <a:pt x="1774" y="3542"/>
                </a:cubicBezTo>
                <a:cubicBezTo>
                  <a:pt x="1751" y="3587"/>
                  <a:pt x="1723" y="3638"/>
                  <a:pt x="1689" y="3695"/>
                </a:cubicBezTo>
                <a:cubicBezTo>
                  <a:pt x="1689" y="3695"/>
                  <a:pt x="1694" y="3695"/>
                  <a:pt x="1706" y="3695"/>
                </a:cubicBezTo>
                <a:cubicBezTo>
                  <a:pt x="1785" y="3729"/>
                  <a:pt x="1848" y="3745"/>
                  <a:pt x="1893" y="3745"/>
                </a:cubicBezTo>
                <a:cubicBezTo>
                  <a:pt x="2018" y="3757"/>
                  <a:pt x="2081" y="3672"/>
                  <a:pt x="2081" y="3491"/>
                </a:cubicBezTo>
                <a:cubicBezTo>
                  <a:pt x="2081" y="3243"/>
                  <a:pt x="2081" y="2994"/>
                  <a:pt x="2081" y="2746"/>
                </a:cubicBezTo>
                <a:close/>
                <a:moveTo>
                  <a:pt x="15455" y="2424"/>
                </a:moveTo>
                <a:cubicBezTo>
                  <a:pt x="15688" y="2424"/>
                  <a:pt x="15922" y="2424"/>
                  <a:pt x="16155" y="2424"/>
                </a:cubicBezTo>
                <a:cubicBezTo>
                  <a:pt x="16155" y="2553"/>
                  <a:pt x="16155" y="2683"/>
                  <a:pt x="16155" y="2813"/>
                </a:cubicBezTo>
                <a:cubicBezTo>
                  <a:pt x="16155" y="2836"/>
                  <a:pt x="16155" y="2853"/>
                  <a:pt x="16155" y="2864"/>
                </a:cubicBezTo>
                <a:cubicBezTo>
                  <a:pt x="16802" y="3474"/>
                  <a:pt x="17365" y="3864"/>
                  <a:pt x="17843" y="4034"/>
                </a:cubicBezTo>
                <a:cubicBezTo>
                  <a:pt x="17024" y="4090"/>
                  <a:pt x="16552" y="4034"/>
                  <a:pt x="16427" y="3864"/>
                </a:cubicBezTo>
                <a:cubicBezTo>
                  <a:pt x="16359" y="3808"/>
                  <a:pt x="16297" y="3751"/>
                  <a:pt x="16240" y="3695"/>
                </a:cubicBezTo>
                <a:cubicBezTo>
                  <a:pt x="16047" y="3548"/>
                  <a:pt x="15910" y="3429"/>
                  <a:pt x="15831" y="3339"/>
                </a:cubicBezTo>
                <a:cubicBezTo>
                  <a:pt x="15683" y="3486"/>
                  <a:pt x="15501" y="3638"/>
                  <a:pt x="15285" y="3796"/>
                </a:cubicBezTo>
                <a:cubicBezTo>
                  <a:pt x="14989" y="4034"/>
                  <a:pt x="14484" y="4113"/>
                  <a:pt x="13767" y="4034"/>
                </a:cubicBezTo>
                <a:cubicBezTo>
                  <a:pt x="14177" y="3909"/>
                  <a:pt x="14654" y="3604"/>
                  <a:pt x="15200" y="3118"/>
                </a:cubicBezTo>
                <a:cubicBezTo>
                  <a:pt x="15370" y="2972"/>
                  <a:pt x="15455" y="2830"/>
                  <a:pt x="15455" y="2695"/>
                </a:cubicBezTo>
                <a:cubicBezTo>
                  <a:pt x="15455" y="2604"/>
                  <a:pt x="15455" y="2514"/>
                  <a:pt x="15455" y="2424"/>
                </a:cubicBezTo>
                <a:close/>
                <a:moveTo>
                  <a:pt x="16916" y="2083"/>
                </a:moveTo>
                <a:cubicBezTo>
                  <a:pt x="17384" y="2083"/>
                  <a:pt x="17602" y="2248"/>
                  <a:pt x="17570" y="2576"/>
                </a:cubicBezTo>
                <a:cubicBezTo>
                  <a:pt x="17570" y="2842"/>
                  <a:pt x="17570" y="3107"/>
                  <a:pt x="17570" y="3373"/>
                </a:cubicBezTo>
                <a:cubicBezTo>
                  <a:pt x="17337" y="3373"/>
                  <a:pt x="17104" y="3373"/>
                  <a:pt x="16871" y="3373"/>
                </a:cubicBezTo>
                <a:cubicBezTo>
                  <a:pt x="16871" y="3118"/>
                  <a:pt x="16871" y="2864"/>
                  <a:pt x="16871" y="2610"/>
                </a:cubicBezTo>
                <a:cubicBezTo>
                  <a:pt x="16893" y="2373"/>
                  <a:pt x="16746" y="2260"/>
                  <a:pt x="16427" y="2271"/>
                </a:cubicBezTo>
                <a:cubicBezTo>
                  <a:pt x="15995" y="2271"/>
                  <a:pt x="15563" y="2271"/>
                  <a:pt x="15131" y="2271"/>
                </a:cubicBezTo>
                <a:cubicBezTo>
                  <a:pt x="14916" y="2260"/>
                  <a:pt x="14779" y="2350"/>
                  <a:pt x="14722" y="2542"/>
                </a:cubicBezTo>
                <a:cubicBezTo>
                  <a:pt x="14722" y="2836"/>
                  <a:pt x="14722" y="3130"/>
                  <a:pt x="14722" y="3423"/>
                </a:cubicBezTo>
                <a:cubicBezTo>
                  <a:pt x="14489" y="3423"/>
                  <a:pt x="14256" y="3423"/>
                  <a:pt x="14023" y="3423"/>
                </a:cubicBezTo>
                <a:cubicBezTo>
                  <a:pt x="14023" y="2977"/>
                  <a:pt x="14023" y="2531"/>
                  <a:pt x="14023" y="2085"/>
                </a:cubicBezTo>
                <a:cubicBezTo>
                  <a:pt x="14256" y="2085"/>
                  <a:pt x="14489" y="2085"/>
                  <a:pt x="14722" y="2085"/>
                </a:cubicBezTo>
                <a:cubicBezTo>
                  <a:pt x="14722" y="2192"/>
                  <a:pt x="14722" y="2299"/>
                  <a:pt x="14722" y="2407"/>
                </a:cubicBezTo>
                <a:cubicBezTo>
                  <a:pt x="14756" y="2192"/>
                  <a:pt x="14927" y="2085"/>
                  <a:pt x="15234" y="2085"/>
                </a:cubicBezTo>
                <a:cubicBezTo>
                  <a:pt x="15762" y="2085"/>
                  <a:pt x="16291" y="2085"/>
                  <a:pt x="16820" y="2085"/>
                </a:cubicBezTo>
                <a:cubicBezTo>
                  <a:pt x="16853" y="2083"/>
                  <a:pt x="16885" y="2083"/>
                  <a:pt x="16916" y="2083"/>
                </a:cubicBezTo>
                <a:close/>
                <a:moveTo>
                  <a:pt x="6323" y="1966"/>
                </a:moveTo>
                <a:cubicBezTo>
                  <a:pt x="6323" y="2147"/>
                  <a:pt x="6323" y="2328"/>
                  <a:pt x="6323" y="2508"/>
                </a:cubicBezTo>
                <a:cubicBezTo>
                  <a:pt x="6437" y="2508"/>
                  <a:pt x="6550" y="2508"/>
                  <a:pt x="6664" y="2508"/>
                </a:cubicBezTo>
                <a:cubicBezTo>
                  <a:pt x="6664" y="2328"/>
                  <a:pt x="6664" y="2147"/>
                  <a:pt x="6664" y="1966"/>
                </a:cubicBezTo>
                <a:cubicBezTo>
                  <a:pt x="6550" y="1966"/>
                  <a:pt x="6437" y="1966"/>
                  <a:pt x="6323" y="1966"/>
                </a:cubicBezTo>
                <a:close/>
                <a:moveTo>
                  <a:pt x="1740" y="1966"/>
                </a:moveTo>
                <a:cubicBezTo>
                  <a:pt x="1740" y="2147"/>
                  <a:pt x="1740" y="2328"/>
                  <a:pt x="1740" y="2508"/>
                </a:cubicBezTo>
                <a:cubicBezTo>
                  <a:pt x="1853" y="2508"/>
                  <a:pt x="1967" y="2508"/>
                  <a:pt x="2081" y="2508"/>
                </a:cubicBezTo>
                <a:cubicBezTo>
                  <a:pt x="2081" y="2328"/>
                  <a:pt x="2081" y="2147"/>
                  <a:pt x="2081" y="1966"/>
                </a:cubicBezTo>
                <a:cubicBezTo>
                  <a:pt x="1967" y="1966"/>
                  <a:pt x="1853" y="1966"/>
                  <a:pt x="1740" y="1966"/>
                </a:cubicBezTo>
                <a:close/>
                <a:moveTo>
                  <a:pt x="7329" y="1373"/>
                </a:moveTo>
                <a:cubicBezTo>
                  <a:pt x="7454" y="1373"/>
                  <a:pt x="7579" y="1373"/>
                  <a:pt x="7704" y="1373"/>
                </a:cubicBezTo>
                <a:cubicBezTo>
                  <a:pt x="7704" y="1599"/>
                  <a:pt x="7727" y="1943"/>
                  <a:pt x="7772" y="2407"/>
                </a:cubicBezTo>
                <a:cubicBezTo>
                  <a:pt x="7772" y="2542"/>
                  <a:pt x="7795" y="2683"/>
                  <a:pt x="7840" y="2830"/>
                </a:cubicBezTo>
                <a:cubicBezTo>
                  <a:pt x="7840" y="2842"/>
                  <a:pt x="7846" y="2847"/>
                  <a:pt x="7858" y="2847"/>
                </a:cubicBezTo>
                <a:cubicBezTo>
                  <a:pt x="7539" y="2870"/>
                  <a:pt x="7380" y="2723"/>
                  <a:pt x="7380" y="2407"/>
                </a:cubicBezTo>
                <a:cubicBezTo>
                  <a:pt x="7346" y="2068"/>
                  <a:pt x="7329" y="1723"/>
                  <a:pt x="7329" y="1373"/>
                </a:cubicBezTo>
                <a:close/>
                <a:moveTo>
                  <a:pt x="2746" y="1373"/>
                </a:moveTo>
                <a:cubicBezTo>
                  <a:pt x="2871" y="1373"/>
                  <a:pt x="2996" y="1373"/>
                  <a:pt x="3121" y="1373"/>
                </a:cubicBezTo>
                <a:cubicBezTo>
                  <a:pt x="3121" y="1599"/>
                  <a:pt x="3144" y="1943"/>
                  <a:pt x="3189" y="2407"/>
                </a:cubicBezTo>
                <a:cubicBezTo>
                  <a:pt x="3189" y="2542"/>
                  <a:pt x="3212" y="2683"/>
                  <a:pt x="3257" y="2830"/>
                </a:cubicBezTo>
                <a:cubicBezTo>
                  <a:pt x="3257" y="2842"/>
                  <a:pt x="3263" y="2847"/>
                  <a:pt x="3274" y="2847"/>
                </a:cubicBezTo>
                <a:cubicBezTo>
                  <a:pt x="2956" y="2870"/>
                  <a:pt x="2797" y="2723"/>
                  <a:pt x="2797" y="2407"/>
                </a:cubicBezTo>
                <a:cubicBezTo>
                  <a:pt x="2763" y="2068"/>
                  <a:pt x="2746" y="1723"/>
                  <a:pt x="2746" y="1373"/>
                </a:cubicBezTo>
                <a:close/>
                <a:moveTo>
                  <a:pt x="5126" y="1338"/>
                </a:moveTo>
                <a:cubicBezTo>
                  <a:pt x="5355" y="1344"/>
                  <a:pt x="5464" y="1474"/>
                  <a:pt x="5453" y="1729"/>
                </a:cubicBezTo>
                <a:cubicBezTo>
                  <a:pt x="5453" y="2226"/>
                  <a:pt x="5453" y="2723"/>
                  <a:pt x="5453" y="3220"/>
                </a:cubicBezTo>
                <a:cubicBezTo>
                  <a:pt x="5442" y="3367"/>
                  <a:pt x="5459" y="3435"/>
                  <a:pt x="5505" y="3423"/>
                </a:cubicBezTo>
                <a:cubicBezTo>
                  <a:pt x="5561" y="3446"/>
                  <a:pt x="5647" y="3294"/>
                  <a:pt x="5760" y="2966"/>
                </a:cubicBezTo>
                <a:cubicBezTo>
                  <a:pt x="5760" y="3610"/>
                  <a:pt x="5573" y="3943"/>
                  <a:pt x="5198" y="3966"/>
                </a:cubicBezTo>
                <a:cubicBezTo>
                  <a:pt x="4959" y="3954"/>
                  <a:pt x="4840" y="3802"/>
                  <a:pt x="4840" y="3508"/>
                </a:cubicBezTo>
                <a:cubicBezTo>
                  <a:pt x="4840" y="2955"/>
                  <a:pt x="4840" y="2401"/>
                  <a:pt x="4840" y="1847"/>
                </a:cubicBezTo>
                <a:cubicBezTo>
                  <a:pt x="4840" y="1610"/>
                  <a:pt x="4788" y="1497"/>
                  <a:pt x="4686" y="1508"/>
                </a:cubicBezTo>
                <a:cubicBezTo>
                  <a:pt x="4652" y="1508"/>
                  <a:pt x="4618" y="1508"/>
                  <a:pt x="4584" y="1508"/>
                </a:cubicBezTo>
                <a:cubicBezTo>
                  <a:pt x="4584" y="1452"/>
                  <a:pt x="4584" y="1395"/>
                  <a:pt x="4584" y="1339"/>
                </a:cubicBezTo>
                <a:cubicBezTo>
                  <a:pt x="4749" y="1339"/>
                  <a:pt x="4913" y="1339"/>
                  <a:pt x="5078" y="1339"/>
                </a:cubicBezTo>
                <a:cubicBezTo>
                  <a:pt x="5095" y="1338"/>
                  <a:pt x="5110" y="1338"/>
                  <a:pt x="5126" y="1338"/>
                </a:cubicBezTo>
                <a:close/>
                <a:moveTo>
                  <a:pt x="542" y="1338"/>
                </a:moveTo>
                <a:cubicBezTo>
                  <a:pt x="771" y="1344"/>
                  <a:pt x="881" y="1474"/>
                  <a:pt x="870" y="1729"/>
                </a:cubicBezTo>
                <a:cubicBezTo>
                  <a:pt x="870" y="2226"/>
                  <a:pt x="870" y="2723"/>
                  <a:pt x="870" y="3220"/>
                </a:cubicBezTo>
                <a:cubicBezTo>
                  <a:pt x="859" y="3367"/>
                  <a:pt x="876" y="3435"/>
                  <a:pt x="921" y="3423"/>
                </a:cubicBezTo>
                <a:cubicBezTo>
                  <a:pt x="978" y="3446"/>
                  <a:pt x="1063" y="3294"/>
                  <a:pt x="1177" y="2966"/>
                </a:cubicBezTo>
                <a:cubicBezTo>
                  <a:pt x="1177" y="3610"/>
                  <a:pt x="989" y="3943"/>
                  <a:pt x="614" y="3966"/>
                </a:cubicBezTo>
                <a:cubicBezTo>
                  <a:pt x="376" y="3954"/>
                  <a:pt x="256" y="3802"/>
                  <a:pt x="256" y="3508"/>
                </a:cubicBezTo>
                <a:cubicBezTo>
                  <a:pt x="256" y="2955"/>
                  <a:pt x="256" y="2401"/>
                  <a:pt x="256" y="1847"/>
                </a:cubicBezTo>
                <a:cubicBezTo>
                  <a:pt x="256" y="1610"/>
                  <a:pt x="205" y="1497"/>
                  <a:pt x="103" y="1508"/>
                </a:cubicBezTo>
                <a:cubicBezTo>
                  <a:pt x="69" y="1508"/>
                  <a:pt x="35" y="1508"/>
                  <a:pt x="0" y="1508"/>
                </a:cubicBezTo>
                <a:cubicBezTo>
                  <a:pt x="0" y="1452"/>
                  <a:pt x="0" y="1395"/>
                  <a:pt x="0" y="1339"/>
                </a:cubicBezTo>
                <a:cubicBezTo>
                  <a:pt x="165" y="1339"/>
                  <a:pt x="330" y="1339"/>
                  <a:pt x="495" y="1339"/>
                </a:cubicBezTo>
                <a:cubicBezTo>
                  <a:pt x="511" y="1338"/>
                  <a:pt x="527" y="1338"/>
                  <a:pt x="542" y="1338"/>
                </a:cubicBezTo>
                <a:close/>
                <a:moveTo>
                  <a:pt x="6323" y="1305"/>
                </a:moveTo>
                <a:cubicBezTo>
                  <a:pt x="6323" y="1474"/>
                  <a:pt x="6323" y="1644"/>
                  <a:pt x="6323" y="1813"/>
                </a:cubicBezTo>
                <a:cubicBezTo>
                  <a:pt x="6437" y="1813"/>
                  <a:pt x="6550" y="1813"/>
                  <a:pt x="6664" y="1813"/>
                </a:cubicBezTo>
                <a:cubicBezTo>
                  <a:pt x="6664" y="1644"/>
                  <a:pt x="6664" y="1474"/>
                  <a:pt x="6664" y="1305"/>
                </a:cubicBezTo>
                <a:cubicBezTo>
                  <a:pt x="6550" y="1305"/>
                  <a:pt x="6437" y="1305"/>
                  <a:pt x="6323" y="1305"/>
                </a:cubicBezTo>
                <a:close/>
                <a:moveTo>
                  <a:pt x="1740" y="1305"/>
                </a:moveTo>
                <a:cubicBezTo>
                  <a:pt x="1740" y="1474"/>
                  <a:pt x="1740" y="1644"/>
                  <a:pt x="1740" y="1813"/>
                </a:cubicBezTo>
                <a:cubicBezTo>
                  <a:pt x="1853" y="1813"/>
                  <a:pt x="1967" y="1813"/>
                  <a:pt x="2081" y="1813"/>
                </a:cubicBezTo>
                <a:cubicBezTo>
                  <a:pt x="2081" y="1644"/>
                  <a:pt x="2081" y="1474"/>
                  <a:pt x="2081" y="1305"/>
                </a:cubicBezTo>
                <a:cubicBezTo>
                  <a:pt x="1967" y="1305"/>
                  <a:pt x="1853" y="1305"/>
                  <a:pt x="1740" y="1305"/>
                </a:cubicBezTo>
                <a:close/>
                <a:moveTo>
                  <a:pt x="15336" y="1220"/>
                </a:moveTo>
                <a:cubicBezTo>
                  <a:pt x="15200" y="1220"/>
                  <a:pt x="15114" y="1265"/>
                  <a:pt x="15080" y="1356"/>
                </a:cubicBezTo>
                <a:cubicBezTo>
                  <a:pt x="15080" y="1412"/>
                  <a:pt x="15080" y="1469"/>
                  <a:pt x="15080" y="1525"/>
                </a:cubicBezTo>
                <a:cubicBezTo>
                  <a:pt x="15114" y="1627"/>
                  <a:pt x="15183" y="1672"/>
                  <a:pt x="15285" y="1661"/>
                </a:cubicBezTo>
                <a:cubicBezTo>
                  <a:pt x="15609" y="1661"/>
                  <a:pt x="15933" y="1661"/>
                  <a:pt x="16257" y="1661"/>
                </a:cubicBezTo>
                <a:cubicBezTo>
                  <a:pt x="16393" y="1661"/>
                  <a:pt x="16461" y="1610"/>
                  <a:pt x="16461" y="1508"/>
                </a:cubicBezTo>
                <a:cubicBezTo>
                  <a:pt x="16461" y="1463"/>
                  <a:pt x="16461" y="1418"/>
                  <a:pt x="16461" y="1373"/>
                </a:cubicBezTo>
                <a:cubicBezTo>
                  <a:pt x="16461" y="1271"/>
                  <a:pt x="16382" y="1220"/>
                  <a:pt x="16223" y="1220"/>
                </a:cubicBezTo>
                <a:cubicBezTo>
                  <a:pt x="15927" y="1220"/>
                  <a:pt x="15632" y="1220"/>
                  <a:pt x="15336" y="1220"/>
                </a:cubicBezTo>
                <a:close/>
                <a:moveTo>
                  <a:pt x="16801" y="810"/>
                </a:moveTo>
                <a:cubicBezTo>
                  <a:pt x="16775" y="810"/>
                  <a:pt x="16747" y="811"/>
                  <a:pt x="16717" y="814"/>
                </a:cubicBezTo>
                <a:cubicBezTo>
                  <a:pt x="16120" y="814"/>
                  <a:pt x="15524" y="814"/>
                  <a:pt x="14927" y="814"/>
                </a:cubicBezTo>
                <a:cubicBezTo>
                  <a:pt x="14756" y="814"/>
                  <a:pt x="14637" y="893"/>
                  <a:pt x="14569" y="1051"/>
                </a:cubicBezTo>
                <a:cubicBezTo>
                  <a:pt x="14739" y="1051"/>
                  <a:pt x="14910" y="1051"/>
                  <a:pt x="15080" y="1051"/>
                </a:cubicBezTo>
                <a:cubicBezTo>
                  <a:pt x="15080" y="1124"/>
                  <a:pt x="15080" y="1198"/>
                  <a:pt x="15080" y="1271"/>
                </a:cubicBezTo>
                <a:cubicBezTo>
                  <a:pt x="15092" y="1113"/>
                  <a:pt x="15217" y="1040"/>
                  <a:pt x="15455" y="1051"/>
                </a:cubicBezTo>
                <a:cubicBezTo>
                  <a:pt x="15842" y="1051"/>
                  <a:pt x="16228" y="1051"/>
                  <a:pt x="16615" y="1051"/>
                </a:cubicBezTo>
                <a:cubicBezTo>
                  <a:pt x="16842" y="1051"/>
                  <a:pt x="16984" y="1096"/>
                  <a:pt x="17041" y="1186"/>
                </a:cubicBezTo>
                <a:cubicBezTo>
                  <a:pt x="17041" y="1164"/>
                  <a:pt x="17041" y="1141"/>
                  <a:pt x="17041" y="1119"/>
                </a:cubicBezTo>
                <a:cubicBezTo>
                  <a:pt x="17041" y="1102"/>
                  <a:pt x="17041" y="1085"/>
                  <a:pt x="17041" y="1068"/>
                </a:cubicBezTo>
                <a:cubicBezTo>
                  <a:pt x="17061" y="900"/>
                  <a:pt x="16981" y="814"/>
                  <a:pt x="16801" y="810"/>
                </a:cubicBezTo>
                <a:close/>
                <a:moveTo>
                  <a:pt x="6493" y="610"/>
                </a:moveTo>
                <a:cubicBezTo>
                  <a:pt x="6414" y="610"/>
                  <a:pt x="6357" y="661"/>
                  <a:pt x="6323" y="763"/>
                </a:cubicBezTo>
                <a:cubicBezTo>
                  <a:pt x="6323" y="893"/>
                  <a:pt x="6323" y="1023"/>
                  <a:pt x="6323" y="1152"/>
                </a:cubicBezTo>
                <a:cubicBezTo>
                  <a:pt x="6437" y="1152"/>
                  <a:pt x="6550" y="1152"/>
                  <a:pt x="6664" y="1152"/>
                </a:cubicBezTo>
                <a:cubicBezTo>
                  <a:pt x="6664" y="1068"/>
                  <a:pt x="6664" y="983"/>
                  <a:pt x="6664" y="898"/>
                </a:cubicBezTo>
                <a:cubicBezTo>
                  <a:pt x="6664" y="706"/>
                  <a:pt x="6607" y="610"/>
                  <a:pt x="6493" y="610"/>
                </a:cubicBezTo>
                <a:close/>
                <a:moveTo>
                  <a:pt x="1910" y="610"/>
                </a:moveTo>
                <a:cubicBezTo>
                  <a:pt x="1831" y="610"/>
                  <a:pt x="1774" y="661"/>
                  <a:pt x="1740" y="763"/>
                </a:cubicBezTo>
                <a:cubicBezTo>
                  <a:pt x="1740" y="893"/>
                  <a:pt x="1740" y="1023"/>
                  <a:pt x="1740" y="1152"/>
                </a:cubicBezTo>
                <a:cubicBezTo>
                  <a:pt x="1853" y="1152"/>
                  <a:pt x="1967" y="1152"/>
                  <a:pt x="2081" y="1152"/>
                </a:cubicBezTo>
                <a:cubicBezTo>
                  <a:pt x="2081" y="1068"/>
                  <a:pt x="2081" y="983"/>
                  <a:pt x="2081" y="898"/>
                </a:cubicBezTo>
                <a:cubicBezTo>
                  <a:pt x="2081" y="706"/>
                  <a:pt x="2024" y="610"/>
                  <a:pt x="1910" y="610"/>
                </a:cubicBezTo>
                <a:close/>
                <a:moveTo>
                  <a:pt x="10307" y="186"/>
                </a:moveTo>
                <a:cubicBezTo>
                  <a:pt x="10626" y="191"/>
                  <a:pt x="10774" y="309"/>
                  <a:pt x="10753" y="542"/>
                </a:cubicBezTo>
                <a:cubicBezTo>
                  <a:pt x="10741" y="734"/>
                  <a:pt x="10605" y="1328"/>
                  <a:pt x="10344" y="2322"/>
                </a:cubicBezTo>
                <a:cubicBezTo>
                  <a:pt x="10366" y="2424"/>
                  <a:pt x="10395" y="2520"/>
                  <a:pt x="10429" y="2610"/>
                </a:cubicBezTo>
                <a:cubicBezTo>
                  <a:pt x="10463" y="2689"/>
                  <a:pt x="10525" y="2881"/>
                  <a:pt x="10616" y="3186"/>
                </a:cubicBezTo>
                <a:cubicBezTo>
                  <a:pt x="10685" y="3401"/>
                  <a:pt x="10781" y="3565"/>
                  <a:pt x="10906" y="3678"/>
                </a:cubicBezTo>
                <a:cubicBezTo>
                  <a:pt x="10918" y="3644"/>
                  <a:pt x="10935" y="3616"/>
                  <a:pt x="10957" y="3593"/>
                </a:cubicBezTo>
                <a:cubicBezTo>
                  <a:pt x="11060" y="3491"/>
                  <a:pt x="11134" y="3390"/>
                  <a:pt x="11179" y="3288"/>
                </a:cubicBezTo>
                <a:cubicBezTo>
                  <a:pt x="11509" y="2768"/>
                  <a:pt x="11679" y="2401"/>
                  <a:pt x="11691" y="2186"/>
                </a:cubicBezTo>
                <a:cubicBezTo>
                  <a:pt x="11691" y="1712"/>
                  <a:pt x="11691" y="1237"/>
                  <a:pt x="11691" y="763"/>
                </a:cubicBezTo>
                <a:cubicBezTo>
                  <a:pt x="11878" y="763"/>
                  <a:pt x="12066" y="763"/>
                  <a:pt x="12253" y="763"/>
                </a:cubicBezTo>
                <a:cubicBezTo>
                  <a:pt x="12253" y="1237"/>
                  <a:pt x="12253" y="1712"/>
                  <a:pt x="12253" y="2186"/>
                </a:cubicBezTo>
                <a:cubicBezTo>
                  <a:pt x="12242" y="2265"/>
                  <a:pt x="12231" y="2339"/>
                  <a:pt x="12219" y="2407"/>
                </a:cubicBezTo>
                <a:cubicBezTo>
                  <a:pt x="12270" y="2407"/>
                  <a:pt x="12321" y="2407"/>
                  <a:pt x="12373" y="2407"/>
                </a:cubicBezTo>
                <a:cubicBezTo>
                  <a:pt x="12373" y="2740"/>
                  <a:pt x="12373" y="3073"/>
                  <a:pt x="12373" y="3407"/>
                </a:cubicBezTo>
                <a:cubicBezTo>
                  <a:pt x="12361" y="3610"/>
                  <a:pt x="12429" y="3712"/>
                  <a:pt x="12577" y="3712"/>
                </a:cubicBezTo>
                <a:cubicBezTo>
                  <a:pt x="12645" y="3712"/>
                  <a:pt x="12714" y="3712"/>
                  <a:pt x="12782" y="3712"/>
                </a:cubicBezTo>
                <a:cubicBezTo>
                  <a:pt x="13009" y="3689"/>
                  <a:pt x="13168" y="3480"/>
                  <a:pt x="13259" y="3085"/>
                </a:cubicBezTo>
                <a:cubicBezTo>
                  <a:pt x="13305" y="3740"/>
                  <a:pt x="13100" y="4045"/>
                  <a:pt x="12645" y="4000"/>
                </a:cubicBezTo>
                <a:cubicBezTo>
                  <a:pt x="12537" y="4000"/>
                  <a:pt x="12429" y="4000"/>
                  <a:pt x="12321" y="4000"/>
                </a:cubicBezTo>
                <a:cubicBezTo>
                  <a:pt x="11969" y="3988"/>
                  <a:pt x="11793" y="3830"/>
                  <a:pt x="11793" y="3525"/>
                </a:cubicBezTo>
                <a:cubicBezTo>
                  <a:pt x="11793" y="3469"/>
                  <a:pt x="11793" y="3412"/>
                  <a:pt x="11793" y="3356"/>
                </a:cubicBezTo>
                <a:cubicBezTo>
                  <a:pt x="11736" y="3457"/>
                  <a:pt x="11679" y="3536"/>
                  <a:pt x="11622" y="3593"/>
                </a:cubicBezTo>
                <a:cubicBezTo>
                  <a:pt x="11588" y="3638"/>
                  <a:pt x="11560" y="3689"/>
                  <a:pt x="11537" y="3745"/>
                </a:cubicBezTo>
                <a:cubicBezTo>
                  <a:pt x="11378" y="4017"/>
                  <a:pt x="11020" y="4118"/>
                  <a:pt x="10463" y="4051"/>
                </a:cubicBezTo>
                <a:cubicBezTo>
                  <a:pt x="10599" y="3971"/>
                  <a:pt x="10719" y="3875"/>
                  <a:pt x="10821" y="3762"/>
                </a:cubicBezTo>
                <a:cubicBezTo>
                  <a:pt x="10400" y="3830"/>
                  <a:pt x="10145" y="3661"/>
                  <a:pt x="10054" y="3254"/>
                </a:cubicBezTo>
                <a:cubicBezTo>
                  <a:pt x="9974" y="3457"/>
                  <a:pt x="9917" y="3587"/>
                  <a:pt x="9883" y="3644"/>
                </a:cubicBezTo>
                <a:cubicBezTo>
                  <a:pt x="9747" y="3926"/>
                  <a:pt x="9497" y="4034"/>
                  <a:pt x="9133" y="3966"/>
                </a:cubicBezTo>
                <a:cubicBezTo>
                  <a:pt x="9201" y="3842"/>
                  <a:pt x="9281" y="3678"/>
                  <a:pt x="9372" y="3474"/>
                </a:cubicBezTo>
                <a:cubicBezTo>
                  <a:pt x="9508" y="3147"/>
                  <a:pt x="9639" y="2774"/>
                  <a:pt x="9764" y="2356"/>
                </a:cubicBezTo>
                <a:cubicBezTo>
                  <a:pt x="9696" y="2152"/>
                  <a:pt x="9593" y="1819"/>
                  <a:pt x="9457" y="1356"/>
                </a:cubicBezTo>
                <a:cubicBezTo>
                  <a:pt x="9366" y="1062"/>
                  <a:pt x="9303" y="836"/>
                  <a:pt x="9269" y="678"/>
                </a:cubicBezTo>
                <a:cubicBezTo>
                  <a:pt x="9474" y="678"/>
                  <a:pt x="9679" y="678"/>
                  <a:pt x="9883" y="678"/>
                </a:cubicBezTo>
                <a:cubicBezTo>
                  <a:pt x="9929" y="915"/>
                  <a:pt x="9980" y="1136"/>
                  <a:pt x="10037" y="1339"/>
                </a:cubicBezTo>
                <a:cubicBezTo>
                  <a:pt x="10116" y="966"/>
                  <a:pt x="10162" y="701"/>
                  <a:pt x="10173" y="542"/>
                </a:cubicBezTo>
                <a:cubicBezTo>
                  <a:pt x="10184" y="407"/>
                  <a:pt x="10133" y="345"/>
                  <a:pt x="10020" y="356"/>
                </a:cubicBezTo>
                <a:cubicBezTo>
                  <a:pt x="9730" y="356"/>
                  <a:pt x="9440" y="356"/>
                  <a:pt x="9150" y="356"/>
                </a:cubicBezTo>
                <a:cubicBezTo>
                  <a:pt x="9150" y="299"/>
                  <a:pt x="9150" y="243"/>
                  <a:pt x="9150" y="186"/>
                </a:cubicBezTo>
                <a:cubicBezTo>
                  <a:pt x="9514" y="186"/>
                  <a:pt x="9878" y="186"/>
                  <a:pt x="10241" y="186"/>
                </a:cubicBezTo>
                <a:cubicBezTo>
                  <a:pt x="10264" y="186"/>
                  <a:pt x="10286" y="186"/>
                  <a:pt x="10307" y="186"/>
                </a:cubicBezTo>
                <a:close/>
                <a:moveTo>
                  <a:pt x="10889" y="119"/>
                </a:moveTo>
                <a:cubicBezTo>
                  <a:pt x="11082" y="119"/>
                  <a:pt x="11276" y="119"/>
                  <a:pt x="11469" y="119"/>
                </a:cubicBezTo>
                <a:cubicBezTo>
                  <a:pt x="11469" y="232"/>
                  <a:pt x="11469" y="345"/>
                  <a:pt x="11469" y="458"/>
                </a:cubicBezTo>
                <a:cubicBezTo>
                  <a:pt x="11492" y="254"/>
                  <a:pt x="11628" y="153"/>
                  <a:pt x="11878" y="153"/>
                </a:cubicBezTo>
                <a:cubicBezTo>
                  <a:pt x="12083" y="153"/>
                  <a:pt x="12287" y="153"/>
                  <a:pt x="12492" y="153"/>
                </a:cubicBezTo>
                <a:cubicBezTo>
                  <a:pt x="12890" y="153"/>
                  <a:pt x="13083" y="311"/>
                  <a:pt x="13072" y="627"/>
                </a:cubicBezTo>
                <a:cubicBezTo>
                  <a:pt x="13072" y="1339"/>
                  <a:pt x="13072" y="2051"/>
                  <a:pt x="13072" y="2763"/>
                </a:cubicBezTo>
                <a:cubicBezTo>
                  <a:pt x="12878" y="2763"/>
                  <a:pt x="12685" y="2763"/>
                  <a:pt x="12492" y="2763"/>
                </a:cubicBezTo>
                <a:cubicBezTo>
                  <a:pt x="12492" y="2062"/>
                  <a:pt x="12492" y="1362"/>
                  <a:pt x="12492" y="661"/>
                </a:cubicBezTo>
                <a:cubicBezTo>
                  <a:pt x="12515" y="412"/>
                  <a:pt x="12373" y="299"/>
                  <a:pt x="12066" y="322"/>
                </a:cubicBezTo>
                <a:cubicBezTo>
                  <a:pt x="11986" y="322"/>
                  <a:pt x="11907" y="322"/>
                  <a:pt x="11827" y="322"/>
                </a:cubicBezTo>
                <a:cubicBezTo>
                  <a:pt x="11600" y="311"/>
                  <a:pt x="11480" y="396"/>
                  <a:pt x="11469" y="576"/>
                </a:cubicBezTo>
                <a:cubicBezTo>
                  <a:pt x="11469" y="1311"/>
                  <a:pt x="11469" y="2045"/>
                  <a:pt x="11469" y="2779"/>
                </a:cubicBezTo>
                <a:cubicBezTo>
                  <a:pt x="11276" y="2779"/>
                  <a:pt x="11082" y="2779"/>
                  <a:pt x="10889" y="2779"/>
                </a:cubicBezTo>
                <a:cubicBezTo>
                  <a:pt x="10889" y="1893"/>
                  <a:pt x="10889" y="1006"/>
                  <a:pt x="10889" y="119"/>
                </a:cubicBezTo>
                <a:close/>
                <a:moveTo>
                  <a:pt x="4822" y="51"/>
                </a:moveTo>
                <a:cubicBezTo>
                  <a:pt x="5033" y="51"/>
                  <a:pt x="5243" y="51"/>
                  <a:pt x="5453" y="51"/>
                </a:cubicBezTo>
                <a:cubicBezTo>
                  <a:pt x="5453" y="525"/>
                  <a:pt x="5533" y="819"/>
                  <a:pt x="5692" y="932"/>
                </a:cubicBezTo>
                <a:cubicBezTo>
                  <a:pt x="5146" y="1023"/>
                  <a:pt x="4868" y="898"/>
                  <a:pt x="4857" y="559"/>
                </a:cubicBezTo>
                <a:cubicBezTo>
                  <a:pt x="4834" y="424"/>
                  <a:pt x="4822" y="254"/>
                  <a:pt x="4822" y="51"/>
                </a:cubicBezTo>
                <a:close/>
                <a:moveTo>
                  <a:pt x="239" y="51"/>
                </a:moveTo>
                <a:cubicBezTo>
                  <a:pt x="449" y="51"/>
                  <a:pt x="660" y="51"/>
                  <a:pt x="870" y="51"/>
                </a:cubicBezTo>
                <a:cubicBezTo>
                  <a:pt x="870" y="525"/>
                  <a:pt x="950" y="819"/>
                  <a:pt x="1109" y="932"/>
                </a:cubicBezTo>
                <a:cubicBezTo>
                  <a:pt x="563" y="1023"/>
                  <a:pt x="285" y="898"/>
                  <a:pt x="273" y="559"/>
                </a:cubicBezTo>
                <a:cubicBezTo>
                  <a:pt x="251" y="424"/>
                  <a:pt x="239" y="254"/>
                  <a:pt x="239" y="51"/>
                </a:cubicBezTo>
                <a:close/>
                <a:moveTo>
                  <a:pt x="16820" y="34"/>
                </a:moveTo>
                <a:cubicBezTo>
                  <a:pt x="17053" y="34"/>
                  <a:pt x="17286" y="34"/>
                  <a:pt x="17519" y="34"/>
                </a:cubicBezTo>
                <a:cubicBezTo>
                  <a:pt x="17359" y="305"/>
                  <a:pt x="17223" y="458"/>
                  <a:pt x="17109" y="492"/>
                </a:cubicBezTo>
                <a:cubicBezTo>
                  <a:pt x="16996" y="548"/>
                  <a:pt x="16751" y="554"/>
                  <a:pt x="16376" y="508"/>
                </a:cubicBezTo>
                <a:cubicBezTo>
                  <a:pt x="16524" y="441"/>
                  <a:pt x="16672" y="283"/>
                  <a:pt x="16820" y="34"/>
                </a:cubicBezTo>
                <a:close/>
                <a:moveTo>
                  <a:pt x="14108" y="34"/>
                </a:moveTo>
                <a:cubicBezTo>
                  <a:pt x="14341" y="34"/>
                  <a:pt x="14574" y="34"/>
                  <a:pt x="14808" y="34"/>
                </a:cubicBezTo>
                <a:cubicBezTo>
                  <a:pt x="14944" y="283"/>
                  <a:pt x="15092" y="441"/>
                  <a:pt x="15251" y="508"/>
                </a:cubicBezTo>
                <a:cubicBezTo>
                  <a:pt x="14864" y="554"/>
                  <a:pt x="14614" y="548"/>
                  <a:pt x="14501" y="492"/>
                </a:cubicBezTo>
                <a:cubicBezTo>
                  <a:pt x="14387" y="458"/>
                  <a:pt x="14256" y="305"/>
                  <a:pt x="14108" y="34"/>
                </a:cubicBezTo>
                <a:close/>
                <a:moveTo>
                  <a:pt x="15472" y="0"/>
                </a:moveTo>
                <a:cubicBezTo>
                  <a:pt x="15711" y="0"/>
                  <a:pt x="15950" y="0"/>
                  <a:pt x="16189" y="0"/>
                </a:cubicBezTo>
                <a:cubicBezTo>
                  <a:pt x="16189" y="215"/>
                  <a:pt x="16189" y="429"/>
                  <a:pt x="16189" y="644"/>
                </a:cubicBezTo>
                <a:cubicBezTo>
                  <a:pt x="16479" y="644"/>
                  <a:pt x="16768" y="644"/>
                  <a:pt x="17058" y="644"/>
                </a:cubicBezTo>
                <a:cubicBezTo>
                  <a:pt x="17502" y="621"/>
                  <a:pt x="17712" y="763"/>
                  <a:pt x="17689" y="1068"/>
                </a:cubicBezTo>
                <a:cubicBezTo>
                  <a:pt x="17689" y="1073"/>
                  <a:pt x="17689" y="1079"/>
                  <a:pt x="17689" y="1085"/>
                </a:cubicBezTo>
                <a:cubicBezTo>
                  <a:pt x="17689" y="1209"/>
                  <a:pt x="17655" y="1316"/>
                  <a:pt x="17587" y="1407"/>
                </a:cubicBezTo>
                <a:cubicBezTo>
                  <a:pt x="17416" y="1407"/>
                  <a:pt x="17246" y="1407"/>
                  <a:pt x="17075" y="1407"/>
                </a:cubicBezTo>
                <a:cubicBezTo>
                  <a:pt x="17075" y="1441"/>
                  <a:pt x="17075" y="1474"/>
                  <a:pt x="17075" y="1508"/>
                </a:cubicBezTo>
                <a:cubicBezTo>
                  <a:pt x="17098" y="1746"/>
                  <a:pt x="16956" y="1853"/>
                  <a:pt x="16649" y="1830"/>
                </a:cubicBezTo>
                <a:cubicBezTo>
                  <a:pt x="16251" y="1830"/>
                  <a:pt x="15853" y="1830"/>
                  <a:pt x="15455" y="1830"/>
                </a:cubicBezTo>
                <a:cubicBezTo>
                  <a:pt x="15217" y="1842"/>
                  <a:pt x="15092" y="1780"/>
                  <a:pt x="15080" y="1644"/>
                </a:cubicBezTo>
                <a:cubicBezTo>
                  <a:pt x="15080" y="1717"/>
                  <a:pt x="15080" y="1791"/>
                  <a:pt x="15080" y="1864"/>
                </a:cubicBezTo>
                <a:cubicBezTo>
                  <a:pt x="14876" y="1864"/>
                  <a:pt x="14671" y="1864"/>
                  <a:pt x="14466" y="1864"/>
                </a:cubicBezTo>
                <a:cubicBezTo>
                  <a:pt x="14466" y="1700"/>
                  <a:pt x="14466" y="1537"/>
                  <a:pt x="14466" y="1373"/>
                </a:cubicBezTo>
                <a:cubicBezTo>
                  <a:pt x="14273" y="1373"/>
                  <a:pt x="14080" y="1373"/>
                  <a:pt x="13887" y="1373"/>
                </a:cubicBezTo>
                <a:cubicBezTo>
                  <a:pt x="13887" y="1130"/>
                  <a:pt x="13887" y="887"/>
                  <a:pt x="13887" y="644"/>
                </a:cubicBezTo>
                <a:cubicBezTo>
                  <a:pt x="14108" y="644"/>
                  <a:pt x="14330" y="644"/>
                  <a:pt x="14552" y="644"/>
                </a:cubicBezTo>
                <a:cubicBezTo>
                  <a:pt x="14552" y="757"/>
                  <a:pt x="14552" y="870"/>
                  <a:pt x="14552" y="983"/>
                </a:cubicBezTo>
                <a:cubicBezTo>
                  <a:pt x="14574" y="757"/>
                  <a:pt x="14756" y="644"/>
                  <a:pt x="15097" y="644"/>
                </a:cubicBezTo>
                <a:cubicBezTo>
                  <a:pt x="15222" y="644"/>
                  <a:pt x="15347" y="644"/>
                  <a:pt x="15472" y="644"/>
                </a:cubicBezTo>
                <a:cubicBezTo>
                  <a:pt x="15472" y="429"/>
                  <a:pt x="15472" y="215"/>
                  <a:pt x="15472" y="0"/>
                </a:cubicBezTo>
                <a:close/>
                <a:moveTo>
                  <a:pt x="6272" y="0"/>
                </a:moveTo>
                <a:cubicBezTo>
                  <a:pt x="6493" y="0"/>
                  <a:pt x="6715" y="0"/>
                  <a:pt x="6937" y="0"/>
                </a:cubicBezTo>
                <a:cubicBezTo>
                  <a:pt x="6880" y="158"/>
                  <a:pt x="6829" y="299"/>
                  <a:pt x="6783" y="424"/>
                </a:cubicBezTo>
                <a:cubicBezTo>
                  <a:pt x="7124" y="412"/>
                  <a:pt x="7278" y="565"/>
                  <a:pt x="7244" y="881"/>
                </a:cubicBezTo>
                <a:cubicBezTo>
                  <a:pt x="7244" y="1763"/>
                  <a:pt x="7244" y="2644"/>
                  <a:pt x="7244" y="3525"/>
                </a:cubicBezTo>
                <a:cubicBezTo>
                  <a:pt x="7244" y="3548"/>
                  <a:pt x="7244" y="3576"/>
                  <a:pt x="7244" y="3610"/>
                </a:cubicBezTo>
                <a:cubicBezTo>
                  <a:pt x="7357" y="3655"/>
                  <a:pt x="7488" y="3678"/>
                  <a:pt x="7636" y="3678"/>
                </a:cubicBezTo>
                <a:cubicBezTo>
                  <a:pt x="7829" y="3712"/>
                  <a:pt x="7920" y="3570"/>
                  <a:pt x="7909" y="3254"/>
                </a:cubicBezTo>
                <a:cubicBezTo>
                  <a:pt x="7909" y="2525"/>
                  <a:pt x="7909" y="1796"/>
                  <a:pt x="7909" y="1068"/>
                </a:cubicBezTo>
                <a:cubicBezTo>
                  <a:pt x="7704" y="1068"/>
                  <a:pt x="7499" y="1068"/>
                  <a:pt x="7295" y="1068"/>
                </a:cubicBezTo>
                <a:cubicBezTo>
                  <a:pt x="7295" y="1017"/>
                  <a:pt x="7295" y="966"/>
                  <a:pt x="7295" y="915"/>
                </a:cubicBezTo>
                <a:cubicBezTo>
                  <a:pt x="7499" y="915"/>
                  <a:pt x="7704" y="915"/>
                  <a:pt x="7909" y="915"/>
                </a:cubicBezTo>
                <a:cubicBezTo>
                  <a:pt x="7909" y="610"/>
                  <a:pt x="7909" y="305"/>
                  <a:pt x="7909" y="0"/>
                </a:cubicBezTo>
                <a:cubicBezTo>
                  <a:pt x="8096" y="0"/>
                  <a:pt x="8284" y="0"/>
                  <a:pt x="8471" y="0"/>
                </a:cubicBezTo>
                <a:cubicBezTo>
                  <a:pt x="8471" y="305"/>
                  <a:pt x="8471" y="610"/>
                  <a:pt x="8471" y="915"/>
                </a:cubicBezTo>
                <a:cubicBezTo>
                  <a:pt x="8545" y="915"/>
                  <a:pt x="8619" y="915"/>
                  <a:pt x="8693" y="915"/>
                </a:cubicBezTo>
                <a:cubicBezTo>
                  <a:pt x="8693" y="966"/>
                  <a:pt x="8693" y="1017"/>
                  <a:pt x="8693" y="1068"/>
                </a:cubicBezTo>
                <a:cubicBezTo>
                  <a:pt x="8619" y="1068"/>
                  <a:pt x="8545" y="1068"/>
                  <a:pt x="8471" y="1068"/>
                </a:cubicBezTo>
                <a:cubicBezTo>
                  <a:pt x="8471" y="1876"/>
                  <a:pt x="8471" y="2683"/>
                  <a:pt x="8471" y="3491"/>
                </a:cubicBezTo>
                <a:cubicBezTo>
                  <a:pt x="8483" y="3864"/>
                  <a:pt x="8335" y="4045"/>
                  <a:pt x="8028" y="4034"/>
                </a:cubicBezTo>
                <a:cubicBezTo>
                  <a:pt x="7687" y="4011"/>
                  <a:pt x="7426" y="3875"/>
                  <a:pt x="7244" y="3627"/>
                </a:cubicBezTo>
                <a:cubicBezTo>
                  <a:pt x="7221" y="3909"/>
                  <a:pt x="7085" y="4045"/>
                  <a:pt x="6834" y="4034"/>
                </a:cubicBezTo>
                <a:cubicBezTo>
                  <a:pt x="6539" y="4022"/>
                  <a:pt x="6346" y="3915"/>
                  <a:pt x="6255" y="3712"/>
                </a:cubicBezTo>
                <a:cubicBezTo>
                  <a:pt x="6175" y="3881"/>
                  <a:pt x="5936" y="3943"/>
                  <a:pt x="5539" y="3898"/>
                </a:cubicBezTo>
                <a:cubicBezTo>
                  <a:pt x="5675" y="3785"/>
                  <a:pt x="5772" y="3672"/>
                  <a:pt x="5828" y="3559"/>
                </a:cubicBezTo>
                <a:cubicBezTo>
                  <a:pt x="5942" y="3322"/>
                  <a:pt x="6062" y="3017"/>
                  <a:pt x="6187" y="2644"/>
                </a:cubicBezTo>
                <a:cubicBezTo>
                  <a:pt x="5982" y="2644"/>
                  <a:pt x="5777" y="2644"/>
                  <a:pt x="5573" y="2644"/>
                </a:cubicBezTo>
                <a:cubicBezTo>
                  <a:pt x="5573" y="2599"/>
                  <a:pt x="5573" y="2553"/>
                  <a:pt x="5573" y="2508"/>
                </a:cubicBezTo>
                <a:cubicBezTo>
                  <a:pt x="5635" y="2508"/>
                  <a:pt x="5698" y="2508"/>
                  <a:pt x="5760" y="2508"/>
                </a:cubicBezTo>
                <a:cubicBezTo>
                  <a:pt x="5760" y="1813"/>
                  <a:pt x="5760" y="1119"/>
                  <a:pt x="5760" y="424"/>
                </a:cubicBezTo>
                <a:cubicBezTo>
                  <a:pt x="5874" y="424"/>
                  <a:pt x="5988" y="424"/>
                  <a:pt x="6101" y="424"/>
                </a:cubicBezTo>
                <a:cubicBezTo>
                  <a:pt x="6135" y="379"/>
                  <a:pt x="6187" y="254"/>
                  <a:pt x="6255" y="51"/>
                </a:cubicBezTo>
                <a:cubicBezTo>
                  <a:pt x="6255" y="62"/>
                  <a:pt x="6260" y="45"/>
                  <a:pt x="6272" y="0"/>
                </a:cubicBezTo>
                <a:close/>
                <a:moveTo>
                  <a:pt x="1689" y="0"/>
                </a:moveTo>
                <a:cubicBezTo>
                  <a:pt x="1910" y="0"/>
                  <a:pt x="2132" y="0"/>
                  <a:pt x="2354" y="0"/>
                </a:cubicBezTo>
                <a:cubicBezTo>
                  <a:pt x="2297" y="158"/>
                  <a:pt x="2246" y="299"/>
                  <a:pt x="2200" y="424"/>
                </a:cubicBezTo>
                <a:cubicBezTo>
                  <a:pt x="2541" y="412"/>
                  <a:pt x="2695" y="565"/>
                  <a:pt x="2660" y="881"/>
                </a:cubicBezTo>
                <a:cubicBezTo>
                  <a:pt x="2660" y="1763"/>
                  <a:pt x="2660" y="2644"/>
                  <a:pt x="2660" y="3525"/>
                </a:cubicBezTo>
                <a:cubicBezTo>
                  <a:pt x="2660" y="3548"/>
                  <a:pt x="2660" y="3576"/>
                  <a:pt x="2660" y="3610"/>
                </a:cubicBezTo>
                <a:cubicBezTo>
                  <a:pt x="2774" y="3655"/>
                  <a:pt x="2905" y="3678"/>
                  <a:pt x="3053" y="3678"/>
                </a:cubicBezTo>
                <a:cubicBezTo>
                  <a:pt x="3246" y="3712"/>
                  <a:pt x="3337" y="3570"/>
                  <a:pt x="3325" y="3254"/>
                </a:cubicBezTo>
                <a:cubicBezTo>
                  <a:pt x="3325" y="2525"/>
                  <a:pt x="3325" y="1796"/>
                  <a:pt x="3325" y="1068"/>
                </a:cubicBezTo>
                <a:cubicBezTo>
                  <a:pt x="3121" y="1068"/>
                  <a:pt x="2916" y="1068"/>
                  <a:pt x="2712" y="1068"/>
                </a:cubicBezTo>
                <a:cubicBezTo>
                  <a:pt x="2712" y="1017"/>
                  <a:pt x="2712" y="966"/>
                  <a:pt x="2712" y="915"/>
                </a:cubicBezTo>
                <a:cubicBezTo>
                  <a:pt x="2916" y="915"/>
                  <a:pt x="3121" y="915"/>
                  <a:pt x="3325" y="915"/>
                </a:cubicBezTo>
                <a:cubicBezTo>
                  <a:pt x="3325" y="610"/>
                  <a:pt x="3325" y="305"/>
                  <a:pt x="3325" y="0"/>
                </a:cubicBezTo>
                <a:cubicBezTo>
                  <a:pt x="3513" y="0"/>
                  <a:pt x="3701" y="0"/>
                  <a:pt x="3888" y="0"/>
                </a:cubicBezTo>
                <a:cubicBezTo>
                  <a:pt x="3888" y="305"/>
                  <a:pt x="3888" y="610"/>
                  <a:pt x="3888" y="915"/>
                </a:cubicBezTo>
                <a:cubicBezTo>
                  <a:pt x="3962" y="915"/>
                  <a:pt x="4036" y="915"/>
                  <a:pt x="4110" y="915"/>
                </a:cubicBezTo>
                <a:cubicBezTo>
                  <a:pt x="4110" y="966"/>
                  <a:pt x="4110" y="1017"/>
                  <a:pt x="4110" y="1068"/>
                </a:cubicBezTo>
                <a:cubicBezTo>
                  <a:pt x="4036" y="1068"/>
                  <a:pt x="3962" y="1068"/>
                  <a:pt x="3888" y="1068"/>
                </a:cubicBezTo>
                <a:cubicBezTo>
                  <a:pt x="3888" y="1876"/>
                  <a:pt x="3888" y="2683"/>
                  <a:pt x="3888" y="3491"/>
                </a:cubicBezTo>
                <a:cubicBezTo>
                  <a:pt x="3899" y="3864"/>
                  <a:pt x="3752" y="4045"/>
                  <a:pt x="3445" y="4034"/>
                </a:cubicBezTo>
                <a:cubicBezTo>
                  <a:pt x="3104" y="4011"/>
                  <a:pt x="2842" y="3875"/>
                  <a:pt x="2660" y="3627"/>
                </a:cubicBezTo>
                <a:cubicBezTo>
                  <a:pt x="2638" y="3909"/>
                  <a:pt x="2501" y="4045"/>
                  <a:pt x="2251" y="4034"/>
                </a:cubicBezTo>
                <a:cubicBezTo>
                  <a:pt x="1956" y="4022"/>
                  <a:pt x="1762" y="3915"/>
                  <a:pt x="1671" y="3712"/>
                </a:cubicBezTo>
                <a:cubicBezTo>
                  <a:pt x="1592" y="3881"/>
                  <a:pt x="1353" y="3943"/>
                  <a:pt x="955" y="3898"/>
                </a:cubicBezTo>
                <a:cubicBezTo>
                  <a:pt x="1092" y="3785"/>
                  <a:pt x="1188" y="3672"/>
                  <a:pt x="1245" y="3559"/>
                </a:cubicBezTo>
                <a:cubicBezTo>
                  <a:pt x="1359" y="3322"/>
                  <a:pt x="1478" y="3017"/>
                  <a:pt x="1603" y="2644"/>
                </a:cubicBezTo>
                <a:cubicBezTo>
                  <a:pt x="1399" y="2644"/>
                  <a:pt x="1194" y="2644"/>
                  <a:pt x="989" y="2644"/>
                </a:cubicBezTo>
                <a:cubicBezTo>
                  <a:pt x="989" y="2599"/>
                  <a:pt x="989" y="2553"/>
                  <a:pt x="989" y="2508"/>
                </a:cubicBezTo>
                <a:cubicBezTo>
                  <a:pt x="1052" y="2508"/>
                  <a:pt x="1114" y="2508"/>
                  <a:pt x="1177" y="2508"/>
                </a:cubicBezTo>
                <a:cubicBezTo>
                  <a:pt x="1177" y="1813"/>
                  <a:pt x="1177" y="1119"/>
                  <a:pt x="1177" y="424"/>
                </a:cubicBezTo>
                <a:cubicBezTo>
                  <a:pt x="1291" y="424"/>
                  <a:pt x="1404" y="424"/>
                  <a:pt x="1518" y="424"/>
                </a:cubicBezTo>
                <a:cubicBezTo>
                  <a:pt x="1552" y="379"/>
                  <a:pt x="1603" y="254"/>
                  <a:pt x="1671" y="51"/>
                </a:cubicBezTo>
                <a:cubicBezTo>
                  <a:pt x="1671" y="62"/>
                  <a:pt x="1677" y="45"/>
                  <a:pt x="168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18"/>
          <p:cNvSpPr/>
          <p:nvPr/>
        </p:nvSpPr>
        <p:spPr>
          <a:xfrm>
            <a:off x="2836800" y="3726000"/>
            <a:ext cx="465120" cy="3474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KSO_Shape"/>
          <p:cNvSpPr/>
          <p:nvPr/>
        </p:nvSpPr>
        <p:spPr>
          <a:xfrm>
            <a:off x="2946240" y="3851280"/>
            <a:ext cx="244800" cy="123840"/>
          </a:xfrm>
          <a:custGeom>
            <a:avLst/>
            <a:gdLst/>
            <a:ahLst/>
            <a:rect l="l" t="t" r="r" b="b"/>
            <a:pathLst>
              <a:path w="4974795" h="3320682">
                <a:moveTo>
                  <a:pt x="1897867" y="1805825"/>
                </a:moveTo>
                <a:lnTo>
                  <a:pt x="2485737" y="2315734"/>
                </a:lnTo>
                <a:lnTo>
                  <a:pt x="3073607" y="1805825"/>
                </a:lnTo>
                <a:lnTo>
                  <a:pt x="4820061" y="3320682"/>
                </a:lnTo>
                <a:lnTo>
                  <a:pt x="151413" y="3320682"/>
                </a:lnTo>
                <a:lnTo>
                  <a:pt x="1897867" y="1805825"/>
                </a:lnTo>
                <a:close/>
                <a:moveTo>
                  <a:pt x="0" y="159634"/>
                </a:moveTo>
                <a:lnTo>
                  <a:pt x="1788328" y="1710812"/>
                </a:lnTo>
                <a:lnTo>
                  <a:pt x="0" y="3261996"/>
                </a:lnTo>
                <a:lnTo>
                  <a:pt x="0" y="159634"/>
                </a:lnTo>
                <a:close/>
                <a:moveTo>
                  <a:pt x="4974795" y="156753"/>
                </a:moveTo>
                <a:lnTo>
                  <a:pt x="4974795" y="3264872"/>
                </a:lnTo>
                <a:lnTo>
                  <a:pt x="3183146" y="1710812"/>
                </a:lnTo>
                <a:lnTo>
                  <a:pt x="4974795" y="156753"/>
                </a:lnTo>
                <a:close/>
                <a:moveTo>
                  <a:pt x="35040" y="0"/>
                </a:moveTo>
                <a:lnTo>
                  <a:pt x="4936434" y="0"/>
                </a:lnTo>
                <a:lnTo>
                  <a:pt x="2485737" y="2125709"/>
                </a:lnTo>
                <a:lnTo>
                  <a:pt x="350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0"/>
          <p:cNvSpPr/>
          <p:nvPr/>
        </p:nvSpPr>
        <p:spPr>
          <a:xfrm>
            <a:off x="4525920" y="3726000"/>
            <a:ext cx="465120" cy="3474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KSO_Shape"/>
          <p:cNvSpPr/>
          <p:nvPr/>
        </p:nvSpPr>
        <p:spPr>
          <a:xfrm>
            <a:off x="4659480" y="3822840"/>
            <a:ext cx="198360" cy="152280"/>
          </a:xfrm>
          <a:custGeom>
            <a:avLst/>
            <a:gdLst/>
            <a:ahLst/>
            <a:rect l="l" t="t" r="r" b="b"/>
            <a:pathLst>
              <a:path w="1119349" h="1157433">
                <a:moveTo>
                  <a:pt x="135620" y="818456"/>
                </a:moveTo>
                <a:cubicBezTo>
                  <a:pt x="71450" y="948523"/>
                  <a:pt x="57484" y="1054732"/>
                  <a:pt x="108323" y="1103729"/>
                </a:cubicBezTo>
                <a:cubicBezTo>
                  <a:pt x="164989" y="1158341"/>
                  <a:pt x="289713" y="1129874"/>
                  <a:pt x="437069" y="1040437"/>
                </a:cubicBezTo>
                <a:cubicBezTo>
                  <a:pt x="307239" y="1007168"/>
                  <a:pt x="198946" y="926245"/>
                  <a:pt x="135620" y="818456"/>
                </a:cubicBezTo>
                <a:close/>
                <a:moveTo>
                  <a:pt x="582086" y="345816"/>
                </a:moveTo>
                <a:cubicBezTo>
                  <a:pt x="490772" y="345817"/>
                  <a:pt x="434615" y="407693"/>
                  <a:pt x="413811" y="495363"/>
                </a:cubicBezTo>
                <a:lnTo>
                  <a:pt x="750361" y="495364"/>
                </a:lnTo>
                <a:cubicBezTo>
                  <a:pt x="729557" y="407692"/>
                  <a:pt x="673401" y="345816"/>
                  <a:pt x="582086" y="345816"/>
                </a:cubicBezTo>
                <a:close/>
                <a:moveTo>
                  <a:pt x="954622" y="129"/>
                </a:moveTo>
                <a:cubicBezTo>
                  <a:pt x="1007406" y="-1466"/>
                  <a:pt x="1051113" y="11645"/>
                  <a:pt x="1081775" y="41196"/>
                </a:cubicBezTo>
                <a:cubicBezTo>
                  <a:pt x="1101805" y="60500"/>
                  <a:pt x="1115030" y="85625"/>
                  <a:pt x="1119349" y="116033"/>
                </a:cubicBezTo>
                <a:cubicBezTo>
                  <a:pt x="1112931" y="103633"/>
                  <a:pt x="1104158" y="92219"/>
                  <a:pt x="1093494" y="81508"/>
                </a:cubicBezTo>
                <a:cubicBezTo>
                  <a:pt x="1010899" y="-1451"/>
                  <a:pt x="882017" y="28786"/>
                  <a:pt x="737350" y="130602"/>
                </a:cubicBezTo>
                <a:cubicBezTo>
                  <a:pt x="943277" y="190863"/>
                  <a:pt x="1091569" y="370605"/>
                  <a:pt x="1091569" y="582598"/>
                </a:cubicBezTo>
                <a:lnTo>
                  <a:pt x="1085273" y="640757"/>
                </a:lnTo>
                <a:lnTo>
                  <a:pt x="755888" y="640756"/>
                </a:lnTo>
                <a:lnTo>
                  <a:pt x="719073" y="640757"/>
                </a:lnTo>
                <a:lnTo>
                  <a:pt x="408284" y="640757"/>
                </a:lnTo>
                <a:cubicBezTo>
                  <a:pt x="424002" y="743453"/>
                  <a:pt x="484447" y="819382"/>
                  <a:pt x="582086" y="819383"/>
                </a:cubicBezTo>
                <a:cubicBezTo>
                  <a:pt x="648673" y="819382"/>
                  <a:pt x="697960" y="784070"/>
                  <a:pt x="725617" y="727992"/>
                </a:cubicBezTo>
                <a:lnTo>
                  <a:pt x="1064773" y="727992"/>
                </a:lnTo>
                <a:cubicBezTo>
                  <a:pt x="1000780" y="921122"/>
                  <a:pt x="807116" y="1060320"/>
                  <a:pt x="578539" y="1060320"/>
                </a:cubicBezTo>
                <a:cubicBezTo>
                  <a:pt x="541437" y="1060319"/>
                  <a:pt x="505255" y="1056652"/>
                  <a:pt x="470646" y="1048435"/>
                </a:cubicBezTo>
                <a:cubicBezTo>
                  <a:pt x="288189" y="1159820"/>
                  <a:pt x="124174" y="1191927"/>
                  <a:pt x="45670" y="1116267"/>
                </a:cubicBezTo>
                <a:cubicBezTo>
                  <a:pt x="-38972" y="1034693"/>
                  <a:pt x="-2092" y="849162"/>
                  <a:pt x="124297" y="645271"/>
                </a:cubicBezTo>
                <a:cubicBezTo>
                  <a:pt x="126384" y="641564"/>
                  <a:pt x="128546" y="637931"/>
                  <a:pt x="130887" y="634433"/>
                </a:cubicBezTo>
                <a:cubicBezTo>
                  <a:pt x="140131" y="616742"/>
                  <a:pt x="151256" y="599735"/>
                  <a:pt x="163296" y="582889"/>
                </a:cubicBezTo>
                <a:cubicBezTo>
                  <a:pt x="171413" y="570408"/>
                  <a:pt x="179765" y="558285"/>
                  <a:pt x="189707" y="547372"/>
                </a:cubicBezTo>
                <a:cubicBezTo>
                  <a:pt x="207410" y="520542"/>
                  <a:pt x="227598" y="494496"/>
                  <a:pt x="249351" y="468810"/>
                </a:cubicBezTo>
                <a:cubicBezTo>
                  <a:pt x="261501" y="453873"/>
                  <a:pt x="274484" y="439223"/>
                  <a:pt x="288439" y="424719"/>
                </a:cubicBezTo>
                <a:cubicBezTo>
                  <a:pt x="304701" y="403895"/>
                  <a:pt x="322841" y="384213"/>
                  <a:pt x="341644" y="364703"/>
                </a:cubicBezTo>
                <a:cubicBezTo>
                  <a:pt x="392793" y="311630"/>
                  <a:pt x="445389" y="263415"/>
                  <a:pt x="498166" y="220924"/>
                </a:cubicBezTo>
                <a:cubicBezTo>
                  <a:pt x="310657" y="309270"/>
                  <a:pt x="183697" y="431706"/>
                  <a:pt x="65845" y="579499"/>
                </a:cubicBezTo>
                <a:cubicBezTo>
                  <a:pt x="67312" y="317087"/>
                  <a:pt x="296312" y="104878"/>
                  <a:pt x="578538" y="104878"/>
                </a:cubicBezTo>
                <a:lnTo>
                  <a:pt x="651994" y="111773"/>
                </a:lnTo>
                <a:cubicBezTo>
                  <a:pt x="764896" y="41979"/>
                  <a:pt x="871117" y="2651"/>
                  <a:pt x="954622" y="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43"/>
          <p:cNvSpPr/>
          <p:nvPr/>
        </p:nvSpPr>
        <p:spPr>
          <a:xfrm>
            <a:off x="3924360" y="3757680"/>
            <a:ext cx="0" cy="620640"/>
          </a:xfrm>
          <a:prstGeom prst="line">
            <a:avLst/>
          </a:prstGeom>
          <a:ln w="9360">
            <a:solidFill>
              <a:srgbClr val="d7d7d7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40"/>
          <p:cNvSpPr/>
          <p:nvPr/>
        </p:nvSpPr>
        <p:spPr>
          <a:xfrm>
            <a:off x="2617920" y="4178160"/>
            <a:ext cx="9111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3334326094@</a:t>
            </a:r>
            <a:r>
              <a:rPr b="1" lang="zh-CN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qq</a:t>
            </a:r>
            <a:r>
              <a:rPr b="1" lang="en-US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46"/>
          <p:cNvSpPr/>
          <p:nvPr/>
        </p:nvSpPr>
        <p:spPr>
          <a:xfrm>
            <a:off x="4173480" y="4178160"/>
            <a:ext cx="1258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www</a:t>
            </a:r>
            <a:r>
              <a:rPr b="1" lang="en-US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.</a:t>
            </a:r>
            <a:r>
              <a:rPr b="1" lang="zh-CN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youyi100</a:t>
            </a:r>
            <a:r>
              <a:rPr b="1" lang="en-US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2"/>
          <p:cNvGrpSpPr/>
          <p:nvPr/>
        </p:nvGrpSpPr>
        <p:grpSpPr>
          <a:xfrm>
            <a:off x="6253200" y="3759120"/>
            <a:ext cx="431640" cy="324000"/>
            <a:chOff x="6253200" y="3759120"/>
            <a:chExt cx="431640" cy="324000"/>
          </a:xfrm>
        </p:grpSpPr>
        <p:sp>
          <p:nvSpPr>
            <p:cNvPr id="349" name="椭圆 24"/>
            <p:cNvSpPr/>
            <p:nvPr/>
          </p:nvSpPr>
          <p:spPr>
            <a:xfrm>
              <a:off x="6253200" y="3759120"/>
              <a:ext cx="431640" cy="324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KSO_Shape"/>
            <p:cNvSpPr/>
            <p:nvPr/>
          </p:nvSpPr>
          <p:spPr>
            <a:xfrm>
              <a:off x="6335640" y="3827880"/>
              <a:ext cx="266760" cy="186480"/>
            </a:xfrm>
            <a:custGeom>
              <a:avLst/>
              <a:gdLst/>
              <a:ahLst/>
              <a:rect l="l" t="t" r="r" b="b"/>
              <a:pathLst>
                <a:path w="969654" h="903534">
                  <a:moveTo>
                    <a:pt x="813088" y="487443"/>
                  </a:moveTo>
                  <a:cubicBezTo>
                    <a:pt x="793206" y="487443"/>
                    <a:pt x="777088" y="503561"/>
                    <a:pt x="777088" y="523443"/>
                  </a:cubicBezTo>
                  <a:cubicBezTo>
                    <a:pt x="777088" y="543325"/>
                    <a:pt x="793206" y="559443"/>
                    <a:pt x="813088" y="559443"/>
                  </a:cubicBezTo>
                  <a:cubicBezTo>
                    <a:pt x="832970" y="559443"/>
                    <a:pt x="849088" y="543325"/>
                    <a:pt x="849088" y="523443"/>
                  </a:cubicBezTo>
                  <a:cubicBezTo>
                    <a:pt x="849088" y="503561"/>
                    <a:pt x="832970" y="487443"/>
                    <a:pt x="813088" y="487443"/>
                  </a:cubicBezTo>
                  <a:close/>
                  <a:moveTo>
                    <a:pt x="606961" y="487443"/>
                  </a:moveTo>
                  <a:cubicBezTo>
                    <a:pt x="587079" y="487443"/>
                    <a:pt x="570961" y="503561"/>
                    <a:pt x="570961" y="523443"/>
                  </a:cubicBezTo>
                  <a:cubicBezTo>
                    <a:pt x="570961" y="543325"/>
                    <a:pt x="587079" y="559443"/>
                    <a:pt x="606961" y="559443"/>
                  </a:cubicBezTo>
                  <a:cubicBezTo>
                    <a:pt x="626843" y="559443"/>
                    <a:pt x="642961" y="543325"/>
                    <a:pt x="642961" y="523443"/>
                  </a:cubicBezTo>
                  <a:cubicBezTo>
                    <a:pt x="642961" y="503561"/>
                    <a:pt x="626843" y="487443"/>
                    <a:pt x="606961" y="487443"/>
                  </a:cubicBezTo>
                  <a:close/>
                  <a:moveTo>
                    <a:pt x="691345" y="336511"/>
                  </a:moveTo>
                  <a:cubicBezTo>
                    <a:pt x="769490" y="335080"/>
                    <a:pt x="847112" y="364668"/>
                    <a:pt x="901758" y="422110"/>
                  </a:cubicBezTo>
                  <a:cubicBezTo>
                    <a:pt x="999759" y="525126"/>
                    <a:pt x="990612" y="681640"/>
                    <a:pt x="881173" y="774306"/>
                  </a:cubicBezTo>
                  <a:lnTo>
                    <a:pt x="905846" y="903534"/>
                  </a:lnTo>
                  <a:lnTo>
                    <a:pt x="792422" y="824563"/>
                  </a:lnTo>
                  <a:cubicBezTo>
                    <a:pt x="666952" y="867914"/>
                    <a:pt x="525982" y="820668"/>
                    <a:pt x="459770" y="713074"/>
                  </a:cubicBezTo>
                  <a:cubicBezTo>
                    <a:pt x="386891" y="594648"/>
                    <a:pt x="429055" y="444146"/>
                    <a:pt x="554971" y="373268"/>
                  </a:cubicBezTo>
                  <a:cubicBezTo>
                    <a:pt x="597384" y="349394"/>
                    <a:pt x="644458" y="337369"/>
                    <a:pt x="691345" y="336511"/>
                  </a:cubicBezTo>
                  <a:close/>
                  <a:moveTo>
                    <a:pt x="547874" y="187267"/>
                  </a:moveTo>
                  <a:cubicBezTo>
                    <a:pt x="518051" y="187267"/>
                    <a:pt x="493874" y="211444"/>
                    <a:pt x="493874" y="241267"/>
                  </a:cubicBezTo>
                  <a:cubicBezTo>
                    <a:pt x="493874" y="271090"/>
                    <a:pt x="518051" y="295267"/>
                    <a:pt x="547874" y="295267"/>
                  </a:cubicBezTo>
                  <a:cubicBezTo>
                    <a:pt x="577697" y="295267"/>
                    <a:pt x="601874" y="271090"/>
                    <a:pt x="601874" y="241267"/>
                  </a:cubicBezTo>
                  <a:cubicBezTo>
                    <a:pt x="601874" y="211444"/>
                    <a:pt x="577697" y="187267"/>
                    <a:pt x="547874" y="187267"/>
                  </a:cubicBezTo>
                  <a:close/>
                  <a:moveTo>
                    <a:pt x="294449" y="187267"/>
                  </a:moveTo>
                  <a:cubicBezTo>
                    <a:pt x="264626" y="187267"/>
                    <a:pt x="240449" y="211444"/>
                    <a:pt x="240449" y="241267"/>
                  </a:cubicBezTo>
                  <a:cubicBezTo>
                    <a:pt x="240449" y="271090"/>
                    <a:pt x="264626" y="295267"/>
                    <a:pt x="294449" y="295267"/>
                  </a:cubicBezTo>
                  <a:cubicBezTo>
                    <a:pt x="324272" y="295267"/>
                    <a:pt x="348449" y="271090"/>
                    <a:pt x="348449" y="241267"/>
                  </a:cubicBezTo>
                  <a:cubicBezTo>
                    <a:pt x="348449" y="211444"/>
                    <a:pt x="324272" y="187267"/>
                    <a:pt x="294449" y="187267"/>
                  </a:cubicBezTo>
                  <a:close/>
                  <a:moveTo>
                    <a:pt x="408549" y="168"/>
                  </a:moveTo>
                  <a:cubicBezTo>
                    <a:pt x="456533" y="-1113"/>
                    <a:pt x="505397" y="4870"/>
                    <a:pt x="553141" y="18800"/>
                  </a:cubicBezTo>
                  <a:cubicBezTo>
                    <a:pt x="730896" y="70663"/>
                    <a:pt x="843952" y="217556"/>
                    <a:pt x="840274" y="375462"/>
                  </a:cubicBezTo>
                  <a:cubicBezTo>
                    <a:pt x="754752" y="310337"/>
                    <a:pt x="632797" y="302687"/>
                    <a:pt x="535419" y="357502"/>
                  </a:cubicBezTo>
                  <a:cubicBezTo>
                    <a:pt x="409503" y="428380"/>
                    <a:pt x="367339" y="578882"/>
                    <a:pt x="440218" y="697308"/>
                  </a:cubicBezTo>
                  <a:cubicBezTo>
                    <a:pt x="450352" y="713775"/>
                    <a:pt x="462237" y="728829"/>
                    <a:pt x="478397" y="739559"/>
                  </a:cubicBezTo>
                  <a:cubicBezTo>
                    <a:pt x="442192" y="745523"/>
                    <a:pt x="404623" y="745773"/>
                    <a:pt x="366675" y="741395"/>
                  </a:cubicBezTo>
                  <a:lnTo>
                    <a:pt x="245711" y="837584"/>
                  </a:lnTo>
                  <a:lnTo>
                    <a:pt x="214226" y="696474"/>
                  </a:lnTo>
                  <a:cubicBezTo>
                    <a:pt x="11680" y="595442"/>
                    <a:pt x="-59861" y="368389"/>
                    <a:pt x="54436" y="189343"/>
                  </a:cubicBezTo>
                  <a:cubicBezTo>
                    <a:pt x="128564" y="73222"/>
                    <a:pt x="264598" y="4010"/>
                    <a:pt x="408549" y="16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直接连接符 43"/>
          <p:cNvSpPr/>
          <p:nvPr/>
        </p:nvSpPr>
        <p:spPr>
          <a:xfrm>
            <a:off x="5681520" y="3746520"/>
            <a:ext cx="0" cy="620640"/>
          </a:xfrm>
          <a:prstGeom prst="line">
            <a:avLst/>
          </a:prstGeom>
          <a:ln w="9360">
            <a:solidFill>
              <a:srgbClr val="d7d7d7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6"/>
          <p:cNvSpPr/>
          <p:nvPr/>
        </p:nvSpPr>
        <p:spPr>
          <a:xfrm>
            <a:off x="5819760" y="4178160"/>
            <a:ext cx="1258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2d050"/>
                </a:solidFill>
                <a:latin typeface="Arial Narrow"/>
                <a:ea typeface="微软雅黑"/>
              </a:rPr>
              <a:t>youyicongshu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6"/>
          <p:cNvSpPr/>
          <p:nvPr/>
        </p:nvSpPr>
        <p:spPr>
          <a:xfrm>
            <a:off x="1187280" y="1401840"/>
            <a:ext cx="1501920" cy="1185840"/>
          </a:xfrm>
          <a:custGeom>
            <a:avLst/>
            <a:gdLst/>
            <a:ahLst/>
            <a:rect l="l" t="t" r="r" b="b"/>
            <a:pathLst>
              <a:path w="1501139" h="1247086">
                <a:moveTo>
                  <a:pt x="683259" y="0"/>
                </a:moveTo>
                <a:lnTo>
                  <a:pt x="962295" y="0"/>
                </a:lnTo>
                <a:lnTo>
                  <a:pt x="1501139" y="623543"/>
                </a:lnTo>
                <a:lnTo>
                  <a:pt x="962295" y="1247086"/>
                </a:lnTo>
                <a:lnTo>
                  <a:pt x="683259" y="1247086"/>
                </a:lnTo>
                <a:lnTo>
                  <a:pt x="1123741" y="737366"/>
                </a:lnTo>
                <a:lnTo>
                  <a:pt x="0" y="737366"/>
                </a:lnTo>
                <a:lnTo>
                  <a:pt x="0" y="509720"/>
                </a:lnTo>
                <a:lnTo>
                  <a:pt x="1123741" y="509720"/>
                </a:lnTo>
                <a:lnTo>
                  <a:pt x="683259" y="0"/>
                </a:lnTo>
                <a:close/>
              </a:path>
            </a:pathLst>
          </a:custGeom>
          <a:solidFill>
            <a:srgbClr val="ffff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5494680" y="2928960"/>
            <a:ext cx="2993760" cy="459720"/>
          </a:xfrm>
          <a:prstGeom prst="rect">
            <a:avLst/>
          </a:prstGeom>
          <a:noFill/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www.</a:t>
            </a:r>
            <a:r>
              <a:rPr b="1" i="1" lang="zh-CN" sz="2400" spc="-1" strike="noStrike" u="sng">
                <a:solidFill>
                  <a:srgbClr val="92d050"/>
                </a:solidFill>
                <a:uFillTx/>
                <a:latin typeface="Arial"/>
                <a:ea typeface="宋体"/>
              </a:rPr>
              <a:t>youyi100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180"/>
                            </p:stCondLst>
                            <p:childTnLst>
                              <p:par>
                                <p:cTn id="22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2" descr="图片1"/>
          <p:cNvPicPr/>
          <p:nvPr/>
        </p:nvPicPr>
        <p:blipFill>
          <a:blip r:embed="rId2"/>
          <a:stretch/>
        </p:blipFill>
        <p:spPr>
          <a:xfrm>
            <a:off x="-9360" y="25560"/>
            <a:ext cx="9161280" cy="517824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3"/>
          <p:cNvSpPr/>
          <p:nvPr/>
        </p:nvSpPr>
        <p:spPr>
          <a:xfrm>
            <a:off x="244440" y="727200"/>
            <a:ext cx="865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大海，蓝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蓝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，又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宽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又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远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沙滩，</a:t>
            </a:r>
            <a:r>
              <a:rPr b="0" lang="zh-CN" sz="3200" spc="-1" strike="noStrike" u="sng">
                <a:solidFill>
                  <a:srgbClr val="00b0f0"/>
                </a:solidFill>
                <a:uFillTx/>
                <a:latin typeface="华文隶书"/>
                <a:ea typeface="华文隶书"/>
              </a:rPr>
              <a:t>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黄的，又</a:t>
            </a:r>
            <a:r>
              <a:rPr b="0" lang="zh-CN" sz="3200" spc="-1" strike="noStrike" u="sng">
                <a:solidFill>
                  <a:srgbClr val="00b0f0"/>
                </a:solidFill>
                <a:uFillTx/>
                <a:latin typeface="华文隶书"/>
                <a:ea typeface="华文隶书"/>
              </a:rPr>
              <a:t>长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又</a:t>
            </a:r>
            <a:r>
              <a:rPr b="0" lang="zh-CN" sz="3200" spc="-1" strike="noStrike" u="sng">
                <a:solidFill>
                  <a:srgbClr val="00b0f0"/>
                </a:solidFill>
                <a:uFillTx/>
                <a:latin typeface="华文隶书"/>
                <a:ea typeface="华文隶书"/>
              </a:rPr>
              <a:t>软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雪白雪白的浪花，哗哗地笑着，涌向沙滩，悄悄撒下小小的海螺和贝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"/>
          <p:cNvSpPr/>
          <p:nvPr/>
        </p:nvSpPr>
        <p:spPr>
          <a:xfrm>
            <a:off x="404640" y="2790720"/>
            <a:ext cx="543744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优翼"/>
                <a:ea typeface="优翼"/>
              </a:rPr>
              <a:t>用拟人的手法写出浪花的可爱。</a:t>
            </a:r>
            <a:r>
              <a:rPr b="0" lang="en-US" sz="2000" spc="-1" strike="noStrike">
                <a:solidFill>
                  <a:srgbClr val="000000"/>
                </a:solidFill>
                <a:latin typeface="优翼"/>
                <a:ea typeface="优翼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优翼"/>
                <a:ea typeface="优翼"/>
              </a:rPr>
              <a:t>雪白</a:t>
            </a:r>
            <a:r>
              <a:rPr b="0" lang="en-US" sz="2000" spc="-1" strike="noStrike">
                <a:solidFill>
                  <a:srgbClr val="000000"/>
                </a:solidFill>
                <a:latin typeface="优翼"/>
                <a:ea typeface="优翼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优翼"/>
                <a:ea typeface="优翼"/>
              </a:rPr>
              <a:t>是浪花的颜色，</a:t>
            </a:r>
            <a:r>
              <a:rPr b="0" lang="en-US" sz="2000" spc="-1" strike="noStrike">
                <a:solidFill>
                  <a:srgbClr val="000000"/>
                </a:solidFill>
                <a:latin typeface="优翼"/>
                <a:ea typeface="优翼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优翼"/>
                <a:ea typeface="优翼"/>
              </a:rPr>
              <a:t>哗哗</a:t>
            </a:r>
            <a:r>
              <a:rPr b="0" lang="en-US" sz="2000" spc="-1" strike="noStrike">
                <a:solidFill>
                  <a:srgbClr val="000000"/>
                </a:solidFill>
                <a:latin typeface="优翼"/>
                <a:ea typeface="优翼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优翼"/>
                <a:ea typeface="优翼"/>
              </a:rPr>
              <a:t>是浪花涌向沙滩的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3"/>
          <p:cNvSpPr/>
          <p:nvPr/>
        </p:nvSpPr>
        <p:spPr>
          <a:xfrm>
            <a:off x="392040" y="1922400"/>
            <a:ext cx="8018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蓝蓝的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大海       （         ）沙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            ）贝壳       （         ）脚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"/>
          <p:cNvSpPr/>
          <p:nvPr/>
        </p:nvSpPr>
        <p:spPr>
          <a:xfrm>
            <a:off x="782640" y="3751200"/>
            <a:ext cx="19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华文隶书"/>
                <a:ea typeface="华文隶书"/>
              </a:rPr>
              <a:t>小小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"/>
          <p:cNvSpPr/>
          <p:nvPr/>
        </p:nvSpPr>
        <p:spPr>
          <a:xfrm>
            <a:off x="5173560" y="2836800"/>
            <a:ext cx="19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华文隶书"/>
                <a:ea typeface="华文隶书"/>
              </a:rPr>
              <a:t>黄黄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"/>
          <p:cNvSpPr/>
          <p:nvPr/>
        </p:nvSpPr>
        <p:spPr>
          <a:xfrm>
            <a:off x="5173560" y="3751200"/>
            <a:ext cx="19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华文隶书"/>
                <a:ea typeface="华文隶书"/>
              </a:rPr>
              <a:t>快活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3"/>
          <p:cNvSpPr/>
          <p:nvPr/>
        </p:nvSpPr>
        <p:spPr>
          <a:xfrm>
            <a:off x="220680" y="703440"/>
            <a:ext cx="8583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娃娃嘻嘻地笑着，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迎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上去，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捡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起小小的海螺和贝壳，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穿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成彩色的项链，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挂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在胸前。快活的脚印落在沙滩上，穿成金色的项链，挂在大海胸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"/>
          <p:cNvSpPr/>
          <p:nvPr/>
        </p:nvSpPr>
        <p:spPr>
          <a:xfrm>
            <a:off x="730080" y="307800"/>
            <a:ext cx="62341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优翼"/>
                <a:ea typeface="优翼"/>
              </a:rPr>
              <a:t>一系列动作描写，写出了小娃娃在海边捡贝壳的快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3"/>
          <p:cNvSpPr/>
          <p:nvPr/>
        </p:nvSpPr>
        <p:spPr>
          <a:xfrm>
            <a:off x="1327320" y="993600"/>
            <a:ext cx="70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娃娃挂在胸前的项链是用什么穿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3714840" y="18604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海螺和贝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"/>
          <p:cNvSpPr/>
          <p:nvPr/>
        </p:nvSpPr>
        <p:spPr>
          <a:xfrm>
            <a:off x="1327320" y="2727360"/>
            <a:ext cx="70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些小小的海螺和贝壳是从哪儿来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3355920" y="3384720"/>
            <a:ext cx="32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浪花冲到沙滩上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3"/>
          <p:cNvSpPr/>
          <p:nvPr/>
        </p:nvSpPr>
        <p:spPr>
          <a:xfrm>
            <a:off x="1374840" y="1065240"/>
            <a:ext cx="70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海的项链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3"/>
          <p:cNvSpPr/>
          <p:nvPr/>
        </p:nvSpPr>
        <p:spPr>
          <a:xfrm>
            <a:off x="3200400" y="186048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小娃娃快活的脚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1374840" y="2865600"/>
            <a:ext cx="70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谁给它穿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3"/>
          <p:cNvSpPr/>
          <p:nvPr/>
        </p:nvSpPr>
        <p:spPr>
          <a:xfrm>
            <a:off x="4956120" y="2865600"/>
            <a:ext cx="15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小娃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297" name="文本框 3"/>
          <p:cNvSpPr/>
          <p:nvPr/>
        </p:nvSpPr>
        <p:spPr>
          <a:xfrm>
            <a:off x="1374840" y="1065240"/>
            <a:ext cx="70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文为什么以项链为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"/>
          <p:cNvSpPr/>
          <p:nvPr/>
        </p:nvSpPr>
        <p:spPr>
          <a:xfrm>
            <a:off x="1622520" y="1701720"/>
            <a:ext cx="6576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因为小娃娃的胸前挂着用海螺和贝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穿成的彩色项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因为大海的胸前挂着小娃娃快活的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b050"/>
                </a:solidFill>
                <a:latin typeface="宋体"/>
                <a:ea typeface="宋体"/>
              </a:rPr>
              <a:t>印穿成的金色项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2" descr="图片1"/>
          <p:cNvPicPr/>
          <p:nvPr/>
        </p:nvPicPr>
        <p:blipFill>
          <a:blip r:embed="rId2"/>
          <a:stretch/>
        </p:blipFill>
        <p:spPr>
          <a:xfrm>
            <a:off x="106200" y="-17640"/>
            <a:ext cx="9161640" cy="5178600"/>
          </a:xfrm>
          <a:prstGeom prst="rect">
            <a:avLst/>
          </a:prstGeom>
          <a:ln w="0">
            <a:noFill/>
          </a:ln>
        </p:spPr>
      </p:pic>
      <p:sp>
        <p:nvSpPr>
          <p:cNvPr id="300" name="文本框 3"/>
          <p:cNvSpPr/>
          <p:nvPr/>
        </p:nvSpPr>
        <p:spPr>
          <a:xfrm>
            <a:off x="106200" y="2301840"/>
            <a:ext cx="8649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哗哗地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笑着        （  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）笑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彩色的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项链        （          ）项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"/>
          <p:cNvSpPr/>
          <p:nvPr/>
        </p:nvSpPr>
        <p:spPr>
          <a:xfrm>
            <a:off x="5416560" y="2301840"/>
            <a:ext cx="19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华文隶书"/>
                <a:ea typeface="华文隶书"/>
              </a:rPr>
              <a:t>嘻嘻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"/>
          <p:cNvSpPr/>
          <p:nvPr/>
        </p:nvSpPr>
        <p:spPr>
          <a:xfrm>
            <a:off x="5416560" y="3216240"/>
            <a:ext cx="19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华文隶书"/>
                <a:ea typeface="华文隶书"/>
              </a:rPr>
              <a:t>金色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3"/>
          <p:cNvSpPr/>
          <p:nvPr/>
        </p:nvSpPr>
        <p:spPr>
          <a:xfrm>
            <a:off x="534960" y="1619280"/>
            <a:ext cx="7037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例：又宽又远      又长又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我会说：又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又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7:02:00Z</dcterms:created>
  <dc:creator>Administrator</dc:creator>
  <dc:description/>
  <dc:language>en-US</dc:language>
  <cp:lastModifiedBy>Administrator</cp:lastModifiedBy>
  <dcterms:modified xsi:type="dcterms:W3CDTF">2017-04-13T06:11:38Z</dcterms:modified>
  <cp:revision>13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