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AE2-2AB3-4329-A4FC-2270DC19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DCA-4993-4C41-8289-6D705DF4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8E8-8207-408A-8CA2-579602E9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F06E-6722-45BA-B747-7FC68C26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781-BE11-4F34-8DF8-995E4A83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6EC-AE52-4672-A04A-307F18EE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B5A-257D-4009-A57B-DE8E283D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7645-9A79-45FC-A873-86C4CA11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FF8-8517-4C16-B2D6-79C3BD0F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23C8-9864-4523-BDA6-9FF2D1FA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32A3-FFA4-4305-A587-E65EBC22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7041-4C3C-49EE-A554-194172F8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66C1-C1DF-459C-A498-CFA8422C6F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-9360"/>
            <a:ext cx="12192120" cy="68767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" descr="图片1"/>
          <p:cNvPicPr/>
          <p:nvPr/>
        </p:nvPicPr>
        <p:blipFill>
          <a:blip r:embed="rId2"/>
          <a:stretch/>
        </p:blipFill>
        <p:spPr>
          <a:xfrm>
            <a:off x="2703600" y="1873080"/>
            <a:ext cx="7070760" cy="228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4"/>
          <p:cNvSpPr/>
          <p:nvPr/>
        </p:nvSpPr>
        <p:spPr>
          <a:xfrm>
            <a:off x="0" y="714240"/>
            <a:ext cx="665280" cy="635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665280" y="3003480"/>
            <a:ext cx="10798200" cy="3435480"/>
          </a:xfrm>
          <a:prstGeom prst="rect">
            <a:avLst/>
          </a:prstGeom>
          <a:solidFill>
            <a:srgbClr val="fff4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824040" y="2820960"/>
            <a:ext cx="10796400" cy="343548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7"/>
          <p:cNvSpPr/>
          <p:nvPr/>
        </p:nvSpPr>
        <p:spPr>
          <a:xfrm>
            <a:off x="912960" y="730080"/>
            <a:ext cx="76150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6700"/>
                </a:solidFill>
                <a:latin typeface="Arial"/>
                <a:ea typeface="微软雅黑"/>
              </a:rPr>
              <a:t>中心论点及其提出的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组合 12" descr=""/>
          <p:cNvPicPr/>
          <p:nvPr/>
        </p:nvPicPr>
        <p:blipFill>
          <a:blip r:embed="rId1"/>
          <a:stretch/>
        </p:blipFill>
        <p:spPr>
          <a:xfrm>
            <a:off x="10890360" y="719280"/>
            <a:ext cx="730080" cy="63468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16"/>
          <p:cNvSpPr/>
          <p:nvPr/>
        </p:nvSpPr>
        <p:spPr>
          <a:xfrm>
            <a:off x="824040" y="1460520"/>
            <a:ext cx="107964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27272"/>
                </a:solidFill>
                <a:latin typeface="Arial"/>
                <a:ea typeface="微软雅黑"/>
              </a:rPr>
              <a:t>中心论点提出的方式：开门见山提出中心论点，然后具体解释“立其诚”的含义，再引用庄子的话，论证首先用“真”字的是道家的观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0"/>
          <p:cNvSpPr/>
          <p:nvPr/>
        </p:nvSpPr>
        <p:spPr>
          <a:xfrm>
            <a:off x="1009800" y="3317760"/>
            <a:ext cx="1017252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30000"/>
              </a:lnSpc>
              <a:spcBef>
                <a:spcPts val="1001"/>
              </a:spcBef>
              <a:buClr>
                <a:srgbClr val="7272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27272"/>
                </a:solidFill>
                <a:latin typeface="Arial"/>
                <a:ea typeface="微软雅黑"/>
              </a:rPr>
              <a:t>原文：“修辞立其诚”，是《易传</a:t>
            </a:r>
            <a:r>
              <a:rPr b="1" lang="zh-CN" sz="2400" spc="-1" strike="noStrike">
                <a:solidFill>
                  <a:srgbClr val="727272"/>
                </a:solidFill>
                <a:latin typeface="Arial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727272"/>
                </a:solidFill>
                <a:latin typeface="Arial"/>
                <a:ea typeface="微软雅黑"/>
              </a:rPr>
              <a:t>文言》 的一句话。这句话虽然是二千年以前讲的，现在仍应加以肯定，仍应承认这是发言著论写文章的一个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977760" y="5141880"/>
            <a:ext cx="10172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30000"/>
              </a:lnSpc>
              <a:spcBef>
                <a:spcPts val="1001"/>
              </a:spcBef>
              <a:buClr>
                <a:srgbClr val="7272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27272"/>
                </a:solidFill>
                <a:latin typeface="Arial"/>
                <a:ea typeface="微软雅黑"/>
              </a:rPr>
              <a:t>概括：“修辞立其诚”是发言著论写文章的一个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1"/>
          <p:cNvSpPr/>
          <p:nvPr/>
        </p:nvSpPr>
        <p:spPr>
          <a:xfrm>
            <a:off x="0" y="0"/>
            <a:ext cx="459576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装饰 20" descr=""/>
          <p:cNvPicPr/>
          <p:nvPr/>
        </p:nvPicPr>
        <p:blipFill>
          <a:blip r:embed="rId1"/>
          <a:stretch/>
        </p:blipFill>
        <p:spPr>
          <a:xfrm>
            <a:off x="598320" y="750960"/>
            <a:ext cx="876600" cy="76356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9"/>
          <p:cNvSpPr/>
          <p:nvPr/>
        </p:nvSpPr>
        <p:spPr>
          <a:xfrm>
            <a:off x="392040" y="1990800"/>
            <a:ext cx="3683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36700"/>
                </a:solidFill>
                <a:latin typeface="微软雅黑"/>
                <a:ea typeface="微软雅黑"/>
              </a:rPr>
              <a:t>清理文章思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6"/>
          <p:cNvSpPr/>
          <p:nvPr/>
        </p:nvSpPr>
        <p:spPr>
          <a:xfrm>
            <a:off x="4595760" y="21744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段：提出中心论点并阐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tle 6"/>
          <p:cNvSpPr/>
          <p:nvPr/>
        </p:nvSpPr>
        <p:spPr>
          <a:xfrm>
            <a:off x="195120" y="3206880"/>
            <a:ext cx="40737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概括文章每个自然段的意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le 6"/>
          <p:cNvSpPr/>
          <p:nvPr/>
        </p:nvSpPr>
        <p:spPr>
          <a:xfrm>
            <a:off x="4595760" y="86688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段：总说“立其诚”的三个方面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le 6"/>
          <p:cNvSpPr/>
          <p:nvPr/>
        </p:nvSpPr>
        <p:spPr>
          <a:xfrm>
            <a:off x="4595760" y="1459080"/>
            <a:ext cx="7526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段：立其诚的第一个方面的含义：名实一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le 6"/>
          <p:cNvSpPr/>
          <p:nvPr/>
        </p:nvSpPr>
        <p:spPr>
          <a:xfrm>
            <a:off x="4595760" y="2104920"/>
            <a:ext cx="7310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段：立其诚的第二个方面的含义：言行一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itle 6"/>
          <p:cNvSpPr/>
          <p:nvPr/>
        </p:nvSpPr>
        <p:spPr>
          <a:xfrm>
            <a:off x="4595760" y="2752560"/>
            <a:ext cx="720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段：立其诚的第三个方面的含义：表里一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tle 6"/>
          <p:cNvSpPr/>
          <p:nvPr/>
        </p:nvSpPr>
        <p:spPr>
          <a:xfrm>
            <a:off x="4595760" y="34290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6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段：总说“立其诚”的重要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itle 6"/>
          <p:cNvSpPr/>
          <p:nvPr/>
        </p:nvSpPr>
        <p:spPr>
          <a:xfrm>
            <a:off x="4595760" y="3859200"/>
            <a:ext cx="7310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7-8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段：从认识世界角度论述立其诚的重要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le 6"/>
          <p:cNvSpPr/>
          <p:nvPr/>
        </p:nvSpPr>
        <p:spPr>
          <a:xfrm>
            <a:off x="4595760" y="4606920"/>
            <a:ext cx="7310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9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段：从端正学风角度论述立其诚的重要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tle 6"/>
          <p:cNvSpPr/>
          <p:nvPr/>
        </p:nvSpPr>
        <p:spPr>
          <a:xfrm>
            <a:off x="4595760" y="5259240"/>
            <a:ext cx="73724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0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段：从社会现实角度论述立其诚的重要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le 6"/>
          <p:cNvSpPr/>
          <p:nvPr/>
        </p:nvSpPr>
        <p:spPr>
          <a:xfrm>
            <a:off x="4595760" y="5940360"/>
            <a:ext cx="7310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1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段：总结，修辞立其诚是辩证唯物主义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1"/>
          <p:cNvSpPr/>
          <p:nvPr/>
        </p:nvSpPr>
        <p:spPr>
          <a:xfrm>
            <a:off x="0" y="0"/>
            <a:ext cx="459576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装饰 20" descr=""/>
          <p:cNvPicPr/>
          <p:nvPr/>
        </p:nvPicPr>
        <p:blipFill>
          <a:blip r:embed="rId1"/>
          <a:stretch/>
        </p:blipFill>
        <p:spPr>
          <a:xfrm>
            <a:off x="598320" y="750960"/>
            <a:ext cx="876600" cy="76356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9"/>
          <p:cNvSpPr/>
          <p:nvPr/>
        </p:nvSpPr>
        <p:spPr>
          <a:xfrm>
            <a:off x="392040" y="1990800"/>
            <a:ext cx="3683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36700"/>
                </a:solidFill>
                <a:latin typeface="微软雅黑"/>
                <a:ea typeface="微软雅黑"/>
              </a:rPr>
              <a:t>清理文章思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le 6"/>
          <p:cNvSpPr/>
          <p:nvPr/>
        </p:nvSpPr>
        <p:spPr>
          <a:xfrm>
            <a:off x="4595760" y="217440"/>
            <a:ext cx="706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一部分（第一段）：引论，提出问题，提出全文中心论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le 6"/>
          <p:cNvSpPr/>
          <p:nvPr/>
        </p:nvSpPr>
        <p:spPr>
          <a:xfrm>
            <a:off x="195120" y="3206880"/>
            <a:ext cx="40737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概括全文的结构层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tle 6"/>
          <p:cNvSpPr/>
          <p:nvPr/>
        </p:nvSpPr>
        <p:spPr>
          <a:xfrm>
            <a:off x="4595760" y="1292400"/>
            <a:ext cx="74296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二部分（第二至十段）：本论，分析问题，从“立其诚”的含义和“立其诚”的重要性两大方面论证中心论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tle 6"/>
          <p:cNvSpPr/>
          <p:nvPr/>
        </p:nvSpPr>
        <p:spPr>
          <a:xfrm>
            <a:off x="4595760" y="2862360"/>
            <a:ext cx="720108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第一层（第二至五段）：从“立其诚”的含义方面论证中心论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tle 6"/>
          <p:cNvSpPr/>
          <p:nvPr/>
        </p:nvSpPr>
        <p:spPr>
          <a:xfrm>
            <a:off x="4595760" y="3963960"/>
            <a:ext cx="72010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第二层（第六至十段）：从“立其诚”的重要性方面论证中心论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le 6"/>
          <p:cNvSpPr/>
          <p:nvPr/>
        </p:nvSpPr>
        <p:spPr>
          <a:xfrm>
            <a:off x="4595760" y="5210280"/>
            <a:ext cx="731052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三部分（第十一段）：结论，解决问题，总结全文，再次强调中心论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1"/>
          <p:cNvSpPr/>
          <p:nvPr/>
        </p:nvSpPr>
        <p:spPr>
          <a:xfrm>
            <a:off x="0" y="0"/>
            <a:ext cx="459576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装饰 20" descr=""/>
          <p:cNvPicPr/>
          <p:nvPr/>
        </p:nvPicPr>
        <p:blipFill>
          <a:blip r:embed="rId1"/>
          <a:stretch/>
        </p:blipFill>
        <p:spPr>
          <a:xfrm>
            <a:off x="598320" y="750960"/>
            <a:ext cx="876600" cy="76356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9"/>
          <p:cNvSpPr/>
          <p:nvPr/>
        </p:nvSpPr>
        <p:spPr>
          <a:xfrm>
            <a:off x="392040" y="1990800"/>
            <a:ext cx="3683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36700"/>
                </a:solidFill>
                <a:latin typeface="微软雅黑"/>
                <a:ea typeface="微软雅黑"/>
              </a:rPr>
              <a:t>清理文章思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le 6"/>
          <p:cNvSpPr/>
          <p:nvPr/>
        </p:nvSpPr>
        <p:spPr>
          <a:xfrm>
            <a:off x="4516560" y="108000"/>
            <a:ext cx="706428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全文总体来看：是什么——为什么——怎么办，层进式的结构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二部分两大层次：总——分；分述的三个方面并列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6"/>
          <p:cNvSpPr/>
          <p:nvPr/>
        </p:nvSpPr>
        <p:spPr>
          <a:xfrm>
            <a:off x="392040" y="3079800"/>
            <a:ext cx="34308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章的结构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"/>
          <p:cNvSpPr/>
          <p:nvPr/>
        </p:nvSpPr>
        <p:spPr>
          <a:xfrm>
            <a:off x="4595760" y="3198960"/>
            <a:ext cx="776520" cy="22906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修辞立其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"/>
          <p:cNvSpPr/>
          <p:nvPr/>
        </p:nvSpPr>
        <p:spPr>
          <a:xfrm>
            <a:off x="5619600" y="3197160"/>
            <a:ext cx="1249560" cy="496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是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"/>
          <p:cNvSpPr/>
          <p:nvPr/>
        </p:nvSpPr>
        <p:spPr>
          <a:xfrm>
            <a:off x="5573880" y="4095720"/>
            <a:ext cx="1247760" cy="495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"/>
          <p:cNvSpPr/>
          <p:nvPr/>
        </p:nvSpPr>
        <p:spPr>
          <a:xfrm>
            <a:off x="5573880" y="4992840"/>
            <a:ext cx="1247760" cy="496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怎么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8"/>
          <p:cNvSpPr/>
          <p:nvPr/>
        </p:nvSpPr>
        <p:spPr>
          <a:xfrm>
            <a:off x="7005600" y="3198960"/>
            <a:ext cx="736560" cy="22888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层层递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5"/>
          <p:cNvSpPr/>
          <p:nvPr/>
        </p:nvSpPr>
        <p:spPr>
          <a:xfrm>
            <a:off x="7878600" y="3198960"/>
            <a:ext cx="3321360" cy="779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名实一致  言行一致  表里一致（并列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7878600" y="4086360"/>
            <a:ext cx="3321360" cy="779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世界  端正学风  社会现实（并列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5"/>
          <p:cNvSpPr/>
          <p:nvPr/>
        </p:nvSpPr>
        <p:spPr>
          <a:xfrm>
            <a:off x="7878600" y="4986360"/>
            <a:ext cx="3321360" cy="503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坚持辩证唯物主义原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8"/>
          <p:cNvSpPr/>
          <p:nvPr/>
        </p:nvSpPr>
        <p:spPr>
          <a:xfrm>
            <a:off x="11333160" y="3197160"/>
            <a:ext cx="736560" cy="2292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总分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3" descr=""/>
          <p:cNvPicPr/>
          <p:nvPr/>
        </p:nvPicPr>
        <p:blipFill>
          <a:blip r:embed="rId1"/>
          <a:stretch/>
        </p:blipFill>
        <p:spPr>
          <a:xfrm>
            <a:off x="-17640" y="4680"/>
            <a:ext cx="12207960" cy="689472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4"/>
          <p:cNvSpPr/>
          <p:nvPr/>
        </p:nvSpPr>
        <p:spPr>
          <a:xfrm>
            <a:off x="2147040" y="592200"/>
            <a:ext cx="1979640" cy="1856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借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0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7"/>
          <p:cNvSpPr/>
          <p:nvPr/>
        </p:nvSpPr>
        <p:spPr>
          <a:xfrm>
            <a:off x="0" y="5857920"/>
            <a:ext cx="12192120" cy="1000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角三角形 35"/>
          <p:cNvSpPr/>
          <p:nvPr/>
        </p:nvSpPr>
        <p:spPr>
          <a:xfrm flipV="1">
            <a:off x="0" y="5857920"/>
            <a:ext cx="1042920" cy="1000080"/>
          </a:xfrm>
          <a:prstGeom prst="rtTriangle">
            <a:avLst/>
          </a:prstGeom>
          <a:solidFill>
            <a:srgbClr val="fff4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角三角形 36"/>
          <p:cNvSpPr/>
          <p:nvPr/>
        </p:nvSpPr>
        <p:spPr>
          <a:xfrm flipH="1">
            <a:off x="11148840" y="5857920"/>
            <a:ext cx="1043280" cy="1000080"/>
          </a:xfrm>
          <a:prstGeom prst="rtTriangle">
            <a:avLst/>
          </a:prstGeom>
          <a:solidFill>
            <a:srgbClr val="fff4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角三角形 19"/>
          <p:cNvSpPr/>
          <p:nvPr/>
        </p:nvSpPr>
        <p:spPr>
          <a:xfrm flipH="1">
            <a:off x="9650520" y="3973680"/>
            <a:ext cx="1498320" cy="1749240"/>
          </a:xfrm>
          <a:prstGeom prst="rtTriangle">
            <a:avLst/>
          </a:prstGeom>
          <a:solidFill>
            <a:srgbClr val="fff4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: 形状 20"/>
          <p:cNvSpPr/>
          <p:nvPr/>
        </p:nvSpPr>
        <p:spPr>
          <a:xfrm>
            <a:off x="6235560" y="1671480"/>
            <a:ext cx="4915080" cy="4051440"/>
          </a:xfrm>
          <a:custGeom>
            <a:avLst/>
            <a:gdLst/>
            <a:ahLst/>
            <a:rect l="l" t="t" r="r" b="b"/>
            <a:pathLst>
              <a:path w="4913387" h="3800730">
                <a:moveTo>
                  <a:pt x="2753832" y="0"/>
                </a:moveTo>
                <a:lnTo>
                  <a:pt x="4913387" y="0"/>
                </a:lnTo>
                <a:lnTo>
                  <a:pt x="4913387" y="2301916"/>
                </a:lnTo>
                <a:lnTo>
                  <a:pt x="3414573" y="3800730"/>
                </a:lnTo>
                <a:lnTo>
                  <a:pt x="0" y="3800730"/>
                </a:lnTo>
                <a:lnTo>
                  <a:pt x="0" y="2753832"/>
                </a:lnTo>
                <a:close/>
              </a:path>
            </a:pathLst>
          </a:custGeom>
          <a:solidFill>
            <a:srgbClr val="ffea9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角三角形 21"/>
          <p:cNvSpPr/>
          <p:nvPr/>
        </p:nvSpPr>
        <p:spPr>
          <a:xfrm flipV="1">
            <a:off x="6235560" y="1670400"/>
            <a:ext cx="2754360" cy="2754360"/>
          </a:xfrm>
          <a:prstGeom prst="rtTriangle">
            <a:avLst/>
          </a:prstGeom>
          <a:solidFill>
            <a:srgbClr val="fff4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角三角形 17"/>
          <p:cNvSpPr/>
          <p:nvPr/>
        </p:nvSpPr>
        <p:spPr>
          <a:xfrm flipH="1">
            <a:off x="4457880" y="3973680"/>
            <a:ext cx="1498320" cy="1749240"/>
          </a:xfrm>
          <a:prstGeom prst="rtTriangle">
            <a:avLst/>
          </a:prstGeom>
          <a:solidFill>
            <a:srgbClr val="fff4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: 形状 18"/>
          <p:cNvSpPr/>
          <p:nvPr/>
        </p:nvSpPr>
        <p:spPr>
          <a:xfrm>
            <a:off x="1042920" y="1671480"/>
            <a:ext cx="4913280" cy="4051440"/>
          </a:xfrm>
          <a:custGeom>
            <a:avLst/>
            <a:gdLst/>
            <a:ahLst/>
            <a:rect l="l" t="t" r="r" b="b"/>
            <a:pathLst>
              <a:path w="4913387" h="3800730">
                <a:moveTo>
                  <a:pt x="2753832" y="0"/>
                </a:moveTo>
                <a:lnTo>
                  <a:pt x="4913387" y="0"/>
                </a:lnTo>
                <a:lnTo>
                  <a:pt x="4913387" y="2301916"/>
                </a:lnTo>
                <a:lnTo>
                  <a:pt x="3414573" y="3800730"/>
                </a:lnTo>
                <a:lnTo>
                  <a:pt x="0" y="3800730"/>
                </a:lnTo>
                <a:lnTo>
                  <a:pt x="0" y="2753832"/>
                </a:lnTo>
                <a:close/>
              </a:path>
            </a:pathLst>
          </a:custGeom>
          <a:solidFill>
            <a:srgbClr val="ffea9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角三角形 12"/>
          <p:cNvSpPr/>
          <p:nvPr/>
        </p:nvSpPr>
        <p:spPr>
          <a:xfrm flipV="1">
            <a:off x="1042920" y="1670400"/>
            <a:ext cx="2752920" cy="2754360"/>
          </a:xfrm>
          <a:prstGeom prst="rtTriangle">
            <a:avLst/>
          </a:prstGeom>
          <a:solidFill>
            <a:srgbClr val="fff4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1192320" y="1860480"/>
            <a:ext cx="45241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220680" indent="-220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并列式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0680" indent="-220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2d"/>
                </a:solidFill>
                <a:latin typeface="Arial"/>
                <a:ea typeface="微软雅黑"/>
              </a:rPr>
              <a:t>一缕清香一份洒脱，做真正的自我，展示高洁与傲岸，那是陶潜的五斗诗魂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0680" indent="-220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2d"/>
                </a:solidFill>
                <a:latin typeface="Arial"/>
                <a:ea typeface="微软雅黑"/>
              </a:rPr>
              <a:t>一江春水一曲悲歌，做真正的自我，满载大江与汪洋，那是文天祥的零丁绝唱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0680" indent="-220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2d"/>
                </a:solidFill>
                <a:latin typeface="Arial"/>
                <a:ea typeface="微软雅黑"/>
              </a:rPr>
              <a:t>一页历史一面镜子，做真正的自我，昭示理性与忠贞，那是屈平的水中离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5"/>
          <p:cNvSpPr/>
          <p:nvPr/>
        </p:nvSpPr>
        <p:spPr>
          <a:xfrm>
            <a:off x="1192320" y="289080"/>
            <a:ext cx="981072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63360" tIns="38160" bIns="3816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36700"/>
                </a:solidFill>
                <a:latin typeface="Arial"/>
                <a:ea typeface="微软雅黑"/>
              </a:rPr>
              <a:t>知  识  链  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6"/>
          <p:cNvSpPr/>
          <p:nvPr/>
        </p:nvSpPr>
        <p:spPr>
          <a:xfrm>
            <a:off x="533520" y="6004080"/>
            <a:ext cx="11314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Arial"/>
                <a:ea typeface="微软雅黑"/>
              </a:rPr>
              <a:t>议论文本论部分的结构方式一般有并列式（把论点分为几个分论点），对比式（正反对照），层进式（层层深入，步步推进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/>
          <p:cNvSpPr/>
          <p:nvPr/>
        </p:nvSpPr>
        <p:spPr>
          <a:xfrm>
            <a:off x="6396120" y="1596960"/>
            <a:ext cx="45943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Arial"/>
                <a:ea typeface="微软雅黑"/>
              </a:rPr>
              <a:t>结构清晰。先总说，主体部分以小标题的形式分述，借助陶渊明等三位历史名人的行为</a:t>
            </a:r>
            <a:r>
              <a:rPr b="1" lang="zh-CN" sz="2000" spc="-1" strike="noStrike">
                <a:solidFill>
                  <a:srgbClr val="00b0f0"/>
                </a:solidFill>
                <a:latin typeface="Arial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b0f0"/>
                </a:solidFill>
                <a:latin typeface="Arial"/>
                <a:ea typeface="微软雅黑"/>
              </a:rPr>
              <a:t>分别颂扬他们“自由不羁”“宁死不降”以及“忠贞与高洁”</a:t>
            </a:r>
            <a:r>
              <a:rPr b="1" lang="zh-CN" sz="2000" spc="-1" strike="noStrike">
                <a:solidFill>
                  <a:srgbClr val="00b0f0"/>
                </a:solidFill>
                <a:latin typeface="Arial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00b0f0"/>
                </a:solidFill>
                <a:latin typeface="Arial"/>
                <a:ea typeface="微软雅黑"/>
              </a:rPr>
              <a:t>，来诠释文章主旨——“做真正的自我”，显得生动形象。收篇处呼应开头，思路清晰而严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9"/>
          <p:cNvSpPr/>
          <p:nvPr/>
        </p:nvSpPr>
        <p:spPr>
          <a:xfrm>
            <a:off x="6095880" y="2362320"/>
            <a:ext cx="0" cy="2520720"/>
          </a:xfrm>
          <a:prstGeom prst="line">
            <a:avLst/>
          </a:prstGeom>
          <a:ln w="12600">
            <a:solidFill>
              <a:srgbClr val="d9d9d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2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7"/>
          <p:cNvSpPr/>
          <p:nvPr/>
        </p:nvSpPr>
        <p:spPr>
          <a:xfrm>
            <a:off x="0" y="5857920"/>
            <a:ext cx="12192120" cy="1000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角三角形 35"/>
          <p:cNvSpPr/>
          <p:nvPr/>
        </p:nvSpPr>
        <p:spPr>
          <a:xfrm flipV="1">
            <a:off x="0" y="5857920"/>
            <a:ext cx="1042920" cy="1000080"/>
          </a:xfrm>
          <a:prstGeom prst="rtTriangle">
            <a:avLst/>
          </a:prstGeom>
          <a:solidFill>
            <a:srgbClr val="fff4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角三角形 36"/>
          <p:cNvSpPr/>
          <p:nvPr/>
        </p:nvSpPr>
        <p:spPr>
          <a:xfrm flipH="1">
            <a:off x="11148840" y="5857920"/>
            <a:ext cx="1043280" cy="1000080"/>
          </a:xfrm>
          <a:prstGeom prst="rtTriangle">
            <a:avLst/>
          </a:prstGeom>
          <a:solidFill>
            <a:srgbClr val="fff4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角三角形 19"/>
          <p:cNvSpPr/>
          <p:nvPr/>
        </p:nvSpPr>
        <p:spPr>
          <a:xfrm flipH="1">
            <a:off x="9650520" y="3973680"/>
            <a:ext cx="1498320" cy="1749240"/>
          </a:xfrm>
          <a:prstGeom prst="rtTriangle">
            <a:avLst/>
          </a:prstGeom>
          <a:solidFill>
            <a:srgbClr val="fff4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: 形状 20"/>
          <p:cNvSpPr/>
          <p:nvPr/>
        </p:nvSpPr>
        <p:spPr>
          <a:xfrm>
            <a:off x="6235560" y="1671480"/>
            <a:ext cx="4915080" cy="4051440"/>
          </a:xfrm>
          <a:custGeom>
            <a:avLst/>
            <a:gdLst/>
            <a:ahLst/>
            <a:rect l="l" t="t" r="r" b="b"/>
            <a:pathLst>
              <a:path w="4913387" h="3800730">
                <a:moveTo>
                  <a:pt x="2753832" y="0"/>
                </a:moveTo>
                <a:lnTo>
                  <a:pt x="4913387" y="0"/>
                </a:lnTo>
                <a:lnTo>
                  <a:pt x="4913387" y="2301916"/>
                </a:lnTo>
                <a:lnTo>
                  <a:pt x="3414573" y="3800730"/>
                </a:lnTo>
                <a:lnTo>
                  <a:pt x="0" y="3800730"/>
                </a:lnTo>
                <a:lnTo>
                  <a:pt x="0" y="2753832"/>
                </a:lnTo>
                <a:close/>
              </a:path>
            </a:pathLst>
          </a:custGeom>
          <a:solidFill>
            <a:srgbClr val="ffea9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角三角形 21"/>
          <p:cNvSpPr/>
          <p:nvPr/>
        </p:nvSpPr>
        <p:spPr>
          <a:xfrm flipV="1">
            <a:off x="6235560" y="1670400"/>
            <a:ext cx="2754360" cy="2754360"/>
          </a:xfrm>
          <a:prstGeom prst="rtTriangle">
            <a:avLst/>
          </a:prstGeom>
          <a:solidFill>
            <a:srgbClr val="fff4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角三角形 17"/>
          <p:cNvSpPr/>
          <p:nvPr/>
        </p:nvSpPr>
        <p:spPr>
          <a:xfrm flipH="1">
            <a:off x="4457880" y="3973680"/>
            <a:ext cx="1498320" cy="1749240"/>
          </a:xfrm>
          <a:prstGeom prst="rtTriangle">
            <a:avLst/>
          </a:prstGeom>
          <a:solidFill>
            <a:srgbClr val="fff4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: 形状 18"/>
          <p:cNvSpPr/>
          <p:nvPr/>
        </p:nvSpPr>
        <p:spPr>
          <a:xfrm>
            <a:off x="1042920" y="1671480"/>
            <a:ext cx="4913280" cy="4051440"/>
          </a:xfrm>
          <a:custGeom>
            <a:avLst/>
            <a:gdLst/>
            <a:ahLst/>
            <a:rect l="l" t="t" r="r" b="b"/>
            <a:pathLst>
              <a:path w="4913387" h="3800730">
                <a:moveTo>
                  <a:pt x="2753832" y="0"/>
                </a:moveTo>
                <a:lnTo>
                  <a:pt x="4913387" y="0"/>
                </a:lnTo>
                <a:lnTo>
                  <a:pt x="4913387" y="2301916"/>
                </a:lnTo>
                <a:lnTo>
                  <a:pt x="3414573" y="3800730"/>
                </a:lnTo>
                <a:lnTo>
                  <a:pt x="0" y="3800730"/>
                </a:lnTo>
                <a:lnTo>
                  <a:pt x="0" y="2753832"/>
                </a:lnTo>
                <a:close/>
              </a:path>
            </a:pathLst>
          </a:custGeom>
          <a:solidFill>
            <a:srgbClr val="ffea9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角三角形 12"/>
          <p:cNvSpPr/>
          <p:nvPr/>
        </p:nvSpPr>
        <p:spPr>
          <a:xfrm flipV="1">
            <a:off x="1042920" y="1670400"/>
            <a:ext cx="2752920" cy="2754360"/>
          </a:xfrm>
          <a:prstGeom prst="rtTriangle">
            <a:avLst/>
          </a:prstGeom>
          <a:solidFill>
            <a:srgbClr val="fff4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4"/>
          <p:cNvSpPr/>
          <p:nvPr/>
        </p:nvSpPr>
        <p:spPr>
          <a:xfrm>
            <a:off x="1192320" y="1860480"/>
            <a:ext cx="47638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220680" indent="-220680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正反对照式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0680" indent="-220680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2d"/>
                </a:solidFill>
                <a:latin typeface="Arial"/>
                <a:ea typeface="微软雅黑"/>
              </a:rPr>
              <a:t>论点：我们应善于利用双赢的智慧，用自己的长处来弥补别人的短处，从而使自己的长处得到彰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0680" indent="-220680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2d"/>
                </a:solidFill>
                <a:latin typeface="Arial"/>
                <a:ea typeface="微软雅黑"/>
              </a:rPr>
              <a:t>论证：当我们能够积极帮助别人时，自身的价值便会得到体现，会使自己获得极高的信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0680" indent="-220680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2d"/>
                </a:solidFill>
                <a:latin typeface="Arial"/>
                <a:ea typeface="微软雅黑"/>
              </a:rPr>
              <a:t>相反，我们不善于采取双赢的智慧，不乐于施助于人，那么自己本身的发展便会极为缓慢，因为我们没有体现出自己的价值，不会获得别人的信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5"/>
          <p:cNvSpPr/>
          <p:nvPr/>
        </p:nvSpPr>
        <p:spPr>
          <a:xfrm>
            <a:off x="1192320" y="289080"/>
            <a:ext cx="981072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63360" tIns="38160" bIns="3816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36700"/>
                </a:solidFill>
                <a:latin typeface="Arial"/>
                <a:ea typeface="微软雅黑"/>
              </a:rPr>
              <a:t>知  识  链  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6"/>
          <p:cNvSpPr/>
          <p:nvPr/>
        </p:nvSpPr>
        <p:spPr>
          <a:xfrm>
            <a:off x="533520" y="6004080"/>
            <a:ext cx="11314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Arial"/>
                <a:ea typeface="微软雅黑"/>
              </a:rPr>
              <a:t>议论文本论部分的结构方式一般有并列式（把论点分为几个分论点），对比式（正反对照），层进式（层层深入，步步推进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9"/>
          <p:cNvSpPr/>
          <p:nvPr/>
        </p:nvSpPr>
        <p:spPr>
          <a:xfrm>
            <a:off x="6095880" y="2362320"/>
            <a:ext cx="0" cy="2520720"/>
          </a:xfrm>
          <a:prstGeom prst="line">
            <a:avLst/>
          </a:prstGeom>
          <a:ln w="12600">
            <a:solidFill>
              <a:srgbClr val="d9d9d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1" descr=""/>
          <p:cNvPicPr/>
          <p:nvPr/>
        </p:nvPicPr>
        <p:blipFill>
          <a:blip r:embed="rId1"/>
          <a:stretch/>
        </p:blipFill>
        <p:spPr>
          <a:xfrm>
            <a:off x="6235560" y="1774800"/>
            <a:ext cx="481824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7"/>
          <p:cNvSpPr/>
          <p:nvPr/>
        </p:nvSpPr>
        <p:spPr>
          <a:xfrm>
            <a:off x="0" y="5857920"/>
            <a:ext cx="12192120" cy="1000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角三角形 35"/>
          <p:cNvSpPr/>
          <p:nvPr/>
        </p:nvSpPr>
        <p:spPr>
          <a:xfrm flipV="1">
            <a:off x="0" y="5857920"/>
            <a:ext cx="1042920" cy="1000080"/>
          </a:xfrm>
          <a:prstGeom prst="rtTriangle">
            <a:avLst/>
          </a:prstGeom>
          <a:solidFill>
            <a:srgbClr val="fff4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角三角形 36"/>
          <p:cNvSpPr/>
          <p:nvPr/>
        </p:nvSpPr>
        <p:spPr>
          <a:xfrm flipH="1">
            <a:off x="11148840" y="5857920"/>
            <a:ext cx="1043280" cy="1000080"/>
          </a:xfrm>
          <a:prstGeom prst="rtTriangle">
            <a:avLst/>
          </a:prstGeom>
          <a:solidFill>
            <a:srgbClr val="fff4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角三角形 19"/>
          <p:cNvSpPr/>
          <p:nvPr/>
        </p:nvSpPr>
        <p:spPr>
          <a:xfrm flipH="1">
            <a:off x="9650520" y="3973680"/>
            <a:ext cx="1498320" cy="1749240"/>
          </a:xfrm>
          <a:prstGeom prst="rtTriangle">
            <a:avLst/>
          </a:prstGeom>
          <a:solidFill>
            <a:srgbClr val="fff4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: 形状 20"/>
          <p:cNvSpPr/>
          <p:nvPr/>
        </p:nvSpPr>
        <p:spPr>
          <a:xfrm>
            <a:off x="6235560" y="1671480"/>
            <a:ext cx="4915080" cy="4051440"/>
          </a:xfrm>
          <a:custGeom>
            <a:avLst/>
            <a:gdLst/>
            <a:ahLst/>
            <a:rect l="l" t="t" r="r" b="b"/>
            <a:pathLst>
              <a:path w="4913387" h="3800730">
                <a:moveTo>
                  <a:pt x="2753832" y="0"/>
                </a:moveTo>
                <a:lnTo>
                  <a:pt x="4913387" y="0"/>
                </a:lnTo>
                <a:lnTo>
                  <a:pt x="4913387" y="2301916"/>
                </a:lnTo>
                <a:lnTo>
                  <a:pt x="3414573" y="3800730"/>
                </a:lnTo>
                <a:lnTo>
                  <a:pt x="0" y="3800730"/>
                </a:lnTo>
                <a:lnTo>
                  <a:pt x="0" y="2753832"/>
                </a:lnTo>
                <a:close/>
              </a:path>
            </a:pathLst>
          </a:custGeom>
          <a:solidFill>
            <a:srgbClr val="ffea9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角三角形 21"/>
          <p:cNvSpPr/>
          <p:nvPr/>
        </p:nvSpPr>
        <p:spPr>
          <a:xfrm flipV="1">
            <a:off x="6235560" y="1670400"/>
            <a:ext cx="2754360" cy="2754360"/>
          </a:xfrm>
          <a:prstGeom prst="rtTriangle">
            <a:avLst/>
          </a:prstGeom>
          <a:solidFill>
            <a:srgbClr val="fff4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角三角形 17"/>
          <p:cNvSpPr/>
          <p:nvPr/>
        </p:nvSpPr>
        <p:spPr>
          <a:xfrm flipH="1">
            <a:off x="4457880" y="3973680"/>
            <a:ext cx="1498320" cy="1749240"/>
          </a:xfrm>
          <a:prstGeom prst="rtTriangle">
            <a:avLst/>
          </a:prstGeom>
          <a:solidFill>
            <a:srgbClr val="fff4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任意多边形: 形状 18"/>
          <p:cNvSpPr/>
          <p:nvPr/>
        </p:nvSpPr>
        <p:spPr>
          <a:xfrm>
            <a:off x="1042920" y="1671480"/>
            <a:ext cx="4913280" cy="4051440"/>
          </a:xfrm>
          <a:custGeom>
            <a:avLst/>
            <a:gdLst/>
            <a:ahLst/>
            <a:rect l="l" t="t" r="r" b="b"/>
            <a:pathLst>
              <a:path w="4913387" h="3800730">
                <a:moveTo>
                  <a:pt x="2753832" y="0"/>
                </a:moveTo>
                <a:lnTo>
                  <a:pt x="4913387" y="0"/>
                </a:lnTo>
                <a:lnTo>
                  <a:pt x="4913387" y="2301916"/>
                </a:lnTo>
                <a:lnTo>
                  <a:pt x="3414573" y="3800730"/>
                </a:lnTo>
                <a:lnTo>
                  <a:pt x="0" y="3800730"/>
                </a:lnTo>
                <a:lnTo>
                  <a:pt x="0" y="2753832"/>
                </a:lnTo>
                <a:close/>
              </a:path>
            </a:pathLst>
          </a:custGeom>
          <a:solidFill>
            <a:srgbClr val="ffea9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角三角形 12"/>
          <p:cNvSpPr/>
          <p:nvPr/>
        </p:nvSpPr>
        <p:spPr>
          <a:xfrm flipV="1">
            <a:off x="1042920" y="1670400"/>
            <a:ext cx="2752920" cy="2754360"/>
          </a:xfrm>
          <a:prstGeom prst="rtTriangle">
            <a:avLst/>
          </a:prstGeom>
          <a:solidFill>
            <a:srgbClr val="fff4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1042920" y="1860480"/>
            <a:ext cx="49132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220680" indent="-220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层进式（层层深入，步步推进）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0680" indent="-220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2d"/>
                </a:solidFill>
                <a:latin typeface="Arial"/>
                <a:ea typeface="微软雅黑"/>
              </a:rPr>
              <a:t>中心论点：为人沉稳，稳中求胜，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0680" indent="-220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2d"/>
                </a:solidFill>
                <a:latin typeface="Arial"/>
                <a:ea typeface="微软雅黑"/>
              </a:rPr>
              <a:t>分论点：沉稳从志而来；沉稳从难而来；沉稳从无欲而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0680" indent="-220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2d"/>
                </a:solidFill>
                <a:latin typeface="Arial"/>
                <a:ea typeface="微软雅黑"/>
              </a:rPr>
              <a:t>中心论点：双赢，使你我共辉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0680" indent="-220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2d"/>
                </a:solidFill>
                <a:latin typeface="Arial"/>
                <a:ea typeface="微软雅黑"/>
              </a:rPr>
              <a:t>中心句一：漫步于历史的沙滩，捡拾一枚枚成功的贝壳，上面写满了“双赢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0680" indent="-220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2d"/>
                </a:solidFill>
                <a:latin typeface="Arial"/>
                <a:ea typeface="微软雅黑"/>
              </a:rPr>
              <a:t>中心句二：双赢的光芒在今天依然闪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5"/>
          <p:cNvSpPr/>
          <p:nvPr/>
        </p:nvSpPr>
        <p:spPr>
          <a:xfrm>
            <a:off x="1192320" y="289080"/>
            <a:ext cx="981072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63360" tIns="38160" bIns="3816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36700"/>
                </a:solidFill>
                <a:latin typeface="Arial"/>
                <a:ea typeface="微软雅黑"/>
              </a:rPr>
              <a:t>知  识  链  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6"/>
          <p:cNvSpPr/>
          <p:nvPr/>
        </p:nvSpPr>
        <p:spPr>
          <a:xfrm>
            <a:off x="533520" y="6004080"/>
            <a:ext cx="11314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Arial"/>
                <a:ea typeface="微软雅黑"/>
              </a:rPr>
              <a:t>议论文本论部分的结构方式一般有并列式（把论点分为几个分论点），对比式（正反对照），层进式（层层深入，步步推进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9"/>
          <p:cNvSpPr/>
          <p:nvPr/>
        </p:nvSpPr>
        <p:spPr>
          <a:xfrm>
            <a:off x="6095880" y="2362320"/>
            <a:ext cx="0" cy="2520720"/>
          </a:xfrm>
          <a:prstGeom prst="line">
            <a:avLst/>
          </a:prstGeom>
          <a:ln w="12600">
            <a:solidFill>
              <a:srgbClr val="d9d9d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6235560" y="1774800"/>
            <a:ext cx="481824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6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9"/>
          <p:cNvSpPr/>
          <p:nvPr/>
        </p:nvSpPr>
        <p:spPr>
          <a:xfrm>
            <a:off x="330120" y="1527120"/>
            <a:ext cx="11552400" cy="4857840"/>
          </a:xfrm>
          <a:prstGeom prst="rect">
            <a:avLst/>
          </a:prstGeom>
          <a:noFill/>
          <a:ln w="6480">
            <a:solidFill>
              <a:srgbClr val="bbe0e3">
                <a:alpha val="20000"/>
              </a:srgbClr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7"/>
          <p:cNvSpPr/>
          <p:nvPr/>
        </p:nvSpPr>
        <p:spPr>
          <a:xfrm>
            <a:off x="318960" y="515880"/>
            <a:ext cx="11553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6700"/>
                </a:solidFill>
                <a:latin typeface="Arial"/>
                <a:ea typeface="微软雅黑"/>
              </a:rPr>
              <a:t>这篇文章在在写法上给了我们那些有益的启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12"/>
          <p:cNvSpPr/>
          <p:nvPr/>
        </p:nvSpPr>
        <p:spPr>
          <a:xfrm>
            <a:off x="439560" y="3929040"/>
            <a:ext cx="11268360" cy="0"/>
          </a:xfrm>
          <a:prstGeom prst="line">
            <a:avLst/>
          </a:prstGeom>
          <a:ln w="6480">
            <a:solidFill>
              <a:srgbClr val="836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5"/>
          <p:cNvSpPr/>
          <p:nvPr/>
        </p:nvSpPr>
        <p:spPr>
          <a:xfrm>
            <a:off x="439560" y="1527120"/>
            <a:ext cx="335628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2d"/>
                </a:solidFill>
                <a:latin typeface="Arial"/>
                <a:ea typeface="微软雅黑"/>
              </a:rPr>
              <a:t>文章开头引用《易传</a:t>
            </a:r>
            <a:r>
              <a:rPr b="1" lang="zh-CN" sz="2000" spc="-1" strike="noStrike">
                <a:solidFill>
                  <a:srgbClr val="2d2d2d"/>
                </a:solidFill>
                <a:latin typeface="Arial"/>
                <a:ea typeface="微软雅黑"/>
              </a:rPr>
              <a:t>·</a:t>
            </a:r>
            <a:r>
              <a:rPr b="1" lang="zh-CN" sz="2000" spc="-1" strike="noStrike">
                <a:solidFill>
                  <a:srgbClr val="2d2d2d"/>
                </a:solidFill>
                <a:latin typeface="Arial"/>
                <a:ea typeface="微软雅黑"/>
              </a:rPr>
              <a:t>文言》中的“修辞立其诚”这句话，引出全文的中心论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4307040" y="1789200"/>
            <a:ext cx="36036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2d"/>
                </a:solidFill>
                <a:latin typeface="Arial"/>
                <a:ea typeface="微软雅黑"/>
              </a:rPr>
              <a:t>文章第七段引用《管子》书中《心术上》的话，论证认识客观世界要舍弃自己的主观偏见，力求认识外物的本来面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6"/>
          <p:cNvSpPr/>
          <p:nvPr/>
        </p:nvSpPr>
        <p:spPr>
          <a:xfrm>
            <a:off x="8145360" y="1692360"/>
            <a:ext cx="34927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2d"/>
                </a:solidFill>
                <a:latin typeface="Arial"/>
                <a:ea typeface="微软雅黑"/>
              </a:rPr>
              <a:t>文章第九段引用《汉书</a:t>
            </a:r>
            <a:r>
              <a:rPr b="1" lang="zh-CN" sz="2000" spc="-1" strike="noStrike">
                <a:solidFill>
                  <a:srgbClr val="2d2d2d"/>
                </a:solidFill>
                <a:latin typeface="Arial"/>
                <a:ea typeface="微软雅黑"/>
              </a:rPr>
              <a:t>·</a:t>
            </a:r>
            <a:r>
              <a:rPr b="1" lang="zh-CN" sz="2000" spc="-1" strike="noStrike">
                <a:solidFill>
                  <a:srgbClr val="2d2d2d"/>
                </a:solidFill>
                <a:latin typeface="Arial"/>
                <a:ea typeface="微软雅黑"/>
              </a:rPr>
              <a:t>儒林传》中经师辕固曾对公孙弘的话，告诫人们不要说假话以讨好时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3"/>
          <p:cNvSpPr/>
          <p:nvPr/>
        </p:nvSpPr>
        <p:spPr>
          <a:xfrm>
            <a:off x="439560" y="4168800"/>
            <a:ext cx="353412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2d"/>
                </a:solidFill>
                <a:latin typeface="Arial"/>
                <a:ea typeface="微软雅黑"/>
              </a:rPr>
              <a:t>总之，引用古言，既充分论证了文章的中心论点，增强了文章的说服力，又丰富了文章内容，增强了文章的文化底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7"/>
          <p:cNvSpPr/>
          <p:nvPr/>
        </p:nvSpPr>
        <p:spPr>
          <a:xfrm>
            <a:off x="4307040" y="3929040"/>
            <a:ext cx="341460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安排好论证结构。比如本文把层进式、总分式、并列式三种方式结合起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8"/>
          <p:cNvSpPr/>
          <p:nvPr/>
        </p:nvSpPr>
        <p:spPr>
          <a:xfrm>
            <a:off x="8388360" y="3929040"/>
            <a:ext cx="31687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用好引证法。比如本文多处运用引用论证的方法来进行论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9"/>
          <p:cNvSpPr/>
          <p:nvPr/>
        </p:nvSpPr>
        <p:spPr>
          <a:xfrm>
            <a:off x="4143240" y="1789200"/>
            <a:ext cx="0" cy="4294080"/>
          </a:xfrm>
          <a:prstGeom prst="line">
            <a:avLst/>
          </a:prstGeom>
          <a:ln w="6480">
            <a:solidFill>
              <a:srgbClr val="836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20"/>
          <p:cNvSpPr/>
          <p:nvPr/>
        </p:nvSpPr>
        <p:spPr>
          <a:xfrm>
            <a:off x="8070840" y="1789200"/>
            <a:ext cx="0" cy="4294080"/>
          </a:xfrm>
          <a:prstGeom prst="line">
            <a:avLst/>
          </a:prstGeom>
          <a:ln w="6480">
            <a:solidFill>
              <a:srgbClr val="836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3" descr=""/>
          <p:cNvPicPr/>
          <p:nvPr/>
        </p:nvPicPr>
        <p:blipFill>
          <a:blip r:embed="rId1"/>
          <a:stretch/>
        </p:blipFill>
        <p:spPr>
          <a:xfrm>
            <a:off x="-17640" y="4680"/>
            <a:ext cx="12207960" cy="689472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4"/>
          <p:cNvSpPr/>
          <p:nvPr/>
        </p:nvSpPr>
        <p:spPr>
          <a:xfrm>
            <a:off x="2147040" y="592200"/>
            <a:ext cx="1979640" cy="1856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运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3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12204720" cy="689616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4"/>
          <p:cNvSpPr/>
          <p:nvPr/>
        </p:nvSpPr>
        <p:spPr>
          <a:xfrm>
            <a:off x="2147040" y="592200"/>
            <a:ext cx="1979640" cy="1856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导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9"/>
          <p:cNvSpPr/>
          <p:nvPr/>
        </p:nvSpPr>
        <p:spPr>
          <a:xfrm>
            <a:off x="0" y="952560"/>
            <a:ext cx="12192120" cy="4952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6"/>
          <p:cNvSpPr/>
          <p:nvPr/>
        </p:nvSpPr>
        <p:spPr>
          <a:xfrm>
            <a:off x="609480" y="1033560"/>
            <a:ext cx="111618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古人曾说：“为人要直，为文要曲。”而《修辞立其诚》强调作文、为人都要说真话、讲实话。二者在为文的要求方面是否矛盾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tle 6"/>
          <p:cNvSpPr/>
          <p:nvPr/>
        </p:nvSpPr>
        <p:spPr>
          <a:xfrm>
            <a:off x="609480" y="2249640"/>
            <a:ext cx="1097280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示例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：不矛盾。“为文要曲”中的“曲”侧重指文章的外在形式，如在构思、选材、立意、语言方面，讲究情节曲折、谋篇不单调、立意含蓄、善用曲笔等。而《修辞立其诚》强调作文、为人都要说真话、讲实话，侧重指文章的内容要真实，要表达自己的真实感情，形式是为内容服务的，“曲”的形式有时反而会更有助于表达“真”的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6"/>
          <p:cNvSpPr/>
          <p:nvPr/>
        </p:nvSpPr>
        <p:spPr>
          <a:xfrm>
            <a:off x="609480" y="3970440"/>
            <a:ext cx="1097280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示例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：矛盾。人们常说“文如其人”“言为心声”，文章有时候能如实的反映一个人的内心想法、品德修养。一个正直的人，他的文章会充满浩然之气；一个虚伪的人，特德文章会假话连篇。因此，“为文要曲”和强调作文、为人都要说真话、讲实话在某种程度上是矛盾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9"/>
          <p:cNvSpPr/>
          <p:nvPr/>
        </p:nvSpPr>
        <p:spPr>
          <a:xfrm>
            <a:off x="0" y="0"/>
            <a:ext cx="12192120" cy="91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3"/>
          <p:cNvSpPr/>
          <p:nvPr/>
        </p:nvSpPr>
        <p:spPr>
          <a:xfrm>
            <a:off x="457200" y="152280"/>
            <a:ext cx="11277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36700"/>
                </a:solidFill>
                <a:latin typeface="微软雅黑"/>
                <a:ea typeface="微软雅黑"/>
              </a:rPr>
              <a:t>阅读《丑娘》，说说这篇文章取得成功的原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tle 6"/>
          <p:cNvSpPr/>
          <p:nvPr/>
        </p:nvSpPr>
        <p:spPr>
          <a:xfrm>
            <a:off x="303120" y="1158840"/>
            <a:ext cx="115855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noAutofit/>
          </a:bodyPr>
          <a:p>
            <a:pPr marL="285840" indent="-285840">
              <a:lnSpc>
                <a:spcPct val="130000"/>
              </a:lnSpc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村里没有人不说我娘长得丑，或许是这个缘故，在她嫁给我爸之后，人们先是叫她“丑媳妇”，在生下我们姐弟四个之后，大家都称她为“丑娘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八岁那年，我开始到离家很远的地方去上学。当时我不明白“丑”是什么意思，因为我娘待我特别好。临走的时候，她给我做了一双毛边鞋、一个小书包，书包上面绣着一只小白兔。我依稀记得，把我送到村口时，她流下了眼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不久后的一件事使我认识了我的母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天，学校上体育课，因为舍不得穿娘做的新鞋，我把它脱下来挂在凳子上。老师看见了。他提过鞋子，左看右看，随即又把鞋子举得高高的，兴奋地说</a:t>
            </a: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:“</a:t>
            </a: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好漂亮的鞋啊</a:t>
            </a: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!”</a:t>
            </a: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说着，又把鞋底端详了半天，数着一层一层粘起的鞋底，足有八层之多，且针脚细密结实，靠脚掌和脚跟的部分都挑上了花。他问我</a:t>
            </a: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:“</a:t>
            </a: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你娘一定很漂亮吧</a:t>
            </a: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?”</a:t>
            </a: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没等我回答，同村的一个女同学抢了话头</a:t>
            </a: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:“</a:t>
            </a: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老师，他娘不漂亮，村里人都叫她‘丑娘’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我仿佛明白了“丑”的意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9"/>
          <p:cNvSpPr/>
          <p:nvPr/>
        </p:nvSpPr>
        <p:spPr>
          <a:xfrm>
            <a:off x="0" y="0"/>
            <a:ext cx="12192120" cy="91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3"/>
          <p:cNvSpPr/>
          <p:nvPr/>
        </p:nvSpPr>
        <p:spPr>
          <a:xfrm>
            <a:off x="457200" y="152280"/>
            <a:ext cx="11277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36700"/>
                </a:solidFill>
                <a:latin typeface="微软雅黑"/>
                <a:ea typeface="微软雅黑"/>
              </a:rPr>
              <a:t>阅读《丑娘》，说说这篇文章取得成功的原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6"/>
          <p:cNvSpPr/>
          <p:nvPr/>
        </p:nvSpPr>
        <p:spPr>
          <a:xfrm>
            <a:off x="303120" y="1158840"/>
            <a:ext cx="115855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no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或许那位女同学的话是对的。我娘长得确实不漂亮，苍白的肤色，瘦得可怕的身材，五官也极不协调。从此，我心里像含着什么委屈，在公开场合很少提及她，更不愿把同学领到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转眼间，我走上了工作岗位，长成了一个大小伙子了，娘更加苍老了，头发变得稀疏而花白。想想娘养我这么大，一辈子在农村吃苦，且面对别人的嘲笑从不与人红脸，对种种伤心话语表现出来的难得的平静，我的心在发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前年年底，按照她的嘱咐，年关之前要和女友赶到家里。我事先和女友讲好，娘一辈子在农村劳作，显老显丑，见了面多说宽心话。女友说</a:t>
            </a: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:“</a:t>
            </a: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谁没有老的一天，但娘一定不丑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9"/>
          <p:cNvSpPr/>
          <p:nvPr/>
        </p:nvSpPr>
        <p:spPr>
          <a:xfrm>
            <a:off x="0" y="0"/>
            <a:ext cx="12192120" cy="91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"/>
          <p:cNvSpPr/>
          <p:nvPr/>
        </p:nvSpPr>
        <p:spPr>
          <a:xfrm>
            <a:off x="457200" y="152280"/>
            <a:ext cx="11277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36700"/>
                </a:solidFill>
                <a:latin typeface="微软雅黑"/>
                <a:ea typeface="微软雅黑"/>
              </a:rPr>
              <a:t>阅读《丑娘》，说说这篇文章取得成功的原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tle 6"/>
          <p:cNvSpPr/>
          <p:nvPr/>
        </p:nvSpPr>
        <p:spPr>
          <a:xfrm>
            <a:off x="303120" y="1108080"/>
            <a:ext cx="1158552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no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到家了，不知怎的，我们发现屋里空荡荡的，弟弟的眼睛红肿，精神不振。我一问才知道娘在三天前生了重病，住院了。弟说娘不想让我知道，要不会冲我和女友的喜。望着突然空寂和失去生气的屋子，我极力控制着自己的感情。弟又捧过一红布包给我，说是娘特意交代的，我打开一看，原来是两双精致的毛边布鞋，一大一小，显然一双是给我的，一双是给她未来媳妇的。看着看着，我和女友的眼泪如泉水般涌了出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现在，我时时想起儿时老师说过的话</a:t>
            </a: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:“</a:t>
            </a: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你娘一定很漂亮吧</a:t>
            </a: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99"/>
          <p:cNvSpPr/>
          <p:nvPr/>
        </p:nvSpPr>
        <p:spPr>
          <a:xfrm>
            <a:off x="647640" y="4687920"/>
            <a:ext cx="10706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写真事，不避讳。 没有回避母亲的丑，开头的侧面写，中间的正面写。中间的我的心情很真实。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9"/>
          <p:cNvSpPr/>
          <p:nvPr/>
        </p:nvSpPr>
        <p:spPr>
          <a:xfrm>
            <a:off x="0" y="952560"/>
            <a:ext cx="12192120" cy="4952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tle 6"/>
          <p:cNvSpPr/>
          <p:nvPr/>
        </p:nvSpPr>
        <p:spPr>
          <a:xfrm>
            <a:off x="609480" y="1190520"/>
            <a:ext cx="109728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写作方法固然重要，但要写出“真实真切，感人”的文章，首先要做一个热爱生活的人，高明的作家或者聪明的初学写作的人都是平实地写生活中的琐事，只有热爱生活的人才会写作，因为独特的感情来源于独特的经历和感受，来自于对独特经历和真心感受的提炼。“修辞立其诚”，“诚”是内在的，“辞”是外在的，“诚”是主导，“辞”以“诚”存，“立诚”之“辞”才更有价值和魅力。希望大家面对生活微笑，去发现生活中的美，让它流淌在我们的心间，绘成一道道美丽的风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直接连接符 9"/>
          <p:cNvSpPr/>
          <p:nvPr/>
        </p:nvSpPr>
        <p:spPr>
          <a:xfrm>
            <a:off x="609480" y="5294160"/>
            <a:ext cx="10972800" cy="0"/>
          </a:xfrm>
          <a:prstGeom prst="line">
            <a:avLst/>
          </a:prstGeom>
          <a:ln w="255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"/>
          <p:cNvSpPr/>
          <p:nvPr/>
        </p:nvSpPr>
        <p:spPr>
          <a:xfrm>
            <a:off x="609480" y="609480"/>
            <a:ext cx="10972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6700"/>
                </a:solidFill>
                <a:latin typeface="微软雅黑"/>
                <a:ea typeface="微软雅黑"/>
              </a:rPr>
              <a:t>阅读下面三个片段，谈谈你的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6"/>
          <p:cNvSpPr/>
          <p:nvPr/>
        </p:nvSpPr>
        <p:spPr>
          <a:xfrm>
            <a:off x="531720" y="1434960"/>
            <a:ext cx="1116036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38383"/>
                </a:solidFill>
                <a:latin typeface="微软雅黑"/>
                <a:ea typeface="微软雅黑"/>
              </a:rPr>
              <a:t>一天，我患了重感冒，发烧至四十度，早饭后独自骑着自行车去医院看病。骑着骑着，正面开来一辆大卡车，眼看就要轧着一位拄着棍蹒跚着正要横穿马路的老大爷。” 就在这紧要关头，我的头脑里思想斗争很激烈。去救吧，要耽误自己看病，不救吧，眼看着悲剧就要发生。正在这时，雷锋、赖宁等英雄形象掠过我的脑海。我想，自己是新时代的中学生，更应为人民做好事。于是，我不管三七二十一，跳下车，用尽全力一推，老大爷得救了。这时的老大爷激动万分，热泪滚滚，握住我的手说：“娃啊，现在精神文明建设的春风吹遍了祖国的每个角落，社会上的好人好事像雨后春笋般层出不穷，你的行为是多么伟大，多么崇高啊，你就是一个光辉的典范。我为我们国家有你这样高尚的学生而感到无比自豪和骄傲。我代表人民感谢你。”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6"/>
          <p:cNvSpPr/>
          <p:nvPr/>
        </p:nvSpPr>
        <p:spPr>
          <a:xfrm>
            <a:off x="531720" y="5524560"/>
            <a:ext cx="113173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38383"/>
                </a:solidFill>
                <a:latin typeface="微软雅黑"/>
                <a:ea typeface="微软雅黑"/>
              </a:rPr>
              <a:t>盈盈月光，我掬一捧最清的；落落余晖，我拥一缕最暖的；灼灼红叶，我拾一片最热的；萋萋芳华，我摘一束最灿的；对待朋友，我选择最和善的方式。（以“待人和善”为话题的开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609480" y="1371600"/>
            <a:ext cx="609840" cy="63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4"/>
          <p:cNvSpPr/>
          <p:nvPr/>
        </p:nvSpPr>
        <p:spPr>
          <a:xfrm>
            <a:off x="609480" y="609480"/>
            <a:ext cx="10972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6700"/>
                </a:solidFill>
                <a:latin typeface="微软雅黑"/>
                <a:ea typeface="微软雅黑"/>
              </a:rPr>
              <a:t>阅读下面三个片段，谈谈你的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6"/>
          <p:cNvSpPr/>
          <p:nvPr/>
        </p:nvSpPr>
        <p:spPr>
          <a:xfrm>
            <a:off x="515880" y="1563840"/>
            <a:ext cx="11160360" cy="45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38383"/>
                </a:solidFill>
                <a:latin typeface="微软雅黑"/>
                <a:ea typeface="微软雅黑"/>
              </a:rPr>
              <a:t>麦收时节，天空显得非常的明净。在麦田上空，偶尔悠然地游过几朵白云。 麦收时节，中午常是烈日当空。我们勤劳的父母，不得不在烈日下劳动。 我是一个农家子弟。我明白我们乡下的家长们要靠田地来生活，供我们上学。他们为了子女辛勤地劳动，但没有半句怨言。在家，我常听到他们说：“只要孩子搞好了，再苦再累，我们都愿意……” …… </a:t>
            </a:r>
            <a:r>
              <a:rPr b="1" lang="zh-CN" sz="2000" spc="-1" strike="noStrike">
                <a:solidFill>
                  <a:srgbClr val="838383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838383"/>
                </a:solidFill>
                <a:latin typeface="微软雅黑"/>
                <a:ea typeface="微软雅黑"/>
              </a:rPr>
              <a:t>月</a:t>
            </a:r>
            <a:r>
              <a:rPr b="1" lang="zh-CN" sz="2000" spc="-1" strike="noStrike">
                <a:solidFill>
                  <a:srgbClr val="838383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838383"/>
                </a:solidFill>
                <a:latin typeface="微软雅黑"/>
                <a:ea typeface="微软雅黑"/>
              </a:rPr>
              <a:t>日早晨，我爸起得很早。四点多钟就起了。他临下地时告诉我说：“你再睡会吧！六点钟起来做饭，然后洗洗衣服，八点钟到地里给我送饭。”……当我到地里时，父亲已割了七八垄了。他脸上很多汗珠，衣服湿透了。他说：“你来，吃过了吗？我割光这一垄，再吃……” 大概四、五分钟吧，他割光了。他从篮子里拿出饭盆、馍头，边吃边说：“孩子，你爸没本事，明天到县城后好好休息！后天好好考，别紧张……”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609480" y="1371600"/>
            <a:ext cx="609840" cy="63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99"/>
          <p:cNvSpPr/>
          <p:nvPr/>
        </p:nvSpPr>
        <p:spPr>
          <a:xfrm>
            <a:off x="2411280" y="5872320"/>
            <a:ext cx="659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写真话，抒真情是作文的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4876920" y="914400"/>
            <a:ext cx="7315200" cy="5029200"/>
          </a:xfrm>
          <a:prstGeom prst="rect">
            <a:avLst/>
          </a:prstGeom>
          <a:ln w="0">
            <a:noFill/>
          </a:ln>
        </p:spPr>
      </p:pic>
      <p:sp>
        <p:nvSpPr>
          <p:cNvPr id="55" name="圆角矩形 8"/>
          <p:cNvSpPr/>
          <p:nvPr/>
        </p:nvSpPr>
        <p:spPr>
          <a:xfrm>
            <a:off x="544680" y="1981080"/>
            <a:ext cx="5246640" cy="3048120"/>
          </a:xfrm>
          <a:prstGeom prst="roundRect">
            <a:avLst>
              <a:gd name="adj" fmla="val 6306"/>
            </a:avLst>
          </a:prstGeom>
          <a:solidFill>
            <a:srgbClr val="808080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接箭头连接符 11"/>
          <p:cNvCxnSpPr/>
          <p:nvPr/>
        </p:nvCxnSpPr>
        <p:spPr>
          <a:xfrm>
            <a:off x="5334120" y="4723920"/>
            <a:ext cx="172080" cy="10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lg"/>
          </a:ln>
        </p:spPr>
      </p:cxnSp>
      <p:sp>
        <p:nvSpPr>
          <p:cNvPr id="57" name="Title 6"/>
          <p:cNvSpPr/>
          <p:nvPr/>
        </p:nvSpPr>
        <p:spPr>
          <a:xfrm>
            <a:off x="743040" y="2257560"/>
            <a:ext cx="4965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noAutofit/>
          </a:bodyPr>
          <a:p>
            <a:pPr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8383"/>
                </a:solidFill>
                <a:latin typeface="微软雅黑"/>
                <a:ea typeface="微软雅黑"/>
              </a:rPr>
              <a:t>作文这件事，离不开生活，生活充实到什么程度，才会做成什么文字。否则就会陷入不切实际的唯技艺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8383"/>
                </a:solidFill>
                <a:latin typeface="微软雅黑"/>
                <a:ea typeface="微软雅黑"/>
              </a:rPr>
              <a:t>                 ——</a:t>
            </a:r>
            <a:r>
              <a:rPr b="1" lang="zh-CN" sz="2800" spc="-1" strike="noStrike">
                <a:solidFill>
                  <a:srgbClr val="838383"/>
                </a:solidFill>
                <a:latin typeface="微软雅黑"/>
                <a:ea typeface="微软雅黑"/>
              </a:rPr>
              <a:t>叶圣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4"/>
          <p:cNvSpPr/>
          <p:nvPr/>
        </p:nvSpPr>
        <p:spPr>
          <a:xfrm>
            <a:off x="609480" y="609480"/>
            <a:ext cx="10972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6700"/>
                </a:solidFill>
                <a:latin typeface="微软雅黑"/>
                <a:ea typeface="微软雅黑"/>
              </a:rPr>
              <a:t>写作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le 6"/>
          <p:cNvSpPr/>
          <p:nvPr/>
        </p:nvSpPr>
        <p:spPr>
          <a:xfrm>
            <a:off x="515880" y="1563840"/>
            <a:ext cx="1116036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38383"/>
                </a:solidFill>
                <a:latin typeface="微软雅黑"/>
                <a:ea typeface="微软雅黑"/>
              </a:rPr>
              <a:t>本文写于</a:t>
            </a:r>
            <a:r>
              <a:rPr b="1" lang="zh-CN" sz="2000" spc="-1" strike="noStrike">
                <a:solidFill>
                  <a:srgbClr val="838383"/>
                </a:solidFill>
                <a:latin typeface="微软雅黑"/>
                <a:ea typeface="微软雅黑"/>
              </a:rPr>
              <a:t>1992</a:t>
            </a:r>
            <a:r>
              <a:rPr b="1" lang="zh-CN" sz="2000" spc="-1" strike="noStrike">
                <a:solidFill>
                  <a:srgbClr val="838383"/>
                </a:solidFill>
                <a:latin typeface="微软雅黑"/>
                <a:ea typeface="微软雅黑"/>
              </a:rPr>
              <a:t>年。当时，中国市场经济蓬勃发展，然而人心浮躁，甚至一些学者文人也因生活所需，急功近利，言辞浮夸。有感于此，张岱年先生写了《修辞立其诚》一文，呼吁作文、为人都要“立其诚”。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2"/>
          <p:cNvSpPr/>
          <p:nvPr/>
        </p:nvSpPr>
        <p:spPr>
          <a:xfrm>
            <a:off x="609480" y="1360440"/>
            <a:ext cx="609840" cy="63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6"/>
          <p:cNvSpPr/>
          <p:nvPr/>
        </p:nvSpPr>
        <p:spPr>
          <a:xfrm>
            <a:off x="515880" y="3470400"/>
            <a:ext cx="1116036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38383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838383"/>
                </a:solidFill>
                <a:latin typeface="微软雅黑"/>
                <a:ea typeface="微软雅黑"/>
              </a:rPr>
              <a:t>修辞立其诚”出自《易传</a:t>
            </a:r>
            <a:r>
              <a:rPr b="1" lang="zh-CN" sz="2000" spc="-1" strike="noStrike">
                <a:solidFill>
                  <a:srgbClr val="838383"/>
                </a:solidFill>
                <a:latin typeface="微软雅黑"/>
                <a:ea typeface="微软雅黑"/>
              </a:rPr>
              <a:t>·</a:t>
            </a:r>
            <a:r>
              <a:rPr b="1" lang="zh-CN" sz="2000" spc="-1" strike="noStrike">
                <a:solidFill>
                  <a:srgbClr val="838383"/>
                </a:solidFill>
                <a:latin typeface="微软雅黑"/>
                <a:ea typeface="微软雅黑"/>
              </a:rPr>
              <a:t>文言》：“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君子进德修业。忠信所以进德也；修辞立其诚，所以居业也。”</a:t>
            </a:r>
            <a:r>
              <a:rPr b="1" lang="zh-CN" sz="2000" spc="-1" strike="noStrike">
                <a:solidFill>
                  <a:srgbClr val="838383"/>
                </a:solidFill>
                <a:latin typeface="微软雅黑"/>
                <a:ea typeface="微软雅黑"/>
              </a:rPr>
              <a:t>意思是君子致力于培育品德，增进学业，以忠信来培养品德，以修饰言辞来建立诚信，这是操持自己事业的立足点。“修辞”本指注重文化修养，后指修饰词句。“修辞立其诚”指文章修辞要服从于内容的真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38383"/>
                </a:solidFill>
                <a:latin typeface="微软雅黑"/>
                <a:ea typeface="微软雅黑"/>
              </a:rPr>
              <a:t>在本文中，“修辞立其诚”指作文、为人都要讲真话、说实话，表达自己的真实情感。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9"/>
          <p:cNvSpPr/>
          <p:nvPr/>
        </p:nvSpPr>
        <p:spPr>
          <a:xfrm>
            <a:off x="515880" y="3218040"/>
            <a:ext cx="10972800" cy="0"/>
          </a:xfrm>
          <a:prstGeom prst="line">
            <a:avLst/>
          </a:prstGeom>
          <a:ln w="255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3" descr=""/>
          <p:cNvPicPr/>
          <p:nvPr/>
        </p:nvPicPr>
        <p:blipFill>
          <a:blip r:embed="rId1"/>
          <a:stretch/>
        </p:blipFill>
        <p:spPr>
          <a:xfrm>
            <a:off x="-17640" y="4680"/>
            <a:ext cx="12207960" cy="689472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4"/>
          <p:cNvSpPr/>
          <p:nvPr/>
        </p:nvSpPr>
        <p:spPr>
          <a:xfrm>
            <a:off x="2147040" y="592200"/>
            <a:ext cx="1979640" cy="1856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"/>
          <p:cNvPicPr/>
          <p:nvPr/>
        </p:nvPicPr>
        <p:blipFill>
          <a:blip r:embed="rId1"/>
          <a:stretch/>
        </p:blipFill>
        <p:spPr>
          <a:xfrm>
            <a:off x="4876920" y="914400"/>
            <a:ext cx="7315200" cy="5029200"/>
          </a:xfrm>
          <a:prstGeom prst="rect">
            <a:avLst/>
          </a:prstGeom>
          <a:ln w="0">
            <a:noFill/>
          </a:ln>
        </p:spPr>
      </p:pic>
      <p:sp>
        <p:nvSpPr>
          <p:cNvPr id="66" name="圆角矩形 8"/>
          <p:cNvSpPr/>
          <p:nvPr/>
        </p:nvSpPr>
        <p:spPr>
          <a:xfrm>
            <a:off x="1066680" y="1981080"/>
            <a:ext cx="4724640" cy="3048120"/>
          </a:xfrm>
          <a:prstGeom prst="roundRect">
            <a:avLst>
              <a:gd name="adj" fmla="val 6306"/>
            </a:avLst>
          </a:prstGeom>
          <a:solidFill>
            <a:srgbClr val="808080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直接箭头连接符 11"/>
          <p:cNvCxnSpPr/>
          <p:nvPr/>
        </p:nvCxnSpPr>
        <p:spPr>
          <a:xfrm>
            <a:off x="5334120" y="4723920"/>
            <a:ext cx="172080" cy="10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lg"/>
          </a:ln>
        </p:spPr>
      </p:cxnSp>
      <p:sp>
        <p:nvSpPr>
          <p:cNvPr id="68" name="Title 6"/>
          <p:cNvSpPr/>
          <p:nvPr/>
        </p:nvSpPr>
        <p:spPr>
          <a:xfrm>
            <a:off x="1187280" y="2549520"/>
            <a:ext cx="44532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noAutofit/>
          </a:bodyPr>
          <a:p>
            <a:pPr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8383"/>
                </a:solidFill>
                <a:latin typeface="微软雅黑"/>
                <a:ea typeface="微软雅黑"/>
              </a:rPr>
              <a:t>运用批注方式自读全文：标出重要字词；画出表明作者观点的句子；概括文章每个自然段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9"/>
          <p:cNvSpPr/>
          <p:nvPr/>
        </p:nvSpPr>
        <p:spPr>
          <a:xfrm>
            <a:off x="3436920" y="1101600"/>
            <a:ext cx="51991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27272"/>
                </a:solidFill>
                <a:latin typeface="Arial"/>
                <a:ea typeface="微软雅黑"/>
              </a:rPr>
              <a:t>经师：旧时讲授经书的教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1"/>
          <p:cNvSpPr/>
          <p:nvPr/>
        </p:nvSpPr>
        <p:spPr>
          <a:xfrm>
            <a:off x="525600" y="2208240"/>
            <a:ext cx="264312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36700"/>
                </a:solidFill>
                <a:latin typeface="Arial"/>
                <a:ea typeface="微软雅黑"/>
              </a:rPr>
              <a:t>字词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3"/>
          <p:cNvSpPr/>
          <p:nvPr/>
        </p:nvSpPr>
        <p:spPr>
          <a:xfrm>
            <a:off x="768240" y="4302000"/>
            <a:ext cx="2157480" cy="12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6"/>
          <p:cNvSpPr/>
          <p:nvPr/>
        </p:nvSpPr>
        <p:spPr>
          <a:xfrm>
            <a:off x="2311560" y="946080"/>
            <a:ext cx="8894520" cy="4967280"/>
          </a:xfrm>
          <a:custGeom>
            <a:avLst/>
            <a:gdLst/>
            <a:ahLst/>
            <a:rect l="l" t="t" r="r" b="b"/>
            <a:pathLst>
              <a:path w="14004" h="7822">
                <a:moveTo>
                  <a:pt x="5" y="1622"/>
                </a:moveTo>
                <a:lnTo>
                  <a:pt x="0" y="0"/>
                </a:lnTo>
                <a:lnTo>
                  <a:pt x="14004" y="0"/>
                </a:lnTo>
                <a:lnTo>
                  <a:pt x="14004" y="7822"/>
                </a:lnTo>
                <a:lnTo>
                  <a:pt x="0" y="7822"/>
                </a:lnTo>
                <a:lnTo>
                  <a:pt x="5" y="6212"/>
                </a:lnTo>
              </a:path>
            </a:pathLst>
          </a:custGeom>
          <a:noFill/>
          <a:ln w="19080">
            <a:solidFill>
              <a:srgbClr val="d9d9d9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"/>
          <p:cNvSpPr/>
          <p:nvPr/>
        </p:nvSpPr>
        <p:spPr>
          <a:xfrm>
            <a:off x="3436920" y="1879560"/>
            <a:ext cx="7216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27272"/>
                </a:solidFill>
                <a:latin typeface="Arial"/>
                <a:ea typeface="微软雅黑"/>
              </a:rPr>
              <a:t>曲学阿世：学些邪门歪道的东西，以迎合时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"/>
          <p:cNvSpPr/>
          <p:nvPr/>
        </p:nvSpPr>
        <p:spPr>
          <a:xfrm>
            <a:off x="3497400" y="2951280"/>
            <a:ext cx="67896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27272"/>
                </a:solidFill>
                <a:latin typeface="Arial"/>
                <a:ea typeface="微软雅黑"/>
              </a:rPr>
              <a:t>顺风转舵：随着风向转换舵位。比喻顺着情势改变态度（含贬义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3497400" y="4226040"/>
            <a:ext cx="6800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27272"/>
                </a:solidFill>
                <a:latin typeface="Arial"/>
                <a:ea typeface="微软雅黑"/>
              </a:rPr>
              <a:t>哗众取宠：以浮夸的言论迎合群众，骗取群众的信赖和支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6T10:32:00Z</dcterms:created>
  <dc:creator/>
  <dc:description/>
  <dc:language>en-US</dc:language>
  <cp:lastModifiedBy>微软用户</cp:lastModifiedBy>
  <cp:lastPrinted>2020-11-06T10:32:00Z</cp:lastPrinted>
  <dcterms:modified xsi:type="dcterms:W3CDTF">2021-02-03T03:55:4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64</vt:lpwstr>
  </property>
  <property fmtid="{D5CDD505-2E9C-101B-9397-08002B2CF9AE}" pid="3" name="album">
    <vt:lpwstr>rbm.xkw.com</vt:lpwstr>
  </property>
  <property fmtid="{D5CDD505-2E9C-101B-9397-08002B2CF9AE}" pid="4" name="author">
    <vt:lpwstr>rbm.xkw.com</vt:lpwstr>
  </property>
  <property fmtid="{D5CDD505-2E9C-101B-9397-08002B2CF9AE}" pid="5" name="company">
    <vt:lpwstr>学科网</vt:lpwstr>
  </property>
  <property fmtid="{D5CDD505-2E9C-101B-9397-08002B2CF9AE}" pid="6" name="copyright">
    <vt:lpwstr>学科网版权所有</vt:lpwstr>
  </property>
</Properties>
</file>