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gif" ContentType="image/gif"/>
  <Override PartName="/ppt/media/image9.png" ContentType="image/png"/>
  <Override PartName="/ppt/media/image8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20.jpeg" ContentType="image/jpeg"/>
  <Override PartName="/ppt/media/image19.tif" ContentType="image/tiff"/>
  <Override PartName="/ppt/media/image18.tif" ContentType="image/tiff"/>
  <Override PartName="/ppt/media/image21.jpeg" ContentType="image/jpeg"/>
  <Override PartName="/ppt/media/image17.gif" ContentType="image/gif"/>
  <Override PartName="/ppt/media/image14.tif" ContentType="image/tiff"/>
  <Override PartName="/ppt/media/image3.png" ContentType="image/png"/>
  <Override PartName="/ppt/media/image16.gif" ContentType="image/gif"/>
  <Override PartName="/ppt/media/image15.tif" ContentType="image/tiff"/>
  <Override PartName="/ppt/media/image1.png" ContentType="image/png"/>
  <Override PartName="/ppt/media/image2.tif" ContentType="image/tiff"/>
  <Override PartName="/ppt/media/image7.jpeg" ContentType="image/jpeg"/>
  <Override PartName="/ppt/media/image13.tif" ContentType="image/tiff"/>
  <Override PartName="/ppt/media/image4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436F7-9AAD-4D7D-9730-FB8C5B9F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9B25D-212C-4283-B01D-1C70E903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7C02D-063C-4727-8CAC-4C866D05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FF8EB-FE1B-45AC-823B-F4721DF6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4D81D-306E-4A21-A2E7-85B7B9A8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95EE7-8220-480D-A0B2-13ACA6F8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5450C-96DC-4618-A811-3F6DFCCA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C8C45-3FE5-4058-A814-FBA20654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63731-4C97-4866-AC61-49983871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C4804-5ABD-48B6-B236-503B4DA4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32A75-3CB9-4E41-B51E-516293E9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68EEA-B892-4144-8FE0-33B8C62D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E5C2A-A53A-4F38-8FEB-4B5D7AAE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260A2-A13E-4C69-A16D-B0E5F456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34454-71CA-48F0-AF13-DDF5B462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CAAFA-0C77-42D9-A7C1-A9AC0C43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B7440-5CCD-4004-B7EF-54D0C66C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A0E92-5CDD-4E3A-982C-2457FCCD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08746-A8A1-4984-91FC-100ADCB7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6E3B1-5774-46A6-ADC6-3B6018E7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B1730-1300-4E66-8410-C1EE8981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59FF5-A616-4F18-8D27-7D628E4A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79045-5567-4FAC-8559-60C92E82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E614A-C41D-4976-98FC-BB14E30E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E3024-549A-4284-A87A-C4CF3A37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18FAF-01A7-4B56-A5E5-78DFE873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07B18-355B-4A10-B5E3-5ADC48B5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0D9C8-2B60-4A5A-97F9-13379621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0A039-A6C9-4932-AB85-40E05944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F1A13-12B7-41CB-9B02-03944DB1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4E2D7-6952-4626-864D-257A0953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B47A6-277F-460D-BDED-DB47C7C5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6E990-8A90-49BC-8A5A-7E2F77FA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61E94-529A-45E9-BE7B-AC127382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6B38A-634E-4F56-BF67-BB65B18D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98D2A-9DFB-4E44-9EF4-147B7129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FE6E5-7230-418B-9A73-2BF682F7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3BA4C-141B-4D39-9A13-BDD7BDA5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614A3-2189-4C46-B9E8-0FE63689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631B5-C1F5-464E-92CB-3260A99F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5DAFD-FDE2-4695-8A30-D5B26F96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BFC60-5A36-469C-B445-486A7118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76B6B-B895-45B5-83A8-3B39507C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14228-895D-4EFB-BD52-BBE40A1B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AA484-39EF-4D44-80D4-6FC5694C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5E1AD-EBC6-4C3E-8EC1-37C64DAF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D0E7B-55F3-4AA5-AB91-D81864FD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FE843-B712-4127-AEAD-35B4F799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2E095-6BC3-416B-9AD5-C6ECE2ED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16ADD-69A7-44FF-B5A6-199F6C5D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A0C45-1912-4DE9-AC90-26E24A6F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93BF2-0174-4CFE-81F8-576B9683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F3E9C-860E-483E-9151-9B5E094D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C4D66-2BA2-4CEE-8F7E-8958231A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114A6-7F80-4325-9CDB-2E312CEF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368DA-FE70-492A-8AFC-31E416F7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5867F-C2C4-4B74-98CE-427A1AF8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F298D-915A-4CAA-A08F-333E8E9F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5EA2C-DB3F-4027-B3AE-0E7218FA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7AE49-1CEB-4190-B828-F5E9D19E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75F7C-84E0-462C-9E28-D692A77F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C437D-A96F-4652-9B0A-25D24970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54DCC-A770-4EA3-A997-D088F4C3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B31A2-345F-4AA2-8726-F5E778A7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DCE14-2A91-490C-A02C-6C6A57E3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6992E-D8EB-4ADA-A47D-F9E545B3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24FBC-0821-4663-A2D4-3DC68680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C6BF7-F12F-4629-BEBF-1F5AA148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F9D4F-E164-4CC3-AE5E-1688E53B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973A9-BE99-4003-8CD6-AFCD01BA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E6B7A-4D36-47FB-BC50-BA47DD02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22753-979C-4E8A-9342-24A85CF7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42CE5-F317-4280-88AB-F79E9E04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8351EE-B499-4761-8B8D-3C1F6F63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C9DD1-E9DD-4D8C-B96E-349291EA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DA978-645D-48AA-AD33-5AB8D7EF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F72FF-7C13-40FB-BA49-88DBCF01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9038BB-0DD4-481C-A685-958B7FA0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256EA-DF8D-4C73-BCB4-E97EA992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BD701-E190-419C-84C7-09305AB8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E7F84-5223-41B0-90CD-9C5F8A75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AE449-7160-4B14-8924-3E502C7A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ACCC6-CBF4-4FCA-B868-A7BB5DD2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6CDFC-4DC7-458E-A9F3-0EB76B8F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32FBD-0EA3-4D27-B8FF-009C6AB7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1F591-E5F4-4E6E-B2A4-D7E91515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B4936-B800-4EF7-B4EF-4154E789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9774CF-2859-4EB5-AA40-28FDA721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118B2-D213-4565-B1F0-F9B2FFDC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294891-2D22-4378-9522-00F42152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7C90D3-6FE1-4530-B3F5-8987241B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360CE2-753F-442E-AEC7-97F55674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B795C-E476-4F08-AE21-DA0EED06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76E252-EFCB-4C68-81F1-56C8F5D1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ED0A25-AE8E-421D-AB14-C3072CE1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3BCFA9-4F54-47C9-8C74-3C8E5CDD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9F08C5-987D-4510-A600-8C6EE2EB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4C1F80-7870-435E-9CC2-1A2E2CE9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AAADC1-40D4-4CE0-AF5B-9155F7A5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8A43C0-3D10-4F04-98A4-6650154F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785773-E3F6-4FAB-AF72-107182C8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9577CB-B0F3-4213-8EBD-D30426E9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D6720E-29C6-4205-9DF6-D49BCEAB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7104F9-35F9-4311-8ED2-2481E3E4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6B9DD-2F67-40FD-9568-4D6A855A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FE23A2-A42C-4F3D-92A7-76B73F33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469354-A830-4BE4-9258-C52543E7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4A3D01-1EA3-455C-B9D0-B14ED3F7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1066BA-796D-4EDD-A5E2-E2D8CF24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68D6A4-CF6A-4894-95D8-E4323ABA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8F1C5E-00EF-4586-BFCF-5DDFC435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3F12E-BF62-481B-AF58-F3A72248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DA7B93-E523-4835-96ED-99212470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5D23AB-05EB-4D90-AFA7-99B3C4B4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2547BE-B643-4AEF-B8F2-10DCBA2E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E34BBE-168B-4312-A18E-9BA199F1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A9EB4E-EB92-468E-951E-4836E961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E5B48B-C1CC-4D40-A073-590FBD19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08E9B6-4558-47D1-A433-DA9E0D7F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4D0612-7B5E-428F-828B-AC137E8A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9872FC-4E5F-4B40-9635-ECA13110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2B0C9-80C5-449D-B6E8-5E11B722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1681F0-CD4A-40FF-812B-FE308012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4E511E-6C6E-4FD2-9E6B-B305CA2A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84F2DD-FA0D-4006-8EC4-4D9A3C60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374A99-181A-4D07-ACF9-FBDEC3AF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792428-3A8D-46AF-ACEA-CCE5DCFD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045E5-3431-4355-BB65-8A449C81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1008E4-7043-4B41-BCBE-EEB04B0B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56C45F-1DB7-4D53-BDAA-D447A348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BF8FE7-9B6E-43C3-B965-CB160581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C4EF27-1E28-451F-858D-B6DC08BA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944311-BF07-42E6-A35E-690EE2DE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101BFC-2DC5-4691-9A41-53CE2468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3574EF-04AE-475D-80B8-01D47D17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F24BD3-C1AE-422F-A468-7E256E07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E83AD4-C402-41AD-A2D0-152EAED4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C05B89-5C76-4656-8780-4A11290E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A0FFD0-C7DF-4B17-BB80-85ED5A88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C9D2C2-4EF7-4AC7-AC93-25054401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2487EC-9B91-4D7E-A305-59575794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E7CEFE-FBED-4028-8C8A-0F5E9D6A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FE5932-320A-4B47-84E3-43BA55B5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2FE404-826C-473B-BBCE-42ABE9D8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311ED1-CD91-4214-91F8-7A08B4B6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6F6397-235B-4920-9334-D40F514D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F90718-5760-4B54-87F4-EF3D7A47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5F1AA3-6C7C-4946-AD50-C8C81E17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2CA5E5-F387-4803-B36C-CD46C6D4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106F32-1814-4BE1-A957-191C269D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520-6B46-40E3-94B7-5FFA9554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3B5305-6ACA-47D7-851F-EB226053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C6894E-5382-4B20-993D-0F794DDB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209406-F5FE-41B3-A03F-B1BCE37C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36F484-5405-40B4-A0AE-F9CD9277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471E19-22D1-4ABE-B07D-F40A7C5C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EDE554-ABD4-4941-B442-EC91629F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EF05AE-8B24-4FFE-8399-0B788ED4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236853-A663-4F4C-9EC7-11E9F9D6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5DC1ED-D531-4188-BBB1-94C5E955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24AA75-EC9C-46CA-AB75-03203908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835-4871-4249-BACF-BBD9662B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88B156-FB10-4A06-973B-92CE5AB4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FBDB99-AB42-4BEA-A8F4-9246F6A0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0CB07B-BD65-4397-9EFB-6154D3CA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DA497C-22AC-4E76-8215-50E1E025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D44D01-6182-44E6-BDE9-E1F6E9F1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33DB4B-FF5B-4DE4-BB4A-21BFF7CE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209EDC-2563-48AC-92DA-CBFAFB2E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79254F-F24F-4800-9319-4993FD07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24AC5B-228B-456A-9AF4-2E2620D8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6A52E9-1F9A-4CDF-83BD-919E4364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BB2-ACA6-4D49-8857-058A38EB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84493C-2A74-497F-AFE2-1DCC6B83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283824-3560-4C5A-9FAC-A5E99907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C284D0-784C-462D-A13C-947D9760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417EF4-D0B4-4C07-864F-49BD3E77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6CB537-F6E5-4A32-A69C-CED82381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A8C3F0-CE1F-4505-8A0F-931C6BB0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8545FD-E0E5-4B8D-AD37-CF241AB1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A801F4-362F-4353-BBBD-C3273B70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EE8030-DD0D-49F2-998C-0AF68682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C82B86-9265-4910-8717-82874C5E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051-5D28-488F-8DC4-D154B406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551CF5-6D27-41E3-BA8E-75AA77CC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923341-E219-4A32-9A47-195DE586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1D7166-C8DC-4415-A066-16016A62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F0AB37-40D1-4052-8D81-33F62E12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AA9918-7F09-40AD-BE83-E1DF5D33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6A9E9A-222F-4314-8CF5-84645E95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D965BC-103A-4ABF-8A45-CCAE3F2A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1807A3-5490-4E7B-882E-6D852016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0881CF-B78A-479D-BC98-9807FFFC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CFD1-8A7B-45AB-AAF1-EDBDD8B2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FA0-D327-45AB-8F47-2CCEB195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DF6-4400-4A86-814E-2AAAE8C7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F80-94FB-492F-8896-20D884E8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934B-F32F-4509-AC04-4282F254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732-4BA2-4621-AD08-CDD715C7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DE5-0B8E-426A-8C27-E4F0C19A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1BE-533F-4C87-91EA-CB9D3DAA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C3E2-94C8-4B7C-8C70-65636888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06F4-04F1-4FBF-84F0-D2AE92D9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FE49-8024-4020-85E3-F55376F9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5708-C2CA-41CF-B358-9F9C3300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D5B5-B44F-4A1D-998A-14F58236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D6A0-6691-4ED5-BEDB-110ACA43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4CA6-EFC0-4E1C-8FFC-616927DB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4099-4DA8-4F8E-ABB7-D0D4D43F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8ED7-8CAB-4B86-9A79-4CDA5D47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4502-5161-4648-900F-3E9F6F62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82BB-3C40-4E30-BA8F-612EB430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F17B-21ED-4F60-8EA9-33F3CC67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FB37E-CD1C-4609-8E6E-8FB19225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EBB65-891E-45B8-B422-A85EF004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E1669-BF73-48AB-9D3B-68C08542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247E1-3DA1-4EB3-8F43-2CE62496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1121E-2619-457A-BF3F-545D759A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2AB0D-20F2-4438-889D-02E125B7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E181C-D590-413F-8E57-FFD1A374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0B684-4352-49B6-8E1D-81332B5F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D02C5-C922-438D-89DC-EA59A7F2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1C45D-B100-4CC8-991B-B3465CD4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9375D-874B-48A4-9660-AD4828CF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1DE82-D2FC-4740-B3D4-A6B5F17C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47B39-173B-433C-8732-360C8ED4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D96C6-5DF3-4DB8-AA44-EE5C871B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397BC-4981-47BA-8AD9-0BF2DABB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EE8C6-96E0-4603-B42A-276F96D7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3A2DE-6DB4-46B0-8749-E0EDB0B2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D69A5-9CA7-4481-82CB-CE648A0A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FFE8D-261F-4277-B0FD-F2B0FC65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4675E-C531-4A51-B73F-FC6CC9A1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465FE-2B67-44C7-872F-9DDF9613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74D8A-380B-4484-A598-9C48B7FF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1672D-D2A9-4F51-BBBF-0C066048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8CAAE-DDD7-4F8E-A7BE-3BBA347E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55FBD-1A63-4E54-8417-EA6D9396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EEF93-0A3A-4BE1-B088-88E1B043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CEC7B-B602-455E-891F-DAC7CE8A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A75E3-8B34-46A7-8369-BD771AE9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175B4-1B58-456C-A829-439F9436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77940-7A3F-4ED0-B957-2620820C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F2956-1621-424C-91AC-579C1919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A5697-B118-4DEE-9569-2A759A58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52B6B-8BEB-46FA-862E-7E417589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39D96-8BD2-4621-A4F4-A4A154DD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FB842-C6E5-40DA-8FEB-3A91541E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84620-9E02-41D4-BCCA-031AE68E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1E00B-16D2-4837-91B2-FFDAF208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7CE91-BE46-4825-BF4C-1AC5BCEE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17DFF-F6FD-43E5-88A9-001ED2D9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AB85F-307A-49AF-949A-88CF258A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5102C-A364-4DFB-9C34-A77A9405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208CE-2423-44FD-8638-C5131959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AC982-8112-4F71-A479-0DFFCB12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DF216-EBA1-47BE-9CA0-0451DA06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7EFE3-265E-4464-B013-39615658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BD5AA-8908-4AAE-A1EB-6024CCA0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1DBC3-38B7-4FDA-A514-9BD56D53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BFAAE-0782-4ADC-85E0-D52EB114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41F01-82AC-4117-A929-CD64928D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8DFDE-EA22-4A06-B041-ED4745EB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EFC89-C502-4F61-AAFD-5415314C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dt" idx="2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ftr" idx="2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2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8A45-A031-4C10-947B-762AC3058D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ECD4-80A0-4A41-A66F-58B6B543C5CA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53AD-466D-41AF-BA8C-6BB0CB849E1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dt" idx="2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ftr" idx="2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3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54E5-A4EA-457D-A50A-5DD795B5B8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ABA7-DC26-44D5-9CC6-89A03A833B68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36B5-D92D-4AF0-B242-41CEF134224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dt" idx="3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ftr" idx="3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F97F-CA41-438F-AF8F-A06295D156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2CE4-ADDE-4CA7-BAFE-E985C92C2D3F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94DA-46F5-4653-ACC9-3A520C02B6F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dt" idx="4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ftr" idx="4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sldNum" idx="4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2C71-AAA3-4E96-B229-310DDAC3B3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dt" idx="4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ftr" idx="4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sldNum" idx="4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163C-6475-40B5-9169-33AB9D1C39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F116-D485-4DE6-B655-3339B66B49D8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35F5-2BC5-4AEE-B2C3-3D973FA4D8A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dt" idx="4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ftr" idx="5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sldNum" idx="5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92DC-9CFE-45B0-AF2C-1ABA93655E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755" name="PlaceHolder 1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C1DD-D628-4F3F-BB78-0422059658F1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3CD0-BBC3-4E2D-85E9-44763EFAFDE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dt" idx="5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ftr" idx="5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sldNum" idx="5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82CD-A3FB-40A9-9D95-474ECCC651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dt" idx="5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ftr" idx="5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sldNum" idx="6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CEC4-4E51-45C0-B855-A344DC2FED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dt" idx="6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ftr" idx="6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sldNum" idx="6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5474-7A3A-4BF1-9325-4E664F53C7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dt" idx="6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ftr" idx="6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sldNum" idx="6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52FB-461E-4942-8726-A185DC1EF5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B6D9-2754-4C9C-9C56-4C8CCB210D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07E4-2A95-493E-86AA-612490E680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FCF1-B38D-4369-9259-3F2EB8B3B278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494E-CC5E-41FB-B93D-4BD142F0AD8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DDFE-D266-43DB-8B36-9EE0F5FCE9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99F5-0488-4894-8203-4E6741BD5542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83F7-9B70-4096-9D3A-50EAE419A74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dt" idx="1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ftr" idx="1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8F64-3663-440F-AE25-5B87923668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CCF2-762D-44F1-9453-A8473FC8B598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A420-784B-4D20-9C30-6545F332CA5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tif"/><Relationship Id="rId3" Type="http://schemas.openxmlformats.org/officeDocument/2006/relationships/slideLayout" Target="../slideLayouts/slideLayout26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tif"/><Relationship Id="rId7" Type="http://schemas.openxmlformats.org/officeDocument/2006/relationships/image" Target="../media/image14.tif"/><Relationship Id="rId8" Type="http://schemas.openxmlformats.org/officeDocument/2006/relationships/image" Target="../media/image15.tif"/><Relationship Id="rId9" Type="http://schemas.openxmlformats.org/officeDocument/2006/relationships/image" Target="../media/image10.gif"/><Relationship Id="rId10" Type="http://schemas.openxmlformats.org/officeDocument/2006/relationships/image" Target="../media/image13.tif"/><Relationship Id="rId11" Type="http://schemas.openxmlformats.org/officeDocument/2006/relationships/slideLayout" Target="../slideLayouts/slideLayout26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tif"/><Relationship Id="rId5" Type="http://schemas.openxmlformats.org/officeDocument/2006/relationships/image" Target="../media/image19.tif"/><Relationship Id="rId6" Type="http://schemas.openxmlformats.org/officeDocument/2006/relationships/slideLayout" Target="../slideLayouts/slideLayout26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6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2" descr="图片1"/>
          <p:cNvPicPr/>
          <p:nvPr/>
        </p:nvPicPr>
        <p:blipFill>
          <a:blip r:embed="rId1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957" name="文本框 7"/>
          <p:cNvSpPr/>
          <p:nvPr/>
        </p:nvSpPr>
        <p:spPr>
          <a:xfrm>
            <a:off x="547560" y="1074600"/>
            <a:ext cx="970200" cy="398880"/>
          </a:xfrm>
          <a:prstGeom prst="rect">
            <a:avLst/>
          </a:prstGeom>
          <a:noFill/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课  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图片 1" descr="优异LOGO"/>
          <p:cNvPicPr/>
          <p:nvPr/>
        </p:nvPicPr>
        <p:blipFill>
          <a:blip r:embed="rId2"/>
          <a:stretch/>
        </p:blipFill>
        <p:spPr>
          <a:xfrm>
            <a:off x="198360" y="117360"/>
            <a:ext cx="1795680" cy="639720"/>
          </a:xfrm>
          <a:prstGeom prst="rect">
            <a:avLst/>
          </a:prstGeom>
          <a:ln w="0">
            <a:noFill/>
          </a:ln>
        </p:spPr>
      </p:pic>
      <p:sp>
        <p:nvSpPr>
          <p:cNvPr id="959" name="矩形 5"/>
          <p:cNvSpPr/>
          <p:nvPr/>
        </p:nvSpPr>
        <p:spPr>
          <a:xfrm>
            <a:off x="1809720" y="2422440"/>
            <a:ext cx="570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⑬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乌鸦喝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2" descr="图片1"/>
          <p:cNvPicPr/>
          <p:nvPr/>
        </p:nvPicPr>
        <p:blipFill>
          <a:blip r:embed="rId1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1054" name="云形标注 37892"/>
          <p:cNvSpPr/>
          <p:nvPr/>
        </p:nvSpPr>
        <p:spPr>
          <a:xfrm>
            <a:off x="5025960" y="2387520"/>
            <a:ext cx="3733920" cy="2210040"/>
          </a:xfrm>
          <a:prstGeom prst="cloudCallout">
            <a:avLst>
              <a:gd name="adj1" fmla="val -56930"/>
              <a:gd name="adj2" fmla="val -5847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思考：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它是怎么喝到水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横卷形 37893"/>
          <p:cNvSpPr/>
          <p:nvPr/>
        </p:nvSpPr>
        <p:spPr>
          <a:xfrm>
            <a:off x="299880" y="95400"/>
            <a:ext cx="2133720" cy="9144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文本框 37894"/>
          <p:cNvSpPr/>
          <p:nvPr/>
        </p:nvSpPr>
        <p:spPr>
          <a:xfrm>
            <a:off x="5737320" y="3801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云形标注 37895"/>
          <p:cNvSpPr/>
          <p:nvPr/>
        </p:nvSpPr>
        <p:spPr>
          <a:xfrm>
            <a:off x="4541760" y="316080"/>
            <a:ext cx="3657600" cy="1752480"/>
          </a:xfrm>
          <a:prstGeom prst="cloudCallout">
            <a:avLst>
              <a:gd name="adj1" fmla="val -48435"/>
              <a:gd name="adj2" fmla="val 395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看一看：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宋体"/>
              </a:rPr>
              <a:t>后来，这只乌鸦喝到水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图片 2" descr="3_3783"/>
          <p:cNvPicPr/>
          <p:nvPr/>
        </p:nvPicPr>
        <p:blipFill>
          <a:blip r:embed="rId2"/>
          <a:stretch/>
        </p:blipFill>
        <p:spPr>
          <a:xfrm>
            <a:off x="998640" y="1185840"/>
            <a:ext cx="3543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标题 36865"/>
          <p:cNvSpPr/>
          <p:nvPr/>
        </p:nvSpPr>
        <p:spPr>
          <a:xfrm>
            <a:off x="431640" y="871560"/>
            <a:ext cx="2754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乌鸦喝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文本占位符 36866"/>
          <p:cNvSpPr/>
          <p:nvPr/>
        </p:nvSpPr>
        <p:spPr>
          <a:xfrm>
            <a:off x="431640" y="1863720"/>
            <a:ext cx="76899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乌鸦看见旁边有许多小石子，想出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办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来了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乌鸦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把小石子一个一个地放进瓶子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瓶子里的水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渐升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乌鸦就喝着水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2" descr="图片1"/>
          <p:cNvPicPr/>
          <p:nvPr/>
        </p:nvPicPr>
        <p:blipFill>
          <a:blip r:embed="rId1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1062" name="文本框 5124"/>
          <p:cNvSpPr/>
          <p:nvPr/>
        </p:nvSpPr>
        <p:spPr>
          <a:xfrm>
            <a:off x="399960" y="981000"/>
            <a:ext cx="592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读了这个故事，我知道这是一只（            ）的乌鸦，因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文本框 5125"/>
          <p:cNvSpPr/>
          <p:nvPr/>
        </p:nvSpPr>
        <p:spPr>
          <a:xfrm>
            <a:off x="304920" y="17460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我会思考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文本框 5126"/>
          <p:cNvSpPr/>
          <p:nvPr/>
        </p:nvSpPr>
        <p:spPr>
          <a:xfrm>
            <a:off x="343080" y="3029040"/>
            <a:ext cx="6037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如果瓶子旁边没有石子，你能帮乌鸦想到办法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图片 4" descr="搞活动覆盖"/>
          <p:cNvPicPr/>
          <p:nvPr/>
        </p:nvPicPr>
        <p:blipFill>
          <a:blip r:embed="rId2"/>
          <a:stretch/>
        </p:blipFill>
        <p:spPr>
          <a:xfrm>
            <a:off x="6323040" y="936720"/>
            <a:ext cx="26319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2" descr="图片1"/>
          <p:cNvPicPr/>
          <p:nvPr/>
        </p:nvPicPr>
        <p:blipFill>
          <a:blip r:embed="rId1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24579" descr="2007060701363256810"/>
          <p:cNvPicPr/>
          <p:nvPr/>
        </p:nvPicPr>
        <p:blipFill>
          <a:blip r:embed="rId2"/>
          <a:srcRect l="21637" t="0" r="0" b="1184"/>
          <a:stretch/>
        </p:blipFill>
        <p:spPr>
          <a:xfrm>
            <a:off x="1309680" y="1149480"/>
            <a:ext cx="2351160" cy="371952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24581" descr="29538508"/>
          <p:cNvPicPr/>
          <p:nvPr/>
        </p:nvPicPr>
        <p:blipFill>
          <a:blip r:embed="rId3"/>
          <a:stretch/>
        </p:blipFill>
        <p:spPr>
          <a:xfrm>
            <a:off x="4597560" y="1865160"/>
            <a:ext cx="3003480" cy="2764080"/>
          </a:xfrm>
          <a:prstGeom prst="rect">
            <a:avLst/>
          </a:prstGeom>
          <a:ln w="0">
            <a:noFill/>
          </a:ln>
        </p:spPr>
      </p:pic>
      <p:sp>
        <p:nvSpPr>
          <p:cNvPr id="1069" name="波形 24583"/>
          <p:cNvSpPr/>
          <p:nvPr/>
        </p:nvSpPr>
        <p:spPr>
          <a:xfrm>
            <a:off x="968400" y="152280"/>
            <a:ext cx="5791320" cy="1295640"/>
          </a:xfrm>
          <a:custGeom>
            <a:avLst/>
            <a:gdLst>
              <a:gd name="textAreaLeft" fmla="*/ 0 w 5791320"/>
              <a:gd name="textAreaRight" fmla="*/ 5791680 w 5791320"/>
              <a:gd name="textAreaTop" fmla="*/ 336960 h 1295640"/>
              <a:gd name="textAreaBottom" fmla="*/ 9586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乌鸦的办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文本框 1"/>
          <p:cNvSpPr/>
          <p:nvPr/>
        </p:nvSpPr>
        <p:spPr>
          <a:xfrm>
            <a:off x="109440" y="1438200"/>
            <a:ext cx="19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4" descr="只"/>
          <p:cNvPicPr/>
          <p:nvPr/>
        </p:nvPicPr>
        <p:blipFill>
          <a:blip r:embed="rId3"/>
          <a:stretch/>
        </p:blipFill>
        <p:spPr>
          <a:xfrm>
            <a:off x="109440" y="1905120"/>
            <a:ext cx="3900600" cy="273024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5" descr="石"/>
          <p:cNvPicPr/>
          <p:nvPr/>
        </p:nvPicPr>
        <p:blipFill>
          <a:blip r:embed="rId4"/>
          <a:stretch/>
        </p:blipFill>
        <p:spPr>
          <a:xfrm>
            <a:off x="2624040" y="1817640"/>
            <a:ext cx="4025880" cy="281772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6" descr="多"/>
          <p:cNvPicPr/>
          <p:nvPr/>
        </p:nvPicPr>
        <p:blipFill>
          <a:blip r:embed="rId5"/>
          <a:stretch/>
        </p:blipFill>
        <p:spPr>
          <a:xfrm>
            <a:off x="5342040" y="1892160"/>
            <a:ext cx="3809880" cy="266724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1" descr="KT只"/>
          <p:cNvPicPr/>
          <p:nvPr/>
        </p:nvPicPr>
        <p:blipFill>
          <a:blip r:embed="rId6"/>
          <a:stretch/>
        </p:blipFill>
        <p:spPr>
          <a:xfrm>
            <a:off x="588960" y="4559400"/>
            <a:ext cx="2590920" cy="31752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1" descr="KT石"/>
          <p:cNvPicPr/>
          <p:nvPr/>
        </p:nvPicPr>
        <p:blipFill>
          <a:blip r:embed="rId7"/>
          <a:stretch/>
        </p:blipFill>
        <p:spPr>
          <a:xfrm>
            <a:off x="3346560" y="4465800"/>
            <a:ext cx="2582640" cy="50616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1" descr="KT多"/>
          <p:cNvPicPr/>
          <p:nvPr/>
        </p:nvPicPr>
        <p:blipFill>
          <a:blip r:embed="rId8"/>
          <a:stretch/>
        </p:blipFill>
        <p:spPr>
          <a:xfrm>
            <a:off x="6288120" y="4465800"/>
            <a:ext cx="2152440" cy="36036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10" descr="只"/>
          <p:cNvPicPr/>
          <p:nvPr/>
        </p:nvPicPr>
        <p:blipFill>
          <a:blip r:embed="rId9"/>
          <a:stretch/>
        </p:blipFill>
        <p:spPr>
          <a:xfrm>
            <a:off x="117360" y="1905120"/>
            <a:ext cx="3900600" cy="273024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1" descr="KT只"/>
          <p:cNvPicPr/>
          <p:nvPr/>
        </p:nvPicPr>
        <p:blipFill>
          <a:blip r:embed="rId10"/>
          <a:stretch/>
        </p:blipFill>
        <p:spPr>
          <a:xfrm>
            <a:off x="596880" y="4559400"/>
            <a:ext cx="25909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图片 3" descr="出"/>
          <p:cNvPicPr/>
          <p:nvPr/>
        </p:nvPicPr>
        <p:blipFill>
          <a:blip r:embed="rId2"/>
          <a:stretch/>
        </p:blipFill>
        <p:spPr>
          <a:xfrm>
            <a:off x="539640" y="1765440"/>
            <a:ext cx="3892680" cy="2725560"/>
          </a:xfrm>
          <a:prstGeom prst="rect">
            <a:avLst/>
          </a:prstGeom>
          <a:ln w="0">
            <a:noFill/>
          </a:ln>
        </p:spPr>
      </p:pic>
      <p:pic>
        <p:nvPicPr>
          <p:cNvPr id="1081" name="图片 4" descr="见"/>
          <p:cNvPicPr/>
          <p:nvPr/>
        </p:nvPicPr>
        <p:blipFill>
          <a:blip r:embed="rId3"/>
          <a:stretch/>
        </p:blipFill>
        <p:spPr>
          <a:xfrm>
            <a:off x="4340160" y="1657440"/>
            <a:ext cx="3851280" cy="2695320"/>
          </a:xfrm>
          <a:prstGeom prst="rect">
            <a:avLst/>
          </a:prstGeom>
          <a:ln w="0">
            <a:noFill/>
          </a:ln>
        </p:spPr>
      </p:pic>
      <p:pic>
        <p:nvPicPr>
          <p:cNvPr id="1082" name="图片 1" descr="KT出"/>
          <p:cNvPicPr/>
          <p:nvPr/>
        </p:nvPicPr>
        <p:blipFill>
          <a:blip r:embed="rId4"/>
          <a:stretch/>
        </p:blipFill>
        <p:spPr>
          <a:xfrm>
            <a:off x="1157400" y="4403880"/>
            <a:ext cx="2898720" cy="591840"/>
          </a:xfrm>
          <a:prstGeom prst="rect">
            <a:avLst/>
          </a:prstGeom>
          <a:ln w="0">
            <a:noFill/>
          </a:ln>
        </p:spPr>
      </p:pic>
      <p:pic>
        <p:nvPicPr>
          <p:cNvPr id="1083" name="图片 1" descr="KT见"/>
          <p:cNvPicPr/>
          <p:nvPr/>
        </p:nvPicPr>
        <p:blipFill>
          <a:blip r:embed="rId5"/>
          <a:stretch/>
        </p:blipFill>
        <p:spPr>
          <a:xfrm>
            <a:off x="4948200" y="4276800"/>
            <a:ext cx="25416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图片 2" descr="01033310.jpg.thumb"/>
          <p:cNvPicPr/>
          <p:nvPr/>
        </p:nvPicPr>
        <p:blipFill>
          <a:blip r:embed="rId2"/>
          <a:stretch/>
        </p:blipFill>
        <p:spPr>
          <a:xfrm>
            <a:off x="414360" y="2004840"/>
            <a:ext cx="1276200" cy="1035360"/>
          </a:xfrm>
          <a:prstGeom prst="rect">
            <a:avLst/>
          </a:prstGeom>
          <a:ln w="0">
            <a:noFill/>
          </a:ln>
        </p:spPr>
      </p:pic>
      <p:sp>
        <p:nvSpPr>
          <p:cNvPr id="1085" name="文本框 5"/>
          <p:cNvSpPr/>
          <p:nvPr/>
        </p:nvSpPr>
        <p:spPr>
          <a:xfrm>
            <a:off x="2436840" y="1901880"/>
            <a:ext cx="9237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文本框 6"/>
          <p:cNvSpPr/>
          <p:nvPr/>
        </p:nvSpPr>
        <p:spPr>
          <a:xfrm>
            <a:off x="2436840" y="2664000"/>
            <a:ext cx="9237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文本框 7"/>
          <p:cNvSpPr/>
          <p:nvPr/>
        </p:nvSpPr>
        <p:spPr>
          <a:xfrm>
            <a:off x="2436840" y="3443400"/>
            <a:ext cx="9237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文本框 10"/>
          <p:cNvSpPr/>
          <p:nvPr/>
        </p:nvSpPr>
        <p:spPr>
          <a:xfrm>
            <a:off x="2436840" y="4200480"/>
            <a:ext cx="9237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11"/>
          <p:cNvSpPr/>
          <p:nvPr/>
        </p:nvSpPr>
        <p:spPr>
          <a:xfrm>
            <a:off x="4106880" y="190188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办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文本框 12"/>
          <p:cNvSpPr/>
          <p:nvPr/>
        </p:nvSpPr>
        <p:spPr>
          <a:xfrm>
            <a:off x="4108320" y="266400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文本框 13"/>
          <p:cNvSpPr/>
          <p:nvPr/>
        </p:nvSpPr>
        <p:spPr>
          <a:xfrm>
            <a:off x="4110120" y="349740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图片 14" descr="20140826091315664"/>
          <p:cNvPicPr/>
          <p:nvPr/>
        </p:nvPicPr>
        <p:blipFill>
          <a:blip r:embed="rId3"/>
          <a:stretch/>
        </p:blipFill>
        <p:spPr>
          <a:xfrm>
            <a:off x="6288120" y="2714760"/>
            <a:ext cx="2379600" cy="2157120"/>
          </a:xfrm>
          <a:prstGeom prst="rect">
            <a:avLst/>
          </a:prstGeom>
          <a:ln w="0">
            <a:noFill/>
          </a:ln>
        </p:spPr>
      </p:pic>
      <p:sp>
        <p:nvSpPr>
          <p:cNvPr id="1093" name="文本框 13"/>
          <p:cNvSpPr/>
          <p:nvPr/>
        </p:nvSpPr>
        <p:spPr>
          <a:xfrm>
            <a:off x="4106880" y="419904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法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11"/>
          <p:cNvSpPr/>
          <p:nvPr/>
        </p:nvSpPr>
        <p:spPr>
          <a:xfrm>
            <a:off x="5638680" y="190188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文本框 1"/>
          <p:cNvSpPr/>
          <p:nvPr/>
        </p:nvSpPr>
        <p:spPr>
          <a:xfrm>
            <a:off x="109440" y="1438200"/>
            <a:ext cx="19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11"/>
          <p:cNvSpPr/>
          <p:nvPr/>
        </p:nvSpPr>
        <p:spPr>
          <a:xfrm>
            <a:off x="5638680" y="266400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文本框 11"/>
          <p:cNvSpPr/>
          <p:nvPr/>
        </p:nvSpPr>
        <p:spPr>
          <a:xfrm>
            <a:off x="5638680" y="344340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矩形 2"/>
          <p:cNvSpPr/>
          <p:nvPr/>
        </p:nvSpPr>
        <p:spPr>
          <a:xfrm>
            <a:off x="0" y="1447920"/>
            <a:ext cx="9144000" cy="1098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3"/>
          <p:cNvSpPr/>
          <p:nvPr/>
        </p:nvSpPr>
        <p:spPr>
          <a:xfrm>
            <a:off x="701640" y="2843280"/>
            <a:ext cx="49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2d050"/>
                </a:solidFill>
                <a:latin typeface="Arial"/>
                <a:ea typeface="宋体"/>
              </a:rPr>
              <a:t>更多精彩视频内容，敬请关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5"/>
          <p:cNvSpPr/>
          <p:nvPr/>
        </p:nvSpPr>
        <p:spPr>
          <a:xfrm>
            <a:off x="2862360" y="1673280"/>
            <a:ext cx="3510000" cy="674640"/>
          </a:xfrm>
          <a:custGeom>
            <a:avLst/>
            <a:gdLst/>
            <a:ahLst/>
            <a:rect l="l" t="t" r="r" b="b"/>
            <a:pathLst>
              <a:path w="17843" h="4118">
                <a:moveTo>
                  <a:pt x="6664" y="2746"/>
                </a:moveTo>
                <a:cubicBezTo>
                  <a:pt x="6573" y="3028"/>
                  <a:pt x="6471" y="3294"/>
                  <a:pt x="6357" y="3542"/>
                </a:cubicBezTo>
                <a:cubicBezTo>
                  <a:pt x="6334" y="3587"/>
                  <a:pt x="6306" y="3638"/>
                  <a:pt x="6272" y="3695"/>
                </a:cubicBezTo>
                <a:cubicBezTo>
                  <a:pt x="6272" y="3695"/>
                  <a:pt x="6277" y="3695"/>
                  <a:pt x="6289" y="3695"/>
                </a:cubicBezTo>
                <a:cubicBezTo>
                  <a:pt x="6368" y="3729"/>
                  <a:pt x="6431" y="3745"/>
                  <a:pt x="6476" y="3745"/>
                </a:cubicBezTo>
                <a:cubicBezTo>
                  <a:pt x="6601" y="3757"/>
                  <a:pt x="6664" y="3672"/>
                  <a:pt x="6664" y="3491"/>
                </a:cubicBezTo>
                <a:cubicBezTo>
                  <a:pt x="6664" y="3243"/>
                  <a:pt x="6664" y="2994"/>
                  <a:pt x="6664" y="2746"/>
                </a:cubicBezTo>
                <a:close/>
                <a:moveTo>
                  <a:pt x="2081" y="2746"/>
                </a:moveTo>
                <a:cubicBezTo>
                  <a:pt x="1990" y="3028"/>
                  <a:pt x="1887" y="3294"/>
                  <a:pt x="1774" y="3542"/>
                </a:cubicBezTo>
                <a:cubicBezTo>
                  <a:pt x="1751" y="3587"/>
                  <a:pt x="1723" y="3638"/>
                  <a:pt x="1689" y="3695"/>
                </a:cubicBezTo>
                <a:cubicBezTo>
                  <a:pt x="1689" y="3695"/>
                  <a:pt x="1694" y="3695"/>
                  <a:pt x="1706" y="3695"/>
                </a:cubicBezTo>
                <a:cubicBezTo>
                  <a:pt x="1785" y="3729"/>
                  <a:pt x="1848" y="3745"/>
                  <a:pt x="1893" y="3745"/>
                </a:cubicBezTo>
                <a:cubicBezTo>
                  <a:pt x="2018" y="3757"/>
                  <a:pt x="2081" y="3672"/>
                  <a:pt x="2081" y="3491"/>
                </a:cubicBezTo>
                <a:cubicBezTo>
                  <a:pt x="2081" y="3243"/>
                  <a:pt x="2081" y="2994"/>
                  <a:pt x="2081" y="2746"/>
                </a:cubicBezTo>
                <a:close/>
                <a:moveTo>
                  <a:pt x="15455" y="2424"/>
                </a:moveTo>
                <a:cubicBezTo>
                  <a:pt x="15688" y="2424"/>
                  <a:pt x="15922" y="2424"/>
                  <a:pt x="16155" y="2424"/>
                </a:cubicBezTo>
                <a:cubicBezTo>
                  <a:pt x="16155" y="2553"/>
                  <a:pt x="16155" y="2683"/>
                  <a:pt x="16155" y="2813"/>
                </a:cubicBezTo>
                <a:cubicBezTo>
                  <a:pt x="16155" y="2836"/>
                  <a:pt x="16155" y="2853"/>
                  <a:pt x="16155" y="2864"/>
                </a:cubicBezTo>
                <a:cubicBezTo>
                  <a:pt x="16802" y="3474"/>
                  <a:pt x="17365" y="3864"/>
                  <a:pt x="17843" y="4034"/>
                </a:cubicBezTo>
                <a:cubicBezTo>
                  <a:pt x="17024" y="4090"/>
                  <a:pt x="16552" y="4034"/>
                  <a:pt x="16427" y="3864"/>
                </a:cubicBezTo>
                <a:cubicBezTo>
                  <a:pt x="16359" y="3808"/>
                  <a:pt x="16297" y="3751"/>
                  <a:pt x="16240" y="3695"/>
                </a:cubicBezTo>
                <a:cubicBezTo>
                  <a:pt x="16047" y="3548"/>
                  <a:pt x="15910" y="3429"/>
                  <a:pt x="15831" y="3339"/>
                </a:cubicBezTo>
                <a:cubicBezTo>
                  <a:pt x="15683" y="3486"/>
                  <a:pt x="15501" y="3638"/>
                  <a:pt x="15285" y="3796"/>
                </a:cubicBezTo>
                <a:cubicBezTo>
                  <a:pt x="14989" y="4034"/>
                  <a:pt x="14484" y="4113"/>
                  <a:pt x="13767" y="4034"/>
                </a:cubicBezTo>
                <a:cubicBezTo>
                  <a:pt x="14177" y="3909"/>
                  <a:pt x="14654" y="3604"/>
                  <a:pt x="15200" y="3118"/>
                </a:cubicBezTo>
                <a:cubicBezTo>
                  <a:pt x="15370" y="2972"/>
                  <a:pt x="15455" y="2830"/>
                  <a:pt x="15455" y="2695"/>
                </a:cubicBezTo>
                <a:cubicBezTo>
                  <a:pt x="15455" y="2604"/>
                  <a:pt x="15455" y="2514"/>
                  <a:pt x="15455" y="2424"/>
                </a:cubicBezTo>
                <a:close/>
                <a:moveTo>
                  <a:pt x="16916" y="2083"/>
                </a:moveTo>
                <a:cubicBezTo>
                  <a:pt x="17384" y="2083"/>
                  <a:pt x="17602" y="2248"/>
                  <a:pt x="17570" y="2576"/>
                </a:cubicBezTo>
                <a:cubicBezTo>
                  <a:pt x="17570" y="2842"/>
                  <a:pt x="17570" y="3107"/>
                  <a:pt x="17570" y="3373"/>
                </a:cubicBezTo>
                <a:cubicBezTo>
                  <a:pt x="17337" y="3373"/>
                  <a:pt x="17104" y="3373"/>
                  <a:pt x="16871" y="3373"/>
                </a:cubicBezTo>
                <a:cubicBezTo>
                  <a:pt x="16871" y="3118"/>
                  <a:pt x="16871" y="2864"/>
                  <a:pt x="16871" y="2610"/>
                </a:cubicBezTo>
                <a:cubicBezTo>
                  <a:pt x="16893" y="2373"/>
                  <a:pt x="16746" y="2260"/>
                  <a:pt x="16427" y="2271"/>
                </a:cubicBezTo>
                <a:cubicBezTo>
                  <a:pt x="15995" y="2271"/>
                  <a:pt x="15563" y="2271"/>
                  <a:pt x="15131" y="2271"/>
                </a:cubicBezTo>
                <a:cubicBezTo>
                  <a:pt x="14916" y="2260"/>
                  <a:pt x="14779" y="2350"/>
                  <a:pt x="14722" y="2542"/>
                </a:cubicBezTo>
                <a:cubicBezTo>
                  <a:pt x="14722" y="2836"/>
                  <a:pt x="14722" y="3130"/>
                  <a:pt x="14722" y="3423"/>
                </a:cubicBezTo>
                <a:cubicBezTo>
                  <a:pt x="14489" y="3423"/>
                  <a:pt x="14256" y="3423"/>
                  <a:pt x="14023" y="3423"/>
                </a:cubicBezTo>
                <a:cubicBezTo>
                  <a:pt x="14023" y="2977"/>
                  <a:pt x="14023" y="2531"/>
                  <a:pt x="14023" y="2085"/>
                </a:cubicBezTo>
                <a:cubicBezTo>
                  <a:pt x="14256" y="2085"/>
                  <a:pt x="14489" y="2085"/>
                  <a:pt x="14722" y="2085"/>
                </a:cubicBezTo>
                <a:cubicBezTo>
                  <a:pt x="14722" y="2192"/>
                  <a:pt x="14722" y="2299"/>
                  <a:pt x="14722" y="2407"/>
                </a:cubicBezTo>
                <a:cubicBezTo>
                  <a:pt x="14756" y="2192"/>
                  <a:pt x="14927" y="2085"/>
                  <a:pt x="15234" y="2085"/>
                </a:cubicBezTo>
                <a:cubicBezTo>
                  <a:pt x="15762" y="2085"/>
                  <a:pt x="16291" y="2085"/>
                  <a:pt x="16820" y="2085"/>
                </a:cubicBezTo>
                <a:cubicBezTo>
                  <a:pt x="16853" y="2083"/>
                  <a:pt x="16885" y="2083"/>
                  <a:pt x="16916" y="2083"/>
                </a:cubicBezTo>
                <a:close/>
                <a:moveTo>
                  <a:pt x="6323" y="1966"/>
                </a:moveTo>
                <a:cubicBezTo>
                  <a:pt x="6323" y="2147"/>
                  <a:pt x="6323" y="2328"/>
                  <a:pt x="6323" y="2508"/>
                </a:cubicBezTo>
                <a:cubicBezTo>
                  <a:pt x="6437" y="2508"/>
                  <a:pt x="6550" y="2508"/>
                  <a:pt x="6664" y="2508"/>
                </a:cubicBezTo>
                <a:cubicBezTo>
                  <a:pt x="6664" y="2328"/>
                  <a:pt x="6664" y="2147"/>
                  <a:pt x="6664" y="1966"/>
                </a:cubicBezTo>
                <a:cubicBezTo>
                  <a:pt x="6550" y="1966"/>
                  <a:pt x="6437" y="1966"/>
                  <a:pt x="6323" y="1966"/>
                </a:cubicBezTo>
                <a:close/>
                <a:moveTo>
                  <a:pt x="1740" y="1966"/>
                </a:moveTo>
                <a:cubicBezTo>
                  <a:pt x="1740" y="2147"/>
                  <a:pt x="1740" y="2328"/>
                  <a:pt x="1740" y="2508"/>
                </a:cubicBezTo>
                <a:cubicBezTo>
                  <a:pt x="1853" y="2508"/>
                  <a:pt x="1967" y="2508"/>
                  <a:pt x="2081" y="2508"/>
                </a:cubicBezTo>
                <a:cubicBezTo>
                  <a:pt x="2081" y="2328"/>
                  <a:pt x="2081" y="2147"/>
                  <a:pt x="2081" y="1966"/>
                </a:cubicBezTo>
                <a:cubicBezTo>
                  <a:pt x="1967" y="1966"/>
                  <a:pt x="1853" y="1966"/>
                  <a:pt x="1740" y="1966"/>
                </a:cubicBezTo>
                <a:close/>
                <a:moveTo>
                  <a:pt x="7329" y="1373"/>
                </a:moveTo>
                <a:cubicBezTo>
                  <a:pt x="7454" y="1373"/>
                  <a:pt x="7579" y="1373"/>
                  <a:pt x="7704" y="1373"/>
                </a:cubicBezTo>
                <a:cubicBezTo>
                  <a:pt x="7704" y="1599"/>
                  <a:pt x="7727" y="1943"/>
                  <a:pt x="7772" y="2407"/>
                </a:cubicBezTo>
                <a:cubicBezTo>
                  <a:pt x="7772" y="2542"/>
                  <a:pt x="7795" y="2683"/>
                  <a:pt x="7840" y="2830"/>
                </a:cubicBezTo>
                <a:cubicBezTo>
                  <a:pt x="7840" y="2842"/>
                  <a:pt x="7846" y="2847"/>
                  <a:pt x="7858" y="2847"/>
                </a:cubicBezTo>
                <a:cubicBezTo>
                  <a:pt x="7539" y="2870"/>
                  <a:pt x="7380" y="2723"/>
                  <a:pt x="7380" y="2407"/>
                </a:cubicBezTo>
                <a:cubicBezTo>
                  <a:pt x="7346" y="2068"/>
                  <a:pt x="7329" y="1723"/>
                  <a:pt x="7329" y="1373"/>
                </a:cubicBezTo>
                <a:close/>
                <a:moveTo>
                  <a:pt x="2746" y="1373"/>
                </a:moveTo>
                <a:cubicBezTo>
                  <a:pt x="2871" y="1373"/>
                  <a:pt x="2996" y="1373"/>
                  <a:pt x="3121" y="1373"/>
                </a:cubicBezTo>
                <a:cubicBezTo>
                  <a:pt x="3121" y="1599"/>
                  <a:pt x="3144" y="1943"/>
                  <a:pt x="3189" y="2407"/>
                </a:cubicBezTo>
                <a:cubicBezTo>
                  <a:pt x="3189" y="2542"/>
                  <a:pt x="3212" y="2683"/>
                  <a:pt x="3257" y="2830"/>
                </a:cubicBezTo>
                <a:cubicBezTo>
                  <a:pt x="3257" y="2842"/>
                  <a:pt x="3263" y="2847"/>
                  <a:pt x="3274" y="2847"/>
                </a:cubicBezTo>
                <a:cubicBezTo>
                  <a:pt x="2956" y="2870"/>
                  <a:pt x="2797" y="2723"/>
                  <a:pt x="2797" y="2407"/>
                </a:cubicBezTo>
                <a:cubicBezTo>
                  <a:pt x="2763" y="2068"/>
                  <a:pt x="2746" y="1723"/>
                  <a:pt x="2746" y="1373"/>
                </a:cubicBezTo>
                <a:close/>
                <a:moveTo>
                  <a:pt x="5126" y="1338"/>
                </a:moveTo>
                <a:cubicBezTo>
                  <a:pt x="5355" y="1344"/>
                  <a:pt x="5464" y="1474"/>
                  <a:pt x="5453" y="1729"/>
                </a:cubicBezTo>
                <a:cubicBezTo>
                  <a:pt x="5453" y="2226"/>
                  <a:pt x="5453" y="2723"/>
                  <a:pt x="5453" y="3220"/>
                </a:cubicBezTo>
                <a:cubicBezTo>
                  <a:pt x="5442" y="3367"/>
                  <a:pt x="5459" y="3435"/>
                  <a:pt x="5505" y="3423"/>
                </a:cubicBezTo>
                <a:cubicBezTo>
                  <a:pt x="5561" y="3446"/>
                  <a:pt x="5647" y="3294"/>
                  <a:pt x="5760" y="2966"/>
                </a:cubicBezTo>
                <a:cubicBezTo>
                  <a:pt x="5760" y="3610"/>
                  <a:pt x="5573" y="3943"/>
                  <a:pt x="5198" y="3966"/>
                </a:cubicBezTo>
                <a:cubicBezTo>
                  <a:pt x="4959" y="3954"/>
                  <a:pt x="4840" y="3802"/>
                  <a:pt x="4840" y="3508"/>
                </a:cubicBezTo>
                <a:cubicBezTo>
                  <a:pt x="4840" y="2955"/>
                  <a:pt x="4840" y="2401"/>
                  <a:pt x="4840" y="1847"/>
                </a:cubicBezTo>
                <a:cubicBezTo>
                  <a:pt x="4840" y="1610"/>
                  <a:pt x="4788" y="1497"/>
                  <a:pt x="4686" y="1508"/>
                </a:cubicBezTo>
                <a:cubicBezTo>
                  <a:pt x="4652" y="1508"/>
                  <a:pt x="4618" y="1508"/>
                  <a:pt x="4584" y="1508"/>
                </a:cubicBezTo>
                <a:cubicBezTo>
                  <a:pt x="4584" y="1452"/>
                  <a:pt x="4584" y="1395"/>
                  <a:pt x="4584" y="1339"/>
                </a:cubicBezTo>
                <a:cubicBezTo>
                  <a:pt x="4749" y="1339"/>
                  <a:pt x="4913" y="1339"/>
                  <a:pt x="5078" y="1339"/>
                </a:cubicBezTo>
                <a:cubicBezTo>
                  <a:pt x="5095" y="1338"/>
                  <a:pt x="5110" y="1338"/>
                  <a:pt x="5126" y="1338"/>
                </a:cubicBezTo>
                <a:close/>
                <a:moveTo>
                  <a:pt x="542" y="1338"/>
                </a:moveTo>
                <a:cubicBezTo>
                  <a:pt x="771" y="1344"/>
                  <a:pt x="881" y="1474"/>
                  <a:pt x="870" y="1729"/>
                </a:cubicBezTo>
                <a:cubicBezTo>
                  <a:pt x="870" y="2226"/>
                  <a:pt x="870" y="2723"/>
                  <a:pt x="870" y="3220"/>
                </a:cubicBezTo>
                <a:cubicBezTo>
                  <a:pt x="859" y="3367"/>
                  <a:pt x="876" y="3435"/>
                  <a:pt x="921" y="3423"/>
                </a:cubicBezTo>
                <a:cubicBezTo>
                  <a:pt x="978" y="3446"/>
                  <a:pt x="1063" y="3294"/>
                  <a:pt x="1177" y="2966"/>
                </a:cubicBezTo>
                <a:cubicBezTo>
                  <a:pt x="1177" y="3610"/>
                  <a:pt x="989" y="3943"/>
                  <a:pt x="614" y="3966"/>
                </a:cubicBezTo>
                <a:cubicBezTo>
                  <a:pt x="376" y="3954"/>
                  <a:pt x="256" y="3802"/>
                  <a:pt x="256" y="3508"/>
                </a:cubicBezTo>
                <a:cubicBezTo>
                  <a:pt x="256" y="2955"/>
                  <a:pt x="256" y="2401"/>
                  <a:pt x="256" y="1847"/>
                </a:cubicBezTo>
                <a:cubicBezTo>
                  <a:pt x="256" y="1610"/>
                  <a:pt x="205" y="1497"/>
                  <a:pt x="103" y="1508"/>
                </a:cubicBezTo>
                <a:cubicBezTo>
                  <a:pt x="69" y="1508"/>
                  <a:pt x="35" y="1508"/>
                  <a:pt x="0" y="1508"/>
                </a:cubicBezTo>
                <a:cubicBezTo>
                  <a:pt x="0" y="1452"/>
                  <a:pt x="0" y="1395"/>
                  <a:pt x="0" y="1339"/>
                </a:cubicBezTo>
                <a:cubicBezTo>
                  <a:pt x="165" y="1339"/>
                  <a:pt x="330" y="1339"/>
                  <a:pt x="495" y="1339"/>
                </a:cubicBezTo>
                <a:cubicBezTo>
                  <a:pt x="511" y="1338"/>
                  <a:pt x="527" y="1338"/>
                  <a:pt x="542" y="1338"/>
                </a:cubicBezTo>
                <a:close/>
                <a:moveTo>
                  <a:pt x="6323" y="1305"/>
                </a:moveTo>
                <a:cubicBezTo>
                  <a:pt x="6323" y="1474"/>
                  <a:pt x="6323" y="1644"/>
                  <a:pt x="6323" y="1813"/>
                </a:cubicBezTo>
                <a:cubicBezTo>
                  <a:pt x="6437" y="1813"/>
                  <a:pt x="6550" y="1813"/>
                  <a:pt x="6664" y="1813"/>
                </a:cubicBezTo>
                <a:cubicBezTo>
                  <a:pt x="6664" y="1644"/>
                  <a:pt x="6664" y="1474"/>
                  <a:pt x="6664" y="1305"/>
                </a:cubicBezTo>
                <a:cubicBezTo>
                  <a:pt x="6550" y="1305"/>
                  <a:pt x="6437" y="1305"/>
                  <a:pt x="6323" y="1305"/>
                </a:cubicBezTo>
                <a:close/>
                <a:moveTo>
                  <a:pt x="1740" y="1305"/>
                </a:moveTo>
                <a:cubicBezTo>
                  <a:pt x="1740" y="1474"/>
                  <a:pt x="1740" y="1644"/>
                  <a:pt x="1740" y="1813"/>
                </a:cubicBezTo>
                <a:cubicBezTo>
                  <a:pt x="1853" y="1813"/>
                  <a:pt x="1967" y="1813"/>
                  <a:pt x="2081" y="1813"/>
                </a:cubicBezTo>
                <a:cubicBezTo>
                  <a:pt x="2081" y="1644"/>
                  <a:pt x="2081" y="1474"/>
                  <a:pt x="2081" y="1305"/>
                </a:cubicBezTo>
                <a:cubicBezTo>
                  <a:pt x="1967" y="1305"/>
                  <a:pt x="1853" y="1305"/>
                  <a:pt x="1740" y="1305"/>
                </a:cubicBezTo>
                <a:close/>
                <a:moveTo>
                  <a:pt x="15336" y="1220"/>
                </a:moveTo>
                <a:cubicBezTo>
                  <a:pt x="15200" y="1220"/>
                  <a:pt x="15114" y="1265"/>
                  <a:pt x="15080" y="1356"/>
                </a:cubicBezTo>
                <a:cubicBezTo>
                  <a:pt x="15080" y="1412"/>
                  <a:pt x="15080" y="1469"/>
                  <a:pt x="15080" y="1525"/>
                </a:cubicBezTo>
                <a:cubicBezTo>
                  <a:pt x="15114" y="1627"/>
                  <a:pt x="15183" y="1672"/>
                  <a:pt x="15285" y="1661"/>
                </a:cubicBezTo>
                <a:cubicBezTo>
                  <a:pt x="15609" y="1661"/>
                  <a:pt x="15933" y="1661"/>
                  <a:pt x="16257" y="1661"/>
                </a:cubicBezTo>
                <a:cubicBezTo>
                  <a:pt x="16393" y="1661"/>
                  <a:pt x="16461" y="1610"/>
                  <a:pt x="16461" y="1508"/>
                </a:cubicBezTo>
                <a:cubicBezTo>
                  <a:pt x="16461" y="1463"/>
                  <a:pt x="16461" y="1418"/>
                  <a:pt x="16461" y="1373"/>
                </a:cubicBezTo>
                <a:cubicBezTo>
                  <a:pt x="16461" y="1271"/>
                  <a:pt x="16382" y="1220"/>
                  <a:pt x="16223" y="1220"/>
                </a:cubicBezTo>
                <a:cubicBezTo>
                  <a:pt x="15927" y="1220"/>
                  <a:pt x="15632" y="1220"/>
                  <a:pt x="15336" y="1220"/>
                </a:cubicBezTo>
                <a:close/>
                <a:moveTo>
                  <a:pt x="16801" y="810"/>
                </a:moveTo>
                <a:cubicBezTo>
                  <a:pt x="16775" y="810"/>
                  <a:pt x="16747" y="811"/>
                  <a:pt x="16717" y="814"/>
                </a:cubicBezTo>
                <a:cubicBezTo>
                  <a:pt x="16120" y="814"/>
                  <a:pt x="15524" y="814"/>
                  <a:pt x="14927" y="814"/>
                </a:cubicBezTo>
                <a:cubicBezTo>
                  <a:pt x="14756" y="814"/>
                  <a:pt x="14637" y="893"/>
                  <a:pt x="14569" y="1051"/>
                </a:cubicBezTo>
                <a:cubicBezTo>
                  <a:pt x="14739" y="1051"/>
                  <a:pt x="14910" y="1051"/>
                  <a:pt x="15080" y="1051"/>
                </a:cubicBezTo>
                <a:cubicBezTo>
                  <a:pt x="15080" y="1124"/>
                  <a:pt x="15080" y="1198"/>
                  <a:pt x="15080" y="1271"/>
                </a:cubicBezTo>
                <a:cubicBezTo>
                  <a:pt x="15092" y="1113"/>
                  <a:pt x="15217" y="1040"/>
                  <a:pt x="15455" y="1051"/>
                </a:cubicBezTo>
                <a:cubicBezTo>
                  <a:pt x="15842" y="1051"/>
                  <a:pt x="16228" y="1051"/>
                  <a:pt x="16615" y="1051"/>
                </a:cubicBezTo>
                <a:cubicBezTo>
                  <a:pt x="16842" y="1051"/>
                  <a:pt x="16984" y="1096"/>
                  <a:pt x="17041" y="1186"/>
                </a:cubicBezTo>
                <a:cubicBezTo>
                  <a:pt x="17041" y="1164"/>
                  <a:pt x="17041" y="1141"/>
                  <a:pt x="17041" y="1119"/>
                </a:cubicBezTo>
                <a:cubicBezTo>
                  <a:pt x="17041" y="1102"/>
                  <a:pt x="17041" y="1085"/>
                  <a:pt x="17041" y="1068"/>
                </a:cubicBezTo>
                <a:cubicBezTo>
                  <a:pt x="17061" y="900"/>
                  <a:pt x="16981" y="814"/>
                  <a:pt x="16801" y="810"/>
                </a:cubicBezTo>
                <a:close/>
                <a:moveTo>
                  <a:pt x="6493" y="610"/>
                </a:moveTo>
                <a:cubicBezTo>
                  <a:pt x="6414" y="610"/>
                  <a:pt x="6357" y="661"/>
                  <a:pt x="6323" y="763"/>
                </a:cubicBezTo>
                <a:cubicBezTo>
                  <a:pt x="6323" y="893"/>
                  <a:pt x="6323" y="1023"/>
                  <a:pt x="6323" y="1152"/>
                </a:cubicBezTo>
                <a:cubicBezTo>
                  <a:pt x="6437" y="1152"/>
                  <a:pt x="6550" y="1152"/>
                  <a:pt x="6664" y="1152"/>
                </a:cubicBezTo>
                <a:cubicBezTo>
                  <a:pt x="6664" y="1068"/>
                  <a:pt x="6664" y="983"/>
                  <a:pt x="6664" y="898"/>
                </a:cubicBezTo>
                <a:cubicBezTo>
                  <a:pt x="6664" y="706"/>
                  <a:pt x="6607" y="610"/>
                  <a:pt x="6493" y="610"/>
                </a:cubicBezTo>
                <a:close/>
                <a:moveTo>
                  <a:pt x="1910" y="610"/>
                </a:moveTo>
                <a:cubicBezTo>
                  <a:pt x="1831" y="610"/>
                  <a:pt x="1774" y="661"/>
                  <a:pt x="1740" y="763"/>
                </a:cubicBezTo>
                <a:cubicBezTo>
                  <a:pt x="1740" y="893"/>
                  <a:pt x="1740" y="1023"/>
                  <a:pt x="1740" y="1152"/>
                </a:cubicBezTo>
                <a:cubicBezTo>
                  <a:pt x="1853" y="1152"/>
                  <a:pt x="1967" y="1152"/>
                  <a:pt x="2081" y="1152"/>
                </a:cubicBezTo>
                <a:cubicBezTo>
                  <a:pt x="2081" y="1068"/>
                  <a:pt x="2081" y="983"/>
                  <a:pt x="2081" y="898"/>
                </a:cubicBezTo>
                <a:cubicBezTo>
                  <a:pt x="2081" y="706"/>
                  <a:pt x="2024" y="610"/>
                  <a:pt x="1910" y="610"/>
                </a:cubicBezTo>
                <a:close/>
                <a:moveTo>
                  <a:pt x="10307" y="186"/>
                </a:moveTo>
                <a:cubicBezTo>
                  <a:pt x="10626" y="191"/>
                  <a:pt x="10774" y="309"/>
                  <a:pt x="10753" y="542"/>
                </a:cubicBezTo>
                <a:cubicBezTo>
                  <a:pt x="10741" y="734"/>
                  <a:pt x="10605" y="1328"/>
                  <a:pt x="10344" y="2322"/>
                </a:cubicBezTo>
                <a:cubicBezTo>
                  <a:pt x="10366" y="2424"/>
                  <a:pt x="10395" y="2520"/>
                  <a:pt x="10429" y="2610"/>
                </a:cubicBezTo>
                <a:cubicBezTo>
                  <a:pt x="10463" y="2689"/>
                  <a:pt x="10525" y="2881"/>
                  <a:pt x="10616" y="3186"/>
                </a:cubicBezTo>
                <a:cubicBezTo>
                  <a:pt x="10685" y="3401"/>
                  <a:pt x="10781" y="3565"/>
                  <a:pt x="10906" y="3678"/>
                </a:cubicBezTo>
                <a:cubicBezTo>
                  <a:pt x="10918" y="3644"/>
                  <a:pt x="10935" y="3616"/>
                  <a:pt x="10957" y="3593"/>
                </a:cubicBezTo>
                <a:cubicBezTo>
                  <a:pt x="11060" y="3491"/>
                  <a:pt x="11134" y="3390"/>
                  <a:pt x="11179" y="3288"/>
                </a:cubicBezTo>
                <a:cubicBezTo>
                  <a:pt x="11509" y="2768"/>
                  <a:pt x="11679" y="2401"/>
                  <a:pt x="11691" y="2186"/>
                </a:cubicBezTo>
                <a:cubicBezTo>
                  <a:pt x="11691" y="1712"/>
                  <a:pt x="11691" y="1237"/>
                  <a:pt x="11691" y="763"/>
                </a:cubicBezTo>
                <a:cubicBezTo>
                  <a:pt x="11878" y="763"/>
                  <a:pt x="12066" y="763"/>
                  <a:pt x="12253" y="763"/>
                </a:cubicBezTo>
                <a:cubicBezTo>
                  <a:pt x="12253" y="1237"/>
                  <a:pt x="12253" y="1712"/>
                  <a:pt x="12253" y="2186"/>
                </a:cubicBezTo>
                <a:cubicBezTo>
                  <a:pt x="12242" y="2265"/>
                  <a:pt x="12231" y="2339"/>
                  <a:pt x="12219" y="2407"/>
                </a:cubicBezTo>
                <a:cubicBezTo>
                  <a:pt x="12270" y="2407"/>
                  <a:pt x="12321" y="2407"/>
                  <a:pt x="12373" y="2407"/>
                </a:cubicBezTo>
                <a:cubicBezTo>
                  <a:pt x="12373" y="2740"/>
                  <a:pt x="12373" y="3073"/>
                  <a:pt x="12373" y="3407"/>
                </a:cubicBezTo>
                <a:cubicBezTo>
                  <a:pt x="12361" y="3610"/>
                  <a:pt x="12429" y="3712"/>
                  <a:pt x="12577" y="3712"/>
                </a:cubicBezTo>
                <a:cubicBezTo>
                  <a:pt x="12645" y="3712"/>
                  <a:pt x="12714" y="3712"/>
                  <a:pt x="12782" y="3712"/>
                </a:cubicBezTo>
                <a:cubicBezTo>
                  <a:pt x="13009" y="3689"/>
                  <a:pt x="13168" y="3480"/>
                  <a:pt x="13259" y="3085"/>
                </a:cubicBezTo>
                <a:cubicBezTo>
                  <a:pt x="13305" y="3740"/>
                  <a:pt x="13100" y="4045"/>
                  <a:pt x="12645" y="4000"/>
                </a:cubicBezTo>
                <a:cubicBezTo>
                  <a:pt x="12537" y="4000"/>
                  <a:pt x="12429" y="4000"/>
                  <a:pt x="12321" y="4000"/>
                </a:cubicBezTo>
                <a:cubicBezTo>
                  <a:pt x="11969" y="3988"/>
                  <a:pt x="11793" y="3830"/>
                  <a:pt x="11793" y="3525"/>
                </a:cubicBezTo>
                <a:cubicBezTo>
                  <a:pt x="11793" y="3469"/>
                  <a:pt x="11793" y="3412"/>
                  <a:pt x="11793" y="3356"/>
                </a:cubicBezTo>
                <a:cubicBezTo>
                  <a:pt x="11736" y="3457"/>
                  <a:pt x="11679" y="3536"/>
                  <a:pt x="11622" y="3593"/>
                </a:cubicBezTo>
                <a:cubicBezTo>
                  <a:pt x="11588" y="3638"/>
                  <a:pt x="11560" y="3689"/>
                  <a:pt x="11537" y="3745"/>
                </a:cubicBezTo>
                <a:cubicBezTo>
                  <a:pt x="11378" y="4017"/>
                  <a:pt x="11020" y="4118"/>
                  <a:pt x="10463" y="4051"/>
                </a:cubicBezTo>
                <a:cubicBezTo>
                  <a:pt x="10599" y="3971"/>
                  <a:pt x="10719" y="3875"/>
                  <a:pt x="10821" y="3762"/>
                </a:cubicBezTo>
                <a:cubicBezTo>
                  <a:pt x="10400" y="3830"/>
                  <a:pt x="10145" y="3661"/>
                  <a:pt x="10054" y="3254"/>
                </a:cubicBezTo>
                <a:cubicBezTo>
                  <a:pt x="9974" y="3457"/>
                  <a:pt x="9917" y="3587"/>
                  <a:pt x="9883" y="3644"/>
                </a:cubicBezTo>
                <a:cubicBezTo>
                  <a:pt x="9747" y="3926"/>
                  <a:pt x="9497" y="4034"/>
                  <a:pt x="9133" y="3966"/>
                </a:cubicBezTo>
                <a:cubicBezTo>
                  <a:pt x="9201" y="3842"/>
                  <a:pt x="9281" y="3678"/>
                  <a:pt x="9372" y="3474"/>
                </a:cubicBezTo>
                <a:cubicBezTo>
                  <a:pt x="9508" y="3147"/>
                  <a:pt x="9639" y="2774"/>
                  <a:pt x="9764" y="2356"/>
                </a:cubicBezTo>
                <a:cubicBezTo>
                  <a:pt x="9696" y="2152"/>
                  <a:pt x="9593" y="1819"/>
                  <a:pt x="9457" y="1356"/>
                </a:cubicBezTo>
                <a:cubicBezTo>
                  <a:pt x="9366" y="1062"/>
                  <a:pt x="9303" y="836"/>
                  <a:pt x="9269" y="678"/>
                </a:cubicBezTo>
                <a:cubicBezTo>
                  <a:pt x="9474" y="678"/>
                  <a:pt x="9679" y="678"/>
                  <a:pt x="9883" y="678"/>
                </a:cubicBezTo>
                <a:cubicBezTo>
                  <a:pt x="9929" y="915"/>
                  <a:pt x="9980" y="1136"/>
                  <a:pt x="10037" y="1339"/>
                </a:cubicBezTo>
                <a:cubicBezTo>
                  <a:pt x="10116" y="966"/>
                  <a:pt x="10162" y="701"/>
                  <a:pt x="10173" y="542"/>
                </a:cubicBezTo>
                <a:cubicBezTo>
                  <a:pt x="10184" y="407"/>
                  <a:pt x="10133" y="345"/>
                  <a:pt x="10020" y="356"/>
                </a:cubicBezTo>
                <a:cubicBezTo>
                  <a:pt x="9730" y="356"/>
                  <a:pt x="9440" y="356"/>
                  <a:pt x="9150" y="356"/>
                </a:cubicBezTo>
                <a:cubicBezTo>
                  <a:pt x="9150" y="299"/>
                  <a:pt x="9150" y="243"/>
                  <a:pt x="9150" y="186"/>
                </a:cubicBezTo>
                <a:cubicBezTo>
                  <a:pt x="9514" y="186"/>
                  <a:pt x="9878" y="186"/>
                  <a:pt x="10241" y="186"/>
                </a:cubicBezTo>
                <a:cubicBezTo>
                  <a:pt x="10264" y="186"/>
                  <a:pt x="10286" y="186"/>
                  <a:pt x="10307" y="186"/>
                </a:cubicBezTo>
                <a:close/>
                <a:moveTo>
                  <a:pt x="10889" y="119"/>
                </a:moveTo>
                <a:cubicBezTo>
                  <a:pt x="11082" y="119"/>
                  <a:pt x="11276" y="119"/>
                  <a:pt x="11469" y="119"/>
                </a:cubicBezTo>
                <a:cubicBezTo>
                  <a:pt x="11469" y="232"/>
                  <a:pt x="11469" y="345"/>
                  <a:pt x="11469" y="458"/>
                </a:cubicBezTo>
                <a:cubicBezTo>
                  <a:pt x="11492" y="254"/>
                  <a:pt x="11628" y="153"/>
                  <a:pt x="11878" y="153"/>
                </a:cubicBezTo>
                <a:cubicBezTo>
                  <a:pt x="12083" y="153"/>
                  <a:pt x="12287" y="153"/>
                  <a:pt x="12492" y="153"/>
                </a:cubicBezTo>
                <a:cubicBezTo>
                  <a:pt x="12890" y="153"/>
                  <a:pt x="13083" y="311"/>
                  <a:pt x="13072" y="627"/>
                </a:cubicBezTo>
                <a:cubicBezTo>
                  <a:pt x="13072" y="1339"/>
                  <a:pt x="13072" y="2051"/>
                  <a:pt x="13072" y="2763"/>
                </a:cubicBezTo>
                <a:cubicBezTo>
                  <a:pt x="12878" y="2763"/>
                  <a:pt x="12685" y="2763"/>
                  <a:pt x="12492" y="2763"/>
                </a:cubicBezTo>
                <a:cubicBezTo>
                  <a:pt x="12492" y="2062"/>
                  <a:pt x="12492" y="1362"/>
                  <a:pt x="12492" y="661"/>
                </a:cubicBezTo>
                <a:cubicBezTo>
                  <a:pt x="12515" y="412"/>
                  <a:pt x="12373" y="299"/>
                  <a:pt x="12066" y="322"/>
                </a:cubicBezTo>
                <a:cubicBezTo>
                  <a:pt x="11986" y="322"/>
                  <a:pt x="11907" y="322"/>
                  <a:pt x="11827" y="322"/>
                </a:cubicBezTo>
                <a:cubicBezTo>
                  <a:pt x="11600" y="311"/>
                  <a:pt x="11480" y="396"/>
                  <a:pt x="11469" y="576"/>
                </a:cubicBezTo>
                <a:cubicBezTo>
                  <a:pt x="11469" y="1311"/>
                  <a:pt x="11469" y="2045"/>
                  <a:pt x="11469" y="2779"/>
                </a:cubicBezTo>
                <a:cubicBezTo>
                  <a:pt x="11276" y="2779"/>
                  <a:pt x="11082" y="2779"/>
                  <a:pt x="10889" y="2779"/>
                </a:cubicBezTo>
                <a:cubicBezTo>
                  <a:pt x="10889" y="1893"/>
                  <a:pt x="10889" y="1006"/>
                  <a:pt x="10889" y="119"/>
                </a:cubicBezTo>
                <a:close/>
                <a:moveTo>
                  <a:pt x="4822" y="51"/>
                </a:moveTo>
                <a:cubicBezTo>
                  <a:pt x="5033" y="51"/>
                  <a:pt x="5243" y="51"/>
                  <a:pt x="5453" y="51"/>
                </a:cubicBezTo>
                <a:cubicBezTo>
                  <a:pt x="5453" y="525"/>
                  <a:pt x="5533" y="819"/>
                  <a:pt x="5692" y="932"/>
                </a:cubicBezTo>
                <a:cubicBezTo>
                  <a:pt x="5146" y="1023"/>
                  <a:pt x="4868" y="898"/>
                  <a:pt x="4857" y="559"/>
                </a:cubicBezTo>
                <a:cubicBezTo>
                  <a:pt x="4834" y="424"/>
                  <a:pt x="4822" y="254"/>
                  <a:pt x="4822" y="51"/>
                </a:cubicBezTo>
                <a:close/>
                <a:moveTo>
                  <a:pt x="239" y="51"/>
                </a:moveTo>
                <a:cubicBezTo>
                  <a:pt x="449" y="51"/>
                  <a:pt x="660" y="51"/>
                  <a:pt x="870" y="51"/>
                </a:cubicBezTo>
                <a:cubicBezTo>
                  <a:pt x="870" y="525"/>
                  <a:pt x="950" y="819"/>
                  <a:pt x="1109" y="932"/>
                </a:cubicBezTo>
                <a:cubicBezTo>
                  <a:pt x="563" y="1023"/>
                  <a:pt x="285" y="898"/>
                  <a:pt x="273" y="559"/>
                </a:cubicBezTo>
                <a:cubicBezTo>
                  <a:pt x="251" y="424"/>
                  <a:pt x="239" y="254"/>
                  <a:pt x="239" y="51"/>
                </a:cubicBezTo>
                <a:close/>
                <a:moveTo>
                  <a:pt x="16820" y="34"/>
                </a:moveTo>
                <a:cubicBezTo>
                  <a:pt x="17053" y="34"/>
                  <a:pt x="17286" y="34"/>
                  <a:pt x="17519" y="34"/>
                </a:cubicBezTo>
                <a:cubicBezTo>
                  <a:pt x="17359" y="305"/>
                  <a:pt x="17223" y="458"/>
                  <a:pt x="17109" y="492"/>
                </a:cubicBezTo>
                <a:cubicBezTo>
                  <a:pt x="16996" y="548"/>
                  <a:pt x="16751" y="554"/>
                  <a:pt x="16376" y="508"/>
                </a:cubicBezTo>
                <a:cubicBezTo>
                  <a:pt x="16524" y="441"/>
                  <a:pt x="16672" y="283"/>
                  <a:pt x="16820" y="34"/>
                </a:cubicBezTo>
                <a:close/>
                <a:moveTo>
                  <a:pt x="14108" y="34"/>
                </a:moveTo>
                <a:cubicBezTo>
                  <a:pt x="14341" y="34"/>
                  <a:pt x="14574" y="34"/>
                  <a:pt x="14808" y="34"/>
                </a:cubicBezTo>
                <a:cubicBezTo>
                  <a:pt x="14944" y="283"/>
                  <a:pt x="15092" y="441"/>
                  <a:pt x="15251" y="508"/>
                </a:cubicBezTo>
                <a:cubicBezTo>
                  <a:pt x="14864" y="554"/>
                  <a:pt x="14614" y="548"/>
                  <a:pt x="14501" y="492"/>
                </a:cubicBezTo>
                <a:cubicBezTo>
                  <a:pt x="14387" y="458"/>
                  <a:pt x="14256" y="305"/>
                  <a:pt x="14108" y="34"/>
                </a:cubicBezTo>
                <a:close/>
                <a:moveTo>
                  <a:pt x="15472" y="0"/>
                </a:moveTo>
                <a:cubicBezTo>
                  <a:pt x="15711" y="0"/>
                  <a:pt x="15950" y="0"/>
                  <a:pt x="16189" y="0"/>
                </a:cubicBezTo>
                <a:cubicBezTo>
                  <a:pt x="16189" y="215"/>
                  <a:pt x="16189" y="429"/>
                  <a:pt x="16189" y="644"/>
                </a:cubicBezTo>
                <a:cubicBezTo>
                  <a:pt x="16479" y="644"/>
                  <a:pt x="16768" y="644"/>
                  <a:pt x="17058" y="644"/>
                </a:cubicBezTo>
                <a:cubicBezTo>
                  <a:pt x="17502" y="621"/>
                  <a:pt x="17712" y="763"/>
                  <a:pt x="17689" y="1068"/>
                </a:cubicBezTo>
                <a:cubicBezTo>
                  <a:pt x="17689" y="1073"/>
                  <a:pt x="17689" y="1079"/>
                  <a:pt x="17689" y="1085"/>
                </a:cubicBezTo>
                <a:cubicBezTo>
                  <a:pt x="17689" y="1209"/>
                  <a:pt x="17655" y="1316"/>
                  <a:pt x="17587" y="1407"/>
                </a:cubicBezTo>
                <a:cubicBezTo>
                  <a:pt x="17416" y="1407"/>
                  <a:pt x="17246" y="1407"/>
                  <a:pt x="17075" y="1407"/>
                </a:cubicBezTo>
                <a:cubicBezTo>
                  <a:pt x="17075" y="1441"/>
                  <a:pt x="17075" y="1474"/>
                  <a:pt x="17075" y="1508"/>
                </a:cubicBezTo>
                <a:cubicBezTo>
                  <a:pt x="17098" y="1746"/>
                  <a:pt x="16956" y="1853"/>
                  <a:pt x="16649" y="1830"/>
                </a:cubicBezTo>
                <a:cubicBezTo>
                  <a:pt x="16251" y="1830"/>
                  <a:pt x="15853" y="1830"/>
                  <a:pt x="15455" y="1830"/>
                </a:cubicBezTo>
                <a:cubicBezTo>
                  <a:pt x="15217" y="1842"/>
                  <a:pt x="15092" y="1780"/>
                  <a:pt x="15080" y="1644"/>
                </a:cubicBezTo>
                <a:cubicBezTo>
                  <a:pt x="15080" y="1717"/>
                  <a:pt x="15080" y="1791"/>
                  <a:pt x="15080" y="1864"/>
                </a:cubicBezTo>
                <a:cubicBezTo>
                  <a:pt x="14876" y="1864"/>
                  <a:pt x="14671" y="1864"/>
                  <a:pt x="14466" y="1864"/>
                </a:cubicBezTo>
                <a:cubicBezTo>
                  <a:pt x="14466" y="1700"/>
                  <a:pt x="14466" y="1537"/>
                  <a:pt x="14466" y="1373"/>
                </a:cubicBezTo>
                <a:cubicBezTo>
                  <a:pt x="14273" y="1373"/>
                  <a:pt x="14080" y="1373"/>
                  <a:pt x="13887" y="1373"/>
                </a:cubicBezTo>
                <a:cubicBezTo>
                  <a:pt x="13887" y="1130"/>
                  <a:pt x="13887" y="887"/>
                  <a:pt x="13887" y="644"/>
                </a:cubicBezTo>
                <a:cubicBezTo>
                  <a:pt x="14108" y="644"/>
                  <a:pt x="14330" y="644"/>
                  <a:pt x="14552" y="644"/>
                </a:cubicBezTo>
                <a:cubicBezTo>
                  <a:pt x="14552" y="757"/>
                  <a:pt x="14552" y="870"/>
                  <a:pt x="14552" y="983"/>
                </a:cubicBezTo>
                <a:cubicBezTo>
                  <a:pt x="14574" y="757"/>
                  <a:pt x="14756" y="644"/>
                  <a:pt x="15097" y="644"/>
                </a:cubicBezTo>
                <a:cubicBezTo>
                  <a:pt x="15222" y="644"/>
                  <a:pt x="15347" y="644"/>
                  <a:pt x="15472" y="644"/>
                </a:cubicBezTo>
                <a:cubicBezTo>
                  <a:pt x="15472" y="429"/>
                  <a:pt x="15472" y="215"/>
                  <a:pt x="15472" y="0"/>
                </a:cubicBezTo>
                <a:close/>
                <a:moveTo>
                  <a:pt x="6272" y="0"/>
                </a:moveTo>
                <a:cubicBezTo>
                  <a:pt x="6493" y="0"/>
                  <a:pt x="6715" y="0"/>
                  <a:pt x="6937" y="0"/>
                </a:cubicBezTo>
                <a:cubicBezTo>
                  <a:pt x="6880" y="158"/>
                  <a:pt x="6829" y="299"/>
                  <a:pt x="6783" y="424"/>
                </a:cubicBezTo>
                <a:cubicBezTo>
                  <a:pt x="7124" y="412"/>
                  <a:pt x="7278" y="565"/>
                  <a:pt x="7244" y="881"/>
                </a:cubicBezTo>
                <a:cubicBezTo>
                  <a:pt x="7244" y="1763"/>
                  <a:pt x="7244" y="2644"/>
                  <a:pt x="7244" y="3525"/>
                </a:cubicBezTo>
                <a:cubicBezTo>
                  <a:pt x="7244" y="3548"/>
                  <a:pt x="7244" y="3576"/>
                  <a:pt x="7244" y="3610"/>
                </a:cubicBezTo>
                <a:cubicBezTo>
                  <a:pt x="7357" y="3655"/>
                  <a:pt x="7488" y="3678"/>
                  <a:pt x="7636" y="3678"/>
                </a:cubicBezTo>
                <a:cubicBezTo>
                  <a:pt x="7829" y="3712"/>
                  <a:pt x="7920" y="3570"/>
                  <a:pt x="7909" y="3254"/>
                </a:cubicBezTo>
                <a:cubicBezTo>
                  <a:pt x="7909" y="2525"/>
                  <a:pt x="7909" y="1796"/>
                  <a:pt x="7909" y="1068"/>
                </a:cubicBezTo>
                <a:cubicBezTo>
                  <a:pt x="7704" y="1068"/>
                  <a:pt x="7499" y="1068"/>
                  <a:pt x="7295" y="1068"/>
                </a:cubicBezTo>
                <a:cubicBezTo>
                  <a:pt x="7295" y="1017"/>
                  <a:pt x="7295" y="966"/>
                  <a:pt x="7295" y="915"/>
                </a:cubicBezTo>
                <a:cubicBezTo>
                  <a:pt x="7499" y="915"/>
                  <a:pt x="7704" y="915"/>
                  <a:pt x="7909" y="915"/>
                </a:cubicBezTo>
                <a:cubicBezTo>
                  <a:pt x="7909" y="610"/>
                  <a:pt x="7909" y="305"/>
                  <a:pt x="7909" y="0"/>
                </a:cubicBezTo>
                <a:cubicBezTo>
                  <a:pt x="8096" y="0"/>
                  <a:pt x="8284" y="0"/>
                  <a:pt x="8471" y="0"/>
                </a:cubicBezTo>
                <a:cubicBezTo>
                  <a:pt x="8471" y="305"/>
                  <a:pt x="8471" y="610"/>
                  <a:pt x="8471" y="915"/>
                </a:cubicBezTo>
                <a:cubicBezTo>
                  <a:pt x="8545" y="915"/>
                  <a:pt x="8619" y="915"/>
                  <a:pt x="8693" y="915"/>
                </a:cubicBezTo>
                <a:cubicBezTo>
                  <a:pt x="8693" y="966"/>
                  <a:pt x="8693" y="1017"/>
                  <a:pt x="8693" y="1068"/>
                </a:cubicBezTo>
                <a:cubicBezTo>
                  <a:pt x="8619" y="1068"/>
                  <a:pt x="8545" y="1068"/>
                  <a:pt x="8471" y="1068"/>
                </a:cubicBezTo>
                <a:cubicBezTo>
                  <a:pt x="8471" y="1876"/>
                  <a:pt x="8471" y="2683"/>
                  <a:pt x="8471" y="3491"/>
                </a:cubicBezTo>
                <a:cubicBezTo>
                  <a:pt x="8483" y="3864"/>
                  <a:pt x="8335" y="4045"/>
                  <a:pt x="8028" y="4034"/>
                </a:cubicBezTo>
                <a:cubicBezTo>
                  <a:pt x="7687" y="4011"/>
                  <a:pt x="7426" y="3875"/>
                  <a:pt x="7244" y="3627"/>
                </a:cubicBezTo>
                <a:cubicBezTo>
                  <a:pt x="7221" y="3909"/>
                  <a:pt x="7085" y="4045"/>
                  <a:pt x="6834" y="4034"/>
                </a:cubicBezTo>
                <a:cubicBezTo>
                  <a:pt x="6539" y="4022"/>
                  <a:pt x="6346" y="3915"/>
                  <a:pt x="6255" y="3712"/>
                </a:cubicBezTo>
                <a:cubicBezTo>
                  <a:pt x="6175" y="3881"/>
                  <a:pt x="5936" y="3943"/>
                  <a:pt x="5539" y="3898"/>
                </a:cubicBezTo>
                <a:cubicBezTo>
                  <a:pt x="5675" y="3785"/>
                  <a:pt x="5772" y="3672"/>
                  <a:pt x="5828" y="3559"/>
                </a:cubicBezTo>
                <a:cubicBezTo>
                  <a:pt x="5942" y="3322"/>
                  <a:pt x="6062" y="3017"/>
                  <a:pt x="6187" y="2644"/>
                </a:cubicBezTo>
                <a:cubicBezTo>
                  <a:pt x="5982" y="2644"/>
                  <a:pt x="5777" y="2644"/>
                  <a:pt x="5573" y="2644"/>
                </a:cubicBezTo>
                <a:cubicBezTo>
                  <a:pt x="5573" y="2599"/>
                  <a:pt x="5573" y="2553"/>
                  <a:pt x="5573" y="2508"/>
                </a:cubicBezTo>
                <a:cubicBezTo>
                  <a:pt x="5635" y="2508"/>
                  <a:pt x="5698" y="2508"/>
                  <a:pt x="5760" y="2508"/>
                </a:cubicBezTo>
                <a:cubicBezTo>
                  <a:pt x="5760" y="1813"/>
                  <a:pt x="5760" y="1119"/>
                  <a:pt x="5760" y="424"/>
                </a:cubicBezTo>
                <a:cubicBezTo>
                  <a:pt x="5874" y="424"/>
                  <a:pt x="5988" y="424"/>
                  <a:pt x="6101" y="424"/>
                </a:cubicBezTo>
                <a:cubicBezTo>
                  <a:pt x="6135" y="379"/>
                  <a:pt x="6187" y="254"/>
                  <a:pt x="6255" y="51"/>
                </a:cubicBezTo>
                <a:cubicBezTo>
                  <a:pt x="6255" y="62"/>
                  <a:pt x="6260" y="45"/>
                  <a:pt x="6272" y="0"/>
                </a:cubicBezTo>
                <a:close/>
                <a:moveTo>
                  <a:pt x="1689" y="0"/>
                </a:moveTo>
                <a:cubicBezTo>
                  <a:pt x="1910" y="0"/>
                  <a:pt x="2132" y="0"/>
                  <a:pt x="2354" y="0"/>
                </a:cubicBezTo>
                <a:cubicBezTo>
                  <a:pt x="2297" y="158"/>
                  <a:pt x="2246" y="299"/>
                  <a:pt x="2200" y="424"/>
                </a:cubicBezTo>
                <a:cubicBezTo>
                  <a:pt x="2541" y="412"/>
                  <a:pt x="2695" y="565"/>
                  <a:pt x="2660" y="881"/>
                </a:cubicBezTo>
                <a:cubicBezTo>
                  <a:pt x="2660" y="1763"/>
                  <a:pt x="2660" y="2644"/>
                  <a:pt x="2660" y="3525"/>
                </a:cubicBezTo>
                <a:cubicBezTo>
                  <a:pt x="2660" y="3548"/>
                  <a:pt x="2660" y="3576"/>
                  <a:pt x="2660" y="3610"/>
                </a:cubicBezTo>
                <a:cubicBezTo>
                  <a:pt x="2774" y="3655"/>
                  <a:pt x="2905" y="3678"/>
                  <a:pt x="3053" y="3678"/>
                </a:cubicBezTo>
                <a:cubicBezTo>
                  <a:pt x="3246" y="3712"/>
                  <a:pt x="3337" y="3570"/>
                  <a:pt x="3325" y="3254"/>
                </a:cubicBezTo>
                <a:cubicBezTo>
                  <a:pt x="3325" y="2525"/>
                  <a:pt x="3325" y="1796"/>
                  <a:pt x="3325" y="1068"/>
                </a:cubicBezTo>
                <a:cubicBezTo>
                  <a:pt x="3121" y="1068"/>
                  <a:pt x="2916" y="1068"/>
                  <a:pt x="2712" y="1068"/>
                </a:cubicBezTo>
                <a:cubicBezTo>
                  <a:pt x="2712" y="1017"/>
                  <a:pt x="2712" y="966"/>
                  <a:pt x="2712" y="915"/>
                </a:cubicBezTo>
                <a:cubicBezTo>
                  <a:pt x="2916" y="915"/>
                  <a:pt x="3121" y="915"/>
                  <a:pt x="3325" y="915"/>
                </a:cubicBezTo>
                <a:cubicBezTo>
                  <a:pt x="3325" y="610"/>
                  <a:pt x="3325" y="305"/>
                  <a:pt x="3325" y="0"/>
                </a:cubicBezTo>
                <a:cubicBezTo>
                  <a:pt x="3513" y="0"/>
                  <a:pt x="3701" y="0"/>
                  <a:pt x="3888" y="0"/>
                </a:cubicBezTo>
                <a:cubicBezTo>
                  <a:pt x="3888" y="305"/>
                  <a:pt x="3888" y="610"/>
                  <a:pt x="3888" y="915"/>
                </a:cubicBezTo>
                <a:cubicBezTo>
                  <a:pt x="3962" y="915"/>
                  <a:pt x="4036" y="915"/>
                  <a:pt x="4110" y="915"/>
                </a:cubicBezTo>
                <a:cubicBezTo>
                  <a:pt x="4110" y="966"/>
                  <a:pt x="4110" y="1017"/>
                  <a:pt x="4110" y="1068"/>
                </a:cubicBezTo>
                <a:cubicBezTo>
                  <a:pt x="4036" y="1068"/>
                  <a:pt x="3962" y="1068"/>
                  <a:pt x="3888" y="1068"/>
                </a:cubicBezTo>
                <a:cubicBezTo>
                  <a:pt x="3888" y="1876"/>
                  <a:pt x="3888" y="2683"/>
                  <a:pt x="3888" y="3491"/>
                </a:cubicBezTo>
                <a:cubicBezTo>
                  <a:pt x="3899" y="3864"/>
                  <a:pt x="3752" y="4045"/>
                  <a:pt x="3445" y="4034"/>
                </a:cubicBezTo>
                <a:cubicBezTo>
                  <a:pt x="3104" y="4011"/>
                  <a:pt x="2842" y="3875"/>
                  <a:pt x="2660" y="3627"/>
                </a:cubicBezTo>
                <a:cubicBezTo>
                  <a:pt x="2638" y="3909"/>
                  <a:pt x="2501" y="4045"/>
                  <a:pt x="2251" y="4034"/>
                </a:cubicBezTo>
                <a:cubicBezTo>
                  <a:pt x="1956" y="4022"/>
                  <a:pt x="1762" y="3915"/>
                  <a:pt x="1671" y="3712"/>
                </a:cubicBezTo>
                <a:cubicBezTo>
                  <a:pt x="1592" y="3881"/>
                  <a:pt x="1353" y="3943"/>
                  <a:pt x="955" y="3898"/>
                </a:cubicBezTo>
                <a:cubicBezTo>
                  <a:pt x="1092" y="3785"/>
                  <a:pt x="1188" y="3672"/>
                  <a:pt x="1245" y="3559"/>
                </a:cubicBezTo>
                <a:cubicBezTo>
                  <a:pt x="1359" y="3322"/>
                  <a:pt x="1478" y="3017"/>
                  <a:pt x="1603" y="2644"/>
                </a:cubicBezTo>
                <a:cubicBezTo>
                  <a:pt x="1399" y="2644"/>
                  <a:pt x="1194" y="2644"/>
                  <a:pt x="989" y="2644"/>
                </a:cubicBezTo>
                <a:cubicBezTo>
                  <a:pt x="989" y="2599"/>
                  <a:pt x="989" y="2553"/>
                  <a:pt x="989" y="2508"/>
                </a:cubicBezTo>
                <a:cubicBezTo>
                  <a:pt x="1052" y="2508"/>
                  <a:pt x="1114" y="2508"/>
                  <a:pt x="1177" y="2508"/>
                </a:cubicBezTo>
                <a:cubicBezTo>
                  <a:pt x="1177" y="1813"/>
                  <a:pt x="1177" y="1119"/>
                  <a:pt x="1177" y="424"/>
                </a:cubicBezTo>
                <a:cubicBezTo>
                  <a:pt x="1291" y="424"/>
                  <a:pt x="1404" y="424"/>
                  <a:pt x="1518" y="424"/>
                </a:cubicBezTo>
                <a:cubicBezTo>
                  <a:pt x="1552" y="379"/>
                  <a:pt x="1603" y="254"/>
                  <a:pt x="1671" y="51"/>
                </a:cubicBezTo>
                <a:cubicBezTo>
                  <a:pt x="1671" y="62"/>
                  <a:pt x="1677" y="45"/>
                  <a:pt x="168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椭圆 18"/>
          <p:cNvSpPr/>
          <p:nvPr/>
        </p:nvSpPr>
        <p:spPr>
          <a:xfrm>
            <a:off x="2836800" y="3726000"/>
            <a:ext cx="465120" cy="3474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KSO_Shape"/>
          <p:cNvSpPr/>
          <p:nvPr/>
        </p:nvSpPr>
        <p:spPr>
          <a:xfrm>
            <a:off x="2946240" y="3851280"/>
            <a:ext cx="244800" cy="123840"/>
          </a:xfrm>
          <a:custGeom>
            <a:avLst/>
            <a:gdLst/>
            <a:ahLst/>
            <a:rect l="l" t="t" r="r" b="b"/>
            <a:pathLst>
              <a:path w="4974795" h="3320682">
                <a:moveTo>
                  <a:pt x="1897867" y="1805825"/>
                </a:moveTo>
                <a:lnTo>
                  <a:pt x="2485737" y="2315734"/>
                </a:lnTo>
                <a:lnTo>
                  <a:pt x="3073607" y="1805825"/>
                </a:lnTo>
                <a:lnTo>
                  <a:pt x="4820061" y="3320682"/>
                </a:lnTo>
                <a:lnTo>
                  <a:pt x="151413" y="3320682"/>
                </a:lnTo>
                <a:lnTo>
                  <a:pt x="1897867" y="1805825"/>
                </a:lnTo>
                <a:close/>
                <a:moveTo>
                  <a:pt x="0" y="159634"/>
                </a:moveTo>
                <a:lnTo>
                  <a:pt x="1788328" y="1710812"/>
                </a:lnTo>
                <a:lnTo>
                  <a:pt x="0" y="3261996"/>
                </a:lnTo>
                <a:lnTo>
                  <a:pt x="0" y="159634"/>
                </a:lnTo>
                <a:close/>
                <a:moveTo>
                  <a:pt x="4974795" y="156753"/>
                </a:moveTo>
                <a:lnTo>
                  <a:pt x="4974795" y="3264872"/>
                </a:lnTo>
                <a:lnTo>
                  <a:pt x="3183146" y="1710812"/>
                </a:lnTo>
                <a:lnTo>
                  <a:pt x="4974795" y="156753"/>
                </a:lnTo>
                <a:close/>
                <a:moveTo>
                  <a:pt x="35040" y="0"/>
                </a:moveTo>
                <a:lnTo>
                  <a:pt x="4936434" y="0"/>
                </a:lnTo>
                <a:lnTo>
                  <a:pt x="2485737" y="2125709"/>
                </a:lnTo>
                <a:lnTo>
                  <a:pt x="350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椭圆 20"/>
          <p:cNvSpPr/>
          <p:nvPr/>
        </p:nvSpPr>
        <p:spPr>
          <a:xfrm>
            <a:off x="4525920" y="3726000"/>
            <a:ext cx="465120" cy="3474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KSO_Shape"/>
          <p:cNvSpPr/>
          <p:nvPr/>
        </p:nvSpPr>
        <p:spPr>
          <a:xfrm>
            <a:off x="4659480" y="3822840"/>
            <a:ext cx="198360" cy="152280"/>
          </a:xfrm>
          <a:custGeom>
            <a:avLst/>
            <a:gdLst/>
            <a:ahLst/>
            <a:rect l="l" t="t" r="r" b="b"/>
            <a:pathLst>
              <a:path w="1119349" h="1157433">
                <a:moveTo>
                  <a:pt x="135620" y="818456"/>
                </a:moveTo>
                <a:cubicBezTo>
                  <a:pt x="71450" y="948523"/>
                  <a:pt x="57484" y="1054732"/>
                  <a:pt x="108323" y="1103729"/>
                </a:cubicBezTo>
                <a:cubicBezTo>
                  <a:pt x="164989" y="1158341"/>
                  <a:pt x="289713" y="1129874"/>
                  <a:pt x="437069" y="1040437"/>
                </a:cubicBezTo>
                <a:cubicBezTo>
                  <a:pt x="307239" y="1007168"/>
                  <a:pt x="198946" y="926245"/>
                  <a:pt x="135620" y="818456"/>
                </a:cubicBezTo>
                <a:close/>
                <a:moveTo>
                  <a:pt x="582086" y="345816"/>
                </a:moveTo>
                <a:cubicBezTo>
                  <a:pt x="490772" y="345817"/>
                  <a:pt x="434615" y="407693"/>
                  <a:pt x="413811" y="495363"/>
                </a:cubicBezTo>
                <a:lnTo>
                  <a:pt x="750361" y="495364"/>
                </a:lnTo>
                <a:cubicBezTo>
                  <a:pt x="729557" y="407692"/>
                  <a:pt x="673401" y="345816"/>
                  <a:pt x="582086" y="345816"/>
                </a:cubicBezTo>
                <a:close/>
                <a:moveTo>
                  <a:pt x="954622" y="129"/>
                </a:moveTo>
                <a:cubicBezTo>
                  <a:pt x="1007406" y="-1466"/>
                  <a:pt x="1051113" y="11645"/>
                  <a:pt x="1081775" y="41196"/>
                </a:cubicBezTo>
                <a:cubicBezTo>
                  <a:pt x="1101805" y="60500"/>
                  <a:pt x="1115030" y="85625"/>
                  <a:pt x="1119349" y="116033"/>
                </a:cubicBezTo>
                <a:cubicBezTo>
                  <a:pt x="1112931" y="103633"/>
                  <a:pt x="1104158" y="92219"/>
                  <a:pt x="1093494" y="81508"/>
                </a:cubicBezTo>
                <a:cubicBezTo>
                  <a:pt x="1010899" y="-1451"/>
                  <a:pt x="882017" y="28786"/>
                  <a:pt x="737350" y="130602"/>
                </a:cubicBezTo>
                <a:cubicBezTo>
                  <a:pt x="943277" y="190863"/>
                  <a:pt x="1091569" y="370605"/>
                  <a:pt x="1091569" y="582598"/>
                </a:cubicBezTo>
                <a:lnTo>
                  <a:pt x="1085273" y="640757"/>
                </a:lnTo>
                <a:lnTo>
                  <a:pt x="755888" y="640756"/>
                </a:lnTo>
                <a:lnTo>
                  <a:pt x="719073" y="640757"/>
                </a:lnTo>
                <a:lnTo>
                  <a:pt x="408284" y="640757"/>
                </a:lnTo>
                <a:cubicBezTo>
                  <a:pt x="424002" y="743453"/>
                  <a:pt x="484447" y="819382"/>
                  <a:pt x="582086" y="819383"/>
                </a:cubicBezTo>
                <a:cubicBezTo>
                  <a:pt x="648673" y="819382"/>
                  <a:pt x="697960" y="784070"/>
                  <a:pt x="725617" y="727992"/>
                </a:cubicBezTo>
                <a:lnTo>
                  <a:pt x="1064773" y="727992"/>
                </a:lnTo>
                <a:cubicBezTo>
                  <a:pt x="1000780" y="921122"/>
                  <a:pt x="807116" y="1060320"/>
                  <a:pt x="578539" y="1060320"/>
                </a:cubicBezTo>
                <a:cubicBezTo>
                  <a:pt x="541437" y="1060319"/>
                  <a:pt x="505255" y="1056652"/>
                  <a:pt x="470646" y="1048435"/>
                </a:cubicBezTo>
                <a:cubicBezTo>
                  <a:pt x="288189" y="1159820"/>
                  <a:pt x="124174" y="1191927"/>
                  <a:pt x="45670" y="1116267"/>
                </a:cubicBezTo>
                <a:cubicBezTo>
                  <a:pt x="-38972" y="1034693"/>
                  <a:pt x="-2092" y="849162"/>
                  <a:pt x="124297" y="645271"/>
                </a:cubicBezTo>
                <a:cubicBezTo>
                  <a:pt x="126384" y="641564"/>
                  <a:pt x="128546" y="637931"/>
                  <a:pt x="130887" y="634433"/>
                </a:cubicBezTo>
                <a:cubicBezTo>
                  <a:pt x="140131" y="616742"/>
                  <a:pt x="151256" y="599735"/>
                  <a:pt x="163296" y="582889"/>
                </a:cubicBezTo>
                <a:cubicBezTo>
                  <a:pt x="171413" y="570408"/>
                  <a:pt x="179765" y="558285"/>
                  <a:pt x="189707" y="547372"/>
                </a:cubicBezTo>
                <a:cubicBezTo>
                  <a:pt x="207410" y="520542"/>
                  <a:pt x="227598" y="494496"/>
                  <a:pt x="249351" y="468810"/>
                </a:cubicBezTo>
                <a:cubicBezTo>
                  <a:pt x="261501" y="453873"/>
                  <a:pt x="274484" y="439223"/>
                  <a:pt x="288439" y="424719"/>
                </a:cubicBezTo>
                <a:cubicBezTo>
                  <a:pt x="304701" y="403895"/>
                  <a:pt x="322841" y="384213"/>
                  <a:pt x="341644" y="364703"/>
                </a:cubicBezTo>
                <a:cubicBezTo>
                  <a:pt x="392793" y="311630"/>
                  <a:pt x="445389" y="263415"/>
                  <a:pt x="498166" y="220924"/>
                </a:cubicBezTo>
                <a:cubicBezTo>
                  <a:pt x="310657" y="309270"/>
                  <a:pt x="183697" y="431706"/>
                  <a:pt x="65845" y="579499"/>
                </a:cubicBezTo>
                <a:cubicBezTo>
                  <a:pt x="67312" y="317087"/>
                  <a:pt x="296312" y="104878"/>
                  <a:pt x="578538" y="104878"/>
                </a:cubicBezTo>
                <a:lnTo>
                  <a:pt x="651994" y="111773"/>
                </a:lnTo>
                <a:cubicBezTo>
                  <a:pt x="764896" y="41979"/>
                  <a:pt x="871117" y="2651"/>
                  <a:pt x="954622" y="1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直接连接符 43"/>
          <p:cNvSpPr/>
          <p:nvPr/>
        </p:nvSpPr>
        <p:spPr>
          <a:xfrm>
            <a:off x="3924360" y="3757680"/>
            <a:ext cx="0" cy="620640"/>
          </a:xfrm>
          <a:prstGeom prst="line">
            <a:avLst/>
          </a:prstGeom>
          <a:ln w="9360">
            <a:solidFill>
              <a:srgbClr val="d7d7d7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文本框 40"/>
          <p:cNvSpPr/>
          <p:nvPr/>
        </p:nvSpPr>
        <p:spPr>
          <a:xfrm>
            <a:off x="2617920" y="4178160"/>
            <a:ext cx="9111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Arial Narrow"/>
                <a:ea typeface="微软雅黑"/>
              </a:rPr>
              <a:t>3334326094@</a:t>
            </a:r>
            <a:r>
              <a:rPr b="1" lang="zh-CN" sz="1400" spc="-1" strike="noStrike">
                <a:solidFill>
                  <a:srgbClr val="92d050"/>
                </a:solidFill>
                <a:latin typeface="Arial Narrow"/>
                <a:ea typeface="微软雅黑"/>
              </a:rPr>
              <a:t>qq</a:t>
            </a:r>
            <a:r>
              <a:rPr b="1" lang="en-US" sz="1400" spc="-1" strike="noStrike">
                <a:solidFill>
                  <a:srgbClr val="92d050"/>
                </a:solidFill>
                <a:latin typeface="Arial Narrow"/>
                <a:ea typeface="微软雅黑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文本框 46"/>
          <p:cNvSpPr/>
          <p:nvPr/>
        </p:nvSpPr>
        <p:spPr>
          <a:xfrm>
            <a:off x="4173480" y="4178160"/>
            <a:ext cx="1258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2d050"/>
                </a:solidFill>
                <a:latin typeface="Arial Narrow"/>
                <a:ea typeface="微软雅黑"/>
              </a:rPr>
              <a:t>www</a:t>
            </a:r>
            <a:r>
              <a:rPr b="1" lang="en-US" sz="1400" spc="-1" strike="noStrike">
                <a:solidFill>
                  <a:srgbClr val="92d050"/>
                </a:solidFill>
                <a:latin typeface="Arial Narrow"/>
                <a:ea typeface="微软雅黑"/>
              </a:rPr>
              <a:t>.</a:t>
            </a:r>
            <a:r>
              <a:rPr b="1" lang="zh-CN" sz="1400" spc="-1" strike="noStrike">
                <a:solidFill>
                  <a:srgbClr val="92d050"/>
                </a:solidFill>
                <a:latin typeface="Arial Narrow"/>
                <a:ea typeface="微软雅黑"/>
              </a:rPr>
              <a:t>youyi100</a:t>
            </a:r>
            <a:r>
              <a:rPr b="1" lang="en-US" sz="1400" spc="-1" strike="noStrike">
                <a:solidFill>
                  <a:srgbClr val="92d050"/>
                </a:solidFill>
                <a:latin typeface="Arial Narrow"/>
                <a:ea typeface="微软雅黑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Group 12"/>
          <p:cNvGrpSpPr/>
          <p:nvPr/>
        </p:nvGrpSpPr>
        <p:grpSpPr>
          <a:xfrm>
            <a:off x="6253200" y="3759120"/>
            <a:ext cx="431640" cy="324000"/>
            <a:chOff x="6253200" y="3759120"/>
            <a:chExt cx="431640" cy="324000"/>
          </a:xfrm>
        </p:grpSpPr>
        <p:sp>
          <p:nvSpPr>
            <p:cNvPr id="1109" name="椭圆 24"/>
            <p:cNvSpPr/>
            <p:nvPr/>
          </p:nvSpPr>
          <p:spPr>
            <a:xfrm>
              <a:off x="6253200" y="3759120"/>
              <a:ext cx="431640" cy="32400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KSO_Shape"/>
            <p:cNvSpPr/>
            <p:nvPr/>
          </p:nvSpPr>
          <p:spPr>
            <a:xfrm>
              <a:off x="6335640" y="3827880"/>
              <a:ext cx="266760" cy="186480"/>
            </a:xfrm>
            <a:custGeom>
              <a:avLst/>
              <a:gdLst/>
              <a:ahLst/>
              <a:rect l="l" t="t" r="r" b="b"/>
              <a:pathLst>
                <a:path w="969654" h="903534">
                  <a:moveTo>
                    <a:pt x="813088" y="487443"/>
                  </a:moveTo>
                  <a:cubicBezTo>
                    <a:pt x="793206" y="487443"/>
                    <a:pt x="777088" y="503561"/>
                    <a:pt x="777088" y="523443"/>
                  </a:cubicBezTo>
                  <a:cubicBezTo>
                    <a:pt x="777088" y="543325"/>
                    <a:pt x="793206" y="559443"/>
                    <a:pt x="813088" y="559443"/>
                  </a:cubicBezTo>
                  <a:cubicBezTo>
                    <a:pt x="832970" y="559443"/>
                    <a:pt x="849088" y="543325"/>
                    <a:pt x="849088" y="523443"/>
                  </a:cubicBezTo>
                  <a:cubicBezTo>
                    <a:pt x="849088" y="503561"/>
                    <a:pt x="832970" y="487443"/>
                    <a:pt x="813088" y="487443"/>
                  </a:cubicBezTo>
                  <a:close/>
                  <a:moveTo>
                    <a:pt x="606961" y="487443"/>
                  </a:moveTo>
                  <a:cubicBezTo>
                    <a:pt x="587079" y="487443"/>
                    <a:pt x="570961" y="503561"/>
                    <a:pt x="570961" y="523443"/>
                  </a:cubicBezTo>
                  <a:cubicBezTo>
                    <a:pt x="570961" y="543325"/>
                    <a:pt x="587079" y="559443"/>
                    <a:pt x="606961" y="559443"/>
                  </a:cubicBezTo>
                  <a:cubicBezTo>
                    <a:pt x="626843" y="559443"/>
                    <a:pt x="642961" y="543325"/>
                    <a:pt x="642961" y="523443"/>
                  </a:cubicBezTo>
                  <a:cubicBezTo>
                    <a:pt x="642961" y="503561"/>
                    <a:pt x="626843" y="487443"/>
                    <a:pt x="606961" y="487443"/>
                  </a:cubicBezTo>
                  <a:close/>
                  <a:moveTo>
                    <a:pt x="691345" y="336511"/>
                  </a:moveTo>
                  <a:cubicBezTo>
                    <a:pt x="769490" y="335080"/>
                    <a:pt x="847112" y="364668"/>
                    <a:pt x="901758" y="422110"/>
                  </a:cubicBezTo>
                  <a:cubicBezTo>
                    <a:pt x="999759" y="525126"/>
                    <a:pt x="990612" y="681640"/>
                    <a:pt x="881173" y="774306"/>
                  </a:cubicBezTo>
                  <a:lnTo>
                    <a:pt x="905846" y="903534"/>
                  </a:lnTo>
                  <a:lnTo>
                    <a:pt x="792422" y="824563"/>
                  </a:lnTo>
                  <a:cubicBezTo>
                    <a:pt x="666952" y="867914"/>
                    <a:pt x="525982" y="820668"/>
                    <a:pt x="459770" y="713074"/>
                  </a:cubicBezTo>
                  <a:cubicBezTo>
                    <a:pt x="386891" y="594648"/>
                    <a:pt x="429055" y="444146"/>
                    <a:pt x="554971" y="373268"/>
                  </a:cubicBezTo>
                  <a:cubicBezTo>
                    <a:pt x="597384" y="349394"/>
                    <a:pt x="644458" y="337369"/>
                    <a:pt x="691345" y="336511"/>
                  </a:cubicBezTo>
                  <a:close/>
                  <a:moveTo>
                    <a:pt x="547874" y="187267"/>
                  </a:moveTo>
                  <a:cubicBezTo>
                    <a:pt x="518051" y="187267"/>
                    <a:pt x="493874" y="211444"/>
                    <a:pt x="493874" y="241267"/>
                  </a:cubicBezTo>
                  <a:cubicBezTo>
                    <a:pt x="493874" y="271090"/>
                    <a:pt x="518051" y="295267"/>
                    <a:pt x="547874" y="295267"/>
                  </a:cubicBezTo>
                  <a:cubicBezTo>
                    <a:pt x="577697" y="295267"/>
                    <a:pt x="601874" y="271090"/>
                    <a:pt x="601874" y="241267"/>
                  </a:cubicBezTo>
                  <a:cubicBezTo>
                    <a:pt x="601874" y="211444"/>
                    <a:pt x="577697" y="187267"/>
                    <a:pt x="547874" y="187267"/>
                  </a:cubicBezTo>
                  <a:close/>
                  <a:moveTo>
                    <a:pt x="294449" y="187267"/>
                  </a:moveTo>
                  <a:cubicBezTo>
                    <a:pt x="264626" y="187267"/>
                    <a:pt x="240449" y="211444"/>
                    <a:pt x="240449" y="241267"/>
                  </a:cubicBezTo>
                  <a:cubicBezTo>
                    <a:pt x="240449" y="271090"/>
                    <a:pt x="264626" y="295267"/>
                    <a:pt x="294449" y="295267"/>
                  </a:cubicBezTo>
                  <a:cubicBezTo>
                    <a:pt x="324272" y="295267"/>
                    <a:pt x="348449" y="271090"/>
                    <a:pt x="348449" y="241267"/>
                  </a:cubicBezTo>
                  <a:cubicBezTo>
                    <a:pt x="348449" y="211444"/>
                    <a:pt x="324272" y="187267"/>
                    <a:pt x="294449" y="187267"/>
                  </a:cubicBezTo>
                  <a:close/>
                  <a:moveTo>
                    <a:pt x="408549" y="168"/>
                  </a:moveTo>
                  <a:cubicBezTo>
                    <a:pt x="456533" y="-1113"/>
                    <a:pt x="505397" y="4870"/>
                    <a:pt x="553141" y="18800"/>
                  </a:cubicBezTo>
                  <a:cubicBezTo>
                    <a:pt x="730896" y="70663"/>
                    <a:pt x="843952" y="217556"/>
                    <a:pt x="840274" y="375462"/>
                  </a:cubicBezTo>
                  <a:cubicBezTo>
                    <a:pt x="754752" y="310337"/>
                    <a:pt x="632797" y="302687"/>
                    <a:pt x="535419" y="357502"/>
                  </a:cubicBezTo>
                  <a:cubicBezTo>
                    <a:pt x="409503" y="428380"/>
                    <a:pt x="367339" y="578882"/>
                    <a:pt x="440218" y="697308"/>
                  </a:cubicBezTo>
                  <a:cubicBezTo>
                    <a:pt x="450352" y="713775"/>
                    <a:pt x="462237" y="728829"/>
                    <a:pt x="478397" y="739559"/>
                  </a:cubicBezTo>
                  <a:cubicBezTo>
                    <a:pt x="442192" y="745523"/>
                    <a:pt x="404623" y="745773"/>
                    <a:pt x="366675" y="741395"/>
                  </a:cubicBezTo>
                  <a:lnTo>
                    <a:pt x="245711" y="837584"/>
                  </a:lnTo>
                  <a:lnTo>
                    <a:pt x="214226" y="696474"/>
                  </a:lnTo>
                  <a:cubicBezTo>
                    <a:pt x="11680" y="595442"/>
                    <a:pt x="-59861" y="368389"/>
                    <a:pt x="54436" y="189343"/>
                  </a:cubicBezTo>
                  <a:cubicBezTo>
                    <a:pt x="128564" y="73222"/>
                    <a:pt x="264598" y="4010"/>
                    <a:pt x="408549" y="16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直接连接符 43"/>
          <p:cNvSpPr/>
          <p:nvPr/>
        </p:nvSpPr>
        <p:spPr>
          <a:xfrm>
            <a:off x="5681520" y="3746520"/>
            <a:ext cx="0" cy="620640"/>
          </a:xfrm>
          <a:prstGeom prst="line">
            <a:avLst/>
          </a:prstGeom>
          <a:ln w="9360">
            <a:solidFill>
              <a:srgbClr val="d7d7d7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文本框 46"/>
          <p:cNvSpPr/>
          <p:nvPr/>
        </p:nvSpPr>
        <p:spPr>
          <a:xfrm>
            <a:off x="5819760" y="4178160"/>
            <a:ext cx="1258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2d050"/>
                </a:solidFill>
                <a:latin typeface="Arial Narrow"/>
                <a:ea typeface="微软雅黑"/>
              </a:rPr>
              <a:t>youyicongshu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任意多边形 26"/>
          <p:cNvSpPr/>
          <p:nvPr/>
        </p:nvSpPr>
        <p:spPr>
          <a:xfrm>
            <a:off x="1187280" y="1401840"/>
            <a:ext cx="1501920" cy="1185840"/>
          </a:xfrm>
          <a:custGeom>
            <a:avLst/>
            <a:gdLst/>
            <a:ahLst/>
            <a:rect l="l" t="t" r="r" b="b"/>
            <a:pathLst>
              <a:path w="1501139" h="1247086">
                <a:moveTo>
                  <a:pt x="683259" y="0"/>
                </a:moveTo>
                <a:lnTo>
                  <a:pt x="962295" y="0"/>
                </a:lnTo>
                <a:lnTo>
                  <a:pt x="1501139" y="623543"/>
                </a:lnTo>
                <a:lnTo>
                  <a:pt x="962295" y="1247086"/>
                </a:lnTo>
                <a:lnTo>
                  <a:pt x="683259" y="1247086"/>
                </a:lnTo>
                <a:lnTo>
                  <a:pt x="1123741" y="737366"/>
                </a:lnTo>
                <a:lnTo>
                  <a:pt x="0" y="737366"/>
                </a:lnTo>
                <a:lnTo>
                  <a:pt x="0" y="509720"/>
                </a:lnTo>
                <a:lnTo>
                  <a:pt x="1123741" y="509720"/>
                </a:lnTo>
                <a:lnTo>
                  <a:pt x="683259" y="0"/>
                </a:lnTo>
                <a:close/>
              </a:path>
            </a:pathLst>
          </a:custGeom>
          <a:solidFill>
            <a:srgbClr val="ffff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18"/>
          <p:cNvSpPr/>
          <p:nvPr/>
        </p:nvSpPr>
        <p:spPr>
          <a:xfrm>
            <a:off x="5494680" y="2928960"/>
            <a:ext cx="2993760" cy="459720"/>
          </a:xfrm>
          <a:prstGeom prst="rect">
            <a:avLst/>
          </a:prstGeom>
          <a:noFill/>
          <a:ln w="93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2d050"/>
                </a:solidFill>
                <a:uFillTx/>
                <a:latin typeface="Arial"/>
              </a:rPr>
              <a:t>www.</a:t>
            </a:r>
            <a:r>
              <a:rPr b="1" i="1" lang="zh-CN" sz="2400" spc="-1" strike="noStrike" u="sng">
                <a:solidFill>
                  <a:srgbClr val="92d050"/>
                </a:solidFill>
                <a:uFillTx/>
                <a:latin typeface="Arial"/>
                <a:ea typeface="宋体"/>
              </a:rPr>
              <a:t>youyi100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180"/>
                            </p:stCondLst>
                            <p:childTnLst>
                              <p:par>
                                <p:cTn id="33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文本占位符 21506"/>
          <p:cNvSpPr/>
          <p:nvPr/>
        </p:nvSpPr>
        <p:spPr>
          <a:xfrm>
            <a:off x="612720" y="1062000"/>
            <a:ext cx="752652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组讨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知道如何使用最好的方法记住下面这些生字？（如“加一加”、“减一减”、“换偏旁”等识字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乌、鸦、喝、渴、瓶、石、办、法、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椭圆 14340"/>
          <p:cNvSpPr/>
          <p:nvPr/>
        </p:nvSpPr>
        <p:spPr>
          <a:xfrm>
            <a:off x="1523880" y="2062080"/>
            <a:ext cx="12193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椭圆 14341"/>
          <p:cNvSpPr/>
          <p:nvPr/>
        </p:nvSpPr>
        <p:spPr>
          <a:xfrm>
            <a:off x="3124080" y="2214720"/>
            <a:ext cx="121932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椭圆 14342"/>
          <p:cNvSpPr/>
          <p:nvPr/>
        </p:nvSpPr>
        <p:spPr>
          <a:xfrm>
            <a:off x="4952880" y="1986120"/>
            <a:ext cx="1295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椭圆 14343"/>
          <p:cNvSpPr/>
          <p:nvPr/>
        </p:nvSpPr>
        <p:spPr>
          <a:xfrm>
            <a:off x="6781680" y="2062080"/>
            <a:ext cx="129564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椭圆 14344"/>
          <p:cNvSpPr/>
          <p:nvPr/>
        </p:nvSpPr>
        <p:spPr>
          <a:xfrm>
            <a:off x="914400" y="4157640"/>
            <a:ext cx="12193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椭圆 14345"/>
          <p:cNvSpPr/>
          <p:nvPr/>
        </p:nvSpPr>
        <p:spPr>
          <a:xfrm>
            <a:off x="4038480" y="4119480"/>
            <a:ext cx="129564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椭圆 14346"/>
          <p:cNvSpPr/>
          <p:nvPr/>
        </p:nvSpPr>
        <p:spPr>
          <a:xfrm>
            <a:off x="2514600" y="41194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椭圆 14347"/>
          <p:cNvSpPr/>
          <p:nvPr/>
        </p:nvSpPr>
        <p:spPr>
          <a:xfrm>
            <a:off x="5791320" y="4119480"/>
            <a:ext cx="12189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椭圆 14348"/>
          <p:cNvSpPr/>
          <p:nvPr/>
        </p:nvSpPr>
        <p:spPr>
          <a:xfrm>
            <a:off x="7270920" y="4119480"/>
            <a:ext cx="12189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矩形 14349"/>
          <p:cNvSpPr/>
          <p:nvPr/>
        </p:nvSpPr>
        <p:spPr>
          <a:xfrm>
            <a:off x="1600200" y="1376280"/>
            <a:ext cx="10666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w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矩形 14350"/>
          <p:cNvSpPr/>
          <p:nvPr/>
        </p:nvSpPr>
        <p:spPr>
          <a:xfrm>
            <a:off x="3200400" y="1376280"/>
            <a:ext cx="10666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y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矩形 14351"/>
          <p:cNvSpPr/>
          <p:nvPr/>
        </p:nvSpPr>
        <p:spPr>
          <a:xfrm>
            <a:off x="5105520" y="1376280"/>
            <a:ext cx="12189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h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矩形 14352"/>
          <p:cNvSpPr/>
          <p:nvPr/>
        </p:nvSpPr>
        <p:spPr>
          <a:xfrm>
            <a:off x="6858000" y="1376280"/>
            <a:ext cx="114300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k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矩形 14353"/>
          <p:cNvSpPr/>
          <p:nvPr/>
        </p:nvSpPr>
        <p:spPr>
          <a:xfrm>
            <a:off x="990720" y="3357720"/>
            <a:ext cx="106668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p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矩形 14354"/>
          <p:cNvSpPr/>
          <p:nvPr/>
        </p:nvSpPr>
        <p:spPr>
          <a:xfrm>
            <a:off x="2438280" y="3433680"/>
            <a:ext cx="129564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b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矩形 14355"/>
          <p:cNvSpPr/>
          <p:nvPr/>
        </p:nvSpPr>
        <p:spPr>
          <a:xfrm>
            <a:off x="4114800" y="3357720"/>
            <a:ext cx="12193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sh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矩形 14356"/>
          <p:cNvSpPr/>
          <p:nvPr/>
        </p:nvSpPr>
        <p:spPr>
          <a:xfrm>
            <a:off x="5867280" y="3357720"/>
            <a:ext cx="10670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f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矩形 14357"/>
          <p:cNvSpPr/>
          <p:nvPr/>
        </p:nvSpPr>
        <p:spPr>
          <a:xfrm>
            <a:off x="7315200" y="3357720"/>
            <a:ext cx="9907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ji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横卷形 14359"/>
          <p:cNvSpPr/>
          <p:nvPr/>
        </p:nvSpPr>
        <p:spPr>
          <a:xfrm>
            <a:off x="2360520" y="112680"/>
            <a:ext cx="4421160" cy="1197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我会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图片 2" descr="图片1"/>
          <p:cNvPicPr/>
          <p:nvPr/>
        </p:nvPicPr>
        <p:blipFill>
          <a:blip r:embed="rId1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流程图: 卡片 40965"/>
          <p:cNvSpPr/>
          <p:nvPr/>
        </p:nvSpPr>
        <p:spPr>
          <a:xfrm>
            <a:off x="547560" y="838080"/>
            <a:ext cx="1219320" cy="990720"/>
          </a:xfrm>
          <a:prstGeom prst="flowChartPunchedCard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矩形 40966"/>
          <p:cNvSpPr/>
          <p:nvPr/>
        </p:nvSpPr>
        <p:spPr>
          <a:xfrm>
            <a:off x="2529000" y="914400"/>
            <a:ext cx="144756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矩形 40967"/>
          <p:cNvSpPr/>
          <p:nvPr/>
        </p:nvSpPr>
        <p:spPr>
          <a:xfrm>
            <a:off x="4738680" y="914400"/>
            <a:ext cx="12952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矩形 40968"/>
          <p:cNvSpPr/>
          <p:nvPr/>
        </p:nvSpPr>
        <p:spPr>
          <a:xfrm>
            <a:off x="6872400" y="914400"/>
            <a:ext cx="12952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矩形 40969"/>
          <p:cNvSpPr/>
          <p:nvPr/>
        </p:nvSpPr>
        <p:spPr>
          <a:xfrm>
            <a:off x="6872400" y="2438280"/>
            <a:ext cx="13716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40970"/>
          <p:cNvSpPr/>
          <p:nvPr/>
        </p:nvSpPr>
        <p:spPr>
          <a:xfrm>
            <a:off x="6872400" y="3809880"/>
            <a:ext cx="13716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40971"/>
          <p:cNvSpPr/>
          <p:nvPr/>
        </p:nvSpPr>
        <p:spPr>
          <a:xfrm>
            <a:off x="4815000" y="3809880"/>
            <a:ext cx="12952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40972"/>
          <p:cNvSpPr/>
          <p:nvPr/>
        </p:nvSpPr>
        <p:spPr>
          <a:xfrm>
            <a:off x="2757600" y="3733920"/>
            <a:ext cx="144756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40973"/>
          <p:cNvSpPr/>
          <p:nvPr/>
        </p:nvSpPr>
        <p:spPr>
          <a:xfrm>
            <a:off x="776160" y="3733920"/>
            <a:ext cx="13716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矩形 40975"/>
          <p:cNvSpPr/>
          <p:nvPr/>
        </p:nvSpPr>
        <p:spPr>
          <a:xfrm>
            <a:off x="1766880" y="1523880"/>
            <a:ext cx="762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矩形 40976"/>
          <p:cNvSpPr/>
          <p:nvPr/>
        </p:nvSpPr>
        <p:spPr>
          <a:xfrm>
            <a:off x="4052880" y="1523880"/>
            <a:ext cx="6858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矩形 40977"/>
          <p:cNvSpPr/>
          <p:nvPr/>
        </p:nvSpPr>
        <p:spPr>
          <a:xfrm>
            <a:off x="6110280" y="1523880"/>
            <a:ext cx="762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矩形 40978"/>
          <p:cNvSpPr/>
          <p:nvPr/>
        </p:nvSpPr>
        <p:spPr>
          <a:xfrm>
            <a:off x="7558200" y="1828800"/>
            <a:ext cx="152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矩形 40979"/>
          <p:cNvSpPr/>
          <p:nvPr/>
        </p:nvSpPr>
        <p:spPr>
          <a:xfrm>
            <a:off x="7558200" y="3200400"/>
            <a:ext cx="152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矩形 40980"/>
          <p:cNvSpPr/>
          <p:nvPr/>
        </p:nvSpPr>
        <p:spPr>
          <a:xfrm>
            <a:off x="6110280" y="4267080"/>
            <a:ext cx="762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矩形 40981"/>
          <p:cNvSpPr/>
          <p:nvPr/>
        </p:nvSpPr>
        <p:spPr>
          <a:xfrm>
            <a:off x="4281480" y="4267080"/>
            <a:ext cx="5335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40982"/>
          <p:cNvSpPr/>
          <p:nvPr/>
        </p:nvSpPr>
        <p:spPr>
          <a:xfrm>
            <a:off x="2224080" y="4267080"/>
            <a:ext cx="5335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椭圆 40983"/>
          <p:cNvSpPr/>
          <p:nvPr/>
        </p:nvSpPr>
        <p:spPr>
          <a:xfrm>
            <a:off x="2757600" y="175248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椭圆 40985"/>
          <p:cNvSpPr/>
          <p:nvPr/>
        </p:nvSpPr>
        <p:spPr>
          <a:xfrm>
            <a:off x="3595680" y="17524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椭圆 40986"/>
          <p:cNvSpPr/>
          <p:nvPr/>
        </p:nvSpPr>
        <p:spPr>
          <a:xfrm>
            <a:off x="5043600" y="1828800"/>
            <a:ext cx="2286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椭圆 40987"/>
          <p:cNvSpPr/>
          <p:nvPr/>
        </p:nvSpPr>
        <p:spPr>
          <a:xfrm>
            <a:off x="5729400" y="1828800"/>
            <a:ext cx="2286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椭圆 40988"/>
          <p:cNvSpPr/>
          <p:nvPr/>
        </p:nvSpPr>
        <p:spPr>
          <a:xfrm>
            <a:off x="7101000" y="1828800"/>
            <a:ext cx="2286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40989"/>
          <p:cNvSpPr/>
          <p:nvPr/>
        </p:nvSpPr>
        <p:spPr>
          <a:xfrm>
            <a:off x="7862760" y="1828800"/>
            <a:ext cx="2286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40990"/>
          <p:cNvSpPr/>
          <p:nvPr/>
        </p:nvSpPr>
        <p:spPr>
          <a:xfrm>
            <a:off x="776160" y="1828800"/>
            <a:ext cx="2286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椭圆 40991"/>
          <p:cNvSpPr/>
          <p:nvPr/>
        </p:nvSpPr>
        <p:spPr>
          <a:xfrm>
            <a:off x="1461960" y="1828800"/>
            <a:ext cx="2286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40992"/>
          <p:cNvSpPr/>
          <p:nvPr/>
        </p:nvSpPr>
        <p:spPr>
          <a:xfrm>
            <a:off x="1004760" y="45720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椭圆 40993"/>
          <p:cNvSpPr/>
          <p:nvPr/>
        </p:nvSpPr>
        <p:spPr>
          <a:xfrm>
            <a:off x="1766880" y="45720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椭圆 40994"/>
          <p:cNvSpPr/>
          <p:nvPr/>
        </p:nvSpPr>
        <p:spPr>
          <a:xfrm>
            <a:off x="3062160" y="46483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椭圆 40995"/>
          <p:cNvSpPr/>
          <p:nvPr/>
        </p:nvSpPr>
        <p:spPr>
          <a:xfrm>
            <a:off x="3824280" y="46483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40996"/>
          <p:cNvSpPr/>
          <p:nvPr/>
        </p:nvSpPr>
        <p:spPr>
          <a:xfrm>
            <a:off x="5043600" y="46483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椭圆 40997"/>
          <p:cNvSpPr/>
          <p:nvPr/>
        </p:nvSpPr>
        <p:spPr>
          <a:xfrm>
            <a:off x="5729400" y="46483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椭圆 40998"/>
          <p:cNvSpPr/>
          <p:nvPr/>
        </p:nvSpPr>
        <p:spPr>
          <a:xfrm>
            <a:off x="7101000" y="45720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椭圆 40999"/>
          <p:cNvSpPr/>
          <p:nvPr/>
        </p:nvSpPr>
        <p:spPr>
          <a:xfrm>
            <a:off x="7862760" y="45720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椭圆 41000"/>
          <p:cNvSpPr/>
          <p:nvPr/>
        </p:nvSpPr>
        <p:spPr>
          <a:xfrm>
            <a:off x="7101000" y="312408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椭圆 41001"/>
          <p:cNvSpPr/>
          <p:nvPr/>
        </p:nvSpPr>
        <p:spPr>
          <a:xfrm>
            <a:off x="7862760" y="31240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横卷形 2"/>
          <p:cNvSpPr/>
          <p:nvPr/>
        </p:nvSpPr>
        <p:spPr>
          <a:xfrm>
            <a:off x="1690560" y="2286000"/>
            <a:ext cx="4419720" cy="106668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小火车，动起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爆炸形 2 17412"/>
          <p:cNvSpPr/>
          <p:nvPr/>
        </p:nvSpPr>
        <p:spPr>
          <a:xfrm>
            <a:off x="1122480" y="1179360"/>
            <a:ext cx="2590560" cy="18288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喝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爆炸形 2 17413"/>
          <p:cNvSpPr/>
          <p:nvPr/>
        </p:nvSpPr>
        <p:spPr>
          <a:xfrm>
            <a:off x="3105000" y="3008160"/>
            <a:ext cx="2514600" cy="19051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口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爆炸形 2 17414"/>
          <p:cNvSpPr/>
          <p:nvPr/>
        </p:nvSpPr>
        <p:spPr>
          <a:xfrm>
            <a:off x="6543720" y="1581120"/>
            <a:ext cx="2209680" cy="18288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瓶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任意多边形 17417"/>
          <p:cNvSpPr/>
          <p:nvPr/>
        </p:nvSpPr>
        <p:spPr>
          <a:xfrm>
            <a:off x="5934240" y="3541680"/>
            <a:ext cx="1828800" cy="14479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渐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任意多边形 17418"/>
          <p:cNvSpPr/>
          <p:nvPr/>
        </p:nvSpPr>
        <p:spPr>
          <a:xfrm>
            <a:off x="4322880" y="1712880"/>
            <a:ext cx="1676160" cy="129528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办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任意多边形 17419"/>
          <p:cNvSpPr/>
          <p:nvPr/>
        </p:nvSpPr>
        <p:spPr>
          <a:xfrm>
            <a:off x="490680" y="3313080"/>
            <a:ext cx="1904760" cy="16765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小石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任意多边形 17420"/>
          <p:cNvSpPr/>
          <p:nvPr/>
        </p:nvSpPr>
        <p:spPr>
          <a:xfrm>
            <a:off x="2951280" y="189000"/>
            <a:ext cx="1752480" cy="14475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乌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任意多边形 17421"/>
          <p:cNvSpPr/>
          <p:nvPr/>
        </p:nvSpPr>
        <p:spPr>
          <a:xfrm>
            <a:off x="5724360" y="434880"/>
            <a:ext cx="1828800" cy="14479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瓶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横卷形 2"/>
          <p:cNvSpPr/>
          <p:nvPr/>
        </p:nvSpPr>
        <p:spPr>
          <a:xfrm>
            <a:off x="135000" y="57240"/>
            <a:ext cx="2614680" cy="105732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我还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文本占位符 18434"/>
          <p:cNvSpPr/>
          <p:nvPr/>
        </p:nvSpPr>
        <p:spPr>
          <a:xfrm>
            <a:off x="541440" y="290520"/>
            <a:ext cx="4120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文本框 18438"/>
          <p:cNvSpPr/>
          <p:nvPr/>
        </p:nvSpPr>
        <p:spPr>
          <a:xfrm>
            <a:off x="2529000" y="725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石子）（石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文本框 18439"/>
          <p:cNvSpPr/>
          <p:nvPr/>
        </p:nvSpPr>
        <p:spPr>
          <a:xfrm>
            <a:off x="2039760" y="1106640"/>
            <a:ext cx="26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右边）（右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文本框 18440"/>
          <p:cNvSpPr/>
          <p:nvPr/>
        </p:nvSpPr>
        <p:spPr>
          <a:xfrm>
            <a:off x="2453040" y="1868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喝水）（喝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文本框 18441"/>
          <p:cNvSpPr/>
          <p:nvPr/>
        </p:nvSpPr>
        <p:spPr>
          <a:xfrm>
            <a:off x="2453040" y="2249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口渴）（渴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文本框 18442"/>
          <p:cNvSpPr/>
          <p:nvPr/>
        </p:nvSpPr>
        <p:spPr>
          <a:xfrm>
            <a:off x="2304720" y="2706840"/>
            <a:ext cx="17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乌鸦）（乌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文本框 18443"/>
          <p:cNvSpPr/>
          <p:nvPr/>
        </p:nvSpPr>
        <p:spPr>
          <a:xfrm>
            <a:off x="2427480" y="3165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小鸟）（鸟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文本框 18444"/>
          <p:cNvSpPr/>
          <p:nvPr/>
        </p:nvSpPr>
        <p:spPr>
          <a:xfrm>
            <a:off x="2379960" y="3973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办法）（办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文本框 18445"/>
          <p:cNvSpPr/>
          <p:nvPr/>
        </p:nvSpPr>
        <p:spPr>
          <a:xfrm>
            <a:off x="2441160" y="43257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因为）（为什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波形 2"/>
          <p:cNvSpPr/>
          <p:nvPr/>
        </p:nvSpPr>
        <p:spPr>
          <a:xfrm rot="5220000">
            <a:off x="3513240" y="2224080"/>
            <a:ext cx="4257360" cy="984240"/>
          </a:xfrm>
          <a:custGeom>
            <a:avLst/>
            <a:gdLst>
              <a:gd name="textAreaLeft" fmla="*/ 0 w 4257360"/>
              <a:gd name="textAreaRight" fmla="*/ 4257360 w 4257360"/>
              <a:gd name="textAreaTop" fmla="*/ 255960 h 984240"/>
              <a:gd name="textAreaBottom" fmla="*/ 728280 h 98424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文本框 3"/>
          <p:cNvSpPr/>
          <p:nvPr/>
        </p:nvSpPr>
        <p:spPr>
          <a:xfrm>
            <a:off x="5229000" y="565200"/>
            <a:ext cx="72900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比一比，并组成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图片 4" descr="搞活动覆盖"/>
          <p:cNvPicPr/>
          <p:nvPr/>
        </p:nvPicPr>
        <p:blipFill>
          <a:blip r:embed="rId1"/>
          <a:stretch/>
        </p:blipFill>
        <p:spPr>
          <a:xfrm>
            <a:off x="6168960" y="565200"/>
            <a:ext cx="26323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2" descr="图片1"/>
          <p:cNvPicPr/>
          <p:nvPr/>
        </p:nvPicPr>
        <p:blipFill>
          <a:blip r:embed="rId1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1039" name="标题 16385"/>
          <p:cNvSpPr/>
          <p:nvPr/>
        </p:nvSpPr>
        <p:spPr>
          <a:xfrm>
            <a:off x="1193760" y="4752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乌鸦喝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占位符 16386"/>
          <p:cNvSpPr/>
          <p:nvPr/>
        </p:nvSpPr>
        <p:spPr>
          <a:xfrm>
            <a:off x="701640" y="1450800"/>
            <a:ext cx="8039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只乌鸦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口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，到处找水喝。乌鸦看见一个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瓶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瓶子里有水。但是瓶子里水不多，瓶口又小，乌鸦喝不着水，怎么办呢？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乌鸦看见旁边有许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小石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想出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办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来了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乌鸦把小石子一颗一颗地放进瓶子里。瓶子里的水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渐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升高，乌鸦就喝着水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横卷形 16389"/>
          <p:cNvSpPr/>
          <p:nvPr/>
        </p:nvSpPr>
        <p:spPr>
          <a:xfrm>
            <a:off x="244440" y="47520"/>
            <a:ext cx="228600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读一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文本框 16393"/>
          <p:cNvSpPr/>
          <p:nvPr/>
        </p:nvSpPr>
        <p:spPr>
          <a:xfrm>
            <a:off x="1193760" y="145080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文本框 16394"/>
          <p:cNvSpPr/>
          <p:nvPr/>
        </p:nvSpPr>
        <p:spPr>
          <a:xfrm>
            <a:off x="1156680" y="2935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16395"/>
          <p:cNvSpPr/>
          <p:nvPr/>
        </p:nvSpPr>
        <p:spPr>
          <a:xfrm>
            <a:off x="1156680" y="3384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云形标注 15368"/>
          <p:cNvSpPr/>
          <p:nvPr/>
        </p:nvSpPr>
        <p:spPr>
          <a:xfrm>
            <a:off x="3867120" y="154080"/>
            <a:ext cx="5105520" cy="1676160"/>
          </a:xfrm>
          <a:prstGeom prst="cloudCallout">
            <a:avLst>
              <a:gd name="adj1" fmla="val -32305"/>
              <a:gd name="adj2" fmla="val 799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看一看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图中的乌鸦喝到水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图片 2" descr="图片1"/>
          <p:cNvPicPr/>
          <p:nvPr/>
        </p:nvPicPr>
        <p:blipFill>
          <a:blip r:embed="rId1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15367" descr="1"/>
          <p:cNvPicPr/>
          <p:nvPr/>
        </p:nvPicPr>
        <p:blipFill>
          <a:blip r:embed="rId2"/>
          <a:stretch/>
        </p:blipFill>
        <p:spPr>
          <a:xfrm>
            <a:off x="237960" y="1542960"/>
            <a:ext cx="3861000" cy="3537000"/>
          </a:xfrm>
          <a:prstGeom prst="rect">
            <a:avLst/>
          </a:prstGeom>
          <a:ln w="0">
            <a:noFill/>
          </a:ln>
        </p:spPr>
      </p:pic>
      <p:sp>
        <p:nvSpPr>
          <p:cNvPr id="1048" name="云形标注 15369"/>
          <p:cNvSpPr/>
          <p:nvPr/>
        </p:nvSpPr>
        <p:spPr>
          <a:xfrm>
            <a:off x="4673520" y="2517840"/>
            <a:ext cx="4038840" cy="2438280"/>
          </a:xfrm>
          <a:prstGeom prst="cloudCallout">
            <a:avLst>
              <a:gd name="adj1" fmla="val -57587"/>
              <a:gd name="adj2" fmla="val -4557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想一想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什么这只乌鸦喝不到瓶子里的水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横卷形 15370"/>
          <p:cNvSpPr/>
          <p:nvPr/>
        </p:nvSpPr>
        <p:spPr>
          <a:xfrm>
            <a:off x="171360" y="95400"/>
            <a:ext cx="2667240" cy="144756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2" descr="图片1"/>
          <p:cNvPicPr/>
          <p:nvPr/>
        </p:nvPicPr>
        <p:blipFill>
          <a:blip r:embed="rId1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1051" name="标题 38913"/>
          <p:cNvSpPr/>
          <p:nvPr/>
        </p:nvSpPr>
        <p:spPr>
          <a:xfrm>
            <a:off x="514440" y="988920"/>
            <a:ext cx="2878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乌鸦喝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文本占位符 38914"/>
          <p:cNvSpPr/>
          <p:nvPr/>
        </p:nvSpPr>
        <p:spPr>
          <a:xfrm>
            <a:off x="662040" y="2371680"/>
            <a:ext cx="740412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只乌鸦口渴了，到处找水喝。乌鸦看见一个瓶子，瓶子里有水。可是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瓶子里水不多，瓶口又小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乌鸦喝不着水，怎么办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8T07:02:00Z</dcterms:created>
  <dc:creator>Administrator</dc:creator>
  <dc:description/>
  <dc:language>en-US</dc:language>
  <cp:lastModifiedBy>Administrator</cp:lastModifiedBy>
  <dcterms:modified xsi:type="dcterms:W3CDTF">2017-04-13T06:13:32Z</dcterms:modified>
  <cp:revision>140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