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6F1-8718-4D7C-A85C-3C02B716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2F5-5C2C-42F5-B44D-A2BD5341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C1A-FA89-4032-8259-A365AC4D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86B-449E-4363-B9FF-D50A6E24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E5BA-7F67-4BA5-A9D7-AF18C9DC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1568-6DF3-4001-923F-B1E416ED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6E56-21F0-4889-B4BB-A9B196D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B2E-0F4F-4D75-9FCD-8260C592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E86E-8BE7-4186-8F3A-7325F62C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CED5-CECD-4125-9AAA-9ADCF46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5D1B-5A4C-49B7-851A-290CB289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D24-847B-42DD-924F-B4A54A8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B4E9-35CC-432B-8959-5AC1FB2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A84B-ADD3-4EC6-A7B0-5BDBC3C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37C-9675-48B6-8F07-10F5110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A00-0170-48E1-906C-BCEF1DF7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EA5-44ED-42DC-B12E-CA1E1E25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E59-52C5-44C8-86D0-B53BB933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C80-F82C-44AD-A672-D058EC6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314-5954-4A5B-89DC-E51D49E3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6C3-A83F-443C-8598-088B35A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5BE-368C-4C3E-8877-DB0C73B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C4C-9C72-4AA4-B1FB-4E2D1B7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AE5-7EBE-4587-8101-358470A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C9E-CEDD-41BD-8243-7F0B0D6477F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1F0-DE52-45BD-9BFC-23911742686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35280" y="-27000"/>
            <a:ext cx="500220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00000" y="1195560"/>
            <a:ext cx="4680000" cy="4679640"/>
          </a:xfrm>
          <a:prstGeom prst="rect">
            <a:avLst/>
          </a:prstGeom>
          <a:solidFill>
            <a:srgbClr val="f3fa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3500280"/>
            <a:ext cx="4680000" cy="18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1195560"/>
            <a:ext cx="1440" cy="468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4720" y="692280"/>
            <a:ext cx="46796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33c03"/>
                </a:solidFill>
                <a:latin typeface="Arial"/>
                <a:ea typeface="楷体_GB2312"/>
              </a:rPr>
              <a:t>具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956720" y="6093000"/>
            <a:ext cx="86328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48360" y="333360"/>
            <a:ext cx="341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具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具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具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器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具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0000" y="1195560"/>
            <a:ext cx="4680000" cy="4679640"/>
          </a:xfrm>
          <a:prstGeom prst="rect">
            <a:avLst/>
          </a:prstGeom>
          <a:solidFill>
            <a:srgbClr val="f3fa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500280"/>
            <a:ext cx="4680000" cy="18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1195560"/>
            <a:ext cx="1440" cy="468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4720" y="692280"/>
            <a:ext cx="46796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33c03"/>
                </a:solidFill>
                <a:latin typeface="Arial"/>
                <a:ea typeface="楷体_GB2312"/>
              </a:rPr>
              <a:t>丢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956720" y="6093000"/>
            <a:ext cx="86328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1009800"/>
            <a:ext cx="34192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丢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丢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丢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丢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0000" y="1195560"/>
            <a:ext cx="4680000" cy="4679640"/>
          </a:xfrm>
          <a:prstGeom prst="rect">
            <a:avLst/>
          </a:prstGeom>
          <a:solidFill>
            <a:srgbClr val="f3fa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500280"/>
            <a:ext cx="4680000" cy="18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1195560"/>
            <a:ext cx="1440" cy="468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4720" y="692280"/>
            <a:ext cx="46796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33c03"/>
                </a:solidFill>
                <a:latin typeface="Arial"/>
                <a:ea typeface="楷体_GB2312"/>
              </a:rPr>
              <a:t>平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956720" y="6093000"/>
            <a:ext cx="86328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692280"/>
            <a:ext cx="3419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平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平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平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平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平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00000" y="1195560"/>
            <a:ext cx="4680000" cy="4679640"/>
          </a:xfrm>
          <a:prstGeom prst="rect">
            <a:avLst/>
          </a:prstGeom>
          <a:solidFill>
            <a:srgbClr val="f3fa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500280"/>
            <a:ext cx="4680000" cy="18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1195560"/>
            <a:ext cx="1440" cy="468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4720" y="692280"/>
            <a:ext cx="46796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33c03"/>
                </a:solidFill>
                <a:latin typeface="Arial"/>
                <a:ea typeface="楷体_GB2312"/>
              </a:rPr>
              <a:t>安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956720" y="6093000"/>
            <a:ext cx="86328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387360"/>
            <a:ext cx="3419640" cy="83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安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安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安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安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安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195560"/>
            <a:ext cx="4680000" cy="4679640"/>
          </a:xfrm>
          <a:prstGeom prst="rect">
            <a:avLst/>
          </a:prstGeom>
          <a:solidFill>
            <a:srgbClr val="f3fa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3500280"/>
            <a:ext cx="4680000" cy="18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1195560"/>
            <a:ext cx="1440" cy="468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4720" y="692280"/>
            <a:ext cx="46796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33c03"/>
                </a:solidFill>
                <a:latin typeface="Arial"/>
                <a:ea typeface="楷体_GB2312"/>
              </a:rPr>
              <a:t>这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7956720" y="6093000"/>
            <a:ext cx="86328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765000"/>
            <a:ext cx="341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这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这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这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这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85880" y="-258840"/>
            <a:ext cx="5334120" cy="76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5120" y="-395280"/>
            <a:ext cx="5333760" cy="76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334120" cy="76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11656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067280" cy="406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4427640" cy="3541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765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我的词语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128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铅笔  橡皮  文具  时候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平平安安   转笔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仔细  已经  伙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1195560"/>
            <a:ext cx="4680000" cy="4679640"/>
          </a:xfrm>
          <a:prstGeom prst="rect">
            <a:avLst/>
          </a:prstGeom>
          <a:solidFill>
            <a:srgbClr val="f3fa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3500280"/>
            <a:ext cx="4680000" cy="18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195560"/>
            <a:ext cx="1440" cy="468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4720" y="692280"/>
            <a:ext cx="46796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33c03"/>
                </a:solidFill>
                <a:latin typeface="Arial"/>
                <a:ea typeface="楷体_GB2312"/>
              </a:rPr>
              <a:t>文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956720" y="6093000"/>
            <a:ext cx="86328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692280"/>
            <a:ext cx="27003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天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23:43:23Z</dcterms:created>
  <dc:creator>微软用户</dc:creator>
  <dc:description/>
  <dc:language>en-US</dc:language>
  <cp:lastModifiedBy>微软用户</cp:lastModifiedBy>
  <dcterms:modified xsi:type="dcterms:W3CDTF">2013-03-12T13:31:56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