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752-6B68-4CC6-9113-DA05ED9B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A66-7ADC-4A3B-ADDB-B95BB3B0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375-61D9-4920-8DE3-47673AC2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85B-615B-498E-A8B1-0DF84FDA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74A-8F4D-4F79-8577-8A3AE21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7F1-20B8-424C-9D5F-89FB59A4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DB3-C43F-4889-B42A-5CE8160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D1F-1EF5-4EFB-8664-38DBEFA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C44-2647-44D6-AE1F-999E967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5CC-98D4-4154-A944-FB68C66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E65-D739-4F18-BF94-5BBF777F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801-4CAF-424B-BCF6-68CFDF7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4BE7-D542-49B3-88F3-8F00789A1C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cc"/>
                </a:solidFill>
                <a:latin typeface="Arial"/>
                <a:ea typeface="华文楷体"/>
              </a:rPr>
              <a:t>文 具 的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600" y="113364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华文楷体"/>
                <a:ea typeface="华文楷体"/>
              </a:rPr>
              <a:t>语文</a:t>
            </a:r>
            <a:r>
              <a:rPr b="1" lang="zh-CN" sz="2000" spc="-1" strike="noStrike">
                <a:solidFill>
                  <a:srgbClr val="009900"/>
                </a:solidFill>
                <a:latin typeface="华文楷体"/>
                <a:ea typeface="华文楷体"/>
              </a:rPr>
              <a:t>A</a:t>
            </a:r>
            <a:r>
              <a:rPr b="1" lang="zh-CN" sz="2000" spc="-1" strike="noStrike">
                <a:solidFill>
                  <a:srgbClr val="009900"/>
                </a:solidFill>
                <a:latin typeface="华文楷体"/>
                <a:ea typeface="华文楷体"/>
              </a:rPr>
              <a:t>版一年级语文下册第二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66ff"/>
                </a:solidFill>
                <a:latin typeface="Arial"/>
                <a:ea typeface="华文楷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我们就来举行一个整理书包的比赛，看谁做得又快又好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3080" y="69228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Arial"/>
                <a:ea typeface="华文楷体"/>
              </a:rPr>
              <a:t>重 点 指 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具，一长横，一共</a:t>
            </a: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8</a:t>
            </a: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画。</a:t>
            </a:r>
            <a:br>
              <a:rPr sz="4400"/>
            </a:b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丢，先写一撇，再写一个去字。</a:t>
            </a:r>
            <a:br>
              <a:rPr sz="4400"/>
            </a:b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皮，第一笔是横钩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cc00cc"/>
                </a:solidFill>
                <a:latin typeface="华文楷体"/>
                <a:ea typeface="华文楷体"/>
              </a:rPr>
              <a:t>已，区分“己”和“已”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华文楷体"/>
              </a:rPr>
              <a:t>练     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它们长得很像，但是不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请你给它们分别组个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     </a:t>
            </a: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丢（　　）　已（　　）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     </a:t>
            </a: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办（　　）　支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     </a:t>
            </a: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去（　　）　己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     </a:t>
            </a:r>
            <a:r>
              <a:rPr b="1" lang="zh-CN" sz="4400" spc="-1" strike="noStrike">
                <a:solidFill>
                  <a:srgbClr val="6666ff"/>
                </a:solidFill>
                <a:latin typeface="华文楷体"/>
                <a:ea typeface="华文楷体"/>
              </a:rPr>
              <a:t>力（　　）　皮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351640" cy="526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351640" cy="511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484360" y="1413000"/>
            <a:ext cx="4027680" cy="37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66ff"/>
                </a:solidFill>
                <a:latin typeface="Arial"/>
                <a:ea typeface="华文楷体"/>
              </a:rPr>
              <a:t>教学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1.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认读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16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个生字，会写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8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个字，能自主积累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能正确、流利、有感情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华文楷体"/>
                <a:ea typeface="华文楷体"/>
              </a:rPr>
              <a:t>解课文内容，懂得要爱护学习用品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351640" cy="52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31496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323200" cy="5187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cc0000"/>
                </a:solidFill>
                <a:latin typeface="华文楷体"/>
                <a:ea typeface="华文楷体"/>
              </a:rPr>
              <a:t>铅笔、橡皮、尺子等文具，能帮我们做这么多事情，真是我们学习上的好伙伴哪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楷体"/>
                <a:ea typeface="华文楷体"/>
              </a:rPr>
              <a:t>          </a:t>
            </a:r>
            <a:r>
              <a:rPr b="0" lang="zh-CN" sz="4000" spc="-1" strike="noStrike">
                <a:solidFill>
                  <a:srgbClr val="cc0000"/>
                </a:solidFill>
                <a:latin typeface="华文楷体"/>
                <a:ea typeface="华文楷体"/>
              </a:rPr>
              <a:t>说说他们有什么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2879640" cy="129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华文楷体"/>
              </a:rPr>
              <a:t>做一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6666ff"/>
                </a:solidFill>
                <a:latin typeface="华文楷体"/>
                <a:ea typeface="华文楷体"/>
              </a:rPr>
              <a:t>一边读一边想，课文写了什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892160" cy="1635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华文楷体"/>
              </a:rPr>
              <a:t>说一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华文楷体"/>
                <a:ea typeface="华文楷体"/>
              </a:rPr>
              <a:t>       </a:t>
            </a:r>
            <a:r>
              <a:rPr b="1" lang="zh-CN" sz="5400" spc="-1" strike="noStrike">
                <a:solidFill>
                  <a:srgbClr val="cc00cc"/>
                </a:solidFill>
                <a:latin typeface="华文楷体"/>
                <a:ea typeface="华文楷体"/>
              </a:rPr>
              <a:t>读后交流，说说自己读懂了什么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77080" y="620640"/>
            <a:ext cx="1933560" cy="1778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33"/>
                </a:solidFill>
                <a:latin typeface="Arial"/>
                <a:ea typeface="华文楷体"/>
              </a:rPr>
              <a:t>讨  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楷体"/>
              </a:rPr>
              <a:t>         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楷体"/>
              </a:rPr>
              <a:t>组织讨论：怎样做才能不丢东西呢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801800" cy="13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0:44:51Z</dcterms:created>
  <dc:creator>www.xkb1.com</dc:creator>
  <dc:description>www.xkb1.com</dc:description>
  <cp:keywords>www.xkb1.com</cp:keywords>
  <dc:language>en-US</dc:language>
  <cp:lastModifiedBy>微软用户</cp:lastModifiedBy>
  <dcterms:modified xsi:type="dcterms:W3CDTF">2017-03-08T14:44:16Z</dcterms:modified>
  <cp:revision>5</cp:revision>
  <dc:subject>www.xkb1.com</dc:subject>
  <dc:title>www.xkb1.com</dc:title>
</cp:coreProperties>
</file>