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ectangle 2"/>
          <p:cNvSpPr/>
          <p:nvPr/>
        </p:nvSpPr>
        <p:spPr>
          <a:xfrm>
            <a:off x="0" y="4800600"/>
            <a:ext cx="9144000" cy="1523880"/>
          </a:xfrm>
          <a:prstGeom prst="rect">
            <a:avLst/>
          </a:prstGeom>
          <a:solidFill>
            <a:srgbClr val="ffffff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TextBox 3"/>
          <p:cNvSpPr/>
          <p:nvPr/>
        </p:nvSpPr>
        <p:spPr>
          <a:xfrm>
            <a:off x="1447920" y="4952880"/>
            <a:ext cx="51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汤姆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黑体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索亚历险记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Line 4"/>
          <p:cNvSpPr/>
          <p:nvPr/>
        </p:nvSpPr>
        <p:spPr>
          <a:xfrm>
            <a:off x="380880" y="5638680"/>
            <a:ext cx="7467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380880" y="1066680"/>
            <a:ext cx="8458200" cy="91692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时，先通读课文，谈谈课文两部分各讲了什么事情，为每个部分加小标题，明确前后两部分的关系。思考作者是如何运用典型事例来描写汤姆性格特征的。学习作者的写作方法，学习汤姆的高尚品质，并体味小说的故事魅力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6"/>
          <p:cNvGrpSpPr/>
          <p:nvPr/>
        </p:nvGrpSpPr>
        <p:grpSpPr>
          <a:xfrm>
            <a:off x="152280" y="228600"/>
            <a:ext cx="2743200" cy="749160"/>
            <a:chOff x="152280" y="228600"/>
            <a:chExt cx="2743200" cy="749160"/>
          </a:xfrm>
        </p:grpSpPr>
        <p:pic>
          <p:nvPicPr>
            <p:cNvPr id="73" name="矩形 11" descr=""/>
            <p:cNvPicPr/>
            <p:nvPr/>
          </p:nvPicPr>
          <p:blipFill>
            <a:blip r:embed="rId1"/>
            <a:stretch/>
          </p:blipFill>
          <p:spPr>
            <a:xfrm>
              <a:off x="152280" y="248760"/>
              <a:ext cx="2743200" cy="7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Box 10"/>
            <p:cNvSpPr/>
            <p:nvPr/>
          </p:nvSpPr>
          <p:spPr>
            <a:xfrm>
              <a:off x="361800" y="228600"/>
              <a:ext cx="2132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4000" spc="-1" strike="noStrike">
                  <a:solidFill>
                    <a:srgbClr val="ff33cc"/>
                  </a:solidFill>
                  <a:latin typeface="黑体"/>
                  <a:ea typeface="黑体"/>
                </a:rPr>
                <a:t>整体</a:t>
              </a: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感知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11"/>
          <p:cNvGrpSpPr/>
          <p:nvPr/>
        </p:nvGrpSpPr>
        <p:grpSpPr>
          <a:xfrm>
            <a:off x="152280" y="228600"/>
            <a:ext cx="2743200" cy="749160"/>
            <a:chOff x="152280" y="228600"/>
            <a:chExt cx="2743200" cy="749160"/>
          </a:xfrm>
        </p:grpSpPr>
        <p:pic>
          <p:nvPicPr>
            <p:cNvPr id="76" name="矩形 11" descr=""/>
            <p:cNvPicPr/>
            <p:nvPr/>
          </p:nvPicPr>
          <p:blipFill>
            <a:blip r:embed="rId1"/>
            <a:stretch/>
          </p:blipFill>
          <p:spPr>
            <a:xfrm>
              <a:off x="152280" y="248760"/>
              <a:ext cx="2743200" cy="7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Box 10"/>
            <p:cNvSpPr/>
            <p:nvPr/>
          </p:nvSpPr>
          <p:spPr>
            <a:xfrm>
              <a:off x="361800" y="228600"/>
              <a:ext cx="2132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4000" spc="-1" strike="noStrike">
                  <a:solidFill>
                    <a:srgbClr val="ff33cc"/>
                  </a:solidFill>
                  <a:latin typeface="黑体"/>
                  <a:ea typeface="黑体"/>
                </a:rPr>
                <a:t>课文</a:t>
              </a: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精读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Rectangle 14"/>
          <p:cNvSpPr/>
          <p:nvPr/>
        </p:nvSpPr>
        <p:spPr>
          <a:xfrm>
            <a:off x="4461840" y="20574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他喜欢冒险，总想找机会练练胆量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5"/>
          <p:cNvSpPr/>
          <p:nvPr/>
        </p:nvSpPr>
        <p:spPr>
          <a:xfrm>
            <a:off x="1219320" y="33526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仿宋_GB2312"/>
              </a:rPr>
              <a:t>	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仿宋_GB2312"/>
              </a:rPr>
              <a:t>这段话总领全文，总写汤姆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仿宋_GB2312"/>
              </a:rPr>
              <a:t>·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仿宋_GB2312"/>
              </a:rPr>
              <a:t>索亚是个聪明、调皮而又富有正义感的男孩，喜欢冒险。后面的内容都是具体表现他的这些特点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3429000" y="9907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一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1295280" y="312408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罗宾逊大夫、乔和穆夫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波特三个盗墓贼为钱发生争执，大夫打昏波特，乔杀死了大夫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1731600" y="1600200"/>
            <a:ext cx="452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再读第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段，说说坟场凶杀案的经过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533520" y="533520"/>
            <a:ext cx="8076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行，咱们一定不能吱声。你想，要是咱们说出来，而警察又抓不住那个凶手的话，凶手是不会放过咱俩的。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他弄死咱们还不像捻死两只小虫子一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咱俩发个誓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发誓绝不说出去。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2057400" y="37339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仿宋_GB2312"/>
              </a:rPr>
              <a:t>	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仿宋_GB2312"/>
              </a:rPr>
              <a:t>这里用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比喻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仿宋_GB2312"/>
              </a:rPr>
              <a:t>的修辞手法来形容乔若想杀死两个孩子是轻而易举的事。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将孩子的心理描画得维妙维肖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1219320" y="121932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汤姆心里很难受，他想去作证，然而一想起乔凶恶的目光，他就不寒而栗。但不去作证，又觉得良心不安。最后，他打定了主意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990720" y="44956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仿宋_GB2312"/>
              </a:rPr>
              <a:t>	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仿宋_GB2312"/>
              </a:rPr>
              <a:t>这是对汤姆的心理描写。从第一句话可看出汤姆的矛盾心理。从第二句话可以看出汤姆是一个富有正义感的人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1066680" y="32004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这一段对汤姆的哪一方面进行了描写？从中可看出了汤姆是一个怎样的人？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990720" y="312408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仿宋_GB2312"/>
              </a:rPr>
              <a:t>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仿宋_GB2312"/>
              </a:rPr>
              <a:t>汤姆在讲述的过程中逐渐忘记了心里的恐惧，因此声音由“很小”变得“越来越大”“越来越自然”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685800" y="121932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再读汤姆出庭作证部分，汤姆讲述的声音有什么变化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4114800" y="6858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二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295280" y="2057400"/>
            <a:ext cx="678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过了几天，汤姆的同学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ｉ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过生日，家里决定在山上给她举行野餐会，让孩子们都参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4434840" y="44197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交代了汤姆第二次探险的背景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1219320" y="3048120"/>
            <a:ext cx="710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蝙蝠的袭击使他们迷了路，推动了下文故事情节的发展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457200" y="116676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说一说他们迷路是因为什么引起的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1066680" y="19810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他们迷路后发生了什么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4551120" y="36576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他们在山洞里发现了乔，乔撒腿跑了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1371600" y="1600200"/>
            <a:ext cx="660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啊！”汤姆突然一拍后脑勺，“乔还在山洞里呢！要把他救出来。罪犯应判刑，可不能憋死在山洞里呀！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2057400" y="3581280"/>
            <a:ext cx="52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仿宋_GB2312"/>
              </a:rPr>
              <a:t>	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仿宋_GB2312"/>
              </a:rPr>
              <a:t>此处进一步表现了汤姆是一个有爱心、富有正义感的孩子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8"/>
          <p:cNvSpPr/>
          <p:nvPr/>
        </p:nvSpPr>
        <p:spPr>
          <a:xfrm>
            <a:off x="838080" y="146052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汤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•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索亚历险记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美国文学大师马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•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吐温的四大名著之一，受到了世界各国读者的喜爱，历经百年，魅力不减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" name="Group 9"/>
          <p:cNvGrpSpPr/>
          <p:nvPr/>
        </p:nvGrpSpPr>
        <p:grpSpPr>
          <a:xfrm>
            <a:off x="152280" y="228600"/>
            <a:ext cx="2743200" cy="749160"/>
            <a:chOff x="152280" y="228600"/>
            <a:chExt cx="2743200" cy="749160"/>
          </a:xfrm>
        </p:grpSpPr>
        <p:pic>
          <p:nvPicPr>
            <p:cNvPr id="41" name="矩形 11" descr=""/>
            <p:cNvPicPr/>
            <p:nvPr/>
          </p:nvPicPr>
          <p:blipFill>
            <a:blip r:embed="rId1"/>
            <a:stretch/>
          </p:blipFill>
          <p:spPr>
            <a:xfrm>
              <a:off x="152280" y="248760"/>
              <a:ext cx="2743200" cy="7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" name="TextBox 10"/>
            <p:cNvSpPr/>
            <p:nvPr/>
          </p:nvSpPr>
          <p:spPr>
            <a:xfrm>
              <a:off x="361800" y="228600"/>
              <a:ext cx="2132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4000" spc="-1" strike="noStrike">
                  <a:solidFill>
                    <a:srgbClr val="ff33cc"/>
                  </a:solidFill>
                  <a:latin typeface="黑体"/>
                  <a:ea typeface="黑体"/>
                </a:rPr>
                <a:t>导入</a:t>
              </a: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新课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457200" y="1981080"/>
            <a:ext cx="815328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宋体"/>
              </a:rPr>
              <a:t>    </a:t>
            </a:r>
            <a:r>
              <a:rPr b="1" lang="en-US" sz="3200" spc="-1" strike="noStrike">
                <a:solidFill>
                  <a:srgbClr val="3333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、生性顽皮、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有点叛逆，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喜恶作剧、喜出风头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    </a:t>
            </a:r>
            <a:r>
              <a:rPr b="1" lang="en-US" sz="3200" spc="-1" strike="noStrike">
                <a:solidFill>
                  <a:srgbClr val="3333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、天真活泼、有勇有谋、乐观自信、心地善良、乐于助人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    </a:t>
            </a:r>
            <a:r>
              <a:rPr b="1" lang="en-US" sz="3200" spc="-1" strike="noStrike">
                <a:solidFill>
                  <a:srgbClr val="3333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、有正义感、有侠义精神、有男子气概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    </a:t>
            </a:r>
            <a:r>
              <a:rPr b="1" lang="en-US" sz="3200" spc="-1" strike="noStrike">
                <a:solidFill>
                  <a:srgbClr val="3333ff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、向往自由，喜欢冒险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914400" y="1447920"/>
            <a:ext cx="497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黑体"/>
              </a:rPr>
              <a:t>是一个典型的“顽童”形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447920" y="22860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汤姆人物形象分析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太阳"/>
          <p:cNvPicPr/>
          <p:nvPr/>
        </p:nvPicPr>
        <p:blipFill>
          <a:blip r:embed="rId1"/>
          <a:stretch/>
        </p:blipFill>
        <p:spPr>
          <a:xfrm>
            <a:off x="228600" y="152280"/>
            <a:ext cx="129528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952560" y="129528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听老师念念译林出版社的这一片断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扮一回胆大包天的海盗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试比较与课文有何不同？你更喜欢哪一种译法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4"/>
          <p:cNvGrpSpPr/>
          <p:nvPr/>
        </p:nvGrpSpPr>
        <p:grpSpPr>
          <a:xfrm>
            <a:off x="152280" y="228600"/>
            <a:ext cx="2743200" cy="749160"/>
            <a:chOff x="152280" y="228600"/>
            <a:chExt cx="2743200" cy="749160"/>
          </a:xfrm>
        </p:grpSpPr>
        <p:pic>
          <p:nvPicPr>
            <p:cNvPr id="105" name="矩形 11" descr=""/>
            <p:cNvPicPr/>
            <p:nvPr/>
          </p:nvPicPr>
          <p:blipFill>
            <a:blip r:embed="rId1"/>
            <a:stretch/>
          </p:blipFill>
          <p:spPr>
            <a:xfrm>
              <a:off x="152280" y="248760"/>
              <a:ext cx="2743200" cy="7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Box 10"/>
            <p:cNvSpPr/>
            <p:nvPr/>
          </p:nvSpPr>
          <p:spPr>
            <a:xfrm>
              <a:off x="361800" y="228600"/>
              <a:ext cx="2132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4000" spc="-1" strike="noStrike">
                  <a:solidFill>
                    <a:srgbClr val="ff33cc"/>
                  </a:solidFill>
                  <a:latin typeface="黑体"/>
                  <a:ea typeface="黑体"/>
                </a:rPr>
                <a:t>活动</a:t>
              </a: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园地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95280" y="1066680"/>
            <a:ext cx="8748720" cy="450216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3"/>
          <p:cNvGrpSpPr/>
          <p:nvPr/>
        </p:nvGrpSpPr>
        <p:grpSpPr>
          <a:xfrm>
            <a:off x="152280" y="228600"/>
            <a:ext cx="2743200" cy="749160"/>
            <a:chOff x="152280" y="228600"/>
            <a:chExt cx="2743200" cy="749160"/>
          </a:xfrm>
        </p:grpSpPr>
        <p:pic>
          <p:nvPicPr>
            <p:cNvPr id="109" name="矩形 11" descr=""/>
            <p:cNvPicPr/>
            <p:nvPr/>
          </p:nvPicPr>
          <p:blipFill>
            <a:blip r:embed="rId2"/>
            <a:stretch/>
          </p:blipFill>
          <p:spPr>
            <a:xfrm>
              <a:off x="152280" y="248760"/>
              <a:ext cx="2743200" cy="7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Box 10"/>
            <p:cNvSpPr/>
            <p:nvPr/>
          </p:nvSpPr>
          <p:spPr>
            <a:xfrm>
              <a:off x="361800" y="228600"/>
              <a:ext cx="2132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4000" spc="-1" strike="noStrike">
                  <a:solidFill>
                    <a:srgbClr val="ff33cc"/>
                  </a:solidFill>
                  <a:latin typeface="黑体"/>
                  <a:ea typeface="黑体"/>
                </a:rPr>
                <a:t>梳理</a:t>
              </a: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总结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762120" y="50472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文通过叙述汤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索亚在坟场看到了真正的凶手，并在法庭上说出事情真相，后来又去山洞，因在山洞里迷路，而遇见凶犯，最后经过自己的不断探索终于走出山洞的故事，赞扬了汤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索亚聪明而又富于正义感，说明他是一个非常勇敢的孩子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386160" y="654120"/>
            <a:ext cx="27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幼圆"/>
              </a:rPr>
              <a:t>推荐阅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3733920" y="1371600"/>
            <a:ext cx="5029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小主人公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哈克贝里</a:t>
            </a: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芬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是个孤儿，无人管束，但心地善良，爱憎分明。他帮助黑奴吉姆逃往废奴区，一路上遇见了各式人等，遭遇了许多艰难险阻，终于获得了胜利。好朋友汤姆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索亚的母亲要收他作义子，但他不愿接受所谓的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教养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，宁愿继续过无人管束的生活，于是又逃了出去。每一个读者都会为他未来的命运担心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楷体_GB2312"/>
              </a:rPr>
              <a:t>…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47b1b747bf79333a661462b027ada09f"/>
          <p:cNvPicPr/>
          <p:nvPr/>
        </p:nvPicPr>
        <p:blipFill>
          <a:blip r:embed="rId1"/>
          <a:stretch/>
        </p:blipFill>
        <p:spPr>
          <a:xfrm>
            <a:off x="673200" y="1981080"/>
            <a:ext cx="2603520" cy="2667240"/>
          </a:xfrm>
          <a:prstGeom prst="rect">
            <a:avLst/>
          </a:prstGeom>
          <a:ln w="0">
            <a:noFill/>
          </a:ln>
        </p:spPr>
      </p:pic>
      <p:grpSp>
        <p:nvGrpSpPr>
          <p:cNvPr id="115" name="Group 8"/>
          <p:cNvGrpSpPr/>
          <p:nvPr/>
        </p:nvGrpSpPr>
        <p:grpSpPr>
          <a:xfrm>
            <a:off x="152280" y="228600"/>
            <a:ext cx="2743200" cy="749160"/>
            <a:chOff x="152280" y="228600"/>
            <a:chExt cx="2743200" cy="749160"/>
          </a:xfrm>
        </p:grpSpPr>
        <p:pic>
          <p:nvPicPr>
            <p:cNvPr id="116" name="矩形 11" descr=""/>
            <p:cNvPicPr/>
            <p:nvPr/>
          </p:nvPicPr>
          <p:blipFill>
            <a:blip r:embed="rId2"/>
            <a:stretch/>
          </p:blipFill>
          <p:spPr>
            <a:xfrm>
              <a:off x="152280" y="248760"/>
              <a:ext cx="2743200" cy="7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Box 10"/>
            <p:cNvSpPr/>
            <p:nvPr/>
          </p:nvSpPr>
          <p:spPr>
            <a:xfrm>
              <a:off x="361800" y="228600"/>
              <a:ext cx="2132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4000" spc="-1" strike="noStrike">
                  <a:solidFill>
                    <a:srgbClr val="ff33cc"/>
                  </a:solidFill>
                  <a:latin typeface="黑体"/>
                  <a:ea typeface="黑体"/>
                </a:rPr>
                <a:t>扩展</a:t>
              </a: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阅读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914400" y="1371600"/>
            <a:ext cx="74674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根据我们对汤姆的分析，并借助你的想象，用文字为汤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画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一幅肖像画，把你对汤姆的独特感受写出来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9"/>
          <p:cNvGrpSpPr/>
          <p:nvPr/>
        </p:nvGrpSpPr>
        <p:grpSpPr>
          <a:xfrm>
            <a:off x="152280" y="228600"/>
            <a:ext cx="2743200" cy="749160"/>
            <a:chOff x="152280" y="228600"/>
            <a:chExt cx="2743200" cy="749160"/>
          </a:xfrm>
        </p:grpSpPr>
        <p:pic>
          <p:nvPicPr>
            <p:cNvPr id="120" name="矩形 11" descr=""/>
            <p:cNvPicPr/>
            <p:nvPr/>
          </p:nvPicPr>
          <p:blipFill>
            <a:blip r:embed="rId1"/>
            <a:stretch/>
          </p:blipFill>
          <p:spPr>
            <a:xfrm>
              <a:off x="152280" y="248760"/>
              <a:ext cx="2743200" cy="7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Box 10"/>
            <p:cNvSpPr/>
            <p:nvPr/>
          </p:nvSpPr>
          <p:spPr>
            <a:xfrm>
              <a:off x="361800" y="228600"/>
              <a:ext cx="2132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4000" spc="-1" strike="noStrike">
                  <a:solidFill>
                    <a:srgbClr val="ff33cc"/>
                  </a:solidFill>
                  <a:latin typeface="黑体"/>
                  <a:ea typeface="黑体"/>
                </a:rPr>
                <a:t>课后</a:t>
              </a: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马克吐温"/>
          <p:cNvPicPr/>
          <p:nvPr/>
        </p:nvPicPr>
        <p:blipFill>
          <a:blip r:embed="rId1"/>
          <a:stretch/>
        </p:blipFill>
        <p:spPr>
          <a:xfrm>
            <a:off x="533520" y="1523880"/>
            <a:ext cx="2590560" cy="28195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3429000" y="1046160"/>
            <a:ext cx="54100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马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•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吐温，美国作家。擅长使用幽默和讽刺，对后来的美国文学产生了深远的影响。人们普遍认为他是美国文学史上的一大里程碑。代表作有短篇小说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竞选州长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百万英镑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长篇小说：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汤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索亚历险记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哈克贝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费恩历险记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152280" y="228600"/>
            <a:ext cx="2743200" cy="749160"/>
            <a:chOff x="152280" y="228600"/>
            <a:chExt cx="2743200" cy="749160"/>
          </a:xfrm>
        </p:grpSpPr>
        <p:pic>
          <p:nvPicPr>
            <p:cNvPr id="46" name="矩形 11" descr=""/>
            <p:cNvPicPr/>
            <p:nvPr/>
          </p:nvPicPr>
          <p:blipFill>
            <a:blip r:embed="rId2"/>
            <a:stretch/>
          </p:blipFill>
          <p:spPr>
            <a:xfrm>
              <a:off x="152280" y="248760"/>
              <a:ext cx="2743200" cy="7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Box 10"/>
            <p:cNvSpPr/>
            <p:nvPr/>
          </p:nvSpPr>
          <p:spPr>
            <a:xfrm>
              <a:off x="361800" y="228600"/>
              <a:ext cx="2132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4000" spc="-1" strike="noStrike">
                  <a:solidFill>
                    <a:srgbClr val="ff33cc"/>
                  </a:solidFill>
                  <a:latin typeface="黑体"/>
                  <a:ea typeface="黑体"/>
                </a:rPr>
                <a:t>作家</a:t>
              </a: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品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200729100942"/>
          <p:cNvPicPr/>
          <p:nvPr/>
        </p:nvPicPr>
        <p:blipFill>
          <a:blip r:embed="rId1"/>
          <a:stretch/>
        </p:blipFill>
        <p:spPr>
          <a:xfrm>
            <a:off x="563400" y="990720"/>
            <a:ext cx="2560680" cy="3581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3505320" y="838080"/>
            <a:ext cx="5257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汤姆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黑体"/>
              </a:rPr>
              <a:t>·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索亚历险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不少事情都是作者的亲身经历，蕴含了作者对童年生活的深刻怀念，作者以其脍炙人口的幽默与讽刺以及对儿童心理世界的精细刻画，使汤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索亚这个可爱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顽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象，一百多年来饮誉世界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4"/>
          <p:cNvSpPr/>
          <p:nvPr/>
        </p:nvSpPr>
        <p:spPr>
          <a:xfrm>
            <a:off x="3505320" y="679320"/>
            <a:ext cx="3276360" cy="1214640"/>
          </a:xfrm>
          <a:prstGeom prst="cloudCallout">
            <a:avLst>
              <a:gd name="adj1" fmla="val 41620"/>
              <a:gd name="adj2" fmla="val 990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62520" y="9810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幼圆"/>
              </a:rPr>
              <a:t>课文朗读，点我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9"/>
          <p:cNvGrpSpPr/>
          <p:nvPr/>
        </p:nvGrpSpPr>
        <p:grpSpPr>
          <a:xfrm>
            <a:off x="152280" y="228600"/>
            <a:ext cx="2743200" cy="749160"/>
            <a:chOff x="152280" y="228600"/>
            <a:chExt cx="2743200" cy="749160"/>
          </a:xfrm>
        </p:grpSpPr>
        <p:pic>
          <p:nvPicPr>
            <p:cNvPr id="53" name="矩形 11" descr=""/>
            <p:cNvPicPr/>
            <p:nvPr/>
          </p:nvPicPr>
          <p:blipFill>
            <a:blip r:embed="rId1"/>
            <a:stretch/>
          </p:blipFill>
          <p:spPr>
            <a:xfrm>
              <a:off x="152280" y="248760"/>
              <a:ext cx="2743200" cy="7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Box 10"/>
            <p:cNvSpPr/>
            <p:nvPr/>
          </p:nvSpPr>
          <p:spPr>
            <a:xfrm>
              <a:off x="361800" y="228600"/>
              <a:ext cx="2132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4000" spc="-1" strike="noStrike">
                  <a:solidFill>
                    <a:srgbClr val="ff33cc"/>
                  </a:solidFill>
                  <a:latin typeface="黑体"/>
                  <a:ea typeface="黑体"/>
                </a:rPr>
                <a:t>课文</a:t>
              </a: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朗读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Text Box 12"/>
          <p:cNvSpPr/>
          <p:nvPr/>
        </p:nvSpPr>
        <p:spPr>
          <a:xfrm>
            <a:off x="304920" y="14605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　小说的故事发生在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9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世纪上半世纪美国密西西比河畔的一个普通小镇上。主人公汤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仿宋_GB2312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索亚天真活泼、敢于探险、追求自由，不堪忍受束缚个性、枯燥乏味的生活，幻想干一番英雄事业。我们一起来欣赏这个故事吧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4" descr="图片3"/>
          <p:cNvPicPr/>
          <p:nvPr/>
        </p:nvPicPr>
        <p:blipFill>
          <a:blip r:embed="rId2"/>
          <a:stretch/>
        </p:blipFill>
        <p:spPr>
          <a:xfrm>
            <a:off x="4876920" y="2819520"/>
            <a:ext cx="352872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552680" y="1447920"/>
            <a:ext cx="6362640" cy="1600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1552680" y="3124080"/>
            <a:ext cx="6448320" cy="170496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7"/>
          <p:cNvGrpSpPr/>
          <p:nvPr/>
        </p:nvGrpSpPr>
        <p:grpSpPr>
          <a:xfrm>
            <a:off x="152280" y="228600"/>
            <a:ext cx="2743200" cy="749160"/>
            <a:chOff x="152280" y="228600"/>
            <a:chExt cx="2743200" cy="749160"/>
          </a:xfrm>
        </p:grpSpPr>
        <p:pic>
          <p:nvPicPr>
            <p:cNvPr id="60" name="矩形 11" descr=""/>
            <p:cNvPicPr/>
            <p:nvPr/>
          </p:nvPicPr>
          <p:blipFill>
            <a:blip r:embed="rId3"/>
            <a:stretch/>
          </p:blipFill>
          <p:spPr>
            <a:xfrm>
              <a:off x="152280" y="248760"/>
              <a:ext cx="2743200" cy="7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Box 10"/>
            <p:cNvSpPr/>
            <p:nvPr/>
          </p:nvSpPr>
          <p:spPr>
            <a:xfrm>
              <a:off x="361800" y="228600"/>
              <a:ext cx="2132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4000" spc="-1" strike="noStrike">
                  <a:solidFill>
                    <a:srgbClr val="ff33cc"/>
                  </a:solidFill>
                  <a:latin typeface="黑体"/>
                  <a:ea typeface="黑体"/>
                </a:rPr>
                <a:t>重点</a:t>
              </a: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字词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590840" y="2895480"/>
            <a:ext cx="6486480" cy="1685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1514520" y="914400"/>
            <a:ext cx="63910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1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55360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"/>
          <p:cNvPicPr/>
          <p:nvPr/>
        </p:nvPicPr>
        <p:blipFill>
          <a:blip r:embed="rId2"/>
          <a:srcRect l="0" t="0" r="6043" b="11111"/>
          <a:stretch/>
        </p:blipFill>
        <p:spPr>
          <a:xfrm>
            <a:off x="685800" y="3505320"/>
            <a:ext cx="7848720" cy="9903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3"/>
          <p:cNvSpPr/>
          <p:nvPr/>
        </p:nvSpPr>
        <p:spPr>
          <a:xfrm>
            <a:off x="1371600" y="6858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多音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5"/>
          <p:cNvSpPr/>
          <p:nvPr/>
        </p:nvSpPr>
        <p:spPr>
          <a:xfrm>
            <a:off x="914400" y="5335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近义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914400" y="13716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思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思考   凄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悲惨    争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争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990720" y="22860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反义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914400" y="34290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聚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散   调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乖巧    骚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静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津津有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索然无味  模模糊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清清楚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老百晓在线</cp:lastModifiedBy>
  <dcterms:modified xsi:type="dcterms:W3CDTF">2020-09-08T19:20:39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