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8.png" ContentType="image/png"/>
  <Override PartName="/ppt/media/image15.gif" ContentType="image/gif"/>
  <Override PartName="/ppt/media/image3.jpeg" ContentType="image/jpeg"/>
  <Override PartName="/ppt/media/image1.jpeg" ContentType="image/jpeg"/>
  <Override PartName="/ppt/media/image2.gif" ContentType="image/gif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39B-F92A-4AAA-8DF4-01EDA124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318-4EB8-4DC5-965C-81B6256E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2D4-C8A6-45B9-A3B1-63B9EFCA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E0A-E424-4C41-93B0-932AFEE9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0FA-86FA-4D39-A0D4-7358202E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DD6-84C1-4A60-B52B-B94908B2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000-A4D7-469E-A5AB-41928ECD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9A3-7A27-48EA-A2D4-F04C3C27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82C-C8BC-4CDA-89ED-4DE0D84C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9B3-EF1B-433B-A14E-BB23C5A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ADA-4F7C-45B6-8D71-CA13D4B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56D-443E-42E8-AE6E-E68C0387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CF6A-1A5A-4895-AA60-564B2AD52A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30720" y="328464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历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险</a:t>
            </a: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4094280" cy="4970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284720" y="1773360"/>
            <a:ext cx="3240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汤姆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.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索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1993320" y="610704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广东省中山市中山纪念中学三鑫双语学校    吴淑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16000" y="1279440"/>
            <a:ext cx="4916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嚎啕大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懊悔     陈词滥调     遐想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涕泗横流   浑身解数  忘乎所以   吼叫        火烧火燎        哽咽  煎熬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6160" y="476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你认识它们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556000" y="1916280"/>
            <a:ext cx="4537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洞中历险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620640"/>
            <a:ext cx="756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、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复述一下这个故事，看看谁的口才最捧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、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你认为汤姆在洞中有过怯懦失望的心理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3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、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如果你也遇到和汤姆一样的困境，你也能像他那样去做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987640" y="1628640"/>
            <a:ext cx="453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总结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981000"/>
            <a:ext cx="777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谁能为我们介绍一下作者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生平，思想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代表作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写作风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3560760" cy="360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95640" y="581040"/>
            <a:ext cx="500400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@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美国作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@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马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吐温是美国批判现实主义文学的奠基人，世界著名的短篇小说大师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@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表作有短篇小说《竞选州长》《百万英镑》长篇小说：《汤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索亚历险记》《哈克贝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费恩历险记》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4508640"/>
            <a:ext cx="331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美国文学中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林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1327320"/>
            <a:ext cx="779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989000"/>
            <a:ext cx="583236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谁能为我们介绍一下小说的故事梗概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7752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549360"/>
            <a:ext cx="8532720" cy="5759280"/>
          </a:xfrm>
          <a:prstGeom prst="rect">
            <a:avLst/>
          </a:prstGeom>
          <a:gradFill rotWithShape="0">
            <a:gsLst>
              <a:gs pos="0">
                <a:srgbClr val="ffffff">
                  <a:alpha val="80392"/>
                </a:srgbClr>
              </a:gs>
              <a:gs pos="100000">
                <a:srgbClr val="757575">
                  <a:alpha val="80392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书介绍了汤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索亚是老师和家长眼中一个顽皮而又爱闯祸的孩子，他和波莉姨妈一家住在美国一个叫圣彼得堡的小镇上。汤姆层出不穷的恶作剧常常令姨妈哭笑不得，但是他以他的正义感，揭发了一个十恶不赦的歹徒；以他的勇敢，挽救了自己和另一个女孩的生命；以他的聪明，找到了价值连城的宝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58480" y="692280"/>
            <a:ext cx="23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个主题，四个“叙事单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07880" y="1700280"/>
            <a:ext cx="6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个孩子从少年到成熟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成长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1840" y="3429000"/>
            <a:ext cx="322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汤姆和蓓姬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汤姆和穆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波特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、杰克逊岛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四、汤姆和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印江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55736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文中的人物你喜欢哪一个呢？试结合原文分析一下吧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43280" y="2276640"/>
            <a:ext cx="3960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文学习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5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10520" y="981000"/>
            <a:ext cx="2795760" cy="825120"/>
          </a:xfrm>
          <a:prstGeom prst="rect">
            <a:avLst/>
          </a:prstGeom>
          <a:gradFill rotWithShape="0">
            <a:gsLst>
              <a:gs pos="0">
                <a:srgbClr val="ffffcc">
                  <a:alpha val="80392"/>
                </a:srgbClr>
              </a:gs>
              <a:gs pos="100000">
                <a:srgbClr val="75755e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一个典型的“顽童”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480" y="1889280"/>
            <a:ext cx="8642520" cy="3141360"/>
          </a:xfrm>
          <a:prstGeom prst="rect">
            <a:avLst/>
          </a:prstGeom>
          <a:gradFill rotWithShape="0">
            <a:gsLst>
              <a:gs pos="0">
                <a:srgbClr val="ffffcc">
                  <a:alpha val="80392"/>
                </a:srgbClr>
              </a:gs>
              <a:gs pos="100000">
                <a:srgbClr val="75755e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生性顽皮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点叛逆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喜恶作剧、喜出风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天真活泼、有勇有谋、乐观自信、心地善良、乐于助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有正义感、有侠义精神、有男子气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向往自由，喜欢冒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9120" y="122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5600" y="1224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汤姆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476280"/>
            <a:ext cx="7724520" cy="3018600"/>
          </a:xfrm>
          <a:prstGeom prst="rect">
            <a:avLst/>
          </a:prstGeom>
          <a:gradFill rotWithShape="0">
            <a:gsLst>
              <a:gs pos="0">
                <a:srgbClr val="ccccff">
                  <a:alpha val="40000"/>
                </a:srgbClr>
              </a:gs>
              <a:gs pos="100000">
                <a:srgbClr val="5e5e75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议一议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你觉得马克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.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吐温为什么要塑造汤姆这样一个艺术形象呢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你希望经历汤姆那样的“历险”生活吗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?</a:t>
            </a:r>
            <a:r>
              <a:rPr b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25360" y="276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比一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9280" y="1598760"/>
            <a:ext cx="58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看了小说以后，你觉得汤姆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贾里有些什么异同？你还能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看过的书籍中找到与汤姆类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的人物么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7800" y="8301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276640"/>
            <a:ext cx="785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根据我们对汤姆的分析，并借助你的想象，用文字为汤姆“画”一幅肖像画，把你对汤姆的独特感受写出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258920" y="2349360"/>
            <a:ext cx="482580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当“海盗”去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1341360"/>
            <a:ext cx="63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烦燥 噤了声 冥思苦想  胳膊肘 膝盖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下颌  功勋赫赫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灰烬  驰骋  黝黑  绶带 翎子  心花怒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81280" y="4827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你认识它们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11160"/>
            <a:ext cx="6337080" cy="2287440"/>
          </a:xfrm>
          <a:prstGeom prst="rect">
            <a:avLst/>
          </a:prstGeom>
          <a:gradFill rotWithShape="0">
            <a:gsLst>
              <a:gs pos="0">
                <a:srgbClr val="ffffcc">
                  <a:alpha val="50196"/>
                </a:srgbClr>
              </a:gs>
              <a:gs pos="100000">
                <a:srgbClr val="75755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听老师念念译林出版社的这一片断《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扮一回胆大包天的海盗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试比较有何不同？你更喜欢哪一种译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70000" y="10526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916280"/>
            <a:ext cx="62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、汤姆心里产生了什么样的想法？这是什么原因造成的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407664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、如果你遇到了汤姆的遭际，你会采取什么样的行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315200" y="380880"/>
            <a:ext cx="2743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234936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揉着眼  一缕   气概非凡  自鸣得意      密密匝匝    游移不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57440" y="1125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你认识它们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68360" y="2349360"/>
            <a:ext cx="453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海盗”生活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476280"/>
            <a:ext cx="8147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想一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与上一篇比较汤姆的心情发生了什么样的变化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作者是通过那些景物来表现孩子的这种快乐心情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这些景物描写中，你最喜欢哪一句，说说理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227640" y="4724280"/>
            <a:ext cx="2305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38:15Z</dcterms:created>
  <dc:creator>Jun</dc:creator>
  <dc:description/>
  <dc:language>en-US</dc:language>
  <cp:lastModifiedBy>aaa</cp:lastModifiedBy>
  <dcterms:modified xsi:type="dcterms:W3CDTF">2002-01-01T19:38:52Z</dcterms:modified>
  <cp:revision>130</cp:revision>
  <dc:subject/>
  <dc:title>PowerPoint 演示文稿</dc:title>
</cp:coreProperties>
</file>