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665-A098-40D8-9B55-D146CB31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B21-F615-4DE0-89FD-6DF38336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BA3-61EC-42E7-983D-AF0C2AD9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EA4-4F78-4889-B9DE-68CA4D4D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819-D99D-4E89-B3C0-E9EEE7D1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D0E-F1F8-49CF-B64A-D84286C4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ED0-837A-42B7-B51C-9B056C78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278-1EB0-49A2-91E7-C7E3C058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38E-7807-4924-8D52-6C4F99B2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043-9B82-4663-A698-E72CDBE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C68-565B-4639-BE1D-74A22627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3E4-A74E-46CA-8DAE-6339545E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8B3C-A2FB-4F90-AFD3-944531505EB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3B79-BFA2-4DD7-AD75-ECB1AF969D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 flipH="1">
            <a:off x="394560" y="12384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24000" y="1238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6</a:t>
            </a:r>
            <a:r>
              <a:rPr b="1" lang="zh-CN" sz="1800" spc="-1" strike="noStrike">
                <a:solidFill>
                  <a:srgbClr val="002060"/>
                </a:solidFill>
                <a:latin typeface="Calibri"/>
              </a:rPr>
              <a:t>、骑鹅旅行记（节选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9" descr="图片1.jpg"/>
          <p:cNvPicPr/>
          <p:nvPr/>
        </p:nvPicPr>
        <p:blipFill>
          <a:blip r:embed="rId2"/>
          <a:stretch/>
        </p:blipFill>
        <p:spPr>
          <a:xfrm>
            <a:off x="3635280" y="700200"/>
            <a:ext cx="331308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 flipH="1">
            <a:off x="394560" y="12384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24000" y="1238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6</a:t>
            </a:r>
            <a:r>
              <a:rPr b="1" lang="zh-CN" sz="1800" spc="-1" strike="noStrike">
                <a:solidFill>
                  <a:srgbClr val="002060"/>
                </a:solidFill>
                <a:latin typeface="Calibri"/>
              </a:rPr>
              <a:t>、骑鹅旅行记（节选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3" descr="5bf5337216c3835630.png"/>
          <p:cNvPicPr/>
          <p:nvPr/>
        </p:nvPicPr>
        <p:blipFill>
          <a:blip r:embed="rId2"/>
          <a:stretch/>
        </p:blipFill>
        <p:spPr>
          <a:xfrm>
            <a:off x="5148360" y="627120"/>
            <a:ext cx="3160440" cy="284004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250920" y="1058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宋体"/>
              </a:rPr>
              <a:t>《骑鹅旅行记》讲述了一名叫尼尔斯的</a:t>
            </a:r>
            <a:r>
              <a:rPr b="1" lang="en-US" sz="1800" spc="-1" strike="noStrike">
                <a:solidFill>
                  <a:srgbClr val="002060"/>
                </a:solidFill>
                <a:latin typeface="宋体"/>
              </a:rPr>
              <a:t>14</a:t>
            </a:r>
            <a:r>
              <a:rPr b="1" lang="zh-CN" sz="1800" spc="-1" strike="noStrike">
                <a:solidFill>
                  <a:srgbClr val="002060"/>
                </a:solidFill>
                <a:latin typeface="宋体"/>
              </a:rPr>
              <a:t>岁小男孩的故事。他调皮、贪玩、任性、懒惰，不爱学习，喜欢捉弄小动物，因为对小精灵不恭敬、出尔反尔，受到了惩罚，被小精灵变成了一个只有拇指般大小的小人儿，随后又为了保护自家飞走的雄鹅而被带上高空。从此，他骑在鹅背上，跟随大雁走南闯北，周游各地，历时八个月才返回家乡。在整个旅行中尼尔斯不仅欣赏到瑞典的美丽自然风光，听到了许多古老的传说故事，增长了见闻，还饱尝了风险和苦难。他逐渐改正了自己的缺点，蜕变成了一个懂事、勇敢、善良、乐于助人的好孩子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 flipH="1">
            <a:off x="394560" y="12384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324000" y="1238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6</a:t>
            </a:r>
            <a:r>
              <a:rPr b="1" lang="zh-CN" sz="1800" spc="-1" strike="noStrike">
                <a:solidFill>
                  <a:srgbClr val="002060"/>
                </a:solidFill>
                <a:latin typeface="Calibri"/>
              </a:rPr>
              <a:t>、骑鹅旅行记（节选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9" descr="t0150c723ef4eabf9ad.jpg"/>
          <p:cNvPicPr/>
          <p:nvPr/>
        </p:nvPicPr>
        <p:blipFill>
          <a:blip r:embed="rId2"/>
          <a:stretch/>
        </p:blipFill>
        <p:spPr>
          <a:xfrm>
            <a:off x="755640" y="843120"/>
            <a:ext cx="2552760" cy="3724200"/>
          </a:xfrm>
          <a:prstGeom prst="rect">
            <a:avLst/>
          </a:prstGeom>
          <a:ln w="0">
            <a:noFill/>
          </a:ln>
        </p:spPr>
      </p:pic>
      <p:sp>
        <p:nvSpPr>
          <p:cNvPr id="51" name="内容占位符 2"/>
          <p:cNvSpPr/>
          <p:nvPr/>
        </p:nvSpPr>
        <p:spPr>
          <a:xfrm>
            <a:off x="3492360" y="1635120"/>
            <a:ext cx="5400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</a:rPr>
              <a:t>塞尔玛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·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</a:rPr>
              <a:t>拉格洛芙（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1850—1940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</a:rPr>
              <a:t>），瑞典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19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</a:rPr>
              <a:t>世纪末新浪漫主义文学的代表，她不仅是第一位荣获诺贝尔文学奖的女作家，还是唯一位凭借一部长篇童话就获得诺贝尔文学奖的作家。因为拉格洛芙的成就，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1914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</a:rPr>
              <a:t>年她被选为瑞典皇家学会会员。由于其文学贡献，从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1991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</a:rPr>
              <a:t>年开始，拉格洛夫的      肖像被印在瑞典货币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20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</a:rPr>
              <a:t>克朗钞票上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 flipH="1">
            <a:off x="394560" y="12384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324000" y="1238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6</a:t>
            </a:r>
            <a:r>
              <a:rPr b="1" lang="zh-CN" sz="1800" spc="-1" strike="noStrike">
                <a:solidFill>
                  <a:srgbClr val="002060"/>
                </a:solidFill>
                <a:latin typeface="Calibri"/>
              </a:rPr>
              <a:t>、骑鹅旅行记（节选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84360" y="17082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alibri"/>
              </a:rPr>
              <a:t>尼尔斯变成小人儿后动物们发生了怎样的变化？尼尔斯自己又有什么变化呢？请同学们再次阅读课文，勾画出相关语句与大家交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7" name="矩形 6"/>
          <p:cNvSpPr/>
          <p:nvPr/>
        </p:nvSpPr>
        <p:spPr>
          <a:xfrm flipH="1">
            <a:off x="394560" y="12384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324000" y="1238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6</a:t>
            </a:r>
            <a:r>
              <a:rPr b="1" lang="zh-CN" sz="1800" spc="-1" strike="noStrike">
                <a:solidFill>
                  <a:srgbClr val="002060"/>
                </a:solidFill>
                <a:latin typeface="Calibri"/>
              </a:rPr>
              <a:t>、骑鹅旅行记（节选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内容占位符 3" descr="QQ图片20200712135935.png"/>
          <p:cNvPicPr/>
          <p:nvPr/>
        </p:nvPicPr>
        <p:blipFill>
          <a:blip r:embed="rId2"/>
          <a:stretch/>
        </p:blipFill>
        <p:spPr>
          <a:xfrm>
            <a:off x="179280" y="771480"/>
            <a:ext cx="8856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1T15:53:00Z</dcterms:created>
  <dc:creator>Administrator</dc:creator>
  <dc:description/>
  <dc:language>en-US</dc:language>
  <cp:lastModifiedBy>微软用户</cp:lastModifiedBy>
  <dcterms:modified xsi:type="dcterms:W3CDTF">2021-03-01T09:23:29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64</vt:lpwstr>
  </property>
</Properties>
</file>