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8.tif" ContentType="image/tiff"/>
  <Override PartName="/ppt/media/image26.tif" ContentType="image/tiff"/>
  <Override PartName="/ppt/media/image37.jpeg" ContentType="image/jpeg"/>
  <Override PartName="/ppt/media/image13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7.tif" ContentType="image/tiff"/>
  <Override PartName="/ppt/media/image34.png" ContentType="image/png"/>
  <Override PartName="/ppt/media/image40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3.png" ContentType="image/png"/>
  <Override PartName="/ppt/media/image36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BF30-B5A0-4909-B3BA-286B6FED49BF}" type="datetime">
              <a:rPr b="0" lang="zh-CN" sz="1200" spc="-1" strike="noStrike">
                <a:solidFill>
                  <a:srgbClr val="000000"/>
                </a:solidFill>
                <a:latin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AE88-17F6-4163-B046-EE246354512E}" type="slidenum">
              <a:rPr b="0" lang="zh-CN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tif"/><Relationship Id="rId4" Type="http://schemas.openxmlformats.org/officeDocument/2006/relationships/image" Target="../media/image18.t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t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"/>
          <p:cNvSpPr/>
          <p:nvPr/>
        </p:nvSpPr>
        <p:spPr>
          <a:xfrm>
            <a:off x="5033880" y="1413000"/>
            <a:ext cx="59533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同学们，你们读过这本书吗？谁能说说这本书的大概内容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http://img14.360buyimg.com/popWaterMark/g13/M00/12/1B/rBEhVFJqGF0IAAAAAA1UbAycefkAAElEgOc6lEADVSE766.jpg"/>
          <p:cNvPicPr/>
          <p:nvPr/>
        </p:nvPicPr>
        <p:blipFill>
          <a:blip r:embed="rId2"/>
          <a:stretch/>
        </p:blipFill>
        <p:spPr>
          <a:xfrm>
            <a:off x="1103400" y="836640"/>
            <a:ext cx="3568680" cy="53704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3"/>
          <a:srcRect l="0" t="-8071" r="-2561" b="-8071"/>
          <a:stretch/>
        </p:blipFill>
        <p:spPr>
          <a:xfrm>
            <a:off x="4943520" y="2489040"/>
            <a:ext cx="709920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"/>
          <p:cNvSpPr/>
          <p:nvPr/>
        </p:nvSpPr>
        <p:spPr>
          <a:xfrm>
            <a:off x="-241200" y="1457280"/>
            <a:ext cx="11768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，说一说男孩都欺负过哪些动物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487520" y="3181320"/>
            <a:ext cx="7488360" cy="82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小精灵、鸡鹅、大黑猫和母牛们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4"/>
          <p:cNvSpPr/>
          <p:nvPr/>
        </p:nvSpPr>
        <p:spPr>
          <a:xfrm>
            <a:off x="831960" y="471600"/>
            <a:ext cx="286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整体感知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图片 3" descr=""/>
          <p:cNvPicPr/>
          <p:nvPr/>
        </p:nvPicPr>
        <p:blipFill>
          <a:blip r:embed="rId2"/>
          <a:stretch/>
        </p:blipFill>
        <p:spPr>
          <a:xfrm>
            <a:off x="536400" y="1457280"/>
            <a:ext cx="114429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623880" y="741240"/>
            <a:ext cx="11041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男孩是做什么的？他的名字是什么？你从哪里知道的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735280" y="2660760"/>
            <a:ext cx="5664240" cy="82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放鹅娃尼尔斯</a:t>
            </a:r>
            <a:r>
              <a:rPr b="0" lang="en-US" sz="37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豪尔耶松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015920" y="3716280"/>
            <a:ext cx="1027440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他一看见男孩就叫了起来：“叽叽，叽叽，快看放鹅娃尼尔斯！快看拇指大的小人儿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快看拇指大的小人儿尼尔斯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豪尔耶松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"/>
          <p:cNvPicPr/>
          <p:nvPr/>
        </p:nvPicPr>
        <p:blipFill>
          <a:blip r:embed="rId2"/>
          <a:stretch/>
        </p:blipFill>
        <p:spPr>
          <a:xfrm>
            <a:off x="2638440" y="3267000"/>
            <a:ext cx="7970760" cy="7304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"/>
          <p:cNvPicPr/>
          <p:nvPr/>
        </p:nvPicPr>
        <p:blipFill>
          <a:blip r:embed="rId3"/>
          <a:srcRect l="0" t="0" r="-5205" b="0"/>
          <a:stretch/>
        </p:blipFill>
        <p:spPr>
          <a:xfrm>
            <a:off x="2351160" y="4094280"/>
            <a:ext cx="5281560" cy="8715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4"/>
          <a:stretch/>
        </p:blipFill>
        <p:spPr>
          <a:xfrm>
            <a:off x="3311640" y="2332080"/>
            <a:ext cx="7297560" cy="73188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2351160" y="1981080"/>
            <a:ext cx="8737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次读课文，交流故事情节：小男孩尼尔斯变成小狐仙之后，他的世界发生了什么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5"/>
          <a:stretch/>
        </p:blipFill>
        <p:spPr>
          <a:xfrm>
            <a:off x="431640" y="2373480"/>
            <a:ext cx="1471680" cy="21096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4"/>
          <p:cNvSpPr/>
          <p:nvPr/>
        </p:nvSpPr>
        <p:spPr>
          <a:xfrm>
            <a:off x="831960" y="549360"/>
            <a:ext cx="2576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互动课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542520" y="0"/>
            <a:ext cx="2709720" cy="640548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527040" y="2544840"/>
            <a:ext cx="9381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他那淡黄的头发、鼻子上的雀斑、皮裤和袜子上的补丁都和过去一模一样，只不过变得很小很小罢了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527040" y="4465800"/>
            <a:ext cx="297648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312840" y="1508040"/>
            <a:ext cx="92390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男孩简直不敢相信他会变成小狐仙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383160" y="1668600"/>
            <a:ext cx="240048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276120" y="539640"/>
            <a:ext cx="3648240" cy="82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他变得很小很小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1008000" y="922320"/>
            <a:ext cx="10272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快看拇指大的小人儿尼尔斯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豪尔耶松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2567160" y="1081080"/>
            <a:ext cx="336060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334800" y="2757600"/>
            <a:ext cx="1171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男孩尼尔斯变成了一个           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小狐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7728120" y="2706840"/>
            <a:ext cx="458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只有拇指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875520" y="3495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大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2840040"/>
            <a:ext cx="423216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8994600" y="0"/>
            <a:ext cx="31975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4"/>
          <a:stretch/>
        </p:blipFill>
        <p:spPr>
          <a:xfrm>
            <a:off x="7426440" y="4886280"/>
            <a:ext cx="66492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6"/>
          <p:cNvGrpSpPr/>
          <p:nvPr/>
        </p:nvGrpSpPr>
        <p:grpSpPr>
          <a:xfrm>
            <a:off x="2639880" y="1413000"/>
            <a:ext cx="3551400" cy="671400"/>
            <a:chOff x="2639880" y="1413000"/>
            <a:chExt cx="3551400" cy="671400"/>
          </a:xfrm>
        </p:grpSpPr>
        <p:sp>
          <p:nvSpPr>
            <p:cNvPr id="97" name="矩形标注 4"/>
            <p:cNvSpPr/>
            <p:nvPr/>
          </p:nvSpPr>
          <p:spPr>
            <a:xfrm>
              <a:off x="2639880" y="1413000"/>
              <a:ext cx="3551400" cy="671400"/>
            </a:xfrm>
            <a:prstGeom prst="wedgeRectCallout">
              <a:avLst>
                <a:gd name="adj1" fmla="val -21157"/>
                <a:gd name="adj2" fmla="val 101861"/>
              </a:avLst>
            </a:prstGeom>
            <a:solidFill>
              <a:srgbClr val="ffffff"/>
            </a:solidFill>
            <a:ln w="25560">
              <a:solidFill>
                <a:srgbClr val="02b3c5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Box 5"/>
            <p:cNvSpPr/>
            <p:nvPr/>
          </p:nvSpPr>
          <p:spPr>
            <a:xfrm>
              <a:off x="2735640" y="1508760"/>
              <a:ext cx="33595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</a:rPr>
                <a:t>天啊，我竟然变得这么小！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48348E-008 L -0.33315 -0.30256 E">
                                      <p:cBhvr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052640" y="1879560"/>
            <a:ext cx="99234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整群鸡都跑到他身边，站在他周围叫着：“咕咕咕，你活该！咕咕咕，你活该！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3503520" y="2936880"/>
            <a:ext cx="182412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7343640" y="2936880"/>
            <a:ext cx="182412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14280" y="644400"/>
            <a:ext cx="7451640" cy="82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他受到动物们的威胁、憎恶和攻击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线形标注 1 10"/>
          <p:cNvSpPr/>
          <p:nvPr/>
        </p:nvSpPr>
        <p:spPr>
          <a:xfrm>
            <a:off x="3024360" y="4111560"/>
            <a:ext cx="5715000" cy="1238400"/>
          </a:xfrm>
          <a:prstGeom prst="borderCallout1">
            <a:avLst>
              <a:gd name="adj1" fmla="val 18750"/>
              <a:gd name="adj2" fmla="val -8333"/>
              <a:gd name="adj3" fmla="val 131060"/>
              <a:gd name="adj4" fmla="val -726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尼尔斯被鸡群憎恶、嘲笑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82800" y="1907640"/>
            <a:ext cx="10036080" cy="9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男孩感觉到猫的爪子穿过他的背心和衬衣，刺进了他的肉皮，锋利的犬牙触到了他的咽喉上。他拼命地喊着救命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6207120" y="1228680"/>
            <a:ext cx="57636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027080" y="2098800"/>
            <a:ext cx="57636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7248600" y="2100240"/>
            <a:ext cx="57636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936960" y="2957400"/>
            <a:ext cx="576360" cy="6667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线形标注 1 6"/>
          <p:cNvSpPr/>
          <p:nvPr/>
        </p:nvSpPr>
        <p:spPr>
          <a:xfrm>
            <a:off x="2689200" y="3952800"/>
            <a:ext cx="6624720" cy="1238400"/>
          </a:xfrm>
          <a:prstGeom prst="borderCallout1">
            <a:avLst>
              <a:gd name="adj1" fmla="val 18750"/>
              <a:gd name="adj2" fmla="val -8333"/>
              <a:gd name="adj3" fmla="val 131060"/>
              <a:gd name="adj4" fmla="val -726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尼尔斯受到猫的攻击和威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4"/>
          <p:cNvSpPr/>
          <p:nvPr/>
        </p:nvSpPr>
        <p:spPr>
          <a:xfrm>
            <a:off x="571680" y="1238400"/>
            <a:ext cx="106678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牛棚里只有三头牛。但男孩进去的时候，却是吼声四起，一片混乱，听起来至少是三十头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椭圆 15"/>
          <p:cNvSpPr/>
          <p:nvPr/>
        </p:nvSpPr>
        <p:spPr>
          <a:xfrm flipV="1">
            <a:off x="3922560" y="1428840"/>
            <a:ext cx="667080" cy="66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椭圆 21"/>
          <p:cNvSpPr/>
          <p:nvPr/>
        </p:nvSpPr>
        <p:spPr>
          <a:xfrm flipV="1">
            <a:off x="7286760" y="2189520"/>
            <a:ext cx="303372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线形标注 1 22"/>
          <p:cNvSpPr/>
          <p:nvPr/>
        </p:nvSpPr>
        <p:spPr>
          <a:xfrm>
            <a:off x="2833560" y="3716280"/>
            <a:ext cx="5716800" cy="1238400"/>
          </a:xfrm>
          <a:prstGeom prst="borderCallout1">
            <a:avLst>
              <a:gd name="adj1" fmla="val 18750"/>
              <a:gd name="adj2" fmla="val -8333"/>
              <a:gd name="adj3" fmla="val 131060"/>
              <a:gd name="adj4" fmla="val -726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牛群对尼尔斯怨声载道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2"/>
          <a:stretch/>
        </p:blipFill>
        <p:spPr>
          <a:xfrm>
            <a:off x="2927520" y="2181240"/>
            <a:ext cx="7475400" cy="731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3"/>
          <a:stretch/>
        </p:blipFill>
        <p:spPr>
          <a:xfrm>
            <a:off x="2158920" y="3081240"/>
            <a:ext cx="8450280" cy="731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4"/>
          <a:srcRect l="0" t="0" r="-5509" b="0"/>
          <a:stretch/>
        </p:blipFill>
        <p:spPr>
          <a:xfrm>
            <a:off x="1582560" y="3908520"/>
            <a:ext cx="4481640" cy="731880"/>
          </a:xfrm>
          <a:prstGeom prst="rect">
            <a:avLst/>
          </a:prstGeom>
          <a:ln w="0">
            <a:noFill/>
          </a:ln>
        </p:spPr>
      </p:pic>
      <p:sp>
        <p:nvSpPr>
          <p:cNvPr id="117" name="矩形 8"/>
          <p:cNvSpPr/>
          <p:nvPr/>
        </p:nvSpPr>
        <p:spPr>
          <a:xfrm>
            <a:off x="2063880" y="1770120"/>
            <a:ext cx="8832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~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，交流故事情节：：变小的尼尔斯为什么遭到鸡群的嘲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图片 9" descr=""/>
          <p:cNvPicPr/>
          <p:nvPr/>
        </p:nvPicPr>
        <p:blipFill>
          <a:blip r:embed="rId5"/>
          <a:stretch/>
        </p:blipFill>
        <p:spPr>
          <a:xfrm>
            <a:off x="431640" y="1700280"/>
            <a:ext cx="147168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1103400" y="741240"/>
            <a:ext cx="96012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一个不爱学习、喜欢搞恶作剧的顽皮孩子尼尔斯，被小妖精用魔法变成了一个小人。他骑在他家的大白鹅背上，进行了一次神奇而又魔幻的长途旅行。你想知道尼尔斯经历了哪些有趣而又不可思议的事情吗？让我们走进课文，同他一起去历险吧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2"/>
          <p:cNvSpPr/>
          <p:nvPr/>
        </p:nvSpPr>
        <p:spPr>
          <a:xfrm>
            <a:off x="9904320" y="1668600"/>
            <a:ext cx="108756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4084560" y="2587680"/>
            <a:ext cx="108900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8723160" y="2525760"/>
            <a:ext cx="108756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719280" y="741240"/>
            <a:ext cx="102726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门廊外面的地板上有一只麻雀在跳来跳去。他一看见男孩就叫了起来：“叽叽，叽叽，快看放鹅娃尼尔斯！快看拇指大的小人儿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快看拇指大的小人儿尼尔斯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豪尔耶松</a:t>
            </a:r>
            <a:r>
              <a:rPr b="1" lang="en-US" sz="37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线形标注 1 15"/>
          <p:cNvSpPr/>
          <p:nvPr/>
        </p:nvSpPr>
        <p:spPr>
          <a:xfrm>
            <a:off x="1557360" y="4389480"/>
            <a:ext cx="8597880" cy="1325520"/>
          </a:xfrm>
          <a:prstGeom prst="borderCallout1">
            <a:avLst>
              <a:gd name="adj1" fmla="val 18750"/>
              <a:gd name="adj2" fmla="val -8333"/>
              <a:gd name="adj3" fmla="val -4152"/>
              <a:gd name="adj4" fmla="val 59564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三个“快看”表现了麻雀的惊异和嘲笑，麻雀的叫声吸引了鸡鹅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81360" y="0"/>
            <a:ext cx="8510760" cy="6735600"/>
          </a:xfrm>
          <a:prstGeom prst="rect">
            <a:avLst/>
          </a:prstGeom>
          <a:ln w="0">
            <a:noFill/>
          </a:ln>
        </p:spPr>
      </p:pic>
      <p:sp>
        <p:nvSpPr>
          <p:cNvPr id="125" name="矩形标注 1"/>
          <p:cNvSpPr/>
          <p:nvPr/>
        </p:nvSpPr>
        <p:spPr>
          <a:xfrm>
            <a:off x="1967040" y="3621240"/>
            <a:ext cx="5108400" cy="657720"/>
          </a:xfrm>
          <a:prstGeom prst="wedgeRectCallout">
            <a:avLst>
              <a:gd name="adj1" fmla="val 55050"/>
              <a:gd name="adj2" fmla="val -50379"/>
            </a:avLst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他活该，咯咯里咕，他扯过我的鸡冠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标注 6"/>
          <p:cNvSpPr/>
          <p:nvPr/>
        </p:nvSpPr>
        <p:spPr>
          <a:xfrm>
            <a:off x="431640" y="2185920"/>
            <a:ext cx="4511880" cy="657720"/>
          </a:xfrm>
          <a:prstGeom prst="wedgeRectCallout">
            <a:avLst>
              <a:gd name="adj1" fmla="val 49263"/>
              <a:gd name="adj2" fmla="val -87416"/>
            </a:avLst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你活该！你活该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线形标注 1 7"/>
          <p:cNvSpPr/>
          <p:nvPr/>
        </p:nvSpPr>
        <p:spPr>
          <a:xfrm>
            <a:off x="1487520" y="5551560"/>
            <a:ext cx="4948200" cy="857160"/>
          </a:xfrm>
          <a:prstGeom prst="borderCallout1">
            <a:avLst>
              <a:gd name="adj1" fmla="val 18750"/>
              <a:gd name="adj2" fmla="val -8333"/>
              <a:gd name="adj3" fmla="val 2555"/>
              <a:gd name="adj4" fmla="val -120"/>
            </a:avLst>
          </a:prstGeom>
          <a:solidFill>
            <a:srgbClr val="ffe5ba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在释放对男孩的不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标注 8"/>
          <p:cNvSpPr/>
          <p:nvPr/>
        </p:nvSpPr>
        <p:spPr>
          <a:xfrm>
            <a:off x="7535880" y="4892760"/>
            <a:ext cx="3475080" cy="657720"/>
          </a:xfrm>
          <a:prstGeom prst="wedgeRectCallout">
            <a:avLst>
              <a:gd name="adj1" fmla="val 39337"/>
              <a:gd name="adj2" fmla="val -93597"/>
            </a:avLst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住嘴！你们这些乌合之众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左弧形箭头 2"/>
          <p:cNvSpPr/>
          <p:nvPr/>
        </p:nvSpPr>
        <p:spPr>
          <a:xfrm>
            <a:off x="887400" y="3978360"/>
            <a:ext cx="576360" cy="2166840"/>
          </a:xfrm>
          <a:custGeom>
            <a:avLst/>
            <a:gdLst>
              <a:gd name="textAreaLeft" fmla="*/ 77040 w 576360"/>
              <a:gd name="textAreaRight" fmla="*/ 499320 w 576360"/>
              <a:gd name="textAreaTop" fmla="*/ 487440 h 2166840"/>
              <a:gd name="textAreaBottom" fmla="*/ 1607040 h 21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24" stAng="-5400000" swAng="-5400000"/>
                <a:lnTo>
                  <a:pt x="0" y="11159"/>
                </a:lnTo>
                <a:arcTo wR="21600" hR="9724" stAng="10800000" swAng="-3609766"/>
                <a:lnTo>
                  <a:pt x="16200" y="21291"/>
                </a:lnTo>
                <a:lnTo>
                  <a:pt x="21600" y="20165"/>
                </a:lnTo>
                <a:lnTo>
                  <a:pt x="16200" y="18420"/>
                </a:lnTo>
                <a:lnTo>
                  <a:pt x="16200" y="19138"/>
                </a:lnTo>
                <a:arcTo wR="21600" hR="9724" stAng="7190234" swAng="3495302"/>
                <a:lnTo>
                  <a:pt x="59" y="10441"/>
                </a:lnTo>
                <a:arcTo wR="21600" hR="9724" stAng="-10685536" swAng="5285536"/>
                <a:close/>
              </a:path>
              <a:path fill="darkenLess" w="21600" h="21600">
                <a:moveTo>
                  <a:pt x="21600" y="0"/>
                </a:moveTo>
                <a:arcTo wR="21600" hR="9724" stAng="-5400000" swAng="-5400000"/>
                <a:lnTo>
                  <a:pt x="0" y="9724"/>
                </a:lnTo>
                <a:arcTo wR="21600" hR="9724" stAng="10800000" swAng="-114464"/>
                <a:lnTo>
                  <a:pt x="59" y="10441"/>
                </a:lnTo>
                <a:arcTo wR="21600" hR="9724" stAng="-10685536" swAng="5285536"/>
                <a:close/>
              </a:path>
            </a:pathLst>
          </a:custGeom>
          <a:solidFill>
            <a:srgbClr val="ffffff"/>
          </a:solidFill>
          <a:ln w="25560">
            <a:solidFill>
              <a:srgbClr val="00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3"/>
          <p:cNvSpPr/>
          <p:nvPr/>
        </p:nvSpPr>
        <p:spPr>
          <a:xfrm>
            <a:off x="717480" y="1700280"/>
            <a:ext cx="10375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男孩变小了，那些曾经受他欺负的鸡群可算有出气的机会了，想一想应该用什么语气去读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623880" y="549360"/>
            <a:ext cx="1133640" cy="9284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0"/>
          <p:cNvSpPr/>
          <p:nvPr/>
        </p:nvSpPr>
        <p:spPr>
          <a:xfrm>
            <a:off x="1727280" y="741240"/>
            <a:ext cx="6192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宋体"/>
              </a:rPr>
              <a:t>朗读指导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717480" y="3143160"/>
            <a:ext cx="10668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用比较尖利的嗓音去读，读出解气的语气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特别是读到“你活该”三个字时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1766880" y="4869000"/>
            <a:ext cx="6921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带着这种语气读一读</a:t>
            </a:r>
            <a:r>
              <a:rPr b="1" lang="en-US" sz="3700" spc="-1" strike="noStrike">
                <a:solidFill>
                  <a:srgbClr val="ff0000"/>
                </a:solidFill>
                <a:latin typeface="黑体"/>
                <a:ea typeface="黑体"/>
              </a:rPr>
              <a:t>6-9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自然段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876840" y="3990960"/>
            <a:ext cx="102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楷体"/>
                <a:ea typeface="楷体"/>
              </a:rPr>
              <a:t>···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"/>
          <p:cNvSpPr/>
          <p:nvPr/>
        </p:nvSpPr>
        <p:spPr>
          <a:xfrm>
            <a:off x="1903320" y="1413000"/>
            <a:ext cx="9280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那些鸡在尼尔斯后面追着叫着，都快把他的耳朵吵聋了，他是怎样摆脱鸡群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图片 9" descr=""/>
          <p:cNvPicPr/>
          <p:nvPr/>
        </p:nvPicPr>
        <p:blipFill>
          <a:blip r:embed="rId2"/>
          <a:stretch/>
        </p:blipFill>
        <p:spPr>
          <a:xfrm>
            <a:off x="431640" y="1700280"/>
            <a:ext cx="147168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1200240" y="1197000"/>
            <a:ext cx="9526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如果不是家里养的那只猫走了出来，他是怎么也溜不掉的。他们一看见猫便住了嘴，装着聚精会神地在地上刨虫子吃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6575400" y="2193840"/>
            <a:ext cx="1430280" cy="7621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243080" y="3044880"/>
            <a:ext cx="1012680" cy="7621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线形标注 1 6"/>
          <p:cNvSpPr/>
          <p:nvPr/>
        </p:nvSpPr>
        <p:spPr>
          <a:xfrm>
            <a:off x="3567240" y="4581360"/>
            <a:ext cx="4792680" cy="857520"/>
          </a:xfrm>
          <a:prstGeom prst="borderCallout1">
            <a:avLst>
              <a:gd name="adj1" fmla="val 18750"/>
              <a:gd name="adj2" fmla="val -8333"/>
              <a:gd name="adj3" fmla="val -541"/>
              <a:gd name="adj4" fmla="val 56356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鸡群也是欺软怕硬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2"/>
          <p:cNvSpPr/>
          <p:nvPr/>
        </p:nvSpPr>
        <p:spPr>
          <a:xfrm>
            <a:off x="1870560" y="295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欺软怕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5835960" y="1665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欺善怕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585720" y="592200"/>
            <a:ext cx="1940040" cy="71388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404040"/>
                </a:solidFill>
                <a:latin typeface="黑体"/>
                <a:ea typeface="黑体"/>
              </a:rPr>
              <a:t>近义词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矩形 20"/>
          <p:cNvSpPr/>
          <p:nvPr/>
        </p:nvSpPr>
        <p:spPr>
          <a:xfrm>
            <a:off x="5835960" y="3003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畏强欺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5835960" y="4341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怯大压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左大括号 22"/>
          <p:cNvSpPr/>
          <p:nvPr/>
        </p:nvSpPr>
        <p:spPr>
          <a:xfrm>
            <a:off x="4286160" y="2095560"/>
            <a:ext cx="571680" cy="285732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2857320"/>
              <a:gd name="textAreaBottom" fmla="*/ 284256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119400" y="1900080"/>
            <a:ext cx="8043840" cy="7318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"/>
          <p:cNvPicPr/>
          <p:nvPr/>
        </p:nvPicPr>
        <p:blipFill>
          <a:blip r:embed="rId3"/>
          <a:stretch/>
        </p:blipFill>
        <p:spPr>
          <a:xfrm>
            <a:off x="2255760" y="2835360"/>
            <a:ext cx="93124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"/>
          <p:cNvPicPr/>
          <p:nvPr/>
        </p:nvPicPr>
        <p:blipFill>
          <a:blip r:embed="rId4"/>
          <a:srcRect l="0" t="0" r="-3671" b="0"/>
          <a:stretch/>
        </p:blipFill>
        <p:spPr>
          <a:xfrm>
            <a:off x="2017800" y="3716280"/>
            <a:ext cx="6426000" cy="731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2017800" y="1604880"/>
            <a:ext cx="9889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~2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，交流故事情节：男孩向黑猫询问小狐仙的下落，为什么又遭到大黑猫的羞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图片 13" descr=""/>
          <p:cNvPicPr/>
          <p:nvPr/>
        </p:nvPicPr>
        <p:blipFill>
          <a:blip r:embed="rId5"/>
          <a:stretch/>
        </p:blipFill>
        <p:spPr>
          <a:xfrm>
            <a:off x="506520" y="1900080"/>
            <a:ext cx="147168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62200" y="246240"/>
            <a:ext cx="5065920" cy="6364080"/>
          </a:xfrm>
          <a:prstGeom prst="rect">
            <a:avLst/>
          </a:prstGeom>
          <a:ln w="0">
            <a:noFill/>
          </a:ln>
        </p:spPr>
      </p:pic>
      <p:sp>
        <p:nvSpPr>
          <p:cNvPr id="154" name="矩形标注 6"/>
          <p:cNvSpPr/>
          <p:nvPr/>
        </p:nvSpPr>
        <p:spPr>
          <a:xfrm>
            <a:off x="17640" y="460440"/>
            <a:ext cx="4190760" cy="1556280"/>
          </a:xfrm>
          <a:prstGeom prst="wedgeRectCallout">
            <a:avLst>
              <a:gd name="adj1" fmla="val 59490"/>
              <a:gd name="adj2" fmla="val 126708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亲爱的猫咪，院子里各个角落和暗洞你不是都很熟悉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你告诉我，在哪里能找到小狐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标注 7"/>
          <p:cNvSpPr/>
          <p:nvPr/>
        </p:nvSpPr>
        <p:spPr>
          <a:xfrm>
            <a:off x="8143920" y="480960"/>
            <a:ext cx="4048200" cy="581400"/>
          </a:xfrm>
          <a:prstGeom prst="wedgeRectCallout">
            <a:avLst>
              <a:gd name="adj1" fmla="val -60828"/>
              <a:gd name="adj2" fmla="val 230194"/>
            </a:avLst>
          </a:prstGeom>
          <a:solidFill>
            <a:srgbClr val="ffffff"/>
          </a:solidFill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知道小狐仙住在什么地方，但是这并不等于说我愿意告诉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标注 8"/>
          <p:cNvSpPr/>
          <p:nvPr/>
        </p:nvSpPr>
        <p:spPr>
          <a:xfrm>
            <a:off x="0" y="4915080"/>
            <a:ext cx="4667400" cy="1068840"/>
          </a:xfrm>
          <a:prstGeom prst="wedgeRectCallout">
            <a:avLst>
              <a:gd name="adj1" fmla="val 51194"/>
              <a:gd name="adj2" fmla="val -84810"/>
            </a:avLst>
          </a:prstGeom>
          <a:solidFill>
            <a:srgbClr val="ffffff"/>
          </a:solidFill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亲爱的猫咪，你可得帮我的忙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没看见他把我变成什么样子了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标注 9"/>
          <p:cNvSpPr/>
          <p:nvPr/>
        </p:nvSpPr>
        <p:spPr>
          <a:xfrm>
            <a:off x="8199360" y="2490840"/>
            <a:ext cx="3936960" cy="1068840"/>
          </a:xfrm>
          <a:prstGeom prst="wedgeRectCallout">
            <a:avLst>
              <a:gd name="adj1" fmla="val -79814"/>
              <a:gd name="adj2" fmla="val -57944"/>
            </a:avLst>
          </a:prstGeom>
          <a:solidFill>
            <a:srgbClr val="ffffff"/>
          </a:solidFill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我帮你的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不是因为你经常揪我的尾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标注 10"/>
          <p:cNvSpPr/>
          <p:nvPr/>
        </p:nvSpPr>
        <p:spPr>
          <a:xfrm>
            <a:off x="142920" y="3290760"/>
            <a:ext cx="3429000" cy="1068840"/>
          </a:xfrm>
          <a:prstGeom prst="wedgeRectCallout">
            <a:avLst>
              <a:gd name="adj1" fmla="val 65273"/>
              <a:gd name="adj2" fmla="val 34273"/>
            </a:avLst>
          </a:prstGeom>
          <a:solidFill>
            <a:srgbClr val="ffffff">
              <a:alpha val="87000"/>
            </a:srgbClr>
          </a:solidFill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怎么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还要揪你的尾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1"/>
          <p:cNvSpPr/>
          <p:nvPr/>
        </p:nvSpPr>
        <p:spPr>
          <a:xfrm>
            <a:off x="1274760" y="933480"/>
            <a:ext cx="93344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他全身的毛都竖了起来，拱起腰，伸直了腿，四脚抓地，尾巴变得粗而短，两耳朝后，嘴里嘶叫着，瞪大的眼睛冒着火星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线形标注 1 13"/>
          <p:cNvSpPr/>
          <p:nvPr/>
        </p:nvSpPr>
        <p:spPr>
          <a:xfrm>
            <a:off x="1941480" y="4197240"/>
            <a:ext cx="8001000" cy="857520"/>
          </a:xfrm>
          <a:prstGeom prst="borderCallout1">
            <a:avLst>
              <a:gd name="adj1" fmla="val 18750"/>
              <a:gd name="adj2" fmla="val -8333"/>
              <a:gd name="adj3" fmla="val -541"/>
              <a:gd name="adj4" fmla="val 19990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表现出大黑猫对男孩的愤怒和凶狠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4"/>
          <p:cNvSpPr/>
          <p:nvPr/>
        </p:nvSpPr>
        <p:spPr>
          <a:xfrm>
            <a:off x="857160" y="1333440"/>
            <a:ext cx="99061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男孩对猫并不示弱，反而向前逼近了一步。这时猫突然一跃，径直朝他扑了过去，把他摔倒在地，跳到他身上，前爪按住他的胸口，对着他的咽喉张开了大嘴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3882960" y="1523880"/>
            <a:ext cx="1905120" cy="6573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线形标注 1 16"/>
          <p:cNvSpPr/>
          <p:nvPr/>
        </p:nvSpPr>
        <p:spPr>
          <a:xfrm>
            <a:off x="2381400" y="473040"/>
            <a:ext cx="8001000" cy="857160"/>
          </a:xfrm>
          <a:prstGeom prst="borderCallout1">
            <a:avLst>
              <a:gd name="adj1" fmla="val 18750"/>
              <a:gd name="adj2" fmla="val -8333"/>
              <a:gd name="adj3" fmla="val 124347"/>
              <a:gd name="adj4" fmla="val 19398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男孩没有害怕，平时欺负猫习惯了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椭圆 17"/>
          <p:cNvSpPr/>
          <p:nvPr/>
        </p:nvSpPr>
        <p:spPr>
          <a:xfrm>
            <a:off x="3809880" y="2476440"/>
            <a:ext cx="55728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椭圆 18"/>
          <p:cNvSpPr/>
          <p:nvPr/>
        </p:nvSpPr>
        <p:spPr>
          <a:xfrm>
            <a:off x="6667560" y="2476440"/>
            <a:ext cx="58104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椭圆 19"/>
          <p:cNvSpPr/>
          <p:nvPr/>
        </p:nvSpPr>
        <p:spPr>
          <a:xfrm>
            <a:off x="10001160" y="247644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椭圆 20"/>
          <p:cNvSpPr/>
          <p:nvPr/>
        </p:nvSpPr>
        <p:spPr>
          <a:xfrm>
            <a:off x="2809800" y="332100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椭圆 21"/>
          <p:cNvSpPr/>
          <p:nvPr/>
        </p:nvSpPr>
        <p:spPr>
          <a:xfrm>
            <a:off x="6624720" y="332100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椭圆 22"/>
          <p:cNvSpPr/>
          <p:nvPr/>
        </p:nvSpPr>
        <p:spPr>
          <a:xfrm>
            <a:off x="3333600" y="4172040"/>
            <a:ext cx="57168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线形标注 1 23"/>
          <p:cNvSpPr/>
          <p:nvPr/>
        </p:nvSpPr>
        <p:spPr>
          <a:xfrm>
            <a:off x="3143160" y="5238720"/>
            <a:ext cx="5737320" cy="857160"/>
          </a:xfrm>
          <a:prstGeom prst="borderCallout1">
            <a:avLst>
              <a:gd name="adj1" fmla="val 18750"/>
              <a:gd name="adj2" fmla="val -8333"/>
              <a:gd name="adj3" fmla="val -430"/>
              <a:gd name="adj4" fmla="val 7324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大黑猫动作迅猛，很凶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209520" y="-23760"/>
            <a:ext cx="12611160" cy="69055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8" descr=""/>
          <p:cNvPicPr/>
          <p:nvPr/>
        </p:nvPicPr>
        <p:blipFill>
          <a:blip r:embed="rId3"/>
          <a:stretch/>
        </p:blipFill>
        <p:spPr>
          <a:xfrm>
            <a:off x="244440" y="3130560"/>
            <a:ext cx="107647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380880" y="2241360"/>
            <a:ext cx="1143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男孩感觉到猫的爪子穿过他的背心和衬衣，刺进了他的肉皮，锋利的犬牙触到了他的咽喉上。他拼命地喊着救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一个人也没有来。他断定，他死亡的时刻到了。正在这时，他又觉得猫把爪子收了回去，松开了他的喉咙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椭圆 7"/>
          <p:cNvSpPr/>
          <p:nvPr/>
        </p:nvSpPr>
        <p:spPr>
          <a:xfrm>
            <a:off x="4857840" y="175572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椭圆 8"/>
          <p:cNvSpPr/>
          <p:nvPr/>
        </p:nvSpPr>
        <p:spPr>
          <a:xfrm>
            <a:off x="8858160" y="168444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椭圆 9"/>
          <p:cNvSpPr/>
          <p:nvPr/>
        </p:nvSpPr>
        <p:spPr>
          <a:xfrm>
            <a:off x="3216240" y="254952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椭圆 10"/>
          <p:cNvSpPr/>
          <p:nvPr/>
        </p:nvSpPr>
        <p:spPr>
          <a:xfrm>
            <a:off x="8591400" y="2530440"/>
            <a:ext cx="60336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线形标注 1 11"/>
          <p:cNvSpPr/>
          <p:nvPr/>
        </p:nvSpPr>
        <p:spPr>
          <a:xfrm>
            <a:off x="2381400" y="571680"/>
            <a:ext cx="8001000" cy="857160"/>
          </a:xfrm>
          <a:prstGeom prst="borderCallout1">
            <a:avLst>
              <a:gd name="adj1" fmla="val 18750"/>
              <a:gd name="adj2" fmla="val -8333"/>
              <a:gd name="adj3" fmla="val 143134"/>
              <a:gd name="adj4" fmla="val 304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男孩完全处于下风，他害怕了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2190600" y="3141720"/>
            <a:ext cx="2857680" cy="6681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线形标注 1 13"/>
          <p:cNvSpPr/>
          <p:nvPr/>
        </p:nvSpPr>
        <p:spPr>
          <a:xfrm>
            <a:off x="1428840" y="4952880"/>
            <a:ext cx="5715000" cy="1238400"/>
          </a:xfrm>
          <a:prstGeom prst="borderCallout1">
            <a:avLst>
              <a:gd name="adj1" fmla="val 18750"/>
              <a:gd name="adj2" fmla="val -8333"/>
              <a:gd name="adj3" fmla="val -2699"/>
              <a:gd name="adj4" fmla="val 15171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平时男孩坏事做太多，现在没有一个人愿意帮他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7048440" y="3714840"/>
            <a:ext cx="2857680" cy="7617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线形标注 1 15"/>
          <p:cNvSpPr/>
          <p:nvPr/>
        </p:nvSpPr>
        <p:spPr>
          <a:xfrm>
            <a:off x="7429680" y="5048280"/>
            <a:ext cx="2952720" cy="857160"/>
          </a:xfrm>
          <a:prstGeom prst="borderCallout1">
            <a:avLst>
              <a:gd name="adj1" fmla="val 18750"/>
              <a:gd name="adj2" fmla="val -8333"/>
              <a:gd name="adj3" fmla="val 131060"/>
              <a:gd name="adj4" fmla="val -726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猫放过了他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矩形标注 2"/>
          <p:cNvSpPr/>
          <p:nvPr/>
        </p:nvSpPr>
        <p:spPr>
          <a:xfrm>
            <a:off x="431640" y="3141720"/>
            <a:ext cx="2495880" cy="1221480"/>
          </a:xfrm>
          <a:prstGeom prst="wedgeRectCallout">
            <a:avLst>
              <a:gd name="adj1" fmla="val 20115"/>
              <a:gd name="adj2" fmla="val 124745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救命！救命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我要死了吗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https://timgsa.baidu.com/timg?image&amp;quality=80&amp;size=b9999_10000&amp;sec=1565366565064&amp;di=9ab332b70975dc5d9ddea1d472c80d0b&amp;imgtype=0&amp;src=http%3A%2F%2F5b0988e595225.cdn.sohucs.com%2Fimages%2F20170905%2F2762e5cc142f48cbad1ed883f3be3e9a.jpeg"/>
          <p:cNvPicPr/>
          <p:nvPr/>
        </p:nvPicPr>
        <p:blipFill>
          <a:blip r:embed="rId2"/>
          <a:stretch/>
        </p:blipFill>
        <p:spPr>
          <a:xfrm>
            <a:off x="0" y="1190520"/>
            <a:ext cx="3440160" cy="5667480"/>
          </a:xfrm>
          <a:prstGeom prst="rect">
            <a:avLst/>
          </a:prstGeom>
          <a:ln w="0">
            <a:noFill/>
          </a:ln>
        </p:spPr>
      </p:pic>
      <p:sp>
        <p:nvSpPr>
          <p:cNvPr id="184" name="矩形标注 13"/>
          <p:cNvSpPr/>
          <p:nvPr/>
        </p:nvSpPr>
        <p:spPr>
          <a:xfrm>
            <a:off x="4095720" y="1143000"/>
            <a:ext cx="6095880" cy="657720"/>
          </a:xfrm>
          <a:prstGeom prst="wedgeRectCallout">
            <a:avLst>
              <a:gd name="adj1" fmla="val -62495"/>
              <a:gd name="adj2" fmla="val 198629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好了，这回够了，看在女主人的面子上，这次我饶了你。我只想让你知道，咱们俩现在究竟谁厉害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线形标注 1 14"/>
          <p:cNvSpPr/>
          <p:nvPr/>
        </p:nvSpPr>
        <p:spPr>
          <a:xfrm>
            <a:off x="4381560" y="5048280"/>
            <a:ext cx="5715000" cy="1238400"/>
          </a:xfrm>
          <a:prstGeom prst="borderCallout1">
            <a:avLst>
              <a:gd name="adj1" fmla="val 18750"/>
              <a:gd name="adj2" fmla="val -8333"/>
              <a:gd name="adj3" fmla="val 97615"/>
              <a:gd name="adj4" fmla="val 680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大黑猫看在女主人的面子上还是放过了男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0"/>
          <p:cNvSpPr/>
          <p:nvPr/>
        </p:nvSpPr>
        <p:spPr>
          <a:xfrm>
            <a:off x="1914480" y="1900080"/>
            <a:ext cx="9409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默读课文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3~29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，交流故事情节：牛群是怎样控诉男孩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图片 11" descr=""/>
          <p:cNvPicPr/>
          <p:nvPr/>
        </p:nvPicPr>
        <p:blipFill>
          <a:blip r:embed="rId2"/>
          <a:stretch/>
        </p:blipFill>
        <p:spPr>
          <a:xfrm>
            <a:off x="431640" y="1900080"/>
            <a:ext cx="1471680" cy="210996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" descr=""/>
          <p:cNvPicPr/>
          <p:nvPr/>
        </p:nvPicPr>
        <p:blipFill>
          <a:blip r:embed="rId3"/>
          <a:stretch/>
        </p:blipFill>
        <p:spPr>
          <a:xfrm>
            <a:off x="2832120" y="2224080"/>
            <a:ext cx="8140680" cy="7318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4"/>
          <a:stretch/>
        </p:blipFill>
        <p:spPr>
          <a:xfrm>
            <a:off x="1914480" y="3138480"/>
            <a:ext cx="71913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4"/>
          <p:cNvSpPr/>
          <p:nvPr/>
        </p:nvSpPr>
        <p:spPr>
          <a:xfrm>
            <a:off x="571680" y="1238400"/>
            <a:ext cx="106678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牛棚里只有三头牛。但男孩进去的时候，却是吼声四起，一片混乱，听起来至少是三十头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15"/>
          <p:cNvSpPr/>
          <p:nvPr/>
        </p:nvSpPr>
        <p:spPr>
          <a:xfrm flipV="1">
            <a:off x="3922560" y="1428840"/>
            <a:ext cx="667080" cy="66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21"/>
          <p:cNvSpPr/>
          <p:nvPr/>
        </p:nvSpPr>
        <p:spPr>
          <a:xfrm flipV="1">
            <a:off x="7286760" y="2189520"/>
            <a:ext cx="303372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线形标注 1 22"/>
          <p:cNvSpPr/>
          <p:nvPr/>
        </p:nvSpPr>
        <p:spPr>
          <a:xfrm>
            <a:off x="2833560" y="3716280"/>
            <a:ext cx="5716800" cy="1238400"/>
          </a:xfrm>
          <a:prstGeom prst="borderCallout1">
            <a:avLst>
              <a:gd name="adj1" fmla="val 18750"/>
              <a:gd name="adj2" fmla="val -8333"/>
              <a:gd name="adj3" fmla="val 131060"/>
              <a:gd name="adj4" fmla="val -726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怨声载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12195000" cy="6862680"/>
          </a:xfrm>
          <a:prstGeom prst="rect">
            <a:avLst/>
          </a:prstGeom>
          <a:ln w="0">
            <a:noFill/>
          </a:ln>
        </p:spPr>
      </p:pic>
      <p:sp>
        <p:nvSpPr>
          <p:cNvPr id="195" name="矩形标注 9"/>
          <p:cNvSpPr/>
          <p:nvPr/>
        </p:nvSpPr>
        <p:spPr>
          <a:xfrm>
            <a:off x="380880" y="2476440"/>
            <a:ext cx="3714840" cy="581400"/>
          </a:xfrm>
          <a:prstGeom prst="wedgeRectCallout">
            <a:avLst>
              <a:gd name="adj1" fmla="val 35722"/>
              <a:gd name="adj2" fmla="val -94986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过来，我给你一蹄子，让你永远不能忘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矩形标注 10"/>
          <p:cNvSpPr/>
          <p:nvPr/>
        </p:nvSpPr>
        <p:spPr>
          <a:xfrm>
            <a:off x="1523880" y="4762440"/>
            <a:ext cx="3714840" cy="1068120"/>
          </a:xfrm>
          <a:prstGeom prst="wedgeRectCallout">
            <a:avLst>
              <a:gd name="adj1" fmla="val 33291"/>
              <a:gd name="adj2" fmla="val -67046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过来，我要让你在我的角上跳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矩形标注 11"/>
          <p:cNvSpPr/>
          <p:nvPr/>
        </p:nvSpPr>
        <p:spPr>
          <a:xfrm>
            <a:off x="6095880" y="4765680"/>
            <a:ext cx="3714840" cy="1068840"/>
          </a:xfrm>
          <a:prstGeom prst="wedgeRectCallout">
            <a:avLst>
              <a:gd name="adj1" fmla="val 35115"/>
              <a:gd name="adj2" fmla="val -65787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过来，我也叫你尝尝去年夏天你经常用木鞋打我的滋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矩形 20"/>
          <p:cNvSpPr/>
          <p:nvPr/>
        </p:nvSpPr>
        <p:spPr>
          <a:xfrm>
            <a:off x="0" y="0"/>
            <a:ext cx="2381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牛的控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12195000" cy="6862680"/>
          </a:xfrm>
          <a:prstGeom prst="rect">
            <a:avLst/>
          </a:prstGeom>
          <a:ln w="0">
            <a:noFill/>
          </a:ln>
        </p:spPr>
      </p:pic>
      <p:sp>
        <p:nvSpPr>
          <p:cNvPr id="200" name="矩形标注 12"/>
          <p:cNvSpPr/>
          <p:nvPr/>
        </p:nvSpPr>
        <p:spPr>
          <a:xfrm>
            <a:off x="380880" y="3333600"/>
            <a:ext cx="5334120" cy="581400"/>
          </a:xfrm>
          <a:prstGeom prst="wedgeRectCallout">
            <a:avLst>
              <a:gd name="adj1" fmla="val 74898"/>
              <a:gd name="adj2" fmla="val -18564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过来，你曾经把马蜂放进我的耳朵，现在我要报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矩形标注 14"/>
          <p:cNvSpPr/>
          <p:nvPr/>
        </p:nvSpPr>
        <p:spPr>
          <a:xfrm>
            <a:off x="2762280" y="4476600"/>
            <a:ext cx="7905600" cy="581400"/>
          </a:xfrm>
          <a:prstGeom prst="wedgeRectCallout">
            <a:avLst>
              <a:gd name="adj1" fmla="val 41337"/>
              <a:gd name="adj2" fmla="val -68685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过来，你做的事都应该遭报应了。你曾多次从你母亲腿下抽走她挤奶时坐的小凳，你多次在你母亲提着奶桶走过时伸脚绊倒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多次气得她站在这里流眼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矩形标注 13"/>
          <p:cNvSpPr/>
          <p:nvPr/>
        </p:nvSpPr>
        <p:spPr>
          <a:xfrm>
            <a:off x="571680" y="2381400"/>
            <a:ext cx="2761920" cy="581400"/>
          </a:xfrm>
          <a:prstGeom prst="wedgeRectCallout">
            <a:avLst>
              <a:gd name="adj1" fmla="val 71370"/>
              <a:gd name="adj2" fmla="val 4083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太不像话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0" y="0"/>
            <a:ext cx="2381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牛的控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816120" y="1411200"/>
            <a:ext cx="1055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尼尔斯以前经常欺负和捉弄鸡鹅、猫、牛群等动物们，变成小狐仙后却受到了他们的威胁、憎恶和攻击，整个世界发生了翻天覆地的变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"/>
          <p:cNvSpPr/>
          <p:nvPr/>
        </p:nvSpPr>
        <p:spPr>
          <a:xfrm>
            <a:off x="2158920" y="1657440"/>
            <a:ext cx="87375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读后面的部分，联系前文：你认为尼尔斯是一个怎样的孩子？你从哪里看出来的？一起交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图片 2" descr=""/>
          <p:cNvPicPr/>
          <p:nvPr/>
        </p:nvPicPr>
        <p:blipFill>
          <a:blip r:embed="rId2"/>
          <a:stretch/>
        </p:blipFill>
        <p:spPr>
          <a:xfrm>
            <a:off x="239760" y="1771560"/>
            <a:ext cx="1471680" cy="2109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4" descr=""/>
          <p:cNvPicPr/>
          <p:nvPr/>
        </p:nvPicPr>
        <p:blipFill>
          <a:blip r:embed="rId3"/>
          <a:stretch/>
        </p:blipFill>
        <p:spPr>
          <a:xfrm>
            <a:off x="3181320" y="1892160"/>
            <a:ext cx="74754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5" descr=""/>
          <p:cNvPicPr/>
          <p:nvPr/>
        </p:nvPicPr>
        <p:blipFill>
          <a:blip r:embed="rId4"/>
          <a:stretch/>
        </p:blipFill>
        <p:spPr>
          <a:xfrm>
            <a:off x="2255760" y="2889360"/>
            <a:ext cx="8161560" cy="7318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6" descr=""/>
          <p:cNvPicPr/>
          <p:nvPr/>
        </p:nvPicPr>
        <p:blipFill>
          <a:blip r:embed="rId5"/>
          <a:stretch/>
        </p:blipFill>
        <p:spPr>
          <a:xfrm>
            <a:off x="2459160" y="3753000"/>
            <a:ext cx="8161200" cy="73152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7" descr=""/>
          <p:cNvPicPr/>
          <p:nvPr/>
        </p:nvPicPr>
        <p:blipFill>
          <a:blip r:embed="rId6"/>
          <a:srcRect l="0" t="-13072" r="-8790" b="0"/>
          <a:stretch/>
        </p:blipFill>
        <p:spPr>
          <a:xfrm>
            <a:off x="2158920" y="4484520"/>
            <a:ext cx="295596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4"/>
          <p:cNvSpPr/>
          <p:nvPr/>
        </p:nvSpPr>
        <p:spPr>
          <a:xfrm>
            <a:off x="666720" y="1619280"/>
            <a:ext cx="106678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说着，猫就走开了，看上去像他来的时候一样温柔和善。男孩羞得连一句话也说不出来，赶紧溜到牛棚里去找小狐仙了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矩形 15"/>
          <p:cNvSpPr/>
          <p:nvPr/>
        </p:nvSpPr>
        <p:spPr>
          <a:xfrm>
            <a:off x="1238400" y="2571840"/>
            <a:ext cx="1881000" cy="7617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椭圆 24"/>
          <p:cNvSpPr/>
          <p:nvPr/>
        </p:nvSpPr>
        <p:spPr>
          <a:xfrm>
            <a:off x="4572000" y="2762280"/>
            <a:ext cx="66672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线形标注 1 25"/>
          <p:cNvSpPr/>
          <p:nvPr/>
        </p:nvSpPr>
        <p:spPr>
          <a:xfrm>
            <a:off x="3238560" y="4667400"/>
            <a:ext cx="5238720" cy="1238040"/>
          </a:xfrm>
          <a:prstGeom prst="borderCallout1">
            <a:avLst>
              <a:gd name="adj1" fmla="val 18750"/>
              <a:gd name="adj2" fmla="val -8333"/>
              <a:gd name="adj3" fmla="val -120268"/>
              <a:gd name="adj4" fmla="val 35620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认识到了自己平时的错误，很羞愧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438120" y="644400"/>
            <a:ext cx="6905520" cy="82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能认识到自己的错误，知错就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3311640" y="1508040"/>
            <a:ext cx="8191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塞尔玛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拉格洛芙，瑞典女作家，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1909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年诺贝尔文学奖获得者。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尼尔斯骑鹅旅行记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是其代表作，也是一部与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王尔德童话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安徒生童话</a:t>
            </a:r>
            <a:r>
              <a:rPr b="0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齐名、享誉世界的儿童小说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92040" y="1320840"/>
            <a:ext cx="2773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4"/>
          <p:cNvSpPr/>
          <p:nvPr/>
        </p:nvSpPr>
        <p:spPr>
          <a:xfrm>
            <a:off x="762120" y="1033560"/>
            <a:ext cx="107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男孩想对她们说，过去他对她们不好，现在后悔了，只要告诉他小狐仙在哪里，以后他就再也不捣蛋了。但是牛都不听他说话。她们吵闹得非常凶，他真担心有的牛会挣断缰绳，所以他觉得还是趁早溜掉为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椭圆 15"/>
          <p:cNvSpPr/>
          <p:nvPr/>
        </p:nvSpPr>
        <p:spPr>
          <a:xfrm flipV="1">
            <a:off x="4749840" y="1127880"/>
            <a:ext cx="10476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椭圆 19"/>
          <p:cNvSpPr/>
          <p:nvPr/>
        </p:nvSpPr>
        <p:spPr>
          <a:xfrm flipV="1">
            <a:off x="9334440" y="1127880"/>
            <a:ext cx="104796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椭圆 20"/>
          <p:cNvSpPr/>
          <p:nvPr/>
        </p:nvSpPr>
        <p:spPr>
          <a:xfrm flipV="1">
            <a:off x="7334280" y="1794600"/>
            <a:ext cx="257472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椭圆 21"/>
          <p:cNvSpPr/>
          <p:nvPr/>
        </p:nvSpPr>
        <p:spPr>
          <a:xfrm flipV="1">
            <a:off x="8191440" y="2571840"/>
            <a:ext cx="136044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线形标注 1 22"/>
          <p:cNvSpPr/>
          <p:nvPr/>
        </p:nvSpPr>
        <p:spPr>
          <a:xfrm>
            <a:off x="1685880" y="4430880"/>
            <a:ext cx="8223120" cy="952200"/>
          </a:xfrm>
          <a:prstGeom prst="borderCallout1">
            <a:avLst>
              <a:gd name="adj1" fmla="val 18750"/>
              <a:gd name="adj2" fmla="val -8333"/>
              <a:gd name="adj3" fmla="val 96393"/>
              <a:gd name="adj4" fmla="val 96495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认识到自己的错误，心中懊悔又害怕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8"/>
          <p:cNvSpPr/>
          <p:nvPr/>
        </p:nvSpPr>
        <p:spPr>
          <a:xfrm>
            <a:off x="857160" y="1809720"/>
            <a:ext cx="98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天天气好极了。水渠里流水潺潺，树上嫩芽满枝，小鸟在耳边欢唱。而他却坐在那里十分难过。再也没有什么东西能引起他的兴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椭圆 13"/>
          <p:cNvSpPr/>
          <p:nvPr/>
        </p:nvSpPr>
        <p:spPr>
          <a:xfrm flipV="1">
            <a:off x="7810560" y="2571840"/>
            <a:ext cx="104760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线形标注 1 14"/>
          <p:cNvSpPr/>
          <p:nvPr/>
        </p:nvSpPr>
        <p:spPr>
          <a:xfrm>
            <a:off x="4179960" y="357120"/>
            <a:ext cx="5048280" cy="1143000"/>
          </a:xfrm>
          <a:prstGeom prst="borderCallout1">
            <a:avLst>
              <a:gd name="adj1" fmla="val 18750"/>
              <a:gd name="adj2" fmla="val -8333"/>
              <a:gd name="adj3" fmla="val 97851"/>
              <a:gd name="adj4" fmla="val 1339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美好的景物和男孩的心情形成鲜明对比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椭圆 15"/>
          <p:cNvSpPr/>
          <p:nvPr/>
        </p:nvSpPr>
        <p:spPr>
          <a:xfrm flipV="1">
            <a:off x="2952720" y="2571840"/>
            <a:ext cx="104796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椭圆 16"/>
          <p:cNvSpPr/>
          <p:nvPr/>
        </p:nvSpPr>
        <p:spPr>
          <a:xfrm flipV="1">
            <a:off x="3143160" y="1809000"/>
            <a:ext cx="104796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0" y="3981600"/>
            <a:ext cx="12209400" cy="2876400"/>
          </a:xfrm>
          <a:prstGeom prst="rect">
            <a:avLst/>
          </a:prstGeom>
          <a:ln w="0">
            <a:noFill/>
          </a:ln>
        </p:spPr>
      </p:pic>
      <p:sp>
        <p:nvSpPr>
          <p:cNvPr id="228" name="矩形标注 18"/>
          <p:cNvSpPr/>
          <p:nvPr/>
        </p:nvSpPr>
        <p:spPr>
          <a:xfrm>
            <a:off x="1523880" y="2000160"/>
            <a:ext cx="5334120" cy="1054080"/>
          </a:xfrm>
          <a:prstGeom prst="wedgeRectCallout">
            <a:avLst>
              <a:gd name="adj1" fmla="val 54962"/>
              <a:gd name="adj2" fmla="val 135180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我原来怎么这么坏，我太不对了，唉！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7"/>
          <p:cNvSpPr/>
          <p:nvPr/>
        </p:nvSpPr>
        <p:spPr>
          <a:xfrm>
            <a:off x="223920" y="68400"/>
            <a:ext cx="3120840" cy="82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善良、有爱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https://timgsa.baidu.com/timg?image&amp;quality=80&amp;size=b9999_10000&amp;sec=1565371133595&amp;di=a8042521f70045771737c21661a0e505&amp;imgtype=0&amp;src=http%3A%2F%2Fku.90sjimg.com%2Felement_origin_min_pic%2F16%2F11%2F10%2Ff76091a2b65bd2b88dd88b71791f0638.jpg"/>
          <p:cNvPicPr/>
          <p:nvPr/>
        </p:nvPicPr>
        <p:blipFill>
          <a:blip r:embed="rId2"/>
          <a:stretch/>
        </p:blipFill>
        <p:spPr>
          <a:xfrm flipH="1">
            <a:off x="5714640" y="857160"/>
            <a:ext cx="6039000" cy="3714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s://timgsa.baidu.com/timg?image&amp;quality=80&amp;size=b9999_10000&amp;sec=1565371178654&amp;di=29c76cab9c414e228eb3f642f07a8f6b&amp;imgtype=0&amp;src=http%3A%2F%2Fb.hiphotos.baidu.com%2Fbaike%2Fw%3D400%2Fsign%3D027aeeb9f4039245a1b5e00fb795a4a8%2Ffaedab64034f78f03682828771310a55b3191c3c.jpg"/>
          <p:cNvPicPr/>
          <p:nvPr/>
        </p:nvPicPr>
        <p:blipFill>
          <a:blip r:embed="rId3"/>
          <a:stretch/>
        </p:blipFill>
        <p:spPr>
          <a:xfrm>
            <a:off x="0" y="4178160"/>
            <a:ext cx="3568680" cy="2679840"/>
          </a:xfrm>
          <a:prstGeom prst="rect">
            <a:avLst/>
          </a:prstGeom>
          <a:ln w="0">
            <a:noFill/>
          </a:ln>
        </p:spPr>
      </p:pic>
      <p:sp>
        <p:nvSpPr>
          <p:cNvPr id="232" name="矩形标注 11"/>
          <p:cNvSpPr/>
          <p:nvPr/>
        </p:nvSpPr>
        <p:spPr>
          <a:xfrm>
            <a:off x="4559400" y="68400"/>
            <a:ext cx="5429160" cy="581400"/>
          </a:xfrm>
          <a:prstGeom prst="wedgeRectCallout">
            <a:avLst>
              <a:gd name="adj1" fmla="val 18032"/>
              <a:gd name="adj2" fmla="val 148824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跟我们来吧！跟我们来吧！现在飞向高山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矩形标注 13"/>
          <p:cNvSpPr/>
          <p:nvPr/>
        </p:nvSpPr>
        <p:spPr>
          <a:xfrm>
            <a:off x="2571840" y="3714840"/>
            <a:ext cx="5429160" cy="581400"/>
          </a:xfrm>
          <a:prstGeom prst="wedgeRectCallout">
            <a:avLst>
              <a:gd name="adj1" fmla="val -54481"/>
              <a:gd name="adj2" fmla="val 38486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在这里生活得很好！我们在这里生活得很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标注 15"/>
          <p:cNvSpPr/>
          <p:nvPr/>
        </p:nvSpPr>
        <p:spPr>
          <a:xfrm>
            <a:off x="2571840" y="4952880"/>
            <a:ext cx="5715000" cy="581400"/>
          </a:xfrm>
          <a:prstGeom prst="wedgeRectCallout">
            <a:avLst>
              <a:gd name="adj1" fmla="val -54009"/>
              <a:gd name="adj2" fmla="val -29518"/>
            </a:avLst>
          </a:prstGeom>
          <a:noFill/>
          <a:ln w="9360">
            <a:solidFill>
              <a:srgbClr val="a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再过来一群我就跟着他们飞走。等一等！等一等！我就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952560" y="1687320"/>
            <a:ext cx="100011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男孩坐在围墙上，这一切都听得一清二楚。“如果这只大雄鹅飞走，可是一个很大的损失，”他想，“父母从教堂回来时，发现雄鹅不见了，他们会伤心的。”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线形标注 1 2"/>
          <p:cNvSpPr/>
          <p:nvPr/>
        </p:nvSpPr>
        <p:spPr>
          <a:xfrm>
            <a:off x="2952720" y="4589640"/>
            <a:ext cx="6000840" cy="1143000"/>
          </a:xfrm>
          <a:prstGeom prst="borderCallout1">
            <a:avLst>
              <a:gd name="adj1" fmla="val 18750"/>
              <a:gd name="adj2" fmla="val -8333"/>
              <a:gd name="adj3" fmla="val 17726"/>
              <a:gd name="adj4" fmla="val -2421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男孩在转变，已经学会为家人着想，开始关心父母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椭圆 3"/>
          <p:cNvSpPr/>
          <p:nvPr/>
        </p:nvSpPr>
        <p:spPr>
          <a:xfrm flipV="1">
            <a:off x="4381560" y="3540960"/>
            <a:ext cx="161928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"/>
          <p:cNvSpPr/>
          <p:nvPr/>
        </p:nvSpPr>
        <p:spPr>
          <a:xfrm>
            <a:off x="857160" y="1238400"/>
            <a:ext cx="100015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恰恰就在这一瞬间，雄鹅学会了怎样腾空而起。他来不及抖掉男孩就飞向了天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https://timgsa.baidu.com/timg?image&amp;quality=80&amp;size=b9999_10000&amp;sec=1565393973637&amp;di=381e824d2874ad311ef3316cb8f40261&amp;imgtype=0&amp;src=http%3A%2F%2Fimg.25pp.com%2Fuploadfile%2Fapp%2Fcapture%2Fiphone5%2F20161012%2F1476249050337042.jpeg"/>
          <p:cNvPicPr/>
          <p:nvPr/>
        </p:nvPicPr>
        <p:blipFill>
          <a:blip r:embed="rId2"/>
          <a:stretch/>
        </p:blipFill>
        <p:spPr>
          <a:xfrm>
            <a:off x="2476440" y="3143160"/>
            <a:ext cx="6096240" cy="3430800"/>
          </a:xfrm>
          <a:prstGeom prst="rect">
            <a:avLst/>
          </a:prstGeom>
          <a:ln w="0">
            <a:noFill/>
          </a:ln>
        </p:spPr>
      </p:pic>
      <p:sp>
        <p:nvSpPr>
          <p:cNvPr id="240" name="线形标注 1 3"/>
          <p:cNvSpPr/>
          <p:nvPr/>
        </p:nvSpPr>
        <p:spPr>
          <a:xfrm>
            <a:off x="3905280" y="380880"/>
            <a:ext cx="4191120" cy="762120"/>
          </a:xfrm>
          <a:prstGeom prst="borderCallout1">
            <a:avLst>
              <a:gd name="adj1" fmla="val 18750"/>
              <a:gd name="adj2" fmla="val -8333"/>
              <a:gd name="adj3" fmla="val 152060"/>
              <a:gd name="adj4" fmla="val 10476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想阻止已经来不及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椭圆 4"/>
          <p:cNvSpPr/>
          <p:nvPr/>
        </p:nvSpPr>
        <p:spPr>
          <a:xfrm flipV="1">
            <a:off x="1714680" y="1332720"/>
            <a:ext cx="13334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椭圆 5"/>
          <p:cNvSpPr/>
          <p:nvPr/>
        </p:nvSpPr>
        <p:spPr>
          <a:xfrm flipV="1">
            <a:off x="4286160" y="1332360"/>
            <a:ext cx="161928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334800" y="57240"/>
            <a:ext cx="2419560" cy="82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勇敢顽强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-157320" y="-9360"/>
            <a:ext cx="12506400" cy="6876720"/>
          </a:xfrm>
          <a:prstGeom prst="rect">
            <a:avLst/>
          </a:prstGeom>
          <a:ln w="0">
            <a:noFill/>
          </a:ln>
        </p:spPr>
      </p:pic>
      <p:sp>
        <p:nvSpPr>
          <p:cNvPr id="245" name="矩形 1"/>
          <p:cNvSpPr/>
          <p:nvPr/>
        </p:nvSpPr>
        <p:spPr>
          <a:xfrm>
            <a:off x="5676840" y="3762360"/>
            <a:ext cx="6667560" cy="8251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飞得那么快，男孩都感到头晕目眩了。等他想到应该放开雄鹅的脖子时，已经到了高空。如果他现在一松手，肯定会掉到地上摔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"/>
          <p:cNvSpPr/>
          <p:nvPr/>
        </p:nvSpPr>
        <p:spPr>
          <a:xfrm>
            <a:off x="1238400" y="1238400"/>
            <a:ext cx="985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要想舒服一点儿，他唯一能做的就是设法爬到鹅背上去。他费了九牛二虎之力总算爬了上去。然而要在翅膀中间光滑的脊背上坐稳，也不是一件容易的事，何况翅膀还在不停地扇动。为了不滑下来，他不得不用两只手狠狠地抓住雄鹅的羽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线形标注 1 2"/>
          <p:cNvSpPr/>
          <p:nvPr/>
        </p:nvSpPr>
        <p:spPr>
          <a:xfrm>
            <a:off x="2857680" y="5524560"/>
            <a:ext cx="5524200" cy="857160"/>
          </a:xfrm>
          <a:prstGeom prst="borderCallout1">
            <a:avLst>
              <a:gd name="adj1" fmla="val 18750"/>
              <a:gd name="adj2" fmla="val -8333"/>
              <a:gd name="adj3" fmla="val -3740"/>
              <a:gd name="adj4" fmla="val 132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男孩变得很勇敢和顽强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椭圆 3"/>
          <p:cNvSpPr/>
          <p:nvPr/>
        </p:nvSpPr>
        <p:spPr>
          <a:xfrm flipV="1">
            <a:off x="4191120" y="1999440"/>
            <a:ext cx="24764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椭圆 4"/>
          <p:cNvSpPr/>
          <p:nvPr/>
        </p:nvSpPr>
        <p:spPr>
          <a:xfrm flipV="1">
            <a:off x="9456840" y="3529080"/>
            <a:ext cx="152388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椭圆 5"/>
          <p:cNvSpPr/>
          <p:nvPr/>
        </p:nvSpPr>
        <p:spPr>
          <a:xfrm flipV="1">
            <a:off x="2952720" y="4191120"/>
            <a:ext cx="218268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11111"/>
            </a:solidFill>
            <a:miter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911160" y="2210400"/>
            <a:ext cx="1017756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尼尔斯原来经常欺负虐待动物，后来被小狐仙算计，遭到了“报应”，在寻找小狐仙的过程中，他认识到自己原来的错误，决心改过，变得勇敢和顽强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-117360"/>
            <a:ext cx="12192120" cy="6975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2"/>
          <p:cNvSpPr/>
          <p:nvPr/>
        </p:nvSpPr>
        <p:spPr>
          <a:xfrm>
            <a:off x="1079640" y="260280"/>
            <a:ext cx="1008036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想一想：平时你有没有欺负小动物的时候，如果有，以后应该怎么做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4"/>
          <p:cNvSpPr/>
          <p:nvPr/>
        </p:nvSpPr>
        <p:spPr>
          <a:xfrm>
            <a:off x="523800" y="2181240"/>
            <a:ext cx="5667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无济于事：对事情没有什么帮助或益处。文中指男孩光站在那没有什么用处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690480" y="4278240"/>
            <a:ext cx="54039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在法律面前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一切头衔都无济于事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组合 2"/>
          <p:cNvGrpSpPr/>
          <p:nvPr/>
        </p:nvGrpSpPr>
        <p:grpSpPr>
          <a:xfrm>
            <a:off x="527040" y="1258920"/>
            <a:ext cx="2208240" cy="657720"/>
            <a:chOff x="527040" y="1258920"/>
            <a:chExt cx="2208240" cy="657720"/>
          </a:xfrm>
        </p:grpSpPr>
        <p:sp>
          <p:nvSpPr>
            <p:cNvPr id="54" name="TextBox 11"/>
            <p:cNvSpPr/>
            <p:nvPr/>
          </p:nvSpPr>
          <p:spPr>
            <a:xfrm>
              <a:off x="574920" y="1258920"/>
              <a:ext cx="21603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7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词语解释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矩形 7"/>
            <p:cNvSpPr/>
            <p:nvPr/>
          </p:nvSpPr>
          <p:spPr>
            <a:xfrm>
              <a:off x="2639520" y="1451160"/>
              <a:ext cx="47880" cy="433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矩形 10"/>
            <p:cNvSpPr/>
            <p:nvPr/>
          </p:nvSpPr>
          <p:spPr>
            <a:xfrm>
              <a:off x="527040" y="1451160"/>
              <a:ext cx="47880" cy="433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4" descr="http://www.23book.com/upload/2015/04/24/951d6e30-012a-4650-9c38-570c42502faa.jpg"/>
          <p:cNvPicPr/>
          <p:nvPr/>
        </p:nvPicPr>
        <p:blipFill>
          <a:blip r:embed="rId2"/>
          <a:stretch/>
        </p:blipFill>
        <p:spPr>
          <a:xfrm flipH="1">
            <a:off x="6481440" y="1927080"/>
            <a:ext cx="4606920" cy="38055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4"/>
          <p:cNvSpPr/>
          <p:nvPr/>
        </p:nvSpPr>
        <p:spPr>
          <a:xfrm>
            <a:off x="871560" y="482760"/>
            <a:ext cx="5378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朗读课文 扫清障碍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2"/>
          <p:cNvSpPr/>
          <p:nvPr/>
        </p:nvSpPr>
        <p:spPr>
          <a:xfrm>
            <a:off x="762120" y="1357200"/>
            <a:ext cx="10858320" cy="5048280"/>
          </a:xfrm>
          <a:prstGeom prst="rect">
            <a:avLst/>
          </a:prstGeom>
          <a:noFill/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文本框 9"/>
          <p:cNvSpPr/>
          <p:nvPr/>
        </p:nvSpPr>
        <p:spPr>
          <a:xfrm>
            <a:off x="2095560" y="1714680"/>
            <a:ext cx="297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变成小狐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文本框 3"/>
          <p:cNvSpPr/>
          <p:nvPr/>
        </p:nvSpPr>
        <p:spPr>
          <a:xfrm>
            <a:off x="666720" y="2095560"/>
            <a:ext cx="1143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行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本框 16"/>
          <p:cNvSpPr/>
          <p:nvPr/>
        </p:nvSpPr>
        <p:spPr>
          <a:xfrm>
            <a:off x="2112840" y="3422520"/>
            <a:ext cx="296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男孩的遭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文本框 19"/>
          <p:cNvSpPr/>
          <p:nvPr/>
        </p:nvSpPr>
        <p:spPr>
          <a:xfrm>
            <a:off x="2208240" y="5232240"/>
            <a:ext cx="297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飞向蓝天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左大括号 1"/>
          <p:cNvSpPr/>
          <p:nvPr/>
        </p:nvSpPr>
        <p:spPr>
          <a:xfrm>
            <a:off x="1521000" y="2104920"/>
            <a:ext cx="479160" cy="3738600"/>
          </a:xfrm>
          <a:custGeom>
            <a:avLst/>
            <a:gdLst>
              <a:gd name="textAreaLeft" fmla="*/ 306360 w 479160"/>
              <a:gd name="textAreaRight" fmla="*/ 479520 w 479160"/>
              <a:gd name="textAreaTop" fmla="*/ 12240 h 3738600"/>
              <a:gd name="textAreaBottom" fmla="*/ 3726360 h 373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928800" y="37620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结构梳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左大括号 14"/>
          <p:cNvSpPr/>
          <p:nvPr/>
        </p:nvSpPr>
        <p:spPr>
          <a:xfrm>
            <a:off x="4875120" y="2565360"/>
            <a:ext cx="571680" cy="259560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2595600"/>
              <a:gd name="textAreaBottom" fmla="*/ 2580840 h 25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5400" y="10800"/>
                  <a:pt x="0" y="10800"/>
                </a:cubicBezTo>
                <a:cubicBezTo>
                  <a:pt x="54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10"/>
          <p:cNvSpPr/>
          <p:nvPr/>
        </p:nvSpPr>
        <p:spPr>
          <a:xfrm>
            <a:off x="5326200" y="2565360"/>
            <a:ext cx="374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鸡鹅的嘲笑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文本框 10"/>
          <p:cNvSpPr/>
          <p:nvPr/>
        </p:nvSpPr>
        <p:spPr>
          <a:xfrm>
            <a:off x="5446800" y="3522600"/>
            <a:ext cx="374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猫的羞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10"/>
          <p:cNvSpPr/>
          <p:nvPr/>
        </p:nvSpPr>
        <p:spPr>
          <a:xfrm>
            <a:off x="5351400" y="4457880"/>
            <a:ext cx="374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牛群的控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左大括号 30"/>
          <p:cNvSpPr/>
          <p:nvPr/>
        </p:nvSpPr>
        <p:spPr>
          <a:xfrm flipH="1">
            <a:off x="8381880" y="1989000"/>
            <a:ext cx="479520" cy="3846600"/>
          </a:xfrm>
          <a:custGeom>
            <a:avLst/>
            <a:gdLst>
              <a:gd name="textAreaLeft" fmla="*/ 306360 w 479520"/>
              <a:gd name="textAreaRight" fmla="*/ 479880 w 479520"/>
              <a:gd name="textAreaTop" fmla="*/ 12240 h 3846600"/>
              <a:gd name="textAreaBottom" fmla="*/ 3834360 h 384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"/>
                  <a:pt x="10800" y="224"/>
                </a:cubicBezTo>
                <a:lnTo>
                  <a:pt x="10800" y="10576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2"/>
                  <a:pt x="10800" y="11024"/>
                </a:cubicBezTo>
                <a:lnTo>
                  <a:pt x="10800" y="21376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文本框 10"/>
          <p:cNvSpPr/>
          <p:nvPr/>
        </p:nvSpPr>
        <p:spPr>
          <a:xfrm>
            <a:off x="8953560" y="2857680"/>
            <a:ext cx="2190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做坏事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遭报应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3"/>
          <p:cNvSpPr/>
          <p:nvPr/>
        </p:nvSpPr>
        <p:spPr>
          <a:xfrm>
            <a:off x="762120" y="1428840"/>
            <a:ext cx="97678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课文讲述了尼尔斯被小精灵变成小狐仙，先后遭到鸡群嘲笑、大黑猫的羞辱、牛群的控诉以及随着雄鹅飞向蓝天的故事，文中的尼尔斯是一个调皮捣蛋、冲动莽撞、屡犯错误的少年，在经历动物们的报复以后认识到做坏事要遭到报应的道理后，逐渐转变成为一个热爱家庭，关爱他人的好少年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14"/>
          <p:cNvSpPr/>
          <p:nvPr/>
        </p:nvSpPr>
        <p:spPr>
          <a:xfrm>
            <a:off x="884160" y="452520"/>
            <a:ext cx="271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主题概括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527040" y="1473840"/>
            <a:ext cx="1094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骑鹅旅行记</a:t>
            </a:r>
            <a:r>
              <a:rPr b="0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中还有许多有趣的故事。观察下面的插图，猜猜它们讲述怎样的神奇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1584360" y="5407560"/>
            <a:ext cx="3647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鹤之舞表演大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6715080" y="5440320"/>
            <a:ext cx="3648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地狱谷的羊群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图片 8" descr=""/>
          <p:cNvPicPr/>
          <p:nvPr/>
        </p:nvPicPr>
        <p:blipFill>
          <a:blip r:embed="rId2"/>
          <a:stretch/>
        </p:blipFill>
        <p:spPr>
          <a:xfrm rot="19057200">
            <a:off x="5168880" y="5624640"/>
            <a:ext cx="447840" cy="63000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14"/>
          <p:cNvSpPr/>
          <p:nvPr/>
        </p:nvSpPr>
        <p:spPr>
          <a:xfrm>
            <a:off x="928800" y="452520"/>
            <a:ext cx="257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拓展延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155600" y="2690640"/>
            <a:ext cx="4610160" cy="2648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862680" y="2641680"/>
            <a:ext cx="45054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5"/>
          <p:cNvSpPr/>
          <p:nvPr/>
        </p:nvSpPr>
        <p:spPr>
          <a:xfrm>
            <a:off x="527040" y="1508040"/>
            <a:ext cx="1073628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带着自己的猜想，课下读一读</a:t>
            </a:r>
            <a:r>
              <a:rPr b="1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骑鹅旅行记</a:t>
            </a:r>
            <a:r>
              <a:rPr b="1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中“鹤之舞表演大会”和“地狱谷的羊群”全文。写一写读书心得，做成手抄报张贴在教室里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14"/>
          <p:cNvSpPr/>
          <p:nvPr/>
        </p:nvSpPr>
        <p:spPr>
          <a:xfrm>
            <a:off x="831960" y="549360"/>
            <a:ext cx="2576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75000"/>
                </a:solidFill>
                <a:latin typeface="幼圆"/>
                <a:ea typeface="幼圆"/>
              </a:rPr>
              <a:t>课堂演练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1060560" y="1508040"/>
            <a:ext cx="940896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一、把下面的句子改写成反问句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如果这只大雄鹅飞走，可是一个很大的损失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5632560" y="3613320"/>
            <a:ext cx="65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"/>
                <a:ea typeface="楷体"/>
              </a:rPr>
              <a:t>如果这只大雄鹅飞走，难道不是一个很大的损失吗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"/>
          <p:cNvSpPr/>
          <p:nvPr/>
        </p:nvSpPr>
        <p:spPr>
          <a:xfrm>
            <a:off x="911160" y="741240"/>
            <a:ext cx="104648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二、以前的尼尔斯经常虐待动物，捉弄妈妈，根据课文内容说一说：他变成小狐仙后他遭到了怎样的“报应”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1967040" y="2949480"/>
            <a:ext cx="796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尼尔斯遭到了鸡群的嘲笑与讽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尼尔斯遭到了大黑猫的漠视与羞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尼尔斯遭到了牛群的控诉与指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4"/>
          <p:cNvSpPr/>
          <p:nvPr/>
        </p:nvSpPr>
        <p:spPr>
          <a:xfrm>
            <a:off x="623880" y="549360"/>
            <a:ext cx="39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三、推荐阅读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4175280" y="2905920"/>
            <a:ext cx="69688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木偶奇遇记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一个贪玩、不听话，还经常撒谎的小木偶，在经过一系列的历险和小仙女的指点后，变成了一个乖巧、听话、孝顺的好孩子的匹诺曹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623880" y="1744560"/>
            <a:ext cx="334008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480960" y="3621240"/>
            <a:ext cx="6031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这些土匪是一群乌合之众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不堪一击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76200" y="1033560"/>
            <a:ext cx="6240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乌合之众：像暂时聚合的一群乌鸦。比喻临时杂凑的、毫无组织纪律的一群人。本课指男孩骂那些鸡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scnjnews.com/news/2019-08/06/8ccb223e-3529-4276-a5ac-cb3d15ea55b7_watermark.jpg"/>
          <p:cNvPicPr/>
          <p:nvPr/>
        </p:nvPicPr>
        <p:blipFill>
          <a:blip r:embed="rId2"/>
          <a:stretch/>
        </p:blipFill>
        <p:spPr>
          <a:xfrm>
            <a:off x="6767640" y="936720"/>
            <a:ext cx="428292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"/>
          <p:cNvSpPr/>
          <p:nvPr/>
        </p:nvSpPr>
        <p:spPr>
          <a:xfrm>
            <a:off x="480960" y="2975040"/>
            <a:ext cx="6031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瞧他俩得意扬扬的样子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也不知遇到了什么高兴的事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76200" y="1033560"/>
            <a:ext cx="6240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得意扬扬：形容非常得意的样子。本课指猫得意地念经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http://pic.51yuansu.com/pic3/cover/03/20/21/5b65245d4351e_610.jpg"/>
          <p:cNvPicPr/>
          <p:nvPr/>
        </p:nvPicPr>
        <p:blipFill>
          <a:blip r:embed="rId2"/>
          <a:stretch/>
        </p:blipFill>
        <p:spPr>
          <a:xfrm>
            <a:off x="6673680" y="884160"/>
            <a:ext cx="422280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527040" y="3693960"/>
            <a:ext cx="6032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朋友是在你垂头丧气时安慰你的人</a:t>
            </a:r>
            <a:r>
              <a:rPr b="0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朋友是借给你肩膀痛哭的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76200" y="1033560"/>
            <a:ext cx="668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垂头丧气：神情沮丧。形容因失败或不顺利而情绪低落、萎蘼不振的样子。本课指男孩情绪低落地从牛棚里走出来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http://cdnimg103.lizhi.fm/audio_cover/2017/05/22/2603166121257023495_320x320.jpg"/>
          <p:cNvPicPr/>
          <p:nvPr/>
        </p:nvPicPr>
        <p:blipFill>
          <a:blip r:embed="rId2"/>
          <a:stretch/>
        </p:blipFill>
        <p:spPr>
          <a:xfrm>
            <a:off x="7343640" y="117936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008000" y="933480"/>
            <a:ext cx="1008072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示弱：表示自己软弱，不敢同对方较量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跃跃欲试：跃跃，急于要行动的样子；欲，要。形容急切地想试试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九牛二虎之力：九头牛与两只虎的力气的相加。形容很大的力量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/>
  <dc:description/>
  <dc:language>en-US</dc:language>
  <cp:lastModifiedBy>微软用户</cp:lastModifiedBy>
  <dcterms:modified xsi:type="dcterms:W3CDTF">2021-03-01T08:30:30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64</vt:lpwstr>
  </property>
</Properties>
</file>