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238-6AA5-4C41-852F-194D39CB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DE8-8ED4-49DC-9754-BADB194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5F13-6EB5-4998-8F60-704F251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DEB2-2A77-47CC-A855-990937D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1156-CC60-4CE4-86AD-DD6A393F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F34A-B1A6-4140-9053-D6409CA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EBB36-AACF-4764-B3BF-BA96AE8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E621-99B8-4DDE-A6AD-33AA1D2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D364-175A-47B3-8073-A519611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CF1F-7407-4EA8-9BAE-0514844A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B0D92-E0D2-4086-AF19-1F002FB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89359-2638-4889-8A58-9D8CC43B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684-B3E6-4A14-9249-F3AE50C8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2E37E-ED2C-4C7A-B514-2658968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9A088-F73F-49E0-AB95-DE50A08A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F5C62-143F-4A7F-9C8F-5B2A51A2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ADA46-C79F-4CC5-83DF-8AA29A8E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166ED-ABA7-438C-9C8C-0542496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A1A2-6143-4CEA-BBA5-A6CF283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0CD4-49C2-48CF-A976-D8D048C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B9F20-3A45-4C6B-984F-493094C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65F66-D605-479F-A701-9F430DA3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23081-2D1B-4488-8860-88325BAA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062-670A-428A-9996-A075304A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53BA5-D371-45B7-90FB-C258D1C6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E888-C9E3-4996-AB1F-2FAB9D80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78441-3759-40C8-B8C5-C64FDA0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A9740-1C45-4284-B92F-965CD280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66200-6172-45CB-A3F8-6AF4B4EA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AD800-609B-4D6C-B7F2-DC8B8C8F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CE3E-EC7A-4008-9971-64BE98D6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8501D-A947-411F-9997-4047044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4A42-68AD-458F-B4DF-C9C4F6C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0FAEF-73FB-4A86-8E1C-38ABAF0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FBF8-513E-4AD2-B7EE-80CD0B08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4D4B-234C-49D8-BDE4-853D0274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EA1F-752C-45DB-86B8-B9671C9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9699-5607-415D-8A3C-17B7A93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16719-E03C-435F-BAB7-C330D318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A5B8D-5031-45C8-A440-EC8A797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90DF9-AD6A-4DB5-813D-E0DBFA8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C4CB-8EA3-4018-83EF-DC18FCAD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8F7E-67FE-4699-99B5-9427A01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05421-9FDB-414A-8C12-30CE8C66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73312-F5FE-45FF-A9EA-E50D82A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0B9-1CD1-453C-96EB-11A3C0FF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66A58-5A38-47B6-8017-B77FBB8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76377-3A37-4D2E-B225-AE52561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BB80E-8D88-4E75-8B8C-0B05115D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E8B4C-6F80-4523-912F-7D85A0B7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FB598-22E4-44AD-B4D4-BB65FEF9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C5AD2-69B6-4D9A-B988-138D8F09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5D35F-73AD-464E-9E48-B1563A4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B0C53-2FE6-4A41-A2B1-2D5A9C9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332E0-FBF9-4B21-B5A8-2FC1951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BF92-9D7E-4EB9-B596-050D4346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9137-FECC-4249-ABD2-758B9972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1705A-28E8-4CC0-98ED-7A67431A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5A488-168A-4448-AEEF-778F780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508FC-0F35-46D7-861F-5F14702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DA630-0622-4594-A8E3-F3C8825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3C655-CFBC-4BCF-8B55-9F1E42DA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6CB64-E7D5-4962-9813-75D5F31A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7F2DF-A012-45F7-8497-EFD0E776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1A31-35FA-4C2C-AC7B-D368942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ADCF-E2B5-4376-8909-2EC2CDFD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24AE-A359-4509-9F0E-7EFEDF7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048-862C-4DBD-8626-C7B11BE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A82-58A8-4467-9D76-25C4A08B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6753-D06A-4299-9C64-94AD22A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DEB9-3214-4A36-B02A-5B0E58F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263-0C0D-4018-A3C0-5185B0D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B6F-6FBE-4372-90FC-65AC95FF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056C-678A-4D73-9E6B-EDAEFD4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042A-6002-4247-A5A0-53C51D11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D4B4-C59A-4866-8FCD-C8440BB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76FA-B786-48C6-BFA5-B346F323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95CE-1790-4700-9BD6-450C32C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4391-608B-413F-B20A-A5A44D5A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050-54C8-4FB3-862D-86754E2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FA5C-EE4F-4796-AF81-86D028CC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BF6E-C1CA-4E1E-8F65-D27B5AE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57CA-0F25-4E62-B368-3758CF8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6B25-1F9C-463B-B1FA-E354AF3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CE67-E93A-483E-BEC9-5A7833E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F8D2-0E13-4F7C-8358-C21B469E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5678-87F9-4795-9FE4-B0AB4AEC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0B44-FD40-48BE-A3D7-F101BA88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34A3-FB39-422B-90E4-E9BC2EF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2C6B-CFFB-4D33-9D07-9603F144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4CF-6E3D-46C5-819B-651A7F15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8137-6E2D-4C3C-82EA-3FA0FDD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5293-3702-4C14-94D2-03A6757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9C29-84D9-4D25-9608-20FB56B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55A2-46A9-4569-8027-9FC982D6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F741-6D21-4DE1-AD6F-00D1811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2F51-5113-40CE-BBA8-86099049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0891-C51D-4F0E-A369-7F0BACE5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F1343-C860-4126-B818-3DC36A4F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A43E-8FCA-4326-8277-5927AC8C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F476-057F-4167-8E4A-AE460E78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B82-100D-4386-A9FD-67C3E3D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DB4C-44EB-4D59-8424-C3E2F2AE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617F-0729-499D-811B-D8917BB4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B2A8-1120-4CEB-B52D-86761A3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2C84-B6E2-4473-BD76-772FC51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C0D6-94D4-409D-BF41-224D3F12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542A-C4C4-4C48-969D-D1C5F2C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787A-6B23-4261-813A-60D2812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F363-7744-4F9D-B714-CD5BE988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6A25-EAF4-4114-9242-F1B289ED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4887-BCB8-43C3-933A-5FD2943B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A3F-2B5E-4504-A2C1-89FF0A9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DA62-6FB2-427A-86A6-60F0B081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5B95-C705-4AF5-8931-A9489AAC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520A-AB44-4A91-B488-AA09A04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1741-3650-4C3E-BB70-445F508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3604-D9C2-466F-A891-B92B269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F2796-EF56-4104-9DB0-F691638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DD18-D302-417C-9F3C-343E6D95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DC03-22C6-49F6-8389-8C2E552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0F32-FE91-4235-8228-D4AC76B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6EB9-8E7D-4341-9CF5-F620B5E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EF2-6E5E-43B9-B1F4-F5B88F33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06A9-0224-48A5-B367-732D529F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6CDB-6E00-4985-9B75-B6566FE1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8E7E-A1D1-41AB-99E4-D8A56E6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44D7-44DE-4FA1-B705-81A5134C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7A35-B619-4DFB-ABC2-46229638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EE4B-C00A-414D-8077-9C95470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014C4-1492-4515-A105-7D2AEA5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D7D6-0F2E-4245-B7EF-2C82D14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0138D-FA72-4EC8-BD80-84529CB3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AAA0-4B8A-41B6-AC34-6923B16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D0B-1410-4CF4-9FDE-E96CCD5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E29E-46FC-47DF-A232-50BFE62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65BC-EB9D-4F9E-9CA8-193902F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FEE2-73D9-4D40-A273-8B6DFC4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011F-BBEB-48DD-892A-B23B11A3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0169F-E403-45B4-A73A-4FA7B772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8361-F07A-4F70-83D0-334A7D29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64C7-6418-4975-8E6B-F7367A4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69906-B773-438B-BE60-33657FD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DC15-2EEF-49D0-8142-1CC8162B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DC04-981C-49B8-B7D4-8AAF56E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A4A-9E6B-461A-A14C-3CE0041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9AE4-35ED-4EF7-8910-0325D11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F5D6-39FA-4884-B5B2-E20F61A0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5EE3-67C9-4653-AB13-ABF647E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6CDBA-BA3B-48F8-83FB-8C0C266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E1959-B043-4824-BD82-509A570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9B58-8200-4381-A4C8-25B70BCC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F3FA-E825-40C6-A0A7-E9E96648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B49CE-00AE-4F99-B982-984CFCFD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060EB-503D-4FBD-A6C4-F5EBB8A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1F685-6404-4FF2-8E31-C3FA48F1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FE4-D8C9-47E6-B3B5-E7B1A2BBC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82B-23D6-4724-909B-E310161162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A56B-8F39-424E-B073-D25359655F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7D9-AFD6-46A2-A098-E5647D50FF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EF7-1013-4F69-BEFF-7B5A0E8543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06C-94D7-4641-9A7F-40F7B46388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1CF-B5B6-4EA3-BCA2-081580A60F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EFA-901F-423A-8C72-7F08A1A19D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AA1-45B4-49A0-860D-E9256CCB47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F411-C0E4-4D23-B8A0-2D5662854C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40A-15EB-43A4-90F2-2AC096FE30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244-BF2E-4EC5-B126-3CC95CC3F2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1C2-B1A4-4792-BDA2-70CA81289C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26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1028"/>
          <p:cNvSpPr txBox="1"/>
          <p:nvPr/>
        </p:nvSpPr>
        <p:spPr>
          <a:xfrm>
            <a:off x="934920" y="2060640"/>
            <a:ext cx="72741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雷锋叔叔，你在哪里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6" name="ѧϰ׷ð.mp3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537" name="矩形 7"/>
          <p:cNvSpPr/>
          <p:nvPr/>
        </p:nvSpPr>
        <p:spPr>
          <a:xfrm>
            <a:off x="4097160" y="5877000"/>
            <a:ext cx="94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4055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窝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迈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4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荆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棘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4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瓣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莹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4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觅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需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4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4" descr="3_60-4-49-223_2003030117361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年中秋节，雷锋把部队给他的节日食品送到医院，慰问伤病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2" descr="3_60-4-49-223_20030301173825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3663000" y="6199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雷锋帮一位不识路的大娘找到了她的儿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20052281146221"/>
          <p:cNvPicPr/>
          <p:nvPr/>
        </p:nvPicPr>
        <p:blipFill>
          <a:blip r:embed="rId1"/>
          <a:stretch/>
        </p:blipFill>
        <p:spPr>
          <a:xfrm>
            <a:off x="539640" y="476280"/>
            <a:ext cx="4361040" cy="5545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20052281544171"/>
          <p:cNvPicPr/>
          <p:nvPr/>
        </p:nvPicPr>
        <p:blipFill>
          <a:blip r:embed="rId2"/>
          <a:stretch/>
        </p:blipFill>
        <p:spPr>
          <a:xfrm>
            <a:off x="5076720" y="126828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6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2208240" y="1066680"/>
            <a:ext cx="520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沿着长长的小溪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寻找雷锋的足迹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雷锋叔叔，你在哪里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你在哪里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4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514440" y="106668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1944360" y="561960"/>
            <a:ext cx="504216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小溪说：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昨天，他曾路过这里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抱着迷路的孩子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冒着蒙蒙的细雨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瞧，那泥泞路上的脚窝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</a:rPr>
              <a:t>就是他留下的足迹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468360" y="69228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溪（    ）地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昨天，他曾路过这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抱着迷路的孩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冒着蒙蒙的细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瞧，那泥泞路上的脚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就是他留下的足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79000" y="120600"/>
            <a:ext cx="22957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céng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972240" y="120240"/>
            <a:ext cx="228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nìng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802080" y="837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曾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937320" y="837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泥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382160" y="43920"/>
            <a:ext cx="163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wō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7088760" y="837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脚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3099600" y="2077920"/>
            <a:ext cx="250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jīngjí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3937320" y="29494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荆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1222920" y="2198520"/>
            <a:ext cx="198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mài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771840" y="29336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年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4412160" y="4255920"/>
            <a:ext cx="12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m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3985200" y="5006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寻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7292880" y="2122560"/>
            <a:ext cx="198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bàn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1082880" y="4255920"/>
            <a:ext cx="221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yíng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6066360" y="4159080"/>
            <a:ext cx="121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x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7096680" y="29336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花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1076760" y="5083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晶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6563160" y="4930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需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2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2135160" y="3429000"/>
            <a:ext cx="18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30400" y="838080"/>
            <a:ext cx="2771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沿着长长的小溪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寻找雷锋的足迹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雷锋叔叔，你在哪里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你在哪里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3019320" y="3219480"/>
            <a:ext cx="30304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小溪说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昨天，他曾路过这里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抱着迷路的孩子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冒着蒙蒙的细雨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瞧，那泥泞路上的脚窝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就是他留下的足迹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2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3"/>
          <p:cNvSpPr/>
          <p:nvPr/>
        </p:nvSpPr>
        <p:spPr>
          <a:xfrm>
            <a:off x="2208240" y="1066680"/>
            <a:ext cx="520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顺着弯弯的小路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寻找雷锋的足迹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雷锋叔叔，你在哪里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你在哪里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2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2322000" y="838080"/>
            <a:ext cx="548424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小路说：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昨天，他曾路过这里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背着年迈的大娘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踏着路上的荆棘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瞧，那花瓣上晶莹的露珠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就是他洒下的汗滴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324000" y="476280"/>
            <a:ext cx="86104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小路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(           )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地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昨天，他曾路过这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背着年迈的大娘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踏着路上的荆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瞧，那花瓣上晶莹的露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就是他洒下的汗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2097000" y="3352680"/>
            <a:ext cx="18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2187720" y="65736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2930400" y="762120"/>
            <a:ext cx="2771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顺着弯弯的小路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寻找雷锋的足迹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雷锋叔叔，你在哪里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你在哪里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105000" y="3200400"/>
            <a:ext cx="32896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小路说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昨天，他曾路过这里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背着年迈的大娘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踏着路上的荆棘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瞧，那花瓣上晶莹的露珠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  <a:ea typeface="黑体"/>
              </a:rPr>
              <a:t>就是他洒下的汗滴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3_60-4-49-223_20030301182120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2305080" y="1338120"/>
            <a:ext cx="47466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乘着温暖的春风，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四处寻觅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啊，终于找到了</a:t>
            </a:r>
            <a:r>
              <a:rPr b="1" lang="en-US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—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哪里需要献出爱心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00"/>
                </a:solidFill>
                <a:latin typeface="Times New Roman"/>
                <a:ea typeface="黑体"/>
              </a:rPr>
              <a:t>雷锋叔叔就出现在哪里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2" descr="背景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304920" y="2270160"/>
            <a:ext cx="8534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弯的小路   长长的小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蒙蒙的细雨   温暖的春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晶莹的露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WordArt 4"/>
          <p:cNvSpPr txBox="1"/>
          <p:nvPr/>
        </p:nvSpPr>
        <p:spPr>
          <a:xfrm>
            <a:off x="1752480" y="380880"/>
            <a:ext cx="49532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433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瞧，我会读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2" descr="背景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3"/>
          <p:cNvSpPr/>
          <p:nvPr/>
        </p:nvSpPr>
        <p:spPr>
          <a:xfrm>
            <a:off x="533520" y="685800"/>
            <a:ext cx="8001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需要献出爱心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雷锋叔叔就出现在哪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WordArt 4"/>
          <p:cNvSpPr txBox="1"/>
          <p:nvPr/>
        </p:nvSpPr>
        <p:spPr>
          <a:xfrm>
            <a:off x="914400" y="3886200"/>
            <a:ext cx="6705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5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这句话什么意思？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611280" y="33336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识字加油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900000" y="177336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雷锋 叔叔 曾经 冒着泥泞 脚窝 足迹 年迈 荆棘 花瓣 晶莹 洒下汗滴 寻觅 需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09480" y="819000"/>
            <a:ext cx="647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1743480" y="117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曾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986640" y="117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泥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814760" y="2322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脚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1814760" y="3465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荆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4024800" y="2322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年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4"/>
          <p:cNvSpPr/>
          <p:nvPr/>
        </p:nvSpPr>
        <p:spPr>
          <a:xfrm>
            <a:off x="6069600" y="23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寻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8"/>
          <p:cNvSpPr/>
          <p:nvPr/>
        </p:nvSpPr>
        <p:spPr>
          <a:xfrm>
            <a:off x="3986640" y="3465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花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9"/>
          <p:cNvSpPr/>
          <p:nvPr/>
        </p:nvSpPr>
        <p:spPr>
          <a:xfrm>
            <a:off x="6069600" y="348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晶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0"/>
          <p:cNvSpPr/>
          <p:nvPr/>
        </p:nvSpPr>
        <p:spPr>
          <a:xfrm>
            <a:off x="6069600" y="1179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需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6"/>
          <p:cNvSpPr/>
          <p:nvPr/>
        </p:nvSpPr>
        <p:spPr>
          <a:xfrm>
            <a:off x="2843280" y="141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moban/   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han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gy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jieri/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beijing/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/x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iazai/        PPT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powerpoi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nt/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word/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 Ex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cel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ziliao/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         PPT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f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anwe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n/            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/j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iao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djz_46"/>
          <p:cNvPicPr/>
          <p:nvPr/>
        </p:nvPicPr>
        <p:blipFill>
          <a:blip r:embed="rId1"/>
          <a:stretch/>
        </p:blipFill>
        <p:spPr>
          <a:xfrm>
            <a:off x="1187280" y="692280"/>
            <a:ext cx="6912000" cy="45813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3276720" y="522936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泥泞的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2" descr="200184145-001"/>
          <p:cNvPicPr/>
          <p:nvPr/>
        </p:nvPicPr>
        <p:blipFill>
          <a:blip r:embed="rId1"/>
          <a:stretch/>
        </p:blipFill>
        <p:spPr>
          <a:xfrm>
            <a:off x="5076720" y="907920"/>
            <a:ext cx="3382920" cy="41054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971640" y="5300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年迈的大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5508720" y="5373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荆     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5" descr="TUEA100C"/>
          <p:cNvPicPr/>
          <p:nvPr/>
        </p:nvPicPr>
        <p:blipFill>
          <a:blip r:embed="rId2"/>
          <a:stretch/>
        </p:blipFill>
        <p:spPr>
          <a:xfrm>
            <a:off x="755640" y="907920"/>
            <a:ext cx="3311640" cy="410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609480" y="819000"/>
            <a:ext cx="647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047320" y="837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4290480" y="837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2118600" y="1980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2118600" y="3124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328640" y="1981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6255720" y="3141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4290480" y="3124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4237920" y="4365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6309720" y="2043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</a:rPr>
              <a:t>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6156360" y="873000"/>
            <a:ext cx="102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曾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泞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25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2360520" y="1773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锋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380196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</a:rPr>
              <a:t>叔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4" descr="女孩头像1"/>
          <p:cNvPicPr/>
          <p:nvPr/>
        </p:nvPicPr>
        <p:blipFill>
          <a:blip r:embed="rId1"/>
          <a:stretch/>
        </p:blipFill>
        <p:spPr>
          <a:xfrm>
            <a:off x="4211640" y="83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4:56:53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4-11-05T06:22:03Z</dcterms:modified>
  <cp:revision>48</cp:revision>
  <dc:subject>第一PPT模板网-WWW.1PPT.COM</dc:subject>
  <dc:title>第一PPT模板网-WWW.1PPT.COM</dc:title>
</cp:coreProperties>
</file>