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1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4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9F5A-7761-4E76-835E-127E52B910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E1DC-B492-4097-8FA5-3C81942FF21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C4E-5C6B-4BB1-A3F6-548F4A48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B6D-CC4D-4F55-8E0A-C2A10F0C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2EE-9D9F-48A0-BEC4-567BAEE8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185-16C5-47F0-8C12-90BD0B5A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088D-40A9-4EC1-B02A-DF8AB078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132B-AB02-4D00-A5AC-CDF7830E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D6AB-DE4C-43FE-874A-3729DEE8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DCC2-A4D6-4D0C-8597-84071B6C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7BD0-53A4-4FC0-937C-8E256B7A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3A0F-B599-4519-8FC1-389F77A0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ED62-1235-4EB3-B3B8-C253C32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FB2-F8A9-4D0B-B739-DD38B9DB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FF07-F36C-4AE3-A2FA-7CD734F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41BB-8265-4462-9C15-74F6A5DE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8610-DDDF-4745-B643-EDD2623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B5B0-4B88-4B50-954E-3BC173A7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E2DC-ED8E-49A8-8CA0-BA43F96C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521-C8C3-427F-B791-F4A56BC6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318-B79A-43C2-BC7C-950D0F6C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C3A-891B-4205-8D99-A19071EE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19A-A1F5-47E3-A46E-E51F0256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D29-B7E1-45BE-BA73-7A9EC5B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91B-1CE6-408D-BC3F-34A08194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96C-9164-479E-A41D-6643CC6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8D6A-6873-40F8-B2DB-AD008477F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7D5-FEDF-464F-A3F9-DF9A2724E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929120" y="25002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华文琥珀"/>
                <a:ea typeface="华文琥珀"/>
              </a:rPr>
              <a:t> </a:t>
            </a:r>
            <a:r>
              <a:rPr b="0" lang="zh-CN" sz="5400" spc="-1" strike="noStrike">
                <a:solidFill>
                  <a:srgbClr val="ff9900"/>
                </a:solidFill>
                <a:latin typeface="华文琥珀"/>
                <a:ea typeface="华文琥珀"/>
              </a:rPr>
              <a:t>金色的鱼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000760" y="385776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小学语文第十二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1260360" y="1628640"/>
            <a:ext cx="662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课文中几次描写了老班长的外貌，从课文中摘录出描写老班长外貌的语句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1332000" y="2637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次：炊事班长快四十岁了，个儿挺高，背有点驮，四方脸，高颧骨，脸上布满皱纹，两鬓都斑白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说明了： 这时的炊事班长饱经风霜，然而可敬可亲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二次：他那十分严峻的布满红丝的眼睛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说明了：日夜为小战士们操劳，睡眠不足，老班长的眼里布满了红丝，但丝毫不影响他照顾小红军，表现了他对工作的高度负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7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41"/>
          <p:cNvSpPr/>
          <p:nvPr/>
        </p:nvSpPr>
        <p:spPr>
          <a:xfrm>
            <a:off x="1835280" y="1916280"/>
            <a:ext cx="5759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课文几次写到了喝鱼汤？每次分别是什么情景？从中看出老班长具有怎样的闪光品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042"/>
          <p:cNvSpPr/>
          <p:nvPr/>
        </p:nvSpPr>
        <p:spPr>
          <a:xfrm>
            <a:off x="2050920" y="3645000"/>
            <a:ext cx="58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这些情景充分体现了老班长忠于党，忠于革命，舍己为人的崇高品质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836720" y="188604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什么说“在这个长满了红锈的鱼钩上，闪烁着灿烂的金色的光芒！”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46200" y="2924280"/>
            <a:ext cx="6626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因为这鱼钩是老班长用来钓鱼给他们吃的，让他们维持生命走出草地的遗物；鱼钩虽然长满了红锈，但老班长舍己为人的革命精神却永远放光芒。小梁把鱼钩小心地包起来，是为了让子孙后代瞻仰革命前辈的遗物，受到革命传统教育，同时也表达了小梁自己永远向老班长学习的决心。最后这句话点明了文章的主题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1905120" y="2060640"/>
            <a:ext cx="6019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长征途中这样的感人故事还很多很多。课外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倔强的小红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来读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1" descr="8"/>
          <p:cNvPicPr/>
          <p:nvPr/>
        </p:nvPicPr>
        <p:blipFill>
          <a:blip r:embed="rId2"/>
          <a:stretch/>
        </p:blipFill>
        <p:spPr>
          <a:xfrm>
            <a:off x="3348000" y="335772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金色的鱼钩之草地"/>
          <p:cNvPicPr/>
          <p:nvPr/>
        </p:nvPicPr>
        <p:blipFill>
          <a:blip r:embed="rId1"/>
          <a:stretch/>
        </p:blipFill>
        <p:spPr>
          <a:xfrm>
            <a:off x="1547640" y="2060640"/>
            <a:ext cx="6046920" cy="4048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1258920" y="76500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1919"/>
                </a:solidFill>
                <a:latin typeface="华文新魏"/>
                <a:ea typeface="华文新魏"/>
              </a:rPr>
              <a:t>红军长征中跋涉的草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8" descr="党徽"/>
          <p:cNvPicPr/>
          <p:nvPr/>
        </p:nvPicPr>
        <p:blipFill>
          <a:blip r:embed="rId2"/>
          <a:stretch/>
        </p:blipFill>
        <p:spPr>
          <a:xfrm>
            <a:off x="468360" y="549360"/>
            <a:ext cx="127008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:\资源库\9－5\18\媒体素材\课件类\红军当年从这里过草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209680" y="425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红军当年从这里过草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D:\资源库\9－5\18\媒体素材\课件类\《长征》剧照——过草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276720" y="6019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红军过草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D:\资源库\9－5\18\媒体素材\课件类\《长征》剧照——过草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3276720" y="6019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红军过草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矩形 3" descr=""/>
          <p:cNvPicPr/>
          <p:nvPr/>
        </p:nvPicPr>
        <p:blipFill>
          <a:blip r:embed="rId1"/>
          <a:stretch/>
        </p:blipFill>
        <p:spPr>
          <a:xfrm>
            <a:off x="2286000" y="2090880"/>
            <a:ext cx="406548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5"/>
                </a:solidFill>
                <a:latin typeface="Times New Roman"/>
                <a:ea typeface="华文隶书"/>
              </a:rPr>
              <a:t>金色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的鱼钩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737712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革命回忆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金色的鱼钩"/>
          <p:cNvPicPr/>
          <p:nvPr/>
        </p:nvPicPr>
        <p:blipFill>
          <a:blip r:embed="rId1"/>
          <a:stretch/>
        </p:blipFill>
        <p:spPr>
          <a:xfrm>
            <a:off x="539640" y="404640"/>
            <a:ext cx="4321440" cy="590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党旗"/>
          <p:cNvPicPr/>
          <p:nvPr/>
        </p:nvPicPr>
        <p:blipFill>
          <a:blip r:embed="rId2"/>
          <a:stretch/>
        </p:blipFill>
        <p:spPr>
          <a:xfrm>
            <a:off x="6012000" y="4529160"/>
            <a:ext cx="2193840" cy="1438200"/>
          </a:xfrm>
          <a:prstGeom prst="rect">
            <a:avLst/>
          </a:prstGeom>
          <a:ln w="0">
            <a:noFill/>
          </a:ln>
        </p:spPr>
      </p:pic>
      <p:pic>
        <p:nvPicPr>
          <p:cNvPr id="95" name="17金色的鱼钩_0.mp3" descr=""/>
          <p:cNvPicPr/>
          <p:nvPr/>
        </p:nvPicPr>
        <p:blipFill>
          <a:blip r:embed="rId3"/>
          <a:stretch/>
        </p:blipFill>
        <p:spPr>
          <a:xfrm>
            <a:off x="8572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86080" y="571680"/>
            <a:ext cx="265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幼圆"/>
              </a:rPr>
              <a:t>学习生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57120" y="2133720"/>
            <a:ext cx="8406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搪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瓷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收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奄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奄一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90920" y="457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读读下列词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1752480"/>
            <a:ext cx="822960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胃病 队伍 炊事班 颧骨 皱纹 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青稞 合不拢 鱼汤 碗筷 喉管 支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弥漫 熬过 鱼饵 蚯蚓 情绪 拧成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疙瘩 搀扶 毅力 俯身 粗糙 抽噎 衣兜 瞻仰 红锈 闪烁 塞了铅块  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r05"/>
          <p:cNvPicPr/>
          <p:nvPr/>
        </p:nvPicPr>
        <p:blipFill>
          <a:blip r:embed="rId2"/>
          <a:stretch/>
        </p:blipFill>
        <p:spPr>
          <a:xfrm>
            <a:off x="971640" y="2349360"/>
            <a:ext cx="2341440" cy="3911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708360" y="1700280"/>
            <a:ext cx="46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这个奇迹的背后，是红军战士历尽的千难万险，是无数可歌可泣的感人故事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金色的鱼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就是其中之一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2" descr="小学语文(记叙文）01"/>
          <p:cNvPicPr/>
          <p:nvPr/>
        </p:nvPicPr>
        <p:blipFill>
          <a:blip r:embed="rId1"/>
          <a:stretch/>
        </p:blipFill>
        <p:spPr>
          <a:xfrm>
            <a:off x="857160" y="2142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0"/>
          <p:cNvSpPr/>
          <p:nvPr/>
        </p:nvSpPr>
        <p:spPr>
          <a:xfrm>
            <a:off x="1143000" y="785880"/>
            <a:ext cx="734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长征是世界军事历史上的一个伟大奇迹──一个由伟大的中国工农红军创造的奇迹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jsdyg_cz.mpg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778680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2438280" y="644400"/>
            <a:ext cx="434340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用较快的速度读课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09480" y="1822320"/>
            <a:ext cx="8001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默读课文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课文主要讲了一件什么事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理清课文的叙述顺序，各部分主要讲了什么内容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再读课文，什么地方最能打动你，从中你感受到了什么？有感情地读一读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说说你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这个长满了红锈的鱼钩上，闪烁着灿烂的金色的光芒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句话的理解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8"/>
          <p:cNvSpPr/>
          <p:nvPr/>
        </p:nvSpPr>
        <p:spPr>
          <a:xfrm>
            <a:off x="3200400" y="501480"/>
            <a:ext cx="26668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金色的鱼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362320" y="1523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闪烁着灿烂的光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92120" y="3657600"/>
            <a:ext cx="10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班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676520" y="27432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057400" y="2514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肩负重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57400" y="3048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弯钩钓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057400" y="3595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钓鱼不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057400" y="4129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安定情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57400" y="46623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困难重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2057400" y="51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壮烈牺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20"/>
          <p:cNvGrpSpPr/>
          <p:nvPr/>
        </p:nvGrpSpPr>
        <p:grpSpPr>
          <a:xfrm>
            <a:off x="4876920" y="2514600"/>
            <a:ext cx="3429000" cy="2209680"/>
            <a:chOff x="4876920" y="2514600"/>
            <a:chExt cx="3429000" cy="2209680"/>
          </a:xfrm>
        </p:grpSpPr>
        <p:sp>
          <p:nvSpPr>
            <p:cNvPr id="119" name="AutoShape 18"/>
            <p:cNvSpPr/>
            <p:nvPr/>
          </p:nvSpPr>
          <p:spPr>
            <a:xfrm>
              <a:off x="4876920" y="2514600"/>
              <a:ext cx="3429000" cy="2209680"/>
            </a:xfrm>
            <a:prstGeom prst="wedgeRoundRectCallout">
              <a:avLst>
                <a:gd name="adj1" fmla="val -74212"/>
                <a:gd name="adj2" fmla="val 85273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19"/>
            <p:cNvSpPr/>
            <p:nvPr/>
          </p:nvSpPr>
          <p:spPr>
            <a:xfrm>
              <a:off x="5105520" y="2742840"/>
              <a:ext cx="2895840" cy="1191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忠于革命    忠于党        舍己为人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8"/>
          <p:cNvSpPr/>
          <p:nvPr/>
        </p:nvSpPr>
        <p:spPr>
          <a:xfrm>
            <a:off x="457200" y="914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假如你是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革命烈士纪念馆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的解说员，你怎样向前来参观的人介绍金色的鱼钩的故事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293688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条理要清楚，讲清鱼钩的来历以及围绕鱼钩所发生的故事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注意把课文感人的场面说出来，体现出人物的思想感情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注意用口语讲述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1:20:35Z</dcterms:created>
  <dc:creator>wangliping</dc:creator>
  <dc:description/>
  <dc:language>en-US</dc:language>
  <cp:lastModifiedBy>微软用户</cp:lastModifiedBy>
  <dcterms:modified xsi:type="dcterms:W3CDTF">2010-04-24T03:55:52Z</dcterms:modified>
  <cp:revision>20</cp:revision>
  <dc:subject/>
  <dc:title>PowerPoint 演示文稿</dc:title>
</cp:coreProperties>
</file>