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8.jpeg" ContentType="image/jpeg"/>
  <Override PartName="/ppt/media/image10.jpeg" ContentType="image/jpeg"/>
  <Override PartName="/ppt/media/image16.gif" ContentType="image/gif"/>
  <Override PartName="/ppt/media/image17.png" ContentType="image/png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2.jpeg" ContentType="image/jpeg"/>
  <Override PartName="/ppt/media/image4.gif" ContentType="image/gi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2F1-D673-4162-B572-DC5E93A7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F42-55D6-4719-B02D-C8943671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874-FB64-4842-834F-0980D4AA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7B7-9707-42A5-BFA2-29CDEE5E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17E-B043-4094-A43A-2F7D2318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3DC-701D-4741-9022-C0267106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249-2F80-4233-A1A9-64929B51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8CE-4F5D-4E45-8057-2336F025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CD1-A711-49E5-AE63-CCFD1B22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38A-94B4-4A85-B234-A4960C62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943-0030-4F93-9EDB-6FAE04B8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EE1-198C-4ACB-AB91-7C3B2968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5570-ED74-4C3E-A11E-3ABBB23E43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.pn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1341360"/>
            <a:ext cx="5143320" cy="18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2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金色的鱼钩</a:t>
            </a:r>
            <a:endParaRPr b="1" lang="en-US" sz="8000" spc="1" strike="noStrike">
              <a:ln w="1260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4292640"/>
            <a:ext cx="324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六年级  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执教者：高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2800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3500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476280"/>
            <a:ext cx="7777080" cy="2684520"/>
          </a:xfrm>
          <a:prstGeom prst="rect">
            <a:avLst/>
          </a:prstGeom>
          <a:gradFill rotWithShape="0">
            <a:gsLst>
              <a:gs pos="0">
                <a:srgbClr val="333399">
                  <a:alpha val="70196"/>
                </a:srgbClr>
              </a:gs>
              <a:gs pos="50000">
                <a:srgbClr val="3366ff">
                  <a:alpha val="70196"/>
                </a:srgbClr>
              </a:gs>
              <a:gs pos="100000">
                <a:srgbClr val="333399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中宋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中宋"/>
              </a:rPr>
              <a:t>当我俯下身子，把鱼汤送到老班长嘴边的时候，老班长已经奄奄一息了。他微微地睁开眼睛，看见我端着的鱼汤头一句话就说：“小梁别浪费东西了。我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中宋"/>
              </a:rPr>
              <a:t>我不行啦。你们吃吧！还有二十多里路，吃完了，一定要走出草地去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中宋"/>
              </a:rPr>
              <a:t>      “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中宋"/>
              </a:rPr>
              <a:t>老班长，你吃啊！我们抬也要把你抬出草地去！”我几乎要哭出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中宋"/>
              </a:rPr>
              <a:t>      “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中宋"/>
              </a:rPr>
              <a:t>不，你们吃吧。你们一定要走出草地去！见着指导员，告诉他，我没有完成党交给我的任务，没把你们照顾好。看，你们都瘦得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中宋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中宋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中宋"/>
              </a:rPr>
              <a:t>老班长用粗糙的手抚摸我的头。突然间，他的手垂了下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中宋"/>
              </a:rPr>
              <a:t>      “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中宋"/>
              </a:rPr>
              <a:t>老班长！老班长！”我们叫起来。但是老班长，他，他的眼睛慢慢地闭上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172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213372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你是怎样理解“在这个长满了红锈的鱼钩上，闪烁着灿烂的金色的光芒”这句话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4653000"/>
            <a:ext cx="4033800" cy="1431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87280" y="10526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华康简黑"/>
              </a:rPr>
              <a:t>小组合作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16000" y="213372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小小的鱼钩象征着老班长那忠于革命，终于人民，舍己为人的心灵，也象征着千百万革命前辈的英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43280" y="4653000"/>
            <a:ext cx="4033800" cy="1431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32000" y="836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康简黑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华康简黑"/>
              </a:rPr>
              <a:t>灿烂的金色的光芒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康简黑"/>
              </a:rPr>
              <a:t>指老班长崇高的品质和伟大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5184720" cy="2590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608360" cy="4608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217440"/>
            <a:ext cx="612144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长  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红军不怕远征难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万水千山只等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五岭逶迤腾细浪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乌蒙磅礴走泥丸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金沙水拍云崖暖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大渡桥横铁索寒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更喜岷山千里雪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三军过后尽开颜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88508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043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5184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608360" cy="4608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217440"/>
            <a:ext cx="612144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长  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红军不怕远征难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万水千山只等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五岭逶迤腾细浪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乌蒙磅礴走泥丸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金沙水拍云崖暖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大渡桥横铁索寒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更喜岷山千里雪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三军过后尽开颜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88508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0430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1700280"/>
            <a:ext cx="698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用比较快的速度默读课文，注意入眼看得快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入脑想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思考：课文主要讲了一件什么事？把和题目有关的句子找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9810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华文新魏"/>
              </a:rPr>
              <a:t>初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35280" y="1484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1628640"/>
            <a:ext cx="676908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华文新魏"/>
              </a:rPr>
              <a:t>在这个长满了红锈的鱼钩上，闪烁着灿烂的金色的光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58920" y="3313080"/>
            <a:ext cx="230040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6000" y="213372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你是怎样理解“在这个长满了红锈的鱼钩上，闪烁着灿烂的金色的光芒”这句话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43280" y="4653000"/>
            <a:ext cx="4033800" cy="143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7280" y="10526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华康简黑"/>
              </a:rPr>
              <a:t>小组合作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484360" y="333360"/>
            <a:ext cx="2971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18</a:t>
            </a:r>
            <a:r>
              <a:rPr b="1" lang="zh-CN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、金色的鱼钩</a:t>
            </a:r>
            <a:endParaRPr b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172360" y="476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16000" y="1916280"/>
            <a:ext cx="2376360" cy="785880"/>
          </a:xfrm>
          <a:prstGeom prst="rect">
            <a:avLst/>
          </a:prstGeom>
          <a:solidFill>
            <a:srgbClr val="deded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外貌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1692360" y="2924280"/>
            <a:ext cx="2158920" cy="7171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 action="ppaction://hlinksldjump"/>
              </a:rPr>
              <a:t>行为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3860640"/>
            <a:ext cx="2232000" cy="717120"/>
          </a:xfrm>
          <a:prstGeom prst="rect">
            <a:avLst/>
          </a:prstGeom>
          <a:solidFill>
            <a:srgbClr val="66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6" action="ppaction://hlinksldjump"/>
              </a:rPr>
              <a:t>神态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4869000"/>
            <a:ext cx="2233440" cy="71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7" action="ppaction://hlinksldjump"/>
              </a:rPr>
              <a:t>语言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7120" y="1989000"/>
            <a:ext cx="59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个儿挺高，背有点驼，四方脸，高颧骨，脸上布满皱纹，两鬓都斑白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2160720" cy="1503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03280" y="1268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华文新魏"/>
              </a:rPr>
              <a:t>外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1187280" y="595008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3861" y="10800"/>
                </a:moveTo>
                <a:lnTo>
                  <a:pt x="17874" y="3794"/>
                </a:lnTo>
                <a:lnTo>
                  <a:pt x="178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7120" y="1989000"/>
            <a:ext cx="599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摸野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挖草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做鱼钩钓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翻草皮找鱼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洗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2160720" cy="1503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03280" y="1268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华文新魏"/>
              </a:rPr>
              <a:t>行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1258920" y="595008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96000" y="333360"/>
            <a:ext cx="2917800" cy="3333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619280" y="765000"/>
            <a:ext cx="2012760" cy="23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神态：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合不拢眼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喜出望外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皱紧眉头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露出笑意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奄奄一息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3357720"/>
            <a:ext cx="648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隶书"/>
              </a:rPr>
              <a:t>小组合作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隶书"/>
              </a:rPr>
              <a:t>这四个词语是描写老班长的什么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隶书"/>
              </a:rPr>
              <a:t>分别是在什么情况下出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7885080" y="6093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10800"/>
                </a:moveTo>
                <a:lnTo>
                  <a:pt x="19951" y="3794"/>
                </a:lnTo>
                <a:lnTo>
                  <a:pt x="199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646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58920" y="1125360"/>
            <a:ext cx="7058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  <a:ea typeface="新宋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新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新宋体"/>
              </a:rPr>
              <a:t>他坐在那里捧着搪瓷碗，嚼着几根草根和我们吃剩的鱼骨头，嚼了一会儿，就皱着眉头硬咽下去。我觉得有万根钢针扎着我的喉管，失声叫起来：“老班长，你怎么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新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新宋体"/>
              </a:rPr>
              <a:t>我端起搪瓷碗，觉得这个碗有千斤重，怎么也送不到嘴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4508640"/>
            <a:ext cx="1800360" cy="1955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427640" y="4365720"/>
            <a:ext cx="1296720" cy="1112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2:08:33Z</dcterms:created>
  <dc:creator>t</dc:creator>
  <dc:description/>
  <dc:language>en-US</dc:language>
  <cp:lastModifiedBy>雨林木风</cp:lastModifiedBy>
  <dcterms:modified xsi:type="dcterms:W3CDTF">2011-04-22T06:14:32Z</dcterms:modified>
  <cp:revision>54</cp:revision>
  <dc:subject/>
  <dc:title>幻灯片 1</dc:title>
</cp:coreProperties>
</file>