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breeze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461-2AC0-4922-A108-81376A9C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E01-A931-4BAE-BD21-CE2533F1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769-14D7-4280-9025-7D25CD53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BE1-70A0-4DB7-9DB4-CA123DF6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D39-93A0-4132-A05B-BDD7B97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623-FB15-4C40-9371-43E97C8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4E9-62EA-465E-BA3F-CC37C312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6C8-6EEF-4F52-A73D-39812A32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A2F-38D3-4CED-9D6C-ADD80523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702-3E4F-4EEB-8CAA-A2166A8E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5A6-8E22-4E59-A95F-EF86BA0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08A-253A-4A4A-8855-0DBDB17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1D1-A116-4D62-9F47-1CDEA3C78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.baidu.com/&#21452;&#23376;taog/album/item/a93950c7ddcabdd2d0006098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3lian"/>
          <p:cNvPicPr/>
          <p:nvPr/>
        </p:nvPicPr>
        <p:blipFill>
          <a:blip r:embed="rId1"/>
          <a:srcRect l="0" t="0" r="0" b="3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128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16000" y="2637000"/>
            <a:ext cx="7272360" cy="100620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12920" y="1085760"/>
            <a:ext cx="8281800" cy="2808360"/>
          </a:xfrm>
          <a:prstGeom prst="rect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5333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628560" y="1230480"/>
            <a:ext cx="795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584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和我们一样享受春天</a:t>
            </a:r>
            <a:endParaRPr b="1" lang="en-US" sz="6600" spc="1" strike="noStrike">
              <a:ln w="1584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457360" y="6021360"/>
            <a:ext cx="30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00612720109488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0"/>
            <a:ext cx="442764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绿茵茵的草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本该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滚动着欢乐的足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4572000" y="-243000"/>
            <a:ext cx="4572000" cy="7100640"/>
            <a:chOff x="4572000" y="-243000"/>
            <a:chExt cx="4572000" cy="7100640"/>
          </a:xfrm>
        </p:grpSpPr>
        <p:pic>
          <p:nvPicPr>
            <p:cNvPr id="105" name="Picture 5" descr="close1"/>
            <p:cNvPicPr/>
            <p:nvPr/>
          </p:nvPicPr>
          <p:blipFill>
            <a:blip r:embed="rId2"/>
            <a:stretch/>
          </p:blipFill>
          <p:spPr>
            <a:xfrm>
              <a:off x="4572000" y="-243000"/>
              <a:ext cx="4572000" cy="71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"/>
            <p:cNvSpPr/>
            <p:nvPr/>
          </p:nvSpPr>
          <p:spPr>
            <a:xfrm>
              <a:off x="4572000" y="26280"/>
              <a:ext cx="4572000" cy="1323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Times New Roman"/>
                </a:rPr>
                <a:t>可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今散落着的地雷碎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阻拦着孩子们奔跑的脚步，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000" y="1886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作者用哪两个词语把原状和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在一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本来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可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，作者运用了什么修辞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对比。表达的意思是因为战争的破坏，大自然不再安宁，战争使自然界满目疮痍，使人们的生活不得安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请你们齐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-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节，注意这两个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620640"/>
            <a:ext cx="784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节每节都“这究竟是为什么”结尾，这是作者对什么的疑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到原有的美好与宁静的景象与因战争遭破坏的景象加以对比，作者不禁发出痛心的疑问：这究竟是为什么？并在前四节的结尾重复了这样的疑问，这就使人感到，这不仅仅是疑问了，更是一种对战争的控诉，一种对战争的抗议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492200" y="1886040"/>
            <a:ext cx="66178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了大海上的不速之客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破了沙漠的宁静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夜空搅得不得安宁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阻碍了绿茵场上孩子们的脚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971640" y="836640"/>
            <a:ext cx="140004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填空：</a:t>
            </a:r>
            <a:endParaRPr b="1" lang="en-US" sz="1800" spc="1" strike="noStrike">
              <a:ln w="9360">
                <a:solidFill>
                  <a:srgbClr val="ff66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11280" y="54900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描写了哪几个地方？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大海、沙漠、夜空、草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地方原来是怎样的？现在却是怎样的？请完成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0000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活动二   我们的学习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58920" y="1268280"/>
          <a:ext cx="8785080" cy="4753080"/>
        </p:xfrm>
        <a:graphic>
          <a:graphicData uri="http://schemas.openxmlformats.org/drawingml/2006/table">
            <a:tbl>
              <a:tblPr/>
              <a:tblGrid>
                <a:gridCol w="1500120"/>
                <a:gridCol w="3433680"/>
                <a:gridCol w="3851280"/>
              </a:tblGrid>
              <a:tr h="566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     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先的美好景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在的状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9"/>
          <p:cNvSpPr/>
          <p:nvPr/>
        </p:nvSpPr>
        <p:spPr>
          <a:xfrm>
            <a:off x="574560" y="208764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430200" y="3097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574560" y="4176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夜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503280" y="5184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1871640" y="208764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鸥的乐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871640" y="309708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蜥蜴和甲虫的天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1871640" y="4176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星星和月亮的家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1871640" y="5184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滚动着欢乐的足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5508720" y="1916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巡弋的战舰和水雷成为不速之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5364000" y="299736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轰隆隆的坦克和大炮打破了它们的梦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5435640" y="407664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频频的导弹发射把星星的家园搅得很不安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0"/>
          <p:cNvSpPr/>
          <p:nvPr/>
        </p:nvSpPr>
        <p:spPr>
          <a:xfrm>
            <a:off x="5364000" y="515772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满是散落的地雷碎片阻挡着孩子们打奔跑的脚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258920" y="105264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71640" y="404640"/>
            <a:ext cx="734544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们希望，我们祈盼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让战火中的孩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张课桌，平稳的课桌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被导弹的气浪掀翻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间教室，洁白的教室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免遭炸弹的弹片击穿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在鲜花中读书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享受春天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c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602440" y="2703600"/>
            <a:ext cx="4001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战火中的孩子和我们一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468360" y="981000"/>
            <a:ext cx="233352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ccff"/>
                </a:solidFill>
                <a:effectLst>
                  <a:outerShdw dist="17819" dir="2700000" blurRad="0" rotWithShape="0">
                    <a:srgbClr val="1f7a99"/>
                  </a:outerShdw>
                </a:effectLst>
                <a:latin typeface="宋体"/>
              </a:rPr>
              <a:t>想象说话：</a:t>
            </a:r>
            <a:endParaRPr b="1" lang="en-US" sz="1800" spc="-1" strike="noStrike">
              <a:ln w="0">
                <a:noFill/>
              </a:ln>
              <a:solidFill>
                <a:srgbClr val="33ccff"/>
              </a:solidFill>
              <a:effectLst>
                <a:outerShdw dist="17819" dir="2700000" blurRad="0" rotWithShape="0">
                  <a:srgbClr val="1f7a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a93950c7ddcabdd2d00060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0"/>
            <a:ext cx="849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享受春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　　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蔚蓝的大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是海鸥们的乐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  金黄色的沙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是蜥蜴和甲虫的天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　蓝得发黑的夜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属于星星和月亮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　绿茵茵的草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滚动着欢乐的足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我们在鲜花中读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　　享受春天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c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736200" y="2637000"/>
            <a:ext cx="70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希望，我企盼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468360" y="981000"/>
            <a:ext cx="233352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ccff"/>
                </a:solidFill>
                <a:effectLst>
                  <a:outerShdw dist="17819" dir="2700000" blurRad="0" rotWithShape="0">
                    <a:srgbClr val="1f7a99"/>
                  </a:outerShdw>
                </a:effectLst>
                <a:latin typeface="宋体"/>
              </a:rPr>
              <a:t>想象说话：</a:t>
            </a:r>
            <a:endParaRPr b="1" lang="en-US" sz="1800" spc="-1" strike="noStrike">
              <a:ln w="0">
                <a:noFill/>
              </a:ln>
              <a:solidFill>
                <a:srgbClr val="33ccff"/>
              </a:solidFill>
              <a:effectLst>
                <a:outerShdw dist="17819" dir="2700000" blurRad="0" rotWithShape="0">
                  <a:srgbClr val="1f7a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9280" y="189000"/>
            <a:ext cx="5327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0000">
                    <a:alpha val="8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  我能读</a:t>
            </a:r>
            <a:endParaRPr b="1" lang="en-US" sz="6000" spc="-1" strike="noStrike">
              <a:ln w="0">
                <a:noFill/>
              </a:ln>
              <a:solidFill>
                <a:srgbClr val="ff0000">
                  <a:alpha val="8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187280" y="2060640"/>
            <a:ext cx="6626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请同学们尝试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有感情地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读一读这首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116000" y="4149720"/>
            <a:ext cx="721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想想诗歌写了什么内容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11280" y="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  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因此，我们希望、我们祈盼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68360" y="1917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我们希望，我们祈盼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----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让战火中的孩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有一张课桌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平稳的课桌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不被导弹的气浪掀翻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有一间教室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洁白的教室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免遭炸弹的弹片击穿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和我们一样在鲜花中读书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和我们一样享受春天</a:t>
            </a:r>
            <a:r>
              <a:rPr b="1" lang="en-US" sz="3600" spc="-1" strike="noStrike">
                <a:solidFill>
                  <a:srgbClr val="0066ff"/>
                </a:solidFill>
                <a:latin typeface="Courier New"/>
                <a:ea typeface="黑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84720" y="1125360"/>
            <a:ext cx="2880000" cy="4319640"/>
          </a:xfrm>
          <a:prstGeom prst="wedgeRectCallout">
            <a:avLst>
              <a:gd name="adj1" fmla="val -77231"/>
              <a:gd name="adj2" fmla="val 9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方正隶书简体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方正隶书简体"/>
              </a:rPr>
              <a:t>虽然仅仅只是一张平稳的课桌，一间洁白的教室，如果没有和平，连人类生存最基本的要求都是空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11280" y="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      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因此，我们希望、我们祈盼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68360" y="2382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（  ）的大海仍然是（   ）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（  ）的（   ）没有（  ）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56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和我们一样在鲜花中读书，和我们一样享受春天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这句话表达了作者什么祈盼？最后用了省略号，什么意思？总体可以概括为哪两个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诗歌最后一句话，表达了一种强烈的祈盼，一种对制止战争、维护和平的祈盼，让饱受战争之苦的孩子们回到校园，让饱受战争之苦的孩子们享受春天与祥和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诗中的省略号，省略的是美好、无限的希望，这美好、无限的希望，用二个字概括，就是“和平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100406094042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0" y="260280"/>
            <a:ext cx="9144000" cy="2371680"/>
          </a:xfrm>
          <a:prstGeom prst="rect">
            <a:avLst/>
          </a:prstGeom>
          <a:gradFill rotWithShape="0">
            <a:gsLst>
              <a:gs pos="0">
                <a:srgbClr val="ffffff">
                  <a:alpha val="58039"/>
                </a:srgbClr>
              </a:gs>
              <a:gs pos="100000">
                <a:srgbClr val="ffffff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学习了这首诗，同学们的心愿是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r>
              <a:rPr b="1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轻音乐 - 少女的祈祷 - 纯音乐 music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breeze.wav"/>
      </p:stSnd>
    </p:sndAc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6269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640" y="1267920"/>
            <a:ext cx="792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的大海 （         ）的沙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的坦克 （         ）的夜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的草地 （         ）的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的碎片 （         ）的脚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的课桌 （         ）的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160720" y="18900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隶书简体"/>
              </a:rPr>
              <a:t>填   一  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84360" y="4149720"/>
            <a:ext cx="7561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蔚蓝色的大海         金黄色的沙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轰隆隆的坦克         美丽的夜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茵茵的草地         欢乐的足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落的碎片             奔跑的脚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稳的课桌             洁白的教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04920" y="1219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编诗小能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133266653"/>
          <p:cNvPicPr/>
          <p:nvPr/>
        </p:nvPicPr>
        <p:blipFill>
          <a:blip r:embed="rId1"/>
          <a:stretch/>
        </p:blipFill>
        <p:spPr>
          <a:xfrm>
            <a:off x="228600" y="228600"/>
            <a:ext cx="4857840" cy="903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990720" y="220968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续写诗歌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本来是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可是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———————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这究竟是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560" y="476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希望，我们企盼，像“小夜莺”“雨来”那样的孩子没有生命危险，也能（         ）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希望，我们企盼，所有的孩子不像雷利那样失去亲人，拥有（           ）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希望，我们企盼，世界就像一个（   ）。和平之神（    ）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549360"/>
            <a:ext cx="7848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首诗有多少节？可以分成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首诗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。可以分成两部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分？请同学说并概括段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部分：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—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描述了战争给自然世界带来的种种不安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部分：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发出祈盼，让战火中的孩子和我们一样在鲜花中读书，一同享受春天的美好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868040" y="2932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蔚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635280" y="299736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巡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651640" y="2997360"/>
            <a:ext cx="225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频频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332000" y="443700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绿茵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92360" y="4581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  <a:ea typeface="幼圆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祈盼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227664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w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è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i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979640" y="378936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067280" y="220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y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651640" y="220500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í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050920" y="3860640"/>
            <a:ext cx="11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yī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140360" y="4005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í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4643280" y="378936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2268360" y="544500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516720" y="378936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940360" y="378936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2843280" y="544500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4427640" y="551664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940360" y="4653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蜥 蜴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940360" y="40766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ī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6227640" y="551664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7093080" y="5516640"/>
            <a:ext cx="108000" cy="1080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4"/>
          <p:cNvSpPr txBox="1"/>
          <p:nvPr/>
        </p:nvSpPr>
        <p:spPr>
          <a:xfrm>
            <a:off x="971640" y="765000"/>
            <a:ext cx="691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和我们一样享受春天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理解词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92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巡弋：（军舰）在海上巡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速之客：速：邀请。没有经过邀请而突然到来的客人。指意想不到的客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频频：屡次、连续几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祈盼：祈祷、盼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2"/>
          <p:cNvSpPr/>
          <p:nvPr/>
        </p:nvSpPr>
        <p:spPr>
          <a:xfrm>
            <a:off x="4218120" y="1233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8360" y="260280"/>
            <a:ext cx="496728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蔚蓝色的大海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是海鸥的乐园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8360" y="1844640"/>
            <a:ext cx="496728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金黄色的沙漠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是蜥蜴和甲虫的天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68360" y="3429000"/>
            <a:ext cx="496728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蓝得发黑的夜空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属于星星和月亮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8360" y="4941720"/>
            <a:ext cx="496728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绿茵茵的草地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滚动着欢乐的足球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580000" y="1484280"/>
            <a:ext cx="3564000" cy="19447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84720" y="198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仿佛看到了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925600" y="4110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熙熙攘攘的大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是人们休闲的好地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925600" y="547848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郁郁葱葱的森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是鸟儿们歌唱的天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7844973_84e4c0403d_o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0" y="0"/>
            <a:ext cx="4648320" cy="132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蔚蓝色的大海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本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是海鸥的乐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43280" y="0"/>
            <a:ext cx="4500720" cy="6858000"/>
            <a:chOff x="4643280" y="0"/>
            <a:chExt cx="4500720" cy="6858000"/>
          </a:xfrm>
        </p:grpSpPr>
        <p:pic>
          <p:nvPicPr>
            <p:cNvPr id="87" name="Picture 5" descr="d34e3d0d2ryfcny"/>
            <p:cNvPicPr/>
            <p:nvPr/>
          </p:nvPicPr>
          <p:blipFill>
            <a:blip r:embed="rId2"/>
            <a:stretch/>
          </p:blipFill>
          <p:spPr>
            <a:xfrm>
              <a:off x="4716360" y="0"/>
              <a:ext cx="4427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4643280" y="0"/>
              <a:ext cx="4500720" cy="137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可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巡弋的战舰和水雷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成了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不速之客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6110911181140692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464328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金黄色的沙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本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蜥蜴和甲虫的天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4356000" y="0"/>
            <a:ext cx="4788000" cy="6858000"/>
            <a:chOff x="4356000" y="0"/>
            <a:chExt cx="4788000" cy="6858000"/>
          </a:xfrm>
        </p:grpSpPr>
        <p:pic>
          <p:nvPicPr>
            <p:cNvPr id="92" name="Picture 5" descr="4s"/>
            <p:cNvPicPr/>
            <p:nvPr/>
          </p:nvPicPr>
          <p:blipFill>
            <a:blip r:embed="rId2"/>
            <a:stretch/>
          </p:blipFill>
          <p:spPr>
            <a:xfrm>
              <a:off x="4356000" y="4292640"/>
              <a:ext cx="4788000" cy="256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Group 6"/>
            <p:cNvGrpSpPr/>
            <p:nvPr/>
          </p:nvGrpSpPr>
          <p:grpSpPr>
            <a:xfrm>
              <a:off x="4356000" y="0"/>
              <a:ext cx="4788000" cy="4797360"/>
              <a:chOff x="4356000" y="0"/>
              <a:chExt cx="4788000" cy="4797360"/>
            </a:xfrm>
          </p:grpSpPr>
          <p:pic>
            <p:nvPicPr>
              <p:cNvPr id="94" name="Picture 7" descr="040318mk427"/>
              <p:cNvPicPr/>
              <p:nvPr/>
            </p:nvPicPr>
            <p:blipFill>
              <a:blip r:embed="rId3"/>
              <a:stretch/>
            </p:blipFill>
            <p:spPr>
              <a:xfrm>
                <a:off x="4356000" y="0"/>
                <a:ext cx="4788000" cy="479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8"/>
              <p:cNvSpPr/>
              <p:nvPr/>
            </p:nvSpPr>
            <p:spPr>
              <a:xfrm>
                <a:off x="4427640" y="0"/>
                <a:ext cx="4716360" cy="1556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9900"/>
                    </a:solidFill>
                    <a:latin typeface="Times New Roman"/>
                  </a:rPr>
                  <a:t>可是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轰隆隆的坦克和大炮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打破了它们的梦幻，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99484704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0"/>
            <a:ext cx="414036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蓝得发黑的夜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本来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属于星星和月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4211640" y="0"/>
            <a:ext cx="4932360" cy="6859080"/>
            <a:chOff x="4211640" y="0"/>
            <a:chExt cx="4932360" cy="6859080"/>
          </a:xfrm>
        </p:grpSpPr>
        <p:pic>
          <p:nvPicPr>
            <p:cNvPr id="99" name="Picture 5" descr="200694183241902"/>
            <p:cNvPicPr/>
            <p:nvPr/>
          </p:nvPicPr>
          <p:blipFill>
            <a:blip r:embed="rId2"/>
            <a:stretch/>
          </p:blipFill>
          <p:spPr>
            <a:xfrm>
              <a:off x="4211640" y="0"/>
              <a:ext cx="4932360" cy="33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000143437"/>
            <p:cNvPicPr/>
            <p:nvPr/>
          </p:nvPicPr>
          <p:blipFill>
            <a:blip r:embed="rId3"/>
            <a:stretch/>
          </p:blipFill>
          <p:spPr>
            <a:xfrm>
              <a:off x="4211640" y="3357720"/>
              <a:ext cx="4932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7"/>
            <p:cNvSpPr/>
            <p:nvPr/>
          </p:nvSpPr>
          <p:spPr>
            <a:xfrm>
              <a:off x="4211640" y="5911920"/>
              <a:ext cx="478800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00"/>
                  </a:solidFill>
                  <a:latin typeface="Times New Roman"/>
                </a:rPr>
                <a:t>可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今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频频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发射的导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把星星的家园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搅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得很不安宁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7:59:01Z</dcterms:created>
  <dc:creator>第一PPT模板网-WWW.1PPT.COM</dc:creator>
  <dc:description>第一PPT模板网-WWW.1PPT.COM
</dc:description>
  <cp:keywords>第一PPT模板网-WWW.1PPT.COM</cp:keywords>
  <dc:language>en-US</dc:language>
  <cp:lastModifiedBy>涂圣文</cp:lastModifiedBy>
  <dcterms:modified xsi:type="dcterms:W3CDTF">2020-05-27T00:59:27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053</vt:lpwstr>
  </property>
</Properties>
</file>