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1.jpeg" ContentType="image/jpeg"/>
  <Override PartName="/ppt/media/image18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06B5B-C1BB-4CE7-9162-E1A343DF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12F07-85D8-4DA4-82C2-55FE1128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98932-1605-4C2B-AAAF-93651A2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AFE4C-D84F-43A0-A152-4D2CF15E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0D2A4-6AA8-4B80-9E60-05410B5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F8D2-C43C-4587-A6BB-A8FA8AEB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4591A-8921-4B76-A032-0FEA6149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9C5EE-C9F2-44DC-9EA4-ED7351DC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2BFA-F1DA-4EBE-A56C-42E460CB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365CE-C732-4F0D-8FF9-876ACEE5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3FD65-80E5-46DD-8C6B-C1F7819B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D5CA0-4363-4DB4-B507-F1CF11F5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14BBC-0A1B-4A53-894E-332E824C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B60DE-5853-425D-95E5-10E52BA0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C462E-CA19-462E-83FA-D7CDBEFE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AE5A9-F2B7-406A-B860-896AD971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A01FB-165D-43E4-AEFE-B3B9ABE5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34882-7DE1-4297-A4A7-82A0357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2E9D4-70FD-48A8-B493-BB3D37B8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675CB-B4B5-4CF8-9602-9D78F518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66E52-189A-441E-9395-ECE42AA2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2EFC3-9F3A-48F1-8FED-C151C1E2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5E410-CD69-4179-9B04-2D6CCD94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5F745-A0B0-4ADE-9379-3A66C5CF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1A3F3-70F0-482E-AC05-D33FF640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109F0-A167-4DEC-A549-3FA9FC5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88C43-4619-4E79-A1D6-FCE58A78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2A56F-11BA-472C-8388-87220347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CAA23-AED7-43EE-9C96-8AB909F4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A98C-3DE7-4FCB-9A10-C0D7EEA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3F6-726C-4633-84B8-BAC1112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04318-8165-4C60-888E-5013691A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F749B-0199-40FB-9092-62E89CC2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41F74-65C1-4E01-86CC-4648A671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BFC-3923-459C-B531-3B70995D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024-4A39-4BAF-B979-961C8A7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56B-A65B-47F6-B258-6AE3525D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145-FE5E-4132-A0F2-788F94FA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63A-9730-4B2F-BD28-D7F958B0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D43-23BD-41B6-8A7E-5CF3DD6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D94-8252-4148-A9F6-153F35E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F0A-2BB8-4175-AFEF-5A4D42B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02E-1126-44A9-BABD-BA043E49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677-8F7C-40C9-8DAF-AE5FBBA2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2B3-05B6-424B-AF14-2567AC70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7E15-0526-4525-B51A-D47CC2B2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2B88-3B39-47E6-8FEC-68D54B05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A326-C6E3-446D-A08E-BA65CA2D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38F2-6E0D-457C-9629-B7204EB5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501A-A8E7-4739-9993-AC47FB57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484D-02C1-409B-B91B-CDE39A06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8881-FD89-4130-BF8C-F01559FE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94A0-E388-4C2F-B2AF-2AB28703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0AAE-10DB-4787-B5BD-C8FEC5A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7C70-77CA-4A4C-835F-3DAADCE2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1E69-A721-45A2-8ACF-77DE1227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FC1B-3367-4563-BEB1-DE22E7D9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D579-60BF-4070-BB15-7666415C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D0D8-79E3-4274-AA55-914E6C56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52AF-944E-4635-B7E8-22D00A87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B57D-A3D2-48A3-BB6A-42C2989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4B63-A7B6-46CD-AF43-A04A1A13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6469-5576-4089-80EA-3B48DF50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A1A8-211F-482B-A03F-A7C2F3EF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6E90-0BA4-4704-8637-0B32D335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969B-B2AF-45D1-83CF-FDAE087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4D9C-3C3E-448F-8002-B2EA931F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C184-5355-43DA-B10F-BD844366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74E0B-3681-4004-AC3F-906E4DDD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313D7-3C40-4F1E-85BB-72C68E64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07D9-7B51-421C-A01A-F35094DE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E5F90-22D4-4AA1-ACD9-C499030B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4BC1-086A-4E91-B743-2F38688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4684-193D-4FCC-B539-7FF6D22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4200-0B28-4FDA-A5A1-23C8C646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7A8D-FD70-40A3-9EFA-4136650B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FA5A-7E30-485D-A0A2-7E2E4D67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25A4-445D-40D6-985B-3311EEE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9D2B-A857-4C37-B2D7-FFDE131A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E416D-97B6-4826-B7EF-16D10FD1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176B4-F643-49B6-9FB4-B2234585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6DC3C-A9A1-40F7-B157-E9C18BC5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25F4-D7E9-41C9-8857-67167205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F503-B730-43C4-9AE7-44ACC4AE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10A4F-0397-49C1-971F-1A7E42C7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52E7-BAC3-48BC-ACA2-D5AEBB6C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579C3-0B49-4C6C-9987-E609A92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383FA-6101-4498-BA4B-565EE00D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CD0D-FE70-428F-9033-78F0C76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A13DE-AEF5-4B7F-9735-E1DF84A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92E1-68C9-403A-8BF2-B5C84EE0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A57AE-2FEE-41DE-A5D7-E7C1F2F3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16BF-90DE-4EE2-B253-E72B7F08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7E1E-96C7-40DD-9ABA-7B43F3C1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3914C-A1EB-41C8-A311-E7ABE1B4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AEDFF-6E52-4505-9E56-46BEB42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2C7B9-F1B7-4BCB-9216-65F307EA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F554-DBA6-4FB5-B8CC-7F69BCE9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AAAA8-77FD-4E62-A89A-F4F121D4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006D4-85AA-4DF8-8F3F-7A669B64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B1900-1666-4089-A3C7-F4A20EB2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403CE-2EB3-4669-9504-CA9C0B0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BE7B2-CF47-473B-BE93-7A79E4BE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E8D5B-5C84-4A68-B420-FE066C65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7310F-2889-4673-B0FD-5AA415B0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43A84-34DA-4109-B861-B8B79595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E78A6-45C9-45BE-8D20-A7CB7595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55CBE-A9C4-43BB-A69D-4049327F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7EF66-4C9C-406A-9A36-EA774A53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17084-35F7-47DC-A9A8-956E5CEC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B8B5-3534-4498-8F5B-12954C19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1AA45-4D69-435F-9FDA-9BDCBB3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254B-EE4E-436F-BC8C-CEFD3B8A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9488-7AE7-456D-A092-1507F91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BE85-6F4C-4F7E-852E-D5624D87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E164B-BC8F-4A57-B2BB-25FA8392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33AA8-EB2B-4BD5-A0FD-1E0ECBBB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3604F-B651-4997-98C7-66F5A15E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0D06-B1DF-453A-937E-39E0ADD4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AC51B-3330-45EB-A822-A1B05F8B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1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378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0BEC-EDC8-4E3E-B374-5B5E5ACCE67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420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C183-B4CE-432C-9B50-1986F395044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40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3CFC-836C-42D9-814C-5F1B778FF00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84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974F-8F82-47C3-8EA6-BD47F46B6EB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126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BD65-0735-490A-AD14-69F526BC819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168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996E-22EA-47A1-9941-B23AD2A5AE6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210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6B0E-4581-41C2-932C-5C61D9399AF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252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A222-8815-4BDC-98B2-F0A1DB79C01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294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7ACC-110E-4C86-AD26-B9535FDB5F5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336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4067-4470-4370-A897-E911F17FDAC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957240" y="1657440"/>
            <a:ext cx="6437160" cy="4835520"/>
          </a:xfrm>
          <a:prstGeom prst="rect">
            <a:avLst/>
          </a:prstGeom>
          <a:ln w="0">
            <a:noFill/>
          </a:ln>
        </p:spPr>
      </p:pic>
      <p:sp>
        <p:nvSpPr>
          <p:cNvPr id="462" name="TextBox 1"/>
          <p:cNvSpPr/>
          <p:nvPr/>
        </p:nvSpPr>
        <p:spPr>
          <a:xfrm>
            <a:off x="2124000" y="1052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953735"/>
                </a:solidFill>
                <a:latin typeface="宋体"/>
              </a:rPr>
              <a:t>10  </a:t>
            </a:r>
            <a:r>
              <a:rPr b="1" lang="zh-CN" sz="3600" spc="-1" strike="noStrike">
                <a:solidFill>
                  <a:srgbClr val="953735"/>
                </a:solidFill>
                <a:latin typeface="宋体"/>
              </a:rPr>
              <a:t>端午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线连接符 21"/>
          <p:cNvSpPr/>
          <p:nvPr/>
        </p:nvSpPr>
        <p:spPr>
          <a:xfrm>
            <a:off x="2700360" y="1698480"/>
            <a:ext cx="2951280" cy="51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同侧圆角矩形 1"/>
          <p:cNvSpPr/>
          <p:nvPr/>
        </p:nvSpPr>
        <p:spPr>
          <a:xfrm>
            <a:off x="468360" y="111276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线连接符 21"/>
          <p:cNvSpPr/>
          <p:nvPr/>
        </p:nvSpPr>
        <p:spPr>
          <a:xfrm flipV="1">
            <a:off x="468360" y="1766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4"/>
          <p:cNvSpPr/>
          <p:nvPr/>
        </p:nvSpPr>
        <p:spPr>
          <a:xfrm>
            <a:off x="1177920" y="1916280"/>
            <a:ext cx="5294160" cy="20430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3"/>
          <p:cNvSpPr/>
          <p:nvPr/>
        </p:nvSpPr>
        <p:spPr>
          <a:xfrm>
            <a:off x="1332000" y="2300400"/>
            <a:ext cx="49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叶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米真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http://pic.ffpic.com/files/2014/1224/sl1020mqnu8.jpg"/>
          <p:cNvPicPr/>
          <p:nvPr/>
        </p:nvPicPr>
        <p:blipFill>
          <a:blip r:embed="rId1"/>
          <a:stretch/>
        </p:blipFill>
        <p:spPr>
          <a:xfrm>
            <a:off x="1979640" y="4214880"/>
            <a:ext cx="4259160" cy="203364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8" descr=""/>
          <p:cNvPicPr/>
          <p:nvPr/>
        </p:nvPicPr>
        <p:blipFill>
          <a:blip r:embed="rId2"/>
          <a:stretch/>
        </p:blipFill>
        <p:spPr>
          <a:xfrm>
            <a:off x="7020000" y="1322280"/>
            <a:ext cx="16430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4316400" y="3103560"/>
            <a:ext cx="4565520" cy="2790720"/>
          </a:xfrm>
          <a:prstGeom prst="rect">
            <a:avLst/>
          </a:prstGeom>
          <a:ln w="0">
            <a:noFill/>
          </a:ln>
        </p:spPr>
      </p:pic>
      <p:sp>
        <p:nvSpPr>
          <p:cNvPr id="466" name="同侧圆角矩形 1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线连接符 21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2882880" y="855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、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4"/>
          <p:cNvSpPr/>
          <p:nvPr/>
        </p:nvSpPr>
        <p:spPr>
          <a:xfrm>
            <a:off x="468360" y="1593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农历的五月初五是什么节日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5"/>
          <p:cNvSpPr/>
          <p:nvPr/>
        </p:nvSpPr>
        <p:spPr>
          <a:xfrm>
            <a:off x="500040" y="3570120"/>
            <a:ext cx="73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吃粽子，赛龙舟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468360" y="5019840"/>
            <a:ext cx="1425600" cy="11030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9"/>
          <p:cNvSpPr/>
          <p:nvPr/>
        </p:nvSpPr>
        <p:spPr>
          <a:xfrm>
            <a:off x="395280" y="29242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端午节都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1"/>
          <p:cNvSpPr/>
          <p:nvPr/>
        </p:nvSpPr>
        <p:spPr>
          <a:xfrm>
            <a:off x="395280" y="2246400"/>
            <a:ext cx="73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端午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39680" y="3676680"/>
            <a:ext cx="4329000" cy="2936880"/>
          </a:xfrm>
          <a:prstGeom prst="rect">
            <a:avLst/>
          </a:prstGeom>
          <a:ln w="0">
            <a:noFill/>
          </a:ln>
        </p:spPr>
      </p:pic>
      <p:sp>
        <p:nvSpPr>
          <p:cNvPr id="534" name="同侧圆角矩形 1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线连接符 21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3"/>
          <p:cNvSpPr/>
          <p:nvPr/>
        </p:nvSpPr>
        <p:spPr>
          <a:xfrm>
            <a:off x="378900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468360" y="177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文章有几个自然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611280" y="24922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四个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7" descr=""/>
          <p:cNvPicPr/>
          <p:nvPr/>
        </p:nvPicPr>
        <p:blipFill>
          <a:blip r:embed="rId2"/>
          <a:stretch/>
        </p:blipFill>
        <p:spPr>
          <a:xfrm>
            <a:off x="7885080" y="1112760"/>
            <a:ext cx="924120" cy="1241640"/>
          </a:xfrm>
          <a:prstGeom prst="rect">
            <a:avLst/>
          </a:prstGeom>
          <a:ln w="0">
            <a:noFill/>
          </a:ln>
        </p:spPr>
      </p:pic>
      <p:sp>
        <p:nvSpPr>
          <p:cNvPr id="5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0"/>
          <p:cNvSpPr/>
          <p:nvPr/>
        </p:nvSpPr>
        <p:spPr>
          <a:xfrm>
            <a:off x="460440" y="31734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说一说包粽子前要准备什么材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1"/>
          <p:cNvSpPr/>
          <p:nvPr/>
        </p:nvSpPr>
        <p:spPr>
          <a:xfrm>
            <a:off x="611280" y="38685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箬竹叶、糯米、红枣、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5383080" y="963720"/>
            <a:ext cx="3767400" cy="3071880"/>
          </a:xfrm>
          <a:prstGeom prst="rect">
            <a:avLst/>
          </a:prstGeom>
          <a:ln w="0">
            <a:noFill/>
          </a:ln>
        </p:spPr>
      </p:pic>
      <p:sp>
        <p:nvSpPr>
          <p:cNvPr id="551" name="同侧圆角矩形 1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线连接符 21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3"/>
          <p:cNvSpPr/>
          <p:nvPr/>
        </p:nvSpPr>
        <p:spPr>
          <a:xfrm>
            <a:off x="378900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468360" y="1557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同学们，平时吃过什么馅的粽子啊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1139760" y="278280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红枣、蜜枣、豆沙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"/>
          <p:cNvSpPr/>
          <p:nvPr/>
        </p:nvSpPr>
        <p:spPr>
          <a:xfrm>
            <a:off x="468360" y="34304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那外婆给“我们”煮的什么馅的粽子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8"/>
          <p:cNvSpPr/>
          <p:nvPr/>
        </p:nvSpPr>
        <p:spPr>
          <a:xfrm>
            <a:off x="484200" y="46544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红枣、红豆、鲜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0" descr=""/>
          <p:cNvPicPr/>
          <p:nvPr/>
        </p:nvPicPr>
        <p:blipFill>
          <a:blip r:embed="rId2"/>
          <a:stretch/>
        </p:blipFill>
        <p:spPr>
          <a:xfrm>
            <a:off x="144360" y="4941720"/>
            <a:ext cx="925560" cy="123984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" descr=""/>
          <p:cNvPicPr/>
          <p:nvPr/>
        </p:nvPicPr>
        <p:blipFill>
          <a:blip r:embed="rId1"/>
          <a:stretch/>
        </p:blipFill>
        <p:spPr>
          <a:xfrm>
            <a:off x="12600" y="3986280"/>
            <a:ext cx="3973680" cy="2689200"/>
          </a:xfrm>
          <a:prstGeom prst="rect">
            <a:avLst/>
          </a:prstGeom>
          <a:ln w="0">
            <a:noFill/>
          </a:ln>
        </p:spPr>
      </p:pic>
      <p:sp>
        <p:nvSpPr>
          <p:cNvPr id="561" name="同侧圆角矩形 1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线连接符 21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3"/>
          <p:cNvSpPr/>
          <p:nvPr/>
        </p:nvSpPr>
        <p:spPr>
          <a:xfrm>
            <a:off x="378900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453960" y="15415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同学们，知道端午节的由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324000" y="2276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为了纪念爱国诗人屈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11" descr=""/>
          <p:cNvPicPr/>
          <p:nvPr/>
        </p:nvPicPr>
        <p:blipFill>
          <a:blip r:embed="rId2"/>
          <a:stretch/>
        </p:blipFill>
        <p:spPr>
          <a:xfrm>
            <a:off x="7710480" y="1135080"/>
            <a:ext cx="923760" cy="1241280"/>
          </a:xfrm>
          <a:prstGeom prst="rect">
            <a:avLst/>
          </a:prstGeom>
          <a:ln w="0">
            <a:noFill/>
          </a:ln>
        </p:spPr>
      </p:pic>
      <p:sp>
        <p:nvSpPr>
          <p:cNvPr id="567" name="TextBox 8"/>
          <p:cNvSpPr/>
          <p:nvPr/>
        </p:nvSpPr>
        <p:spPr>
          <a:xfrm>
            <a:off x="476280" y="2997360"/>
            <a:ext cx="81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同学们，听了故事以后，你能说说屈原是个怎样的人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"/>
          <p:cNvSpPr/>
          <p:nvPr/>
        </p:nvSpPr>
        <p:spPr>
          <a:xfrm>
            <a:off x="436680" y="4151160"/>
            <a:ext cx="80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屈原是个忧国忧民的人，爱国的诗人，和祖国共存亡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3975120" y="3309840"/>
            <a:ext cx="4546440" cy="3024360"/>
          </a:xfrm>
          <a:prstGeom prst="rect">
            <a:avLst/>
          </a:prstGeom>
          <a:ln w="0">
            <a:noFill/>
          </a:ln>
        </p:spPr>
      </p:pic>
      <p:sp>
        <p:nvSpPr>
          <p:cNvPr id="571" name="同侧圆角矩形 1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直线连接符 21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3"/>
          <p:cNvSpPr/>
          <p:nvPr/>
        </p:nvSpPr>
        <p:spPr>
          <a:xfrm>
            <a:off x="378900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68360" y="17748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屈原投江以后，老百姓又是怎么做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544680" y="302112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每年五月初五端午节吃粽子纪念爱国诗人屈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图片 6" descr=""/>
          <p:cNvPicPr/>
          <p:nvPr/>
        </p:nvPicPr>
        <p:blipFill>
          <a:blip r:embed="rId2"/>
          <a:stretch/>
        </p:blipFill>
        <p:spPr>
          <a:xfrm>
            <a:off x="398520" y="4941720"/>
            <a:ext cx="92556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同侧圆角矩形 1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直线连接符 21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3789000" y="85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课文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468360" y="1484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同学们，人们为了纪念屈原，除了吃棕子还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6" descr=""/>
          <p:cNvPicPr/>
          <p:nvPr/>
        </p:nvPicPr>
        <p:blipFill>
          <a:blip r:embed="rId1"/>
          <a:stretch/>
        </p:blipFill>
        <p:spPr>
          <a:xfrm>
            <a:off x="7956720" y="1177920"/>
            <a:ext cx="925200" cy="12412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8"/>
          <p:cNvSpPr/>
          <p:nvPr/>
        </p:nvSpPr>
        <p:spPr>
          <a:xfrm>
            <a:off x="468360" y="2711520"/>
            <a:ext cx="80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 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赛龙舟、挂香包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0"/>
          <p:cNvSpPr/>
          <p:nvPr/>
        </p:nvSpPr>
        <p:spPr>
          <a:xfrm>
            <a:off x="539640" y="34304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端午节为什么吃粽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1"/>
          <p:cNvSpPr/>
          <p:nvPr/>
        </p:nvSpPr>
        <p:spPr>
          <a:xfrm>
            <a:off x="569880" y="4173480"/>
            <a:ext cx="80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 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因为人们为了防止鱼虾伤害屈原的尸体，就用粽叶包上糯米投入江中。后来就有了端午节吃粽子的习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同侧圆角矩形 1"/>
          <p:cNvSpPr/>
          <p:nvPr/>
        </p:nvSpPr>
        <p:spPr>
          <a:xfrm>
            <a:off x="324000" y="85572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直线连接符 21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左大括号 11"/>
          <p:cNvSpPr/>
          <p:nvPr/>
        </p:nvSpPr>
        <p:spPr>
          <a:xfrm>
            <a:off x="1905120" y="1916280"/>
            <a:ext cx="207720" cy="2520720"/>
          </a:xfrm>
          <a:custGeom>
            <a:avLst/>
            <a:gdLst>
              <a:gd name="textAreaLeft" fmla="*/ 132840 w 207720"/>
              <a:gd name="textAreaRight" fmla="*/ 208080 w 207720"/>
              <a:gd name="textAreaTop" fmla="*/ 5400 h 2520720"/>
              <a:gd name="textAreaBottom" fmla="*/ 251532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"/>
                  <a:pt x="10800" y="148"/>
                </a:cubicBezTo>
                <a:lnTo>
                  <a:pt x="10800" y="10652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4"/>
                  <a:pt x="10800" y="10948"/>
                </a:cubicBezTo>
                <a:lnTo>
                  <a:pt x="10800" y="21452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2"/>
          <p:cNvSpPr/>
          <p:nvPr/>
        </p:nvSpPr>
        <p:spPr>
          <a:xfrm>
            <a:off x="2112840" y="2120760"/>
            <a:ext cx="35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吃粽子、赛龙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3"/>
          <p:cNvSpPr/>
          <p:nvPr/>
        </p:nvSpPr>
        <p:spPr>
          <a:xfrm>
            <a:off x="2112840" y="3500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纪念爱国诗人屈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右大括号 18"/>
          <p:cNvSpPr/>
          <p:nvPr/>
        </p:nvSpPr>
        <p:spPr>
          <a:xfrm>
            <a:off x="6012000" y="1857240"/>
            <a:ext cx="204480" cy="2465640"/>
          </a:xfrm>
          <a:custGeom>
            <a:avLst/>
            <a:gdLst>
              <a:gd name="textAreaLeft" fmla="*/ 0 w 204480"/>
              <a:gd name="textAreaRight" fmla="*/ 73800 w 204480"/>
              <a:gd name="textAreaTop" fmla="*/ 5040 h 2465640"/>
              <a:gd name="textAreaBottom" fmla="*/ 2460600 h 246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20" descr=""/>
          <p:cNvPicPr/>
          <p:nvPr/>
        </p:nvPicPr>
        <p:blipFill>
          <a:blip r:embed="rId1"/>
          <a:stretch/>
        </p:blipFill>
        <p:spPr>
          <a:xfrm>
            <a:off x="8008920" y="979560"/>
            <a:ext cx="925560" cy="1241280"/>
          </a:xfrm>
          <a:prstGeom prst="rect">
            <a:avLst/>
          </a:prstGeom>
          <a:ln w="0">
            <a:noFill/>
          </a:ln>
        </p:spPr>
      </p:pic>
      <p:sp>
        <p:nvSpPr>
          <p:cNvPr id="595" name="TextBox 6"/>
          <p:cNvSpPr/>
          <p:nvPr/>
        </p:nvSpPr>
        <p:spPr>
          <a:xfrm>
            <a:off x="6330960" y="286236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爱国之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3"/>
          <p:cNvSpPr/>
          <p:nvPr/>
        </p:nvSpPr>
        <p:spPr>
          <a:xfrm>
            <a:off x="395280" y="285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端午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同侧圆角矩形 1"/>
          <p:cNvSpPr/>
          <p:nvPr/>
        </p:nvSpPr>
        <p:spPr>
          <a:xfrm>
            <a:off x="468360" y="111276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线连接符 21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8eb4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1276200" y="2205000"/>
            <a:ext cx="34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朗读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端午粽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认读生字和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图片 8" descr=""/>
          <p:cNvPicPr/>
          <p:nvPr/>
        </p:nvPicPr>
        <p:blipFill>
          <a:blip r:embed="rId1"/>
          <a:stretch/>
        </p:blipFill>
        <p:spPr>
          <a:xfrm>
            <a:off x="4352760" y="3011400"/>
            <a:ext cx="4529160" cy="32925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"/>
          <p:cNvPicPr/>
          <p:nvPr/>
        </p:nvPicPr>
        <p:blipFill>
          <a:blip r:embed="rId2"/>
          <a:stretch/>
        </p:blipFill>
        <p:spPr>
          <a:xfrm>
            <a:off x="722160" y="5229360"/>
            <a:ext cx="1117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同侧圆角矩形 1"/>
          <p:cNvSpPr/>
          <p:nvPr/>
        </p:nvSpPr>
        <p:spPr>
          <a:xfrm>
            <a:off x="468360" y="1112760"/>
            <a:ext cx="230328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 反义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3"/>
          <p:cNvSpPr/>
          <p:nvPr/>
        </p:nvSpPr>
        <p:spPr>
          <a:xfrm>
            <a:off x="603720" y="2852640"/>
            <a:ext cx="12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十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3"/>
          <p:cNvSpPr/>
          <p:nvPr/>
        </p:nvSpPr>
        <p:spPr>
          <a:xfrm>
            <a:off x="84456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近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23"/>
          <p:cNvSpPr/>
          <p:nvPr/>
        </p:nvSpPr>
        <p:spPr>
          <a:xfrm>
            <a:off x="217692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非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3"/>
          <p:cNvSpPr/>
          <p:nvPr/>
        </p:nvSpPr>
        <p:spPr>
          <a:xfrm>
            <a:off x="3529440" y="2852640"/>
            <a:ext cx="12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知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23"/>
          <p:cNvSpPr/>
          <p:nvPr/>
        </p:nvSpPr>
        <p:spPr>
          <a:xfrm>
            <a:off x="504864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3"/>
          <p:cNvSpPr/>
          <p:nvPr/>
        </p:nvSpPr>
        <p:spPr>
          <a:xfrm>
            <a:off x="6489360" y="2852640"/>
            <a:ext cx="12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纪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3"/>
          <p:cNvSpPr/>
          <p:nvPr/>
        </p:nvSpPr>
        <p:spPr>
          <a:xfrm>
            <a:off x="8054640" y="28526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怀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3"/>
          <p:cNvSpPr/>
          <p:nvPr/>
        </p:nvSpPr>
        <p:spPr>
          <a:xfrm>
            <a:off x="862560" y="386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反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23"/>
          <p:cNvSpPr/>
          <p:nvPr/>
        </p:nvSpPr>
        <p:spPr>
          <a:xfrm>
            <a:off x="510120" y="4653000"/>
            <a:ext cx="98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23"/>
          <p:cNvSpPr/>
          <p:nvPr/>
        </p:nvSpPr>
        <p:spPr>
          <a:xfrm>
            <a:off x="1498680" y="465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23"/>
          <p:cNvSpPr/>
          <p:nvPr/>
        </p:nvSpPr>
        <p:spPr>
          <a:xfrm>
            <a:off x="2541240" y="4653000"/>
            <a:ext cx="98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23"/>
          <p:cNvSpPr/>
          <p:nvPr/>
        </p:nvSpPr>
        <p:spPr>
          <a:xfrm>
            <a:off x="3530880" y="465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3"/>
          <p:cNvSpPr/>
          <p:nvPr/>
        </p:nvSpPr>
        <p:spPr>
          <a:xfrm>
            <a:off x="5018400" y="4653000"/>
            <a:ext cx="12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纪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23"/>
          <p:cNvSpPr/>
          <p:nvPr/>
        </p:nvSpPr>
        <p:spPr>
          <a:xfrm>
            <a:off x="6561720" y="464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遗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线连接符 21"/>
          <p:cNvSpPr/>
          <p:nvPr/>
        </p:nvSpPr>
        <p:spPr>
          <a:xfrm flipV="1">
            <a:off x="484200" y="1773000"/>
            <a:ext cx="2287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图片 23" descr=""/>
          <p:cNvPicPr/>
          <p:nvPr/>
        </p:nvPicPr>
        <p:blipFill>
          <a:blip r:embed="rId1"/>
          <a:stretch/>
        </p:blipFill>
        <p:spPr>
          <a:xfrm>
            <a:off x="6804000" y="1077840"/>
            <a:ext cx="1755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317520" y="1695600"/>
            <a:ext cx="6431040" cy="483372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" descr=""/>
          <p:cNvPicPr/>
          <p:nvPr/>
        </p:nvPicPr>
        <p:blipFill>
          <a:blip r:embed="rId2"/>
          <a:srcRect l="0" t="0" r="-3533" b="31450"/>
          <a:stretch/>
        </p:blipFill>
        <p:spPr>
          <a:xfrm>
            <a:off x="3059280" y="-55440"/>
            <a:ext cx="610848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同侧圆角矩形 1"/>
          <p:cNvSpPr/>
          <p:nvPr/>
        </p:nvSpPr>
        <p:spPr>
          <a:xfrm>
            <a:off x="468360" y="111276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250920" y="1784520"/>
            <a:ext cx="44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屈原，字灵均，汉族，战国末期楚国人。屈原是中国最伟大的浪漫主义诗人。他创立了“楚辞”这种文体，也开创了“香草美人”的传统。代表作品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离骚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九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线连接符 21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2" descr="http://imgsrc.baidu.com/baike/pic/item/359b033b5bb5c9ea7d93dd41d139b6003af3b334.jpg"/>
          <p:cNvPicPr/>
          <p:nvPr/>
        </p:nvPicPr>
        <p:blipFill>
          <a:blip r:embed="rId1"/>
          <a:stretch/>
        </p:blipFill>
        <p:spPr>
          <a:xfrm>
            <a:off x="4962600" y="1779480"/>
            <a:ext cx="33274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同侧圆角矩形 1"/>
          <p:cNvSpPr/>
          <p:nvPr/>
        </p:nvSpPr>
        <p:spPr>
          <a:xfrm>
            <a:off x="468360" y="111276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图片 4" descr=""/>
          <p:cNvPicPr/>
          <p:nvPr/>
        </p:nvPicPr>
        <p:blipFill>
          <a:blip r:embed="rId1"/>
          <a:stretch/>
        </p:blipFill>
        <p:spPr>
          <a:xfrm>
            <a:off x="725400" y="1916280"/>
            <a:ext cx="8078760" cy="3889080"/>
          </a:xfrm>
          <a:prstGeom prst="rect">
            <a:avLst/>
          </a:prstGeom>
          <a:ln w="0">
            <a:noFill/>
          </a:ln>
        </p:spPr>
      </p:pic>
      <p:sp>
        <p:nvSpPr>
          <p:cNvPr id="486" name="TextBox 3"/>
          <p:cNvSpPr/>
          <p:nvPr/>
        </p:nvSpPr>
        <p:spPr>
          <a:xfrm>
            <a:off x="739800" y="26859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米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线连接符 21"/>
          <p:cNvSpPr/>
          <p:nvPr/>
        </p:nvSpPr>
        <p:spPr>
          <a:xfrm flipV="1">
            <a:off x="468360" y="1766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3:50:33Z</dcterms:created>
  <dc:creator/>
  <dc:description/>
  <cp:keywords/>
  <dc:language>en-US</dc:language>
  <cp:lastModifiedBy>微软用户</cp:lastModifiedBy>
  <dcterms:modified xsi:type="dcterms:W3CDTF">2020-04-10T03:19:32Z</dcterms:modified>
  <cp:revision>50</cp:revision>
  <dc:subject/>
  <dc:title>幻灯片 1</dc:title>
</cp:coreProperties>
</file>