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9.gif" ContentType="image/gif"/>
  <Override PartName="/ppt/media/image24.gif" ContentType="image/gif"/>
  <Override PartName="/ppt/media/image16.jpeg" ContentType="image/jpe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7.png" ContentType="image/png"/>
  <Override PartName="/ppt/media/image15.jpeg" ContentType="image/jpeg"/>
  <Override PartName="/ppt/media/image28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FDD8-CB90-4113-8304-9965301A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F997-E1E8-44ED-BFCB-80DD4431E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素材天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486-DE74-40BB-8DF9-9C79F565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F80-7F4F-4FE5-9F65-CA8C854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CBF-3432-421F-8561-087662C8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5CB-A179-46B8-84B2-1EBFA86A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BF9A-AEC6-4F5D-AAE7-842B0FB1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FA6-1BC0-4141-8428-58CD92F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FA0-3CAB-4B7A-8F3A-1AFB534F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4FD2-2636-447D-AAA9-070F923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FBA4-E4D9-4212-AEDD-1F716849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D175-F4F6-4CEF-BE8C-ADD6DB3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EF4-7826-4CA4-B922-6361A70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8A-F709-4831-9671-29EDC94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9339-12D0-4713-A317-C3359A3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BEA-A4FA-40A7-9A31-E08ACCE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C4D-991C-43D9-BEE0-87D16392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A1E5-5EA0-4E15-8122-404EEDD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44D-C78A-4037-BB79-33623901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CB5-253A-4FCA-9EAC-2740A571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99F-EB6D-4772-AE65-F1879121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148-EEAC-43F8-993C-7831613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6BA-2FC5-4581-A172-BCE65148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516-F93A-4C90-91AB-34C5DBA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B9C-AEE4-4389-8601-459F135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3CA-C83C-461E-9473-5EC644C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88D0-7FCC-410E-9031-DEC5BA6C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E56-28BF-4800-A54B-7FEB53FC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124080" y="838080"/>
            <a:ext cx="2362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新宋体"/>
              </a:rPr>
              <a:t>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新宋体"/>
              </a:rPr>
              <a:t>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新宋体"/>
              </a:rPr>
              <a:t>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五）悬钟馗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民间传说为抓鬼大帝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钟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有辟鬼的能力。原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的，明末清初才在端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悬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yp12"/>
          <p:cNvPicPr/>
          <p:nvPr/>
        </p:nvPicPr>
        <p:blipFill>
          <a:blip r:embed="rId2"/>
          <a:stretch/>
        </p:blipFill>
        <p:spPr>
          <a:xfrm>
            <a:off x="5334120" y="1752480"/>
            <a:ext cx="2654280" cy="38862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43570" dir="2700000" blurRad="0" rotWithShape="0">
              <a:srgbClr val="6666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六）佩香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212640811295"/>
          <p:cNvPicPr/>
          <p:nvPr/>
        </p:nvPicPr>
        <p:blipFill>
          <a:blip r:embed="rId2"/>
          <a:stretch/>
        </p:blipFill>
        <p:spPr>
          <a:xfrm>
            <a:off x="990720" y="3733920"/>
            <a:ext cx="3200400" cy="2225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33520" y="24591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午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佩香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但有避邪驱瘟之意，而且有点缀之风。香囊内有朱砂、雄黄、香药，外包以丝布，清香四溢，再作各种不同形状，结成一串，形形色色，玲珑夺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1327090"/>
          <p:cNvPicPr/>
          <p:nvPr/>
        </p:nvPicPr>
        <p:blipFill>
          <a:blip r:embed="rId3"/>
          <a:stretch/>
        </p:blipFill>
        <p:spPr>
          <a:xfrm>
            <a:off x="4952880" y="37339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体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午物品制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洗净蛋的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画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彩笔或水粉颜料绘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画面整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形而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ys08528c_9"/>
          <p:cNvPicPr/>
          <p:nvPr/>
        </p:nvPicPr>
        <p:blipFill>
          <a:blip r:embed="rId2"/>
          <a:stretch/>
        </p:blipFill>
        <p:spPr>
          <a:xfrm>
            <a:off x="5410080" y="21337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彩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卡纸制成粽子造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彩线外部缠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配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色彩搭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缠线均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62_53447_33d44f6aab13314"/>
          <p:cNvPicPr/>
          <p:nvPr/>
        </p:nvPicPr>
        <p:blipFill>
          <a:blip r:embed="rId2"/>
          <a:stretch/>
        </p:blipFill>
        <p:spPr>
          <a:xfrm>
            <a:off x="5334120" y="2057400"/>
            <a:ext cx="29145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香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724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用碎布一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块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画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上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欢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图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桃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圆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形、三角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剪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对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两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片，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线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从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反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缝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大半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，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后翻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到正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再用棉花蘸香料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从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缺口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进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去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缝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PMingLiU"/>
              </a:rPr>
              <a:t>点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配饰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穿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PMingLiU"/>
              </a:rPr>
              <a:t>长绳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PMingLiU"/>
              </a:rPr>
              <a:t>，就是很香很香的香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327090"/>
          <p:cNvPicPr/>
          <p:nvPr/>
        </p:nvPicPr>
        <p:blipFill>
          <a:blip r:embed="rId2"/>
          <a:stretch/>
        </p:blipFill>
        <p:spPr>
          <a:xfrm>
            <a:off x="5334120" y="2286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u=940905670,770381678&amp;fm=0&amp;gp=0"/>
          <p:cNvPicPr/>
          <p:nvPr/>
        </p:nvPicPr>
        <p:blipFill>
          <a:blip r:embed="rId3"/>
          <a:stretch/>
        </p:blipFill>
        <p:spPr>
          <a:xfrm>
            <a:off x="1752480" y="838080"/>
            <a:ext cx="1314720" cy="1295640"/>
          </a:xfrm>
          <a:prstGeom prst="rect">
            <a:avLst/>
          </a:prstGeom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"/>
          <p:cNvPicPr/>
          <p:nvPr/>
        </p:nvPicPr>
        <p:blipFill>
          <a:blip r:embed="rId2"/>
          <a:stretch/>
        </p:blipFill>
        <p:spPr>
          <a:xfrm>
            <a:off x="633240" y="585720"/>
            <a:ext cx="78775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7226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書法中楷（注音一）"/>
              <a:ea typeface="書法中楷（注音一）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324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10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端午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214272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同学们吃过粽子吗？都吃过什么味的粽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dministrator\Desktop\QQ截图20161011160219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140" name="10端午粽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866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一读 ，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田字格"/>
          <p:cNvPicPr/>
          <p:nvPr/>
        </p:nvPicPr>
        <p:blipFill>
          <a:blip r:embed="rId2"/>
          <a:stretch/>
        </p:blipFill>
        <p:spPr>
          <a:xfrm>
            <a:off x="3500280" y="2786040"/>
            <a:ext cx="142416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田字格"/>
          <p:cNvPicPr/>
          <p:nvPr/>
        </p:nvPicPr>
        <p:blipFill>
          <a:blip r:embed="rId3"/>
          <a:stretch/>
        </p:blipFill>
        <p:spPr>
          <a:xfrm>
            <a:off x="2714760" y="4786200"/>
            <a:ext cx="142380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田字格"/>
          <p:cNvPicPr/>
          <p:nvPr/>
        </p:nvPicPr>
        <p:blipFill>
          <a:blip r:embed="rId4"/>
          <a:stretch/>
        </p:blipFill>
        <p:spPr>
          <a:xfrm>
            <a:off x="571680" y="4786200"/>
            <a:ext cx="142380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田字格"/>
          <p:cNvPicPr/>
          <p:nvPr/>
        </p:nvPicPr>
        <p:blipFill>
          <a:blip r:embed="rId5"/>
          <a:stretch/>
        </p:blipFill>
        <p:spPr>
          <a:xfrm>
            <a:off x="1357200" y="2786040"/>
            <a:ext cx="142416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田字格"/>
          <p:cNvPicPr/>
          <p:nvPr/>
        </p:nvPicPr>
        <p:blipFill>
          <a:blip r:embed="rId6"/>
          <a:stretch/>
        </p:blipFill>
        <p:spPr>
          <a:xfrm>
            <a:off x="4857840" y="4786200"/>
            <a:ext cx="14238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田字格"/>
          <p:cNvPicPr/>
          <p:nvPr/>
        </p:nvPicPr>
        <p:blipFill>
          <a:blip r:embed="rId7"/>
          <a:stretch/>
        </p:blipFill>
        <p:spPr>
          <a:xfrm>
            <a:off x="6929280" y="4714920"/>
            <a:ext cx="142416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田字格"/>
          <p:cNvPicPr/>
          <p:nvPr/>
        </p:nvPicPr>
        <p:blipFill>
          <a:blip r:embed="rId8"/>
          <a:stretch/>
        </p:blipFill>
        <p:spPr>
          <a:xfrm>
            <a:off x="5643720" y="2786040"/>
            <a:ext cx="142380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矩形 10"/>
          <p:cNvSpPr/>
          <p:nvPr/>
        </p:nvSpPr>
        <p:spPr>
          <a:xfrm>
            <a:off x="3802680" y="2714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873720" y="4714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3016800" y="4714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5159880" y="4714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1659600" y="2714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5945760" y="2714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6"/>
          <p:cNvSpPr/>
          <p:nvPr/>
        </p:nvSpPr>
        <p:spPr>
          <a:xfrm>
            <a:off x="7231680" y="4643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8"/>
          <p:cNvSpPr/>
          <p:nvPr/>
        </p:nvSpPr>
        <p:spPr>
          <a:xfrm>
            <a:off x="1698840" y="2143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9"/>
          <p:cNvSpPr/>
          <p:nvPr/>
        </p:nvSpPr>
        <p:spPr>
          <a:xfrm>
            <a:off x="3771000" y="2143080"/>
            <a:ext cx="7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>
            <a:off x="5883840" y="2143080"/>
            <a:ext cx="9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1"/>
          <p:cNvSpPr/>
          <p:nvPr/>
        </p:nvSpPr>
        <p:spPr>
          <a:xfrm>
            <a:off x="843840" y="41432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2"/>
          <p:cNvSpPr/>
          <p:nvPr/>
        </p:nvSpPr>
        <p:spPr>
          <a:xfrm>
            <a:off x="2883240" y="41432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3"/>
          <p:cNvSpPr/>
          <p:nvPr/>
        </p:nvSpPr>
        <p:spPr>
          <a:xfrm>
            <a:off x="5106240" y="4143240"/>
            <a:ext cx="10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4"/>
          <p:cNvSpPr/>
          <p:nvPr/>
        </p:nvSpPr>
        <p:spPr>
          <a:xfrm>
            <a:off x="7116480" y="407196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3326760" y="1828800"/>
            <a:ext cx="1941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五月五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，是端午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门插艾，戴香囊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吃粽子，撒白糖。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龙舟下水喜洋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6" descr="午.gif"/>
          <p:cNvPicPr/>
          <p:nvPr/>
        </p:nvPicPr>
        <p:blipFill>
          <a:blip r:embed="rId2"/>
          <a:stretch/>
        </p:blipFill>
        <p:spPr>
          <a:xfrm>
            <a:off x="0" y="-27000"/>
            <a:ext cx="5991120" cy="599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7"/>
          <p:cNvSpPr/>
          <p:nvPr/>
        </p:nvSpPr>
        <p:spPr>
          <a:xfrm>
            <a:off x="6012000" y="1413000"/>
            <a:ext cx="293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中午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午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2623680" y="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春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端午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262368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节.gif"/>
          <p:cNvPicPr/>
          <p:nvPr/>
        </p:nvPicPr>
        <p:blipFill>
          <a:blip r:embed="rId2"/>
          <a:stretch/>
        </p:blipFill>
        <p:spPr>
          <a:xfrm>
            <a:off x="0" y="73656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绿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树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2602080" y="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5" descr="叶.gif"/>
          <p:cNvPicPr/>
          <p:nvPr/>
        </p:nvPicPr>
        <p:blipFill>
          <a:blip r:embed="rId2"/>
          <a:stretch/>
        </p:blipFill>
        <p:spPr>
          <a:xfrm>
            <a:off x="0" y="701640"/>
            <a:ext cx="6156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米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2625840" y="0"/>
            <a:ext cx="71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4" descr="米.gif"/>
          <p:cNvPicPr/>
          <p:nvPr/>
        </p:nvPicPr>
        <p:blipFill>
          <a:blip r:embed="rId2"/>
          <a:stretch/>
        </p:blipFill>
        <p:spPr>
          <a:xfrm>
            <a:off x="0" y="77328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认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真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2577600" y="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5" descr="真.gif"/>
          <p:cNvPicPr/>
          <p:nvPr/>
        </p:nvPicPr>
        <p:blipFill>
          <a:blip r:embed="rId2"/>
          <a:stretch/>
        </p:blipFill>
        <p:spPr>
          <a:xfrm>
            <a:off x="0" y="77328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分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区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8"/>
          <p:cNvSpPr/>
          <p:nvPr/>
        </p:nvSpPr>
        <p:spPr>
          <a:xfrm>
            <a:off x="2611440" y="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4" descr="分.gif"/>
          <p:cNvPicPr/>
          <p:nvPr/>
        </p:nvPicPr>
        <p:blipFill>
          <a:blip r:embed="rId2"/>
          <a:stretch/>
        </p:blipFill>
        <p:spPr>
          <a:xfrm>
            <a:off x="0" y="630360"/>
            <a:ext cx="622764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7"/>
          <p:cNvSpPr/>
          <p:nvPr/>
        </p:nvSpPr>
        <p:spPr>
          <a:xfrm>
            <a:off x="6012000" y="2349360"/>
            <a:ext cx="293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黄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豆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2611800" y="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5" descr="豆.gif"/>
          <p:cNvPicPr/>
          <p:nvPr/>
        </p:nvPicPr>
        <p:blipFill>
          <a:blip r:embed="rId2"/>
          <a:stretch/>
        </p:blipFill>
        <p:spPr>
          <a:xfrm>
            <a:off x="0" y="773280"/>
            <a:ext cx="60847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一读，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0040" y="2214720"/>
            <a:ext cx="67579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端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粽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子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  糯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十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红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肉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去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道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据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  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Users\Administrator\Desktop\QQ截图20161011160219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480" y="1000080"/>
            <a:ext cx="7643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粽子是用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青青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箬竹叶包的，里面裹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白白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糯米，中间有一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红红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枣。外婆一掀开锅盖，煮熟的粽子就飘出一股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清香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。剥开粽叶，咬一口粽子，真是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又粘又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Administrator\Desktop\QQ截图20161011160219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51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想一想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2143080"/>
            <a:ext cx="71866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外婆的粽子是怎么做的 ？闻起来怎么样？味道如何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Administrator\Desktop\QQ截图20161011160219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0" y="1905120"/>
            <a:ext cx="7696080" cy="3733560"/>
          </a:xfrm>
          <a:prstGeom prst="rect">
            <a:avLst/>
          </a:prstGeom>
          <a:gradFill rotWithShape="0">
            <a:gsLst>
              <a:gs pos="0">
                <a:srgbClr val="99cc00">
                  <a:alpha val="54117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农历五月初五，俗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午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端是“开端”，“初”的意思。初五可以称为端五。农历以地支纪月，正月建寅，二月为卯，顺次至五月为午，因此称五月为午月，“五”与“午”通，“五”又为阳数，故端午又名端五、端阳、重五等。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端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时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值夏季，正是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始流行的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，因此端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的由來，可追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驱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邪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</a:t>
            </a: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，以求身心的平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8280" y="944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30320" y="15541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认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午节”的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13840" y="16430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d0d0d"/>
                </a:solidFill>
                <a:latin typeface="楷体"/>
                <a:ea typeface="楷体"/>
              </a:rPr>
              <a:t>外婆包的粽子十分好吃，花样也多。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除了红枣粽，还有红豆粽和鲜肉棕。</a:t>
            </a:r>
            <a:r>
              <a:rPr b="1" lang="zh-CN" sz="3600" spc="-1" strike="noStrike">
                <a:solidFill>
                  <a:srgbClr val="0d0d0d"/>
                </a:solidFill>
                <a:latin typeface="楷体"/>
                <a:ea typeface="楷体"/>
              </a:rPr>
              <a:t>我们在外婆家美滋滋地吃了之后，外婆还会装一小篮粽子要我们带回去，分给邻居吃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d0d0d"/>
                </a:solidFill>
                <a:latin typeface="楷体"/>
                <a:ea typeface="楷体"/>
              </a:rPr>
              <a:t>长大了我才知道，人们端午节吃粽子，据说是为了纪念爱国诗人屈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除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2000160"/>
            <a:ext cx="75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除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苹果，我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喜欢吃西瓜和葡萄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除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告诉你的，你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知道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除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爸爸妈妈和我，家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爷爷奶奶和弟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想一想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071360"/>
            <a:ext cx="82296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外婆会包哪几种粽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外婆为什么要我们带一小篮粽子回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人们为什么要在端午节吃粽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还知道端午节的哪些习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Administrator\Desktop\QQ截图20161011160219.png"/>
          <p:cNvPicPr/>
          <p:nvPr/>
        </p:nvPicPr>
        <p:blipFill>
          <a:blip r:embed="rId2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4419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端午节的由来与传说主要源于纪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屈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屈原，是春秋时期楚怀王的大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遭到贵族的诬陷，被赶出都城。他在流放中，写下了忧国忧民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不朽诗篇，独具风貌，影响深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秦军攻破楚国京都。屈原心如刀割，于五月五日，在写下了绝笔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怀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后，抱石投汨罗江而死，以自己的生命谱写了一曲壮丽的爱国主义乐章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51"/>
          <p:cNvPicPr/>
          <p:nvPr/>
        </p:nvPicPr>
        <p:blipFill>
          <a:blip r:embed="rId2"/>
          <a:stretch/>
        </p:blipFill>
        <p:spPr>
          <a:xfrm>
            <a:off x="5257800" y="1371600"/>
            <a:ext cx="304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感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端午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uanwu"/>
          <p:cNvPicPr/>
          <p:nvPr/>
        </p:nvPicPr>
        <p:blipFill>
          <a:blip r:embed="rId2"/>
          <a:stretch/>
        </p:blipFill>
        <p:spPr>
          <a:xfrm>
            <a:off x="1676520" y="1600200"/>
            <a:ext cx="56386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2362320"/>
            <a:ext cx="8001000" cy="3809880"/>
          </a:xfrm>
          <a:prstGeom prst="rect">
            <a:avLst/>
          </a:prstGeom>
          <a:gradFill rotWithShape="0">
            <a:gsLst>
              <a:gs pos="0">
                <a:srgbClr val="99cc00">
                  <a:alpha val="54117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一）吃粽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传说屈原死后，楚国百姓哀痛异常，纷纷涌到汨罗江边去凭吊屈原。渔夫们划起船只，在江上来回打捞他的真身。有位渔夫拿出为屈原准备的饭团、鸡蛋等食物丢进江里，希望让鱼龙虾蟹吃饱了，就不会吞食屈原的身体。最初用竹筒盛装糯米饭，以后渐用粽叶包米代替竹筒，</a:t>
            </a:r>
            <a:r>
              <a:rPr b="1" lang="zh-TW" sz="2800" spc="-1" strike="noStrike">
                <a:solidFill>
                  <a:srgbClr val="333300"/>
                </a:solidFill>
                <a:latin typeface="Arial"/>
                <a:ea typeface="PMingLiU"/>
              </a:rPr>
              <a:t>就成了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PMingLiU"/>
              </a:rPr>
              <a:t>粽子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076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划龙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时，楚人因舍不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屈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去，于是有许多人划船追赶拯救。他们争先恐后，追至洞庭湖时不见踪迹，成为龙舟竞渡之起源。现在已得到新的发展，突破了时间、地域界线，成为了国际性的体育赛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1010493.wmv" descr=""/>
          <p:cNvPicPr/>
          <p:nvPr/>
        </p:nvPicPr>
        <p:blipFill>
          <a:blip r:embed="rId2"/>
          <a:stretch/>
        </p:blipFill>
        <p:spPr>
          <a:xfrm>
            <a:off x="3840120" y="2895480"/>
            <a:ext cx="4160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2133720"/>
            <a:ext cx="7848720" cy="3809880"/>
          </a:xfrm>
          <a:prstGeom prst="rect">
            <a:avLst/>
          </a:prstGeom>
          <a:gradFill rotWithShape="0">
            <a:gsLst>
              <a:gs pos="0">
                <a:srgbClr val="99cc00">
                  <a:alpha val="54117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三）饮雄黄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屈原投江后，一位老医师则拿来一坛雄黄酒倒进江里，说是要药晕蛟龙水兽，以免伤害屈大夫；又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午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各种虫类，开始活跃起来，疫病渐多，雄黄具有消除疫病的功用；也是因白蛇传的故事，白蛇喝了雄黄酒之后，差点现出蛇形，所以民众则起而仿效，希望收到去邪的功能。且以余酒随洒墙壁间，以祛毒虫。有的小孩子不敢喝酒，父母 就会以雄黄酒在他们额上画一个「王」字，以使百毒不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四）挂艾叶菖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菖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片呈剑型，象征去除不祥的宝剑，插在门口可以避邪。后来的风俗则引伸为「蒲剑」，可 以斩千邪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艾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招百福，是一种可以治病的药草，有很浓的香味，插在门口，可驱虫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73961212570775769"/>
          <p:cNvPicPr/>
          <p:nvPr/>
        </p:nvPicPr>
        <p:blipFill>
          <a:blip r:embed="rId2"/>
          <a:stretch/>
        </p:blipFill>
        <p:spPr>
          <a:xfrm>
            <a:off x="685800" y="1752480"/>
            <a:ext cx="259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20-04-10T03:18:28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