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2.jpeg" ContentType="image/jpeg"/>
  <Override PartName="/ppt/media/image32.png" ContentType="image/png"/>
  <Override PartName="/ppt/media/image7.png" ContentType="image/png"/>
  <Override PartName="/ppt/media/image17.png" ContentType="image/png"/>
  <Override PartName="/ppt/media/type.wav" ContentType="audio/x-wav"/>
  <Override PartName="/ppt/media/image9.gif" ContentType="image/gif"/>
  <Override PartName="/ppt/media/image8.png" ContentType="image/png"/>
  <Override PartName="/ppt/media/image29.jpeg" ContentType="image/jpeg"/>
  <Override PartName="/ppt/media/image5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11.png" ContentType="image/png"/>
  <Override PartName="/ppt/media/camera.wav" ContentType="audio/x-wav"/>
  <Override PartName="/ppt/media/chimes.wav" ContentType="audio/x-wav"/>
  <Override PartName="/ppt/media/image6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3.jpeg" ContentType="image/jpeg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  <p:custShowLst>
    <p:custShow name="自定义放映 1" id="0">
      <p:sldLst>
        <p:sld r:id="rId41"/>
        <p:sld r:id="rId4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454-2537-4096-BE51-3238D4F7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B09-EF97-4AFC-9999-13900E7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C9B-A686-46C1-AAE4-B8094824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DE6-886F-4C8D-A353-75A352D7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A949-A405-46C4-B2B1-8494A12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5264-8F7B-47A9-92C6-85200FD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6723-112D-4825-9159-1180AE2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58A-4702-4310-8474-71FD72A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332-A5BF-4C70-87F3-459D0B7B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09A-5832-4497-92DF-0C971FF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DD1E-C601-43CF-B94C-52C1C3C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68F-4362-4DD1-A322-9E98A3E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A3A1-BDD8-489F-89AE-C9BFFDC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72D-DC38-4A93-A745-1BB50E7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55E-908F-4312-B9C7-64CD2B5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35A1-91E8-4C90-B016-810CEFBF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8439-AEAF-4649-BF2A-8D92EA99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25B5-7B09-4C21-97E3-DFA359CE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CCAE-369A-452D-80EE-F17BE1C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88A6-7DD2-4E03-BBEB-D85F49D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5FA3-C752-4F5B-9EEA-BEF22478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22EB-657F-4111-A6EF-876C852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798-FB66-4CA7-B9B0-A889AF4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8BD7-F265-4C15-B6D1-C50DD95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5D46-B5D6-44B4-81E9-2935618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489A-D6A6-4AEC-A167-6560E83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D37F-B94D-45F1-BE89-726221B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A018-08D0-4D54-970E-07BDD9DA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96C6-02CF-478D-A5E3-4C1B3743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6896-6522-44B1-8C6E-9046FDFE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4BBF-E16D-4273-B0AE-EBECEE85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642F-E55A-4CC4-A83A-3972AEC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B2FA-38CE-4763-9BC2-4599FA9C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5A8-7952-403D-93DA-015FA48F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4512-6EBC-46B5-8C42-2B21AC7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77DC-A233-4EBD-AEA9-4CEA962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78CC-6B2B-4D33-8AAF-A228738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46E6-05B4-464B-8253-ECC8B84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77CE-3679-4DED-80B1-B2AF46B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C687-6F80-4FD3-B64F-AB90C02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1E8E-2976-43C9-ACD0-C8F2CE4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0B30-E96A-4764-BC62-3671892A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C662-2EA6-45B0-B065-838239E5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AFA-DABF-43B7-8C27-61A052E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91C-D044-47EE-A20F-392BE0D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059-F553-4EC2-978D-6E396044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126-0A4C-4A2D-975A-3C6B19E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05C-1E26-4031-ADDB-8B42DE1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95C1-0F74-465A-BA56-990A8C3AA56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CAA-B000-4D78-A130-4497C6C7EE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BE58-F00B-4A85-ABB4-8F076687E7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F69A-0C7E-4B49-AF6B-7B3810B3A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7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slide" Target="slide7.xml"/><Relationship Id="rId1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" Target="slide7.xml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gif"/><Relationship Id="rId3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gif"/><Relationship Id="rId3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gif"/><Relationship Id="rId3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美丽的彩虹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丁丁说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彩虹是一座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神奇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桥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想从这座桥上走过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去看看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遥远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银河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42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rcRect l="4169" t="11110" r="8333" b="3874"/>
          <a:stretch/>
        </p:blipFill>
        <p:spPr>
          <a:xfrm>
            <a:off x="1219320" y="990720"/>
            <a:ext cx="6400800" cy="4663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219320" y="817560"/>
            <a:ext cx="6476760" cy="214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143000" y="5638680"/>
            <a:ext cx="6477120" cy="214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7608240" y="581184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丁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彩虹是一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奇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想从这座桥上走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看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银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冬冬说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彩虹是一条美丽的项链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上的仙女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戴上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它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一定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会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更加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好看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79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rcRect l="29032" t="9874" r="22583" b="9819"/>
          <a:stretch/>
        </p:blipFill>
        <p:spPr>
          <a:xfrm>
            <a:off x="1066680" y="228600"/>
            <a:ext cx="4800600" cy="6248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8217720" y="611676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086600" y="4572000"/>
            <a:ext cx="1600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冬冬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彩虹是一条美丽的项链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的仙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加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好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9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弟弟问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如果从彩虹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顶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上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滑下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会是哪里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能不能到太空人的家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3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rcRect l="5209" t="11110" r="7293" b="4165"/>
          <a:stretch/>
        </p:blipFill>
        <p:spPr>
          <a:xfrm>
            <a:off x="1219320" y="1066680"/>
            <a:ext cx="6400800" cy="4648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62012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77240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39625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586728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>
            <a:lum contrast="-16000"/>
          </a:blip>
          <a:stretch/>
        </p:blipFill>
        <p:spPr>
          <a:xfrm>
            <a:off x="2286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21337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7696080" y="3962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7772400" y="5410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579132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2">
            <a:lum contrast="6000"/>
          </a:blip>
          <a:stretch/>
        </p:blipFill>
        <p:spPr>
          <a:xfrm>
            <a:off x="3429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3">
            <a:lum contrast="-12000"/>
          </a:blip>
          <a:stretch/>
        </p:blipFill>
        <p:spPr>
          <a:xfrm>
            <a:off x="0" y="1981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5">
            <a:lum contrast="-6000"/>
          </a:blip>
          <a:stretch/>
        </p:blipFill>
        <p:spPr>
          <a:xfrm>
            <a:off x="53352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370000" y="59641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6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弟弟问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如果从彩虹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顶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上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滑下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会是哪里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能不能到太空人的家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3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妹妹问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是谁让彩虹这样美丽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是谁为它画了七彩衣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谁有这样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巨大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笔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rcRect l="28129" t="6945" r="21874" b="1386"/>
          <a:stretch/>
        </p:blipFill>
        <p:spPr>
          <a:xfrm>
            <a:off x="2743200" y="685800"/>
            <a:ext cx="3824280" cy="5257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438280" y="5410080"/>
            <a:ext cx="4343400" cy="860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2438280" y="304920"/>
            <a:ext cx="762120" cy="5790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6019920" y="457200"/>
            <a:ext cx="914400" cy="55627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2514600" y="380880"/>
            <a:ext cx="4267080" cy="914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227000" y="5735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121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妹妹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谁让彩虹这样美丽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谁为它画了七彩衣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有这样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巨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笔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403280" y="1989000"/>
            <a:ext cx="7121520" cy="30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过天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道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彩虹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高挂在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空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3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10920" y="1773000"/>
            <a:ext cx="828036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彩虹的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颜色越来越淡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渐渐地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它回到了白云中间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0481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0199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15238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7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8"/>
          <a:stretch/>
        </p:blipFill>
        <p:spPr>
          <a:xfrm>
            <a:off x="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1676520" y="1219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0"/>
          <a:stretch/>
        </p:blipFill>
        <p:spPr>
          <a:xfrm>
            <a:off x="327672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1"/>
          <a:stretch/>
        </p:blipFill>
        <p:spPr>
          <a:xfrm>
            <a:off x="495288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2"/>
          <a:stretch/>
        </p:blipFill>
        <p:spPr>
          <a:xfrm>
            <a:off x="632448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3"/>
          <a:stretch/>
        </p:blipFill>
        <p:spPr>
          <a:xfrm>
            <a:off x="754380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4"/>
          <a:stretch/>
        </p:blipFill>
        <p:spPr>
          <a:xfrm>
            <a:off x="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5"/>
          <a:stretch/>
        </p:blipFill>
        <p:spPr>
          <a:xfrm>
            <a:off x="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6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7"/>
          <a:stretch/>
        </p:blipFill>
        <p:spPr>
          <a:xfrm>
            <a:off x="144792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8"/>
          <a:stretch/>
        </p:blipFill>
        <p:spPr>
          <a:xfrm>
            <a:off x="144792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9"/>
          <a:stretch/>
        </p:blipFill>
        <p:spPr>
          <a:xfrm>
            <a:off x="12952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0"/>
          <a:stretch/>
        </p:blipFill>
        <p:spPr>
          <a:xfrm>
            <a:off x="304812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1"/>
          <a:stretch/>
        </p:blipFill>
        <p:spPr>
          <a:xfrm>
            <a:off x="3048120" y="4038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2"/>
          <a:stretch/>
        </p:blipFill>
        <p:spPr>
          <a:xfrm>
            <a:off x="28195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3"/>
          <a:stretch/>
        </p:blipFill>
        <p:spPr>
          <a:xfrm>
            <a:off x="472428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4"/>
          <a:stretch/>
        </p:blipFill>
        <p:spPr>
          <a:xfrm>
            <a:off x="624852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5"/>
          <a:stretch/>
        </p:blipFill>
        <p:spPr>
          <a:xfrm>
            <a:off x="7543800" y="3200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6"/>
          <a:stretch/>
        </p:blipFill>
        <p:spPr>
          <a:xfrm>
            <a:off x="495288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7"/>
          <a:stretch/>
        </p:blipFill>
        <p:spPr>
          <a:xfrm>
            <a:off x="48769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8"/>
          <a:stretch/>
        </p:blipFill>
        <p:spPr>
          <a:xfrm>
            <a:off x="6477120" y="4343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9"/>
          <a:stretch/>
        </p:blipFill>
        <p:spPr>
          <a:xfrm>
            <a:off x="65530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0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80880" y="1295280"/>
            <a:ext cx="390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雨过天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道彩虹高高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丁丁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座神奇的桥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我想从这座桥上走过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去看看遥远的银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冬冬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条美丽的项链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天上的仙女戴上它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定会更加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1295280"/>
            <a:ext cx="441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弟弟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如果从彩虹顶上滑下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会是哪里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能不能到太空人的家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妹妹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让彩虹这样美丽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为它画了七彩衣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谁有这样巨大的笔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的颜色越来越淡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渐渐地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它回到了白云中间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1"/>
          <a:stretch/>
        </p:blipFill>
        <p:spPr>
          <a:xfrm>
            <a:off x="2590920" y="304920"/>
            <a:ext cx="3733560" cy="779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00400" y="380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美丽的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2"/>
          <a:stretch/>
        </p:blipFill>
        <p:spPr>
          <a:xfrm>
            <a:off x="5105520" y="228600"/>
            <a:ext cx="38098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883908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3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5689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雨过天晴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一道彩虹高高挂在天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丁丁说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彩虹是一座神奇的桥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我想从这座桥上走过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去看看遥远的银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冬冬说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彩虹是一条美丽的项链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天上的仙女戴上它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一定会更加好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7456320" y="1052640"/>
            <a:ext cx="10033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黑体"/>
              </a:rPr>
              <a:t>美丽的彩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740720" y="458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443640" y="51577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5761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弟弟问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从彩虹顶上滑下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是哪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能不能到太空人的家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妹妹问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让彩虹这样美丽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为它画了七彩衣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谁有这样巨大的笔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彩虹的颜色越来越淡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渐渐地，它回到了白云中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456320" y="1052640"/>
            <a:ext cx="10033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黑体"/>
              </a:rPr>
              <a:t>美丽的彩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476360" y="47628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（      ）彩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9640" y="1268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  </a:t>
            </a: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道（      ）的彩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76360" y="213372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（      ）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1640" y="2852640"/>
            <a:ext cx="590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座（      ）的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42920" y="3645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  </a:t>
            </a: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（      ）项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4437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cc00cc"/>
                </a:solidFill>
                <a:latin typeface="Comic Sans MS"/>
              </a:rPr>
              <a:t>一条（      ）的项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17040" y="40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16360" y="1197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72680" y="206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68280" y="2781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神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72680" y="357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68280" y="44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09600" y="1197000"/>
            <a:ext cx="10947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我会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彩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0481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60199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5238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1676520" y="1219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327672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495288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632448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754380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4"/>
          <a:stretch/>
        </p:blipFill>
        <p:spPr>
          <a:xfrm>
            <a:off x="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5"/>
          <a:stretch/>
        </p:blipFill>
        <p:spPr>
          <a:xfrm>
            <a:off x="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6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7"/>
          <a:stretch/>
        </p:blipFill>
        <p:spPr>
          <a:xfrm>
            <a:off x="144792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8"/>
          <a:stretch/>
        </p:blipFill>
        <p:spPr>
          <a:xfrm>
            <a:off x="144792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9"/>
          <a:stretch/>
        </p:blipFill>
        <p:spPr>
          <a:xfrm>
            <a:off x="12952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0"/>
          <a:stretch/>
        </p:blipFill>
        <p:spPr>
          <a:xfrm>
            <a:off x="304812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1"/>
          <a:stretch/>
        </p:blipFill>
        <p:spPr>
          <a:xfrm>
            <a:off x="3048120" y="4038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2"/>
          <a:stretch/>
        </p:blipFill>
        <p:spPr>
          <a:xfrm>
            <a:off x="28195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3"/>
          <a:stretch/>
        </p:blipFill>
        <p:spPr>
          <a:xfrm>
            <a:off x="472428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4"/>
          <a:stretch/>
        </p:blipFill>
        <p:spPr>
          <a:xfrm>
            <a:off x="624852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5"/>
          <a:stretch/>
        </p:blipFill>
        <p:spPr>
          <a:xfrm>
            <a:off x="7543800" y="3200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6"/>
          <a:stretch/>
        </p:blipFill>
        <p:spPr>
          <a:xfrm>
            <a:off x="495288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7"/>
          <a:stretch/>
        </p:blipFill>
        <p:spPr>
          <a:xfrm>
            <a:off x="48769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8"/>
          <a:stretch/>
        </p:blipFill>
        <p:spPr>
          <a:xfrm>
            <a:off x="6477120" y="4343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9"/>
          <a:stretch/>
        </p:blipFill>
        <p:spPr>
          <a:xfrm>
            <a:off x="65530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0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80880" y="1295280"/>
            <a:ext cx="390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雨过天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道彩虹高高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丁丁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座神奇的桥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我想从这座桥上走过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去看看遥远的银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冬冬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条美丽的项链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天上的仙女戴上它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定会更加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295280"/>
            <a:ext cx="441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弟弟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如果从彩虹顶上滑下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会是哪里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能不能到太空人的家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妹妹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让彩虹这样美丽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为它画了七彩衣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谁有这样巨大的笔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的颜色越来越淡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渐渐地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它回到了白云中间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1"/>
          <a:stretch/>
        </p:blipFill>
        <p:spPr>
          <a:xfrm>
            <a:off x="2590920" y="304920"/>
            <a:ext cx="3733560" cy="779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0400" y="380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美丽的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2"/>
          <a:stretch/>
        </p:blipFill>
        <p:spPr>
          <a:xfrm>
            <a:off x="5105520" y="228600"/>
            <a:ext cx="38098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0920" y="1557360"/>
            <a:ext cx="871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雨过天晴    一道彩虹    挂在     天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一座神奇的桥    遥远    银河    仙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一条美丽的项链    戴上    一定   更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头顶   滑下    哪里    太空人   这样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七彩衣    巨大    颜色    越来越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渐渐地    中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95480" y="304920"/>
            <a:ext cx="2895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认一认 读一读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04920" y="5791320"/>
            <a:ext cx="85341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0481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0199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15238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1676520" y="1219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327672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495288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632448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754380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4"/>
          <a:stretch/>
        </p:blipFill>
        <p:spPr>
          <a:xfrm>
            <a:off x="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144792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8"/>
          <a:stretch/>
        </p:blipFill>
        <p:spPr>
          <a:xfrm>
            <a:off x="144792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9"/>
          <a:stretch/>
        </p:blipFill>
        <p:spPr>
          <a:xfrm>
            <a:off x="12952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0"/>
          <a:stretch/>
        </p:blipFill>
        <p:spPr>
          <a:xfrm>
            <a:off x="304812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1"/>
          <a:stretch/>
        </p:blipFill>
        <p:spPr>
          <a:xfrm>
            <a:off x="3048120" y="4038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2"/>
          <a:stretch/>
        </p:blipFill>
        <p:spPr>
          <a:xfrm>
            <a:off x="28195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3"/>
          <a:stretch/>
        </p:blipFill>
        <p:spPr>
          <a:xfrm>
            <a:off x="472428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4"/>
          <a:stretch/>
        </p:blipFill>
        <p:spPr>
          <a:xfrm>
            <a:off x="624852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5"/>
          <a:stretch/>
        </p:blipFill>
        <p:spPr>
          <a:xfrm>
            <a:off x="7543800" y="3200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6"/>
          <a:stretch/>
        </p:blipFill>
        <p:spPr>
          <a:xfrm>
            <a:off x="495288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7"/>
          <a:stretch/>
        </p:blipFill>
        <p:spPr>
          <a:xfrm>
            <a:off x="48769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8"/>
          <a:stretch/>
        </p:blipFill>
        <p:spPr>
          <a:xfrm>
            <a:off x="6477120" y="4343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9"/>
          <a:stretch/>
        </p:blipFill>
        <p:spPr>
          <a:xfrm>
            <a:off x="65530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0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0880" y="1295280"/>
            <a:ext cx="390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雨过天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道彩虹高高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丁丁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座神奇的桥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我想从这座桥上走过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去看看遥远的银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冬冬说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是一条美丽的项链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天上的仙女戴上它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一定会更加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441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弟弟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如果从彩虹顶上滑下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会是哪里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能不能到太空人的家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小妹妹问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让彩虹这样美丽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是谁为它画了七彩衣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谁有这样巨大的笔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彩虹的颜色越来越淡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渐渐地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a82d18"/>
                </a:solidFill>
                <a:latin typeface="Times New Roman"/>
                <a:ea typeface="楷体_GB2312"/>
              </a:rPr>
              <a:t>它回到了白云中间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1"/>
          <a:stretch/>
        </p:blipFill>
        <p:spPr>
          <a:xfrm>
            <a:off x="2590920" y="304920"/>
            <a:ext cx="3733560" cy="779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00400" y="380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美丽的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2"/>
          <a:stretch/>
        </p:blipFill>
        <p:spPr>
          <a:xfrm>
            <a:off x="5105520" y="228600"/>
            <a:ext cx="38098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403280" y="1989000"/>
            <a:ext cx="7121520" cy="30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雨过天晴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道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彩虹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高高挂在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天空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3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572000" y="464832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丁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14400" y="45925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 action="ppaction://hlinksldjump"/>
              </a:rPr>
              <a:t>冬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04720" y="45925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 action="ppaction://hlinksldjump"/>
              </a:rPr>
              <a:t>小弟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85400" y="46688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 action="ppaction://hlinksldjump"/>
              </a:rPr>
              <a:t>小妹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35560" y="50292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6" action="ppaction://hlinksldjump"/>
              </a:rPr>
              <a:t>回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03:57Z</dcterms:created>
  <dc:creator>fxzm</dc:creator>
  <dc:description/>
  <dc:language>en-US</dc:language>
  <cp:lastModifiedBy>微软用户</cp:lastModifiedBy>
  <dcterms:modified xsi:type="dcterms:W3CDTF">2012-04-09T13:22:20Z</dcterms:modified>
  <cp:revision>20</cp:revision>
  <dc:subject/>
  <dc:title>美丽的彩虹</dc:title>
</cp:coreProperties>
</file>