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923-6888-49A9-9D70-9079E146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BC5-0ED8-490B-96E4-983D14CB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369-F0A1-4A93-90A2-F9661CA6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AB1-703C-47D8-9F76-DD7C9ECB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526-F6C3-4EC5-B26A-3CD4D3EE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EBC-0EC3-415D-B395-C168759D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0466-519B-432D-8A37-6C9F186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85B9-5A99-4333-9B31-8ED01B47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B4B8-8105-4FDF-9614-4DDCFBB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66EA-5E7C-4ABD-9395-6B47664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ED76-8B91-40C9-A552-2D62271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244-555E-428A-AF6A-A2C4424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7C52-C1A7-4CFD-A6AF-144CAC17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05E2-FFE3-4BF9-B764-653D709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6D0D-B58E-4E16-BD6F-8E4B099B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198C-44D8-4E13-AB2E-2966EE2B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78DC-2987-4EB4-84C1-34F5CF13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D4B-C9CE-4496-8875-BE4F48E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6A4-8BA1-4377-8F52-9D392E85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9AD-F2CA-4A13-8A86-1C68719E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1CD-6552-4D1D-9591-B478372B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BE1-DA26-4FBF-A367-94140AB7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20F-BDCF-405B-AD85-6A86904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F4A-294F-4E6E-A3FF-C0BC6BE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DFB-1894-4D94-A307-910CE68621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AB4-C32D-48B6-8844-D779C75E22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4" descr="438358_124947380951IQ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5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226224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内容占位符 5" descr="草地蓝天.jpg"/>
          <p:cNvPicPr/>
          <p:nvPr/>
        </p:nvPicPr>
        <p:blipFill>
          <a:blip r:embed="rId1"/>
          <a:stretch/>
        </p:blipFill>
        <p:spPr>
          <a:xfrm>
            <a:off x="-214200" y="-162000"/>
            <a:ext cx="950112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内容占位符 3" descr="梯田.jpg"/>
          <p:cNvPicPr/>
          <p:nvPr/>
        </p:nvPicPr>
        <p:blipFill>
          <a:blip r:embed="rId1"/>
          <a:stretch/>
        </p:blipFill>
        <p:spPr>
          <a:xfrm>
            <a:off x="0" y="-1071720"/>
            <a:ext cx="9383760" cy="938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卡通图.jpg"/>
          <p:cNvPicPr/>
          <p:nvPr/>
        </p:nvPicPr>
        <p:blipFill>
          <a:blip r:embed="rId1"/>
          <a:stretch/>
        </p:blipFill>
        <p:spPr>
          <a:xfrm>
            <a:off x="0" y="-490680"/>
            <a:ext cx="9144000" cy="73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183716_105442035935_2"/>
          <p:cNvPicPr/>
          <p:nvPr/>
        </p:nvPicPr>
        <p:blipFill>
          <a:blip r:embed="rId1"/>
          <a:stretch/>
        </p:blipFill>
        <p:spPr>
          <a:xfrm>
            <a:off x="-324000" y="-1179360"/>
            <a:ext cx="9750600" cy="9254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2928600"/>
            <a:ext cx="9448920" cy="198900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楷体"/>
                <a:ea typeface="楷体"/>
              </a:rPr>
              <a:t>雨过天晴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楷体"/>
                <a:ea typeface="楷体"/>
              </a:rPr>
              <a:t>一道彩虹高高挂在天空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4797360"/>
            <a:ext cx="496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内容占位符 3" descr="草地彩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丁丁.jpg"/>
          <p:cNvPicPr/>
          <p:nvPr/>
        </p:nvPicPr>
        <p:blipFill>
          <a:blip r:embed="rId2"/>
          <a:stretch/>
        </p:blipFill>
        <p:spPr>
          <a:xfrm>
            <a:off x="3139920" y="-792000"/>
            <a:ext cx="4199040" cy="35478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冬冬.jpg"/>
          <p:cNvPicPr/>
          <p:nvPr/>
        </p:nvPicPr>
        <p:blipFill>
          <a:blip r:embed="rId3"/>
          <a:stretch/>
        </p:blipFill>
        <p:spPr>
          <a:xfrm>
            <a:off x="493560" y="-506520"/>
            <a:ext cx="2803680" cy="4206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"/>
          <p:cNvSpPr/>
          <p:nvPr/>
        </p:nvSpPr>
        <p:spPr>
          <a:xfrm>
            <a:off x="4286160" y="242892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丁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C:\Users\toshiba\AppData\Local\Microsoft\Windows\Temporary Internet Files\Content.IE5\X860V1JA\MC900418802[1].wmf"/>
          <p:cNvPicPr/>
          <p:nvPr/>
        </p:nvPicPr>
        <p:blipFill>
          <a:blip r:embed="rId4"/>
          <a:stretch/>
        </p:blipFill>
        <p:spPr>
          <a:xfrm>
            <a:off x="3475080" y="2620800"/>
            <a:ext cx="6113520" cy="47008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4"/>
          <p:cNvSpPr/>
          <p:nvPr/>
        </p:nvSpPr>
        <p:spPr>
          <a:xfrm>
            <a:off x="1714680" y="3214800"/>
            <a:ext cx="10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冬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929280" y="5214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妹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5286240" y="5929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弟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太阳形 10"/>
          <p:cNvSpPr/>
          <p:nvPr/>
        </p:nvSpPr>
        <p:spPr>
          <a:xfrm>
            <a:off x="822960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C:\Users\toshiba\AppData\Local\Microsoft\Windows\Temporary Internet Files\Content.IE5\NBPFXRQQ\MC900417864[1].wmf"/>
          <p:cNvPicPr/>
          <p:nvPr/>
        </p:nvPicPr>
        <p:blipFill>
          <a:blip r:embed="rId5"/>
          <a:stretch/>
        </p:blipFill>
        <p:spPr>
          <a:xfrm>
            <a:off x="1785960" y="4786200"/>
            <a:ext cx="1368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071440" y="4714920"/>
            <a:ext cx="4800600" cy="1357200"/>
          </a:xfrm>
          <a:prstGeom prst="rect">
            <a:avLst/>
          </a:prstGeom>
          <a:solidFill>
            <a:srgbClr val="558ed5">
              <a:alpha val="77000"/>
            </a:srgbClr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丁丁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彩虹是一座神奇的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DSC0138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6078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内容占位符 4" descr="拱桥.jpg"/>
          <p:cNvPicPr/>
          <p:nvPr/>
        </p:nvPicPr>
        <p:blipFill>
          <a:blip r:embed="rId1"/>
          <a:stretch/>
        </p:blipFill>
        <p:spPr>
          <a:xfrm>
            <a:off x="-6480" y="-6480"/>
            <a:ext cx="5511960" cy="4140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5" descr="彩虹桥.jpg"/>
          <p:cNvPicPr/>
          <p:nvPr/>
        </p:nvPicPr>
        <p:blipFill>
          <a:blip r:embed="rId2"/>
          <a:stretch/>
        </p:blipFill>
        <p:spPr>
          <a:xfrm>
            <a:off x="3614760" y="2706840"/>
            <a:ext cx="5535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85560" y="4785840"/>
            <a:ext cx="6072120" cy="1357560"/>
          </a:xfrm>
          <a:prstGeom prst="rect">
            <a:avLst/>
          </a:prstGeom>
          <a:solidFill>
            <a:srgbClr val="558ed5">
              <a:alpha val="7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"/>
                <a:ea typeface="楷体"/>
              </a:rPr>
              <a:t>彩虹是一座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神奇的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DSC0138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6078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DSC0138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6215040" cy="4527720"/>
          </a:xfrm>
          <a:prstGeom prst="rect">
            <a:avLst/>
          </a:prstGeom>
          <a:ln w="0">
            <a:noFill/>
          </a:ln>
        </p:spPr>
      </p:pic>
      <p:pic>
        <p:nvPicPr>
          <p:cNvPr id="134" name="银河配乐.mp3" descr=""/>
          <p:cNvPicPr/>
          <p:nvPr/>
        </p:nvPicPr>
        <p:blipFill>
          <a:blip r:embed="rId2"/>
          <a:stretch/>
        </p:blipFill>
        <p:spPr>
          <a:xfrm>
            <a:off x="2928960" y="3000240"/>
            <a:ext cx="509400" cy="509760"/>
          </a:xfrm>
          <a:prstGeom prst="rect">
            <a:avLst/>
          </a:prstGeom>
          <a:ln w="0">
            <a:noFill/>
          </a:ln>
        </p:spPr>
      </p:pic>
      <p:sp>
        <p:nvSpPr>
          <p:cNvPr id="135" name="矩形 6"/>
          <p:cNvSpPr/>
          <p:nvPr/>
        </p:nvSpPr>
        <p:spPr>
          <a:xfrm>
            <a:off x="1000080" y="4643280"/>
            <a:ext cx="707220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我想从这座桥上走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去看看遥远的银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2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内容占位符 4" descr="白银河.jpg"/>
          <p:cNvPicPr/>
          <p:nvPr/>
        </p:nvPicPr>
        <p:blipFill>
          <a:blip r:embed="rId1"/>
          <a:stretch/>
        </p:blipFill>
        <p:spPr>
          <a:xfrm>
            <a:off x="0" y="0"/>
            <a:ext cx="4286160" cy="3584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5" descr="彩圈.jpg"/>
          <p:cNvPicPr/>
          <p:nvPr/>
        </p:nvPicPr>
        <p:blipFill>
          <a:blip r:embed="rId2"/>
          <a:stretch/>
        </p:blipFill>
        <p:spPr>
          <a:xfrm>
            <a:off x="4438800" y="0"/>
            <a:ext cx="4705200" cy="3571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6" descr="类似银河系的星系.jpg"/>
          <p:cNvPicPr/>
          <p:nvPr/>
        </p:nvPicPr>
        <p:blipFill>
          <a:blip r:embed="rId3"/>
          <a:stretch/>
        </p:blipFill>
        <p:spPr>
          <a:xfrm>
            <a:off x="0" y="3714840"/>
            <a:ext cx="4295880" cy="31431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7" descr="银河蓝.jpg"/>
          <p:cNvPicPr/>
          <p:nvPr/>
        </p:nvPicPr>
        <p:blipFill>
          <a:blip r:embed="rId4"/>
          <a:stretch/>
        </p:blipFill>
        <p:spPr>
          <a:xfrm>
            <a:off x="4610160" y="3714840"/>
            <a:ext cx="453384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667640" y="5950080"/>
            <a:ext cx="792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会读词语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5736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雨过天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越来越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淡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丁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定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天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空  巨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顶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颜色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神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奇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遥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远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滑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仙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女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戴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上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七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彩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内容占位符 4" descr="银河圈.jpg"/>
          <p:cNvPicPr/>
          <p:nvPr/>
        </p:nvPicPr>
        <p:blipFill>
          <a:blip r:embed="rId1"/>
          <a:stretch/>
        </p:blipFill>
        <p:spPr>
          <a:xfrm>
            <a:off x="0" y="0"/>
            <a:ext cx="3857760" cy="5143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5" descr="银河.jpg"/>
          <p:cNvPicPr/>
          <p:nvPr/>
        </p:nvPicPr>
        <p:blipFill>
          <a:blip r:embed="rId2"/>
          <a:stretch/>
        </p:blipFill>
        <p:spPr>
          <a:xfrm>
            <a:off x="3929040" y="2681280"/>
            <a:ext cx="52149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5" descr="散落.jpg"/>
          <p:cNvPicPr/>
          <p:nvPr/>
        </p:nvPicPr>
        <p:blipFill>
          <a:blip r:embed="rId1"/>
          <a:stretch/>
        </p:blipFill>
        <p:spPr>
          <a:xfrm>
            <a:off x="0" y="0"/>
            <a:ext cx="5154480" cy="3701880"/>
          </a:xfrm>
          <a:prstGeom prst="rect">
            <a:avLst/>
          </a:prstGeom>
          <a:ln w="0">
            <a:noFill/>
          </a:ln>
        </p:spPr>
      </p:pic>
      <p:pic>
        <p:nvPicPr>
          <p:cNvPr id="150" name="内容占位符 4" descr="河状银河.jpg"/>
          <p:cNvPicPr/>
          <p:nvPr/>
        </p:nvPicPr>
        <p:blipFill>
          <a:blip r:embed="rId2"/>
          <a:stretch/>
        </p:blipFill>
        <p:spPr>
          <a:xfrm>
            <a:off x="3286080" y="3209760"/>
            <a:ext cx="5857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内容占位符 4" descr="银河系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57400" y="3714480"/>
            <a:ext cx="4800600" cy="2143080"/>
          </a:xfrm>
          <a:prstGeom prst="rect">
            <a:avLst/>
          </a:prstGeom>
          <a:solidFill>
            <a:srgbClr val="558ed5">
              <a:alpha val="77000"/>
            </a:srgbClr>
          </a:solidFill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丁丁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彩虹是一座神奇的桥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我想从这座桥上走过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去看看遥远的银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DSC0138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49291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SC01379">
            <a:hlinkClick r:id="rId1" action="ppaction://hlinksldjump"/>
          </p:cNvPr>
          <p:cNvPicPr/>
          <p:nvPr/>
        </p:nvPicPr>
        <p:blipFill>
          <a:blip r:embed="rId2"/>
          <a:srcRect l="0" t="0" r="110" b="-108"/>
          <a:stretch/>
        </p:blipFill>
        <p:spPr>
          <a:xfrm>
            <a:off x="0" y="1928880"/>
            <a:ext cx="3968640" cy="4929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28680" y="285840"/>
            <a:ext cx="54291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冬冬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彩虹是一条美丽的项链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天上的仙女戴上它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定会更加好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内容占位符 4" descr="七彩宝石项链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85680"/>
            <a:ext cx="91314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内容占位符 4" descr="彩虹项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16000" y="189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冬冬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彩虹是一条美丽的项链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天上的仙女戴上它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定会更加好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内容占位符 4" descr="草地彩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000680" y="857160"/>
            <a:ext cx="5000400" cy="4929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_____________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彩虹是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—————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—————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0" y="3643200"/>
            <a:ext cx="3929040" cy="2055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冬冬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彩虹是一条美丽的项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上的仙女戴上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定会更加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0" y="857160"/>
            <a:ext cx="3786120" cy="2055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丁丁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彩虹是一座神奇的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想从这座桥上走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看看遥远的银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183716_10544203593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矩形 4"/>
          <p:cNvSpPr/>
          <p:nvPr/>
        </p:nvSpPr>
        <p:spPr>
          <a:xfrm>
            <a:off x="395280" y="549360"/>
            <a:ext cx="6000840" cy="2837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小弟弟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如果从彩虹顶上滑下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会是哪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能不能到太空人的家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？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2700360" y="4149720"/>
            <a:ext cx="6215040" cy="2288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小妹妹问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是谁让彩虹这样美丽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是谁为它画了七彩衣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谁有这样巨大的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内容占位符 12" descr="蓝天白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E:\课堂教学\小语第二册（一下）\美丽的彩虹\图片素材\海边彩虹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矩形 5"/>
          <p:cNvSpPr/>
          <p:nvPr/>
        </p:nvSpPr>
        <p:spPr>
          <a:xfrm>
            <a:off x="1500120" y="2786040"/>
            <a:ext cx="6786720" cy="2287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"/>
                <a:ea typeface="楷体"/>
              </a:rPr>
              <a:t>彩虹的颜色越来越淡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"/>
                <a:ea typeface="楷体"/>
              </a:rPr>
              <a:t>渐渐地</a:t>
            </a:r>
            <a:r>
              <a:rPr b="1" lang="en-US" sz="4800" spc="-1" strike="noStrike">
                <a:solidFill>
                  <a:srgbClr val="002060"/>
                </a:solidFill>
                <a:latin typeface="楷体"/>
                <a:ea typeface="楷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"/>
                <a:ea typeface="楷体"/>
              </a:rPr>
              <a:t>它回到了白云中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183716_105442035935_2"/>
          <p:cNvPicPr/>
          <p:nvPr/>
        </p:nvPicPr>
        <p:blipFill>
          <a:blip r:embed="rId1"/>
          <a:stretch/>
        </p:blipFill>
        <p:spPr>
          <a:xfrm>
            <a:off x="-324000" y="-1179360"/>
            <a:ext cx="9750600" cy="9254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0" y="4797360"/>
            <a:ext cx="9448920" cy="206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楷体"/>
                <a:ea typeface="楷体"/>
              </a:rPr>
              <a:t>一道彩虹高高挂在天空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479736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雨过天晴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183716_10544203593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矩形 4" descr=""/>
          <p:cNvPicPr/>
          <p:nvPr/>
        </p:nvPicPr>
        <p:blipFill>
          <a:blip r:embed="rId2"/>
          <a:stretch/>
        </p:blipFill>
        <p:spPr>
          <a:xfrm>
            <a:off x="1798560" y="-109440"/>
            <a:ext cx="5778720" cy="15843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90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821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183716_10544203593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矩形 4" descr=""/>
          <p:cNvPicPr/>
          <p:nvPr/>
        </p:nvPicPr>
        <p:blipFill>
          <a:blip r:embed="rId2"/>
          <a:stretch/>
        </p:blipFill>
        <p:spPr>
          <a:xfrm>
            <a:off x="2309760" y="895320"/>
            <a:ext cx="462744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内容占位符 3" descr="小路湿漉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12000" y="5516640"/>
            <a:ext cx="792360" cy="66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内容占位符 3" descr="树叶水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内容占位符 3" descr="紫花水珠.jp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内容占位符 3" descr="蜘蛛网水珠.jpg"/>
          <p:cNvPicPr/>
          <p:nvPr/>
        </p:nvPicPr>
        <p:blipFill>
          <a:blip r:embed="rId1"/>
          <a:stretch/>
        </p:blipFill>
        <p:spPr>
          <a:xfrm>
            <a:off x="0" y="-455760"/>
            <a:ext cx="914400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内容占位符 3" descr="太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内容占位符 3" descr="雨后阳光洒落一地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6:11:48Z</dcterms:created>
  <dc:creator>toshiba</dc:creator>
  <dc:description/>
  <dc:language>en-US</dc:language>
  <cp:lastModifiedBy>微软用户</cp:lastModifiedBy>
  <dcterms:modified xsi:type="dcterms:W3CDTF">2017-04-11T12:14:33Z</dcterms:modified>
  <cp:revision>149</cp:revision>
  <dc:subject/>
  <dc:title>幻灯片 1</dc:title>
</cp:coreProperties>
</file>