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加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596960"/>
            <a:ext cx="821844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400" y="3957120"/>
            <a:ext cx="821844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400" y="159696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680" y="159696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5400" y="395712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6680" y="395712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5400" y="1596960"/>
            <a:ext cx="26460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4240" y="1596960"/>
            <a:ext cx="26460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2720" y="1596960"/>
            <a:ext cx="26460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5400" y="3957120"/>
            <a:ext cx="26460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4240" y="3957120"/>
            <a:ext cx="26460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2720" y="3957120"/>
            <a:ext cx="26460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FEEB1-3F7E-48C5-BF4B-79AF9AAC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5400" y="1596960"/>
            <a:ext cx="82184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5AA47-1199-42CB-BD5F-9AAB70BB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596960"/>
            <a:ext cx="8218440" cy="4518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AC71B-C1EA-4F66-ADD5-576ED27D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400" y="1596960"/>
            <a:ext cx="4010400" cy="4518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6680" y="1596960"/>
            <a:ext cx="4010400" cy="4518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839AE-D6E6-40DB-89F7-967BAB7A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709A5-C76F-4FE5-A99F-344334C1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5400" y="271080"/>
            <a:ext cx="82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5D4D7-45FC-4590-B0C2-17B1FE3C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400" y="159696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6680" y="1596960"/>
            <a:ext cx="4010400" cy="4518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400" y="395712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EEC17-41ED-46FD-8C9D-D1D5D03E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5400" y="1596960"/>
            <a:ext cx="82184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400" y="1596960"/>
            <a:ext cx="4010400" cy="4518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680" y="159696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6680" y="395712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844EE-C5CF-4B64-B216-6B598219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400" y="159696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680" y="159696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400" y="3957120"/>
            <a:ext cx="821844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F6262-F7A4-4450-98F5-17D90F1C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596960"/>
            <a:ext cx="821844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400" y="3957120"/>
            <a:ext cx="821844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EAEE8-6E93-4A21-B08E-BABFD686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696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6680" y="159696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5400" y="395712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6680" y="395712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4F56C-1410-46CB-9769-392614E7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400" y="1596960"/>
            <a:ext cx="26460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4240" y="1596960"/>
            <a:ext cx="26460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2720" y="1596960"/>
            <a:ext cx="26460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5400" y="3957120"/>
            <a:ext cx="26460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4240" y="3957120"/>
            <a:ext cx="26460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2720" y="3957120"/>
            <a:ext cx="26460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DBEE0-6DC9-4EB6-AADD-690C2BC8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7CF7E-6C41-4405-B7A3-3D5C75B2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5400" y="1596960"/>
            <a:ext cx="82184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A1708-0410-421D-BE55-A3AA7EF6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400" y="1596960"/>
            <a:ext cx="8218440" cy="4518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BD877-335D-4298-9AE8-4208DD3E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400" y="1596960"/>
            <a:ext cx="4010400" cy="4518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680" y="1596960"/>
            <a:ext cx="4010400" cy="4518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607E1-E0F6-4214-934E-613B68CB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F0FE0-B679-44CF-9F6B-8A6E7A05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5400" y="1596960"/>
            <a:ext cx="8218440" cy="4518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5400" y="271080"/>
            <a:ext cx="82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7BF6F-D54D-4CA8-8E22-2BB3CCFE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59696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6680" y="1596960"/>
            <a:ext cx="4010400" cy="4518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5400" y="395712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7B46D-4A65-4BF5-9E83-945429ED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400" y="1596960"/>
            <a:ext cx="4010400" cy="4518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6680" y="159696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6680" y="395712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D6A76-3DBA-4929-AFB1-BFA3EF28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59696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59696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5400" y="3957120"/>
            <a:ext cx="821844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2AC14-E1F9-48D4-BB3D-75B79C91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5400" y="1596960"/>
            <a:ext cx="821844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5400" y="3957120"/>
            <a:ext cx="821844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F1E48-3335-4D55-B65F-4BAAA0BC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5400" y="159696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6680" y="159696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5400" y="395712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6680" y="395712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2A2AA-D9DD-4D45-8370-C7E2EED1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5400" y="1596960"/>
            <a:ext cx="26460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4240" y="1596960"/>
            <a:ext cx="26460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12720" y="1596960"/>
            <a:ext cx="26460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5400" y="3957120"/>
            <a:ext cx="26460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4240" y="3957120"/>
            <a:ext cx="26460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12720" y="3957120"/>
            <a:ext cx="26460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DD64C-6BE8-4B19-B1DC-D1419C00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596960"/>
            <a:ext cx="4010400" cy="4518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6680" y="1596960"/>
            <a:ext cx="4010400" cy="4518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5400" y="271080"/>
            <a:ext cx="82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5400" y="159696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680" y="1596960"/>
            <a:ext cx="4010400" cy="4518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5400" y="395712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596960"/>
            <a:ext cx="4010400" cy="4518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680" y="159696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6680" y="395712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59696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680" y="1596960"/>
            <a:ext cx="401040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400" y="3957120"/>
            <a:ext cx="8218440" cy="215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8680"/>
            <a:ext cx="9144000" cy="5207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1680" y="6400800"/>
            <a:ext cx="9112320" cy="1144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http://i01.pic.sogou.com/58755012e9728896"/>
          <p:cNvPicPr/>
          <p:nvPr/>
        </p:nvPicPr>
        <p:blipFill>
          <a:blip r:embed="rId3"/>
          <a:stretch/>
        </p:blipFill>
        <p:spPr>
          <a:xfrm>
            <a:off x="7404120" y="5864400"/>
            <a:ext cx="623880" cy="68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5511960" y="6543720"/>
            <a:ext cx="3632040" cy="317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55440" y="879480"/>
            <a:ext cx="2614680" cy="2209680"/>
            <a:chOff x="55440" y="879480"/>
            <a:chExt cx="2614680" cy="2209680"/>
          </a:xfrm>
        </p:grpSpPr>
        <p:sp>
          <p:nvSpPr>
            <p:cNvPr id="41" name=""/>
            <p:cNvSpPr/>
            <p:nvPr/>
          </p:nvSpPr>
          <p:spPr>
            <a:xfrm>
              <a:off x="55440" y="1130400"/>
              <a:ext cx="648000" cy="1958760"/>
            </a:xfrm>
            <a:prstGeom prst="rect">
              <a:avLst/>
            </a:prstGeom>
            <a:gradFill rotWithShape="0">
              <a:gsLst>
                <a:gs pos="0">
                  <a:srgbClr val="3dbe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14360" y="1246320"/>
              <a:ext cx="225576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46160" y="879480"/>
              <a:ext cx="428400" cy="56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5400" y="1596960"/>
            <a:ext cx="8218440" cy="4518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466560" indent="-4665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9480" indent="-412920">
              <a:spcBef>
                <a:spcPts val="799"/>
              </a:spcBef>
              <a:buClr>
                <a:srgbClr val="3dbe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1280" indent="-3776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43120" indent="-378000">
              <a:spcBef>
                <a:spcPts val="799"/>
              </a:spcBef>
              <a:buClr>
                <a:srgbClr val="3dbe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5680" indent="-3585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5680" indent="-358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5680" indent="-358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61880" y="6229440"/>
            <a:ext cx="21621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EA7A-0016-46F2-A189-724B75E88FE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636960" y="6229440"/>
            <a:ext cx="20192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8CF4-2F7F-4EE7-B10A-2400289686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63680" y="6229440"/>
            <a:ext cx="2933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84600" y="6222960"/>
            <a:ext cx="4556160" cy="6382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25600" y="873000"/>
            <a:ext cx="3805200" cy="2632320"/>
            <a:chOff x="525600" y="873000"/>
            <a:chExt cx="3805200" cy="2632320"/>
          </a:xfrm>
        </p:grpSpPr>
        <p:sp>
          <p:nvSpPr>
            <p:cNvPr id="87" name=""/>
            <p:cNvSpPr/>
            <p:nvPr/>
          </p:nvSpPr>
          <p:spPr>
            <a:xfrm>
              <a:off x="525600" y="1047600"/>
              <a:ext cx="1028520" cy="2457720"/>
            </a:xfrm>
            <a:prstGeom prst="rect">
              <a:avLst/>
            </a:prstGeom>
            <a:gradFill rotWithShape="0">
              <a:gsLst>
                <a:gs pos="0">
                  <a:srgbClr val="3dbe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28880" y="1268280"/>
              <a:ext cx="3301920" cy="49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7720" y="873000"/>
              <a:ext cx="627120" cy="63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31440" y="1774800"/>
            <a:ext cx="7224840" cy="1162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461880" y="6229440"/>
            <a:ext cx="21621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FB6C-A193-404C-B6B8-61A766A2562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5"/>
          </p:nvPr>
        </p:nvSpPr>
        <p:spPr>
          <a:xfrm>
            <a:off x="6636960" y="6229440"/>
            <a:ext cx="20192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5DCE-B333-4C00-83AF-2B17EB8ABD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3163680" y="6229440"/>
            <a:ext cx="2933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35240" y="403200"/>
            <a:ext cx="6894360" cy="4784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124000" y="1052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53735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953735"/>
                </a:solidFill>
                <a:latin typeface="宋体"/>
              </a:rPr>
              <a:t>11  </a:t>
            </a:r>
            <a:r>
              <a:rPr b="1" lang="zh-CN" sz="3600" spc="-1" strike="noStrike">
                <a:solidFill>
                  <a:srgbClr val="953735"/>
                </a:solidFill>
                <a:latin typeface="宋体"/>
              </a:rPr>
              <a:t>彩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1698480"/>
            <a:ext cx="2448000" cy="2556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2666880"/>
            <a:ext cx="38102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51600" y="44370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学生  反反复复飞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70360" y="334008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4000" y="855720"/>
            <a:ext cx="2000160" cy="515880"/>
          </a:xfrm>
          <a:prstGeom prst="pie">
            <a:avLst/>
          </a:prstGeom>
          <a:solidFill>
            <a:srgbClr val="c6d9f1"/>
          </a:soli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96920" y="1484280"/>
            <a:ext cx="2287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78560" y="8557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二、课文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17748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“我”能想象出这么多事，说明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4680" y="3021120"/>
            <a:ext cx="77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说明我是一个“想象力”丰富的孩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98520" y="4941720"/>
            <a:ext cx="925560" cy="123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89000" y="3554280"/>
            <a:ext cx="3956040" cy="279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24000" y="855720"/>
            <a:ext cx="2000160" cy="515880"/>
          </a:xfrm>
          <a:prstGeom prst="pie">
            <a:avLst/>
          </a:prstGeom>
          <a:solidFill>
            <a:srgbClr val="c6d9f1"/>
          </a:soli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96920" y="1484280"/>
            <a:ext cx="2287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78560" y="8557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二、课文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8360" y="1484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全班集体读二、三、四段，你发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7956720" y="1177920"/>
            <a:ext cx="925200" cy="1241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68360" y="2711520"/>
            <a:ext cx="80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       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我为每一个家人都做了事情。这三段最后一句话都是“你高兴吗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24000" y="855720"/>
            <a:ext cx="2000160" cy="515880"/>
          </a:xfrm>
          <a:prstGeom prst="pie">
            <a:avLst/>
          </a:prstGeom>
          <a:solidFill>
            <a:srgbClr val="c6d9f1"/>
          </a:soli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96920" y="1484280"/>
            <a:ext cx="2287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78560" y="8557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二、课文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1484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从这些发现上你觉得“我”是一个什么样的孩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956720" y="1177920"/>
            <a:ext cx="925200" cy="12412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68360" y="2711520"/>
            <a:ext cx="80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      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是一个 懂事、关心父母、关心家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0720" y="350028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同学们平时在家里是怎么做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19240" y="3548160"/>
            <a:ext cx="4273560" cy="30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19240" y="3548160"/>
            <a:ext cx="4273560" cy="30286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4000" y="855720"/>
            <a:ext cx="2000160" cy="515880"/>
          </a:xfrm>
          <a:prstGeom prst="pie">
            <a:avLst/>
          </a:prstGeom>
          <a:solidFill>
            <a:srgbClr val="c6d9f1"/>
          </a:soli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6920" y="1484280"/>
            <a:ext cx="2287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8920" y="1916280"/>
            <a:ext cx="208080" cy="2520720"/>
          </a:xfrm>
          <a:custGeom>
            <a:avLst/>
            <a:gdLst>
              <a:gd name="textAreaLeft" fmla="*/ 132840 w 208080"/>
              <a:gd name="textAreaRight" fmla="*/ 208440 w 208080"/>
              <a:gd name="textAreaTop" fmla="*/ 5400 h 2520720"/>
              <a:gd name="textAreaBottom" fmla="*/ 251532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4"/>
                  <a:pt x="10800" y="148"/>
                </a:cubicBezTo>
                <a:lnTo>
                  <a:pt x="10800" y="10652"/>
                </a:lnTo>
                <a:cubicBezTo>
                  <a:pt x="10800" y="10726"/>
                  <a:pt x="5400" y="10800"/>
                  <a:pt x="0" y="10800"/>
                </a:cubicBezTo>
                <a:cubicBezTo>
                  <a:pt x="5400" y="10800"/>
                  <a:pt x="10800" y="10874"/>
                  <a:pt x="10800" y="10948"/>
                </a:cubicBezTo>
                <a:lnTo>
                  <a:pt x="10800" y="21452"/>
                </a:lnTo>
                <a:cubicBezTo>
                  <a:pt x="10800" y="2152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67000" y="1989000"/>
            <a:ext cx="58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为爸爸洒水浇田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67000" y="3719520"/>
            <a:ext cx="57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荡秋千让哥哥高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08720" y="1989000"/>
            <a:ext cx="203040" cy="2465640"/>
          </a:xfrm>
          <a:custGeom>
            <a:avLst/>
            <a:gdLst>
              <a:gd name="textAreaLeft" fmla="*/ 0 w 203040"/>
              <a:gd name="textAreaRight" fmla="*/ 73440 w 203040"/>
              <a:gd name="textAreaTop" fmla="*/ 5040 h 2465640"/>
              <a:gd name="textAreaBottom" fmla="*/ 2460600 h 246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4"/>
                  <a:pt x="10800" y="148"/>
                </a:cubicBezTo>
                <a:lnTo>
                  <a:pt x="10800" y="10652"/>
                </a:lnTo>
                <a:cubicBezTo>
                  <a:pt x="10800" y="10726"/>
                  <a:pt x="16200" y="10800"/>
                  <a:pt x="21600" y="10800"/>
                </a:cubicBezTo>
                <a:cubicBezTo>
                  <a:pt x="16200" y="10800"/>
                  <a:pt x="10800" y="10874"/>
                  <a:pt x="10800" y="10948"/>
                </a:cubicBezTo>
                <a:lnTo>
                  <a:pt x="10800" y="21452"/>
                </a:lnTo>
                <a:cubicBezTo>
                  <a:pt x="10800" y="2152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8008920" y="979560"/>
            <a:ext cx="925560" cy="1241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724360" y="2925720"/>
            <a:ext cx="37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关心父母、家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0" y="2862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彩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87520" y="2786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拿镜子照妈妈梳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90600" y="1676520"/>
            <a:ext cx="6894360" cy="47847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rcRect l="0" t="0" r="-3533" b="31450"/>
          <a:stretch/>
        </p:blipFill>
        <p:spPr>
          <a:xfrm>
            <a:off x="2487600" y="264960"/>
            <a:ext cx="6108840" cy="27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1112760"/>
            <a:ext cx="2000160" cy="515880"/>
          </a:xfrm>
          <a:prstGeom prst="pie">
            <a:avLst/>
          </a:prstGeom>
          <a:solidFill>
            <a:srgbClr val="c6d9f1"/>
          </a:soli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前预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68360" y="1773000"/>
            <a:ext cx="2071800" cy="6120"/>
          </a:xfrm>
          <a:prstGeom prst="line">
            <a:avLst/>
          </a:prstGeom>
          <a:ln w="38160">
            <a:solidFill>
              <a:srgbClr val="8eb4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05000"/>
            <a:ext cx="1904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284720" y="2347920"/>
            <a:ext cx="4529160" cy="3292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22160" y="5229360"/>
            <a:ext cx="1117800" cy="863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362400" y="3962520"/>
            <a:ext cx="38098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78000" y="3819600"/>
            <a:ext cx="3810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18080" y="3809880"/>
            <a:ext cx="3809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68320" y="2273400"/>
            <a:ext cx="3810240" cy="116028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学生预习 能熟读课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会认读生字生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2666880"/>
            <a:ext cx="38102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37120" y="134136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老师要检查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17440" y="3930480"/>
            <a:ext cx="6338880" cy="2462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5600" y="334800"/>
            <a:ext cx="2000160" cy="516240"/>
          </a:xfrm>
          <a:prstGeom prst="pie">
            <a:avLst/>
          </a:prstGeom>
          <a:solidFill>
            <a:srgbClr val="c6d9f1"/>
          </a:soli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资料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2520" y="148752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彩虹是太阳光穿透雨的颗粒时形成的。此时，由于光折射的角度因颜色而各异，所以七种颜色会以各自不同的角度折射。所以七种颜色会很漂亮地排列起来。这就是形成彩虹的原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68360" y="177300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480960"/>
            <a:ext cx="2000160" cy="515880"/>
          </a:xfrm>
          <a:prstGeom prst="pie">
            <a:avLst/>
          </a:prstGeom>
          <a:solidFill>
            <a:srgbClr val="c6d9f1"/>
          </a:soli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字生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1200240"/>
            <a:ext cx="8078760" cy="3889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39640" y="249228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虹           座           提            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洒           挑           兴            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镜           照           千            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68360" y="1766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68360" y="1112760"/>
            <a:ext cx="2303280" cy="515880"/>
          </a:xfrm>
          <a:prstGeom prst="pie">
            <a:avLst/>
          </a:prstGeom>
          <a:solidFill>
            <a:srgbClr val="c6d9f1"/>
          </a:soli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近 反义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0480" y="2852640"/>
            <a:ext cx="12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美丽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800" y="1989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近义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75120" y="2852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漂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26200" y="2852640"/>
            <a:ext cx="12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高兴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46840" y="2852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开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56440" y="3860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反义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84200" y="1773000"/>
            <a:ext cx="228744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369120" y="1055520"/>
            <a:ext cx="1755720" cy="1557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84640" y="4653000"/>
            <a:ext cx="12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美丽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59280" y="465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丑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10360" y="4653000"/>
            <a:ext cx="12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高兴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31000" y="465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难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65800" y="1193760"/>
            <a:ext cx="1011240" cy="57636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40400" y="1268280"/>
            <a:ext cx="3809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加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82880" y="2882880"/>
            <a:ext cx="38098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46680" y="2567160"/>
            <a:ext cx="3889440" cy="3558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24000" y="855720"/>
            <a:ext cx="2000160" cy="515880"/>
          </a:xfrm>
          <a:prstGeom prst="pie">
            <a:avLst/>
          </a:prstGeom>
          <a:solidFill>
            <a:srgbClr val="c6d9f1"/>
          </a:soli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6920" y="1484280"/>
            <a:ext cx="2287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77120" y="855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一、引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159372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同学们，这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68360" y="5019840"/>
            <a:ext cx="1425600" cy="1103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95280" y="292428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彩虹有什么颜色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2246400"/>
            <a:ext cx="73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这是彩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8760" y="3578400"/>
            <a:ext cx="738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赤橙黄绿青蓝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81080" y="3141720"/>
            <a:ext cx="4187880" cy="2347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24000" y="855720"/>
            <a:ext cx="2000160" cy="515880"/>
          </a:xfrm>
          <a:prstGeom prst="pie">
            <a:avLst/>
          </a:prstGeom>
          <a:solidFill>
            <a:srgbClr val="c6d9f1"/>
          </a:soli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6920" y="1484280"/>
            <a:ext cx="2287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78560" y="8557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二、课文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1773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课文讲了哪几件事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241632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三件事情：一是我在彩虹桥上洒水为爸爸浇山上的田地；二是在彩虹桥上拿镜子照妈妈梳头；三是在彩虹桥上荡秋千让哥哥高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885080" y="1112760"/>
            <a:ext cx="924120" cy="1241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456160" y="981000"/>
            <a:ext cx="3578400" cy="2573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24000" y="855720"/>
            <a:ext cx="2000160" cy="515880"/>
          </a:xfrm>
          <a:prstGeom prst="pie">
            <a:avLst/>
          </a:prstGeom>
          <a:solidFill>
            <a:srgbClr val="c6d9f1"/>
          </a:soli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96920" y="1484280"/>
            <a:ext cx="2287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78560" y="8557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二、课文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1557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天上美丽的桥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39760" y="227664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天上美丽的桥是雨后的彩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29480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文中的我把彩虹说成美丽的桥，说明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4200" y="42210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说明我爱想象、爱思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44360" y="4941720"/>
            <a:ext cx="925560" cy="1239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19240" y="3548160"/>
            <a:ext cx="4273560" cy="30286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24000" y="855720"/>
            <a:ext cx="2000160" cy="515880"/>
          </a:xfrm>
          <a:prstGeom prst="pie">
            <a:avLst/>
          </a:prstGeom>
          <a:solidFill>
            <a:srgbClr val="c6d9f1"/>
          </a:soli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6920" y="1484280"/>
            <a:ext cx="2287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78560" y="8557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二、课文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3960" y="154152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那“我”真的能走上这座美丽的桥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7710480" y="1135080"/>
            <a:ext cx="923760" cy="1241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36680" y="2781360"/>
            <a:ext cx="80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不能，因为它是彩虹，像桥，而且在天空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2T03:50:33Z</dcterms:created>
  <dc:creator>语文备课大师【全免费】</dc:creator>
  <dc:description>语文备课大师【全免费】</dc:description>
  <cp:keywords>语文备课大师【全免费】</cp:keywords>
  <dc:language>en-US</dc:language>
  <cp:lastModifiedBy>微软用户</cp:lastModifiedBy>
  <dcterms:modified xsi:type="dcterms:W3CDTF">2020-04-10T03:54:46Z</dcterms:modified>
  <cp:revision>1</cp:revision>
  <dc:subject>语文备课大师【全免费】</dc:subject>
  <dc:title>语文备课大师【全免费】</dc:title>
</cp:coreProperties>
</file>