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drumroll.wav" ContentType="audio/x-wav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E98-6C90-40F0-A453-EA11FA20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C17-885A-4440-AD06-8A3D79F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CAF-D9A9-4606-B5B2-0FADC933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2B7-5BC8-4096-A9EA-C18CD85E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D3D7-2C39-452F-A49B-47F9FC7C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741-AA9F-4C45-8C19-9AE1CB28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BB8D-8724-4CD4-9D90-8A0CA7B7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4C18-631D-45F8-BE8F-CED134F3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E0A-4042-4B44-BD20-F84EA25C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5AC1-86C6-4F36-8799-3D700CF7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4AFB-0564-4A83-A2B3-FD13CEC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006-6392-4016-9FFE-D86D3BE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4828-550D-4967-B8ED-33B3065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D743-843E-4FAC-A123-FA344D8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6538-86EC-4DC6-BE6E-79A04EC3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8B39-F21B-4FFD-AB66-F5F12581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639C-8634-47BD-BDA5-1061E753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702-D36E-4E54-B4B2-000F612A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C8F-C148-494D-88D1-70057AB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58D-1C98-40E9-80B0-74ED7C67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6C2-9DC1-4804-B31D-7362D245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DF7-8AA5-486C-BBAC-0DD7F1B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A24-D41E-48A3-A528-2F4938AD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DC3-D596-412B-86A2-F01E877D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60D5-DD81-43CC-84F5-90CBEFE7C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532D-3712-4D15-9401-ED2EC84AF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drumroll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6194520" y="3357720"/>
            <a:ext cx="20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90720" y="-609480"/>
            <a:ext cx="19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322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943600" y="24591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76720" y="-685800"/>
            <a:ext cx="198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09480" y="2209680"/>
            <a:ext cx="251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276720" y="-838080"/>
            <a:ext cx="1295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KT044"/>
          <p:cNvPicPr/>
          <p:nvPr/>
        </p:nvPicPr>
        <p:blipFill>
          <a:blip r:embed="rId15"/>
          <a:stretch/>
        </p:blipFill>
        <p:spPr>
          <a:xfrm>
            <a:off x="6083280" y="-380880"/>
            <a:ext cx="3060720" cy="5105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KT151"/>
          <p:cNvPicPr/>
          <p:nvPr/>
        </p:nvPicPr>
        <p:blipFill>
          <a:blip r:embed="rId16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153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154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pō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158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159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p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163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164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6"/>
            <p:cNvSpPr/>
            <p:nvPr/>
          </p:nvSpPr>
          <p:spPr>
            <a:xfrm>
              <a:off x="6929280" y="847800"/>
              <a:ext cx="115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m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168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169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m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173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174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m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178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179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f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183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184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188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189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f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193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194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Text Box 16"/>
            <p:cNvSpPr/>
            <p:nvPr/>
          </p:nvSpPr>
          <p:spPr>
            <a:xfrm>
              <a:off x="6929280" y="8478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fǔ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198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199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m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203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204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b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208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209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p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会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汉仪大宋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我要认真学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汉仪大宋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我真棒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汉仪大宋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我爱爸爸和妈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汉仪大宋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请你告诉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汉仪大宋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我是你的朋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汉仪大宋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你认识我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048120" y="0"/>
            <a:ext cx="64926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8120" y="-838080"/>
            <a:ext cx="42447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9280" y="5661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43000" y="106668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97080" y="3200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84360" y="5430960"/>
            <a:ext cx="16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286000" y="1905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拉开天线听广播，右下半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43828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端起脸盆把水泼，右上半圆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  p  p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869080" y="1981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556320" y="19969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09680" y="-838080"/>
            <a:ext cx="4359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666880" y="-380880"/>
            <a:ext cx="3810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91440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992880" y="3581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438280" y="15238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两个门洞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m  m  m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362320" y="39625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根拐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721040" y="3962520"/>
            <a:ext cx="156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f  f  f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09480"/>
            <a:ext cx="1523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0" y="4267080"/>
            <a:ext cx="9524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286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4382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2590920" y="609480"/>
            <a:ext cx="1676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572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693432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91440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724280" y="609480"/>
            <a:ext cx="236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7435800" y="609480"/>
            <a:ext cx="1708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4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123" name="Group 4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124" name="Picture 5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6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7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bá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6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128" name="Group 11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129" name="Picture 12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3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25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8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133" name="Group 8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134" name="Picture 9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10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27"/>
            <p:cNvSpPr/>
            <p:nvPr/>
          </p:nvSpPr>
          <p:spPr>
            <a:xfrm>
              <a:off x="6950880" y="84780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y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31"/>
          <p:cNvGrpSpPr/>
          <p:nvPr/>
        </p:nvGrpSpPr>
        <p:grpSpPr>
          <a:xfrm>
            <a:off x="611280" y="3860640"/>
            <a:ext cx="2231280" cy="1942560"/>
            <a:chOff x="611280" y="3860640"/>
            <a:chExt cx="2231280" cy="1942560"/>
          </a:xfrm>
        </p:grpSpPr>
        <p:grpSp>
          <p:nvGrpSpPr>
            <p:cNvPr id="138" name="Group 14"/>
            <p:cNvGrpSpPr/>
            <p:nvPr/>
          </p:nvGrpSpPr>
          <p:grpSpPr>
            <a:xfrm>
              <a:off x="611280" y="3860640"/>
              <a:ext cx="2231280" cy="1942560"/>
              <a:chOff x="611280" y="3860640"/>
              <a:chExt cx="2231280" cy="1942560"/>
            </a:xfrm>
          </p:grpSpPr>
          <p:pic>
            <p:nvPicPr>
              <p:cNvPr id="139" name="Picture 15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611280" y="3860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16"/>
              <p:cNvSpPr/>
              <p:nvPr/>
            </p:nvSpPr>
            <p:spPr>
              <a:xfrm>
                <a:off x="813960" y="4206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29"/>
            <p:cNvSpPr/>
            <p:nvPr/>
          </p:nvSpPr>
          <p:spPr>
            <a:xfrm>
              <a:off x="1332000" y="450828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3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143" name="Group 3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144" name="Picture 3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3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Text Box 3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b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3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148" name="Group 3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149" name="Picture 3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4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4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1:07:47Z</dcterms:created>
  <dc:creator>a</dc:creator>
  <dc:description/>
  <dc:language>en-US</dc:language>
  <cp:lastModifiedBy>wuhan</cp:lastModifiedBy>
  <dcterms:modified xsi:type="dcterms:W3CDTF">2020-05-22T01:38:35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