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projctor.wav" ContentType="audio/x-wav"/>
  <Override PartName="/ppt/media/image16.jpeg" ContentType="image/jpeg"/>
  <Override PartName="/ppt/media/chimes.wav" ContentType="audio/x-wav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6C1-B00B-41B4-9E22-F34F20EB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EF1-075D-4E2C-BF9E-99F1D113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A65-8117-4A90-90EE-A2235CD4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529-647F-4097-923D-CCEEBF7B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53E1-1E89-4F8E-9C23-CC35D125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C45E-4818-41E4-AD62-D6681D10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FAFC-6F9C-4845-B691-EB86AC09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C6C-093B-4AA6-9CCA-37221B1E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7E57-11CE-4ADF-8848-1F07B028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9887-2BB5-49F2-BEC2-7B504E1B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A817-571D-4A31-AA7C-3A7738E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F93-2A8C-40E3-B9DF-8CAB1CC1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D058-BBCB-4C94-A664-B41FF51B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F4BF-4170-4EB1-ABEF-694E4754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6552-B13F-4F05-9E5C-728E3B2D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5B3D-1941-4C10-9D93-00772E26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923D-B460-4416-AEC3-B776188F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B718-8EC3-4E6E-9CDA-CF6255E3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C7C8-6B0C-4BE6-AE70-DFAE87C1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0DB85-414E-464C-ADBD-0C93EC9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4820-5FD4-41BB-9752-44124A7F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1230-6E75-4A22-8961-0C321AB2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7CC-1FE5-487E-BBAD-E2AD84CE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A14A-3DC4-4CEC-A42E-717694B0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7449-FBDA-49B0-BE97-7B80CD3C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0311-4D98-49CD-B8D0-B0B8F860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D537-ECF4-43A7-AAE9-0C2A7509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3D6D-F5EE-4C51-8648-2AD6D1D9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44A0-6484-4694-989C-72A46A04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8A9C-A1D8-4376-881C-E67808F5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1EF5-D434-4324-AEAD-38110FB6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B235F-CA42-4F3E-86AE-3B5681B2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AEBF-BC2E-47A6-BB0A-93361D24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24A-6136-4B3D-9196-EC685F7A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4B89-F91E-4ECA-8C41-BF75A26A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2A5FC-98D0-4EEA-AB93-9DB21585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3C934-F9E4-4C73-9BC1-435CFC8E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203F9-3083-4901-B0F4-608EB61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A4B9-8AA8-47F5-AD0C-55E13AF2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659B-F424-47C6-B82C-95627559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EF16-5B8F-4F07-8401-8111A7E8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4C1A2-9954-4A5B-A6F6-25455CFB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A9CB-C15A-44EC-8944-97537C4C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78D-99AD-4040-8D51-346159D1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EEF-33FB-4A8C-B747-5CC50273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D4B-EA93-46E2-83F4-0FD81924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C2F-3055-4B0C-9430-007CF463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187-9CA3-425F-B58A-8101E7A3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B759-7009-4431-92FF-00522CF242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2FC5-0226-4E42-8F26-BA0E178F96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83C6-E0D6-49BD-8670-63B99F16AEFA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8D94-0A04-498F-9ECE-A4C992AF462D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&#25105;&#30340;&#25991;&#26723;/&#35838;&#20214;/&#21021;&#19977;/&#31532;&#20845;&#20876;/&#33977;&#33901;.swf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39ac"/>
                </a:solidFill>
                <a:uFillTx/>
                <a:latin typeface="Arial"/>
                <a:ea typeface="华文行楷"/>
              </a:rPr>
              <a:t>《诗经》两首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宋体"/>
              </a:rPr>
              <a:t>赋比兴风雅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89160" y="1901880"/>
            <a:ext cx="851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关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5480" y="3200400"/>
            <a:ext cx="851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66ff"/>
                </a:solidFill>
                <a:uFillTx/>
                <a:latin typeface="宋体"/>
                <a:hlinkClick r:id="rId3" action="ppaction://hlinksldjump"/>
              </a:rPr>
              <a:t>蒹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295280" y="1219320"/>
            <a:ext cx="312444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76320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4360" y="260280"/>
            <a:ext cx="5715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诗人思想感情变化的过程</a:t>
            </a:r>
            <a:endParaRPr b="1" i="1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38862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3886200"/>
            <a:ext cx="121896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/>
          <p:nvPr/>
        </p:nvCxnSpPr>
        <p:spPr>
          <a:xfrm>
            <a:off x="1905120" y="3886200"/>
            <a:ext cx="1219680" cy="129600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 flipH="1">
            <a:off x="2971440" y="5334120"/>
            <a:ext cx="1522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34120" y="3352680"/>
            <a:ext cx="17524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876920" y="2637000"/>
            <a:ext cx="2071440" cy="2620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3505320"/>
            <a:ext cx="144756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05120" y="411480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受挫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105520" y="3505320"/>
            <a:ext cx="129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 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幻想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4" name=""/>
          <p:cNvSpPr/>
          <p:nvPr/>
        </p:nvSpPr>
        <p:spPr>
          <a:xfrm>
            <a:off x="1521000" y="2349360"/>
            <a:ext cx="131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方正舒体"/>
              </a:rPr>
              <a:t>河边邂逅，一见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方正舒体"/>
              </a:rPr>
              <a:t>      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方正舒体"/>
              </a:rPr>
              <a:t>（第一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35800" y="530064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方正舒体"/>
              </a:rPr>
              <a:t>朝思暮想，辗转反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方正舒体"/>
              </a:rPr>
              <a:t>    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方正舒体"/>
              </a:rPr>
              <a:t>（第二三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28160" y="162864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方正舒体"/>
              </a:rPr>
              <a:t>琴瑟钟鼓，欢庆娱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方正舒体"/>
              </a:rPr>
              <a:t>    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方正舒体"/>
              </a:rPr>
              <a:t>（第四五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结构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全诗可分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章。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第一章（前四句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爱慕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由关雎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立在水中沙洲上鸣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起兴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，写一个男子在河边遇到一位美丽的姑娘，于是萌发了爱慕之情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第二章（中间八句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念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：以左右采摘荇菜的动作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隐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淑女难以追求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由此引出男子对姑娘思念不止，以致梦寐以求，辗转反侧。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第三章（最后八句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愿望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仍以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采摘荇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眼前情景起兴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表达了希望与姑娘成婚的美好愿望。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拓展探讨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能不能将诗中的意象“关雎”换为“斑鸠”、“鸳鸯”也或“孔雀”之类的鸟呢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39ac"/>
                </a:solidFill>
                <a:uFillTx/>
                <a:latin typeface="Arial"/>
                <a:ea typeface=""/>
              </a:rPr>
              <a:t>小结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341000"/>
            <a:ext cx="88423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心：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这是一首青年男子的恋歌，描绘他对一位姑娘一往情深的追求和对美满婚姻的渴望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行楷"/>
              </a:rPr>
              <a:t>我们可以好“色”，更应好学！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、托物起兴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          “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兴”，对于诗歌中渲染气氛、创造意境起着极大的作用。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</a:rPr>
              <a:t>开头以雎鸠和鸣的情景起兴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，是为了渲染一种情意绵绵、痴心相恋的情调。鸟儿的呼唤——“关关”，从听觉上触动了诗人的情怀；随声望去——“在河之洲”，又从视觉上引起诗人的遐思——那“窈窕淑女”真是自己理想的伴侣呀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      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</a:rPr>
              <a:t>后文又多次以所爱的人劳动时的优美身姿起兴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3962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二、韵律和谐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、 运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重言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（关关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、运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双声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（参差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、运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叠韵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（窈窕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、运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重章复唱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的手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600200" y="-609480"/>
            <a:ext cx="4800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写作特色：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6" name=""/>
          <p:cNvSpPr txBox="1"/>
          <p:nvPr/>
        </p:nvSpPr>
        <p:spPr>
          <a:xfrm rot="5400000">
            <a:off x="4343040" y="4190760"/>
            <a:ext cx="1752480" cy="2057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音乐性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4537080" cy="5616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447600" y="262800"/>
            <a:ext cx="1399320" cy="65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0808"/>
                </a:solidFill>
                <a:latin typeface="Arial"/>
                <a:ea typeface="隶书"/>
              </a:rPr>
              <a:t>蒹      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8" dur="1" fill="hold"/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66ff"/>
                </a:solidFill>
                <a:uFillTx/>
                <a:latin typeface="宋体"/>
                <a:hlinkClick r:id="rId2"/>
              </a:rPr>
              <a:t>蒹葭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蒹 葭 苍 苍 ， 白 露 为 霜 。 所 谓 伊 人 ， 在 水 一 方 。 溯 洄 从 之 ， 道阻 且 长 。 溯 游 从 之 ，宛 在 水 中 央 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蒹 葭 凄 凄 ， 白 露 未 晞 。 所 谓 伊 人 ， 在 水 之 湄 。 溯 洄 从 之 ， 道阻 且 跻 。 溯 游 从 之 ， 宛 在 水 中 坻 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蒹 葭 采 采 ， 白 露 未 已 。 所 谓 伊 人 ， 在 水 之 涘 。 溯 洄 从 之 ， 道阻 且 右 。 溯 游 从 之 ， 宛 在 水 中 沚 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1752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3419640" y="9810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8507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5329440" cy="4363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103440" y="853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方正舒体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9760" y="260280"/>
            <a:ext cx="1826280" cy="11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华文新魏"/>
              </a:rPr>
              <a:t>这首诗描写了一个热恋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华文新魏"/>
              </a:rPr>
              <a:t>对意中人的急切追求和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华文新魏"/>
              </a:rPr>
              <a:t>望而不可即的惆怅失望的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3300"/>
                </a:solidFill>
                <a:uFillTx/>
                <a:latin typeface="华文行楷"/>
                <a:ea typeface="华文行楷"/>
              </a:rPr>
              <a:t>蒹 葭</a:t>
            </a: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华文行楷"/>
                <a:ea typeface="华文行楷"/>
              </a:rPr>
              <a:t>苍 苍</a:t>
            </a: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，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白 露 为 霜 。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所 谓 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华文行楷"/>
                <a:ea typeface="华文行楷"/>
              </a:rPr>
              <a:t>伊 人</a:t>
            </a: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， 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在 水 一 方 。 </a:t>
            </a:r>
            <a:br>
              <a:rPr sz="3600"/>
            </a:br>
            <a:r>
              <a:rPr b="1" lang="zh-CN" sz="3600" spc="-1" strike="noStrike" u="sng">
                <a:solidFill>
                  <a:srgbClr val="cc3300"/>
                </a:solidFill>
                <a:uFillTx/>
                <a:latin typeface="华文行楷"/>
                <a:ea typeface="华文行楷"/>
              </a:rPr>
              <a:t>溯 洄</a:t>
            </a: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华文行楷"/>
                <a:ea typeface="华文行楷"/>
              </a:rPr>
              <a:t>从</a:t>
            </a: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之 ，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道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华文行楷"/>
                <a:ea typeface="华文行楷"/>
              </a:rPr>
              <a:t>阻</a:t>
            </a: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且 长 。 </a:t>
            </a:r>
            <a:br>
              <a:rPr sz="3600"/>
            </a:br>
            <a:r>
              <a:rPr b="1" lang="zh-CN" sz="3600" spc="-1" strike="noStrike" u="sng">
                <a:solidFill>
                  <a:srgbClr val="cc3300"/>
                </a:solidFill>
                <a:uFillTx/>
                <a:latin typeface="华文行楷"/>
                <a:ea typeface="华文行楷"/>
              </a:rPr>
              <a:t>溯 游</a:t>
            </a: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从 之 ，</a:t>
            </a:r>
            <a:br>
              <a:rPr sz="3600"/>
            </a:br>
            <a:r>
              <a:rPr b="1" lang="zh-CN" sz="3600" spc="-1" strike="noStrike" u="sng">
                <a:solidFill>
                  <a:srgbClr val="cc3300"/>
                </a:solidFill>
                <a:uFillTx/>
                <a:latin typeface="华文行楷"/>
                <a:ea typeface="华文行楷"/>
              </a:rPr>
              <a:t>宛</a:t>
            </a: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在 水 中 央 。</a:t>
            </a:r>
            <a:endParaRPr b="0" lang="en-US" sz="36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386568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143000" y="609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Ji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ān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Ji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32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ù h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1120" y="990720"/>
            <a:ext cx="4952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蒹葭：芦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苍苍：茂盛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伊人：那人，指所爱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溯洄：逆流而上   洄：上水，逆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从：追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阻：艰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溯 游：顺流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宛：好像、仿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04920" y="3352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蒹 葭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萋 萋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 露 未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晞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 谓 伊 人 ，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 水 之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湄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溯 洄 从 之 ，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 阻 且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溯 游 从 之 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宛 在 水 中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。</a:t>
            </a:r>
            <a:br>
              <a:rPr sz="3600"/>
            </a:br>
            <a:endParaRPr b="0" lang="en-US" sz="3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1302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ee1302"/>
                </a:solidFill>
                <a:latin typeface="Arial"/>
                <a:ea typeface="Arial"/>
              </a:rPr>
              <a:t>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5181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1302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ee1302"/>
                </a:solidFill>
                <a:latin typeface="Arial"/>
                <a:ea typeface="Arial"/>
              </a:rPr>
              <a:t>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1523880"/>
            <a:ext cx="3962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萋萋：茂盛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晞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湄：岸边，水草交接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跻：登，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坻：水中小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《诗经》介绍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362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《诗经》是我国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第一部诗歌总集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，共收入自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西周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初期（公元前十一世纪）至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春秋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中叶（公元前六世纪）约五百余年间的诗歌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三百零五篇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最初称《诗》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汉代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儒者奉为经典，乃称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《诗经》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诗经》是中国韵文的源头，是中国诗史的光辉起点。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《诗经》分为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《风》、《雅》、《颂》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三部分。其表现手法为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赋、比、兴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蒹 葭 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采 采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， 白 露 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未 已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所 谓 伊 人 ， 在 水 之 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涘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溯 洄 从 之 ， 道阻 且 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右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溯 游 从 之 ， 宛 在 水 中 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沚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。</a:t>
            </a:r>
            <a:br>
              <a:rPr sz="3600"/>
            </a:br>
            <a:endParaRPr b="0" lang="en-US" sz="3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609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1752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h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2743200"/>
            <a:ext cx="624852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采采：茂盛，众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未 已：还没有完  已：停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涘：水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右：弯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沚：水中沙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384720" cy="29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968800" y="191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方正舒体"/>
              </a:rPr>
              <a:t>《蒹葭》的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00880" y="4149720"/>
            <a:ext cx="515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全诗共三章，每章前两句写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后六句写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300720" y="3645000"/>
            <a:ext cx="2556000" cy="2852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02384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47880" y="1700280"/>
            <a:ext cx="182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ff"/>
                </a:solidFill>
                <a:uFillTx/>
                <a:latin typeface="方正舒体"/>
                <a:ea typeface="方正舒体"/>
              </a:rPr>
              <a:t>蒹 葭</a:t>
            </a:r>
            <a:r>
              <a:rPr b="1" lang="zh-CN" sz="3200" spc="-1" strike="noStrike">
                <a:solidFill>
                  <a:srgbClr val="0066ff"/>
                </a:solidFill>
                <a:latin typeface="方正舒体"/>
                <a:ea typeface="方正舒体"/>
              </a:rPr>
              <a:t> 苍 苍 ，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方正舒体"/>
                <a:ea typeface="方正舒体"/>
              </a:rPr>
              <a:t>白 露 为 霜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80800" y="1700280"/>
            <a:ext cx="182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方正舒体"/>
                <a:ea typeface="方正舒体"/>
              </a:rPr>
              <a:t>蒹 葭 萋 萋 ，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方正舒体"/>
                <a:ea typeface="方正舒体"/>
              </a:rPr>
              <a:t>白 露 未 晞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16080" y="1628640"/>
            <a:ext cx="182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方正舒体"/>
                <a:ea typeface="方正舒体"/>
              </a:rPr>
              <a:t>蒹 葭 采 采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方正舒体"/>
                <a:ea typeface="方正舒体"/>
              </a:rPr>
              <a:t>白 露 未 已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34600" y="5540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方正舒体"/>
              </a:rPr>
              <a:t>写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14240" y="3560760"/>
            <a:ext cx="366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给人萧瑟冷落之感，既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烘托环境气氛的作用，又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主人公凄婉感情的流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587700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切景语皆情语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50440" y="2565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方正舒体"/>
              </a:rPr>
              <a:t>写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47640" y="1916280"/>
            <a:ext cx="360360" cy="230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59760 h 2304720"/>
              <a:gd name="textAreaBottom" fmla="*/ 2244960 h 23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08000" y="1658880"/>
            <a:ext cx="56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每章三四句，写心上人可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而不可即，表现主人公的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怅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3357720"/>
            <a:ext cx="62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每章五到八句，写道路的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阻，表现主人公对爱情的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着追求和怅惘情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2104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对《蒹葭》主题的理解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438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这首诗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抒写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了对意中人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倾慕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之情，以及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欲见而不可得的惆怅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之情。歌者思念的对象可能在遥远的地方，只能怀想而无法见面，因而心情惆怅，无法抑制。时间越久，阻隔越远，感情越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3130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535760" y="1557360"/>
            <a:ext cx="185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方正舒体"/>
              </a:rPr>
              <a:t>《蒹葭》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方正舒体"/>
              </a:rPr>
              <a:t>艺术特色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57120" y="4172040"/>
            <a:ext cx="182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、重章叠句。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三章只是通过一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之易，一韵之转，表现了反复咏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和缠绵无尽的感情。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、借景起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诗经”六艺”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风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: 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风土之音曰风”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是各国的土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民歌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雅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: 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朝庭之音曰雅”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朝庭里的乐歌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分 “大雅”和 “小雅”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颂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: 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宗庙之音曰颂”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宗庙演唱的祭歌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有 “周颂” “鲁颂” “商颂”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赋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: 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赋者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敷陈其事而直言之也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.”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即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陈述铺叙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: 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比者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以彼物比此物也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.”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即对人或物加以形象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兴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: 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兴者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先言他物以引起所咏之言也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.”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即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借助其他事物作为诗歌发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引起所要歌咏的内容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600200" y="3808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宋体"/>
              </a:rPr>
              <a:t>关   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752480"/>
            <a:ext cx="883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9ac"/>
                </a:solidFill>
                <a:latin typeface="宋体"/>
              </a:rPr>
              <a:t>关关雎鸠        ，在河之洲。窈窕         淑女，君子好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9ac"/>
                </a:solidFill>
                <a:latin typeface="宋体"/>
              </a:rPr>
              <a:t>参差荇       菜，左右流之。窈窕淑女，寤寐      求之。求之不得，寤寐思服，悠哉悠哉，辗转反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9ac"/>
                </a:solidFill>
                <a:latin typeface="宋体"/>
              </a:rPr>
              <a:t>参差荇菜，左右采之。窈窕淑女，琴瑟友之。参差荇菜，左右芼之。窈窕淑女，钟鼓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lè </a:t>
            </a:r>
            <a:r>
              <a:rPr b="1" lang="zh-CN" sz="2800" spc="-1" strike="noStrike">
                <a:solidFill>
                  <a:srgbClr val="0039ac"/>
                </a:solidFill>
                <a:latin typeface="宋体"/>
              </a:rPr>
              <a:t>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1752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jūji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167652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yǎot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2743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x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72400" y="274320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wùm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0" y="5181480"/>
            <a:ext cx="4038480" cy="1676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356000" y="54936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971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04000" cy="6889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6172200" y="-304920"/>
            <a:ext cx="2209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雎鸠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1" name=""/>
          <p:cNvSpPr/>
          <p:nvPr/>
        </p:nvSpPr>
        <p:spPr>
          <a:xfrm>
            <a:off x="7323480" y="333360"/>
            <a:ext cx="14094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3" marL="137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雎鸠在传说中是一种情意十分专一的水鸟，其一或死，另一就忧思不食，憔悴而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荇菜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304920"/>
            <a:ext cx="4815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方正舒体"/>
              </a:rPr>
              <a:t>关   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060640"/>
            <a:ext cx="770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关关雎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窈窕淑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君子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逑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79640" y="501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逑：配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5640" y="1773360"/>
            <a:ext cx="48243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第一行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起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手法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开篇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由关雎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立在水中沙洲上鸣叫起兴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引出淑女是君子喜爱的配偶的联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此奠定了全篇的抒情中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起兴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就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触景生情，因事寄兴。第二句统率全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此处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写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鸠鸟鸣叫，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既象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男女欢爱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又给诗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染上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了一层浓浓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欢乐气氛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981760" y="0"/>
            <a:ext cx="3162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11280" y="765000"/>
            <a:ext cx="2160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叁差荇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左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窈窕淑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寤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之不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寤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思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优哉游哉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辗转反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1628640"/>
            <a:ext cx="22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流：寻求，择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3284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寤：睡醒。寐：入睡。</a:t>
            </a:r>
            <a:r>
              <a:rPr b="0" lang="zh-CN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11280" y="4869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思服：思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67280" y="1052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e9ce8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行</a:t>
            </a:r>
            <a:r>
              <a:rPr b="1" lang="zh-CN" sz="2800" spc="-1" strike="noStrike">
                <a:solidFill>
                  <a:srgbClr val="7e9ce8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歌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眼前景物为比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时而向左时而向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挑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采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荇菜的动作</a:t>
            </a:r>
            <a:r>
              <a:rPr b="1" lang="zh-CN" sz="2800" spc="-1" strike="noStrike">
                <a:solidFill>
                  <a:srgbClr val="7e9ce8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隐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淑女难以追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君子对淑女锲而不舍的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20372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e9ce8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行</a:t>
            </a:r>
            <a:r>
              <a:rPr b="1" lang="zh-CN" sz="2800" spc="-1" strike="noStrike">
                <a:solidFill>
                  <a:srgbClr val="7e9ce8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通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君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求之不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具体情态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细致描写</a:t>
            </a:r>
            <a:r>
              <a:rPr b="1" lang="zh-CN" sz="2800" spc="-1" strike="noStrike">
                <a:solidFill>
                  <a:srgbClr val="7e9ce8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极其逼真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现</a:t>
            </a:r>
            <a:r>
              <a:rPr b="1" lang="zh-CN" sz="28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这位君子对心目中恋人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痴情和执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4360" y="620640"/>
            <a:ext cx="6480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参差荇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左右采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窈窕淑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琴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友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参差荇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左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芼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窈窕淑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钟鼓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乐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27120" y="2698920"/>
            <a:ext cx="14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友：亲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602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乐：使快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27280" y="458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芼：择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0"/>
            <a:ext cx="46814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、五行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这位君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想象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这位淑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会的情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诗歌仍以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采摘荇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眼前情景起兴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设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位女子已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应自己的要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于是这位君子兴奋地弹奏琴瑟，敲击钟鼓来亲近她，友爱她，并使她快乐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歌通过对这种幻想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烘托渲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将主人公追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情的炽烈专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现得淋漓尽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4211640" cy="378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11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6:28:36Z</dcterms:created>
  <dc:creator>love</dc:creator>
  <dc:description/>
  <dc:language>en-US</dc:language>
  <cp:lastModifiedBy>xhzx</cp:lastModifiedBy>
  <dcterms:modified xsi:type="dcterms:W3CDTF">2013-12-11T13:22:06Z</dcterms:modified>
  <cp:revision>62</cp:revision>
  <dc:subject/>
  <dc:title>幻灯片 1</dc:title>
</cp:coreProperties>
</file>