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4B9-8A2B-4DBD-8980-CB9E140E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EAA-E80C-4FD3-B4D1-7D308D59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63C-D97B-4F04-B20A-6828AD10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0E9-1A96-4198-9EF9-3FE350F8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ACAA-A368-4BB1-8D11-574B7FA9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2174-7A2D-4A26-892C-979D5695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6E33-A2D1-4D9B-B69E-A2878F0C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A3D4-1BB7-49D6-9A04-F5FA0B99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8097-9162-4A11-9970-60EAD161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F38F-A37A-447A-A34F-0D90B1AA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3789-0E4F-4D58-87CA-24B67066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2B9-67FC-4237-A076-73B483F1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8335-5E86-4818-81CD-0A3FCA1E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9884-827E-4D63-B994-356D15A0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EE1D-B173-4506-840A-3021186E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454B-0C11-4014-8A62-A1D76394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743D-3A2A-4879-9369-509DC168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DDC9-116F-4A8E-BE58-278BE978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E04-CFDD-415D-90E8-A8444E08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3CA-7C76-44C3-932A-990FB71B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B4F-9A7A-49E4-A42D-D1DABD35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821-775A-4B88-A113-28576659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55A-F7F0-456E-AE02-AF60495C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C22-3104-4703-A22F-8F9447F8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D9D4-E804-4184-B913-EC1CC44BE8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76EE-D3D2-4D53-A3B2-CCC0CB708C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74520" y="0"/>
            <a:ext cx="92185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4896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Tahoma"/>
                <a:ea typeface="楷体_GB2312"/>
              </a:rPr>
              <a:t>泊 船 瓜 洲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9707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【宋】 王安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这首诗是作者从江西出发，乘船经长江前往京城为官，途经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           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2080" y="798120"/>
            <a:ext cx="68119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多  音  字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914400" y="1752480"/>
            <a:ext cx="7086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" y="838080"/>
            <a:ext cx="5975280" cy="20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京口瓜洲一水间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钟山只隔数重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228600" y="3505320"/>
            <a:ext cx="4876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66"/>
                </a:solidFill>
                <a:uFillTx/>
                <a:latin typeface="Tahoma"/>
              </a:rPr>
              <a:t>瓜洲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和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Tahoma"/>
              </a:rPr>
              <a:t>京口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只隔着一条长江，离诗人的家乡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Tahoma"/>
              </a:rPr>
              <a:t>钟山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也不过隔着几座山而已，可以说，诗人身在瓜洲，已设计好回家的路线。可诗人虽然离家乡这样的近，他是否准备回到家乡呢？从哪里知道？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4343400"/>
            <a:ext cx="4495680" cy="2514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495680" cy="2438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1828800"/>
            <a:ext cx="4495680" cy="2446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0" y="4343400"/>
            <a:ext cx="4495680" cy="2514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52480" y="22860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春风又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楷体_GB2312"/>
              </a:rPr>
              <a:t>绿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江南岸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明月何时照我还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77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567640" y="6165720"/>
            <a:ext cx="576360" cy="549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080" y="838080"/>
            <a:ext cx="777240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春风又绿江南岸，江南多美呀！花红柳绿，莺歌燕舞，一派生机勃勃、春意盎然的景象，而诗人只用了一个字就表现出来了，那就是——“绿”，可见诗人用字之精妙。其实，诗人曾用过“满”“到”“过”十几个字，经过反复推敲，最终定为“绿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诗人为何独独钟情于一个“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绿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”字呢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2081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61760" y="1980720"/>
            <a:ext cx="7699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春天来了，春风仅仅吹绿了“江南岸”？作者为什么这样说呢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（从地理位置而言，江南春天固然早于江北，但也不可能一江分成两世界；因为诗人平生际遇、此时境况，使得诗人所思尽在江南，故心中只有江南之春。）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90720" y="2362320"/>
            <a:ext cx="6705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诗人乘船路过瓜洲，怀念金陵（南京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故居，而作此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京口和瓜洲之间只隔着一条长江，我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居住的钟山隐没在几座山峦的后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暖和的春风啊，吹绿了江南的田野；</a:t>
            </a:r>
            <a:br>
              <a:rPr sz="2800"/>
            </a:b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明月啊，什么时候才能照着我回到钟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下的家里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作者在此地——瓜洲；此时——明月；此景——春；自然想到了——还；抒发了作者思念家乡的情感 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268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测  试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王安石，（　）代人，曾推行（　　　　），功绩不裴。《泊船瓜洲》表达了真挚的（　　　　　　）之情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、解释诗句</a:t>
            </a:r>
            <a:br>
              <a:rPr sz="2400"/>
            </a:b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　春风又绿江南岸，明月何时照我还。</a:t>
            </a:r>
            <a:br>
              <a:rPr sz="2400"/>
            </a:b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　绿：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____________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　 还：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_______________</a:t>
            </a:r>
            <a:br>
              <a:rPr sz="2400"/>
            </a:b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　全句诗意：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_____________________________________________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这首是写的是诗人路过（  ），怀念（  ），抒发诗人（  ）的思想感情，这感情是在（  ）中流露出来的。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09600" y="1127160"/>
            <a:ext cx="76294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ahoma"/>
              </a:rPr>
              <a:t>面对明月，你还能想起哪些思乡诗？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7896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41204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14800" y="2972880"/>
            <a:ext cx="457200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  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66ff"/>
                </a:solidFill>
                <a:latin typeface="Tahoma"/>
              </a:rPr>
              <a:t>王安石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1021—1086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）北宋时期著名的政治家、文学家，</a:t>
            </a:r>
            <a:r>
              <a:rPr b="1" lang="zh-CN" sz="2400" spc="-1" strike="noStrike">
                <a:solidFill>
                  <a:srgbClr val="0066ff"/>
                </a:solidFill>
                <a:latin typeface="Tahoma"/>
              </a:rPr>
              <a:t>字介甫，号半山。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江西临川人。他的诗歌、散文都很出色，是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“唐宋八大家”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之一。青少年时代随父亲在钟山（今南京）居住，视钟山为第二故乡。</a:t>
            </a:r>
            <a:br>
              <a:rPr sz="24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2895480" cy="3352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76520" y="1066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阅读资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46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1042</a:t>
            </a: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年王安石入朝为官，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1069</a:t>
            </a: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年调王安石任参知政事，第二年升任宰相。王安石任宰相期间，大刀阔斧地推行</a:t>
            </a:r>
            <a:r>
              <a:rPr b="1" lang="zh-CN" sz="2000" spc="-1" strike="noStrike">
                <a:solidFill>
                  <a:srgbClr val="0066ff"/>
                </a:solidFill>
                <a:latin typeface="Tahoma"/>
              </a:rPr>
              <a:t>新法</a:t>
            </a: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。但王安石推行的变法因触犯了大地主、大官僚的利益，所以遭到朝廷内外保守势力的极力反对。他们千方百计地排斥他，打击他。皇帝也逐渐对王安石失去了信任。王安石万般无奈，三年后，他辞去了宰相的职务，回到了南京的家中，从此寄情于山水。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        一年后，皇帝又招王安石进京任宰相，他两次推辞而未获批准。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1075</a:t>
            </a: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年春天，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55</a:t>
            </a: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岁的王安石从钟山出发，上京赴任。他知道这一去是凶多吉少，因为只要他坚持变法，就会受到保守派的打击、排斥，而皇帝又反复无常，所以他忧心忡忡，更加思念家乡。这一天晚上，王安石夜宿瓜洲江边，感时伤景，写下了《泊船瓜洲》这首诗。重任宰相一年后，王安石再次被罢免，又回到了南京，过起了隐居生活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52480" y="2743200"/>
            <a:ext cx="5639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99ff"/>
                </a:solidFill>
                <a:latin typeface="楷体_GB2312"/>
              </a:rPr>
              <a:t>请欣赏古诗并朗读</a:t>
            </a:r>
            <a:endParaRPr b="0" lang="en-US" sz="1800" spc="-1" strike="noStrike">
              <a:ln w="9360">
                <a:solidFill>
                  <a:srgbClr val="0066ff"/>
                </a:solidFill>
                <a:miter/>
              </a:ln>
              <a:solidFill>
                <a:srgbClr val="cc99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8080" y="274320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京口瓜洲一水间（ 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jiàn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），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钟山只隔数（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hù 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）重（ 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óng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）山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春风又绿江南岸，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明月何时照我还（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uá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0666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泊 船 瓜 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84240" y="198108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宋  王安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882000"/>
            <a:ext cx="830556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en-US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[</a:t>
            </a:r>
            <a:r>
              <a:rPr b="1" lang="zh-CN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注释</a:t>
            </a:r>
            <a:r>
              <a:rPr b="1" lang="en-US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]</a:t>
            </a:r>
            <a:r>
              <a:rPr b="0" lang="en-US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泊：停船靠岸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瓜洲：在现在江苏省长江北岸，扬州市南面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京口：在长江南岸，现在的江苏省镇江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钟山：现在南京市的紫金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数重：几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绿：吹绿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还：归、回。指的是回到紫金山下的家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7T03:59:17Z</dcterms:created>
  <dc:creator/>
  <dc:description/>
  <dc:language>en-US</dc:language>
  <cp:lastModifiedBy>zmj</cp:lastModifiedBy>
  <dcterms:modified xsi:type="dcterms:W3CDTF">2020-05-27T03:59:2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26</vt:lpwstr>
  </property>
  <property fmtid="{D5CDD505-2E9C-101B-9397-08002B2CF9AE}" pid="3" name="Version">
    <vt:r8>1</vt:r8>
  </property>
</Properties>
</file>