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2AD6-016F-4968-A8A9-BBF052DF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6DEA-B36F-4CCC-AAD9-AB0D6EF3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184F-CA91-4844-A0A3-22068E2D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009E-D392-41A2-89A5-B9735E779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F5A4D-A987-4B30-AD6A-A33963D8E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1452-888B-4E35-A393-9E0232EB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C36D-66BA-4E5E-ABDF-E2AC1020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8059-F2DC-4667-BB03-A72BAD179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E96C-4EF9-4CE9-BB5A-3DA28E43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B9D2-1154-4038-927D-9D9FAB2A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44F8-8899-4996-B46D-F1335194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FC58-A44F-47FC-9062-558ED9A8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DE7E-9303-44B8-A049-D4C834A5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7E96-FBB8-4A3F-B92C-9DBA73F7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1B79-B964-48A2-9529-3A31D18A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9DC4-5154-4088-9075-B425BD5E5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A1B3-65E4-4A37-A046-3A9C7F3C9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CF63-9E19-4E20-BC58-E47635EB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40BF-F71B-42CE-8385-EBB75A32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3DC7-2C0B-47C2-B8C1-3E672C06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AD1E-A1B5-4173-AF75-98A04A1D6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B634-6227-466C-9621-84048080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65BA-CDF2-4E18-9E45-64A00734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7945-39E9-4E60-AACC-16417FF9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79E2-5F96-4961-9465-1D952E53D03A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ADBE9-6BCB-48D3-A46E-E7EFB4297406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24000" y="476280"/>
            <a:ext cx="8424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【现代诠释】孔子以“为山”为喻，从正反两方面，说明事情的成败在于人的作为。做事中道而止，则前功尽弃；努力进取，终将获得成功。关键不在于力量大小，而在意志是否坚定，是否持之以恒。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对此孟子也有类似的譬喻，“有为者，譬若掘井。掘井九韧（仞），而不得泉，犹为弃井也”。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95280" y="8366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【原文】子曰：“</a:t>
            </a:r>
            <a:r>
              <a:rPr b="1" lang="zh-CN" sz="4000" spc="-1" strike="noStrike">
                <a:solidFill>
                  <a:srgbClr val="ff3300"/>
                </a:solidFill>
                <a:latin typeface="华文中宋"/>
                <a:ea typeface="华文中宋"/>
              </a:rPr>
              <a:t>知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者</a:t>
            </a:r>
            <a:r>
              <a:rPr b="1" lang="zh-CN" sz="4000" spc="-1" strike="noStrike">
                <a:solidFill>
                  <a:srgbClr val="ff3300"/>
                </a:solidFill>
                <a:latin typeface="华文中宋"/>
                <a:ea typeface="华文中宋"/>
              </a:rPr>
              <a:t>乐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水，仁者乐山。知者动，仁者静。知者</a:t>
            </a:r>
            <a:r>
              <a:rPr b="1" lang="zh-CN" sz="4000" spc="-1" strike="noStrike">
                <a:solidFill>
                  <a:srgbClr val="ff3300"/>
                </a:solidFill>
                <a:latin typeface="华文中宋"/>
                <a:ea typeface="华文中宋"/>
              </a:rPr>
              <a:t>乐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仁者</a:t>
            </a:r>
            <a:r>
              <a:rPr b="1" lang="zh-CN" sz="4000" spc="-1" strike="noStrike">
                <a:solidFill>
                  <a:srgbClr val="ff3300"/>
                </a:solidFill>
                <a:latin typeface="华文中宋"/>
                <a:ea typeface="华文中宋"/>
              </a:rPr>
              <a:t>寿</a:t>
            </a:r>
            <a:r>
              <a:rPr b="1" lang="zh-CN" sz="40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” 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0920" y="3716280"/>
            <a:ext cx="87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Verdana"/>
              </a:rPr>
              <a:t>【释义】孔子说：“聪明的人喜欢水，有仁德的人喜欢山。聪明的人活跃，有仁德的人沉静。聪明的人生活快乐，有仁德的人容易长寿。</a:t>
            </a:r>
            <a:r>
              <a:rPr b="0" lang="zh-CN" sz="4000" spc="-1" strike="noStrike">
                <a:solidFill>
                  <a:srgbClr val="006699"/>
                </a:solidFill>
                <a:latin typeface="Verdana"/>
              </a:rPr>
              <a:t>”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79280" y="1484280"/>
            <a:ext cx="87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00"/>
                </a:solidFill>
                <a:latin typeface="Arial"/>
                <a:ea typeface="华文中宋"/>
              </a:rPr>
              <a:t>【原文】</a:t>
            </a:r>
            <a:r>
              <a:rPr b="1" lang="zh-CN" sz="3600" spc="-1" strike="noStrike" u="sng">
                <a:solidFill>
                  <a:srgbClr val="336600"/>
                </a:solidFill>
                <a:uFillTx/>
                <a:latin typeface="Arial"/>
                <a:ea typeface="华文中宋"/>
              </a:rPr>
              <a:t>子在川上曰：“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华文中宋"/>
              </a:rPr>
              <a:t>逝</a:t>
            </a:r>
            <a:r>
              <a:rPr b="1" lang="zh-CN" sz="3600" spc="-1" strike="noStrike" u="sng">
                <a:solidFill>
                  <a:srgbClr val="336600"/>
                </a:solidFill>
                <a:uFillTx/>
                <a:latin typeface="Arial"/>
                <a:ea typeface="华文中宋"/>
              </a:rPr>
              <a:t>者如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华文中宋"/>
              </a:rPr>
              <a:t>斯夫</a:t>
            </a:r>
            <a:r>
              <a:rPr b="1" lang="zh-CN" sz="3600" spc="-1" strike="noStrike" u="sng">
                <a:solidFill>
                  <a:srgbClr val="336600"/>
                </a:solidFill>
                <a:uFillTx/>
                <a:latin typeface="Arial"/>
                <a:ea typeface="华文中宋"/>
              </a:rPr>
              <a:t>！不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  <a:ea typeface="华文中宋"/>
              </a:rPr>
              <a:t>舍</a:t>
            </a:r>
            <a:r>
              <a:rPr b="1" lang="zh-CN" sz="3600" spc="-1" strike="noStrike" u="sng">
                <a:solidFill>
                  <a:srgbClr val="336600"/>
                </a:solidFill>
                <a:uFillTx/>
                <a:latin typeface="Arial"/>
                <a:ea typeface="华文中宋"/>
              </a:rPr>
              <a:t>昼夜。”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777080" y="0"/>
            <a:ext cx="1236600" cy="14842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50920" y="350028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Verdana"/>
              </a:rPr>
              <a:t>【译文】孔子在河边说：“逝去的就像这流水一样</a:t>
            </a:r>
            <a:r>
              <a:rPr b="1" lang="zh-CN" sz="4000" spc="-1" strike="noStrike">
                <a:solidFill>
                  <a:srgbClr val="006666"/>
                </a:solidFill>
                <a:latin typeface="Verdana"/>
              </a:rPr>
              <a:t>!</a:t>
            </a:r>
            <a:r>
              <a:rPr b="1" lang="zh-CN" sz="4000" spc="-1" strike="noStrike">
                <a:solidFill>
                  <a:srgbClr val="006666"/>
                </a:solidFill>
                <a:latin typeface="Verdana"/>
              </a:rPr>
              <a:t>白天黑夜奔流不息。”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914400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【现代诠释】孔子面对永无止息地流淌的河水，发出时光易逝，一去不返，往事难再的慨叹；同时勉励人们珍惜时间，效法滔滔流水不舍昼夜、不断进取的精神，努力进德修业。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孔子感叹的重点在于“不舍”，只有“不舍”，才能始终安居于“仁”的境界中，也就是“仁”——这个道德最高境界的达成本身就是一个不断修炼自己的过程，所有才有“君子以自强不息”的说法。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2495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【释义】上面如果不是有辽阔的天，就不能覆盖整个世界；心胸如果没有大地那样宽广，就不能负载万物。泰山对土石没有好恶之心所以能够形成它的高大；江海对细流不加选择，所以能够形成它的富有。所以君子要像天地那样遍覆毕载而使万物齐备，要像山海那样不立好恶、不择小助而使国家富强。君主没有忿怒引起的毒害，臣民没有因积怨造成的祸患，君主和臣下都归真返朴，把道作为归宿。所以长远的利益积聚了，巨大的功业建立了，名望树立于生前，恩德流传于后世，从而达到治理国家的最高境界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93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【原文】</a:t>
            </a:r>
            <a:r>
              <a:rPr b="1" lang="zh-CN" sz="2800" spc="-1" strike="noStrike">
                <a:solidFill>
                  <a:srgbClr val="336600"/>
                </a:solidFill>
                <a:latin typeface="Verdana"/>
              </a:rPr>
              <a:t>上不天则下不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遍</a:t>
            </a:r>
            <a:r>
              <a:rPr b="1" lang="zh-CN" sz="2800" spc="-1" strike="noStrike">
                <a:solidFill>
                  <a:srgbClr val="336600"/>
                </a:solidFill>
                <a:latin typeface="Verdana"/>
              </a:rPr>
              <a:t>覆，心不地则物不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必</a:t>
            </a:r>
            <a:r>
              <a:rPr b="1" lang="zh-CN" sz="2800" spc="-1" strike="noStrike">
                <a:solidFill>
                  <a:srgbClr val="336600"/>
                </a:solidFill>
                <a:latin typeface="Verdana"/>
              </a:rPr>
              <a:t>载。太山不立好恶，故能成其高；江海不择小助，故能成其富。故大人寄形于天地而万物备，历心于山海而国家富。上无忿怒之毒，下无伏怨之患，上下交朴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以</a:t>
            </a:r>
            <a:r>
              <a:rPr b="1" lang="zh-CN" sz="2800" spc="-1" strike="noStrike">
                <a:solidFill>
                  <a:srgbClr val="336600"/>
                </a:solidFill>
                <a:latin typeface="Verdana"/>
              </a:rPr>
              <a:t>道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</a:rPr>
              <a:t>为舍</a:t>
            </a:r>
            <a:r>
              <a:rPr b="1" lang="zh-CN" sz="2800" spc="-1" strike="noStrike">
                <a:solidFill>
                  <a:srgbClr val="336600"/>
                </a:solidFill>
                <a:latin typeface="Verdana"/>
              </a:rPr>
              <a:t>。故长利积，大功立，</a:t>
            </a:r>
            <a:r>
              <a:rPr b="1" lang="zh-CN" sz="2800" spc="-1" strike="noStrike" u="sng">
                <a:solidFill>
                  <a:srgbClr val="336600"/>
                </a:solidFill>
                <a:uFillTx/>
                <a:latin typeface="Verdana"/>
              </a:rPr>
              <a:t>名成于前，德垂于后，治之至也</a:t>
            </a:r>
            <a:r>
              <a:rPr b="1" lang="zh-CN" sz="2800" spc="-1" strike="noStrike">
                <a:solidFill>
                  <a:srgbClr val="336600"/>
                </a:solidFill>
                <a:latin typeface="Verdana"/>
              </a:rPr>
              <a:t>《韩非子•大体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24000" y="1125360"/>
            <a:ext cx="56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00"/>
                </a:solidFill>
                <a:latin typeface="Verdana"/>
              </a:rPr>
              <a:t>【现代诠释】君王要有宏大的气魄，宽广的心胸，才能使民富国强，才能建立功业且德泽后世，才能达到国家大治。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535720" y="0"/>
            <a:ext cx="3608280" cy="6308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34920"/>
            <a:ext cx="9144000" cy="69264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395280" y="76500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【原文】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  <a:ea typeface="华文中宋"/>
              </a:rPr>
              <a:t>海不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Arial"/>
                <a:ea typeface="华文中宋"/>
              </a:rPr>
              <a:t>辞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Arial"/>
                <a:ea typeface="华文中宋"/>
              </a:rPr>
              <a:t>水，故能成其大。山不辞土石，故能成其高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明主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人，故能成其众。士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学，故能成其圣。《管子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·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中宋"/>
              </a:rPr>
              <a:t>形势解》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68360" y="350028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中宋"/>
              </a:rPr>
              <a:t>【释义】大海不拒绝各种各样的水，所以才能成就它的博大；大山不拒绝形形色色的土石，所以才能成就它的高耸；贤明的君主不满足于支持他的人，所以才会有很多人支持他；饱学之士不会讨厌学习，所以才能成为圣人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900000" y="1197000"/>
            <a:ext cx="39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Verdana"/>
              </a:rPr>
              <a:t>【现代诠释】治国、治学上也应有兼容并包的宏大气度，这样，明主才能聚集更多的百姓，士人才能达到圣人的境界。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076720" y="0"/>
            <a:ext cx="406728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0"/>
            <a:ext cx="9144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【原文】徐子曰：“仲尼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亟称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于水，曰：‘水哉，水哉！’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何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取于水也？”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孟子曰：“源泉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混混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，不舍昼夜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盈科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而后进，放乎四海。有本者如是，</a:t>
            </a:r>
            <a:r>
              <a:rPr b="1" lang="zh-CN" sz="2800" spc="-1" strike="noStrike" u="sng">
                <a:solidFill>
                  <a:srgbClr val="006699"/>
                </a:solidFill>
                <a:uFillTx/>
                <a:latin typeface="Arial"/>
              </a:rPr>
              <a:t>是之取尔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苟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为无本，七八月之间雨集，沟浍皆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盈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；其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涸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也，可立而待也。</a:t>
            </a:r>
            <a:r>
              <a:rPr b="1" lang="zh-CN" sz="2800" spc="-1" strike="noStrike" u="sng">
                <a:solidFill>
                  <a:srgbClr val="006699"/>
                </a:solidFill>
                <a:uFillTx/>
                <a:latin typeface="Arial"/>
              </a:rPr>
              <a:t>故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声闻过</a:t>
            </a:r>
            <a:r>
              <a:rPr b="1" lang="zh-CN" sz="2800" spc="-1" strike="noStrike" u="sng">
                <a:solidFill>
                  <a:srgbClr val="006699"/>
                </a:solidFill>
                <a:uFillTx/>
                <a:latin typeface="Arial"/>
              </a:rPr>
              <a:t>情，君子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耻</a:t>
            </a:r>
            <a:r>
              <a:rPr b="1" lang="zh-CN" sz="2800" spc="-1" strike="noStrike" u="sng">
                <a:solidFill>
                  <a:srgbClr val="006699"/>
                </a:solidFill>
                <a:uFillTx/>
                <a:latin typeface="Arial"/>
              </a:rPr>
              <a:t>之。</a:t>
            </a:r>
            <a:r>
              <a:rPr b="1" lang="zh-CN" sz="2800" spc="-1" strike="noStrike">
                <a:solidFill>
                  <a:srgbClr val="006699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【释义】徐辟问</a:t>
            </a: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:“</a:t>
            </a: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孔子经常推崇水，说‘水啊！水啊！’，请问水有什么可取之处？” </a:t>
            </a:r>
            <a:br>
              <a:rPr sz="2800"/>
            </a:b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孟子回答说：“有源泉的水都是滚滚而来，不分昼夜，先注满沟渠再前进，最终到达了大海。有根源的事物都是这样的，所以可取。如果没有根源，就象七八月时的雨水，一时也能注满沟渠；但是马上就干涸了，也就是站着等一下那点时间。所以做学问若是名过其实，真正的君子都认为是可耻的事”。</a:t>
            </a: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70945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0" y="549360"/>
            <a:ext cx="91440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华文中宋"/>
              </a:rPr>
              <a:t>【现代诠释】孟子借回答弟子徐辟的提问，用水喻人品学识，强调务本求实，反对一个人的名誉声望与实际不相符，要求人们像水一样，有永不枯竭的生命活力，不断进取，循序渐进，自强不息。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39640" y="549360"/>
            <a:ext cx="820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89000"/>
            <a:ext cx="9144000" cy="64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隶书"/>
                <a:ea typeface="隶书"/>
              </a:rPr>
              <a:t>单元主题：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       “</a:t>
            </a: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山水情思”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文章是案间之山水，山水是地上之文章”——张潮（清）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  <a:ea typeface="隶书"/>
              </a:rPr>
              <a:t>单元教学目标：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、了解古代文人寄情山水，省悟各种人生哲理的传统</a:t>
            </a: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;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、鉴赏古人在山水中寄托自己感情和哲思的手法；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、培养学生热爱大自然、热爱祖国河山的态度和情感；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、深入理解古人在文中阐述的辩证思想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、继续积累文言词语，深入理解一词多义、词类活用、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6666"/>
                </a:solidFill>
                <a:latin typeface="Arial"/>
              </a:rPr>
              <a:t>特殊句式等文言特点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28670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【释义】孟子说：“孔子登上了东山，觉得鲁国变小了，登上了泰山，觉得天下变小了，所以看过大海的人，就难以被别的水吸引了，在圣人门下学习的人，就难以被别的言论吸引了。观赏水有一定的方法，一定要观赏它的波澜。日月都有光，细小的缝隙必定都照到。流水这东西，不流满洼坑就不再向前流；君子有志于道，不到相当程度就不可能通达。”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华文中宋"/>
                <a:ea typeface="华文中宋"/>
              </a:rPr>
              <a:t>【原文】孟子曰：“</a:t>
            </a:r>
            <a:r>
              <a:rPr b="1" lang="zh-CN" sz="3200" spc="-1" strike="noStrike" u="sng">
                <a:solidFill>
                  <a:srgbClr val="336600"/>
                </a:solidFill>
                <a:uFillTx/>
                <a:latin typeface="华文中宋"/>
                <a:ea typeface="华文中宋"/>
              </a:rPr>
              <a:t>孔子登东山而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华文中宋"/>
                <a:ea typeface="华文中宋"/>
              </a:rPr>
              <a:t>小</a:t>
            </a:r>
            <a:r>
              <a:rPr b="1" lang="zh-CN" sz="3200" spc="-1" strike="noStrike" u="sng">
                <a:solidFill>
                  <a:srgbClr val="336600"/>
                </a:solidFill>
                <a:uFillTx/>
                <a:latin typeface="华文中宋"/>
                <a:ea typeface="华文中宋"/>
              </a:rPr>
              <a:t>鲁，登泰山而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华文中宋"/>
                <a:ea typeface="华文中宋"/>
              </a:rPr>
              <a:t>小</a:t>
            </a:r>
            <a:r>
              <a:rPr b="1" lang="zh-CN" sz="3200" spc="-1" strike="noStrike" u="sng">
                <a:solidFill>
                  <a:srgbClr val="336600"/>
                </a:solidFill>
                <a:uFillTx/>
                <a:latin typeface="华文中宋"/>
                <a:ea typeface="华文中宋"/>
              </a:rPr>
              <a:t>天下</a:t>
            </a:r>
            <a:r>
              <a:rPr b="1" lang="zh-CN" sz="3200" spc="-1" strike="noStrike">
                <a:solidFill>
                  <a:srgbClr val="336600"/>
                </a:solidFill>
                <a:latin typeface="华文中宋"/>
                <a:ea typeface="华文中宋"/>
              </a:rPr>
              <a:t>，故观于海者难为水，游于圣人之门者难为言。观水有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术</a:t>
            </a:r>
            <a:r>
              <a:rPr b="1" lang="zh-CN" sz="3200" spc="-1" strike="noStrike">
                <a:solidFill>
                  <a:srgbClr val="336600"/>
                </a:solidFill>
                <a:latin typeface="华文中宋"/>
                <a:ea typeface="华文中宋"/>
              </a:rPr>
              <a:t>，必观其澜。日月有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明</a:t>
            </a:r>
            <a:r>
              <a:rPr b="1" lang="zh-CN" sz="3200" spc="-1" strike="noStrike">
                <a:solidFill>
                  <a:srgbClr val="336600"/>
                </a:solidFill>
                <a:latin typeface="华文中宋"/>
                <a:ea typeface="华文中宋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容光</a:t>
            </a:r>
            <a:r>
              <a:rPr b="1" lang="zh-CN" sz="3200" spc="-1" strike="noStrike">
                <a:solidFill>
                  <a:srgbClr val="336600"/>
                </a:solidFill>
                <a:latin typeface="华文中宋"/>
                <a:ea typeface="华文中宋"/>
              </a:rPr>
              <a:t>必照焉。流水之为物也，不盈科不行；君子之志于道也，不成章不达。” 《孟子</a:t>
            </a:r>
            <a:r>
              <a:rPr b="1" lang="zh-CN" sz="3200" spc="-1" strike="noStrike">
                <a:solidFill>
                  <a:srgbClr val="336600"/>
                </a:solidFill>
                <a:latin typeface="华文中宋"/>
                <a:ea typeface="华文中宋"/>
              </a:rPr>
              <a:t>·</a:t>
            </a:r>
            <a:r>
              <a:rPr b="1" lang="zh-CN" sz="3200" spc="-1" strike="noStrike">
                <a:solidFill>
                  <a:srgbClr val="336600"/>
                </a:solidFill>
                <a:latin typeface="华文中宋"/>
                <a:ea typeface="华文中宋"/>
              </a:rPr>
              <a:t>尽心上》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68360" y="126828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【现代诠释】以“登山”、“观海”为喻“游于圣人之门”，表达为人、治学立志要高远，胸襟要开阔，然后以“观水有术”，推进一层，说明治学基础要扎实，要循序渐进，逐步通达。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076720" y="3838680"/>
            <a:ext cx="4067280" cy="30193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【原文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  <a:ea typeface="华文中宋"/>
              </a:rPr>
              <a:t>】“上善若水，水善利万物而不争，处众人之所恶，故几于道。居善地，心善渊，与善仁，言善信，正善治，事善能，动善时。夫唯不争，故无尤。”（《老子》第八章）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270828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【释义】最高的善像水那样。水善于帮助万物而不与万物相争。它停留在众人所不喜欢的地方，所以接近于道。上善的人居住要像水那样安于卑下，存心要像水那样深沉，交友要像水那样相亲，言语要像水那样真诚，为政要像水那样有条有理，办事要像水那样无所不能，行为要想水那样待机而动。正因为他像水那样与万物无争，所以才没有烦恼。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11280" y="76500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1280" y="836640"/>
            <a:ext cx="75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华文中宋"/>
              </a:rPr>
              <a:t>【现代诠释】老聃把水视为“道”的化身，他歌颂水“善利万物而不争”、默默奉献的精神，并从水德引申出“上善”之人的七种美德：甘处众人之下，思想清明深邃、待人和善仁慈、言谈恪守信用，从政善于治理，办事发挥特长，行动把握时机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2602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【原文】江海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之所以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能为百谷王，以其善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下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之，故能为百谷王。（《老子》第六十六章）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【译文】江海所以能成为江河的首领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所以……者：……的原因。谷：两山之间的水道或夹道，这里指流经山谷的小河，‘百谷’实指‘百川’。王：同类事物中的首领、最杰出者），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由于大江大海能够甘居河川之下，所以能融会千河百川，成为江河的首领（以：介词，因为。善：善于。这里有正确对待的意思。下之：居其下，处其下。下：动词，‘之’是‘下’的宾语，指‘百谷’）。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95280" y="105264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华文中宋"/>
              </a:rPr>
              <a:t>【现代诠释】从江海善于处下，“海纳百川，有容乃大”，这两点使江海成为百川之王，这两点也是老子养生为人之道的奥妙所在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24000" y="1413000"/>
            <a:ext cx="8353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【原文】天下莫柔弱于水，而攻坚强者莫之能胜，以其无以易之。弱之胜强，柔之胜刚，天下莫不知，莫能行。（《老子》第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78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篇</a:t>
            </a:r>
            <a:r>
              <a:rPr b="0" lang="zh-CN" sz="3200" spc="-1" strike="noStrike">
                <a:solidFill>
                  <a:srgbClr val="006699"/>
                </a:solidFill>
                <a:latin typeface="Arial"/>
              </a:rPr>
              <a:t> ）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66"/>
                </a:solidFill>
                <a:latin typeface="Arial"/>
              </a:rPr>
              <a:t>【译文】遍天下再没有什么东西比水更柔弱了，而攻坚克强却没有什么东西可以胜过水。弱胜过强，柔胜过刚，遍天下没有人不知道，但是没有人能实行。</a:t>
            </a:r>
            <a:r>
              <a:rPr b="0" lang="zh-CN" sz="3200" spc="-1" strike="noStrike">
                <a:solidFill>
                  <a:srgbClr val="00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11280" y="83664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华文中宋"/>
              </a:rPr>
              <a:t>【现代诠释】水性“柔弱”与“威猛”并存，具有两重性，但柔能胜强，柔能克刚，表达了老聃为政“贵柔”的主张。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50920" y="98100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【原文】夫兵形象水，水之形避高而趋下，兵之形避实而击虚；水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因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地而制流，兵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因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敌而制胜。故兵无常势，水无常形，能</a:t>
            </a:r>
            <a:r>
              <a:rPr b="1" lang="zh-CN" sz="3200" spc="-1" strike="noStrike">
                <a:solidFill>
                  <a:srgbClr val="336600"/>
                </a:solidFill>
                <a:latin typeface="Arial"/>
              </a:rPr>
              <a:t>因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敌变化而取胜者，谓之神。《孙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Arial"/>
              </a:rPr>
              <a:t>•虚实篇》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50920" y="404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Verdana"/>
                <a:ea typeface="华文中宋"/>
              </a:rPr>
              <a:t>有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华文中宋"/>
              </a:rPr>
              <a:t>孺子</a:t>
            </a:r>
            <a:r>
              <a:rPr b="1" lang="zh-CN" sz="2800" spc="-1" strike="noStrike">
                <a:solidFill>
                  <a:srgbClr val="800080"/>
                </a:solidFill>
                <a:latin typeface="Verdana"/>
                <a:ea typeface="华文中宋"/>
              </a:rPr>
              <a:t>歌曰：“沧浪之水清兮，可以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华文中宋"/>
              </a:rPr>
              <a:t>濯</a:t>
            </a:r>
            <a:r>
              <a:rPr b="1" lang="zh-CN" sz="2800" spc="-1" strike="noStrike">
                <a:solidFill>
                  <a:srgbClr val="800080"/>
                </a:solidFill>
                <a:latin typeface="Verdana"/>
                <a:ea typeface="华文中宋"/>
              </a:rPr>
              <a:t>我缨；沧浪之水浊兮，可以濯我足。”子曰：“小人听之，清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华文中宋"/>
              </a:rPr>
              <a:t>斯</a:t>
            </a:r>
            <a:r>
              <a:rPr b="1" lang="zh-CN" sz="2800" spc="-1" strike="noStrike">
                <a:solidFill>
                  <a:srgbClr val="800080"/>
                </a:solidFill>
                <a:latin typeface="Verdana"/>
                <a:ea typeface="华文中宋"/>
              </a:rPr>
              <a:t>濯缨，浊斯濯足矣。自取之也。”（《孟子</a:t>
            </a:r>
            <a:r>
              <a:rPr b="1" lang="zh-CN" sz="2800" spc="-1" strike="noStrike">
                <a:solidFill>
                  <a:srgbClr val="800080"/>
                </a:solidFill>
                <a:latin typeface="Verdana"/>
                <a:ea typeface="华文中宋"/>
              </a:rPr>
              <a:t>·</a:t>
            </a:r>
            <a:r>
              <a:rPr b="1" lang="zh-CN" sz="2800" spc="-1" strike="noStrike">
                <a:solidFill>
                  <a:srgbClr val="800080"/>
                </a:solidFill>
                <a:latin typeface="Verdana"/>
                <a:ea typeface="华文中宋"/>
              </a:rPr>
              <a:t>离娄上》）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8360" y="285264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华文中宋"/>
                <a:ea typeface="华文中宋"/>
              </a:rPr>
              <a:t>有一小孩唱：“沧浪的水多么清啊，可以用来洗我的帽缨；沧浪的水多浊啊，可以 用来洗我的脚。”孔子说：“弟子们听着，水清就洗缨，水浑就洗脚。一个人在社会上立身处世，荣辱祸福取决于自己啊。”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900000" y="3860640"/>
            <a:ext cx="48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华文中宋"/>
              </a:rPr>
              <a:t>诸子喻山水</a:t>
            </a:r>
            <a:endParaRPr b="0" lang="en-US" sz="7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50920" y="40464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  <a:ea typeface="华文中宋"/>
              </a:rPr>
              <a:t>积土成山，风雨兴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华文中宋"/>
              </a:rPr>
              <a:t>焉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  <a:ea typeface="华文中宋"/>
              </a:rPr>
              <a:t>；积水成渊，蛟龙生焉；积善成德，而神明自得，圣心备焉。故不积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华文中宋"/>
              </a:rPr>
              <a:t>跬步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  <a:ea typeface="华文中宋"/>
              </a:rPr>
              <a:t>，</a:t>
            </a: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华文中宋"/>
              </a:rPr>
              <a:t>无以致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  <a:ea typeface="华文中宋"/>
              </a:rPr>
              <a:t>千里；不积小流，无以成江海。（《荀子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  <a:ea typeface="华文中宋"/>
              </a:rPr>
              <a:t>·</a:t>
            </a:r>
            <a:r>
              <a:rPr b="1" lang="zh-CN" sz="2800" spc="-1" strike="noStrike">
                <a:solidFill>
                  <a:srgbClr val="006699"/>
                </a:solidFill>
                <a:latin typeface="Verdana"/>
                <a:ea typeface="华文中宋"/>
              </a:rPr>
              <a:t>劝学》）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321300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Verdana"/>
                <a:ea typeface="华文中宋"/>
              </a:rPr>
              <a:t>堆积土石形成高山，风雨从这里兴起；积蓄流水形成深渊，蛟龙从这里出来；积累善行养成美德，精神和智慧自然会得到发展，圣人的心也就具备了。所以不积累半步一步，就没有用来到达千里之远的办法；不积蓄细小的河流，就没有用来形成江海的办法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-85680"/>
            <a:ext cx="9144000" cy="694368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68360" y="1341360"/>
            <a:ext cx="80643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华文中宋"/>
              </a:rPr>
              <a:t>写作特点：善于设喻说理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华文中宋"/>
              </a:rPr>
              <a:t>以山水的种种物象来比喻人生体验和感悟，从而将抽象的道理形象化，深奥的哲理浅显化，深入浅出，给人以鲜明清晰的认知和生动形象的美感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54936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山水风光中蕴藏着许多哲学命题，孕育着无限的诗情画意。人们通过读山水，可以领悟到世事的兴衰变迁，人生的喜怒哀乐，故历代文人墨客无不倘徉于名山大川以寻求灵感。山水对人类的真正价值，不在于我们从中寻找什么或验证什么，而在于它对我们的提供，希腊神话的安泰每接近一次大地，便从大地中吸取一回力量，我们也应该是每深入一次山水，便获得一份精神与灵智。若没有时间亲临大自然体味人生，那就让我们在描摹山水的文字中体味一番吧。 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66"/>
                </a:solidFill>
                <a:latin typeface="华文彩云"/>
                <a:ea typeface="华文彩云"/>
              </a:rPr>
              <a:t>学习目标：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66"/>
                </a:solidFill>
                <a:latin typeface="华文新魏"/>
                <a:ea typeface="华文新魏"/>
              </a:rPr>
              <a:t>1</a:t>
            </a:r>
            <a:r>
              <a:rPr b="1" lang="zh-CN" sz="4800" spc="-1" strike="noStrike">
                <a:solidFill>
                  <a:srgbClr val="006666"/>
                </a:solidFill>
                <a:latin typeface="华文新魏"/>
                <a:ea typeface="华文新魏"/>
              </a:rPr>
              <a:t>、学习以山水为喻阐述道理的形象化的议论方法。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66"/>
                </a:solidFill>
                <a:latin typeface="华文新魏"/>
                <a:ea typeface="华文新魏"/>
              </a:rPr>
              <a:t>2</a:t>
            </a:r>
            <a:r>
              <a:rPr b="1" lang="zh-CN" sz="4800" spc="-1" strike="noStrike">
                <a:solidFill>
                  <a:srgbClr val="006666"/>
                </a:solidFill>
                <a:latin typeface="华文新魏"/>
                <a:ea typeface="华文新魏"/>
              </a:rPr>
              <a:t>、领会先哲以山水为喻所阐述的人生哲理。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66"/>
                </a:solidFill>
                <a:latin typeface="华文新魏"/>
                <a:ea typeface="华文新魏"/>
              </a:rPr>
              <a:t>3</a:t>
            </a:r>
            <a:r>
              <a:rPr b="1" lang="zh-CN" sz="4800" spc="-1" strike="noStrike">
                <a:solidFill>
                  <a:srgbClr val="006666"/>
                </a:solidFill>
                <a:latin typeface="华文新魏"/>
                <a:ea typeface="华文新魏"/>
              </a:rPr>
              <a:t>、熟记课文中的名句，积累常见的文言词、句式。</a:t>
            </a:r>
            <a:endParaRPr b="0" lang="en-US" sz="4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333360"/>
            <a:ext cx="9144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检查预习：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孔子，名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中宋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字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中宋"/>
                <a:ea typeface="华文中宋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中宋"/>
                <a:ea typeface="华文中宋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时期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国人。是我国古代的伟大的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中宋"/>
                <a:ea typeface="华文中宋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家、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中宋"/>
                <a:ea typeface="华文中宋"/>
              </a:rPr>
              <a:t>     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家、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中宋"/>
                <a:ea typeface="华文中宋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家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《论语》是记录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中宋"/>
                <a:ea typeface="华文中宋"/>
              </a:rPr>
              <a:t>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言行的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中宋"/>
                <a:ea typeface="华文中宋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体散文集。是一部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中宋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家学派的经典著作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老子，即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中宋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一说姓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中宋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名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中宋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 。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中宋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时期思想家，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中宋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家学派创始人。著作《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中宋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》，又名《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中宋"/>
                <a:ea typeface="华文中宋"/>
              </a:rPr>
              <a:t>      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》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《孙子》又称《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中宋"/>
                <a:ea typeface="华文中宋"/>
              </a:rPr>
              <a:t>       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》，作者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中宋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字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中宋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中宋"/>
                <a:ea typeface="华文中宋"/>
              </a:rPr>
              <a:t>        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中宋"/>
                <a:ea typeface="华文中宋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末期齐国人，先秦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中宋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家的代表人物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、管仲，名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中宋"/>
                <a:ea typeface="华文中宋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，字仲，颖上人，曾使齐国成为“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华文中宋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” 之首，齐桓公尊称他为“仲父”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95640" y="9079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丘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5280" y="981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仲尼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76720" y="981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华文中宋"/>
              </a:rPr>
              <a:t>春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093080" y="981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鲁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48000" y="134136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教育 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19640" y="134136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思想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236000" y="134136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政治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43280" y="1989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华文中宋"/>
              </a:rPr>
              <a:t>孔子及其弟子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16720" y="1916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华文中宋"/>
              </a:rPr>
              <a:t>语录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79640" y="2421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华文中宋"/>
              </a:rPr>
              <a:t>儒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050920" y="299736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华文中宋"/>
              </a:rPr>
              <a:t>老聃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27640" y="3068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李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51640" y="3068640"/>
            <a:ext cx="6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华文中宋"/>
              </a:rPr>
              <a:t>耳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04000" y="306864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华文中宋"/>
              </a:rPr>
              <a:t>春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87280" y="350028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华文中宋"/>
              </a:rPr>
              <a:t>道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64000" y="35002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华文中宋"/>
              </a:rPr>
              <a:t>老子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39337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道德经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450864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华文中宋"/>
              </a:rPr>
              <a:t>孙子兵法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84720" y="450864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孙武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740720" y="450864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华文中宋"/>
              </a:rPr>
              <a:t>长卿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515772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战国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67280" y="52293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华文中宋"/>
              </a:rPr>
              <a:t>兵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24000" y="58053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夷吾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9640" y="630864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华文中宋"/>
              </a:rPr>
              <a:t>春秋五霸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8964720" cy="69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二、名句填空：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、学而不思则罔，</a:t>
            </a:r>
            <a:r>
              <a:rPr b="1" lang="zh-CN" sz="2800" spc="-1" strike="noStrike" u="sng">
                <a:solidFill>
                  <a:srgbClr val="006699"/>
                </a:solidFill>
                <a:uFillTx/>
                <a:latin typeface="华文中宋"/>
                <a:ea typeface="华文中宋"/>
              </a:rPr>
              <a:t>                    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、</a:t>
            </a:r>
            <a:r>
              <a:rPr b="1" lang="zh-CN" sz="2800" spc="-1" strike="noStrike" u="sng">
                <a:solidFill>
                  <a:srgbClr val="006699"/>
                </a:solidFill>
                <a:uFillTx/>
                <a:latin typeface="华文中宋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，可以为师也。</a:t>
            </a:r>
            <a:br>
              <a:rPr sz="2800"/>
            </a:b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、知之者不如好之者，</a:t>
            </a:r>
            <a:r>
              <a:rPr b="1" lang="zh-CN" sz="2800" spc="-1" strike="noStrike" u="sng">
                <a:solidFill>
                  <a:srgbClr val="006699"/>
                </a:solidFill>
                <a:uFillTx/>
                <a:latin typeface="华文中宋"/>
                <a:ea typeface="华文中宋"/>
              </a:rPr>
              <a:t>                               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、</a:t>
            </a:r>
            <a:r>
              <a:rPr b="1" lang="zh-CN" sz="2800" spc="-1" strike="noStrike" u="sng">
                <a:solidFill>
                  <a:srgbClr val="006699"/>
                </a:solidFill>
                <a:uFillTx/>
                <a:latin typeface="华文中宋"/>
                <a:ea typeface="华文中宋"/>
              </a:rPr>
              <a:t>                 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，小人长戚戚。</a:t>
            </a:r>
            <a:br>
              <a:rPr sz="2800"/>
            </a:b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5. 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子曰：“其身正，不令而行；</a:t>
            </a:r>
            <a:r>
              <a:rPr b="1" lang="zh-CN" sz="2800" spc="-1" strike="noStrike" u="sng">
                <a:solidFill>
                  <a:srgbClr val="006699"/>
                </a:solidFill>
                <a:uFillTx/>
                <a:latin typeface="华文中宋"/>
                <a:ea typeface="华文中宋"/>
              </a:rPr>
              <a:t>           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，</a:t>
            </a:r>
            <a:r>
              <a:rPr b="1" lang="zh-CN" sz="2800" spc="-1" strike="noStrike" u="sng">
                <a:solidFill>
                  <a:srgbClr val="006699"/>
                </a:solidFill>
                <a:uFillTx/>
                <a:latin typeface="华文中宋"/>
                <a:ea typeface="华文中宋"/>
              </a:rPr>
              <a:t>            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。”</a:t>
            </a:r>
            <a:br>
              <a:rPr sz="2800"/>
            </a:b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6. 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己所不欲，</a:t>
            </a:r>
            <a:r>
              <a:rPr b="1" lang="zh-CN" sz="2800" spc="-1" strike="noStrike" u="sng">
                <a:solidFill>
                  <a:srgbClr val="006699"/>
                </a:solidFill>
                <a:uFillTx/>
                <a:latin typeface="华文中宋"/>
                <a:ea typeface="华文中宋"/>
              </a:rPr>
              <a:t>                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。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7.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朝闻道，</a:t>
            </a:r>
            <a:r>
              <a:rPr b="1" lang="zh-CN" sz="2800" spc="-1" strike="noStrike" u="sng">
                <a:solidFill>
                  <a:srgbClr val="006699"/>
                </a:solidFill>
                <a:uFillTx/>
                <a:latin typeface="华文中宋"/>
                <a:ea typeface="华文中宋"/>
              </a:rPr>
              <a:t>                   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8.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三军可夺帅也，</a:t>
            </a:r>
            <a:r>
              <a:rPr b="1" lang="zh-CN" sz="2800" spc="-1" strike="noStrike" u="sng">
                <a:solidFill>
                  <a:srgbClr val="006699"/>
                </a:solidFill>
                <a:uFillTx/>
                <a:latin typeface="华文中宋"/>
                <a:ea typeface="华文中宋"/>
              </a:rPr>
              <a:t>                          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9.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岁寒，</a:t>
            </a:r>
            <a:r>
              <a:rPr b="1" lang="zh-CN" sz="2800" spc="-1" strike="noStrike" u="sng">
                <a:solidFill>
                  <a:srgbClr val="006699"/>
                </a:solidFill>
                <a:uFillTx/>
                <a:latin typeface="华文中宋"/>
                <a:ea typeface="华文中宋"/>
              </a:rPr>
              <a:t>                             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10.</a:t>
            </a:r>
            <a:r>
              <a:rPr b="1" lang="zh-CN" sz="2800" spc="-1" strike="noStrike" u="sng">
                <a:solidFill>
                  <a:srgbClr val="006699"/>
                </a:solidFill>
                <a:uFillTx/>
                <a:latin typeface="华文中宋"/>
                <a:ea typeface="华文中宋"/>
              </a:rPr>
              <a:t>                        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，不成人之恶；小人反是。</a:t>
            </a:r>
            <a:br>
              <a:rPr sz="2800"/>
            </a:b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11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工欲善其事，</a:t>
            </a:r>
            <a:r>
              <a:rPr b="1" lang="zh-CN" sz="2800" spc="-1" strike="noStrike" u="sng">
                <a:solidFill>
                  <a:srgbClr val="006699"/>
                </a:solidFill>
                <a:uFillTx/>
                <a:latin typeface="华文中宋"/>
                <a:ea typeface="华文中宋"/>
              </a:rPr>
              <a:t>                      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12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、民不畏死，</a:t>
            </a:r>
            <a:r>
              <a:rPr b="1" lang="zh-CN" sz="2800" spc="-1" strike="noStrike" u="sng">
                <a:solidFill>
                  <a:srgbClr val="006699"/>
                </a:solidFill>
                <a:uFillTx/>
                <a:latin typeface="华文中宋"/>
                <a:ea typeface="华文中宋"/>
              </a:rPr>
              <a:t>                    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13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、</a:t>
            </a:r>
            <a:r>
              <a:rPr b="1" lang="zh-CN" sz="2800" spc="-1" strike="noStrike" u="sng">
                <a:solidFill>
                  <a:srgbClr val="006699"/>
                </a:solidFill>
                <a:uFillTx/>
                <a:latin typeface="华文中宋"/>
                <a:ea typeface="华文中宋"/>
              </a:rPr>
              <a:t>                    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，福兮祸之所伏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98120" y="70344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思而不学则殆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134136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温故而知新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8360" y="227664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  <a:ea typeface="华文中宋"/>
              </a:rPr>
              <a:t>君子坦荡荡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80000" y="177336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好之者不如乐之者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003640" y="2781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其身不正  虽令不从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411280" y="3284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  <a:ea typeface="华文中宋"/>
              </a:rPr>
              <a:t>勿施于人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72360" y="33577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  <a:ea typeface="华文中宋"/>
              </a:rPr>
              <a:t>夕死可矣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43280" y="378936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匹夫不可夺志也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4292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然后知松柏之后凋也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00000" y="479736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  <a:ea typeface="华文中宋"/>
              </a:rPr>
              <a:t>君子成人之美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00360" y="537372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  <a:ea typeface="华文中宋"/>
              </a:rPr>
              <a:t>必先利其器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71640" y="580536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  <a:ea typeface="华文中宋"/>
              </a:rPr>
              <a:t>奈何以死惧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00000" y="6338880"/>
            <a:ext cx="25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Verdana"/>
                <a:ea typeface="华文中宋"/>
              </a:rPr>
              <a:t>祸兮福之所倚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333360"/>
            <a:ext cx="9144000" cy="52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（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）不以规矩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无以成方圆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（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）得道者多助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失道者寡助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（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3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）穷则独善其身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达则兼善天下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（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）天时不如地利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地利不如人和。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（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5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）老吾老，以及人之老；幼吾幼，以及人之幼。</a:t>
            </a:r>
            <a:br>
              <a:rPr sz="2800"/>
            </a:b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 （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6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）富贵不能淫，贫贱不能移，威武不能屈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（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7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）大人者，不失其赤子之心者也。</a:t>
            </a:r>
            <a:br>
              <a:rPr sz="2800"/>
            </a:b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（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8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）鱼，我所欲也。熊掌，亦我所欲也。二者不可得兼，舍鱼而取熊掌者也。生，亦我所欲也。义亦我所欲也。二者不可得兼，舍生而取义者也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（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9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）民为贵，社稷次之，君为轻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——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以上九句选自《孟子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华文中宋"/>
                <a:ea typeface="华文中宋"/>
              </a:rPr>
              <a:t>（</a:t>
            </a:r>
            <a:r>
              <a:rPr b="1" lang="zh-CN" sz="3200" spc="-1" strike="noStrike">
                <a:solidFill>
                  <a:srgbClr val="006699"/>
                </a:solidFill>
                <a:latin typeface="华文中宋"/>
                <a:ea typeface="华文中宋"/>
              </a:rPr>
              <a:t>10</a:t>
            </a:r>
            <a:r>
              <a:rPr b="1" lang="zh-CN" sz="3200" spc="-1" strike="noStrike">
                <a:solidFill>
                  <a:srgbClr val="006699"/>
                </a:solidFill>
                <a:latin typeface="华文中宋"/>
                <a:ea typeface="华文中宋"/>
              </a:rPr>
              <a:t>）知己知彼，百战不殆</a:t>
            </a:r>
            <a:r>
              <a:rPr b="1" lang="zh-CN" sz="3200" spc="-1" strike="noStrike">
                <a:solidFill>
                  <a:srgbClr val="006699"/>
                </a:solidFill>
                <a:latin typeface="Verdana"/>
              </a:rPr>
              <a:t>。——《孙子》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（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11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）十年树木，百年树人。——《管子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.</a:t>
            </a:r>
            <a:r>
              <a:rPr b="1" lang="zh-CN" sz="2800" spc="-1" strike="noStrike">
                <a:solidFill>
                  <a:srgbClr val="006699"/>
                </a:solidFill>
                <a:latin typeface="华文中宋"/>
                <a:ea typeface="华文中宋"/>
              </a:rPr>
              <a:t>修权》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-114480"/>
            <a:ext cx="914400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Arial"/>
                <a:ea typeface="华文中宋"/>
              </a:rPr>
              <a:t>    “</a:t>
            </a:r>
            <a:r>
              <a:rPr b="1" lang="zh-CN" sz="2800" spc="-1" strike="noStrike">
                <a:solidFill>
                  <a:srgbClr val="336600"/>
                </a:solidFill>
                <a:latin typeface="Arial"/>
                <a:ea typeface="华文中宋"/>
              </a:rPr>
              <a:t>自然”是一部能启人心智的奥妙无穷的大书。只要你用心去读，就一定会从中获得丰富的人生感情和无穷的乐趣：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Arial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336600"/>
                </a:solidFill>
                <a:latin typeface="Arial"/>
                <a:ea typeface="华文中宋"/>
              </a:rPr>
              <a:t>读“蓝天”，我们可以读出她的纯美、天真、浪漫，读出她的博大、深邃</a:t>
            </a:r>
            <a:r>
              <a:rPr b="1" lang="zh-CN" sz="2800" spc="-1" strike="noStrike">
                <a:solidFill>
                  <a:srgbClr val="336600"/>
                </a:solidFill>
                <a:latin typeface="Arial"/>
                <a:ea typeface="华文中宋"/>
              </a:rPr>
              <a:t>,</a:t>
            </a:r>
            <a:r>
              <a:rPr b="1" lang="zh-CN" sz="2800" spc="-1" strike="noStrike">
                <a:solidFill>
                  <a:srgbClr val="336600"/>
                </a:solidFill>
                <a:latin typeface="Arial"/>
                <a:ea typeface="华文中宋"/>
              </a:rPr>
              <a:t>蓝天犹如一面镜子，可以调整人的心灵，使人脱俗净念；读“白云”，我们可以读出她那份自由，那份悠闲，读出人生超脱的野趣，读出游子飘忽的行踪，读出生命的流动，读出淡泊的情怀；读“时雨”，我们可以读出春的缠绵，读出夏的潇洒，读出秋的苍凉，读出冬的静穆，可以读出羁旅愁思，可以读出国势飘摇……世间万事万物均有其特有的物态，都有不同的变化，都启人联想，发人深省，令人感奋，给人教益。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95280" y="2349360"/>
            <a:ext cx="835344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【注释】①篑（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kuì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）：装土的筐子。</a:t>
            </a:r>
            <a:br>
              <a:rPr sz="3600"/>
            </a:b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【译文】孔子说：“譬如堆土成山，只差一筐土就完成了，这时停下来，那是我自己停止了努力；譬如填平土地，即使只倒下一筐，但只要继续进行，我就是在向成功迈进。”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《尚书》：“为山九仞，功亏一篑”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9280" y="260280"/>
            <a:ext cx="878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华文中宋"/>
              </a:rPr>
              <a:t>【原文】子曰：“譬如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Verdana"/>
                <a:ea typeface="华文中宋"/>
              </a:rPr>
              <a:t>为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华文中宋"/>
              </a:rPr>
              <a:t>山，未成一篑①，止，吾止也。譬如平地，</a:t>
            </a:r>
            <a:r>
              <a:rPr b="1" lang="zh-CN" sz="3600" spc="-1" strike="noStrike">
                <a:solidFill>
                  <a:srgbClr val="ff3300"/>
                </a:solidFill>
                <a:latin typeface="Verdana"/>
                <a:ea typeface="华文中宋"/>
              </a:rPr>
              <a:t>虽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华文中宋"/>
              </a:rPr>
              <a:t>覆一篑，进，吾往也。”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0T02:51:27Z</dcterms:created>
  <dc:creator>语文组东1</dc:creator>
  <dc:description/>
  <dc:language>en-US</dc:language>
  <cp:lastModifiedBy>zzz</cp:lastModifiedBy>
  <dcterms:modified xsi:type="dcterms:W3CDTF">2007-11-18T02:49:16Z</dcterms:modified>
  <cp:revision>94</cp:revision>
  <dc:subject/>
  <dc:title>幻灯片 1</dc:title>
</cp:coreProperties>
</file>