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00F-E0EC-4B87-8157-521FAADB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CB5-563C-4098-A6B8-E33843CF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413-AA6B-4AA2-9B42-C53B75FB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FAF-CF17-4ADF-A0AB-9BDF9E9D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184E-91CE-4CB7-9563-D0900734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7686-C8D8-4ECC-91D7-9366792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E7A6-BCCF-4642-886A-7FEB4402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1062-6C23-4BEF-9B48-FFC13A19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0E9C-F5CC-4F24-8DFA-2E062B22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CBA3-4088-4A85-9FFF-5263DBE6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B0C5-82B2-4D01-B592-123A314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36C-AF26-4687-A3D9-92ADB209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B604-EE4D-4E4A-B90C-C79F4177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E139-48A8-4C58-A76B-FF4DCFA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7E86-243A-449B-B9D5-673036E7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00FC-831A-4D88-B0C7-E6A6CA34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3885-1A8A-47EC-A378-894A6084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B08-3BAA-4652-A240-C4BFAE74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56F-B50D-4C38-A762-CF7500FB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73D-96D9-4720-B2FD-4BC440D8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F13-44A8-4451-A1C8-B3B2E47F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8C9-3DB5-4C1F-B101-2CE37A4D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255-0467-4BC2-81EE-9D56F2CF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D47-9F56-46B2-98D7-08B03D0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D0AC-7913-4E93-A278-00AF88B1E5C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E748-448D-4685-9FEB-5038DE75FEFE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14600" y="1143000"/>
            <a:ext cx="609588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左忠毅公逸事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2" name="book14" descr=""/>
          <p:cNvPicPr/>
          <p:nvPr/>
        </p:nvPicPr>
        <p:blipFill>
          <a:blip r:embed="rId2"/>
          <a:stretch/>
        </p:blipFill>
        <p:spPr>
          <a:xfrm>
            <a:off x="3809880" y="4343400"/>
            <a:ext cx="32004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9680" y="990720"/>
            <a:ext cx="6400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视学京畿：省略介词“于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风雪严寒：“风雪”活用为动词，意为“刮着风，下着雪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从数骑出：从，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使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……</a:t>
            </a: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跟从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叩之寺僧：省略介词“于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Webdings"/>
                <a:ea typeface="Webdings"/>
              </a:rPr>
              <a:t>瞿然注视：瞪大眼睛仔细看着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吾诸儿碌碌，他日继吾志事，惟此生耳：我的几个儿子平庸无能，以后继承我的志向事业的，只有这个书生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981080" y="380880"/>
            <a:ext cx="6705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逆阉：逆叛的太监，这里指魏忠贤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卒感焉：狱卒被他感动了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除不洁者：为，通“伪”，装作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微指：悄悄（暗暗）指着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拨眦：拨开眼眶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昧大义：不明大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糜烂：败坏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已矣：完了，已，停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涕：眼泪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语人：告诉别人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057400" y="762120"/>
            <a:ext cx="67816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史朝夕狱门外：谓语省略句，省略了“候、俟”之类的词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汝复轻身而昧大义，天下事谁可支拄者：你又不保重身体，不明大义，天下大事，哪个是可以支撑的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不速去，无俟奸人构陷，吾今即扑杀汝：还不快快离去！不要等奸人编造罪名来陷害你，我现在就打死你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09680" y="1295280"/>
            <a:ext cx="61722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辄：总是，常常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更休：轮流休息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振：抖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负：辜负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躬造：亲自到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候：问候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Webdings"/>
                <a:ea typeface="Webdings"/>
              </a:rPr>
              <a:t>起居：日常生活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1219320"/>
            <a:ext cx="6705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文题是“左忠毅公逸事”，但课文第三段写的全是史可法在镇压农民起义中的表现，游离于课题之外，可以删去，你的看法怎样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74320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明确：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本段写史可法镇压农民起义，是作者阶级局限性的表现，应分析批判。但在结构上，却是全文的有机组成部分。明写史，暗写左，写史的忠勤职守，正是在表现左的言传身教对史的影响，从侧面丰富了左的形象。且处处与上文照应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057400" y="2133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本文怎样通过行动、语言、肖像的刻画表现人物的精神面貌的？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c1_29_5" descr=""/>
          <p:cNvPicPr/>
          <p:nvPr/>
        </p:nvPicPr>
        <p:blipFill>
          <a:blip r:embed="rId2"/>
          <a:stretch/>
        </p:blipFill>
        <p:spPr>
          <a:xfrm>
            <a:off x="6324480" y="533520"/>
            <a:ext cx="24685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86680" y="1600200"/>
            <a:ext cx="789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行动描写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1066680"/>
            <a:ext cx="0" cy="35053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066680"/>
            <a:ext cx="3049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4572000"/>
            <a:ext cx="228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838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微行视学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解貂覆生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面署第一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奋臂拨眦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摸械投击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066680"/>
            <a:ext cx="7621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838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深入民间，了解民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286000"/>
            <a:ext cx="914400" cy="152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581280" y="2437920"/>
            <a:ext cx="914400" cy="30492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2057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善于发现人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大胆选拔人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4038480"/>
            <a:ext cx="990720" cy="228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81280" y="4266720"/>
            <a:ext cx="990720" cy="38124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40384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忠心为国，既忠且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5000" y="1752480"/>
            <a:ext cx="91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语言描写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1143000"/>
            <a:ext cx="0" cy="38862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1143000"/>
            <a:ext cx="3049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5029200"/>
            <a:ext cx="3049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838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吾诸儿碌碌”句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1066680"/>
            <a:ext cx="9144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83808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一心为公，提掖后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4724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汝复轻身而昧大义，天下事谁可支拄者？”句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5410080"/>
            <a:ext cx="990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4952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忧国如焚，悲辞慷慨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10360" y="1676520"/>
            <a:ext cx="789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肖像描写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990720"/>
            <a:ext cx="0" cy="358128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990720"/>
            <a:ext cx="3049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572000"/>
            <a:ext cx="228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83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面额焦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1066680"/>
            <a:ext cx="9144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8380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忠贞不屈，大义凛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目光如炬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4495680"/>
            <a:ext cx="9144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Webdings"/>
                <a:ea typeface="Webdings"/>
              </a:rPr>
              <a:t>心怀国家，毫不颓唐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1640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课文分析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990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第一段写左视学京畿，赏识史于古寺偶遇之时，选拔史于呈卷之际，表现他知人善任的远见卓识和为国选材的耿耿忠心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5240" y="2230560"/>
            <a:ext cx="717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200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首先写他爱才—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32004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解、掩、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41360" y="4267080"/>
            <a:ext cx="24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其次写他选才—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4267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瞿 然注视、面署第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5715000"/>
            <a:ext cx="218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5486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最后写他誉才—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5486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召入，使拜夫人…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886200"/>
            <a:ext cx="5715000" cy="2666880"/>
          </a:xfrm>
          <a:prstGeom prst="rect">
            <a:avLst/>
          </a:prstGeom>
          <a:solidFill>
            <a:srgbClr val="0665c6"/>
          </a:solidFill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752480"/>
            <a:ext cx="8839080" cy="205740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  <a:ea typeface="黑体"/>
              </a:rPr>
              <a:t>左 忠 毅 公 逸 事  </a:t>
            </a:r>
            <a:br>
              <a:rPr sz="4400"/>
            </a:br>
            <a:r>
              <a:rPr b="0" lang="zh-CN" sz="4400" spc="-1" strike="noStrike">
                <a:solidFill>
                  <a:srgbClr val="f8f8f8"/>
                </a:solidFill>
                <a:latin typeface="Times New Roman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f8f8f8"/>
                </a:solidFill>
                <a:latin typeface="宋体"/>
              </a:rPr>
              <a:t>方   苞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课题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忠毅，谥号；公，尊称。逸事，散失没有经正史流传的事迹。这类文章不像正史作传那样全面叙述人物的生平事迹，而是从一生行事中选取一小部分来表现人物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·</a:t>
            </a: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809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作者</a:t>
            </a:r>
            <a:r>
              <a:rPr b="0" lang="zh-CN" sz="32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dddddd"/>
                </a:solidFill>
                <a:latin typeface="Times New Roman"/>
              </a:rPr>
              <a:t>方苞，字灵皋，号望溪，人称望溪先生。清代安徽桐城人。与刘大櫆、姚鼐并称为“桐城三大家”，为三大家之首，桐城派创始人。著名散文家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tcwm" descr=""/>
          <p:cNvPicPr/>
          <p:nvPr/>
        </p:nvPicPr>
        <p:blipFill>
          <a:blip r:embed="rId2"/>
          <a:stretch/>
        </p:blipFill>
        <p:spPr>
          <a:xfrm>
            <a:off x="6172200" y="3886200"/>
            <a:ext cx="2971800" cy="193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24480" y="6095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dddddd"/>
                </a:solidFill>
                <a:latin typeface="Times New Roman"/>
              </a:rPr>
              <a:t>桐城文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第二段写厂狱相晤、左怒声斥史的动人场面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17524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第一层史公探狱。这一层着力描写史不忘恩师、冒死探视，反衬出左对他的师恩之重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396252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从史的眼中写左受酷刑后“席地倚墙而坐”的神态，凸现了左铮铮铁骨、坚强不屈的毅力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58128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第二层写左公斥史。集中表现他以国事为重，不计个人生死的崇高品质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1295280"/>
            <a:ext cx="3047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公辨其声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目不可开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奋臂以指拨眦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厉声怒斥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摸械欲扑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7120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可见其神智清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94880" y="23623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足证其受刑之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94880" y="3276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显示其情绪激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42670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疾言怒骂、动作剧烈更显其性格刚毅、情感丰富、心情矛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09680" y="3049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怒斥驱赶中渗透着深沉的爱护，深沉的爱护出自以国事为重的耿耿忠心。一息尚存，惟念国事，个人的生死荣辱早已置之度外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886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史的“不出”声和“趋而出”都是因为对恩师的理解和尊重，反衬出左光斗高大威严的形象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051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533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第三层借史之“语人”做结，赞颂左公之刚毅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1752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铁石铸造”是对左的最恰当的颂扬，是是其形象、性格特点的点睛之笔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35812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这一段有正面描写，有侧面烘托。在结构上既照应了第一段中左公的“他日继吾志者”的用心，又为下文史忠于国事的描述预设了伏笔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23280" y="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第三段写史公治兵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每有警……不寝”写他尽忠职守，寒夜值勤的细节描写，表现他体恤士卒，精忠报国。最后用他的话作结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2767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本段写史可法重于国事，轻于己身，坚强刚毅，正是左光斗言传身教的结果。左公的预言得到了证实，史为宾，辉照出左公的形象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65240" y="30492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第四段写史带兵期间，敬事太公、太母及夫人的情形，表明他永不完过恩师的深情。着笔于史可法，归意于左光斗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327672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最后补叙狱中斥史这一逸事的来源，强调其真实性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780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aeaea"/>
                </a:solidFill>
                <a:latin typeface="Times New Roman"/>
                <a:ea typeface="隶书"/>
              </a:rPr>
              <a:t>小结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70200" y="10666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全文围绕左光斗“忠毅”的特征，选取了 京畿视学、狱中斥史、史公带兵三个主要事件。其中第一件是伏笔，第二件为重点，第三件为陪衬。选材典型，手法灵活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4419720"/>
            <a:ext cx="67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本文还善于运用典型的细节描写，着墨不多，但却形神兼备，塑造了栩栩如生的人物形象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120" y="7617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教 学 目 标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11360" y="1905120"/>
            <a:ext cx="7532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、掌握文中出现的重要的词语及语法现象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、选取典型事例表现人物思想性格的写法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ccff"/>
                </a:solidFill>
                <a:latin typeface="Times New Roman"/>
              </a:rPr>
              <a:t>、学习左光斗举荐人才、锄奸救国、坚贞不屈的高尚品德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12960" y="22860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89280" y="96840"/>
            <a:ext cx="702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89280" y="96840"/>
            <a:ext cx="725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603360"/>
            <a:ext cx="70866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  <a:ea typeface="_x000b__x000c_"/>
              </a:rPr>
              <a:t>.</a:t>
            </a:r>
            <a:r>
              <a:rPr b="1" lang="zh-CN" sz="4800" spc="-1" strike="noStrike">
                <a:solidFill>
                  <a:srgbClr val="eaeaea"/>
                </a:solidFill>
                <a:latin typeface="宋体"/>
              </a:rPr>
              <a:t>左光斗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  <a:ea typeface="Times New Roman"/>
              </a:rPr>
              <a:t>1575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～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  <a:ea typeface="Times New Roman"/>
              </a:rPr>
              <a:t>1625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字遗直，号浮丘，桐城人。明万历三十五年（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  <a:ea typeface="Times New Roman"/>
              </a:rPr>
              <a:t>1607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）举进士，历任御史、左佥都御史。天启四年（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  <a:ea typeface="Times New Roman"/>
              </a:rPr>
              <a:t>1624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），杨涟劾魏忠贤，他参与其事，又亲劾魏忠贤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  <a:ea typeface="Times New Roman"/>
              </a:rPr>
              <a:t>32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折罪。但魏忠贤先发制人，捏造罪名将他们逮捕入狱，摧残至死。遇害后两年，魏忠贤的罪行得到清算，左光斗的冤案得到昭雪。后追赠太子少保，谥“忠毅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  <a:ea typeface="Times New Roman"/>
              </a:rPr>
              <a:t>”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65240" y="24912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aeaea"/>
                </a:solidFill>
                <a:latin typeface="_x000b__x000c_"/>
              </a:rPr>
              <a:t>史可法</a:t>
            </a:r>
            <a:r>
              <a:rPr b="0" lang="zh-CN" sz="3600" spc="-1" strike="noStrike">
                <a:solidFill>
                  <a:srgbClr val="eaeaea"/>
                </a:solidFill>
                <a:latin typeface="_x000b__x000c_"/>
              </a:rPr>
              <a:t>（</a:t>
            </a:r>
            <a:r>
              <a:rPr b="0" lang="zh-CN" sz="36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1602</a:t>
            </a:r>
            <a:r>
              <a:rPr b="0" lang="zh-CN" sz="3600" spc="-1" strike="noStrike">
                <a:solidFill>
                  <a:srgbClr val="eaeaea"/>
                </a:solidFill>
                <a:latin typeface="_x000b__x000c_"/>
              </a:rPr>
              <a:t>～</a:t>
            </a:r>
            <a:r>
              <a:rPr b="0" lang="zh-CN" sz="36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1645</a:t>
            </a:r>
            <a:r>
              <a:rPr b="0" lang="zh-CN" sz="3600" spc="-1" strike="noStrike">
                <a:solidFill>
                  <a:srgbClr val="eaeaea"/>
                </a:solidFill>
                <a:latin typeface="_x000b__x000c_"/>
              </a:rPr>
              <a:t>），字宪之，号道邻，河南祥符（今开封）人。明崇祯进士，累迁右佥都御史、南京兵部尚书。明崇祯十七年（</a:t>
            </a:r>
            <a:r>
              <a:rPr b="0" lang="zh-CN" sz="36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1644</a:t>
            </a:r>
            <a:r>
              <a:rPr b="0" lang="zh-CN" sz="3600" spc="-1" strike="noStrike">
                <a:solidFill>
                  <a:srgbClr val="eaeaea"/>
                </a:solidFill>
                <a:latin typeface="_x000b__x000c_"/>
              </a:rPr>
              <a:t>），李自成灭明朝，福王（弘光帝朱由崧）立，史任兵部尚书兼东阁大学士，与马士英等共主朝政，但受马排挤。诏令史督师，出镇淮、扬，加太子太保、兵部尚书、武英殿大学士，开府扬州。</a:t>
            </a:r>
            <a:r>
              <a:rPr b="0" lang="zh-CN" sz="36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7400" y="304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史可法驻守扬州时，在四方无援的情况下，整饬军队，修筑城垣，晓以民族存亡大义，激励</a:t>
            </a:r>
            <a:r>
              <a:rPr b="0" lang="zh-CN" sz="24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4000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军民固守孤城。清摄政王多尔衮</a:t>
            </a:r>
            <a:r>
              <a:rPr b="0" lang="zh-CN" sz="24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次致书诱降，他誓死不从。城陷前几天他给母亲、妻子写下遗书，表示要以死殉城。清顺治二年（</a:t>
            </a:r>
            <a:r>
              <a:rPr b="0" lang="zh-CN" sz="2400" spc="-1" strike="noStrike">
                <a:solidFill>
                  <a:srgbClr val="eaeaea"/>
                </a:solidFill>
                <a:latin typeface="_x000b__x000c_"/>
                <a:ea typeface="_x000b__x000c_"/>
              </a:rPr>
              <a:t>1645</a:t>
            </a: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）四月十八日，清军抵达扬州城西北郊斑竹园，清豫亲王多铎再次劝降，史不理会，令将士登城分守各门，自守险要的西门。清军强攻不破，伤亡甚众，遂乔装明军，得计入城。史见大势已去，欲拔刀自刎，被一参将护持而行。至小东门，见军民遭屠戮，即挺身而出，大呼：“吾史督师也！万事一人当之，不累满城百姓。”于是被执。多铎劝降，史说：“吾朝廷大臣，安肯苟活？城存与存，城亡与亡，吾头可断，身不可辱。”遂从容就义。后人于扬州城北梅花岭畔建“史公祠”及其衣冠冢，以为纪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88.001" descr="点击放大图片"/>
          <p:cNvPicPr/>
          <p:nvPr/>
        </p:nvPicPr>
        <p:blipFill>
          <a:blip r:embed="rId2"/>
          <a:stretch/>
        </p:blipFill>
        <p:spPr>
          <a:xfrm>
            <a:off x="5638680" y="3429000"/>
            <a:ext cx="35053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4105440" y="2952720"/>
            <a:ext cx="641160" cy="603360"/>
            <a:chOff x="4105440" y="2952720"/>
            <a:chExt cx="641160" cy="603360"/>
          </a:xfrm>
        </p:grpSpPr>
        <p:sp>
          <p:nvSpPr>
            <p:cNvPr id="124" name=""/>
            <p:cNvSpPr/>
            <p:nvPr/>
          </p:nvSpPr>
          <p:spPr>
            <a:xfrm>
              <a:off x="4105440" y="2952720"/>
              <a:ext cx="641160" cy="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05440" y="2981160"/>
              <a:ext cx="64116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04812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70160" y="1316160"/>
            <a:ext cx="33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70680" y="9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史可法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4720" y="33670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</a:rPr>
              <a:t>史可法祠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153280" y="2057400"/>
            <a:ext cx="381240" cy="1523880"/>
          </a:xfrm>
          <a:prstGeom prst="rect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2209680"/>
            <a:ext cx="533520" cy="1143000"/>
          </a:xfrm>
          <a:prstGeom prst="rect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1600200"/>
            <a:ext cx="609480" cy="2209680"/>
          </a:xfrm>
          <a:prstGeom prst="rect">
            <a:avLst/>
          </a:prstGeom>
          <a:solidFill>
            <a:srgbClr val="cc66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1676520"/>
            <a:ext cx="549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18000" y="1752480"/>
            <a:ext cx="1277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9144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21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不辞辛苦，为国选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13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身陷狱中，心系国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971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爱国精神，影及后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补写由来，记录传世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97680" y="1752480"/>
            <a:ext cx="546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左光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80200" y="2209680"/>
            <a:ext cx="546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爱国精神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24480" y="1447920"/>
            <a:ext cx="685800" cy="2743200"/>
            <a:chOff x="6324480" y="1447920"/>
            <a:chExt cx="685800" cy="2743200"/>
          </a:xfrm>
        </p:grpSpPr>
        <p:sp>
          <p:nvSpPr>
            <p:cNvPr id="143" name=""/>
            <p:cNvSpPr/>
            <p:nvPr/>
          </p:nvSpPr>
          <p:spPr>
            <a:xfrm>
              <a:off x="6324480" y="1447920"/>
              <a:ext cx="228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53080" y="1447920"/>
              <a:ext cx="0" cy="274320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191120"/>
              <a:ext cx="228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2743200"/>
              <a:ext cx="4572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43800" y="2743200"/>
            <a:ext cx="6094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1371600"/>
            <a:ext cx="457200" cy="2819520"/>
            <a:chOff x="2971800" y="1371600"/>
            <a:chExt cx="457200" cy="2819520"/>
          </a:xfrm>
        </p:grpSpPr>
        <p:sp>
          <p:nvSpPr>
            <p:cNvPr id="149" name=""/>
            <p:cNvSpPr/>
            <p:nvPr/>
          </p:nvSpPr>
          <p:spPr>
            <a:xfrm>
              <a:off x="3200400" y="1371600"/>
              <a:ext cx="15228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1371600"/>
              <a:ext cx="0" cy="281952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400" y="4191120"/>
              <a:ext cx="228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71800" y="2743200"/>
              <a:ext cx="228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Times New Roman"/>
              </a:rPr>
              <a:t>补充解释：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37160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视学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古时称担任考官的人为视学。一说“视”为观察、比较，视学，即视察学校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京畿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京城地区。畿，王都所在的千里地面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生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书生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询问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则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原来是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碌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平庸无能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17:00:25Z</dcterms:created>
  <dc:creator>zwd</dc:creator>
  <dc:description/>
  <dc:language>en-US</dc:language>
  <cp:lastModifiedBy>刘力霞</cp:lastModifiedBy>
  <dcterms:modified xsi:type="dcterms:W3CDTF">2007-01-15T13:55:15Z</dcterms:modified>
  <cp:revision>30</cp:revision>
  <dc:subject/>
  <dc:title>PowerPoint 演示文稿</dc:title>
</cp:coreProperties>
</file>