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cashreg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67D-94A1-4BFC-A89C-7D376887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14D-F001-4537-AAA0-266D018A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9F6-D761-4288-AAEB-2B29355B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1F6-2B5A-4C47-BFD7-859DA173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6B86-69B3-4F62-BA47-546C0D61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79A9-0C74-4CB5-8F8D-56BC7094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C012-90CE-493A-B49B-13506A24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39A3-0D4A-4D5F-86AF-51E7CA24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4044-CC48-4151-A85A-30F59CFA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2CFE-8093-429D-80C7-4F32EBF2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BA4B-85FF-44E1-8329-29D7CB21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098-DF5F-43DE-9199-F07150DC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A6BB-17FD-4D5D-B855-FD8F4456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F49F-0201-4E7D-BD1E-7C3D5DC6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D6A0-4F6A-48AA-BD54-4BEDFF0B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036D-4E34-4B8F-8AF7-5B0E029B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69A2-D780-4200-B485-4FE8E35D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D4E-9EAB-44C5-8D34-7F7007C6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5E0-A31E-41EC-AA06-825815CF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1D8-A687-4D8A-AFE2-E4F91C26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42A-ED94-4390-B779-7C01C5EA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9DAF-B2B4-41C2-8233-80532A03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56C-4326-4C15-A690-BA718F75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141-F042-4BA0-8D4D-1830A1D6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3EB3-C041-4EAB-B96C-C5C374588AEA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B849-C755-49BD-9B02-200DDA58138B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baike.baidu.com/view/664319.htm" TargetMode="External"/><Relationship Id="rId3" Type="http://schemas.openxmlformats.org/officeDocument/2006/relationships/hyperlink" Target="http://baike.baidu.com/view/127338.htm" TargetMode="External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14600" y="1143000"/>
            <a:ext cx="609588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左忠毅公逸事</a:t>
            </a:r>
            <a:endParaRPr b="0" lang="en-US" sz="5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995640" y="4365720"/>
            <a:ext cx="3200400" cy="1550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4500720" y="435456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第一课时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94400" y="5810400"/>
            <a:ext cx="338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大曹庄管理区中学     车贵考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209680" y="990720"/>
            <a:ext cx="6400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视学京畿：省略介词“于”。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风雪严寒：“风雪”活用为动词，意为“刮着风，下着雪”。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Webdings"/>
                <a:ea typeface="Webdings"/>
              </a:rPr>
              <a:t>从数骑出：从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8f8f8"/>
                </a:solidFill>
                <a:latin typeface="Webdings"/>
                <a:ea typeface="Webdings"/>
              </a:rPr>
              <a:t>使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……</a:t>
            </a:r>
            <a:r>
              <a:rPr b="0" lang="zh-CN" sz="2400" spc="-1" strike="noStrike">
                <a:solidFill>
                  <a:srgbClr val="f8f8f8"/>
                </a:solidFill>
                <a:latin typeface="Webdings"/>
                <a:ea typeface="Webdings"/>
              </a:rPr>
              <a:t>跟从”。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Webdings"/>
                <a:ea typeface="Webdings"/>
              </a:rPr>
              <a:t>叩之寺僧：省略介词“于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”。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Webdings"/>
                <a:ea typeface="Webdings"/>
              </a:rPr>
              <a:t>瞿然注视：瞪大眼睛仔细看着。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吾诸儿碌碌，他日继吾志事，惟此生耳：我的几个儿子平庸无能，以后继承我的志向事业的，只有这个书生了。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第一段翻译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先父曾经说过，同乡的前辈左忠毅公在京城一带担任主考。一天，风雪交加气候寒冷，（他）带着几个骑马的卫士，打扮成平民出去访察，进入一座古庙，廊下小屋里一个书生伏在书桌上睡着了，他的文章刚写成草稿。左公看完了，就脱下貂皮袍子盖在书生身上，又给他掩上门。（他）问庙里的和尚，才知书生叫史可法。到考试时，官吏喊到史公的姓名，左公睁大眼睛注视着，等交上考卷，就当面批他为第一名。又召到内宅，让他拜见左夫人，说：“我的几个儿子都平庸无能，日后继承我的志向和事业，只有这个年轻人了。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作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背诵第一段，翻译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 Black"/>
              </a:rPr>
              <a:t>下课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666880" y="2670120"/>
            <a:ext cx="3810240" cy="1517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微软雅黑"/>
              </a:rPr>
              <a:t>同学们再见</a:t>
            </a:r>
            <a:endParaRPr b="0" lang="en-US" sz="60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微软雅黑"/>
              <a:ea typeface="微软雅黑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514600" y="1143000"/>
            <a:ext cx="609588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左忠毅公逸事</a:t>
            </a:r>
            <a:endParaRPr b="0" lang="en-US" sz="5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995640" y="4365720"/>
            <a:ext cx="3200400" cy="15508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500720" y="435456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第二课时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67420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6659640" y="45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50352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分组读译第二段，概括意思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 Black"/>
              </a:rPr>
              <a:t>左光斗</a:t>
            </a:r>
            <a:r>
              <a:rPr b="0" lang="zh-CN" sz="6000" spc="-1" strike="noStrike">
                <a:solidFill>
                  <a:srgbClr val="ffffff"/>
                </a:solidFill>
                <a:latin typeface="Arial Black"/>
              </a:rPr>
              <a:t>身陷狱中，心系国事。</a:t>
            </a:r>
            <a:r>
              <a:rPr b="0" lang="zh-CN" sz="5400" spc="-1" strike="noStrike">
                <a:solidFill>
                  <a:srgbClr val="ffffff"/>
                </a:solidFill>
                <a:latin typeface="Arial Black"/>
              </a:rPr>
              <a:t>史可法探监，左光斗怒斥史可法 。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981080" y="380880"/>
            <a:ext cx="67057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逆阉：逆叛的太监，这里指魏忠贤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卒感焉：狱卒被他感动了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除不洁者：为，通“伪”，装作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微指：悄悄（暗暗）指着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拨眦：拨开眼眶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昧大义：不明大义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糜烂：败坏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已矣：完了，已，停止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涕：眼泪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语人：告诉别人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9200" y="-76536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重点字词点拨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重点字词点拨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史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Arial Black"/>
              </a:rPr>
              <a:t>前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跪抱公膝而呜咽    上前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汝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Arial Black"/>
              </a:rPr>
              <a:t>轻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身而昧大义             轻视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ff"/>
                </a:solidFill>
                <a:uFillTx/>
                <a:latin typeface="Arial Black"/>
              </a:rPr>
              <a:t>趋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而出              小步紧走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057400" y="762120"/>
            <a:ext cx="67816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史朝夕狱门外：谓语省略句，省略了“候、俟”之类的词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汝复轻身而昧大义，天下事谁可支拄者：你又不保重身体，不明大义，天下大事，哪个是可以支撑的？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速去，无俟奸人构陷，吾今即扑杀汝：还不快快离去！不要等奸人编造罪名来陷害你，我现在就打死你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第二段翻译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到左公被关进东厂的监狱，史可法从早到晚守在狱门外，逆贼太监（魏忠贤）防守监视得很严，即使是家里的仆人都不得接近。过了一段时间，听说左公受了烙铁烧烤的酷刑，早晚间即将死去，（史公就）拿了五十两银子，哭着找管牢的狱卒商量，狱卒被感动了。一天，让史可法换上破衣服，穿上草鞋，背着筐子，手拿长铲，装成清扫垃圾的人，把史公带进去，悄悄地指点左公所在的地方。（左公）正靠着墙坐在地上，面部、额头都烧得焦烂辨不清模样，左膝以下的筋骨都脱落了。史公上前跪下抱着左公的膝盖呜呜咽咽地哭着。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80880" y="3886200"/>
            <a:ext cx="5715000" cy="266688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1752480"/>
            <a:ext cx="8839080" cy="2057400"/>
          </a:xfrm>
          <a:prstGeom prst="rect">
            <a:avLst/>
          </a:prstGeom>
          <a:solidFill>
            <a:srgbClr val="0080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Arial Black"/>
                <a:ea typeface="黑体"/>
              </a:rPr>
              <a:t>左 忠 毅 公 逸 事  </a:t>
            </a:r>
            <a:br>
              <a:rPr sz="4400"/>
            </a:br>
            <a:r>
              <a:rPr b="0" lang="zh-CN" sz="4400" spc="-1" strike="noStrike">
                <a:solidFill>
                  <a:srgbClr val="f8f8f8"/>
                </a:solidFill>
                <a:latin typeface="Arial Black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f8f8f8"/>
                </a:solidFill>
                <a:latin typeface="宋体"/>
              </a:rPr>
              <a:t>方   苞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 Black"/>
              </a:rPr>
              <a:t>课题</a:t>
            </a:r>
            <a:r>
              <a:rPr b="0" lang="zh-CN" sz="2800" spc="-1" strike="noStrike">
                <a:solidFill>
                  <a:srgbClr val="000000"/>
                </a:solidFill>
                <a:latin typeface="Arial Black"/>
              </a:rPr>
              <a:t>：</a:t>
            </a:r>
            <a:r>
              <a:rPr b="0" lang="zh-CN" sz="2800" spc="-1" strike="noStrike">
                <a:solidFill>
                  <a:srgbClr val="f8f8f8"/>
                </a:solidFill>
                <a:latin typeface="Arial Black"/>
              </a:rPr>
              <a:t>忠毅，谥号；公，尊称。逸事，散失没有经正史流传的事迹。这类文章不像正史作传那样全面叙述人物的生平事迹，而是从一生行事中选取一小部分来表现人物。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3809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作者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cc00"/>
                </a:solidFill>
                <a:latin typeface="Times New Roman"/>
              </a:rPr>
              <a:t>方苞，字灵皋，号望溪，人称望溪先生。清代安徽桐城人。与刘大櫆、姚鼐并称为“桐城三大家”，为三大家之首，桐城派创始人。著名散文家。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2971800" cy="19321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324480" y="6095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桐城文庙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左公辨出他的声音，但是眼睛却睁不开，于是使劲抬起手臂，用手指拨开眼眶，眼光如火炬一般，发怒地说：“无能的奴才！这是什么地方？你却跑来！国家的事情糟糕到如此地步，我老头子已经完了，你再轻生不明大义，国家的事谁能支撑？还不赶快离开，不要等坏人来了构成罪名陷害，我现在就打死你！”于是摸索着地上的刑具，做出要投击的姿势。史公闭口不敢作声，快步走了出去。后来他常常流着眼泪把这件事告诉别人，说：“我老师的肺肝都是铁石铸成的啊。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分组读译第三段，概括意思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 Black"/>
              </a:rPr>
              <a:t>史可法勤于军务。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209680" y="1295280"/>
            <a:ext cx="61722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Webdings"/>
                <a:ea typeface="Webdings"/>
              </a:rPr>
              <a:t>辄：总是，常常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Webdings"/>
                <a:ea typeface="Webdings"/>
              </a:rPr>
              <a:t>更休：轮流休息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Webdings"/>
                <a:ea typeface="Webdings"/>
              </a:rPr>
              <a:t>振：抖动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仿宋_GB2312"/>
              </a:rPr>
              <a:t>或劝以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  <a:ea typeface="仿宋_GB2312"/>
              </a:rPr>
              <a:t>少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仿宋_GB2312"/>
              </a:rPr>
              <a:t>休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仿宋_GB2312"/>
              </a:rPr>
              <a:t>　：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仿宋_GB2312"/>
              </a:rPr>
              <a:t>稍稍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Webdings"/>
                <a:ea typeface="Webdings"/>
              </a:rPr>
              <a:t>负：辜负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88320" y="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重点字词点拨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4000" y="-316080"/>
            <a:ext cx="7343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第三段翻译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崇祯末年，“流贼”张献忠在蕲州、黄州、潜山、桐城一带出没，史公以凤庐道身份奉命守卫这一带地区。每当有了警报，（他）就几个月不睡觉，让将士们轮流休息，自己却坐在帐幕外，选择十几个健壮的士兵，让两个人蹲着，自己靠着他们的背，过一段时间再轮换。每当在寒冷的夜晚站起身来，抖动衣裳，战甲上的冰霜散落地上，发出清脆的响声。有人劝他稍加休息，史公说：“我上怕对不起朝廷，下怕对不起我的老师啊！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分组读译第四五段，概括意思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史可法探望左家属 。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补写由来，记录传世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重点字词点拨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候：问候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起居：日常生活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与先君子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 Black"/>
              </a:rPr>
              <a:t>善：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交好。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躬造：亲自到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第四五段翻译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史可法统率军队来往经过桐城，一定要亲自到左公家中，向左公的父母请安，到堂上拜见左夫人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　　我的同族老前辈方涂山，是左公的外甥，与我父亲要好，（他说）关于狱中的一些话，是亲自听史公讲的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763640" y="1413000"/>
            <a:ext cx="549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80680" y="1268280"/>
            <a:ext cx="9115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结构特点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76720" y="9144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32000" y="121932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辞辛苦，为国选才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21337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身陷狱中，心系国事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爱国精神，影及后人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52680" y="3886200"/>
            <a:ext cx="35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补写由来，记录传世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6896160" y="1700280"/>
            <a:ext cx="12776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左光斗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732720" y="1484280"/>
            <a:ext cx="685800" cy="2743200"/>
            <a:chOff x="6732720" y="1484280"/>
            <a:chExt cx="685800" cy="2743200"/>
          </a:xfrm>
        </p:grpSpPr>
        <p:sp>
          <p:nvSpPr>
            <p:cNvPr id="421" name=""/>
            <p:cNvSpPr/>
            <p:nvPr/>
          </p:nvSpPr>
          <p:spPr>
            <a:xfrm>
              <a:off x="6732720" y="1484280"/>
              <a:ext cx="228600" cy="0"/>
            </a:xfrm>
            <a:prstGeom prst="line">
              <a:avLst/>
            </a:prstGeom>
            <a:ln cap="sq"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61320" y="1484280"/>
              <a:ext cx="0" cy="2743200"/>
            </a:xfrm>
            <a:prstGeom prst="line">
              <a:avLst/>
            </a:prstGeom>
            <a:ln cap="sq"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32720" y="4227480"/>
              <a:ext cx="228600" cy="0"/>
            </a:xfrm>
            <a:prstGeom prst="line">
              <a:avLst/>
            </a:prstGeom>
            <a:ln cap="sq"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961320" y="2779560"/>
              <a:ext cx="457200" cy="0"/>
            </a:xfrm>
            <a:prstGeom prst="line">
              <a:avLst/>
            </a:prstGeom>
            <a:ln cap="sq"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700360" y="1341360"/>
            <a:ext cx="457200" cy="2819520"/>
            <a:chOff x="2700360" y="1341360"/>
            <a:chExt cx="457200" cy="2819520"/>
          </a:xfrm>
        </p:grpSpPr>
        <p:sp>
          <p:nvSpPr>
            <p:cNvPr id="426" name=""/>
            <p:cNvSpPr/>
            <p:nvPr/>
          </p:nvSpPr>
          <p:spPr>
            <a:xfrm>
              <a:off x="2928960" y="1341360"/>
              <a:ext cx="152280" cy="0"/>
            </a:xfrm>
            <a:prstGeom prst="line">
              <a:avLst/>
            </a:prstGeom>
            <a:ln cap="sq"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928960" y="1341360"/>
              <a:ext cx="0" cy="2819520"/>
            </a:xfrm>
            <a:prstGeom prst="line">
              <a:avLst/>
            </a:prstGeom>
            <a:ln cap="sq"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928960" y="4160880"/>
              <a:ext cx="228600" cy="0"/>
            </a:xfrm>
            <a:prstGeom prst="line">
              <a:avLst/>
            </a:prstGeom>
            <a:ln cap="sq"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00360" y="2712960"/>
              <a:ext cx="228600" cy="0"/>
            </a:xfrm>
            <a:prstGeom prst="line">
              <a:avLst/>
            </a:prstGeom>
            <a:ln cap="sq"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 Black"/>
              </a:rPr>
              <a:t>作业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整理字词，翻译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背诵第二自然段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赏析课文，分析左光斗是怎样的人？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 Black"/>
              </a:rPr>
              <a:t>下课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627280" y="1916280"/>
            <a:ext cx="3776760" cy="22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微软雅黑"/>
              </a:rPr>
              <a:t>谢谢指导</a:t>
            </a:r>
            <a:endParaRPr b="0" lang="en-US" sz="60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微软雅黑"/>
              <a:ea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微软雅黑"/>
              </a:rPr>
              <a:t>再见</a:t>
            </a:r>
            <a:endParaRPr b="0" lang="en-US" sz="60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微软雅黑"/>
              <a:ea typeface="微软雅黑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594036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289536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88000" cy="67420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7399800" y="0"/>
            <a:ext cx="17442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左光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57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25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 字遗直，一字共之，号浮丘。别命左遗直、左共之、左浮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明桐城人（今</a:t>
            </a:r>
            <a:r>
              <a:rPr b="0" lang="zh-CN" sz="2400" spc="-1" strike="noStrike" u="sng">
                <a:solidFill>
                  <a:srgbClr val="ff3399"/>
                </a:solidFill>
                <a:uFillTx/>
                <a:latin typeface="Times New Roman"/>
                <a:hlinkClick r:id="rId2"/>
              </a:rPr>
              <a:t>枞阳县横埠镇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人），其父左出颖迁家于桐城县城（今</a:t>
            </a:r>
            <a:r>
              <a:rPr b="0" lang="zh-CN" sz="2400" spc="-1" strike="noStrike" u="sng">
                <a:solidFill>
                  <a:srgbClr val="ff3399"/>
                </a:solidFill>
                <a:uFillTx/>
                <a:latin typeface="Times New Roman"/>
                <a:hlinkClick r:id="rId3"/>
              </a:rPr>
              <a:t>桐城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区啖椒堂），颖生九子，光斗排行第五。明朝官员，也是史可法的老师。因对抗大宦官魏忠贤，下狱，死。弘光时平反，谥为忠毅。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2514600" y="1143000"/>
            <a:ext cx="609588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左忠毅公逸事</a:t>
            </a:r>
            <a:endParaRPr b="0" lang="en-US" sz="5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995640" y="4365720"/>
            <a:ext cx="3200400" cy="15508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500720" y="435456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第三课时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67420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659640" y="45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250352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914400" y="609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忠毅为左光斗的谥号，全文以此为核心，为我们塑造了一位忠心爱国，刚毅坚韧的中国传统知识分子的形象。先贤的治国平天下的政治大义和人生大义至今感染我们、影响我们。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55640" y="2421000"/>
            <a:ext cx="7777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思考题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１、作者如何通过正面描述左光斗两件事来展现他的精神风貌的？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２、为什么全文用大量的笔墨描写史可法？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３、忠毅的核心是什么？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287440" y="-93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赏读课文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3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3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3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3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900000" y="260280"/>
            <a:ext cx="54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１、作者如何通过正面描述左光斗两件事来展现他的精神风貌的？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（结合行动、语言、肖像分析人物的精神面貌。）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324480" y="533520"/>
            <a:ext cx="246852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886680" y="1600200"/>
            <a:ext cx="789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行动描写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52480" y="1066680"/>
            <a:ext cx="0" cy="350532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1066680"/>
            <a:ext cx="304920" cy="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752480" y="4572000"/>
            <a:ext cx="228600" cy="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838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Webdings"/>
                <a:ea typeface="Webdings"/>
              </a:rPr>
              <a:t>微行视学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337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Webdings"/>
                <a:ea typeface="Webdings"/>
              </a:rPr>
              <a:t>解貂覆生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13372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Webdings"/>
                <a:ea typeface="Webdings"/>
              </a:rPr>
              <a:t>面署第一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5740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Webdings"/>
                <a:ea typeface="Webdings"/>
              </a:rPr>
              <a:t>奋臂拨眦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5740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Webdings"/>
                <a:ea typeface="Webdings"/>
              </a:rPr>
              <a:t>摸械投击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1066680"/>
            <a:ext cx="762120" cy="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838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Webdings"/>
                <a:ea typeface="Webdings"/>
              </a:rPr>
              <a:t>深入民间，了解民情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1280" y="2286000"/>
            <a:ext cx="914400" cy="15228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581280" y="2437920"/>
            <a:ext cx="914400" cy="30492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72000" y="205740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善于发现人才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大胆选拔人才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81280" y="4038480"/>
            <a:ext cx="990720" cy="22860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81280" y="4266720"/>
            <a:ext cx="990720" cy="38124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40384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忠心为国，既忠且毅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765000" y="1752480"/>
            <a:ext cx="91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语言描写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52480" y="1143000"/>
            <a:ext cx="0" cy="388620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52480" y="1143000"/>
            <a:ext cx="304920" cy="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752480" y="5029200"/>
            <a:ext cx="304920" cy="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8380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吾诸儿碌碌”句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95680" y="1066680"/>
            <a:ext cx="914400" cy="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48360" y="838080"/>
            <a:ext cx="399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心为公，提掖后人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4724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汝复轻身而昧大义，天下事谁可支拄者？”句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95680" y="5410080"/>
            <a:ext cx="990720" cy="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35640" y="495288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忧国如焚，悲辞慷慨</a:t>
            </a:r>
            <a:r>
              <a:rPr b="0" lang="zh-CN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810360" y="1676520"/>
            <a:ext cx="789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肖像描写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990720"/>
            <a:ext cx="0" cy="358128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990720"/>
            <a:ext cx="304920" cy="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752480" y="4572000"/>
            <a:ext cx="228600" cy="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838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Webdings"/>
                <a:ea typeface="Webdings"/>
              </a:rPr>
              <a:t>面额焦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1066680"/>
            <a:ext cx="914400" cy="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00600" y="83808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Webdings"/>
                <a:ea typeface="Webdings"/>
              </a:rPr>
              <a:t>忠贞不屈，大义凛然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33720" y="4267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Webdings"/>
                <a:ea typeface="Webdings"/>
              </a:rPr>
              <a:t>目光如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81280" y="4495680"/>
            <a:ext cx="914400" cy="0"/>
          </a:xfrm>
          <a:prstGeom prst="line">
            <a:avLst/>
          </a:prstGeom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76920" y="4191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Webdings"/>
                <a:ea typeface="Webdings"/>
              </a:rPr>
              <a:t>心怀国家，毫不颓唐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057400" y="1219320"/>
            <a:ext cx="6705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２、为什么全文用大量的笔墨描写史可法？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文题是“左忠毅公逸事”，但课文第三段写的全是史可法在镇压农民起义中的表现，游离于课题之外，可以删去，你的看法怎样？）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6000" y="2743200"/>
            <a:ext cx="61722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明确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本段写史可法镇压农民起义，是作者阶级局限性的表现，应分析批判。但在结构上，却是全文的有机组成部分。明写史，暗写左，写史的忠勤职守，正是在表现左的言传身教对史的影响，从侧面丰富了左的形象。且处处与上文照应。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905120" y="14479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71600" y="1447920"/>
            <a:ext cx="5638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正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左忠毅公慧眼识英才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　　　　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仗义斥门生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侧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史可法公寒夜守帷幕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　　　　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躬造左公第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562720" y="1752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师之楷模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86400" y="28195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生之传承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905120" y="4724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楷模、传承的核心是什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3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3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810360" y="1600200"/>
            <a:ext cx="789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</a:rPr>
              <a:t>课堂练习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905120" y="0"/>
            <a:ext cx="6858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写出加点虚词在句中的含义：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旦夕且死                    （            ）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此何地也                    （            ）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吾师肺肝，皆铁石所铸造也    （            ）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天下事谁可支拄者            （            ）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为掩户                      （            ）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05120" y="3224160"/>
            <a:ext cx="723888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  .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本文行文严谨，请找出既能表现文章的题旨，又能表现文章内在联系前后相互呼应的一组句子。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先君子尝言，乡先辈左忠毅公视学京畿——余宗老涂山，左公甥也，与先君子善，谓狱中语乃亲得之于史公云。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叩之寺僧，则史公可法也——及左公下厂狱，史朝夕狱门外——史公以凤庐道奉檄守御——史公治兵，往来桐城，必躬造左公第，侯太公、太母起居，拜夫人于堂上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他日继吾志事——老夫已矣，汝复轻身而昧大义，天下事谁可支拄者——吾上恐负朝廷，下恐愧吾师也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答：这组是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12351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95280" y="0"/>
            <a:ext cx="874872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．下列分析不符合文意的一项是（      ）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涕泣谋于禁卒，卒感焉。 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涕泣”，反映史可法极度悲痛。“卒感焉”，反映其感情深厚、真诚，并暗示有进狱探视的可能。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微指左公处，则席地倚墙而坐，面额焦烂不可辨，左膝以下筋骨尽脱矣。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写左公形象，反映逆阉的残酷狠毒与忠奸邪正不两立的社会现实。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国家之事糜烂至此，老夫已矣，汝复轻身而昧大义，天下事谁可支拄者。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左光斗不理解史可法来探狱的心意，所以，狠狠地斥责他“昧大义”，这是左光斗在教育史可法要以大义为重。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因摸地上刑械作投击势。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这一方面表现左光斗的急切心情，另方面也表现出左光斗对史可法的怜惜与爱护。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752120" y="7617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e103"/>
                </a:solidFill>
                <a:latin typeface="Arial Black"/>
              </a:rPr>
              <a:t>教 学 目 标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11360" y="1905120"/>
            <a:ext cx="7532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 Black"/>
              </a:rPr>
              <a:t>    </a:t>
            </a:r>
            <a:r>
              <a:rPr b="0" lang="zh-CN" sz="3200" spc="-1" strike="noStrike">
                <a:solidFill>
                  <a:srgbClr val="ffccff"/>
                </a:solidFill>
                <a:latin typeface="Arial Black"/>
              </a:rPr>
              <a:t>1</a:t>
            </a:r>
            <a:r>
              <a:rPr b="0" lang="zh-CN" sz="3200" spc="-1" strike="noStrike">
                <a:solidFill>
                  <a:srgbClr val="ffccff"/>
                </a:solidFill>
                <a:latin typeface="Arial Black"/>
              </a:rPr>
              <a:t>、掌握文中出现的重要的词语及语法现象；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Arial Black"/>
              </a:rPr>
              <a:t>    </a:t>
            </a:r>
            <a:r>
              <a:rPr b="0" lang="zh-CN" sz="3200" spc="-1" strike="noStrike">
                <a:solidFill>
                  <a:srgbClr val="ffccff"/>
                </a:solidFill>
                <a:latin typeface="Arial Black"/>
              </a:rPr>
              <a:t>2</a:t>
            </a:r>
            <a:r>
              <a:rPr b="0" lang="zh-CN" sz="3200" spc="-1" strike="noStrike">
                <a:solidFill>
                  <a:srgbClr val="ffccff"/>
                </a:solidFill>
                <a:latin typeface="Arial Black"/>
              </a:rPr>
              <a:t>、选取典型事例表现人物思想性格的写法；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Arial Black"/>
              </a:rPr>
              <a:t>    </a:t>
            </a:r>
            <a:r>
              <a:rPr b="0" lang="zh-CN" sz="3200" spc="-1" strike="noStrike">
                <a:solidFill>
                  <a:srgbClr val="ffccff"/>
                </a:solidFill>
                <a:latin typeface="Arial Black"/>
              </a:rPr>
              <a:t>3</a:t>
            </a:r>
            <a:r>
              <a:rPr b="0" lang="zh-CN" sz="3200" spc="-1" strike="noStrike">
                <a:solidFill>
                  <a:srgbClr val="ffccff"/>
                </a:solidFill>
                <a:latin typeface="Arial Black"/>
              </a:rPr>
              <a:t>、学习左光斗举荐人才、锄奸救国、坚贞不屈的高尚品德。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684360" y="836640"/>
            <a:ext cx="82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浙江省唯一的脑外科博士郭品正，在工作期间有两个课题研究达到国际先进水平。因反对拿高额回扣和滥用药物等，年度考核被评为最差，且被优化组合下岗。以后其他大医院想用他，又因听说他“不会做人”而放弃。最后美国加洲大学中心派人到上海面试，以优厚待遇聘用了他。博士恋恋不舍地离开了祖国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对于郭博士下岗，社会各界议论纷纷，有人说他不会做人，有人说他太书生气，也有人说我们国家正需要这样的人。请一“做人”为话题写一篇文章，字数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600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字左右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676520" y="0"/>
            <a:ext cx="71625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f273e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f8f8f8"/>
                </a:solidFill>
                <a:latin typeface="Times New Roman"/>
              </a:rPr>
              <a:t>先君子尝言，乡先辈左忠毅公视学京畿，一日，风雪严寒，从数骑出，微行入古寺。庑下一生伏案卧，文方成草。公阅毕，即解貂覆生，为掩户。叩之寺僧，则史公可法也。及试，吏呼名至史公，公瞿然注视，呈卷，即面署第一。召入，使拜夫人，曰：“吾诸儿碌碌，他日继吾志事，惟此生耳。”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f8f8f8"/>
                </a:solidFill>
                <a:latin typeface="Times New Roman"/>
              </a:rPr>
              <a:t>及左公下厂狱，史朝夕狱门外。逆阉防伺甚严，虽家仆不得近。久之，闻左公被炮烙，旦夕且死，持五十金，涕泣谋于禁卒，卒感焉。一日，使史更敝衣，草屦，背筐，手长镵，为除不洁者，引入。微指左公处，则席地倚墙而坐，面额焦烂不可辨，左膝以下筋骨尽脱矣。史前跪抱公膝而呜咽。公辨其声，而目不可开，乃奋臂以指拨眦，目光如炬，怒曰：“庸奴！此何地也，而汝来前！国家之事糜烂至此，老夫已矣，汝复轻身而昧大义，天下事谁可支拄者？不速去，无俟奸人构陷，吾今即扑杀汝！”因摸地上刑械作投击势。史噤不发声，趋而出。后尝流涕述其事以语人，曰：“吾师肺肝，皆铁石所铸造也。”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f8f8f8"/>
                </a:solidFill>
                <a:latin typeface="Times New Roman"/>
              </a:rPr>
              <a:t>崇祯末，流贼张献忠出没蕲、黄、潜、桐间，史公以凤庐道奉檄守御。每有警，辄数月不就寝，使将士更休，而自坐幄幕外。择健卒十人，令二人蹲距而背倚之，漏鼓移则番代。每寒夜起立，振衣裳，甲上冰霜迸落，铿然有声。或劝以少休，公曰：“吾上恐负朝廷，下恐愧吾师也。”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f8f8f8"/>
                </a:solidFill>
                <a:latin typeface="Times New Roman"/>
              </a:rPr>
              <a:t>史公治兵，往来桐城，必躬造左公第，侯太公、太母起居，拜夫人于堂上。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f8f8f8"/>
                </a:solidFill>
                <a:latin typeface="Times New Roman"/>
              </a:rPr>
              <a:t>余宗老涂山，左公甥也，与先君子善，谓狱中语乃亲得之于史公云。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-502560" y="0"/>
            <a:ext cx="225504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左忠毅公逸事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20" y="-655200"/>
            <a:ext cx="911880" cy="75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听读课文，注意字音句读，思考课文主要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写了什么内容？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057040" y="9903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生字注音</a:t>
            </a:r>
            <a:r>
              <a:rPr b="0" lang="zh-CN" sz="4400" spc="-1" strike="noStrike">
                <a:solidFill>
                  <a:srgbClr val="af273e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057040" y="2060640"/>
            <a:ext cx="66913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庑下（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ǔ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）貂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āo)  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畿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ī)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瞿然（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ù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）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逆阉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yān)  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炮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áo)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烙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uò)  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膝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xī)  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支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hī)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拄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hǔ) 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防伺（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áng sì 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炮烙（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áo luò  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）草屦（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ù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手长镵（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án 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）拨眦（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ì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）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以语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yù)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人  更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ēng)  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概括课文主要内容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左光斗提拔史可法。身陷狱中，心系国事，坚强不屈。史可法探监，左光斗怒斥史可法 。史可法勤于军务，探望左家属 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分组读译第一段，概括意思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 Black"/>
              </a:rPr>
              <a:t>左光斗不辞辛苦，为国选才。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</a:rPr>
              <a:t>重点字词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"/>
          <p:cNvSpPr/>
          <p:nvPr/>
        </p:nvSpPr>
        <p:spPr>
          <a:xfrm>
            <a:off x="1905120" y="1371600"/>
            <a:ext cx="6858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视学：古时称担任考官的人为视学。一说“视”为观察、比较，视学，即视察学校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京畿：京城地区。畿，王都所在的千里地面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生：书生。  户：门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叩：询问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则：原来是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碌碌：平庸无能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8T17:00:25Z</dcterms:created>
  <dc:creator>zf</dc:creator>
  <dc:description/>
  <dc:language>en-US</dc:language>
  <cp:lastModifiedBy>微软用户</cp:lastModifiedBy>
  <dcterms:modified xsi:type="dcterms:W3CDTF">2011-01-06T11:35:55Z</dcterms:modified>
  <cp:revision>34</cp:revision>
  <dc:subject/>
  <dc:title>PowerPoint 演示文稿</dc:title>
</cp:coreProperties>
</file>