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840-7C21-4A82-87CB-F42CBABD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F230-A53F-4574-842A-58ABAEE7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A43-9063-41CF-BB59-783EE7E4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C06-1E3A-428E-8C6F-5ABB7102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7EA-4CE1-4C5B-AFFA-66B02F05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E31-68C3-44C5-93A5-E04E8DEC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ACE-7456-4E36-847F-4F4FEB85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F11-50D1-4313-B5A7-CBA815C9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8AF-5E0E-4820-A374-2E6E6A39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FED-8DCA-4536-9560-2A9E0283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264-3118-43FD-BE2E-9495B500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5D0-A4F3-43A7-BC94-58B8BE36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EBF5-33BE-4934-B19C-848CCF356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752480" y="4648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457200" y="1828800"/>
            <a:ext cx="609588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左忠毅公逸事</a:t>
            </a:r>
            <a:endParaRPr b="0" lang="en-US" sz="5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28600" y="15228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史公治兵，往来桐城，必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躬造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左公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第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候太公、太母起居，拜夫人于堂上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余宗老涂山，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左公甥也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与先君子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善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谓狱中语乃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亲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得之于史公云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导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0" y="6858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      </a:t>
            </a:r>
            <a:r>
              <a:rPr b="1" lang="en-US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《</a:t>
            </a:r>
            <a:r>
              <a:rPr b="1" lang="en-US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&lt;</a:t>
            </a:r>
            <a:r>
              <a:rPr b="1" lang="zh-CN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论语</a:t>
            </a:r>
            <a:r>
              <a:rPr b="1" lang="en-US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&gt;</a:t>
            </a:r>
            <a:r>
              <a:rPr b="1" lang="zh-CN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七则</a:t>
            </a:r>
            <a:r>
              <a:rPr b="1" lang="en-US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和</a:t>
            </a:r>
            <a:r>
              <a:rPr b="1" lang="en-US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《</a:t>
            </a:r>
            <a:r>
              <a:rPr b="1" lang="en-US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&lt;</a:t>
            </a:r>
            <a:r>
              <a:rPr b="1" lang="zh-CN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孟子</a:t>
            </a:r>
            <a:r>
              <a:rPr b="1" lang="en-US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&gt;</a:t>
            </a:r>
            <a:r>
              <a:rPr b="1" lang="zh-CN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二章</a:t>
            </a:r>
            <a:r>
              <a:rPr b="1" lang="en-US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2060"/>
                </a:solidFill>
                <a:latin typeface="华文中宋"/>
                <a:ea typeface="华文中宋"/>
              </a:rPr>
              <a:t>都论述了生与死和义和利的问题，面对国势危难与个人安危产生矛盾时，究竟怎么办？左光斗舍生取义，面对阉党表现出坚贞不屈的浩然正气，给我们提供了光辉的典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0" y="2286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必备知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方苞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668——1749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字灵皋，一字凤九，晚年号望溪，汉族，安徽桐城人，生于江苏六合之留稼村。清代散文家，是桐城派散文的创始人，与姚鼐、刘大櫆合称桐城三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左光斗：①明末政治十分腐败，买卖官爵十分普遍，因而就有人趁机造假的官符印信，以诈骗钱财。从而形成以吏部为主的造假集团，为害极大。左光斗上任后第一件事就是打掉这个造假窝点，当场搜出假的官印七十余枚，逮捕假官一百余人，造假集团的幕后主使金鼎臣也被抓获处死。此事一出，朝野震动，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贪赃枉法之辈一见左光斗就“震慑不已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腐朽的阉党集团进行尖锐斗争的东林党领袖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左光斗独木难支将倾之大厦，面对专权跋扈的魏忠贤阉党集团，他虽坚决斗争却无力回天，自己也遭到阉竖的疯狂报复，先是被削职为民，贬为原籍，然后又将其逮捕，押解进京，当时“父老子弟拥马首号哭、声振原野”情景十分悲壮，慑于左光斗名声太大，魏忠贤不敢公开杀害，而是命爪牙将左光斗残害致死于狱中，终年仅五十一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0" y="479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史可法：抗清时驻守扬州，清军攻破扬州时，壮烈就义。史可法的忠诚与爱国，这一点甚至得到了敌人的认可。后满洲大汗弘历以其忠义，追谥忠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5228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分析文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1066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解释题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0" y="19051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概括中心，理清文章结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0" y="266688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段：慧眼识英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段：身陷囹圄不忘“锄奸救国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3-5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段：史可法治军严明，恪尽职守，敬事长辈，并补叙逸事的由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819520" y="10666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逸事体记人散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6" descr="120131162025061.jpg"/>
          <p:cNvPicPr/>
          <p:nvPr/>
        </p:nvPicPr>
        <p:blipFill>
          <a:blip r:embed="rId1"/>
          <a:stretch/>
        </p:blipFill>
        <p:spPr>
          <a:xfrm>
            <a:off x="5835600" y="1981080"/>
            <a:ext cx="3308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28600" y="304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左忠毅公是怎样的人？运用什么方法塑造这个人物形象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28600" y="1676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勤于政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228600" y="2438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惜才，爱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28600" y="3200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识才，誉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2514600" y="16765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天气严寒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反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2666880" y="2362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细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描写“解、覆、掩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2819520" y="31240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语言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228600" y="3886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舍生重义，坚强不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2666880" y="38862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外貌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动作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神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2666880" y="51055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用史可法治军严明侧面反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2286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远见卓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2"/>
          <p:cNvSpPr/>
          <p:nvPr/>
        </p:nvSpPr>
        <p:spPr>
          <a:xfrm>
            <a:off x="228600" y="2286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课文既然是记述左光斗的逸事，为什么用了不少篇幅记述史可法的逸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28600" y="1447920"/>
            <a:ext cx="8686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总：本文描写了两个人物，一为左光斗，一为史可法。写左光斗是核心，写史可法是为了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烘托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左光斗。文中有许多笔墨落笔于史可法，而归意于左光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0" y="3124080"/>
            <a:ext cx="91440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探视牢狱，显示师恩之重如山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他将史可法举于贫士之间，委以国家重任，待如子侄之亲，史可法才会有如此父执之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②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狱中被斥，显示师威之重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史可法“噤不敢发声，趋而出”，反衬了左光斗的威严。“吾师肺肝，皆铁石所铸先造也”，表现左光斗珍惜国家人才，胜过自己性命的高贵品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380880" y="685800"/>
            <a:ext cx="8610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③</a:t>
            </a:r>
            <a:r>
              <a:rPr b="1" lang="zh-CN" sz="3200" spc="-1" strike="noStrike">
                <a:solidFill>
                  <a:srgbClr val="0070c0"/>
                </a:solidFill>
                <a:latin typeface="华文中宋"/>
                <a:ea typeface="华文中宋"/>
              </a:rPr>
              <a:t>勤于职守，验证恩师识才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史可法果然不负恩师厚望，为国事操劳。“吾上恐，下恐”，与首段左公言“他日继吾志者，唯此生耳”相照应。由此可见左公目光敏锐，具有知人善任的远见卓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28600" y="304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拓展：课文是一篇逸事，就此谈谈逸事体散文的主要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304920" y="19810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，所记史实既新鲜，又要有一定的史料价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，记事具体、生动、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，形式比较自由。不像正史那样必须记一个人完整的经历，记事可多可少，文章可长可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380880" y="533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结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28600" y="144792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忠诚爱国这种情志无论世界多么改变，无论时空怎么转换，都应是一个国民应有的良心。过去是，现在是，未来仍然是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0" y="0"/>
            <a:ext cx="91440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先君子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尝言，乡先辈左忠毅公视学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京畿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一日，风雪严寒，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数骑出，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微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行入古寺。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庑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下一生伏案卧，文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方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草。公阅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毕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即解貂覆生，为掩户。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叩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寺僧，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则史公可法也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及试，吏呼名至史公，公瞿然注视，呈卷，即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面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署第一。召入，使拜夫人，曰：“吾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诸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儿碌碌，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他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继吾志事，惟此生耳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4038480" y="1828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使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6248520" y="18288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隐蔽，藏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962520" y="3733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询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685800" y="55627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名作状，当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2860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左大括号 2"/>
          <p:cNvSpPr/>
          <p:nvPr/>
        </p:nvSpPr>
        <p:spPr>
          <a:xfrm>
            <a:off x="762120" y="533520"/>
            <a:ext cx="380880" cy="4724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4724280"/>
              <a:gd name="textAreaBottom" fmla="*/ 47145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5"/>
                </a:cubicBezTo>
                <a:lnTo>
                  <a:pt x="10800" y="10655"/>
                </a:lnTo>
                <a:cubicBezTo>
                  <a:pt x="10800" y="10728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5"/>
                </a:cubicBezTo>
                <a:lnTo>
                  <a:pt x="10800" y="21455"/>
                </a:lnTo>
                <a:cubicBezTo>
                  <a:pt x="10800" y="21528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219320" y="457200"/>
            <a:ext cx="73911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隐蔽，藏匿          微行入古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显露的              微服私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深奥，微妙          微言大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微小                     动刀甚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微小的事物          祸患常积于忽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地位低下，卑贱   大王起微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衰败，衰弱          周室卑微，诸侯相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果没有              微斯人，吾谁与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暗暗地                 微指左公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3200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左大括号 2"/>
          <p:cNvSpPr/>
          <p:nvPr/>
        </p:nvSpPr>
        <p:spPr>
          <a:xfrm>
            <a:off x="457200" y="685800"/>
            <a:ext cx="380880" cy="5715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5715000"/>
              <a:gd name="textAreaBottom" fmla="*/ 570528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"/>
                  <a:pt x="10800" y="120"/>
                </a:cubicBezTo>
                <a:lnTo>
                  <a:pt x="10800" y="10680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0"/>
                  <a:pt x="10800" y="10920"/>
                </a:cubicBezTo>
                <a:lnTo>
                  <a:pt x="10800" y="21480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85800" y="228600"/>
            <a:ext cx="845820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生于吾前，其闻道也固先乎吾，吾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而师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李斯乃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荀卿学帝王之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沛公旦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百余骑来见项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惠未遍，民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及使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政，则茫茫然不知其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丘西行百二十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谢安，字安石，（谢）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弟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曰郡王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品，食邑五千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合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缔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容不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715000" y="762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从：跟从，跟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943600" y="1828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从：使</a:t>
            </a:r>
            <a:r>
              <a:rPr b="1" lang="en-US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……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跟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91320" y="2362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从：顺从，听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6781680" y="2895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从：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943600" y="3429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从：由，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6705720" y="3962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从：堂房亲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6553080" y="4495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从：副，与“正”相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2666880" y="55627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从：通“纵”，合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2666880" y="6095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从：不慌不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及左公下厂狱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史朝夕狱门外。逆阉防伺甚严，虽家仆不得近。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久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闻左公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被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炮烙，旦夕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且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死，持五十金，涕泣谋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禁卒，卒感焉。一日，使史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更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敝衣，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草屦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背筐，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长镵，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除不洁者，引入。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微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指左公处，则席地倚墙而坐，面额焦烂不可辨，左膝以下筋骨尽脱矣。史前跪抱公膝而呜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7772400" y="1523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遭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0" y="15238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左大括号 2"/>
          <p:cNvSpPr/>
          <p:nvPr/>
        </p:nvSpPr>
        <p:spPr>
          <a:xfrm>
            <a:off x="457200" y="380880"/>
            <a:ext cx="152280" cy="304812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 h 3048120"/>
              <a:gd name="textAreaBottom" fmla="*/ 304416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"/>
                  <a:pt x="10800" y="90"/>
                </a:cubicBezTo>
                <a:lnTo>
                  <a:pt x="10800" y="10710"/>
                </a:lnTo>
                <a:cubicBezTo>
                  <a:pt x="10800" y="10755"/>
                  <a:pt x="5400" y="10800"/>
                  <a:pt x="0" y="10800"/>
                </a:cubicBezTo>
                <a:cubicBezTo>
                  <a:pt x="5400" y="10800"/>
                  <a:pt x="10800" y="10845"/>
                  <a:pt x="10800" y="10890"/>
                </a:cubicBezTo>
                <a:lnTo>
                  <a:pt x="10800" y="21510"/>
                </a:lnTo>
                <a:cubicBezTo>
                  <a:pt x="10800" y="215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609480" y="228600"/>
            <a:ext cx="853452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闻左公被炮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未几，成名归，闻妻言，如被冰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泽被后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信而见疑，忠而被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将军身被坚执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微管仲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吾其被发左衽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809880" y="228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被：遭受，蒙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7010280" y="7621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被：遭受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覆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666880" y="1447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被：覆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4724280" y="1981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被：表被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3962520" y="2590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被：通“披”，穿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5181480" y="3200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被：通“披”，披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0" y="4876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左大括号 12"/>
          <p:cNvSpPr/>
          <p:nvPr/>
        </p:nvSpPr>
        <p:spPr>
          <a:xfrm>
            <a:off x="380880" y="388620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2666880"/>
              <a:gd name="textAreaBottom" fmla="*/ 265896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"/>
                  <a:pt x="10800" y="206"/>
                </a:cubicBezTo>
                <a:lnTo>
                  <a:pt x="10800" y="10594"/>
                </a:lnTo>
                <a:cubicBezTo>
                  <a:pt x="10800" y="10697"/>
                  <a:pt x="5400" y="10800"/>
                  <a:pt x="0" y="10800"/>
                </a:cubicBezTo>
                <a:cubicBezTo>
                  <a:pt x="5400" y="10800"/>
                  <a:pt x="10800" y="10903"/>
                  <a:pt x="10800" y="11006"/>
                </a:cubicBezTo>
                <a:lnTo>
                  <a:pt x="10800" y="21394"/>
                </a:lnTo>
                <a:cubicBezTo>
                  <a:pt x="10800" y="214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685800" y="374976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旦夕且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臣死且不避，卮酒安足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存者且偷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义而富且贵，于我如浮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三军且惑且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曹操之众，远来疲弊，且北方之人，不习水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且夫天下非小弱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2666880" y="37339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且：将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5029200" y="41911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且：尚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2590920" y="4648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且：暂且，姑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5486400" y="5029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且：而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3048120" y="54864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且</a:t>
            </a:r>
            <a:r>
              <a:rPr b="1" lang="en-US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……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且：又</a:t>
            </a:r>
            <a:r>
              <a:rPr b="1" lang="en-US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……</a:t>
            </a: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又</a:t>
            </a:r>
            <a:r>
              <a:rPr b="1" lang="en-US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769608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且：况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3809880" y="6334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中宋"/>
                <a:ea typeface="华文中宋"/>
              </a:rPr>
              <a:t>且夫：再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0" y="1173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公辨其声，而目不可开，乃奋臂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指拨眦，目光如炬，怒曰：“庸奴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此何地也，而汝来前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国家之事糜烂至此，老夫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已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矣，汝复轻身而昧大义，天下事谁可支拄者？不速去，无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俟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奸人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构陷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吾今即扑杀汝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!”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因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摸地上刑械作投击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史噤不敢发声，趋而出。后常流涕述其事以语人，曰：“吾师肺肝，皆铁石所铸造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崇祯末，流贼张献忠出没蕲、黄、潜、桐间，史公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凤庐道奉</a:t>
            </a:r>
            <a:r>
              <a:rPr b="1" lang="zh-CN" sz="3600" spc="-1" strike="noStrike" u="sng">
                <a:solidFill>
                  <a:srgbClr val="0070c0"/>
                </a:solidFill>
                <a:uFillTx/>
                <a:latin typeface="华文中宋"/>
                <a:ea typeface="华文中宋"/>
              </a:rPr>
              <a:t>檄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守御。每有警，辄数月不就寝，使将士更休，而自坐幄幕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择健卒十人，令二人蹲踞而背倚之，漏鼓移则番代。每寒夜起立，振衣裳，甲上冰霜迸落，铿然有声。或劝以</a:t>
            </a:r>
            <a:r>
              <a:rPr b="1" lang="zh-CN" sz="3600" spc="-1" strike="noStrike">
                <a:solidFill>
                  <a:srgbClr val="0070c0"/>
                </a:solidFill>
                <a:latin typeface="华文中宋"/>
                <a:ea typeface="华文中宋"/>
              </a:rPr>
              <a:t>少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休，公曰：“吾上恐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负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朝廷，下恐愧吾师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5:15:32Z</dcterms:created>
  <dc:creator>Administrator</dc:creator>
  <dc:description/>
  <dc:language>en-US</dc:language>
  <cp:lastModifiedBy>Windows 用户</cp:lastModifiedBy>
  <dcterms:modified xsi:type="dcterms:W3CDTF">2013-03-06T23:44:34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