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D27-7A74-497D-998C-E569FC7E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501-9D7B-40A4-B6BB-6DF8F310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61B-7F49-4155-84DA-417A8CBC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6F3-08A0-46BF-8909-DE53790F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5623-E33B-4005-B855-0ECE3958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20A3-933D-4A3B-BFB3-394CBCAE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8D18-A48F-4A53-9F44-53F91C5C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408B-0F26-4908-9187-DFEB0533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8B06-1D09-4B6C-B1B1-BD75A9C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7977-73BD-4BEA-B196-4D7A1CC4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267A-C441-4659-870A-B1C5B032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709-4D01-4DFC-AD26-2138E6AA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E922-6F88-4A78-93B0-AA4B838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62D3-5618-4BDE-9D59-C92E6CAE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D0A5-8625-48AD-89D3-ABD94491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D520-FDD6-47C7-B192-0F7B31B4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D8B4-38D3-46A5-889C-1273CC49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886-5CCE-48CD-9CB6-402AD0FF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055-E353-4EC0-8411-E51AD746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44F-9B53-4719-B458-C2BDCF3E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1A7-1E81-4ADD-B9B8-7D0ADF0A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004D-8898-43C8-A719-059200CE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832-223D-4830-9A4E-DF5A5347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5BD-164D-4153-8ACB-39E5FBE5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EBFB-C5E0-46B2-8ED5-477309CFA6F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AF0B-CCE4-4667-870F-0B0437B76F3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middle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066680" y="1371600"/>
            <a:ext cx="640080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高中语文教学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5120" y="5181480"/>
            <a:ext cx="39621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授课教师   赵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05120" y="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及左公下厂狱，史朝夕狱门外。逆阉防伺甚严，虽家仆不得近。久之，闻左公被炮烙，旦夕且死，持五十金，涕泣谋于禁卒，卒感焉。一日，使史更敝衣，草屦，背筐，手长镵，为除不洁者，引入。微指左公处，则席地倚墙而坐，面额焦烂不可辨，左膝以下筋骨尽脱矣。史前跪抱公膝而呜咽。公辨其声，而目不可开，乃奋臂以指拨眦，目光如炬，怒曰：“庸奴！此何地也，而汝来前！国家之事糜烂至此，老夫已矣，汝复轻身而昧大义，天下事谁可支拄者？不速去，无俟奸人构陷，吾今即扑杀汝！”因摸地上刑械作投击势。史噤不发声，趋而出。后尝流涕述其事以语人，曰：“吾师肺肝，皆铁石所铸造也。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81080" y="380880"/>
            <a:ext cx="6705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逆阉：逆叛的太监，这里指魏忠贤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卒感焉：狱卒被他感动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为除不洁者：为，通“伪”，装作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微指：悄悄（暗暗）指着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拨眦：拨开眼眶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昧大义：不明大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糜烂：败坏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已矣：完了，已，停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涕：眼泪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语人：告诉别人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057400" y="762120"/>
            <a:ext cx="67816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史朝夕狱门外：谓语省略句，省略了“候、俟”之类的词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汝复轻身而昧大义，天下事谁可支拄者：你又不保重身体，不明大义，天下大事，哪个是可以支撑的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不速去，无俟奸人构陷，吾今即扑杀汝：还不快快离去！不要等奸人编造罪名来陷害你，我现在就打死你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09680" y="1295280"/>
            <a:ext cx="61722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辄：总是，常常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更休：轮流休息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振：抖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负：辜负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躬造：亲自到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候：问候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起居：日常生活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57400" y="1219320"/>
            <a:ext cx="6705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文题是“左忠毅公逸事”，但课文第三段写的全是史可法在镇压农民起义中的表现，游离于课题之外，可以删去，你的看法怎样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274320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明确：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本段写史可法镇压农民起义，是作者阶级局限性的表现，应分析批判。但在结构上，却是全文的有机组成部分。明写史，暗写左，写史的忠勤职守，正是在表现左的言传身教对史的影响，从侧面丰富了左的形象。且处处与上文照应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57400" y="2133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本文怎样通过行动、语言、肖像的刻画表现人物的精神面貌的？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c1_29_5" descr=""/>
          <p:cNvPicPr/>
          <p:nvPr/>
        </p:nvPicPr>
        <p:blipFill>
          <a:blip r:embed="rId2"/>
          <a:stretch/>
        </p:blipFill>
        <p:spPr>
          <a:xfrm>
            <a:off x="6324480" y="533520"/>
            <a:ext cx="24685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86680" y="1600200"/>
            <a:ext cx="789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行动描写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1066680"/>
            <a:ext cx="0" cy="3505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066680"/>
            <a:ext cx="3049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572000"/>
            <a:ext cx="228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838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微行视学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解貂覆生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面署第一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奋臂拨眦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摸械投击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106668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838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深入民间，了解民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2286000"/>
            <a:ext cx="9144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581280" y="2437920"/>
            <a:ext cx="914400" cy="3049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057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善于发现人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大胆选拔人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4038480"/>
            <a:ext cx="9907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4266720"/>
            <a:ext cx="990720" cy="38124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0384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忠心为国，既忠且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5000" y="1752480"/>
            <a:ext cx="91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语言描写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1143000"/>
            <a:ext cx="0" cy="38862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1143000"/>
            <a:ext cx="3049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5029200"/>
            <a:ext cx="3049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838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吾诸儿碌碌”句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1066680"/>
            <a:ext cx="9144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83808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一心为公，提掖后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4724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汝复轻身而昧大义，天下事谁可支拄者？”句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541008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4952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忧国如焚，悲辞慷慨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10360" y="1676520"/>
            <a:ext cx="789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肖像描写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990720"/>
            <a:ext cx="0" cy="3581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990720"/>
            <a:ext cx="3049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572000"/>
            <a:ext cx="228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838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面额焦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1066680"/>
            <a:ext cx="9144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83808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忠贞不屈，大义凛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4267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目光如炬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4495680"/>
            <a:ext cx="9144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191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心怀国家，毫不颓唐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10360" y="1600200"/>
            <a:ext cx="78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课堂练习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0"/>
            <a:ext cx="6858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写出加点虚词在句中的含义、词性或作用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旦夕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死                    （       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此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何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地也                    （       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吾师肺肝，皆铁石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所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铸造也    （       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天下事谁可支拄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者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（       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掩户                      （       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3224160"/>
            <a:ext cx="723888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 2 .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本文行文严谨，请找出既能表现文章的题旨，又能表现文章内在联系前后相互呼应的一组句子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A. </a:t>
            </a:r>
            <a:r>
              <a:rPr b="0" lang="zh-CN" sz="1600" spc="-1" strike="noStrike">
                <a:solidFill>
                  <a:srgbClr val="eaeaea"/>
                </a:solidFill>
                <a:latin typeface="Times New Roman"/>
              </a:rPr>
              <a:t>先君子尝言，乡先辈左忠毅公视学京畿——余宗老涂山，左公甥也，与先君子善，谓狱中语乃亲得之于史公云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B. </a:t>
            </a:r>
            <a:r>
              <a:rPr b="0" lang="zh-CN" sz="1600" spc="-1" strike="noStrike">
                <a:solidFill>
                  <a:srgbClr val="eaeaea"/>
                </a:solidFill>
                <a:latin typeface="Times New Roman"/>
              </a:rPr>
              <a:t>叩之寺僧，则史公可法也——及左公下厂狱，史朝夕狱门外——史公以凤庐道奉檄守御——史公治兵，往来桐城，必躬造左公第，侯太公、太母起居，拜夫人于堂上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．</a:t>
            </a:r>
            <a:r>
              <a:rPr b="0" lang="zh-CN" sz="1600" spc="-1" strike="noStrike">
                <a:solidFill>
                  <a:srgbClr val="eaeaea"/>
                </a:solidFill>
                <a:latin typeface="Times New Roman"/>
              </a:rPr>
              <a:t>他日继吾志事——老夫已矣，汝复轻身而昧大义，天下事谁可支拄者——吾上恐负朝廷，下恐愧吾师也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Times New Roman"/>
              </a:rPr>
              <a:t>答：这组是</a:t>
            </a:r>
            <a:r>
              <a:rPr b="0" lang="zh-CN" sz="1600" spc="-1" strike="noStrike" u="sng">
                <a:solidFill>
                  <a:srgbClr val="eaeaea"/>
                </a:solidFill>
                <a:uFillTx/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10_14_5" descr=""/>
          <p:cNvPicPr/>
          <p:nvPr/>
        </p:nvPicPr>
        <p:blipFill>
          <a:blip r:embed="rId2"/>
          <a:stretch/>
        </p:blipFill>
        <p:spPr>
          <a:xfrm>
            <a:off x="380880" y="4114800"/>
            <a:ext cx="123516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514600" y="1143000"/>
            <a:ext cx="609588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左忠毅公逸事</a:t>
            </a:r>
            <a:endParaRPr b="0" lang="en-US" sz="5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6" name="book14" descr=""/>
          <p:cNvPicPr/>
          <p:nvPr/>
        </p:nvPicPr>
        <p:blipFill>
          <a:blip r:embed="rId2"/>
          <a:stretch/>
        </p:blipFill>
        <p:spPr>
          <a:xfrm>
            <a:off x="3809880" y="4343400"/>
            <a:ext cx="32004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57400" y="0"/>
            <a:ext cx="708660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下列分析不符合文意的一项是（      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涕泣谋于禁卒，卒感焉。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涕泣”，反映史可法极度悲痛。“卒感焉”，反映其感情深厚、真诚，并暗示有进狱探视的可能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微指左公处，则席地倚墙而坐，面额焦烂不可辨，左膝以下筋骨尽脱矣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写左公形象，反映逆阉的残酷狠毒与忠奸邪正不两立的社会现实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国家之事糜烂至此，老夫已矣，汝复轻身而昧大义，天下事谁可支拄者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左光斗不理解史可法来探狱的心意，所以，狠狠地斥责他“昧大义”，这是左光斗在教育史可法要以大义为重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因摸地上刑械作投击势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这一方面表现左光斗的急切心情，另方面也表现出左光斗对史可法的怜惜与爱护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514600" y="609480"/>
            <a:ext cx="59436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新舒体简体"/>
              </a:rPr>
              <a:t>三易工作室</a:t>
            </a:r>
            <a:endParaRPr b="0" lang="en-US" sz="5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新舒体简体"/>
              <a:ea typeface="方正新舒体简体"/>
            </a:endParaRPr>
          </a:p>
        </p:txBody>
      </p:sp>
      <p:pic>
        <p:nvPicPr>
          <p:cNvPr id="199" name="dalm03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886200"/>
            <a:ext cx="5715000" cy="2666880"/>
          </a:xfrm>
          <a:prstGeom prst="rect">
            <a:avLst/>
          </a:prstGeom>
          <a:solidFill>
            <a:srgbClr val="0665c6"/>
          </a:solidFill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752480"/>
            <a:ext cx="8839080" cy="205740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  <a:ea typeface="黑体"/>
              </a:rPr>
              <a:t>左 忠 毅 公 逸 事  </a:t>
            </a:r>
            <a:br>
              <a:rPr sz="4400"/>
            </a:br>
            <a:r>
              <a:rPr b="0" lang="zh-CN" sz="4400" spc="-1" strike="noStrike">
                <a:solidFill>
                  <a:srgbClr val="f8f8f8"/>
                </a:solidFill>
                <a:latin typeface="Times New Roman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f8f8f8"/>
                </a:solidFill>
                <a:latin typeface="宋体"/>
              </a:rPr>
              <a:t>方   苞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忠毅，谥号；公，尊称。逸事，散失没有经正史流传的事迹。这类文章不像正史作传那样全面叙述人物的生平事迹，而是从一生行事中选取一小部分来表现人物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·</a:t>
            </a: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809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作者</a:t>
            </a:r>
            <a:r>
              <a:rPr b="0" lang="zh-CN" sz="32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dddddd"/>
                </a:solidFill>
                <a:latin typeface="Times New Roman"/>
              </a:rPr>
              <a:t>方苞，字灵皋，号望溪，人称望溪先生。清代安徽桐城人。与刘大櫆、姚鼐并称为“桐城三大家”，为三大家之首，桐城派创始人。著名散文家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tcwm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971800" cy="1932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24480" y="6095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dddddd"/>
                </a:solidFill>
                <a:latin typeface="Times New Roman"/>
              </a:rPr>
              <a:t>桐城文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7617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教 学 目 标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11360" y="1905120"/>
            <a:ext cx="753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、掌握文中出现的重要的词语及语法现象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、选取典型事例表现人物思想性格的写法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、学习左光斗举荐人才、锄奸救国、坚贞不屈的高尚品德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76520" y="0"/>
            <a:ext cx="71625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先君子尝言，乡先辈左忠毅公视学京畿，一日，风雪严寒，从数骑出，微行入古寺。庑下一生伏案卧，文方成草。公阅毕，即解貂覆生，为掩户。叩之寺僧，则史公可法也。及试，吏呼名至史公，公瞿然注视，呈卷，即面署第一。召入，使拜夫人，曰：“吾诸儿碌碌，他日继吾志事，惟此生耳。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及左公下厂狱，史朝夕狱门外。逆阉防伺甚严，虽家仆不得近。久之，闻左公被炮烙，旦夕且死，持五十金，涕泣谋于禁卒，卒感焉。一日，使史更敝衣，草屦，背筐，手长镵，为除不洁者，引入。微指左公处，则席地倚墙而坐，面额焦烂不可辨，左膝以下筋骨尽脱矣。史前跪抱公膝而呜咽。公辨其声，而目不可开，乃奋臂以指拨眦，目光如炬，怒曰：“庸奴！此何地也，而汝来前！国家之事糜烂至此，老夫已矣，汝复轻身而昧大义，天下事谁可支拄者？不速去，无俟奸人构陷，吾今即扑杀汝！”因摸地上刑械作投击势。史噤不发声，趋而出。后尝流涕述其事以语人，曰：“吾师肺肝，皆铁石所铸造也。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崇祯末，流贼张献忠出没蕲、黄、潜、桐间，史公以凤庐道奉檄守御。每有警，辄数月不就寝，使将士更休，而自坐幄幕外。择健卒十人，令二人蹲距而背倚之，漏鼓移则番代。每寒夜起立，振衣裳，甲上冰霜迸落，铿然有声。或劝以少休，公曰：“吾上恐负朝廷，下恐愧吾师也。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史公治兵，往来桐城，必躬造左公第，侯太公、太母起居，拜夫人于堂上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f8f8f8"/>
                </a:solidFill>
                <a:latin typeface="Times New Roman"/>
              </a:rPr>
              <a:t>余宗老涂山，左公甥也，与先君子善，谓狱中语乃亲得之于史公云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502560" y="0"/>
            <a:ext cx="225504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Times New Roman"/>
                <a:ea typeface="黑体"/>
              </a:rPr>
              <a:t>左忠毅公逸事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生字注音：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57400" y="1905120"/>
            <a:ext cx="6377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貂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ao1)  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畿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ji1)  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眦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zi4)  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阉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yan1)  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炮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ao4)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烙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luo4)  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膝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xi1)  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支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zhi1)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拄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zhu3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以语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yu4)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人  更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geng1)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休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xiu1)  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防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ang2)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伺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4)  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俟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4)  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距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ju4)  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裳</a:t>
            </a: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ang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153280" y="2057400"/>
            <a:ext cx="381240" cy="1523880"/>
          </a:xfrm>
          <a:prstGeom prst="rect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2209680"/>
            <a:ext cx="533520" cy="1143000"/>
          </a:xfrm>
          <a:prstGeom prst="rect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1600200"/>
            <a:ext cx="609480" cy="2209680"/>
          </a:xfrm>
          <a:prstGeom prst="rect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75080" y="1676520"/>
            <a:ext cx="549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18000" y="1752480"/>
            <a:ext cx="1277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9144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121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不辞辛苦，为国选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13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身陷狱中，心系国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2971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爱国精神，影及后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补写由来，记录传世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97680" y="1752480"/>
            <a:ext cx="546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左光斗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80200" y="2209680"/>
            <a:ext cx="546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爱国精神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324480" y="1447920"/>
            <a:ext cx="685800" cy="2743200"/>
            <a:chOff x="6324480" y="1447920"/>
            <a:chExt cx="685800" cy="2743200"/>
          </a:xfrm>
        </p:grpSpPr>
        <p:sp>
          <p:nvSpPr>
            <p:cNvPr id="135" name=""/>
            <p:cNvSpPr/>
            <p:nvPr/>
          </p:nvSpPr>
          <p:spPr>
            <a:xfrm>
              <a:off x="6324480" y="1447920"/>
              <a:ext cx="2286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53080" y="1447920"/>
              <a:ext cx="0" cy="27432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191120"/>
              <a:ext cx="2286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53080" y="2743200"/>
              <a:ext cx="4572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543800" y="2743200"/>
            <a:ext cx="609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971800" y="1371600"/>
            <a:ext cx="457200" cy="2819520"/>
            <a:chOff x="2971800" y="1371600"/>
            <a:chExt cx="457200" cy="2819520"/>
          </a:xfrm>
        </p:grpSpPr>
        <p:sp>
          <p:nvSpPr>
            <p:cNvPr id="141" name=""/>
            <p:cNvSpPr/>
            <p:nvPr/>
          </p:nvSpPr>
          <p:spPr>
            <a:xfrm>
              <a:off x="3200400" y="1371600"/>
              <a:ext cx="15228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00400" y="1371600"/>
              <a:ext cx="0" cy="281952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4191120"/>
              <a:ext cx="2286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71800" y="2743200"/>
              <a:ext cx="2286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</a:rPr>
              <a:t>补充解释：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1371600"/>
            <a:ext cx="6858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视学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古时称担任考官的人为视学。一说“视”为观察、比较，视学，即视察学校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京畿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京城地区。畿，王都所在的千里地面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生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书生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叩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询问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则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原来是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碌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平庸无能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09680" y="990720"/>
            <a:ext cx="6400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视学京畿：省略介词“于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风雪严寒：“风雪”活用为动词，意为“刮着风，下着雪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从数骑出：从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使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跟从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叩之寺僧：省略介词“于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瞿然注视：瞪大眼睛仔细看着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吾诸儿碌碌，他日继吾志事，惟此生耳：我的几个儿子平庸无能，以后继承我的志向事业的，只有这个书生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8T17:00:25Z</dcterms:created>
  <dc:creator>zf</dc:creator>
  <dc:description/>
  <dc:language>en-US</dc:language>
  <cp:lastModifiedBy>zf</cp:lastModifiedBy>
  <dcterms:modified xsi:type="dcterms:W3CDTF">2000-09-21T15:25:05Z</dcterms:modified>
  <cp:revision>7</cp:revision>
  <dc:subject/>
  <dc:title>PowerPoint 演示文稿</dc:title>
</cp:coreProperties>
</file>