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4.jpeg" ContentType="image/jpeg"/>
  <Override PartName="/ppt/media/image19.jpeg" ContentType="image/jpeg"/>
  <Override PartName="/ppt/media/image5.jpeg" ContentType="image/jpeg"/>
  <Override PartName="/ppt/media/image10.jpeg" ContentType="image/jpeg"/>
  <Override PartName="/ppt/media/image8.jpeg" ContentType="image/jpeg"/>
  <Override PartName="/ppt/media/click.wav" ContentType="audio/x-wav"/>
  <Override PartName="/ppt/media/image11.png" ContentType="image/png"/>
  <Override PartName="/ppt/media/image9.jpeg" ContentType="image/jpeg"/>
  <Override PartName="/ppt/media/coin.wav" ContentType="audio/x-wav"/>
  <Override PartName="/ppt/media/image13.jpeg" ContentType="image/jpeg"/>
  <Override PartName="/ppt/media/arrow.wav" ContentType="audio/x-wav"/>
  <Override PartName="/ppt/media/image7.jpeg" ContentType="image/jpeg"/>
  <Override PartName="/ppt/media/camera.wav" ContentType="audio/x-wav"/>
  <Override PartName="/ppt/media/image3.jpeg" ContentType="image/jpeg"/>
  <Override PartName="/ppt/media/image1.jpeg" ContentType="image/jpeg"/>
  <Override PartName="/ppt/media/image16.jpeg" ContentType="image/jpeg"/>
  <Override PartName="/ppt/media/image21.jpeg" ContentType="image/jpeg"/>
  <Override PartName="/ppt/media/chimes.wav" ContentType="audio/x-wav"/>
  <Override PartName="/ppt/media/image12.jpeg" ContentType="image/jpeg"/>
  <Override PartName="/ppt/media/image22.jpeg" ContentType="image/jpeg"/>
  <Override PartName="/ppt/media/cashreg.wav" ContentType="audio/x-wav"/>
  <Override PartName="/ppt/media/hammer.wav" ContentType="audio/x-wav"/>
  <Override PartName="/ppt/media/image2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media/image20.jpeg" ContentType="image/jpeg"/>
  <Override PartName="/ppt/media/type.wav" ContentType="audio/x-wav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A1A2-A030-4646-BA8D-FAB42D195B8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D8CFB-5EF0-48CD-ABFB-2899C7686FE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欢迎来到学科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ttp://www.xuekewa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921F-0F8A-44F3-B513-24594636E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4EAA-FF65-439E-B769-B34092462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2ECD-FA11-4B80-95C9-2779D64AD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CB36-4C9E-457A-8E2A-A879C4F2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CB8E-DEDD-4445-BE66-2573BF93E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18CB-D27F-4963-AF0F-9D30F97E2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3911E-95DF-4500-BC3B-6345F57B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CE9D-332B-4D3D-916F-CFFAAB05C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23DA-10BD-4E3D-B46C-0909B5B5C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4234-F326-4821-B56F-7061EA02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2A34-53AC-4ECB-A126-77BCAE03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5C45-BD47-422F-BE2E-87316789D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4901D-1082-44DE-B052-FE1A2AEB95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hyperlink" Target="file:///tmp/home/.config/libreoffice/4/user/gallery/click.wav" TargetMode="External"/><Relationship Id="rId4" Type="http://schemas.openxmlformats.org/officeDocument/2006/relationships/hyperlink" Target="file:///tmp/home/.config/libreoffice/4/user/gallery/type.wav" TargetMode="External"/><Relationship Id="rId5" Type="http://schemas.openxmlformats.org/officeDocument/2006/relationships/hyperlink" Target="file:///tmp/home/.config/libreoffice/4/user/gallery/click.wav" TargetMode="External"/><Relationship Id="rId6" Type="http://schemas.openxmlformats.org/officeDocument/2006/relationships/hyperlink" Target="file:///tmp/home/.config/libreoffice/4/user/gallery/click.wav" TargetMode="External"/><Relationship Id="rId7" Type="http://schemas.openxmlformats.org/officeDocument/2006/relationships/hyperlink" Target="file:///tmp/home/.config/libreoffice/4/user/gallery/click.wav" TargetMode="External"/><Relationship Id="rId8" Type="http://schemas.openxmlformats.org/officeDocument/2006/relationships/hyperlink" Target="file:///tmp/home/.config/libreoffice/4/user/gallery/click.wav" TargetMode="External"/><Relationship Id="rId9" Type="http://schemas.openxmlformats.org/officeDocument/2006/relationships/hyperlink" Target="file:///tmp/home/.config/libreoffice/4/user/gallery/click.wav" TargetMode="External"/><Relationship Id="rId10" Type="http://schemas.openxmlformats.org/officeDocument/2006/relationships/hyperlink" Target="file:///tmp/home/.config/libreoffice/4/user/gallery/chimes.wav" TargetMode="External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audio" Target="../media/click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audio" Target="../media/coin.wav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oin.wav"/><Relationship Id="rId12" Type="http://schemas.openxmlformats.org/officeDocument/2006/relationships/audio" Target="../media/hammer.wav"/><Relationship Id="rId13" Type="http://schemas.openxmlformats.org/officeDocument/2006/relationships/audio" Target="../media/hammer.wav"/><Relationship Id="rId14" Type="http://schemas.openxmlformats.org/officeDocument/2006/relationships/audio" Target="../media/hammer.wav"/><Relationship Id="rId15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200469034946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332000" y="620640"/>
            <a:ext cx="6172200" cy="48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0" spc="-1" strike="noStrike">
                <a:solidFill>
                  <a:srgbClr val="9933ff"/>
                </a:solidFill>
                <a:latin typeface="Times New Roman"/>
                <a:ea typeface="隶书"/>
              </a:rPr>
              <a:t>周庄</a:t>
            </a:r>
            <a:endParaRPr b="0" lang="en-US" sz="1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0" spc="-1" strike="noStrike">
                <a:solidFill>
                  <a:srgbClr val="9933ff"/>
                </a:solidFill>
                <a:latin typeface="Times New Roman"/>
                <a:ea typeface="隶书"/>
              </a:rPr>
              <a:t>          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27640" y="2492280"/>
            <a:ext cx="41907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 </a:t>
            </a:r>
            <a:r>
              <a:rPr b="0" lang="zh-CN" sz="12000" spc="-1" strike="noStrike">
                <a:solidFill>
                  <a:srgbClr val="66ff66"/>
                </a:solidFill>
                <a:latin typeface="Times New Roman"/>
                <a:ea typeface="华文行楷"/>
              </a:rPr>
              <a:t>水 </a:t>
            </a:r>
            <a:r>
              <a:rPr b="1" lang="zh-CN" sz="8000" spc="-1" strike="noStrike">
                <a:solidFill>
                  <a:srgbClr val="ffcc66"/>
                </a:solidFill>
                <a:latin typeface="Times New Roman"/>
              </a:rPr>
              <a:t>韵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203640" y="4508640"/>
            <a:ext cx="239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9900"/>
                </a:solidFill>
                <a:latin typeface="方正水柱简体"/>
                <a:ea typeface="方正水柱简体"/>
              </a:rPr>
              <a:t>赵 丽 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日暮乡关"/>
          <p:cNvPicPr/>
          <p:nvPr/>
        </p:nvPicPr>
        <p:blipFill>
          <a:blip r:embed="rId2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AutoShape 3">
            <a:hlinkClick r:id="" action="ppaction://hlinkshowjump?jump=previousslide"/>
          </p:cNvPr>
          <p:cNvSpPr/>
          <p:nvPr/>
        </p:nvSpPr>
        <p:spPr>
          <a:xfrm>
            <a:off x="8459640" y="6453360"/>
            <a:ext cx="684360" cy="404640"/>
          </a:xfrm>
          <a:custGeom>
            <a:avLst/>
            <a:gdLst>
              <a:gd name="textAreaLeft" fmla="*/ 25920 w 684360"/>
              <a:gd name="textAreaRight" fmla="*/ 658440 w 68436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18" h="21600">
                <a:moveTo>
                  <a:pt x="0" y="0"/>
                </a:moveTo>
                <a:lnTo>
                  <a:pt x="36518" y="0"/>
                </a:lnTo>
                <a:lnTo>
                  <a:pt x="36518" y="21600"/>
                </a:lnTo>
                <a:lnTo>
                  <a:pt x="0" y="21600"/>
                </a:lnTo>
                <a:close/>
              </a:path>
              <a:path fill="lightenLess" w="36518" h="21600">
                <a:moveTo>
                  <a:pt x="0" y="0"/>
                </a:moveTo>
                <a:lnTo>
                  <a:pt x="36518" y="0"/>
                </a:lnTo>
                <a:lnTo>
                  <a:pt x="35118" y="1400"/>
                </a:lnTo>
                <a:lnTo>
                  <a:pt x="1400" y="1400"/>
                </a:lnTo>
                <a:close/>
              </a:path>
              <a:path fill="darken" w="36518" h="21600">
                <a:moveTo>
                  <a:pt x="36518" y="0"/>
                </a:moveTo>
                <a:lnTo>
                  <a:pt x="36518" y="21600"/>
                </a:lnTo>
                <a:lnTo>
                  <a:pt x="35118" y="20200"/>
                </a:lnTo>
                <a:lnTo>
                  <a:pt x="35118" y="1400"/>
                </a:lnTo>
                <a:close/>
              </a:path>
              <a:path fill="darkenLess" w="36518" h="21600">
                <a:moveTo>
                  <a:pt x="365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18" y="20200"/>
                </a:lnTo>
                <a:close/>
              </a:path>
              <a:path fill="lighten" w="365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518" h="21600">
                <a:moveTo>
                  <a:pt x="11253" y="10800"/>
                </a:moveTo>
                <a:lnTo>
                  <a:pt x="25266" y="3794"/>
                </a:lnTo>
                <a:lnTo>
                  <a:pt x="25266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zong  ti"/>
          <p:cNvPicPr/>
          <p:nvPr/>
        </p:nvPicPr>
        <p:blipFill>
          <a:blip r:embed="rId3"/>
          <a:stretch/>
        </p:blipFill>
        <p:spPr>
          <a:xfrm>
            <a:off x="4500720" y="0"/>
            <a:ext cx="464328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663480" y="331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0" y="428760"/>
            <a:ext cx="91440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第一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仲春烟雨笼罩的周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                    </a:t>
            </a:r>
            <a:r>
              <a:rPr b="1" i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迷蒙的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水墨画</a:t>
            </a:r>
            <a:r>
              <a:rPr b="1" i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0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6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283356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76200" y="260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0" y="26028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第二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</a:t>
            </a:r>
            <a:r>
              <a:rPr b="1" i="1" lang="zh-CN" sz="4000" spc="-1" strike="noStrike">
                <a:solidFill>
                  <a:srgbClr val="404040"/>
                </a:solidFill>
                <a:latin typeface="Arial"/>
                <a:ea typeface="楷体_GB2312"/>
              </a:rPr>
              <a:t>冬天冰雪融化的周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404040"/>
                </a:solidFill>
                <a:latin typeface="Arial"/>
                <a:ea typeface="楷体_GB2312"/>
              </a:rPr>
              <a:t>                   </a:t>
            </a:r>
            <a:r>
              <a:rPr b="1" i="1" lang="zh-CN" sz="4000" spc="-1" strike="noStrike">
                <a:solidFill>
                  <a:srgbClr val="404040"/>
                </a:solidFill>
                <a:latin typeface="Arial"/>
                <a:ea typeface="楷体_GB2312"/>
              </a:rPr>
              <a:t>像一幅色彩对比强烈的</a:t>
            </a:r>
            <a:r>
              <a:rPr b="1" i="1" lang="zh-CN" sz="40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版画</a:t>
            </a:r>
            <a:r>
              <a:rPr b="1" i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836640"/>
            <a:ext cx="8640720" cy="5880240"/>
          </a:xfrm>
          <a:prstGeom prst="rect">
            <a:avLst/>
          </a:prstGeom>
          <a:ln w="0">
            <a:noFill/>
          </a:ln>
        </p:spPr>
      </p:pic>
    </p:spTree>
  </p:cSld>
  <p:transition advTm="3000">
    <p:random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3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77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200302281198_285694"/>
          <p:cNvPicPr/>
          <p:nvPr/>
        </p:nvPicPr>
        <p:blipFill>
          <a:blip r:embed="rId2"/>
          <a:stretch/>
        </p:blipFill>
        <p:spPr>
          <a:xfrm>
            <a:off x="0" y="-243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3"/>
          <p:cNvSpPr/>
          <p:nvPr/>
        </p:nvSpPr>
        <p:spPr>
          <a:xfrm>
            <a:off x="1428840" y="0"/>
            <a:ext cx="8072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第三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         </a:t>
            </a:r>
            <a:r>
              <a:rPr b="1" i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春夜张灯结彩的周庄七彩</a:t>
            </a:r>
            <a:r>
              <a:rPr b="1" i="1" lang="zh-CN" sz="36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梦幻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周庄夜景"/>
          <p:cNvPicPr/>
          <p:nvPr/>
        </p:nvPicPr>
        <p:blipFill>
          <a:blip r:embed="rId3"/>
          <a:stretch/>
        </p:blipFill>
        <p:spPr>
          <a:xfrm>
            <a:off x="0" y="322200"/>
            <a:ext cx="8713800" cy="6535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" presetSubtype="16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96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11280" y="981000"/>
            <a:ext cx="74898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-25000">
                <a:solidFill>
                  <a:srgbClr val="000000"/>
                </a:solidFill>
                <a:latin typeface="Arial"/>
              </a:rPr>
              <a:t>⑴</a:t>
            </a:r>
            <a:r>
              <a:rPr b="1" lang="zh-CN" sz="4000" spc="-1" strike="noStrike" baseline="-25000">
                <a:solidFill>
                  <a:srgbClr val="000000"/>
                </a:solidFill>
                <a:latin typeface="Arial"/>
              </a:rPr>
              <a:t>第三次游周庄描绘了周庄的哪些景物是按照什么顺序来写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92200" y="-14400"/>
            <a:ext cx="5564160" cy="16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baseline="-25000">
                <a:solidFill>
                  <a:srgbClr val="003300"/>
                </a:solidFill>
                <a:latin typeface="仿宋_GB2312"/>
                <a:ea typeface="仿宋_GB2312"/>
              </a:rPr>
              <a:t>精读课文第</a:t>
            </a:r>
            <a:r>
              <a:rPr b="1" lang="en-US" sz="4400" spc="-1" strike="noStrike" baseline="-25000">
                <a:solidFill>
                  <a:srgbClr val="003300"/>
                </a:solidFill>
                <a:latin typeface="仿宋_GB2312"/>
                <a:ea typeface="仿宋_GB2312"/>
              </a:rPr>
              <a:t>5</a:t>
            </a:r>
            <a:r>
              <a:rPr b="1" lang="zh-CN" sz="4400" spc="-1" strike="noStrike" baseline="-25000">
                <a:solidFill>
                  <a:srgbClr val="003300"/>
                </a:solidFill>
                <a:latin typeface="仿宋_GB2312"/>
                <a:ea typeface="仿宋_GB2312"/>
              </a:rPr>
              <a:t>～</a:t>
            </a:r>
            <a:r>
              <a:rPr b="1" lang="en-US" sz="4400" spc="-1" strike="noStrike" baseline="-25000">
                <a:solidFill>
                  <a:srgbClr val="003300"/>
                </a:solidFill>
                <a:latin typeface="仿宋_GB2312"/>
                <a:ea typeface="仿宋_GB2312"/>
              </a:rPr>
              <a:t>6</a:t>
            </a:r>
            <a:r>
              <a:rPr b="1" lang="zh-CN" sz="4400" spc="-1" strike="noStrike" baseline="-25000">
                <a:solidFill>
                  <a:srgbClr val="003300"/>
                </a:solidFill>
                <a:latin typeface="仿宋_GB2312"/>
                <a:ea typeface="仿宋_GB2312"/>
              </a:rPr>
              <a:t>自然段，思考：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4000" y="1916280"/>
            <a:ext cx="86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描绘了节日夜景：岸上的彩灯、倒影、花船、丝竹管弦声、礼花、彩光、欢呼声等；按照时间顺序（以先后为序） ，空间顺序（岸上——河中——天上——地上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b1069742338"/>
          <p:cNvPicPr/>
          <p:nvPr/>
        </p:nvPicPr>
        <p:blipFill>
          <a:blip r:embed="rId2"/>
          <a:stretch/>
        </p:blipFill>
        <p:spPr>
          <a:xfrm>
            <a:off x="5086440" y="3645000"/>
            <a:ext cx="4057560" cy="32130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" descr="4"/>
          <p:cNvPicPr/>
          <p:nvPr/>
        </p:nvPicPr>
        <p:blipFill>
          <a:blip r:embed="rId3"/>
          <a:stretch/>
        </p:blipFill>
        <p:spPr>
          <a:xfrm>
            <a:off x="0" y="3716280"/>
            <a:ext cx="4952880" cy="3141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三次游周庄为什么详写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因为单凭一次游览感受肤浅，难以领悟其奥妙，领会其神韵，本文作者写了三次周庄水乡之游，感受一次比一次多，一次比一次深，所以第三次游览周庄详写，仔细观赏，细细品味，多角度地领略其境界之妙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jnsx-1"/>
          <p:cNvPicPr/>
          <p:nvPr/>
        </p:nvPicPr>
        <p:blipFill>
          <a:blip r:embed="rId2"/>
          <a:stretch/>
        </p:blipFill>
        <p:spPr>
          <a:xfrm>
            <a:off x="0" y="4653000"/>
            <a:ext cx="9144000" cy="220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8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8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8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339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方正姚体"/>
              </a:rPr>
              <a:t>优美词句欣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8360" y="1341360"/>
            <a:ext cx="820908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. ……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阳光已经穿破云层</a:t>
            </a:r>
            <a:r>
              <a:rPr b="0" lang="zh-CN" sz="3200" spc="-1" strike="noStrike" baseline="-25000">
                <a:solidFill>
                  <a:srgbClr val="cc0000"/>
                </a:solidFill>
                <a:latin typeface="Arial"/>
              </a:rPr>
              <a:t>抚摸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大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. 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在阳光下积雪正在融化，到处可以听见滴水和流水的声音，小街的屋檐下在</a:t>
            </a:r>
            <a:r>
              <a:rPr b="0" lang="zh-CN" sz="3200" spc="-1" strike="noStrike" baseline="-25000">
                <a:solidFill>
                  <a:srgbClr val="cc0000"/>
                </a:solidFill>
                <a:latin typeface="Arial"/>
              </a:rPr>
              <a:t>滴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水，石拱桥的栏杆和桥洞在</a:t>
            </a:r>
            <a:r>
              <a:rPr b="0" lang="zh-CN" sz="3200" spc="-1" strike="noStrike" baseline="-25000">
                <a:solidFill>
                  <a:srgbClr val="cc0000"/>
                </a:solidFill>
                <a:latin typeface="Arial"/>
              </a:rPr>
              <a:t>淌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水，小河的石河沿上，往下流淌的雪水仿佛正从石缝中</a:t>
            </a:r>
            <a:r>
              <a:rPr b="0" lang="zh-CN" sz="3200" spc="-1" strike="noStrike" baseline="-25000">
                <a:solidFill>
                  <a:srgbClr val="cc0000"/>
                </a:solidFill>
                <a:latin typeface="Arial"/>
              </a:rPr>
              <a:t>渗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. </a:t>
            </a:r>
            <a:r>
              <a:rPr b="0" lang="zh-CN" sz="3200" spc="-1" strike="noStrike" baseline="-25000">
                <a:solidFill>
                  <a:srgbClr val="000000"/>
                </a:solidFill>
                <a:latin typeface="Arial"/>
              </a:rPr>
              <a:t>细细谛听，水生重重叠叠，如诉如泣，仿佛神秘悠远的江南丝竹，裹着万般柔情，从地下袅袅回旋上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3632040"/>
            <a:ext cx="8424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答：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用词准确，把阳光拟人化，突出阳光的温暖轻柔，给人以舒适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913840" y="4581360"/>
            <a:ext cx="593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形容雪融化的声音，丰富不单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71640" y="5359320"/>
            <a:ext cx="72388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形象的运用通感的修辞手法，将视觉和听觉融合起来，仿佛水声的热闹伸手可及。还是用了比喻和拟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3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2"/>
          <p:cNvSpPr/>
          <p:nvPr/>
        </p:nvSpPr>
        <p:spPr>
          <a:xfrm>
            <a:off x="8461440" y="6324480"/>
            <a:ext cx="609480" cy="43200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0467" h="21600">
                <a:moveTo>
                  <a:pt x="0" y="0"/>
                </a:moveTo>
                <a:lnTo>
                  <a:pt x="30467" y="0"/>
                </a:lnTo>
                <a:lnTo>
                  <a:pt x="30467" y="21600"/>
                </a:lnTo>
                <a:lnTo>
                  <a:pt x="0" y="21600"/>
                </a:lnTo>
                <a:close/>
              </a:path>
              <a:path fill="lightenLess" w="30467" h="21600">
                <a:moveTo>
                  <a:pt x="0" y="0"/>
                </a:moveTo>
                <a:lnTo>
                  <a:pt x="30467" y="0"/>
                </a:lnTo>
                <a:lnTo>
                  <a:pt x="29067" y="1400"/>
                </a:lnTo>
                <a:lnTo>
                  <a:pt x="1400" y="1400"/>
                </a:lnTo>
                <a:close/>
              </a:path>
              <a:path fill="darken" w="30467" h="21600">
                <a:moveTo>
                  <a:pt x="30467" y="0"/>
                </a:moveTo>
                <a:lnTo>
                  <a:pt x="30467" y="21600"/>
                </a:lnTo>
                <a:lnTo>
                  <a:pt x="29067" y="20200"/>
                </a:lnTo>
                <a:lnTo>
                  <a:pt x="29067" y="1400"/>
                </a:lnTo>
                <a:close/>
              </a:path>
              <a:path fill="darkenLess" w="30467" h="21600">
                <a:moveTo>
                  <a:pt x="3046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67" y="20200"/>
                </a:lnTo>
                <a:close/>
              </a:path>
              <a:path fill="lighten" w="3046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467" h="21600">
                <a:moveTo>
                  <a:pt x="11734" y="10800"/>
                </a:moveTo>
                <a:lnTo>
                  <a:pt x="22240" y="3794"/>
                </a:lnTo>
                <a:lnTo>
                  <a:pt x="22240" y="17806"/>
                </a:lnTo>
                <a:close/>
              </a:path>
              <a:path fill="darken" w="30467" h="21600">
                <a:moveTo>
                  <a:pt x="8227" y="3794"/>
                </a:moveTo>
                <a:lnTo>
                  <a:pt x="9889" y="3794"/>
                </a:lnTo>
                <a:lnTo>
                  <a:pt x="9889" y="17806"/>
                </a:lnTo>
                <a:lnTo>
                  <a:pt x="822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1520" y="444240"/>
            <a:ext cx="211320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华文行楷"/>
              </a:rPr>
              <a:t>品味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250920" y="1341360"/>
            <a:ext cx="875016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§“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古老的楼房和曲折的小街缀满了闪烁的彩灯，灯光倒映在河中，使小河变成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Arial"/>
              </a:rPr>
              <a:t>一条多姿多彩的光带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。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§“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最奇妙的，当然是我身畔的河水，天上的辉煌和璀璨，全都落到了水里，平静幽深的河水，顿时变成了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Arial"/>
              </a:rPr>
              <a:t>一条摇曳生辉、光华四射的彩带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。随焰火忽明忽暗的河畔楼屋倒映在水里，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Arial"/>
              </a:rPr>
              <a:t>像从河底泛起的一张张仰望天空的脸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，……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        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§“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我很难忘这个奇妙的夜晚，</a:t>
            </a:r>
            <a:r>
              <a:rPr b="1" lang="zh-CN" sz="2600" spc="-1" strike="noStrike" u="sng">
                <a:solidFill>
                  <a:srgbClr val="c00000"/>
                </a:solidFill>
                <a:uFillTx/>
                <a:latin typeface="Arial"/>
              </a:rPr>
              <a:t>这是一个梦幻般的夜晚，周庄在宁静的夜色中变得像神奇的童话</a:t>
            </a:r>
            <a:r>
              <a:rPr b="1" lang="zh-CN" sz="2600" spc="-1" strike="noStrike">
                <a:solidFill>
                  <a:srgbClr val="000808"/>
                </a:solidFill>
                <a:latin typeface="Arial"/>
              </a:rPr>
              <a:t>，古镇悠远的历史和缤纷的现实，都荡漾在被竹篙和木橹搅动的水波之中。”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851280" y="189000"/>
            <a:ext cx="216072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比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59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 Box 3"/>
          <p:cNvSpPr/>
          <p:nvPr/>
        </p:nvSpPr>
        <p:spPr>
          <a:xfrm>
            <a:off x="193680" y="177840"/>
            <a:ext cx="3886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我阅读  我探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隶书"/>
                <a:ea typeface="隶书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写作手法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4"/>
          <p:cNvSpPr/>
          <p:nvPr/>
        </p:nvSpPr>
        <p:spPr>
          <a:xfrm>
            <a:off x="8261280" y="614664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8845" y="10800"/>
                </a:moveTo>
                <a:lnTo>
                  <a:pt x="19350" y="3794"/>
                </a:lnTo>
                <a:lnTo>
                  <a:pt x="19350" y="17806"/>
                </a:lnTo>
                <a:close/>
              </a:path>
              <a:path fill="darken" w="24688" h="21600">
                <a:moveTo>
                  <a:pt x="5337" y="3794"/>
                </a:moveTo>
                <a:lnTo>
                  <a:pt x="7000" y="3794"/>
                </a:lnTo>
                <a:lnTo>
                  <a:pt x="7000" y="17806"/>
                </a:lnTo>
                <a:lnTo>
                  <a:pt x="5337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216000" y="123516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900000" y="1844640"/>
            <a:ext cx="74678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按照时空顺序，多角度去描写景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②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先略后详，逐步加深了描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③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运用多种的修辞方法，生动形象的描写景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468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华文行楷"/>
              </a:rPr>
              <a:t>周庄简介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北宋元佑年间，周迪功郎信奉佛教，将庄田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2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亩捐赠给全福寺作为庙产，百姓感其恩德，将这片田地命名为“周庄”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周庄镇位于苏州城东南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38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公里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古称贞丰里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历经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90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多年沧桑，是江南六个著名古镇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国画家吴冠中说“黄山集中国山川之美、周庄集中国水乡之美”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海外报刊则称“周庄为中国第一水乡”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被誉为“梦里水乡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周庄地图2" descr=""/>
          <p:cNvPicPr/>
          <p:nvPr/>
        </p:nvPicPr>
        <p:blipFill>
          <a:blip r:embed="rId2"/>
          <a:stretch/>
        </p:blipFill>
        <p:spPr>
          <a:xfrm>
            <a:off x="179280" y="230040"/>
            <a:ext cx="7488360" cy="6418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621320" y="49514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隶书"/>
              </a:rPr>
              <a:t>南　　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324240" y="448308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南湖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3"/>
          </p:cNvPr>
          <p:cNvSpPr/>
          <p:nvPr/>
        </p:nvSpPr>
        <p:spPr>
          <a:xfrm>
            <a:off x="2316240" y="44118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  <a:ea typeface="楷体_GB2312"/>
              </a:rPr>
              <a:t>全福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4"/>
          </p:cNvPr>
          <p:cNvSpPr/>
          <p:nvPr/>
        </p:nvSpPr>
        <p:spPr>
          <a:xfrm>
            <a:off x="2747880" y="38005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2082a"/>
                </a:solidFill>
                <a:latin typeface="Arial"/>
              </a:rPr>
              <a:t>迷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5"/>
          </p:cNvPr>
          <p:cNvSpPr/>
          <p:nvPr/>
        </p:nvSpPr>
        <p:spPr>
          <a:xfrm>
            <a:off x="4621320" y="369108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沈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6"/>
          </p:cNvPr>
          <p:cNvSpPr/>
          <p:nvPr/>
        </p:nvSpPr>
        <p:spPr>
          <a:xfrm>
            <a:off x="3468600" y="39434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2082a"/>
                </a:solidFill>
                <a:latin typeface="Arial"/>
              </a:rPr>
              <a:t>贞丰桥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7"/>
          </p:cNvPr>
          <p:cNvSpPr/>
          <p:nvPr/>
        </p:nvSpPr>
        <p:spPr>
          <a:xfrm>
            <a:off x="4019400" y="243828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双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8"/>
          </p:cNvPr>
          <p:cNvSpPr/>
          <p:nvPr/>
        </p:nvSpPr>
        <p:spPr>
          <a:xfrm>
            <a:off x="3324240" y="343368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2082a"/>
                </a:solidFill>
                <a:latin typeface="Arial"/>
              </a:rPr>
              <a:t>澄虚道院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9"/>
          </p:cNvPr>
          <p:cNvSpPr/>
          <p:nvPr/>
        </p:nvSpPr>
        <p:spPr>
          <a:xfrm>
            <a:off x="4460760" y="280044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张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>
            <a:hlinkClick r:id="rId10"/>
          </p:cNvPr>
          <p:cNvSpPr/>
          <p:nvPr/>
        </p:nvSpPr>
        <p:spPr>
          <a:xfrm>
            <a:off x="4405320" y="315108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富安桥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533760" y="207180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隶书"/>
              </a:rPr>
              <a:t>荷花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28520" y="1484280"/>
            <a:ext cx="11552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2082a"/>
                </a:solidFill>
                <a:latin typeface="Arial"/>
                <a:ea typeface="隶书"/>
              </a:rPr>
              <a:t>周庄主要景点介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8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3151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0" y="836640"/>
            <a:ext cx="9396360" cy="60213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-304920" y="258840"/>
            <a:ext cx="9630000" cy="6423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-541440" y="334800"/>
            <a:ext cx="8426520" cy="6523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6"/>
          <a:stretch/>
        </p:blipFill>
        <p:spPr>
          <a:xfrm>
            <a:off x="0" y="1341360"/>
            <a:ext cx="8964720" cy="55166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-324000" y="644400"/>
            <a:ext cx="9468000" cy="62136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8"/>
          <a:stretch/>
        </p:blipFill>
        <p:spPr>
          <a:xfrm>
            <a:off x="-181080" y="977760"/>
            <a:ext cx="8640720" cy="588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8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65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3" nodeType="afterEffect" fill="hold" presetClass="entr" presetID="5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7" nodeType="afterEffect" fill="hold" presetClass="entr" presetID="4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3000"/>
                            </p:stCondLst>
                            <p:childTnLst>
                              <p:par>
                                <p:cTn id="111" nodeType="afterEffect" fill="hold" presetClass="entr" presetID="2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0"/>
                            </p:stCondLst>
                            <p:childTnLst>
                              <p:par>
                                <p:cTn id="115" nodeType="afterEffect" fill="hold" presetClass="entr" presetID="13" presetSubtype="16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1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AutoShape 25"/>
          <p:cNvGrpSpPr/>
          <p:nvPr/>
        </p:nvGrpSpPr>
        <p:grpSpPr>
          <a:xfrm>
            <a:off x="628560" y="1603440"/>
            <a:ext cx="7680240" cy="3181320"/>
            <a:chOff x="628560" y="1603440"/>
            <a:chExt cx="7680240" cy="3181320"/>
          </a:xfrm>
        </p:grpSpPr>
        <p:pic>
          <p:nvPicPr>
            <p:cNvPr id="75" name="AutoShape 25" descr=""/>
            <p:cNvPicPr/>
            <p:nvPr/>
          </p:nvPicPr>
          <p:blipFill>
            <a:blip r:embed="rId2"/>
            <a:stretch/>
          </p:blipFill>
          <p:spPr>
            <a:xfrm>
              <a:off x="628560" y="1603440"/>
              <a:ext cx="7680240" cy="318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781200" y="1755720"/>
              <a:ext cx="7369200" cy="28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23"/>
          <p:cNvSpPr/>
          <p:nvPr/>
        </p:nvSpPr>
        <p:spPr>
          <a:xfrm>
            <a:off x="1371600" y="1919160"/>
            <a:ext cx="6629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斓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   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眩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目（    ）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谛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（    ）           </a:t>
            </a:r>
            <a:r>
              <a:rPr b="1" lang="zh-CN" sz="2400" spc="-1" strike="noStrike">
                <a:solidFill>
                  <a:srgbClr val="ff3300"/>
                </a:solidFill>
                <a:latin typeface="宋体"/>
              </a:rPr>
              <a:t>娴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熟（    ）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璀璨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 ）        摇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参差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  ）        黑</a:t>
            </a: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黝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   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838080" y="928800"/>
            <a:ext cx="2210040" cy="52056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华文行楷"/>
              </a:rPr>
              <a:t>读准字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2193840" y="22320"/>
            <a:ext cx="854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2268360" y="206064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l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5894280" y="207180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u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411280" y="2637000"/>
            <a:ext cx="6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d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5665680" y="260496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x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362320" y="3124080"/>
            <a:ext cx="17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uǐ cà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6084720" y="3141720"/>
            <a:ext cx="14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y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2268360" y="3716280"/>
            <a:ext cx="157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cēn c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5940360" y="3716280"/>
            <a:ext cx="96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宋体"/>
              </a:rPr>
              <a:t>yǒ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700" spc="-1" strike="noStrike">
                <a:solidFill>
                  <a:srgbClr val="000000"/>
                </a:solidFill>
                <a:latin typeface="Arial"/>
              </a:rPr>
              <a:t>理清文章的结构全文的结构形式：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先总写、后分写，分为两部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609480" y="2819520"/>
            <a:ext cx="6913800" cy="2034360"/>
            <a:chOff x="609480" y="2819520"/>
            <a:chExt cx="6913800" cy="2034360"/>
          </a:xfrm>
        </p:grpSpPr>
        <p:sp>
          <p:nvSpPr>
            <p:cNvPr id="91" name=""/>
            <p:cNvSpPr/>
            <p:nvPr/>
          </p:nvSpPr>
          <p:spPr>
            <a:xfrm>
              <a:off x="682560" y="2819520"/>
              <a:ext cx="68407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第一部分（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自然段） ：叙述周庄水乡给人们的总体印象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第二部分（ 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～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r>
                <a:rPr b="0" lang="zh-CN" sz="3200" spc="-1" strike="noStrike">
                  <a:solidFill>
                    <a:srgbClr val="000000"/>
                  </a:solidFill>
                  <a:latin typeface="Arial"/>
                </a:rPr>
                <a:t>自然段）：写作者三次游周庄的情景及感受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09480" y="2931840"/>
              <a:ext cx="73080" cy="192204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50040 h 1922040"/>
                <a:gd name="textAreaBottom" fmla="*/ 1872000 h 192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712440"/>
            <a:ext cx="4186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ff"/>
                </a:solidFill>
                <a:latin typeface="Arial"/>
                <a:ea typeface="方正舒体"/>
              </a:rPr>
              <a:t>四、析读课文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51040"/>
            <a:ext cx="7068960" cy="176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齐读课文第一部分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自然段）思考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⑴周庄水乡留给人们的总体印象是什么？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⑵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语段中描绘哪些画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8040" y="3789360"/>
            <a:ext cx="1800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周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d2082a"/>
                </a:solidFill>
                <a:latin typeface="Arial"/>
              </a:rPr>
              <a:t>（总体印象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2400" y="3573360"/>
            <a:ext cx="288720" cy="1224000"/>
          </a:xfrm>
          <a:custGeom>
            <a:avLst/>
            <a:gdLst>
              <a:gd name="textAreaLeft" fmla="*/ 184680 w 288720"/>
              <a:gd name="textAreaRight" fmla="*/ 289080 w 28872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81120" y="342900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水中倒影：波动似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479680" y="3789360"/>
            <a:ext cx="26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小河泛舟：富有诗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81120" y="4148280"/>
            <a:ext cx="4032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整体布局：井形河道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ff"/>
                </a:solidFill>
                <a:latin typeface="Arial"/>
              </a:rPr>
              <a:t>　　　　　古镇为一体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44760" y="31035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cc00"/>
                </a:solidFill>
                <a:latin typeface="Arial"/>
              </a:rPr>
              <a:t>画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32000" y="494172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小结：第一部分叙述了周庄水乡给人们的总体印象——河水、波光、倒影、古桥、小舟、行人、游客，古雅优美，充满了</a:t>
            </a:r>
            <a:r>
              <a:rPr b="0" lang="zh-CN" sz="2400" spc="-1" strike="noStrike">
                <a:solidFill>
                  <a:srgbClr val="ff3300"/>
                </a:solidFill>
                <a:latin typeface="Arial"/>
              </a:rPr>
              <a:t>诗情画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907920"/>
            <a:ext cx="7775640" cy="4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⒉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速读课文第二部分       ⑴讨论交流完成下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1523880"/>
          <a:ext cx="8229600" cy="2505240"/>
        </p:xfrm>
        <a:graphic>
          <a:graphicData uri="http://schemas.openxmlformats.org/drawingml/2006/table">
            <a:tbl>
              <a:tblPr/>
              <a:tblGrid>
                <a:gridCol w="1203480"/>
                <a:gridCol w="1436400"/>
                <a:gridCol w="1757520"/>
                <a:gridCol w="1154160"/>
                <a:gridCol w="1317600"/>
                <a:gridCol w="1360440"/>
              </a:tblGrid>
              <a:tr h="4291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者三次游览周庄的情景及感受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5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次　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观察角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作者印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景物特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详略安排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539640" y="4437000"/>
            <a:ext cx="77058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d2082a"/>
                </a:solidFill>
                <a:latin typeface="楷体_GB2312"/>
                <a:ea typeface="楷体_GB2312"/>
              </a:rPr>
              <a:t>⑵</a:t>
            </a:r>
            <a:r>
              <a:rPr b="1" lang="zh-CN" sz="2400" spc="-1" strike="noStrike">
                <a:solidFill>
                  <a:srgbClr val="d2082a"/>
                </a:solidFill>
                <a:latin typeface="楷体_GB2312"/>
                <a:ea typeface="楷体_GB2312"/>
              </a:rPr>
              <a:t>作者前两次到周庄的感受不同，分别是： “水墨画”和 “版画”。两者有何不同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9640" y="5013360"/>
            <a:ext cx="75614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水墨画：指纯用水墨不着彩色的国画。（如图所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版　画：指用刀子或化学药品等在铜版、锌版、木版、石版、麻胶版等版面上雕刻或蚀刻后印刷出来的国画。（如图所示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763640" y="236520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仲春雨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92360" y="28940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冬天雪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92360" y="339264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春夜旅游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03640" y="238284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视觉（色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03640" y="2744640"/>
            <a:ext cx="158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视觉（色彩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听觉（声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03640" y="33512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视觉（色彩）听觉（声音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21000" y="241452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水墨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148360" y="28717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版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98880" y="33591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如梦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12000" y="23907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淡雅迷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012000" y="27194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色彩鲜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万般柔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0360" y="335124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多姿多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691040" y="23749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略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1040" y="28623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略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6360" y="3351240"/>
            <a:ext cx="6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d2082a"/>
                </a:solidFill>
                <a:latin typeface="Arial"/>
              </a:rPr>
              <a:t>详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050920" y="1538280"/>
            <a:ext cx="7093080" cy="53197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0" y="809640"/>
            <a:ext cx="8064360" cy="604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2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0" y="0"/>
            <a:ext cx="9144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总体印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2003_1110_135504AA"/>
          <p:cNvPicPr/>
          <p:nvPr/>
        </p:nvPicPr>
        <p:blipFill>
          <a:blip r:embed="rId2"/>
          <a:stretch/>
        </p:blipFill>
        <p:spPr>
          <a:xfrm>
            <a:off x="0" y="2143080"/>
            <a:ext cx="4143240" cy="4581720"/>
          </a:xfrm>
          <a:prstGeom prst="rect">
            <a:avLst/>
          </a:prstGeom>
          <a:ln w="0">
            <a:noFill/>
          </a:ln>
        </p:spPr>
      </p:pic>
      <p:sp>
        <p:nvSpPr>
          <p:cNvPr id="126" name="WordArt 6"/>
          <p:cNvSpPr txBox="1"/>
          <p:nvPr/>
        </p:nvSpPr>
        <p:spPr>
          <a:xfrm rot="5610600">
            <a:off x="3014640" y="4200120"/>
            <a:ext cx="3726000" cy="1100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小桥流水人家</a:t>
            </a:r>
            <a:endParaRPr b="1" i="1" lang="en-US" sz="4000" spc="1" strike="noStrike">
              <a:ln w="9360">
                <a:solidFill>
                  <a:srgbClr val="3366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1643040" y="928800"/>
            <a:ext cx="7500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河水、波光、倒影、石桥、小舟、行人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———</a:t>
            </a:r>
            <a:r>
              <a:rPr b="0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                  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0" i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大概只有在威尼斯才能看到。</a:t>
            </a:r>
            <a:r>
              <a:rPr b="0" i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0" y="4287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…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楷体_GB2312"/>
              </a:rPr>
              <a:t>这里的水，还有一切和水连在一起的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9" descr="E:\语文版8（上）光盘资源\第七单元\20130501110435_SiE53.thumb.600_0.jpeg"/>
          <p:cNvPicPr/>
          <p:nvPr/>
        </p:nvPicPr>
        <p:blipFill>
          <a:blip r:embed="rId3"/>
          <a:stretch/>
        </p:blipFill>
        <p:spPr>
          <a:xfrm>
            <a:off x="5572080" y="1785960"/>
            <a:ext cx="3286080" cy="48499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0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06:49:14Z</dcterms:created>
  <dc:creator>User</dc:creator>
  <dc:description/>
  <dc:language>en-US</dc:language>
  <cp:lastModifiedBy>User</cp:lastModifiedBy>
  <dcterms:modified xsi:type="dcterms:W3CDTF">2016-09-06T10:20:17Z</dcterms:modified>
  <cp:revision>8</cp:revision>
  <dc:subject/>
  <dc:title>幻灯片 1</dc:title>
</cp:coreProperties>
</file>