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png" ContentType="image/png"/>
  <Override PartName="/ppt/media/image2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5A1C-727C-4088-981C-B5DD9376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DEEA-3335-4CC7-8C17-18CADB78A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E707-0CE5-460E-90BA-1A1F9F5B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5710-2DAB-4272-8FA8-E9FDF7A1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2CDEA-715D-4731-B63D-EE39318C4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120B3-5893-46D6-B1A1-63DB0C9C1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B64B-977A-4CC5-BF3A-543BBB745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EEB86-001B-4507-82C6-5F4BFEC8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CC572-64C7-4DB3-895B-FEFD6B7E4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DCD4-CBD6-4FC7-8E93-DA2F1342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4480-4E6B-4CE7-B338-65B7BF56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D81EA-90BC-4E72-B7B7-5EABC5F21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01E86-6BA6-43BE-86B6-EB674DCF0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EBB1E-E12A-419B-ADE5-324625B9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E5C2-9561-4ECC-8C59-168A2743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819F-F83B-4959-BBE6-69085DBB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892C6-9854-42FC-A2BF-C9D2A839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D767D8-93A0-4A51-9822-C88FADE57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5B81D-FAC4-4660-95C0-24174ADD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8757B5-95A5-49AB-A118-8C362064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FBA29-DFA9-4F0E-B213-CDE257813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E6F47-5C03-48C0-B208-2B0BD37BB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C39C-4240-4BF0-96A9-B7AC3485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BD09D-2095-48B3-890A-20CD856F7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12C6FB-5C2A-4E0B-92D8-DAC849AD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8DFC7-8AD6-4BE6-954E-18211C470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86195-A230-45C6-AC83-1992589EC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F047-13F6-46D0-9D66-A9476003F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617E99-EDFD-4187-AF68-0AE30FBD0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FBCEE-6FE7-4541-9AAF-481F9B2CC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13F385-267D-4AA7-85D3-0C963FE8F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2A7B3-A5C1-4CD8-B260-F743A369C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CBB915-DE94-40E5-94EB-D39B3E3B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FD47-297F-4FD7-A2B2-FC97E4DC4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2163A5-7C84-4E65-8DE4-526FAAB86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B10B4-3465-4BA3-94C3-6AE4A73E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1D19-B3B8-4F85-8F38-45F93EFB6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D444B-98FC-4835-8341-D42CB5D6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49FA-F050-4D49-9287-D604DBE24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D071-ABFD-458A-B7DD-99CDC73C5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7C285C-6571-40D3-BC86-CE7CFF5B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76D3-60C0-446C-8056-4B874D38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34622-CBAE-49E3-98D3-ECDE22A2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18B0-D413-4C93-B9F7-142CC5A47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9740-1088-407B-B0BE-B3857E598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9D37-4AE5-49FA-A655-057D373A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B2B8-09E7-4BBC-8D06-993E4788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7FE9A-ACBB-4812-9264-1932E221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8564C-02DF-4A35-A8D0-4F760D296E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9FC93-DA33-47F3-A26C-0576DC9225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C2CA0-71F1-4AE7-8535-1C8B8A95450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0" y="1816200"/>
            <a:ext cx="9144000" cy="5041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1341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0" y="1297080"/>
            <a:ext cx="9144000" cy="523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35B1F-1A67-4A1C-816D-2C558CA6439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cn/imgres?imgurl=http://www.microfotos.com/bbs/attachment.php%3Faid%3D34520%26noupdate%3Dyes&amp;imgrefurl=http://www.microfotos.com/bbs/viewthread.php%3Ftid%3D616%26page%3D2&amp;usg=___3yiIcE7OQ9bFT67mBJCAMOGaag=&amp;h=700&amp;w=567&amp;sz=253&amp;hl=zh-CN&amp;start=24&amp;um=1&amp;tbnid=6gLpkGikU4I5tM:&amp;tbnh=140&amp;tbnw=113&amp;prev=/images%3Fq%3D%25E6%25B0%25B4%25E5%25A2%25A8%25E5%2591%25A8%25E5%25BA%2584%26ndsp%3D20%26hl%3Dzh-CN%26sa%3DN%26start%3D20%26um%3D1%26newwindow%3D1" TargetMode="External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3059280" y="2637000"/>
            <a:ext cx="34290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0" spc="-1" strike="noStrike">
                <a:solidFill>
                  <a:srgbClr val="000000"/>
                </a:solidFill>
                <a:latin typeface="华文行楷"/>
                <a:ea typeface="华文行楷"/>
              </a:rPr>
              <a:t>语 文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492360" y="4149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八年级 上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395280" y="907920"/>
            <a:ext cx="4464000" cy="51850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859280" y="917640"/>
            <a:ext cx="38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贞丰桥因周庄古名贞丰里而得名。明、清时皆有重修，风貌如初，仍傲然跨河而立。桥北西侧，曾开设德记酒店，地处桥旁与闹市中间，顾客把酒临风， 看窗外波光桥影，舟楫往来，桥楼互衬，风光无限，美不胜收。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260280"/>
            <a:ext cx="46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39640" y="33336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贞丰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5256000" cy="48956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84360" y="549360"/>
            <a:ext cx="331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富安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24360" y="1844640"/>
            <a:ext cx="3095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富安桥始建于元至正十五年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355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），后由沈万三之弟沈万四出资重建，成石拱桥，改名富安桥，期望既富又安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179280" y="620640"/>
            <a:ext cx="5761080" cy="5391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6156360" y="86184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双桥是指位于周庄中心位置的世德和永安两桥，建于明代，因出现于旅美画家陈逸飞的油画《故乡的回忆》中而闻名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539640" y="40464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</a:rPr>
              <a:t>古老的石桥，一座有一座的形状，一座有一座的风格，过一座桥，便换一道风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6920" y="177336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99cc00"/>
                </a:solidFill>
                <a:latin typeface="Arial"/>
              </a:rPr>
              <a:t>还有什么比在周庄的小河里泛舟更富有诗意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932360" y="2565360"/>
            <a:ext cx="3887640" cy="360036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63640" y="2708280"/>
            <a:ext cx="71640" cy="792000"/>
          </a:xfrm>
          <a:prstGeom prst="downArrow">
            <a:avLst>
              <a:gd name="adj1" fmla="val 50000"/>
              <a:gd name="adj2" fmla="val 2763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68360" y="3789360"/>
            <a:ext cx="4032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跟作者一起“乘船游镇”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4000" y="54900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朗读课文，概括作者三次游览周庄的印象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2060640"/>
            <a:ext cx="84438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仲春雨雾笼罩的水墨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冬天黑白分明的版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春夜张灯结彩的七彩梦幻图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5734080"/>
            <a:ext cx="15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360360" y="4465800"/>
            <a:ext cx="2556000" cy="169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3419640" y="4437000"/>
            <a:ext cx="2376360" cy="172872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6156360" y="4437000"/>
            <a:ext cx="244800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30040" y="490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找出文中作者描述自己第一二次由周庄所见所闻所感的重点句子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28480" y="2276640"/>
            <a:ext cx="829152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“……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天下着小雨，古镇被飘动的雨雾笼罩着，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桥和屋脊都隐约出没在雨雾中，打着伞坐船游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看到的是一幅画在宣纸上的水墨画。”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348000" y="3933720"/>
            <a:ext cx="5256360" cy="237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8000" y="2997360"/>
            <a:ext cx="8856720" cy="36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  “……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在耀眼的阳光下，古镇上到处可以看到斑斑积雪，在路边，在屋脊，在树梢，在河边的石街上，一滩滩积雪反射着阳光，一片晶莹，令人目眩。</a:t>
            </a:r>
            <a:r>
              <a:rPr b="0" lang="zh-CN" sz="2600" spc="-1" strike="noStrike">
                <a:solidFill>
                  <a:srgbClr val="ff0000"/>
                </a:solidFill>
                <a:latin typeface="宋体"/>
              </a:rPr>
              <a:t>古老的砖石和清新的白雪参差交织，黑白分明，像是一幅色彩对比强烈的版画。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在阳光下，积雪正在融化，到处可以听见滴水和流水的声音，小街的屋檐下在滴水，石拱桥的的栏杆和桥洞在淌水，小河的石河沿上，往下流淌的雪水仿佛正从石缝中渗出来。</a:t>
            </a:r>
            <a:r>
              <a:rPr b="0" lang="zh-CN" sz="2600" spc="-1" strike="noStrike">
                <a:solidFill>
                  <a:srgbClr val="ff0000"/>
                </a:solidFill>
                <a:latin typeface="宋体"/>
              </a:rPr>
              <a:t>细细谛听，水声重重叠叠，如诉如泣，仿佛神秘悠远的江南丝竹，裹着万般柔情，从地下袅袅回旋上升。</a:t>
            </a:r>
            <a:r>
              <a:rPr b="0" lang="zh-CN" sz="2600" spc="-1" strike="noStrike">
                <a:solidFill>
                  <a:srgbClr val="000000"/>
                </a:solidFill>
                <a:latin typeface="宋体"/>
              </a:rPr>
              <a:t>……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482436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611280" y="333360"/>
            <a:ext cx="8316720" cy="171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99"/>
                </a:solidFill>
                <a:latin typeface="Arial"/>
                <a:ea typeface="华文新魏"/>
              </a:rPr>
              <a:t>合作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作者第三次到周庄时，重点描写了周庄的什么景象？他是按照怎样的时间和空间的顺序来写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8200" y="2276640"/>
            <a:ext cx="79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作者写第三次夜游周庄水乡，以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时间先后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为序，空间顺序由岸上写到水上，坐船夜游，描绘水中的朦胧景色。再写小船经过拱桥，船摇过桥洞，最后到古镇尽头。然后写古镇节日夜空的礼花及河中的倒影，最后写古镇的欢呼，由“天上”写至“地上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-360" y="156636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作者并没有直接告诉我们这是周庄，而是安排了一个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楷体"/>
              </a:rPr>
              <a:t>特写镜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：“一支弯曲的木橹，在水面上一来一回悠然搅动”，随着这搅动的木橹，我们也不知不觉走进了这个世界。原来这个世界里还有这么多丰富的东西：桥、楼、树、云、鸟，还有那美丽的似彩绸一般的水面，真是让人浮想联翩，无限向往。达到了这个目的，作者才笔锋一转，告诉你这就是周庄，而且是富有诗意的周庄，于是牵引着你不断随他的文字探索。这种独特的开头方式安排得非常巧妙，也很有吸引力，值得我们学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592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2. 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一支弯曲的木橹，在水面上一来一回悠然搅动”，文章开头没有直接写周庄，而是安排这样的特写画面，有何目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53964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滴水和流水的声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斑斑”“袅袅”“重重叠叠”等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叠词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运用，产生了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音韵的和谐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；“在路边，在屋脊，在树梢，在河边的石阶上，一摊摊积雪反射着阳光，一片晶莹，令人目眩”，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长短句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的交叉运用，形成</a:t>
            </a: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"/>
              </a:rPr>
              <a:t>节奏的参差美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476280"/>
            <a:ext cx="8569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3.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作者第二次到周庄时，除描写色彩以外，还写到了什么？作者在语言运用方面又有什么特点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2276640"/>
            <a:ext cx="9144000" cy="14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 </a:t>
            </a:r>
            <a:r>
              <a:rPr b="1" lang="en-US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周庄水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赵丽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2411280" y="3949560"/>
            <a:ext cx="504036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详略不同——前两次写得简略，第三次游周庄为详写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比拟不同——第一次把周庄比作“水墨画”，第二次比作“版画”，第三次则比作“神奇的童话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角度不同——第一次仅从视角上描绘，第二次第三次从视听的双重角度，不仅有“色”，而且写“声”，第三次更以动静相结合的手法将周庄写“神”了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476280"/>
            <a:ext cx="856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4.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研读课文中作者三次游周庄的段落，思考作者在写法上有哪些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5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468360" y="55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本文写作特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．文章开头安排特写镜头，独具匠心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．文中写景语言清新优美，抒情性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3400" spc="-1" strike="noStrike">
                <a:solidFill>
                  <a:srgbClr val="000000"/>
                </a:solidFill>
                <a:latin typeface="楷体"/>
                <a:ea typeface="楷体"/>
              </a:rPr>
              <a:t>．文中运用了不少生动而贴切的比喻，使所状之物活灵活现，如在眼前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参考：管弦声“飘绕不绝”，这个“绕”字将丝竹之声写活了，因为“绕”完全是主动的行为，而不是客观的，能够主动飘绕河面该是怎样地富有灵气呀！不禁让我们想起“余音绕梁，三日不绝”这句话来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抚摸”将阳光拟人化。周庄雪后的阳光迫不及待地想来看看她的孩子，也使下文的古镇、积雪有了生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24000" y="115920"/>
            <a:ext cx="84247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检测巩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1.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飘绕不绝”这个词好在什么地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如果将“阳光已经穿破云层抚摸大地”一句中的“抚摸”一词改为“照耀”好不好，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与《巴东三峡》比，本文在写法上有什么不同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《巴》：按时间、空间顺序记叙作者游历的全过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"/>
              </a:rPr>
              <a:t>《周》：记叙的对象、空间相同，但随时间的转换，景色各异，三次游周庄的所见和感受都不相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4" dur="20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9" dur="20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539640" y="1628640"/>
            <a:ext cx="813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仔细体会揣摩语言，完成课后第二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明确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写冬日白天的雪景，着重从滴水、流水的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声音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面来表现周庄之水声充满柔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．写春夜河上所见到的五彩斑斓的礼花。着重从</a:t>
            </a:r>
            <a:r>
              <a:rPr b="1" lang="zh-CN" sz="3200" spc="-1" strike="noStrike">
                <a:solidFill>
                  <a:srgbClr val="ff3300"/>
                </a:solidFill>
                <a:latin typeface="楷体"/>
                <a:ea typeface="楷体"/>
              </a:rPr>
              <a:t>色彩</a:t>
            </a:r>
            <a:r>
              <a:rPr b="1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方面来描写周庄水乡绚丽多姿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50920" y="549360"/>
            <a:ext cx="51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课后习题解答参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89308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、基础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蓝色字注音全都正确的一项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熟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xián)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搅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jiǎo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斑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bān)(lán)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璀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uī)(cà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彩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绸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hóu)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连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uì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仲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zhǒng)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jǐ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bīn)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隐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匿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nì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dì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)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参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cēn)(cī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fù)    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眩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xiá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屋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yán)              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渗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shèn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67280" y="1197000"/>
            <a:ext cx="2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842472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结合句意解释加点词语不正确的一项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相看两不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只有敬亭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厌：满足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船舱里，有几个当地农民在摆弄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丝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丝弦：船舱里用丝制成的装饰物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古镇被飘动的雨雾笼罩着，石桥和屋脊都隐约出没在飘忽的雨雾中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没：时而出现时而消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对下列句子所用修辞手法归纳正确的一项是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    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细细谛听，水声重重叠叠，如诉如泣，仿佛神秘幽远的江南丝竹，裹着万般柔情，从地下袅袅回旋上升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比喻、排比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拟人、比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比喻、拟人、通感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拟人、通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48360" y="333360"/>
            <a:ext cx="2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740720" y="3716280"/>
            <a:ext cx="2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324000" y="47628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．站在桥上的行人低头看河里的船，坐在船上的乘客抬头看桥上的人，相看两不厌，双方的眼帘中都是动人的景象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能写出“相看两不厌”整首诗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Arial"/>
              </a:rPr>
              <a:t>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读上面的句子你能想出诗人卞之琳的断章吗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___________________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2205000"/>
            <a:ext cx="86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行楷体"/>
              </a:rPr>
              <a:t>众鸟高飞尽，孤云独去闲。相看两不厌，只有敬亭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4000" y="3933720"/>
            <a:ext cx="838836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站在桥上看风景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看风景的人在楼上看你；明月装饰了你的窗子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你装饰了别人的梦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68360" y="476280"/>
            <a:ext cx="424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思考：作者调动了什么手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写自己第三次游周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 rot="5400000">
            <a:off x="-396000" y="3933000"/>
            <a:ext cx="360036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移步换景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  <p:sp>
        <p:nvSpPr>
          <p:cNvPr id="237" name=""/>
          <p:cNvSpPr/>
          <p:nvPr/>
        </p:nvSpPr>
        <p:spPr>
          <a:xfrm>
            <a:off x="2268360" y="2779560"/>
            <a:ext cx="32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船经过一座拱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270828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水面突然变得清澈剔透，仿佛是有晃荡的荧光从水下射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95640" y="422100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小船划到了古镇的尽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4221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灯光暗淡了，小河也恢复了它本来的面目，平静的水面上闪烁着点点星光……小小的光点变成满天盛开的缤纷礼花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435640" y="333360"/>
            <a:ext cx="2663640" cy="2181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8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9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496360" cy="56898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492360" y="185760"/>
            <a:ext cx="36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城威尼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3024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468360" y="907920"/>
            <a:ext cx="8280360" cy="56660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547640" y="404640"/>
            <a:ext cx="316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6560" y="26028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云南丽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60360" y="189000"/>
            <a:ext cx="691200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4859280" cy="561672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3"/>
          <a:stretch/>
        </p:blipFill>
        <p:spPr>
          <a:xfrm>
            <a:off x="4932360" y="836640"/>
            <a:ext cx="4211640" cy="568944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3780000" y="6336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行楷体"/>
                <a:ea typeface="行楷体"/>
              </a:rPr>
              <a:t>周     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692280"/>
            <a:ext cx="4572000" cy="554508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4643280" y="692280"/>
            <a:ext cx="4500720" cy="55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681440" cy="56898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5221440" y="1701720"/>
            <a:ext cx="36716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黄山集中国山川之美，周庄集中国水乡之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      —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吴冠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3T03:04:02Z</dcterms:created>
  <dc:creator> </dc:creator>
  <dc:description> </dc:description>
  <cp:keywords/>
  <dc:language>en-US</dc:language>
  <cp:lastModifiedBy>微软用户</cp:lastModifiedBy>
  <dcterms:modified xsi:type="dcterms:W3CDTF">2016-04-21T09:01:35Z</dcterms:modified>
  <cp:revision>1</cp:revision>
  <dc:subject>  </dc:subject>
  <dc:title> </dc:title>
</cp:coreProperties>
</file>