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D2B84-4C2A-4269-8145-8AED4B730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CA4C-5874-4E01-99A7-555A4CE7A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82C241-0D00-49F0-98CB-90DA2BEB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71DBD-16D9-4B6E-8255-066D3A7F5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BA23C6-FF7F-43D5-91D0-AB6D4C77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760035-F6C1-4612-8801-F47E4789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962D6B-97DE-44B1-8C5D-C3FA7602A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C42519-D4E4-4E5D-BD70-60B9D109F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54C3B-BBC2-40B5-89E6-7117F8B0A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B7582F-FECF-4CD5-847D-B7FA9F753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038DD-F16C-4363-84A1-3A757584E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9BEF-88DA-4235-A394-64C606C15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B44A-0A13-48AC-9235-C1EED92B4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7510B-12E0-47EA-87F9-EF50A8390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D358-D07A-4863-AF26-22211FC9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2EE0-885D-46BC-B42A-74BD43EBB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CFE3A-3319-4A25-8DC9-727F4A5F9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78C8-D488-4183-B155-020232924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988FA-7F24-48DF-AA91-DB0BE69E9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83CAD-B995-4685-B698-F4038CFCE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C3E5-6C0B-4DAE-9EFD-01DC2E74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5D61A-D127-4816-96B9-50F2BCC21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5CC8-EC42-4DEE-9084-427A3295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FA25A-E953-49E5-B7FB-9BA93380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EA960-910B-471B-BD01-B0F39AA1E0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4CC44-0791-4BBA-943B-8339963F8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8264A4-45DE-477D-9478-E718A1E5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7AAFB-6A98-48B0-B99D-CC283576F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2C6EDE-18DD-42A4-8102-8F23C4F1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AAEAB6-41EF-4493-B871-EDE6865A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C4E68-F081-46EF-AC50-837630FA2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0860-E327-4B34-9174-A3C231CEF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E1636-C3F5-4229-A36C-ACAFA515F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A327A-FB00-4CEF-9655-5E21971EE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C35C7C-A322-4C71-99A2-CFD88440C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2BFDD-2676-4867-B0A2-A10666D13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BF8B4-3A3B-4366-8D64-01C01CCDA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94D94-83C2-496B-A57E-435EC2E96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E297C-2CC2-42BB-8F8A-1A33AA20B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A92B1-4EDC-472C-93B7-091A3EB68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7C8A53-ADE3-4A7D-ACED-B1DA94638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473BA-6661-4606-AC16-5C409F2C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F338-F113-491B-9747-9A4B956D5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CDBF0D-A957-4F17-B446-D8F40C37F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D2621D-48A5-4C0C-8EE6-1B3F86470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2D9E7-871E-4234-AC32-D5D4A0036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DFEDD-22E4-4909-9D30-2DDF6332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147D4-1B29-461E-991E-0A398AD24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98474-E2D8-47FB-91B9-B424A357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184B2-5737-411D-86EC-B2C251432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93618E-2E04-4E7C-A0CE-DC783B6D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9798CB-1A35-4F56-B348-2A8F6D1E3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5A2F35-5A16-4C7E-BB64-A0C8BBCE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2D44-FD3D-4B52-9C77-52F1792AC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7B9ACE-F758-4AA6-91C7-73F7CA5A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FFB90-41A1-4791-A5B4-238CD727E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021510-C358-43A0-A49B-5B5CD999C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5F39C-E96C-4ACA-A164-3E5128F4D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9011F3-B761-46AE-876B-7699B83F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562F1A-9A3E-4EF7-8B7B-BD3304E9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E1941-6C73-4D6E-86FC-B9F31BC41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7E503-9C5B-47C8-839F-D74F7116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4D789D-E226-45A9-A5A3-0C3BE012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693B1-0EDA-4922-96EB-8A610710C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48E7-9C82-442B-8E19-076A62EB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B2F1D3-EC26-46ED-A0B0-794E33D90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A5255-932A-411D-BE2D-E030493D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C477C-7487-4B2D-AE67-C72C8D60D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1F445-DE7D-4E35-A57F-6670C79B5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9C4311-FF7D-4ED4-894A-56BD4388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2878A-1855-461A-9CC5-C7180CBBF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A3F9F4-8E3D-4CF5-968D-816EE2872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4EEB9-01F2-41BA-A677-532DF763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EDDC1F-DCE9-4141-ACB2-D8728B3A6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EA6BB-0C4D-4234-826D-0A33CCEA9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1261-F480-48A7-9681-858372DB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8C3E0-627A-4425-88E9-C567724A2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0FA92F-C090-4236-988B-B0812CB0A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7EA05-B9C7-4F1E-AD06-C76E5BE63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32E6AA-B2E9-4A7E-8626-162CF2A74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B74A03-CA6F-416B-A539-902AD104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58FA4-00FD-4F07-9F89-C7ED6B6D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89DB7-DC0C-4D27-A49E-C87B59D2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B845A-F263-4817-8A17-1700A5CF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BDBBD4-7156-4B1F-9FAE-F81F86A6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275B4-B572-47FF-9648-C0446DC47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A9C-66B7-4006-B328-6A6B0AF05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2363AF-B147-405A-AEB6-20599E573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B76F35-77D0-4DBD-90B6-9FCA21568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855D8-ACFE-471B-949B-EA81C3CBA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76D838-3CC7-4F9A-9416-FCC7330C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90430-1660-4B6E-9E6B-985E61892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5F5164-629D-402C-A3C4-707F50F1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1E936A-30EC-4A0F-8064-8A945240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3E989-1CC9-4B11-BC57-73E3BC6B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DB7B29-4334-4237-8F37-EFA33567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6EDDDA-E4DA-490A-9DEF-A86A28C59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4B57-CE99-4261-BFA9-6C710606B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9C89B3-0F3A-4A07-8399-2339AFD8A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BE8FF-738A-4D5A-8039-0C16286A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50803-CC95-4073-B20A-98B1C354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A9533-8EAE-458E-9B02-573AD20F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32786F-DEC9-45B2-ADE0-C6FDC174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1C1370-3F68-4D31-B8D3-1049B85F6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006DCE-6F0C-4E52-9CA6-3E159C13B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4A1FBB-DAAB-4FF5-8835-48C4DB09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A2D216-F4F9-4566-9FB4-7D226F36B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B1EC3-ED1C-4042-9B54-4928C8152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5312-0850-4E43-B47D-7CBE3D58C4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3073"/>
          <p:cNvSpPr/>
          <p:nvPr/>
        </p:nvSpPr>
        <p:spPr>
          <a:xfrm rot="18427200">
            <a:off x="7776720" y="-14400"/>
            <a:ext cx="1162080" cy="208296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A6600-DB22-4F1E-8735-AA393D1FA8BD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任意多边形 3079"/>
          <p:cNvSpPr/>
          <p:nvPr/>
        </p:nvSpPr>
        <p:spPr>
          <a:xfrm rot="18427200">
            <a:off x="7863480" y="22320"/>
            <a:ext cx="1165320" cy="209736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" name="任意多边形 3080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9" name="组合 3081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任意多边形 3082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1" name="任意多边形 3083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任意多边形 3084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3" name="任意多边形 3085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4" name="任意多边形 3086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5" name="任意多边形 3087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6" name="任意多边形 3088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7" name="任意多边形 3089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8" name="任意多边形 3090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59" name="组合 3091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组合 3092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61" name="任意多边形 3093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2" name="任意多边形 3094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3" name="任意多边形 3095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任意多边形 3096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5" name="任意多边形 3097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66" name="任意多边形 3098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67" name="组合 3099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任意多边形 3100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69" name="任意多边形 3101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0" name="任意多边形 3102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1" name="任意多边形 3103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2" name="任意多边形 3104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3" name="任意多边形 3105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4" name="任意多边形 3106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75" name="任意多边形 3107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组合 3108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任意多边形 3109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78" name="任意多边形 3110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79" name="组合 3111"/>
          <p:cNvGrpSpPr/>
          <p:nvPr/>
        </p:nvGrpSpPr>
        <p:grpSpPr>
          <a:xfrm>
            <a:off x="7169760" y="-84960"/>
            <a:ext cx="2430720" cy="2251440"/>
            <a:chOff x="7169760" y="-84960"/>
            <a:chExt cx="2430720" cy="2251440"/>
          </a:xfrm>
        </p:grpSpPr>
        <p:grpSp>
          <p:nvGrpSpPr>
            <p:cNvPr id="80" name="组合 3112"/>
            <p:cNvGrpSpPr/>
            <p:nvPr/>
          </p:nvGrpSpPr>
          <p:grpSpPr>
            <a:xfrm>
              <a:off x="7169760" y="-84960"/>
              <a:ext cx="2430720" cy="2251440"/>
              <a:chOff x="7169760" y="-84960"/>
              <a:chExt cx="2430720" cy="2251440"/>
            </a:xfrm>
          </p:grpSpPr>
          <p:sp>
            <p:nvSpPr>
              <p:cNvPr id="81" name="任意多边形 3113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grpSp>
            <p:nvGrpSpPr>
              <p:cNvPr id="82" name="组合 3114"/>
              <p:cNvGrpSpPr/>
              <p:nvPr/>
            </p:nvGrpSpPr>
            <p:grpSpPr>
              <a:xfrm>
                <a:off x="7169760" y="-84960"/>
                <a:ext cx="2430720" cy="2251440"/>
                <a:chOff x="7169760" y="-84960"/>
                <a:chExt cx="2430720" cy="2251440"/>
              </a:xfrm>
            </p:grpSpPr>
            <p:sp>
              <p:nvSpPr>
                <p:cNvPr id="83" name="任意多边形 3115"/>
                <p:cNvSpPr/>
                <p:nvPr/>
              </p:nvSpPr>
              <p:spPr>
                <a:xfrm rot="18427200">
                  <a:off x="7874280" y="113040"/>
                  <a:ext cx="244080" cy="19800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4" name="任意多边形 3116"/>
                <p:cNvSpPr/>
                <p:nvPr/>
              </p:nvSpPr>
              <p:spPr>
                <a:xfrm rot="18427200">
                  <a:off x="8004960" y="522000"/>
                  <a:ext cx="42912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5" name="任意多边形 3117"/>
                <p:cNvSpPr/>
                <p:nvPr/>
              </p:nvSpPr>
              <p:spPr>
                <a:xfrm rot="18427200">
                  <a:off x="7702200" y="284400"/>
                  <a:ext cx="80568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6" name="任意多边形 3118"/>
                <p:cNvSpPr/>
                <p:nvPr/>
              </p:nvSpPr>
              <p:spPr>
                <a:xfrm rot="18427200">
                  <a:off x="7780320" y="-25920"/>
                  <a:ext cx="120924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7" name="任意多边形 3119"/>
                <p:cNvSpPr/>
                <p:nvPr/>
              </p:nvSpPr>
              <p:spPr>
                <a:xfrm rot="18427200">
                  <a:off x="8400600" y="1421640"/>
                  <a:ext cx="26964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8" name="任意多边形 3120"/>
                <p:cNvSpPr/>
                <p:nvPr/>
              </p:nvSpPr>
              <p:spPr>
                <a:xfrm rot="18427200">
                  <a:off x="8330400" y="1276920"/>
                  <a:ext cx="28872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89" name="任意多边形 3121"/>
                <p:cNvSpPr/>
                <p:nvPr/>
              </p:nvSpPr>
              <p:spPr>
                <a:xfrm rot="18427200">
                  <a:off x="7904160" y="326880"/>
                  <a:ext cx="288720" cy="23292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  <p:sp>
              <p:nvSpPr>
                <p:cNvPr id="90" name="任意多边形 3122"/>
                <p:cNvSpPr/>
                <p:nvPr/>
              </p:nvSpPr>
              <p:spPr>
                <a:xfrm rot="18427200">
                  <a:off x="7846200" y="217440"/>
                  <a:ext cx="2858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cc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1" name=""/>
            <p:cNvGrpSpPr/>
            <p:nvPr/>
          </p:nvGrpSpPr>
          <p:grpSpPr>
            <a:xfrm>
              <a:off x="7731000" y="133200"/>
              <a:ext cx="66240" cy="152280"/>
              <a:chOff x="7731000" y="133200"/>
              <a:chExt cx="66240" cy="152280"/>
            </a:xfrm>
          </p:grpSpPr>
          <p:sp>
            <p:nvSpPr>
              <p:cNvPr id="92" name="直接连接符 3123"/>
              <p:cNvSpPr/>
              <p:nvPr/>
            </p:nvSpPr>
            <p:spPr>
              <a:xfrm>
                <a:off x="7731000" y="133200"/>
                <a:ext cx="66240" cy="152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 txBox="1"/>
              <p:nvPr/>
            </p:nvSpPr>
            <p:spPr>
              <a:xfrm>
                <a:off x="7731000" y="133200"/>
                <a:ext cx="6624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矩形 5121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1" name="矩形 5122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2" name="矩形 5123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3" name="矩形 5124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4" name="矩形 5125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5" name="矩形 5126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矩形 5127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27DDE-672D-4C45-B036-316E772B324D}" type="slidenum">
              <a:rPr b="0" lang="zh-CN" sz="1400" spc="-1" strike="noStrike">
                <a:solidFill>
                  <a:srgbClr val="000000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BFE4F-89F5-41B5-BA95-78F7BC7D515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198ED-409C-4E3B-8281-6A071E0AAD77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任意多边形 8198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457200" y="6172200"/>
            <a:ext cx="8229600" cy="360"/>
            <a:chOff x="457200" y="6172200"/>
            <a:chExt cx="8229600" cy="360"/>
          </a:xfrm>
        </p:grpSpPr>
        <p:sp>
          <p:nvSpPr>
            <p:cNvPr id="226" name="直接连接符 8199"/>
            <p:cNvSpPr/>
            <p:nvPr/>
          </p:nvSpPr>
          <p:spPr>
            <a:xfrm>
              <a:off x="457200" y="6172200"/>
              <a:ext cx="822960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27" name=""/>
            <p:cNvSpPr txBox="1"/>
            <p:nvPr/>
          </p:nvSpPr>
          <p:spPr>
            <a:xfrm>
              <a:off x="457200" y="6172200"/>
              <a:ext cx="8229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34C90-06AC-4E7F-B171-E6833C93656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任意多边形 4097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306" name="组合 4103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307" name="任意多边形 4104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8" name="任意多边形 4105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09" name="任意多边形 4106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10" name="组合 4107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11" name="任意多边形 4108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2" name="任意多边形 4109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3" name="任意多边形 4110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4" name="任意多边形 4111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15" name="任意多边形 4112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grpSp>
        <p:nvGrpSpPr>
          <p:cNvPr id="316" name="组合 4113"/>
          <p:cNvGrpSpPr/>
          <p:nvPr/>
        </p:nvGrpSpPr>
        <p:grpSpPr>
          <a:xfrm>
            <a:off x="7791120" y="4317480"/>
            <a:ext cx="984240" cy="1162080"/>
            <a:chOff x="7791120" y="4317480"/>
            <a:chExt cx="984240" cy="1162080"/>
          </a:xfrm>
        </p:grpSpPr>
        <p:sp>
          <p:nvSpPr>
            <p:cNvPr id="317" name="任意多边形 4114"/>
            <p:cNvSpPr/>
            <p:nvPr/>
          </p:nvSpPr>
          <p:spPr>
            <a:xfrm rot="7320000">
              <a:off x="7784640" y="4653000"/>
              <a:ext cx="99828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8" name="任意多边形 4115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19" name="任意多边形 4116"/>
            <p:cNvSpPr/>
            <p:nvPr/>
          </p:nvSpPr>
          <p:spPr>
            <a:xfrm rot="7320000">
              <a:off x="7928280" y="461556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grpSp>
          <p:nvGrpSpPr>
            <p:cNvPr id="320" name="组合 4117"/>
            <p:cNvGrpSpPr/>
            <p:nvPr/>
          </p:nvGrpSpPr>
          <p:grpSpPr>
            <a:xfrm>
              <a:off x="7791120" y="4317480"/>
              <a:ext cx="984240" cy="1162080"/>
              <a:chOff x="7791120" y="4317480"/>
              <a:chExt cx="984240" cy="1162080"/>
            </a:xfrm>
          </p:grpSpPr>
          <p:sp>
            <p:nvSpPr>
              <p:cNvPr id="321" name="任意多边形 4118"/>
              <p:cNvSpPr/>
              <p:nvPr/>
            </p:nvSpPr>
            <p:spPr>
              <a:xfrm rot="7320000">
                <a:off x="7916760" y="5055480"/>
                <a:ext cx="93600" cy="9756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2" name="任意多边形 4119"/>
              <p:cNvSpPr/>
              <p:nvPr/>
            </p:nvSpPr>
            <p:spPr>
              <a:xfrm rot="7320000">
                <a:off x="7753680" y="4648680"/>
                <a:ext cx="1058760" cy="49896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3" name="任意多边形 4120"/>
              <p:cNvSpPr/>
              <p:nvPr/>
            </p:nvSpPr>
            <p:spPr>
              <a:xfrm rot="7320000">
                <a:off x="8040960" y="4756320"/>
                <a:ext cx="749160" cy="2822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4" name="任意多边形 4121"/>
              <p:cNvSpPr/>
              <p:nvPr/>
            </p:nvSpPr>
            <p:spPr>
              <a:xfrm rot="7320000">
                <a:off x="8513280" y="4552560"/>
                <a:ext cx="100080" cy="1893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25" name="任意多边形 4122"/>
              <p:cNvSpPr/>
              <p:nvPr/>
            </p:nvSpPr>
            <p:spPr>
              <a:xfrm rot="7320000">
                <a:off x="8150040" y="4753080"/>
                <a:ext cx="306360" cy="16632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</p:grpSp>
      <p:sp>
        <p:nvSpPr>
          <p:cNvPr id="326" name="任意多边形 4123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7" name="任意多边形 4124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B515A-9636-4C7C-BF4B-CCA0E3391275}" type="slidenum">
              <a:rPr b="0" lang="zh-CN" sz="1400" spc="-1" strike="noStrike">
                <a:solidFill>
                  <a:srgbClr val="000000"/>
                </a:solidFill>
                <a:latin typeface="Comic Sans MS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" name="组合 6145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70" name="组合 6146"/>
            <p:cNvGrpSpPr/>
            <p:nvPr/>
          </p:nvGrpSpPr>
          <p:grpSpPr>
            <a:xfrm>
              <a:off x="290520" y="2546280"/>
              <a:ext cx="711360" cy="474480"/>
              <a:chOff x="290520" y="2546280"/>
              <a:chExt cx="711360" cy="474480"/>
            </a:xfrm>
          </p:grpSpPr>
          <p:sp>
            <p:nvSpPr>
              <p:cNvPr id="371" name="矩形 6147"/>
              <p:cNvSpPr/>
              <p:nvPr/>
            </p:nvSpPr>
            <p:spPr>
              <a:xfrm>
                <a:off x="290520" y="2546280"/>
                <a:ext cx="437400" cy="4744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2" name="矩形 6148"/>
              <p:cNvSpPr/>
              <p:nvPr/>
            </p:nvSpPr>
            <p:spPr>
              <a:xfrm>
                <a:off x="673560" y="2546280"/>
                <a:ext cx="328320" cy="4744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grpSp>
          <p:nvGrpSpPr>
            <p:cNvPr id="373" name="组合 6149"/>
            <p:cNvGrpSpPr/>
            <p:nvPr/>
          </p:nvGrpSpPr>
          <p:grpSpPr>
            <a:xfrm>
              <a:off x="414360" y="2968560"/>
              <a:ext cx="737640" cy="474480"/>
              <a:chOff x="414360" y="2968560"/>
              <a:chExt cx="737640" cy="474480"/>
            </a:xfrm>
          </p:grpSpPr>
          <p:sp>
            <p:nvSpPr>
              <p:cNvPr id="374" name="矩形 6150"/>
              <p:cNvSpPr/>
              <p:nvPr/>
            </p:nvSpPr>
            <p:spPr>
              <a:xfrm>
                <a:off x="414360" y="2968560"/>
                <a:ext cx="421560" cy="4744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  <p:sp>
            <p:nvSpPr>
              <p:cNvPr id="375" name="矩形 6151"/>
              <p:cNvSpPr/>
              <p:nvPr/>
            </p:nvSpPr>
            <p:spPr>
              <a:xfrm>
                <a:off x="783360" y="2968560"/>
                <a:ext cx="368640" cy="4744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cc"/>
                  </a:solidFill>
                  <a:latin typeface="Arial"/>
                </a:endParaRPr>
              </a:p>
            </p:txBody>
          </p:sp>
        </p:grpSp>
        <p:sp>
          <p:nvSpPr>
            <p:cNvPr id="376" name="矩形 6152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7" name="矩形 6153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378" name="矩形 6154"/>
            <p:cNvSpPr/>
            <p:nvPr/>
          </p:nvSpPr>
          <p:spPr>
            <a:xfrm flipV="1">
              <a:off x="316080" y="3259440"/>
              <a:ext cx="8692920" cy="55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dt" idx="22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 type="ftr" idx="23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 type="sldNum" idx="2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BEE6-6737-44AA-A998-B602F2B47363}" type="slidenum">
              <a:rPr b="0" lang="zh-CN" sz="1400" spc="-1" strike="noStrike">
                <a:solidFill>
                  <a:srgbClr val="1c1c1c"/>
                </a:solidFill>
                <a:latin typeface="Tahoma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任意多边形 9222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81080" y="3962520"/>
            <a:ext cx="6512040" cy="360"/>
            <a:chOff x="1981080" y="3962520"/>
            <a:chExt cx="6512040" cy="360"/>
          </a:xfrm>
        </p:grpSpPr>
        <p:sp>
          <p:nvSpPr>
            <p:cNvPr id="422" name="直接连接符 9223"/>
            <p:cNvSpPr/>
            <p:nvPr/>
          </p:nvSpPr>
          <p:spPr>
            <a:xfrm>
              <a:off x="1981080" y="3962520"/>
              <a:ext cx="6512040" cy="0"/>
            </a:xfrm>
            <a:prstGeom prst="line">
              <a:avLst/>
            </a:prstGeom>
            <a:ln w="19080">
              <a:solidFill>
                <a:srgbClr val="cc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423" name=""/>
            <p:cNvSpPr txBox="1"/>
            <p:nvPr/>
          </p:nvSpPr>
          <p:spPr>
            <a:xfrm>
              <a:off x="1981080" y="3962520"/>
              <a:ext cx="6512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2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26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5C2D-9C2E-431A-B79D-5B1462236C61}" type="slidenum">
              <a:rPr b="0" lang="zh-CN" sz="1200" spc="-1" strike="noStrike">
                <a:solidFill>
                  <a:srgbClr val="000000"/>
                </a:solidFill>
                <a:latin typeface="Garamond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665520" y="981000"/>
            <a:ext cx="5478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33cc"/>
                </a:solidFill>
                <a:latin typeface="Arial"/>
                <a:ea typeface="宋体"/>
              </a:rPr>
              <a:t>周庄水韵</a:t>
            </a:r>
            <a:endParaRPr b="0" lang="en-US" sz="7200" spc="-1" strike="noStrike">
              <a:solidFill>
                <a:srgbClr val="007572"/>
              </a:solidFill>
              <a:latin typeface="Arial"/>
            </a:endParaRPr>
          </a:p>
        </p:txBody>
      </p:sp>
    </p:spTree>
  </p:cSld>
  <p:transition spd="slow">
    <p:wheel spokes="2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图片 20483" descr="81bOOOPIC9b"/>
          <p:cNvPicPr/>
          <p:nvPr/>
        </p:nvPicPr>
        <p:blipFill>
          <a:blip r:embed="rId1"/>
          <a:stretch/>
        </p:blipFill>
        <p:spPr>
          <a:xfrm>
            <a:off x="-1038240" y="-1677960"/>
            <a:ext cx="11010960" cy="9644040"/>
          </a:xfrm>
          <a:prstGeom prst="rect">
            <a:avLst/>
          </a:prstGeom>
          <a:ln w="0">
            <a:noFill/>
          </a:ln>
        </p:spPr>
      </p:pic>
      <p:sp>
        <p:nvSpPr>
          <p:cNvPr id="516" name="文本框 20484"/>
          <p:cNvSpPr/>
          <p:nvPr/>
        </p:nvSpPr>
        <p:spPr>
          <a:xfrm>
            <a:off x="5452200" y="-577440"/>
            <a:ext cx="2923560" cy="819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当读者还沉浸在作者描绘的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画一般的周庄中时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作者是怎么从周庄的景色，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写到实实在在的周庄之旅的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作者是通过什么过渡的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文本框 20485"/>
          <p:cNvSpPr/>
          <p:nvPr/>
        </p:nvSpPr>
        <p:spPr>
          <a:xfrm>
            <a:off x="3780000" y="692280"/>
            <a:ext cx="58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作者说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个外乡人，来到周庄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印象最深的莫过于这里的水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还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切和水连在一起的事物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8" name="文本框 20486"/>
          <p:cNvSpPr/>
          <p:nvPr/>
        </p:nvSpPr>
        <p:spPr>
          <a:xfrm>
            <a:off x="2556000" y="4149720"/>
            <a:ext cx="658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这一句话 ，承上启下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带入了后文的作者作为一个外乡人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来游周庄的水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2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9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dur="indefinite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06" dur="1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/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1" dur="1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1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16" dur="1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/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21" dur="10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7" dur="indefinite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21507" descr="20090502135229-625383424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21508" descr="20079281940545_2"/>
          <p:cNvPicPr/>
          <p:nvPr/>
        </p:nvPicPr>
        <p:blipFill>
          <a:blip r:embed="rId2"/>
          <a:stretch/>
        </p:blipFill>
        <p:spPr>
          <a:xfrm>
            <a:off x="0" y="0"/>
            <a:ext cx="9144000" cy="9748800"/>
          </a:xfrm>
          <a:prstGeom prst="rect">
            <a:avLst/>
          </a:prstGeom>
          <a:ln w="0">
            <a:noFill/>
          </a:ln>
        </p:spPr>
      </p:pic>
      <p:sp>
        <p:nvSpPr>
          <p:cNvPr id="523" name="文本框 21509"/>
          <p:cNvSpPr/>
          <p:nvPr/>
        </p:nvSpPr>
        <p:spPr>
          <a:xfrm>
            <a:off x="447840" y="1039680"/>
            <a:ext cx="83721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阅读第四自然段，回答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作者一共几次来到周庄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?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，本段中，作者写了哪几次周庄之游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文本框 21510"/>
          <p:cNvSpPr/>
          <p:nvPr/>
        </p:nvSpPr>
        <p:spPr>
          <a:xfrm>
            <a:off x="1816200" y="2263680"/>
            <a:ext cx="549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作者一共三次来到周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5" name="文本框 21511"/>
          <p:cNvSpPr/>
          <p:nvPr/>
        </p:nvSpPr>
        <p:spPr>
          <a:xfrm>
            <a:off x="1692360" y="4782960"/>
            <a:ext cx="555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写的是前两次的游周庄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66" dur="20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71" dur="20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图片 22530" descr="20090502135229-625383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8" name=""/>
          <p:cNvGraphicFramePr/>
          <p:nvPr/>
        </p:nvGraphicFramePr>
        <p:xfrm>
          <a:off x="468360" y="476280"/>
          <a:ext cx="8496360" cy="6381720"/>
        </p:xfrm>
        <a:graphic>
          <a:graphicData uri="http://schemas.openxmlformats.org/drawingml/2006/table">
            <a:tbl>
              <a:tblPr/>
              <a:tblGrid>
                <a:gridCol w="1511280"/>
                <a:gridCol w="3024360"/>
                <a:gridCol w="3960720"/>
              </a:tblGrid>
              <a:tr h="107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第一次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第二次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天气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景色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29" name="文本框 22553"/>
          <p:cNvSpPr/>
          <p:nvPr/>
        </p:nvSpPr>
        <p:spPr>
          <a:xfrm>
            <a:off x="2195640" y="1773360"/>
            <a:ext cx="25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仲春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0" name="文本框 22554"/>
          <p:cNvSpPr/>
          <p:nvPr/>
        </p:nvSpPr>
        <p:spPr>
          <a:xfrm>
            <a:off x="6733080" y="1668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冬天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1" name="文本框 22555"/>
          <p:cNvSpPr/>
          <p:nvPr/>
        </p:nvSpPr>
        <p:spPr>
          <a:xfrm>
            <a:off x="2195640" y="2637000"/>
            <a:ext cx="32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天下着小雨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文本框 22556"/>
          <p:cNvSpPr/>
          <p:nvPr/>
        </p:nvSpPr>
        <p:spPr>
          <a:xfrm>
            <a:off x="5435640" y="2637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刚刚下过一场小雪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文本框 22557"/>
          <p:cNvSpPr/>
          <p:nvPr/>
        </p:nvSpPr>
        <p:spPr>
          <a:xfrm>
            <a:off x="2050920" y="3716280"/>
            <a:ext cx="28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古镇被飘动的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雾笼罩着，石桥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和屋脊着，隐约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出没在飘忽的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雾中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4" name="文本框 22558"/>
          <p:cNvSpPr/>
          <p:nvPr/>
        </p:nvSpPr>
        <p:spPr>
          <a:xfrm>
            <a:off x="5003640" y="342900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积雪还没有来得将古镇覆盖，阳光已经穿破云层抚摸大地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文本框 22559"/>
          <p:cNvSpPr/>
          <p:nvPr/>
        </p:nvSpPr>
        <p:spPr>
          <a:xfrm>
            <a:off x="5148360" y="4653000"/>
            <a:ext cx="3879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在路边，在屋脊，在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树梢，在河边的石阶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一摊摊的积雪反射着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阳光，一片晶莹，令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人炫目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3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8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1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4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500"/>
                                        <p:tgtEl>
                                          <p:spTgt spid="5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500"/>
                                        <p:tgtEl>
                                          <p:spTgt spid="5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5" dur="1000"/>
                                        <p:tgtEl>
                                          <p:spTgt spid="5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0" dur="1000"/>
                                        <p:tgtEl>
                                          <p:spTgt spid="5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1000"/>
                                        <p:tgtEl>
                                          <p:spTgt spid="5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1000"/>
                                        <p:tgtEl>
                                          <p:spTgt spid="5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9" dur="1000"/>
                                        <p:tgtEl>
                                          <p:spTgt spid="5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2" dur="1000"/>
                                        <p:tgtEl>
                                          <p:spTgt spid="5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23554" descr="20090502135229-62538342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8" name=""/>
          <p:cNvGraphicFramePr/>
          <p:nvPr/>
        </p:nvGraphicFramePr>
        <p:xfrm>
          <a:off x="468360" y="333360"/>
          <a:ext cx="8229600" cy="6480000"/>
        </p:xfrm>
        <a:graphic>
          <a:graphicData uri="http://schemas.openxmlformats.org/drawingml/2006/table">
            <a:tbl>
              <a:tblPr/>
              <a:tblGrid>
                <a:gridCol w="1655640"/>
                <a:gridCol w="2664000"/>
                <a:gridCol w="3909960"/>
              </a:tblGrid>
              <a:tr h="74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第一次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第二次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景色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形容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33cc"/>
                          </a:solidFill>
                          <a:latin typeface="Arial"/>
                          <a:ea typeface="宋体"/>
                        </a:rPr>
                        <a:t>（感受）</a:t>
                      </a:r>
                      <a:endParaRPr b="0" lang="en-US" sz="32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cc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文本框 23573"/>
          <p:cNvSpPr/>
          <p:nvPr/>
        </p:nvSpPr>
        <p:spPr>
          <a:xfrm>
            <a:off x="4984920" y="981000"/>
            <a:ext cx="3398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古老的砖石和清新的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白雪参差交错，黑白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分明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0" name="文本框 23574"/>
          <p:cNvSpPr/>
          <p:nvPr/>
        </p:nvSpPr>
        <p:spPr>
          <a:xfrm>
            <a:off x="2124000" y="2852640"/>
            <a:ext cx="252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打着伞坐船游览，看到的是一幅画在宣纸上的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水墨画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1" name="文本框 23575"/>
          <p:cNvSpPr/>
          <p:nvPr/>
        </p:nvSpPr>
        <p:spPr>
          <a:xfrm>
            <a:off x="4716360" y="2781360"/>
            <a:ext cx="395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像一幅色彩鲜明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版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2" name="文本框 23576"/>
          <p:cNvSpPr/>
          <p:nvPr/>
        </p:nvSpPr>
        <p:spPr>
          <a:xfrm>
            <a:off x="5560920" y="3521160"/>
            <a:ext cx="231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水声重重叠叠，如泣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诉，仿佛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神秘幽远的江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南丝竹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，裹着万般柔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从地下袅袅回旋上升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3" name="文本框 23577"/>
          <p:cNvSpPr/>
          <p:nvPr/>
        </p:nvSpPr>
        <p:spPr>
          <a:xfrm>
            <a:off x="2176560" y="58831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4" name="文本框 23578"/>
          <p:cNvSpPr/>
          <p:nvPr/>
        </p:nvSpPr>
        <p:spPr>
          <a:xfrm>
            <a:off x="2464560" y="568008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飘忽宁静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又恬淡懦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5" name="文本框 23579"/>
          <p:cNvSpPr/>
          <p:nvPr/>
        </p:nvSpPr>
        <p:spPr>
          <a:xfrm>
            <a:off x="4984920" y="5805360"/>
            <a:ext cx="376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色彩鲜明和耀眼眩目而又庄严凝重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6" name="文本框 23580"/>
          <p:cNvSpPr/>
          <p:nvPr/>
        </p:nvSpPr>
        <p:spPr>
          <a:xfrm>
            <a:off x="2176560" y="5162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7" name="文本框 23581"/>
          <p:cNvSpPr/>
          <p:nvPr/>
        </p:nvSpPr>
        <p:spPr>
          <a:xfrm>
            <a:off x="2629800" y="494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宋体"/>
              </a:rPr>
              <a:t>比喻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48" name="文本框 23582"/>
          <p:cNvSpPr/>
          <p:nvPr/>
        </p:nvSpPr>
        <p:spPr>
          <a:xfrm>
            <a:off x="5484960" y="5248440"/>
            <a:ext cx="12474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比喻，拟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4" dur="1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9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4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5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图片 24579" descr="105333145"/>
          <p:cNvPicPr/>
          <p:nvPr/>
        </p:nvPicPr>
        <p:blipFill>
          <a:blip r:embed="rId1"/>
          <a:stretch/>
        </p:blipFill>
        <p:spPr>
          <a:xfrm>
            <a:off x="-317520" y="0"/>
            <a:ext cx="10074240" cy="6816600"/>
          </a:xfrm>
          <a:prstGeom prst="rect">
            <a:avLst/>
          </a:prstGeom>
          <a:ln w="0">
            <a:noFill/>
          </a:ln>
        </p:spPr>
      </p:pic>
      <p:sp>
        <p:nvSpPr>
          <p:cNvPr id="552" name="文本框 24580"/>
          <p:cNvSpPr/>
          <p:nvPr/>
        </p:nvSpPr>
        <p:spPr>
          <a:xfrm>
            <a:off x="755640" y="5877000"/>
            <a:ext cx="81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雪中的周庄，裹着人世界最美的柔情。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strips dir="ru"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图片 25601" descr="8891809_120116240129_2"/>
          <p:cNvPicPr/>
          <p:nvPr/>
        </p:nvPicPr>
        <p:blipFill>
          <a:blip r:embed="rId1"/>
          <a:stretch/>
        </p:blipFill>
        <p:spPr>
          <a:xfrm>
            <a:off x="-534960" y="0"/>
            <a:ext cx="10323360" cy="73166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文本框 25604"/>
          <p:cNvSpPr/>
          <p:nvPr/>
        </p:nvSpPr>
        <p:spPr>
          <a:xfrm>
            <a:off x="3348000" y="1739880"/>
            <a:ext cx="57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仿宋_GB2312"/>
              </a:rPr>
              <a:t>阅读第五、六自然段，仔细品味作者如何描写第三次游周庄的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7" name="文本框 25605"/>
          <p:cNvSpPr/>
          <p:nvPr/>
        </p:nvSpPr>
        <p:spPr>
          <a:xfrm>
            <a:off x="4488120" y="67932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仿宋_GB2312"/>
              </a:rPr>
              <a:t>第三次游周庄的时间是：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8" name="文本框 25606"/>
          <p:cNvSpPr/>
          <p:nvPr/>
        </p:nvSpPr>
        <p:spPr>
          <a:xfrm>
            <a:off x="5242320" y="1332000"/>
            <a:ext cx="2375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是在一个温暖的春夜”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正是那里的旅游节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古镇把这天当做一个盛大的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节日”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59" name="文本框 25607"/>
          <p:cNvSpPr/>
          <p:nvPr/>
        </p:nvSpPr>
        <p:spPr>
          <a:xfrm>
            <a:off x="1908000" y="534960"/>
            <a:ext cx="756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宋体"/>
              </a:rPr>
              <a:t>作者是如何描写这一天的景色的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0" name="文本框 25608"/>
          <p:cNvSpPr/>
          <p:nvPr/>
        </p:nvSpPr>
        <p:spPr>
          <a:xfrm>
            <a:off x="2999160" y="116352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描写了那天节日的盛况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1" name="文本框 25609"/>
          <p:cNvSpPr/>
          <p:nvPr/>
        </p:nvSpPr>
        <p:spPr>
          <a:xfrm>
            <a:off x="1403280" y="1739880"/>
            <a:ext cx="42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缀满了闪烁的彩灯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2" name="文本框 25610"/>
          <p:cNvSpPr/>
          <p:nvPr/>
        </p:nvSpPr>
        <p:spPr>
          <a:xfrm>
            <a:off x="1403280" y="2421000"/>
            <a:ext cx="774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船娘娴熟轻松地摇着橹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小船静静的滑行，划起一片漾动的光芒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3" name="文本框 25611"/>
          <p:cNvSpPr/>
          <p:nvPr/>
        </p:nvSpPr>
        <p:spPr>
          <a:xfrm>
            <a:off x="1403280" y="3429000"/>
            <a:ext cx="779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张灯结彩的花船，还有农民在摆弄丝弦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4" name="文本框 25612"/>
          <p:cNvSpPr/>
          <p:nvPr/>
        </p:nvSpPr>
        <p:spPr>
          <a:xfrm>
            <a:off x="1438200" y="393372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恢复平静的小河，水面上闪烁着点点星光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5" name="文本框 25613"/>
          <p:cNvSpPr/>
          <p:nvPr/>
        </p:nvSpPr>
        <p:spPr>
          <a:xfrm>
            <a:off x="3286080" y="4403880"/>
            <a:ext cx="3838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像萤火虫一样在黑暗中盛开的缤纷礼花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群山的墨线变成活泼流动的彩光；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河水变成了摇曳生辉、光华四射的彩带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6" name="文本框 25614"/>
          <p:cNvSpPr/>
          <p:nvPr/>
        </p:nvSpPr>
        <p:spPr>
          <a:xfrm>
            <a:off x="1476360" y="5950080"/>
            <a:ext cx="477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天上的美景，地上的惊喜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4" dur="1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1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9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3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1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9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4" dur="1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5" dur="1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1000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5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6" dur="1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7" dur="1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4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图片 26627" descr="1204091847ccfec4c9dac2cd98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图片 27651" descr="1204091849a295b52f99eaf66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5" name="图片 28675" descr="1125146_233742066768_2"/>
          <p:cNvPicPr/>
          <p:nvPr/>
        </p:nvPicPr>
        <p:blipFill>
          <a:blip r:embed="rId1"/>
          <a:stretch/>
        </p:blipFill>
        <p:spPr>
          <a:xfrm>
            <a:off x="-603360" y="0"/>
            <a:ext cx="9747360" cy="73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6" name="图片 29697" descr="3038534_192517038_2"/>
          <p:cNvPicPr/>
          <p:nvPr/>
        </p:nvPicPr>
        <p:blipFill>
          <a:blip r:embed="rId1"/>
          <a:stretch/>
        </p:blipFill>
        <p:spPr>
          <a:xfrm>
            <a:off x="-298440" y="0"/>
            <a:ext cx="9747360" cy="6858000"/>
          </a:xfrm>
          <a:prstGeom prst="rect">
            <a:avLst/>
          </a:prstGeom>
          <a:ln w="0">
            <a:noFill/>
          </a:ln>
        </p:spPr>
      </p:pic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549000"/>
            <a:ext cx="842472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第三次游周庄描绘了什么景色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是按照什么顺序来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29699"/>
          <p:cNvSpPr/>
          <p:nvPr/>
        </p:nvSpPr>
        <p:spPr>
          <a:xfrm>
            <a:off x="395280" y="260280"/>
            <a:ext cx="7632720" cy="63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9" name="双波形 29700"/>
          <p:cNvSpPr/>
          <p:nvPr/>
        </p:nvSpPr>
        <p:spPr>
          <a:xfrm>
            <a:off x="900000" y="1989000"/>
            <a:ext cx="2016360" cy="576360"/>
          </a:xfrm>
          <a:custGeom>
            <a:avLst/>
            <a:gdLst>
              <a:gd name="textAreaLeft" fmla="*/ 0 w 2016360"/>
              <a:gd name="textAreaRight" fmla="*/ 2016720 w 2016360"/>
              <a:gd name="textAreaTop" fmla="*/ 74880 h 576360"/>
              <a:gd name="textAreaBottom" fmla="*/ 50148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  <a:lnTo>
                  <a:pt x="21600" y="20196"/>
                </a:lnTo>
                <a:cubicBezTo>
                  <a:pt x="18000" y="25170"/>
                  <a:pt x="14400" y="15222"/>
                  <a:pt x="10800" y="20196"/>
                </a:cubicBezTo>
                <a:cubicBezTo>
                  <a:pt x="7200" y="25170"/>
                  <a:pt x="3600" y="15222"/>
                  <a:pt x="0" y="20196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文本框 29701"/>
          <p:cNvSpPr/>
          <p:nvPr/>
        </p:nvSpPr>
        <p:spPr>
          <a:xfrm>
            <a:off x="971640" y="1989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节日夜景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双波形 29702"/>
          <p:cNvSpPr/>
          <p:nvPr/>
        </p:nvSpPr>
        <p:spPr>
          <a:xfrm>
            <a:off x="3635280" y="1916280"/>
            <a:ext cx="3889440" cy="576000"/>
          </a:xfrm>
          <a:custGeom>
            <a:avLst/>
            <a:gdLst>
              <a:gd name="textAreaLeft" fmla="*/ 0 w 3889440"/>
              <a:gd name="textAreaRight" fmla="*/ 3889800 w 3889440"/>
              <a:gd name="textAreaTop" fmla="*/ 74880 h 576000"/>
              <a:gd name="textAreaBottom" fmla="*/ 50112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404"/>
                </a:moveTo>
                <a:cubicBezTo>
                  <a:pt x="3600" y="-3570"/>
                  <a:pt x="7200" y="6378"/>
                  <a:pt x="10800" y="1404"/>
                </a:cubicBezTo>
                <a:cubicBezTo>
                  <a:pt x="14400" y="-3570"/>
                  <a:pt x="18000" y="6378"/>
                  <a:pt x="21600" y="1404"/>
                </a:cubicBezTo>
                <a:lnTo>
                  <a:pt x="21600" y="20196"/>
                </a:lnTo>
                <a:cubicBezTo>
                  <a:pt x="18000" y="25170"/>
                  <a:pt x="14400" y="15222"/>
                  <a:pt x="10800" y="20196"/>
                </a:cubicBezTo>
                <a:cubicBezTo>
                  <a:pt x="7200" y="25170"/>
                  <a:pt x="3600" y="15222"/>
                  <a:pt x="0" y="20196"/>
                </a:cubicBezTo>
                <a:close/>
              </a:path>
            </a:pathLst>
          </a:cu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2" name="文本框 29703"/>
          <p:cNvSpPr/>
          <p:nvPr/>
        </p:nvSpPr>
        <p:spPr>
          <a:xfrm>
            <a:off x="3708360" y="191628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按照时间和空间的顺序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3" name="右箭头 29704"/>
          <p:cNvSpPr/>
          <p:nvPr/>
        </p:nvSpPr>
        <p:spPr>
          <a:xfrm>
            <a:off x="1042920" y="2637000"/>
            <a:ext cx="1657440" cy="1223640"/>
          </a:xfrm>
          <a:prstGeom prst="rightArrow">
            <a:avLst>
              <a:gd name="adj1" fmla="val 50000"/>
              <a:gd name="adj2" fmla="val 33856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文本框 29705"/>
          <p:cNvSpPr/>
          <p:nvPr/>
        </p:nvSpPr>
        <p:spPr>
          <a:xfrm>
            <a:off x="1187280" y="2976480"/>
            <a:ext cx="15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时 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5" name="流程图: 可选过程 29706"/>
          <p:cNvSpPr/>
          <p:nvPr/>
        </p:nvSpPr>
        <p:spPr>
          <a:xfrm>
            <a:off x="3635280" y="2997360"/>
            <a:ext cx="2881440" cy="5029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6" name="文本框 29707"/>
          <p:cNvSpPr/>
          <p:nvPr/>
        </p:nvSpPr>
        <p:spPr>
          <a:xfrm>
            <a:off x="3995640" y="2924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时间先后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右箭头 29708"/>
          <p:cNvSpPr/>
          <p:nvPr/>
        </p:nvSpPr>
        <p:spPr>
          <a:xfrm>
            <a:off x="250920" y="4076640"/>
            <a:ext cx="1657080" cy="1224000"/>
          </a:xfrm>
          <a:prstGeom prst="rightArrow">
            <a:avLst>
              <a:gd name="adj1" fmla="val 50000"/>
              <a:gd name="adj2" fmla="val 33839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8" name="文本框 29709"/>
          <p:cNvSpPr/>
          <p:nvPr/>
        </p:nvSpPr>
        <p:spPr>
          <a:xfrm>
            <a:off x="324000" y="4365720"/>
            <a:ext cx="136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宋体"/>
              </a:rPr>
              <a:t>空 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流程图: 可选过程 29710"/>
          <p:cNvSpPr/>
          <p:nvPr/>
        </p:nvSpPr>
        <p:spPr>
          <a:xfrm>
            <a:off x="2195640" y="4365720"/>
            <a:ext cx="1368360" cy="504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0" name="文本框 29711"/>
          <p:cNvSpPr/>
          <p:nvPr/>
        </p:nvSpPr>
        <p:spPr>
          <a:xfrm>
            <a:off x="2340000" y="4292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岸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1" name="流程图: 可选过程 29712"/>
          <p:cNvSpPr/>
          <p:nvPr/>
        </p:nvSpPr>
        <p:spPr>
          <a:xfrm>
            <a:off x="3924360" y="4365720"/>
            <a:ext cx="1368360" cy="504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文本框 29713"/>
          <p:cNvSpPr/>
          <p:nvPr/>
        </p:nvSpPr>
        <p:spPr>
          <a:xfrm>
            <a:off x="4067280" y="4292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河中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3614760" y="4581360"/>
            <a:ext cx="287280" cy="360"/>
            <a:chOff x="3614760" y="4581360"/>
            <a:chExt cx="287280" cy="360"/>
          </a:xfrm>
        </p:grpSpPr>
        <p:sp>
          <p:nvSpPr>
            <p:cNvPr id="594" name="直接连接符 29714"/>
            <p:cNvSpPr/>
            <p:nvPr/>
          </p:nvSpPr>
          <p:spPr>
            <a:xfrm>
              <a:off x="3614760" y="45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5" name=""/>
            <p:cNvSpPr txBox="1"/>
            <p:nvPr/>
          </p:nvSpPr>
          <p:spPr>
            <a:xfrm>
              <a:off x="3614760" y="458136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5364000" y="4581360"/>
            <a:ext cx="287640" cy="360"/>
            <a:chOff x="5364000" y="4581360"/>
            <a:chExt cx="287640" cy="360"/>
          </a:xfrm>
        </p:grpSpPr>
        <p:sp>
          <p:nvSpPr>
            <p:cNvPr id="597" name="直接连接符 29715"/>
            <p:cNvSpPr/>
            <p:nvPr/>
          </p:nvSpPr>
          <p:spPr>
            <a:xfrm>
              <a:off x="5364000" y="458136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98" name=""/>
            <p:cNvSpPr txBox="1"/>
            <p:nvPr/>
          </p:nvSpPr>
          <p:spPr>
            <a:xfrm>
              <a:off x="5364000" y="4581360"/>
              <a:ext cx="2876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99" name="流程图: 可选过程 29716"/>
          <p:cNvSpPr/>
          <p:nvPr/>
        </p:nvSpPr>
        <p:spPr>
          <a:xfrm>
            <a:off x="5651640" y="4365720"/>
            <a:ext cx="1368360" cy="504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600" name=""/>
          <p:cNvGrpSpPr/>
          <p:nvPr/>
        </p:nvGrpSpPr>
        <p:grpSpPr>
          <a:xfrm>
            <a:off x="7093080" y="4581360"/>
            <a:ext cx="287280" cy="360"/>
            <a:chOff x="7093080" y="4581360"/>
            <a:chExt cx="287280" cy="360"/>
          </a:xfrm>
        </p:grpSpPr>
        <p:sp>
          <p:nvSpPr>
            <p:cNvPr id="601" name="直接连接符 29717"/>
            <p:cNvSpPr/>
            <p:nvPr/>
          </p:nvSpPr>
          <p:spPr>
            <a:xfrm>
              <a:off x="7093080" y="4581360"/>
              <a:ext cx="2872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602" name=""/>
            <p:cNvSpPr txBox="1"/>
            <p:nvPr/>
          </p:nvSpPr>
          <p:spPr>
            <a:xfrm>
              <a:off x="7093080" y="4581360"/>
              <a:ext cx="287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603" name="流程图: 可选过程 29718"/>
          <p:cNvSpPr/>
          <p:nvPr/>
        </p:nvSpPr>
        <p:spPr>
          <a:xfrm>
            <a:off x="7380360" y="4365720"/>
            <a:ext cx="1368360" cy="50472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4" name="文本框 29719"/>
          <p:cNvSpPr/>
          <p:nvPr/>
        </p:nvSpPr>
        <p:spPr>
          <a:xfrm>
            <a:off x="5796000" y="4292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天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5" name="文本框 29720"/>
          <p:cNvSpPr/>
          <p:nvPr/>
        </p:nvSpPr>
        <p:spPr>
          <a:xfrm>
            <a:off x="7524720" y="4292640"/>
            <a:ext cx="10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宋体"/>
              </a:rPr>
              <a:t>地上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0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5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0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0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图片 12289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9640" y="836640"/>
            <a:ext cx="687096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默读全文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,</a:t>
            </a:r>
            <a:r>
              <a:rPr b="1" lang="zh-CN" sz="4400" spc="-1" strike="noStrike">
                <a:solidFill>
                  <a:srgbClr val="0000ff"/>
                </a:solidFill>
                <a:latin typeface="Comic Sans MS"/>
              </a:rPr>
              <a:t>完成下列问题</a:t>
            </a: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95280" y="2276280"/>
            <a:ext cx="7696080" cy="24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1.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弄懂生字词</a:t>
            </a: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mic Sans MS"/>
              </a:rPr>
              <a:t>2.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给文章划分段落，概括大意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图片 30721" descr="10_119445_3bf38e95f8cc24c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7" name="前凸带形 30722"/>
          <p:cNvSpPr/>
          <p:nvPr/>
        </p:nvSpPr>
        <p:spPr>
          <a:xfrm>
            <a:off x="1332000" y="0"/>
            <a:ext cx="5724360" cy="936720"/>
          </a:xfrm>
          <a:custGeom>
            <a:avLst/>
            <a:gdLst>
              <a:gd name="textAreaLeft" fmla="*/ 1431000 w 5724360"/>
              <a:gd name="textAreaRight" fmla="*/ 4293360 w 5724360"/>
              <a:gd name="textAreaTop" fmla="*/ 11700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8" name="文本框 30723"/>
          <p:cNvSpPr/>
          <p:nvPr/>
        </p:nvSpPr>
        <p:spPr>
          <a:xfrm>
            <a:off x="2987640" y="8244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33cc"/>
                </a:solidFill>
                <a:latin typeface="Arial"/>
                <a:ea typeface="宋体"/>
              </a:rPr>
              <a:t>总    结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9" name="流程图: 决策 30724"/>
          <p:cNvSpPr/>
          <p:nvPr/>
        </p:nvSpPr>
        <p:spPr>
          <a:xfrm>
            <a:off x="539640" y="4581360"/>
            <a:ext cx="2592360" cy="12240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0" name="文本框 30725"/>
          <p:cNvSpPr/>
          <p:nvPr/>
        </p:nvSpPr>
        <p:spPr>
          <a:xfrm>
            <a:off x="1476360" y="479736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  <a:ea typeface="宋体"/>
              </a:rPr>
              <a:t>韵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1" name="云形标注 30726"/>
          <p:cNvSpPr/>
          <p:nvPr/>
        </p:nvSpPr>
        <p:spPr>
          <a:xfrm>
            <a:off x="3708360" y="1197000"/>
            <a:ext cx="3995640" cy="3311640"/>
          </a:xfrm>
          <a:prstGeom prst="cloudCallout">
            <a:avLst>
              <a:gd name="adj1" fmla="val -72171"/>
              <a:gd name="adj2" fmla="val 53212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2" name="文本框 30727"/>
          <p:cNvSpPr/>
          <p:nvPr/>
        </p:nvSpPr>
        <p:spPr>
          <a:xfrm>
            <a:off x="4284720" y="1916280"/>
            <a:ext cx="33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古朴、宁静，清幽，柔美，多姿多彩</a:t>
            </a:r>
            <a:r>
              <a:rPr b="1" lang="en-US" sz="2800" spc="-1" strike="noStrike">
                <a:solidFill>
                  <a:srgbClr val="ff00ff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宋体"/>
              </a:rPr>
              <a:t>最主要指的是一份柔美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3" dur="2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2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2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图片 13313" descr="BG02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0" name="文本框 13314"/>
          <p:cNvSpPr/>
          <p:nvPr/>
        </p:nvSpPr>
        <p:spPr>
          <a:xfrm>
            <a:off x="0" y="0"/>
            <a:ext cx="459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3366"/>
                </a:solidFill>
                <a:latin typeface="隶书"/>
                <a:ea typeface="隶书"/>
              </a:rPr>
              <a:t>我阅读  我积累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动作按钮: 开始 13315"/>
          <p:cNvSpPr/>
          <p:nvPr/>
        </p:nvSpPr>
        <p:spPr>
          <a:xfrm>
            <a:off x="8261280" y="614664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文本框 13316"/>
          <p:cNvSpPr/>
          <p:nvPr/>
        </p:nvSpPr>
        <p:spPr>
          <a:xfrm>
            <a:off x="0" y="836640"/>
            <a:ext cx="88930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斑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斓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：颜色错杂灿烂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眩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目：耀眼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相看两不厌：相互之间怎么看也看不够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谛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听：仔细听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如泣如诉：像是在诉说，又像是在小声哭泣。这里形容          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         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声音柔细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娴</a:t>
            </a:r>
            <a:r>
              <a:rPr b="1" lang="zh-CN" sz="2800" spc="-1" strike="noStrike" u="sng">
                <a:solidFill>
                  <a:srgbClr val="0033cc"/>
                </a:solidFill>
                <a:uFillTx/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熟：熟练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难以捉摸：不容易猜测、预料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瞬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息万变：形容极短的时间内变化多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璀 璨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：形容光彩鲜明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摇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曳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：摇动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稍纵即逝：稍微一放松就会消失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图片 14337" descr="3219459_092906039_2"/>
          <p:cNvPicPr/>
          <p:nvPr/>
        </p:nvPicPr>
        <p:blipFill>
          <a:blip r:embed="rId1"/>
          <a:stretch/>
        </p:blipFill>
        <p:spPr>
          <a:xfrm>
            <a:off x="-298440" y="-293760"/>
            <a:ext cx="9747360" cy="7451640"/>
          </a:xfrm>
          <a:prstGeom prst="rect">
            <a:avLst/>
          </a:prstGeom>
          <a:ln w="0">
            <a:noFill/>
          </a:ln>
        </p:spPr>
      </p:pic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24000" y="12679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段落划分：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874872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一段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~3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：走进周庄，包括小河泛舟与古镇风貌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6" name="文本框 14340"/>
          <p:cNvSpPr/>
          <p:nvPr/>
        </p:nvSpPr>
        <p:spPr>
          <a:xfrm>
            <a:off x="395280" y="3933720"/>
            <a:ext cx="78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第二段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4~6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）：作者三次游周庄的情景及感受。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图片 15361" descr="4cbc5ce2b12d8d267752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042560" y="404640"/>
            <a:ext cx="745164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zh-CN" sz="3200" spc="-1" strike="noStrike">
                <a:solidFill>
                  <a:srgbClr val="73035b"/>
                </a:solidFill>
                <a:latin typeface="Tahoma"/>
              </a:rPr>
              <a:t>阅读第一自然段，讨论分析下列问题：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-360" y="2060280"/>
            <a:ext cx="8893080" cy="36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Tahoma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本段描绘了一幅怎样的画面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ahoma"/>
              </a:rPr>
              <a:t>、这个画面体现了什么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文本框 15364"/>
          <p:cNvSpPr/>
          <p:nvPr/>
        </p:nvSpPr>
        <p:spPr>
          <a:xfrm>
            <a:off x="395280" y="263700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悠然搅动的木橹把倒映在水中的石桥、楼屋、树影、天上的云彩和飞鸟搅碎后的美丽画面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1" name="文本框 15365"/>
          <p:cNvSpPr/>
          <p:nvPr/>
        </p:nvSpPr>
        <p:spPr>
          <a:xfrm>
            <a:off x="395280" y="4005360"/>
            <a:ext cx="7129440" cy="87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周庄水美：倒映如画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静态美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，波动似绸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(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动态美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)</a:t>
            </a:r>
            <a:r>
              <a:rPr b="1" lang="zh-CN" sz="1800" spc="-1" strike="noStrike">
                <a:solidFill>
                  <a:srgbClr val="0000ff"/>
                </a:solidFill>
                <a:latin typeface="Tahoma"/>
                <a:ea typeface="宋体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dissolve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4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4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1" dur="500"/>
                                        <p:tgtEl>
                                          <p:spTgt spid="4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图片 16385" descr="4cbc5ce2b12d8d26775200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792936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、找出文段中的比喻句，指出它的本体和喻体，并说说其作用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文本框 16387"/>
          <p:cNvSpPr/>
          <p:nvPr/>
        </p:nvSpPr>
        <p:spPr>
          <a:xfrm>
            <a:off x="1042920" y="3068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“……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犹如在风中漾动的一匹长长的彩绸。”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5" name="文本框 16388"/>
          <p:cNvSpPr/>
          <p:nvPr/>
        </p:nvSpPr>
        <p:spPr>
          <a:xfrm>
            <a:off x="539640" y="371628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本体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6" name="文本框 16389"/>
          <p:cNvSpPr/>
          <p:nvPr/>
        </p:nvSpPr>
        <p:spPr>
          <a:xfrm>
            <a:off x="1619280" y="3716280"/>
            <a:ext cx="64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倒映着的石桥、楼屋、云彩和飞鸟的水面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7" name="文本框 16390"/>
          <p:cNvSpPr/>
          <p:nvPr/>
        </p:nvSpPr>
        <p:spPr>
          <a:xfrm>
            <a:off x="571680" y="42609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喻体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8" name="文本框 16391"/>
          <p:cNvSpPr/>
          <p:nvPr/>
        </p:nvSpPr>
        <p:spPr>
          <a:xfrm>
            <a:off x="1692360" y="4292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彩绸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89" name="文本框 16392"/>
          <p:cNvSpPr/>
          <p:nvPr/>
        </p:nvSpPr>
        <p:spPr>
          <a:xfrm>
            <a:off x="571680" y="48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ahoma"/>
                <a:ea typeface="宋体"/>
              </a:rPr>
              <a:t>作用：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0" name="文本框 16393"/>
          <p:cNvSpPr/>
          <p:nvPr/>
        </p:nvSpPr>
        <p:spPr>
          <a:xfrm>
            <a:off x="1671480" y="4869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生动形象地描绘了一幅倒映着美景的周庄水面的美丽画面，有形有色，有静有动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 spd="slow">
    <p:randomBar dir="horz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" dur="80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4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4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4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图片 17409" descr="101104154795b0b39e9c41ae39"/>
          <p:cNvPicPr/>
          <p:nvPr/>
        </p:nvPicPr>
        <p:blipFill>
          <a:blip r:embed="rId1"/>
          <a:stretch/>
        </p:blipFill>
        <p:spPr>
          <a:xfrm>
            <a:off x="-461880" y="71280"/>
            <a:ext cx="10147320" cy="676440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</a:rPr>
              <a:t>、“还有什么比在周庄的小河里泛舟更富有诗意呢？”，这句话用了什么修辞手法，起到了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title"/>
          </p:nvPr>
        </p:nvSpPr>
        <p:spPr>
          <a:xfrm>
            <a:off x="250560" y="333360"/>
            <a:ext cx="789300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73035b"/>
                </a:solidFill>
                <a:latin typeface="Arial"/>
              </a:rPr>
              <a:t>阅读第二自然段，讨论分析下列问题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文本框 17412"/>
          <p:cNvSpPr/>
          <p:nvPr/>
        </p:nvSpPr>
        <p:spPr>
          <a:xfrm>
            <a:off x="1547640" y="2060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反问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5" name="文本框 17413"/>
          <p:cNvSpPr/>
          <p:nvPr/>
        </p:nvSpPr>
        <p:spPr>
          <a:xfrm>
            <a:off x="324000" y="263700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承上启下，自然过度到周庄的实物描写，强调了在周庄的小河里泛舟最富有诗意，同时也引起读者的思考</a:t>
            </a: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——</a:t>
            </a: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如何有诗意？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6" name="文本框 17414"/>
          <p:cNvSpPr/>
          <p:nvPr/>
        </p:nvSpPr>
        <p:spPr>
          <a:xfrm>
            <a:off x="0" y="4581360"/>
            <a:ext cx="45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Tahoma"/>
              </a:rPr>
              <a:t>2</a:t>
            </a:r>
            <a:r>
              <a:rPr b="1" lang="zh-CN" sz="2800" spc="-1" strike="noStrike">
                <a:solidFill>
                  <a:srgbClr val="006600"/>
                </a:solidFill>
                <a:latin typeface="Tahoma"/>
                <a:ea typeface="宋体"/>
              </a:rPr>
              <a:t>、找出在周庄泛舟有诗意的景物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7" name="文本框 17415"/>
          <p:cNvSpPr/>
          <p:nvPr/>
        </p:nvSpPr>
        <p:spPr>
          <a:xfrm>
            <a:off x="324000" y="551664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ahoma"/>
                <a:ea typeface="宋体"/>
              </a:rPr>
              <a:t>小小的木船、窄窄的河道；拱形的桥孔，古老的形状风格不同的石桥；桥上的行人，船上的乘客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498" name="图片 17416" descr="图片24"/>
          <p:cNvPicPr/>
          <p:nvPr/>
        </p:nvPicPr>
        <p:blipFill>
          <a:blip r:embed="rId2"/>
          <a:stretch/>
        </p:blipFill>
        <p:spPr>
          <a:xfrm>
            <a:off x="4284720" y="2205000"/>
            <a:ext cx="4390920" cy="3240000"/>
          </a:xfrm>
          <a:prstGeom prst="rect">
            <a:avLst/>
          </a:prstGeom>
          <a:ln w="0">
            <a:noFill/>
          </a:ln>
        </p:spPr>
      </p:pic>
      <p:pic>
        <p:nvPicPr>
          <p:cNvPr id="499" name="图片 17417" descr="af38"/>
          <p:cNvPicPr/>
          <p:nvPr/>
        </p:nvPicPr>
        <p:blipFill>
          <a:blip r:embed="rId3"/>
          <a:stretch/>
        </p:blipFill>
        <p:spPr>
          <a:xfrm>
            <a:off x="4284720" y="2205000"/>
            <a:ext cx="4390920" cy="3240000"/>
          </a:xfrm>
          <a:prstGeom prst="rect">
            <a:avLst/>
          </a:prstGeom>
          <a:ln w="0">
            <a:noFill/>
          </a:ln>
        </p:spPr>
      </p:pic>
      <p:pic>
        <p:nvPicPr>
          <p:cNvPr id="500" name="图片 17418" descr="图片23"/>
          <p:cNvPicPr/>
          <p:nvPr/>
        </p:nvPicPr>
        <p:blipFill>
          <a:blip r:embed="rId4"/>
          <a:stretch/>
        </p:blipFill>
        <p:spPr>
          <a:xfrm>
            <a:off x="4284720" y="2205000"/>
            <a:ext cx="4390920" cy="3210120"/>
          </a:xfrm>
          <a:prstGeom prst="rect">
            <a:avLst/>
          </a:prstGeom>
          <a:ln w="0">
            <a:noFill/>
          </a:ln>
        </p:spPr>
      </p:pic>
      <p:pic>
        <p:nvPicPr>
          <p:cNvPr id="501" name="图片 17419" descr="9367"/>
          <p:cNvPicPr/>
          <p:nvPr/>
        </p:nvPicPr>
        <p:blipFill>
          <a:blip r:embed="rId5"/>
          <a:stretch/>
        </p:blipFill>
        <p:spPr>
          <a:xfrm>
            <a:off x="4284720" y="2205000"/>
            <a:ext cx="4343400" cy="320364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图片 18435" descr="27b7e05561a929d21138c223"/>
          <p:cNvPicPr/>
          <p:nvPr/>
        </p:nvPicPr>
        <p:blipFill>
          <a:blip r:embed="rId1"/>
          <a:stretch/>
        </p:blipFill>
        <p:spPr>
          <a:xfrm>
            <a:off x="0" y="0"/>
            <a:ext cx="9753480" cy="7315200"/>
          </a:xfrm>
          <a:prstGeom prst="rect">
            <a:avLst/>
          </a:prstGeom>
          <a:ln w="0">
            <a:noFill/>
          </a:ln>
        </p:spPr>
      </p:pic>
      <p:sp>
        <p:nvSpPr>
          <p:cNvPr id="505" name="文本框 18436"/>
          <p:cNvSpPr/>
          <p:nvPr/>
        </p:nvSpPr>
        <p:spPr>
          <a:xfrm>
            <a:off x="0" y="3718080"/>
            <a:ext cx="946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当看风景的作者流连在周庄的水 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流连在周庄诗情画意般的石桥中的时候，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作者是如何向读者介绍这个美丽的周庄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6" name="文本框 18437"/>
          <p:cNvSpPr/>
          <p:nvPr/>
        </p:nvSpPr>
        <p:spPr>
          <a:xfrm>
            <a:off x="826920" y="1222200"/>
            <a:ext cx="864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黑体"/>
              </a:rPr>
              <a:t>阅读第三自然段，想一想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24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5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图片 19459" descr="20079281940545_2"/>
          <p:cNvPicPr/>
          <p:nvPr/>
        </p:nvPicPr>
        <p:blipFill>
          <a:blip r:embed="rId1"/>
          <a:stretch/>
        </p:blipFill>
        <p:spPr>
          <a:xfrm>
            <a:off x="0" y="54000"/>
            <a:ext cx="9534600" cy="6804000"/>
          </a:xfrm>
          <a:prstGeom prst="rect">
            <a:avLst/>
          </a:prstGeom>
          <a:ln w="0">
            <a:noFill/>
          </a:ln>
        </p:spPr>
      </p:pic>
      <p:sp>
        <p:nvSpPr>
          <p:cNvPr id="510" name="文本框 19460"/>
          <p:cNvSpPr/>
          <p:nvPr/>
        </p:nvSpPr>
        <p:spPr>
          <a:xfrm>
            <a:off x="735120" y="1341360"/>
            <a:ext cx="570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河道呈      形</a:t>
            </a:r>
            <a:endParaRPr b="0" lang="en-US" sz="6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1" name="文本框 19461"/>
          <p:cNvSpPr/>
          <p:nvPr/>
        </p:nvSpPr>
        <p:spPr>
          <a:xfrm>
            <a:off x="3255840" y="1268280"/>
            <a:ext cx="2540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ff0000"/>
                </a:solidFill>
                <a:latin typeface="Arial"/>
                <a:ea typeface="楷体_GB2312"/>
              </a:rPr>
              <a:t>井字</a:t>
            </a:r>
            <a:endParaRPr b="0" lang="en-US" sz="6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文本框 19462"/>
          <p:cNvSpPr/>
          <p:nvPr/>
        </p:nvSpPr>
        <p:spPr>
          <a:xfrm>
            <a:off x="1476360" y="2781360"/>
            <a:ext cx="7000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  <a:ea typeface="宋体"/>
              </a:rPr>
              <a:t>一个“井”字 让我们对周庄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3300"/>
                </a:solidFill>
                <a:latin typeface="Arial"/>
                <a:ea typeface="宋体"/>
              </a:rPr>
              <a:t>有了一个大致的了解。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20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5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3" dur="2000"/>
                                        <p:tgtEl>
                                          <p:spTgt spid="5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4T09:03:13Z</dcterms:created>
  <dc:creator>微软用户</dc:creator>
  <dc:description/>
  <dc:language>en-US</dc:language>
  <cp:lastModifiedBy>Administrator</cp:lastModifiedBy>
  <dcterms:modified xsi:type="dcterms:W3CDTF">2016-09-05T06:50:57Z</dcterms:modified>
  <cp:revision>9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