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CEC-E316-4094-901B-D4EEB9544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41B-0F13-414D-B5D7-4A5EDEAF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73B-9F38-45CA-BF14-781AA7093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DC7D-FCD6-4303-B357-6B8C7878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1F998-B51D-4C96-A7AB-FA1AE0F6B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24D4F-02A9-4716-A873-FCAF9D68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62A81-DDBA-4E4E-AD39-FAC34771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99338-951B-4C17-BD3B-546D547E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EE33-7465-449B-A5F9-8E9DE214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3FDED-1B3A-4BDC-B263-1E8F162A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F8FCC-52CA-4007-B29F-9D680F8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50DC-16E2-4607-A0CC-09C006D1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860A3-7166-4FD1-8938-8B41D93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46D1A-343C-4532-AA2D-C92EF917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CA9A4-C1D6-4489-9FCB-9920990D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0DE2DE-14B0-44B1-BC06-85152480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2C757A-D26E-4AD9-A897-50B3D983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8FF66-D136-42E7-B273-E43E8671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BA5E-609B-4934-BABF-2504C5B4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1741-D365-4052-9B26-C5947E51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B8F79-12A1-416B-BF9C-D7274E03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58562-0352-4969-906A-2A800A5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26A9-885B-498C-901C-F31A5CFC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6C5B1-2706-4B77-9CB0-B34F72E4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B2BEE-0B3C-464F-87A3-6C0E44A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A8695-A937-43DA-B45A-0B0F6CB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BF9C3-4DAB-4126-A199-4076D571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DCD16-714C-4893-B25A-537D823F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3E34D-5581-46BD-8541-BB370031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10E3E-EB93-4F6E-B429-DE73EA89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599EF-2CE2-473B-9164-0ED2CF5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6D7DE-451C-4024-BDF5-878CF822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864B-D343-47F6-9394-308AC75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A9D7-0D9E-4A0F-87BA-4AC130FD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6D59-88D5-45AA-AB3E-57AE7EC3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10337-0DAE-4D98-A0BB-1772C055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F02B7-F9DB-4711-858D-722C6AE4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45A0A-063C-4B54-A497-0A120116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2A4A-AA44-40DE-8691-74C43B5C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EDC0-1A8C-49C8-B327-6D5F6660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6BF75-D479-4943-855B-6099CA98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AE194-86B0-45D4-B9E3-AA6235BD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97678-2E35-4021-A051-015596C0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0A3-6617-4C78-ADB9-82E81E92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D8B-211B-4CDB-B880-ECBC8CED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9CFC-49E4-4848-92C7-151E0D2F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0F3-249C-4205-AC8F-2F1F81A5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3A8D-2285-4FAF-A6D2-69BC5AC9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512E-FAB9-490B-BEC5-E5FEABA272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05A-31E2-420D-961B-455AF150FD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4B67-5D4E-48A0-8953-A2123E2AAF1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B92E1-5F6E-4B99-90FE-623AF132D40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612720" y="2421000"/>
            <a:ext cx="9937800" cy="4437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2050920" y="620640"/>
            <a:ext cx="5185080" cy="157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赵州桥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619280" y="2052360"/>
            <a:ext cx="6337440" cy="241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卢浦大桥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浦大桥是世界第一的特大型钢拱桥。该桥钢拱座边长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宽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高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分成每件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的钢结构逐一吊装，然后拼焊成整体。全桥共有四只拱座，是整座桥的受力核心部位，将承受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5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吨全钢结构的主桥重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0" y="-1228680"/>
          <a:ext cx="5286240" cy="457200"/>
        </p:xfrm>
        <a:graphic>
          <a:graphicData uri="http://schemas.openxmlformats.org/drawingml/2006/table">
            <a:tbl>
              <a:tblPr/>
              <a:tblGrid>
                <a:gridCol w="52862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2003-06-29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6" name=""/>
          <p:cNvSpPr/>
          <p:nvPr/>
        </p:nvSpPr>
        <p:spPr>
          <a:xfrm>
            <a:off x="0" y="-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81640" y="72630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71640" y="1814760"/>
            <a:ext cx="7189560" cy="265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彩云"/>
              </a:rPr>
              <a:t>松浦大桥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黄浦江上第一座大型桥梁，也是黄浦江上唯一的铁路、公路两用桥梁，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6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建成通车，当时是市区通往金山、浙江以及南方地区的南大门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79640" y="1864440"/>
            <a:ext cx="540072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彩云"/>
              </a:rPr>
              <a:t>奉浦大桥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全长２２０１．８米，１９９５年底建成，开创了本市由地方筹资建设大桥工程之先河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6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700360" y="692280"/>
            <a:ext cx="3960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州桥又名安济桥，建于隋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元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5-618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间，是著名匠师李春建造的。桥长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.4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跨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7.0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是当今世界上跨径最大、建造最早的单孔敞肩型石拱桥。因桥两端肩部各有二个小孔，不是实的，故称敞肩型，这是世界造桥史的一个创造（没有小拱的称为满肩或实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611280" y="836640"/>
            <a:ext cx="79214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c0c0c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上海六座黄浦江大桥</a:t>
            </a:r>
            <a:endParaRPr b="0" lang="en-US" sz="9600" spc="1" strike="noStrike">
              <a:ln w="9360">
                <a:solidFill>
                  <a:srgbClr val="c0c0c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179280" y="260280"/>
          <a:ext cx="8594640" cy="6421320"/>
        </p:xfrm>
        <a:graphic>
          <a:graphicData uri="http://schemas.openxmlformats.org/drawingml/2006/table">
            <a:tbl>
              <a:tblPr/>
              <a:tblGrid>
                <a:gridCol w="8594640"/>
              </a:tblGrid>
              <a:tr h="64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8000" spc="-1" strike="noStrike">
                          <a:solidFill>
                            <a:srgbClr val="000000"/>
                          </a:solidFill>
                          <a:latin typeface="Arial"/>
                          <a:ea typeface="华文彩云"/>
                        </a:rPr>
                        <a:t>南浦大桥</a:t>
                      </a:r>
                      <a:endParaRPr b="0" lang="en-US" sz="8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　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名列世界第三的叠合梁斜拉桥－－南浦大桥，总投资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.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亿元人民币，于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99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年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正式建成通车。南浦大桥是上海市区第一座跨越黄浦江的大桥。大桥全长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,34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，通航净高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，可通行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万吨级巨轮。主桥为双塔双索面叠合梁斜拉桥结构，全长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84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。主孔跨径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23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。桥塔为折线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H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型钢筋混凝土结构，塔高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。每座桥塔两侧各有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对钢拉索连结主梁，索面成扇形布置。塔座基础选用直径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91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毫米、深达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余米的钢管桩群桩基础。主桥设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条机动车道，日通行能力可达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.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～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万辆机动车。主桥两侧各有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宽人行道供观光游览。桥面总宽度为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0.3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　　南浦大桥两岸引桥全长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7,50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，其中浦西段引桥长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,75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，采用复曲线成螺旋形；浦东引桥长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,74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米，采用复曲线长圆形与浦东南路相连并直通杨高路。引桥根据车流量分别设置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条车道，车速每小时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公里。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4481640" y="6616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481640" y="66168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16000" y="620640"/>
            <a:ext cx="7056360" cy="497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彩云"/>
                <a:ea typeface="华文彩云"/>
              </a:rPr>
              <a:t>杨浦大桥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 界 上 跨 度 最 大 的 斜 拉 桥 （截 至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3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底）。 位 于 上 海 市， 跨 黄 浦 江， 与 南 浦 大 桥 构 成 上 海 市 内 环 线 越 江 的 两 个 交 通 枢 纽。 建 于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1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 ～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3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。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3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 举 行 通 车 典 礼。 桥 总 长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53.2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 主 桥 长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2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 主 跨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2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 两 岸 引 桥 采 用 预 应 力 混 凝 土 梁 式 桥。 主 桥 采 用 悬 浮 体 系、 箱 形 钢 梁 与 钢 筋 混 凝 土 桥 面 板 组 成 的 叠 合 梁、 双 塔、 扇 形 双 索 面， 钢 管 桩 基 础。 主 塔 高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8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， 为 斜 拉 桥 中 之 最， 其 中 下 部 为 菱 形， 造 型 美 观， 桥 身 从 中 穿 过； 上 部 为 独 柱 直 插 蓝 天， 每 塔 两 侧 各 铆 有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2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 斜 拉 钢 索， 将 桥 身 悬 挂 于 通 航 水 位 之 上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 处。 从 江 上 远 眺 ， 宛 如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 巨 扇 倒 立 于 桥 面 之 上。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3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 邓 小 平 题 写 杨 浦 大 桥 桥 名。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763640" y="1400040"/>
            <a:ext cx="5834160" cy="29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徐浦大桥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海徐浦大桥主桥安装工程，（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7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建成），双塔双索面混合型结构斜拉桥，主桥全长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4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主跨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90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p-s1</cp:lastModifiedBy>
  <dcterms:modified xsi:type="dcterms:W3CDTF">2004-10-24T14:23:17Z</dcterms:modified>
  <cp:revision>3</cp:revision>
  <dc:subject/>
  <dc:title>PowerPoint Presentation</dc:title>
</cp:coreProperties>
</file>