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4.png" ContentType="image/png"/>
  <Override PartName="/ppt/media/image2.png" ContentType="image/png"/>
  <Override PartName="/ppt/media/image3.png" ContentType="image/png"/>
  <Override PartName="/ppt/media/image6.png" ContentType="image/png"/>
  <Override PartName="/ppt/media/yw4-5b.wav" ContentType="audio/x-wav"/>
  <Override PartName="/ppt/media/image12.jpeg" ContentType="image/jpeg"/>
  <Override PartName="/ppt/media/image10.jpeg" ContentType="image/jpeg"/>
  <Override PartName="/ppt/media/image5.png" ContentType="image/png"/>
  <Override PartName="/ppt/media/image1.jpeg" ContentType="image/jpeg"/>
  <Override PartName="/ppt/media/image7.png" ContentType="image/png"/>
  <Override PartName="/ppt/media/image8.png" ContentType="image/pn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D8BD8-F501-4848-8CE9-B53F4133B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94273-5DF2-48D4-AE81-00EB8446C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9C606-13BE-4EB3-830F-D14B635B6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3B9B9-546A-4FB9-8B38-910FE755E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34263-5293-4684-82B4-226A9B0AA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1009F-9047-48D8-B5FC-E7D089B77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CAF4E-81DC-4E07-AF98-95AE9CD78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340C8-6FD3-4064-A011-437CC60BE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39663-C8E2-43A5-AB06-2C2B050B1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B8C3B-53CE-4045-B55C-1D53DA078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68993-5AE4-484C-B21D-5E0E2C04B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31982-B8E7-4CC4-B094-EE4A7AD15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ffebf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A5530-2E33-493F-9180-D07E5DA107E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yw4-5b.wav" TargetMode="Externa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yw4-5b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yw4-5b.wav" TargetMode="External"/><Relationship Id="rId2" Type="http://schemas.openxmlformats.org/officeDocument/2006/relationships/slide" Target="slide7.xml"/><Relationship Id="rId3" Type="http://schemas.openxmlformats.org/officeDocument/2006/relationships/slide" Target="slide8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5.xml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ffebf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>
            <a:lum bright="-18000"/>
          </a:blip>
          <a:srcRect l="2524" t="4533" r="2524" b="439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0"/>
            <a:ext cx="6858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0" spc="-1" strike="noStrike">
                <a:solidFill>
                  <a:srgbClr val="ff3300"/>
                </a:solidFill>
                <a:latin typeface="方正魏碑简体"/>
                <a:ea typeface="方正魏碑简体"/>
              </a:rPr>
              <a:t>赵 州 桥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ffebf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>
            <a:hlinkClick r:id="rId1"/>
          </p:cNvPr>
          <p:cNvSpPr/>
          <p:nvPr/>
        </p:nvSpPr>
        <p:spPr>
          <a:xfrm>
            <a:off x="0" y="76320"/>
            <a:ext cx="91440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隶书"/>
              </a:rPr>
              <a:t>这座桥不但（        ），而且（        ）。桥面两侧有石栏，栏板上雕刻着（       ）的图案：有的刻着两条（               ）的龙，嘴里吐出美丽的水花；有的刻着两条飞龙，前爪（               ），各自（               ） ；  还有的刻着（              ）。所有的龙似乎都在（      ），真像（      ）的一样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050800" y="7632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隶书"/>
              </a:rPr>
              <a:t>坚固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36000" y="83808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隶书"/>
              </a:rPr>
              <a:t>美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831480" y="152388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隶书"/>
              </a:rPr>
              <a:t>精美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181760" y="228600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隶书"/>
              </a:rPr>
              <a:t>相互缠绕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24760" y="367200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隶书"/>
              </a:rPr>
              <a:t>相互抵着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277000" y="443376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隶书"/>
              </a:rPr>
              <a:t>回首遥望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032120" y="518148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隶书"/>
              </a:rPr>
              <a:t>双龙戏珠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890240" y="594360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隶书"/>
              </a:rPr>
              <a:t>活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83720" y="595800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隶书"/>
              </a:rPr>
              <a:t>游动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ffebf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990720" y="152280"/>
            <a:ext cx="7010280" cy="66294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380880" y="5195880"/>
            <a:ext cx="8534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隶书"/>
              </a:rPr>
              <a:t>    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隶书"/>
              </a:rPr>
              <a:t>赵州桥表现了我国古代劳动人民的智慧和才干，是我国宝贵的历史遗产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rcRect l="1375" t="0" r="0" b="0"/>
          <a:stretch/>
        </p:blipFill>
        <p:spPr>
          <a:xfrm>
            <a:off x="1981080" y="685800"/>
            <a:ext cx="5486400" cy="3962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75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4" restart="whenNotActive" nodeType="interactiveSeq" fill="hold">
                <p:stCondLst>
                  <p:cond evt="onClick">
                    <p:tgtEl>
                      <p:spTgt spid="102"/>
                    </p:tgtEl>
                  </p:cond>
                </p:stCondLst>
                <p:childTnLst>
                  <p:par>
                    <p:cTn id="175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78" dur="1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ffebf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367560" y="6033960"/>
            <a:ext cx="127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Times New Roman"/>
                <a:ea typeface="隶书"/>
              </a:rPr>
              <a:t>卢沟桥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ffebf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855000" y="6033960"/>
            <a:ext cx="2741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Times New Roman"/>
                <a:ea typeface="隶书"/>
              </a:rPr>
              <a:t>北京的十七孔桥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  <p:sndAc>
      <p:stSnd>
        <p:snd r:embed="rId2" name="yw4-5b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ffebf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ffebf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1099080" y="6027840"/>
            <a:ext cx="3472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Times New Roman"/>
                <a:ea typeface="隶书"/>
              </a:rPr>
              <a:t>北京颐和园的玉带桥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ffebf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0" y="342900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ffebf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1099080" y="6033960"/>
            <a:ext cx="3472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Times New Roman"/>
                <a:ea typeface="隶书"/>
              </a:rPr>
              <a:t>北京颐和园的彩虹桥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ffebf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0" y="34290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4572000" y="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ffebf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5547600" y="6027840"/>
            <a:ext cx="2741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Times New Roman"/>
                <a:ea typeface="隶书"/>
              </a:rPr>
              <a:t>圆明园的会心桥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ffebf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>
            <a:lum bright="-12000"/>
          </a:blip>
          <a:srcRect l="2524" t="4533" r="2524" b="4391"/>
          <a:stretch/>
        </p:blipFill>
        <p:spPr>
          <a:xfrm>
            <a:off x="0" y="0"/>
            <a:ext cx="9144000" cy="38098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411480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Times New Roman"/>
                <a:ea typeface="隶书"/>
              </a:rPr>
              <a:t>  </a:t>
            </a:r>
            <a:r>
              <a:rPr b="1" lang="zh-CN" sz="7200" spc="-1" strike="noStrike">
                <a:solidFill>
                  <a:srgbClr val="000000"/>
                </a:solidFill>
                <a:latin typeface="Times New Roman"/>
                <a:ea typeface="隶书"/>
              </a:rPr>
              <a:t>请你默读课文后向大家介绍赵州桥什么样？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43200" y="6477120"/>
            <a:ext cx="57150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>
            <a:hlinkClick r:id="rId2" action="ppaction://hlinksldjump"/>
          </p:cNvPr>
          <p:cNvSpPr/>
          <p:nvPr/>
        </p:nvSpPr>
        <p:spPr>
          <a:xfrm>
            <a:off x="845172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19695" y="10800"/>
                </a:moveTo>
                <a:lnTo>
                  <a:pt x="9189" y="17806"/>
                </a:lnTo>
                <a:lnTo>
                  <a:pt x="9189" y="3794"/>
                </a:lnTo>
                <a:close/>
              </a:path>
              <a:path fill="darken" w="32392" h="21600">
                <a:moveTo>
                  <a:pt x="21540" y="3794"/>
                </a:moveTo>
                <a:lnTo>
                  <a:pt x="21540" y="17806"/>
                </a:lnTo>
                <a:lnTo>
                  <a:pt x="23202" y="17806"/>
                </a:lnTo>
                <a:lnTo>
                  <a:pt x="23202" y="3794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>
            <a:hlinkClick r:id="rId3" action="ppaction://hlinksldjump"/>
          </p:cNvPr>
          <p:cNvSpPr/>
          <p:nvPr/>
        </p:nvSpPr>
        <p:spPr>
          <a:xfrm>
            <a:off x="7689960" y="6400800"/>
            <a:ext cx="761760" cy="457200"/>
          </a:xfrm>
          <a:custGeom>
            <a:avLst/>
            <a:gdLst>
              <a:gd name="textAreaLeft" fmla="*/ 29520 w 761760"/>
              <a:gd name="textAreaRight" fmla="*/ 732240 w 7617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5977" h="21600">
                <a:moveTo>
                  <a:pt x="0" y="0"/>
                </a:moveTo>
                <a:lnTo>
                  <a:pt x="35977" y="0"/>
                </a:lnTo>
                <a:lnTo>
                  <a:pt x="35977" y="21600"/>
                </a:lnTo>
                <a:lnTo>
                  <a:pt x="0" y="21600"/>
                </a:lnTo>
                <a:close/>
              </a:path>
              <a:path fill="lightenLess" w="35977" h="21600">
                <a:moveTo>
                  <a:pt x="0" y="0"/>
                </a:moveTo>
                <a:lnTo>
                  <a:pt x="35977" y="0"/>
                </a:lnTo>
                <a:lnTo>
                  <a:pt x="34577" y="1400"/>
                </a:lnTo>
                <a:lnTo>
                  <a:pt x="1400" y="1400"/>
                </a:lnTo>
                <a:close/>
              </a:path>
              <a:path fill="darken" w="35977" h="21600">
                <a:moveTo>
                  <a:pt x="35977" y="0"/>
                </a:moveTo>
                <a:lnTo>
                  <a:pt x="35977" y="21600"/>
                </a:lnTo>
                <a:lnTo>
                  <a:pt x="34577" y="20200"/>
                </a:lnTo>
                <a:lnTo>
                  <a:pt x="34577" y="1400"/>
                </a:lnTo>
                <a:close/>
              </a:path>
              <a:path fill="darkenLess" w="35977" h="21600">
                <a:moveTo>
                  <a:pt x="359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77" y="20200"/>
                </a:lnTo>
                <a:close/>
              </a:path>
              <a:path fill="lighten" w="359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77" h="21600">
                <a:moveTo>
                  <a:pt x="14490" y="10800"/>
                </a:moveTo>
                <a:lnTo>
                  <a:pt x="24995" y="3794"/>
                </a:lnTo>
                <a:lnTo>
                  <a:pt x="24995" y="17806"/>
                </a:lnTo>
                <a:close/>
              </a:path>
              <a:path fill="darken" w="35977" h="21600">
                <a:moveTo>
                  <a:pt x="10982" y="3794"/>
                </a:moveTo>
                <a:lnTo>
                  <a:pt x="12645" y="3794"/>
                </a:lnTo>
                <a:lnTo>
                  <a:pt x="12645" y="17806"/>
                </a:lnTo>
                <a:lnTo>
                  <a:pt x="10982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458200" y="64152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imes New Roman"/>
              </a:rPr>
              <a:t>设计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924680" y="64152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imes New Roman"/>
              </a:rPr>
              <a:t>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in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5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ffebf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0" y="34290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4572000" y="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4"/>
          <a:stretch/>
        </p:blipFill>
        <p:spPr>
          <a:xfrm>
            <a:off x="4572000" y="342900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ffebf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>
            <a:lum bright="-18000"/>
          </a:blip>
          <a:srcRect l="2524" t="4533" r="2524" b="439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ffebf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411480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隶书"/>
              </a:rPr>
              <a:t>  “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隶书"/>
              </a:rPr>
              <a:t>这种设计，在建桥史上是一个创举”，“这种设计”指的是什么？有什么好处？理解“创举”这个词语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>
            <a:lum bright="-6000"/>
          </a:blip>
          <a:srcRect l="13000" t="13999" r="18999" b="47338"/>
          <a:stretch/>
        </p:blipFill>
        <p:spPr>
          <a:xfrm>
            <a:off x="0" y="0"/>
            <a:ext cx="9144000" cy="35812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 flipV="1">
            <a:off x="4255920" y="2819520"/>
            <a:ext cx="849600" cy="9144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153280" y="6400800"/>
            <a:ext cx="990720" cy="457200"/>
          </a:xfrm>
          <a:custGeom>
            <a:avLst/>
            <a:gdLst>
              <a:gd name="textAreaLeft" fmla="*/ 29520 w 990720"/>
              <a:gd name="textAreaRight" fmla="*/ 961200 w 9907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46786" h="21600">
                <a:moveTo>
                  <a:pt x="0" y="0"/>
                </a:moveTo>
                <a:lnTo>
                  <a:pt x="46786" y="0"/>
                </a:lnTo>
                <a:lnTo>
                  <a:pt x="46786" y="21600"/>
                </a:lnTo>
                <a:lnTo>
                  <a:pt x="0" y="21600"/>
                </a:lnTo>
                <a:close/>
              </a:path>
              <a:path fill="lightenLess" w="46786" h="21600">
                <a:moveTo>
                  <a:pt x="0" y="0"/>
                </a:moveTo>
                <a:lnTo>
                  <a:pt x="46786" y="0"/>
                </a:lnTo>
                <a:lnTo>
                  <a:pt x="45386" y="1400"/>
                </a:lnTo>
                <a:lnTo>
                  <a:pt x="1400" y="1400"/>
                </a:lnTo>
                <a:close/>
              </a:path>
              <a:path fill="darken" w="46786" h="21600">
                <a:moveTo>
                  <a:pt x="46786" y="0"/>
                </a:moveTo>
                <a:lnTo>
                  <a:pt x="46786" y="21600"/>
                </a:lnTo>
                <a:lnTo>
                  <a:pt x="45386" y="20200"/>
                </a:lnTo>
                <a:lnTo>
                  <a:pt x="45386" y="1400"/>
                </a:lnTo>
                <a:close/>
              </a:path>
              <a:path fill="darkenLess" w="46786" h="21600">
                <a:moveTo>
                  <a:pt x="467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386" y="20200"/>
                </a:lnTo>
                <a:close/>
              </a:path>
              <a:path fill="lighten" w="467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786" h="21600">
                <a:moveTo>
                  <a:pt x="16386" y="7493"/>
                </a:moveTo>
                <a:lnTo>
                  <a:pt x="19894" y="7493"/>
                </a:lnTo>
                <a:lnTo>
                  <a:pt x="19894" y="12828"/>
                </a:lnTo>
                <a:cubicBezTo>
                  <a:pt x="19894" y="13751"/>
                  <a:pt x="20695" y="14482"/>
                  <a:pt x="21731" y="14482"/>
                </a:cubicBezTo>
                <a:lnTo>
                  <a:pt x="23393" y="14482"/>
                </a:lnTo>
                <a:cubicBezTo>
                  <a:pt x="24429" y="14482"/>
                  <a:pt x="25229" y="13751"/>
                  <a:pt x="25229" y="12828"/>
                </a:cubicBezTo>
                <a:lnTo>
                  <a:pt x="25229" y="7493"/>
                </a:lnTo>
                <a:lnTo>
                  <a:pt x="23393" y="7493"/>
                </a:lnTo>
                <a:lnTo>
                  <a:pt x="26901" y="3985"/>
                </a:lnTo>
                <a:lnTo>
                  <a:pt x="30573" y="7493"/>
                </a:lnTo>
                <a:lnTo>
                  <a:pt x="28737" y="7493"/>
                </a:lnTo>
                <a:lnTo>
                  <a:pt x="28737" y="12828"/>
                </a:lnTo>
                <a:cubicBezTo>
                  <a:pt x="28737" y="15596"/>
                  <a:pt x="26161" y="18155"/>
                  <a:pt x="23393" y="18155"/>
                </a:cubicBezTo>
                <a:lnTo>
                  <a:pt x="21731" y="18155"/>
                </a:lnTo>
                <a:cubicBezTo>
                  <a:pt x="18963" y="18155"/>
                  <a:pt x="16386" y="15596"/>
                  <a:pt x="16386" y="12828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52280" y="1295280"/>
            <a:ext cx="4876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既减轻了流水对桥身的冲击力，使桥不容易被大水冲毁，又减轻了桥身的重量，节省了石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380880" y="1752480"/>
            <a:ext cx="1371600" cy="1143000"/>
            <a:chOff x="380880" y="1752480"/>
            <a:chExt cx="1371600" cy="1143000"/>
          </a:xfrm>
        </p:grpSpPr>
        <p:sp>
          <p:nvSpPr>
            <p:cNvPr id="57" name=""/>
            <p:cNvSpPr/>
            <p:nvPr/>
          </p:nvSpPr>
          <p:spPr>
            <a:xfrm>
              <a:off x="380880" y="1752480"/>
              <a:ext cx="152640" cy="152280"/>
            </a:xfrm>
            <a:prstGeom prst="ellips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600200" y="2743200"/>
              <a:ext cx="152280" cy="152280"/>
            </a:xfrm>
            <a:prstGeom prst="ellipse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ffebf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30492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隶书"/>
              </a:rPr>
              <a:t>这座桥不但坚固，而且美观。桥面两侧有石栏，栏板上雕刻着精美的图案：有的刻着两条相互缠绕的龙，嘴里吐出美丽的水花；有的刻着两条飞龙，前爪相互抵着，各自回首遥望；还有的刻着双龙戏珠。所有的龙似乎都在游动，真像活的一样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>
            <a:hlinkClick r:id="rId1"/>
          </p:cNvPr>
          <p:cNvSpPr/>
          <p:nvPr/>
        </p:nvSpPr>
        <p:spPr>
          <a:xfrm>
            <a:off x="8229600" y="6095880"/>
            <a:ext cx="914400" cy="762120"/>
          </a:xfrm>
          <a:custGeom>
            <a:avLst/>
            <a:gdLst>
              <a:gd name="textAreaLeft" fmla="*/ 49320 w 914400"/>
              <a:gd name="textAreaRight" fmla="*/ 865080 w 9144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5914" h="21600">
                <a:moveTo>
                  <a:pt x="0" y="0"/>
                </a:moveTo>
                <a:lnTo>
                  <a:pt x="25914" y="0"/>
                </a:lnTo>
                <a:lnTo>
                  <a:pt x="25914" y="21600"/>
                </a:lnTo>
                <a:lnTo>
                  <a:pt x="0" y="21600"/>
                </a:lnTo>
                <a:close/>
              </a:path>
              <a:path fill="lightenLess" w="25914" h="21600">
                <a:moveTo>
                  <a:pt x="0" y="0"/>
                </a:moveTo>
                <a:lnTo>
                  <a:pt x="25914" y="0"/>
                </a:lnTo>
                <a:lnTo>
                  <a:pt x="24514" y="1400"/>
                </a:lnTo>
                <a:lnTo>
                  <a:pt x="1400" y="1400"/>
                </a:lnTo>
                <a:close/>
              </a:path>
              <a:path fill="darken" w="25914" h="21600">
                <a:moveTo>
                  <a:pt x="25914" y="0"/>
                </a:moveTo>
                <a:lnTo>
                  <a:pt x="25914" y="21600"/>
                </a:lnTo>
                <a:lnTo>
                  <a:pt x="24514" y="20200"/>
                </a:lnTo>
                <a:lnTo>
                  <a:pt x="24514" y="1400"/>
                </a:lnTo>
                <a:close/>
              </a:path>
              <a:path fill="darkenLess" w="25914" h="21600">
                <a:moveTo>
                  <a:pt x="25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4" y="20200"/>
                </a:lnTo>
                <a:close/>
              </a:path>
              <a:path fill="lighten" w="25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14" h="21600">
                <a:moveTo>
                  <a:pt x="5950" y="8406"/>
                </a:moveTo>
                <a:lnTo>
                  <a:pt x="10381" y="8406"/>
                </a:lnTo>
                <a:lnTo>
                  <a:pt x="14802" y="3794"/>
                </a:lnTo>
                <a:lnTo>
                  <a:pt x="14802" y="17806"/>
                </a:lnTo>
                <a:lnTo>
                  <a:pt x="10381" y="13194"/>
                </a:lnTo>
                <a:lnTo>
                  <a:pt x="5950" y="13194"/>
                </a:lnTo>
                <a:close/>
              </a:path>
              <a:path fill="darken" w="25914" h="21600">
                <a:moveTo>
                  <a:pt x="16456" y="10800"/>
                </a:moveTo>
                <a:lnTo>
                  <a:pt x="19963" y="10800"/>
                </a:lnTo>
              </a:path>
              <a:path fill="darken" w="25914" h="21600">
                <a:moveTo>
                  <a:pt x="16456" y="8406"/>
                </a:moveTo>
                <a:lnTo>
                  <a:pt x="19963" y="5639"/>
                </a:lnTo>
              </a:path>
              <a:path fill="darken" w="25914" h="21600">
                <a:moveTo>
                  <a:pt x="16456" y="13194"/>
                </a:moveTo>
                <a:lnTo>
                  <a:pt x="19963" y="15961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33920" y="1981080"/>
            <a:ext cx="1143000" cy="533520"/>
          </a:xfrm>
          <a:custGeom>
            <a:avLst/>
            <a:gdLst>
              <a:gd name="textAreaLeft" fmla="*/ 34560 w 1143000"/>
              <a:gd name="textAreaRight" fmla="*/ 1108440 w 11430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46259" h="21600">
                <a:moveTo>
                  <a:pt x="0" y="0"/>
                </a:moveTo>
                <a:lnTo>
                  <a:pt x="46259" y="0"/>
                </a:lnTo>
                <a:lnTo>
                  <a:pt x="46259" y="21600"/>
                </a:lnTo>
                <a:lnTo>
                  <a:pt x="0" y="21600"/>
                </a:lnTo>
                <a:close/>
              </a:path>
              <a:path fill="lightenLess" w="46259" h="21600">
                <a:moveTo>
                  <a:pt x="0" y="0"/>
                </a:moveTo>
                <a:lnTo>
                  <a:pt x="46259" y="0"/>
                </a:lnTo>
                <a:lnTo>
                  <a:pt x="44859" y="1400"/>
                </a:lnTo>
                <a:lnTo>
                  <a:pt x="1400" y="1400"/>
                </a:lnTo>
                <a:close/>
              </a:path>
              <a:path fill="darken" w="46259" h="21600">
                <a:moveTo>
                  <a:pt x="46259" y="0"/>
                </a:moveTo>
                <a:lnTo>
                  <a:pt x="46259" y="21600"/>
                </a:lnTo>
                <a:lnTo>
                  <a:pt x="44859" y="20200"/>
                </a:lnTo>
                <a:lnTo>
                  <a:pt x="44859" y="1400"/>
                </a:lnTo>
                <a:close/>
              </a:path>
              <a:path fill="darkenLess" w="46259" h="21600">
                <a:moveTo>
                  <a:pt x="462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859" y="20200"/>
                </a:lnTo>
                <a:close/>
              </a:path>
              <a:path fill="lighten" w="462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>
            <a:hlinkClick r:id="rId2" action="ppaction://hlinksldjump"/>
          </p:cNvPr>
          <p:cNvSpPr/>
          <p:nvPr/>
        </p:nvSpPr>
        <p:spPr>
          <a:xfrm>
            <a:off x="0" y="3429000"/>
            <a:ext cx="1371600" cy="533520"/>
          </a:xfrm>
          <a:custGeom>
            <a:avLst/>
            <a:gdLst>
              <a:gd name="textAreaLeft" fmla="*/ 34560 w 1371600"/>
              <a:gd name="textAreaRight" fmla="*/ 1337040 w 13716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55507" h="21600">
                <a:moveTo>
                  <a:pt x="0" y="0"/>
                </a:moveTo>
                <a:lnTo>
                  <a:pt x="55507" y="0"/>
                </a:lnTo>
                <a:lnTo>
                  <a:pt x="55507" y="21600"/>
                </a:lnTo>
                <a:lnTo>
                  <a:pt x="0" y="21600"/>
                </a:lnTo>
                <a:close/>
              </a:path>
              <a:path fill="lightenLess" w="55507" h="21600">
                <a:moveTo>
                  <a:pt x="0" y="0"/>
                </a:moveTo>
                <a:lnTo>
                  <a:pt x="55507" y="0"/>
                </a:lnTo>
                <a:lnTo>
                  <a:pt x="54108" y="1400"/>
                </a:lnTo>
                <a:lnTo>
                  <a:pt x="1400" y="1400"/>
                </a:lnTo>
                <a:close/>
              </a:path>
              <a:path fill="darken" w="55507" h="21600">
                <a:moveTo>
                  <a:pt x="55507" y="0"/>
                </a:moveTo>
                <a:lnTo>
                  <a:pt x="55507" y="21600"/>
                </a:lnTo>
                <a:lnTo>
                  <a:pt x="54108" y="20200"/>
                </a:lnTo>
                <a:lnTo>
                  <a:pt x="54108" y="1400"/>
                </a:lnTo>
                <a:close/>
              </a:path>
              <a:path fill="darkenLess" w="55507" h="21600">
                <a:moveTo>
                  <a:pt x="555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08" y="20200"/>
                </a:lnTo>
                <a:close/>
              </a:path>
              <a:path fill="lighten" w="555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>
            <a:hlinkClick r:id="rId3" action="ppaction://hlinksldjump"/>
          </p:cNvPr>
          <p:cNvSpPr/>
          <p:nvPr/>
        </p:nvSpPr>
        <p:spPr>
          <a:xfrm>
            <a:off x="5486400" y="4038480"/>
            <a:ext cx="1981080" cy="762120"/>
          </a:xfrm>
          <a:custGeom>
            <a:avLst/>
            <a:gdLst>
              <a:gd name="textAreaLeft" fmla="*/ 49320 w 1981080"/>
              <a:gd name="textAreaRight" fmla="*/ 1931760 w 1981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56131" h="21600">
                <a:moveTo>
                  <a:pt x="0" y="0"/>
                </a:moveTo>
                <a:lnTo>
                  <a:pt x="56131" y="0"/>
                </a:lnTo>
                <a:lnTo>
                  <a:pt x="56131" y="21600"/>
                </a:lnTo>
                <a:lnTo>
                  <a:pt x="0" y="21600"/>
                </a:lnTo>
                <a:close/>
              </a:path>
              <a:path fill="lightenLess" w="56131" h="21600">
                <a:moveTo>
                  <a:pt x="0" y="0"/>
                </a:moveTo>
                <a:lnTo>
                  <a:pt x="56131" y="0"/>
                </a:lnTo>
                <a:lnTo>
                  <a:pt x="54732" y="1400"/>
                </a:lnTo>
                <a:lnTo>
                  <a:pt x="1400" y="1400"/>
                </a:lnTo>
                <a:close/>
              </a:path>
              <a:path fill="darken" w="56131" h="21600">
                <a:moveTo>
                  <a:pt x="56131" y="0"/>
                </a:moveTo>
                <a:lnTo>
                  <a:pt x="56131" y="21600"/>
                </a:lnTo>
                <a:lnTo>
                  <a:pt x="54732" y="20200"/>
                </a:lnTo>
                <a:lnTo>
                  <a:pt x="54732" y="1400"/>
                </a:lnTo>
                <a:close/>
              </a:path>
              <a:path fill="darkenLess" w="56131" h="21600">
                <a:moveTo>
                  <a:pt x="561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732" y="20200"/>
                </a:lnTo>
                <a:close/>
              </a:path>
              <a:path fill="lighten" w="561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238880" y="6095880"/>
            <a:ext cx="990720" cy="762120"/>
          </a:xfrm>
          <a:custGeom>
            <a:avLst/>
            <a:gdLst>
              <a:gd name="textAreaLeft" fmla="*/ 49320 w 990720"/>
              <a:gd name="textAreaRight" fmla="*/ 941400 w 9907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8076" h="21600">
                <a:moveTo>
                  <a:pt x="0" y="0"/>
                </a:moveTo>
                <a:lnTo>
                  <a:pt x="28076" y="0"/>
                </a:lnTo>
                <a:lnTo>
                  <a:pt x="28076" y="21600"/>
                </a:lnTo>
                <a:lnTo>
                  <a:pt x="0" y="21600"/>
                </a:lnTo>
                <a:close/>
              </a:path>
              <a:path fill="lightenLess" w="28076" h="21600">
                <a:moveTo>
                  <a:pt x="0" y="0"/>
                </a:moveTo>
                <a:lnTo>
                  <a:pt x="28076" y="0"/>
                </a:lnTo>
                <a:lnTo>
                  <a:pt x="26676" y="1400"/>
                </a:lnTo>
                <a:lnTo>
                  <a:pt x="1400" y="1400"/>
                </a:lnTo>
                <a:close/>
              </a:path>
              <a:path fill="darken" w="28076" h="21600">
                <a:moveTo>
                  <a:pt x="28076" y="0"/>
                </a:moveTo>
                <a:lnTo>
                  <a:pt x="28076" y="21600"/>
                </a:lnTo>
                <a:lnTo>
                  <a:pt x="26676" y="20200"/>
                </a:lnTo>
                <a:lnTo>
                  <a:pt x="26676" y="1400"/>
                </a:lnTo>
                <a:close/>
              </a:path>
              <a:path fill="darkenLess" w="28076" h="21600">
                <a:moveTo>
                  <a:pt x="280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676" y="20200"/>
                </a:lnTo>
                <a:close/>
              </a:path>
              <a:path fill="lighten" w="280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076" h="21600">
                <a:moveTo>
                  <a:pt x="17537" y="10800"/>
                </a:moveTo>
                <a:lnTo>
                  <a:pt x="7031" y="17806"/>
                </a:lnTo>
                <a:lnTo>
                  <a:pt x="7031" y="3794"/>
                </a:lnTo>
                <a:close/>
              </a:path>
              <a:path fill="darken" w="28076" h="21600">
                <a:moveTo>
                  <a:pt x="19382" y="3794"/>
                </a:moveTo>
                <a:lnTo>
                  <a:pt x="19382" y="17806"/>
                </a:lnTo>
                <a:lnTo>
                  <a:pt x="21044" y="17806"/>
                </a:lnTo>
                <a:lnTo>
                  <a:pt x="21044" y="3794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>
            <a:hlinkClick r:id="rId4" action="ppaction://hlinksldjump"/>
          </p:cNvPr>
          <p:cNvSpPr/>
          <p:nvPr/>
        </p:nvSpPr>
        <p:spPr>
          <a:xfrm>
            <a:off x="6248520" y="6095880"/>
            <a:ext cx="990360" cy="762120"/>
          </a:xfrm>
          <a:custGeom>
            <a:avLst/>
            <a:gdLst>
              <a:gd name="textAreaLeft" fmla="*/ 49320 w 990360"/>
              <a:gd name="textAreaRight" fmla="*/ 941040 w 99036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8066" h="21600">
                <a:moveTo>
                  <a:pt x="0" y="0"/>
                </a:moveTo>
                <a:lnTo>
                  <a:pt x="28066" y="0"/>
                </a:lnTo>
                <a:lnTo>
                  <a:pt x="28066" y="21600"/>
                </a:lnTo>
                <a:lnTo>
                  <a:pt x="0" y="21600"/>
                </a:lnTo>
                <a:close/>
              </a:path>
              <a:path fill="lightenLess" w="28066" h="21600">
                <a:moveTo>
                  <a:pt x="0" y="0"/>
                </a:moveTo>
                <a:lnTo>
                  <a:pt x="28066" y="0"/>
                </a:lnTo>
                <a:lnTo>
                  <a:pt x="26666" y="1400"/>
                </a:lnTo>
                <a:lnTo>
                  <a:pt x="1400" y="1400"/>
                </a:lnTo>
                <a:close/>
              </a:path>
              <a:path fill="darken" w="28066" h="21600">
                <a:moveTo>
                  <a:pt x="28066" y="0"/>
                </a:moveTo>
                <a:lnTo>
                  <a:pt x="28066" y="21600"/>
                </a:lnTo>
                <a:lnTo>
                  <a:pt x="26666" y="20200"/>
                </a:lnTo>
                <a:lnTo>
                  <a:pt x="26666" y="1400"/>
                </a:lnTo>
                <a:close/>
              </a:path>
              <a:path fill="darkenLess" w="28066" h="21600">
                <a:moveTo>
                  <a:pt x="280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666" y="20200"/>
                </a:lnTo>
                <a:close/>
              </a:path>
              <a:path fill="lighten" w="280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066" h="21600">
                <a:moveTo>
                  <a:pt x="7026" y="7493"/>
                </a:moveTo>
                <a:lnTo>
                  <a:pt x="10534" y="7493"/>
                </a:lnTo>
                <a:lnTo>
                  <a:pt x="10534" y="12828"/>
                </a:lnTo>
                <a:cubicBezTo>
                  <a:pt x="10534" y="13751"/>
                  <a:pt x="11335" y="14482"/>
                  <a:pt x="12370" y="14482"/>
                </a:cubicBezTo>
                <a:lnTo>
                  <a:pt x="14033" y="14482"/>
                </a:lnTo>
                <a:cubicBezTo>
                  <a:pt x="15069" y="14482"/>
                  <a:pt x="15869" y="13751"/>
                  <a:pt x="15869" y="12828"/>
                </a:cubicBezTo>
                <a:lnTo>
                  <a:pt x="15869" y="7493"/>
                </a:lnTo>
                <a:lnTo>
                  <a:pt x="14033" y="7493"/>
                </a:lnTo>
                <a:lnTo>
                  <a:pt x="17540" y="3985"/>
                </a:lnTo>
                <a:lnTo>
                  <a:pt x="21213" y="7493"/>
                </a:lnTo>
                <a:lnTo>
                  <a:pt x="19377" y="7493"/>
                </a:lnTo>
                <a:lnTo>
                  <a:pt x="19377" y="12828"/>
                </a:lnTo>
                <a:cubicBezTo>
                  <a:pt x="19377" y="15596"/>
                  <a:pt x="16801" y="18155"/>
                  <a:pt x="14033" y="18155"/>
                </a:cubicBezTo>
                <a:lnTo>
                  <a:pt x="12370" y="18155"/>
                </a:lnTo>
                <a:cubicBezTo>
                  <a:pt x="9603" y="18155"/>
                  <a:pt x="7026" y="15596"/>
                  <a:pt x="7026" y="12828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181480" y="563868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315200" y="62485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Times New Roman"/>
              </a:rPr>
              <a:t>精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ffebf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05000" y="5602320"/>
            <a:ext cx="4935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隶书"/>
              </a:rPr>
              <a:t>相互缠绕  吐出美丽的水花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8299440" y="6172200"/>
            <a:ext cx="838080" cy="685800"/>
          </a:xfrm>
          <a:custGeom>
            <a:avLst/>
            <a:gdLst>
              <a:gd name="textAreaLeft" fmla="*/ 44280 w 838080"/>
              <a:gd name="textAreaRight" fmla="*/ 793800 w 8380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6394" h="21600">
                <a:moveTo>
                  <a:pt x="0" y="0"/>
                </a:moveTo>
                <a:lnTo>
                  <a:pt x="26394" y="0"/>
                </a:lnTo>
                <a:lnTo>
                  <a:pt x="26394" y="21600"/>
                </a:lnTo>
                <a:lnTo>
                  <a:pt x="0" y="21600"/>
                </a:lnTo>
                <a:close/>
              </a:path>
              <a:path fill="lightenLess" w="26394" h="21600">
                <a:moveTo>
                  <a:pt x="0" y="0"/>
                </a:moveTo>
                <a:lnTo>
                  <a:pt x="26394" y="0"/>
                </a:lnTo>
                <a:lnTo>
                  <a:pt x="24994" y="1400"/>
                </a:lnTo>
                <a:lnTo>
                  <a:pt x="1400" y="1400"/>
                </a:lnTo>
                <a:close/>
              </a:path>
              <a:path fill="darken" w="26394" h="21600">
                <a:moveTo>
                  <a:pt x="26394" y="0"/>
                </a:moveTo>
                <a:lnTo>
                  <a:pt x="26394" y="21600"/>
                </a:lnTo>
                <a:lnTo>
                  <a:pt x="24994" y="20200"/>
                </a:lnTo>
                <a:lnTo>
                  <a:pt x="24994" y="1400"/>
                </a:lnTo>
                <a:close/>
              </a:path>
              <a:path fill="darkenLess" w="26394" h="21600">
                <a:moveTo>
                  <a:pt x="263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94" y="20200"/>
                </a:lnTo>
                <a:close/>
              </a:path>
              <a:path fill="lighten" w="263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94" h="21600">
                <a:moveTo>
                  <a:pt x="6190" y="7493"/>
                </a:moveTo>
                <a:lnTo>
                  <a:pt x="9698" y="7493"/>
                </a:lnTo>
                <a:lnTo>
                  <a:pt x="9698" y="12828"/>
                </a:lnTo>
                <a:cubicBezTo>
                  <a:pt x="9698" y="13751"/>
                  <a:pt x="10499" y="14482"/>
                  <a:pt x="11534" y="14482"/>
                </a:cubicBezTo>
                <a:lnTo>
                  <a:pt x="13197" y="14482"/>
                </a:lnTo>
                <a:cubicBezTo>
                  <a:pt x="14233" y="14482"/>
                  <a:pt x="15033" y="13751"/>
                  <a:pt x="15033" y="12828"/>
                </a:cubicBezTo>
                <a:lnTo>
                  <a:pt x="15033" y="7493"/>
                </a:lnTo>
                <a:lnTo>
                  <a:pt x="13197" y="7493"/>
                </a:lnTo>
                <a:lnTo>
                  <a:pt x="16704" y="3985"/>
                </a:lnTo>
                <a:lnTo>
                  <a:pt x="20377" y="7493"/>
                </a:lnTo>
                <a:lnTo>
                  <a:pt x="18541" y="7493"/>
                </a:lnTo>
                <a:lnTo>
                  <a:pt x="18541" y="12828"/>
                </a:lnTo>
                <a:cubicBezTo>
                  <a:pt x="18541" y="15596"/>
                  <a:pt x="15965" y="18155"/>
                  <a:pt x="13197" y="18155"/>
                </a:cubicBezTo>
                <a:lnTo>
                  <a:pt x="11534" y="18155"/>
                </a:lnTo>
                <a:cubicBezTo>
                  <a:pt x="8767" y="18155"/>
                  <a:pt x="6190" y="15596"/>
                  <a:pt x="6190" y="12828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rcRect l="0" t="0" r="0" b="1430"/>
          <a:stretch/>
        </p:blipFill>
        <p:spPr>
          <a:xfrm>
            <a:off x="0" y="0"/>
            <a:ext cx="9220320" cy="53341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ffebf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1870200" y="5602320"/>
            <a:ext cx="5301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隶书"/>
              </a:rPr>
              <a:t>前爪相互抵着  各自回首遥望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>
            <a:hlinkClick r:id="rId1" action="ppaction://hlinksldjump"/>
          </p:cNvPr>
          <p:cNvSpPr/>
          <p:nvPr/>
        </p:nvSpPr>
        <p:spPr>
          <a:xfrm>
            <a:off x="8305920" y="6172200"/>
            <a:ext cx="838080" cy="685800"/>
          </a:xfrm>
          <a:custGeom>
            <a:avLst/>
            <a:gdLst>
              <a:gd name="textAreaLeft" fmla="*/ 44280 w 838080"/>
              <a:gd name="textAreaRight" fmla="*/ 793800 w 8380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6394" h="21600">
                <a:moveTo>
                  <a:pt x="0" y="0"/>
                </a:moveTo>
                <a:lnTo>
                  <a:pt x="26394" y="0"/>
                </a:lnTo>
                <a:lnTo>
                  <a:pt x="26394" y="21600"/>
                </a:lnTo>
                <a:lnTo>
                  <a:pt x="0" y="21600"/>
                </a:lnTo>
                <a:close/>
              </a:path>
              <a:path fill="lightenLess" w="26394" h="21600">
                <a:moveTo>
                  <a:pt x="0" y="0"/>
                </a:moveTo>
                <a:lnTo>
                  <a:pt x="26394" y="0"/>
                </a:lnTo>
                <a:lnTo>
                  <a:pt x="24994" y="1400"/>
                </a:lnTo>
                <a:lnTo>
                  <a:pt x="1400" y="1400"/>
                </a:lnTo>
                <a:close/>
              </a:path>
              <a:path fill="darken" w="26394" h="21600">
                <a:moveTo>
                  <a:pt x="26394" y="0"/>
                </a:moveTo>
                <a:lnTo>
                  <a:pt x="26394" y="21600"/>
                </a:lnTo>
                <a:lnTo>
                  <a:pt x="24994" y="20200"/>
                </a:lnTo>
                <a:lnTo>
                  <a:pt x="24994" y="1400"/>
                </a:lnTo>
                <a:close/>
              </a:path>
              <a:path fill="darkenLess" w="26394" h="21600">
                <a:moveTo>
                  <a:pt x="263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94" y="20200"/>
                </a:lnTo>
                <a:close/>
              </a:path>
              <a:path fill="lighten" w="263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94" h="21600">
                <a:moveTo>
                  <a:pt x="6190" y="7493"/>
                </a:moveTo>
                <a:lnTo>
                  <a:pt x="9698" y="7493"/>
                </a:lnTo>
                <a:lnTo>
                  <a:pt x="9698" y="12828"/>
                </a:lnTo>
                <a:cubicBezTo>
                  <a:pt x="9698" y="13751"/>
                  <a:pt x="10499" y="14482"/>
                  <a:pt x="11534" y="14482"/>
                </a:cubicBezTo>
                <a:lnTo>
                  <a:pt x="13197" y="14482"/>
                </a:lnTo>
                <a:cubicBezTo>
                  <a:pt x="14233" y="14482"/>
                  <a:pt x="15033" y="13751"/>
                  <a:pt x="15033" y="12828"/>
                </a:cubicBezTo>
                <a:lnTo>
                  <a:pt x="15033" y="7493"/>
                </a:lnTo>
                <a:lnTo>
                  <a:pt x="13197" y="7493"/>
                </a:lnTo>
                <a:lnTo>
                  <a:pt x="16704" y="3985"/>
                </a:lnTo>
                <a:lnTo>
                  <a:pt x="20377" y="7493"/>
                </a:lnTo>
                <a:lnTo>
                  <a:pt x="18541" y="7493"/>
                </a:lnTo>
                <a:lnTo>
                  <a:pt x="18541" y="12828"/>
                </a:lnTo>
                <a:cubicBezTo>
                  <a:pt x="18541" y="15596"/>
                  <a:pt x="15965" y="18155"/>
                  <a:pt x="13197" y="18155"/>
                </a:cubicBezTo>
                <a:lnTo>
                  <a:pt x="11534" y="18155"/>
                </a:lnTo>
                <a:cubicBezTo>
                  <a:pt x="8767" y="18155"/>
                  <a:pt x="6190" y="15596"/>
                  <a:pt x="6190" y="12828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>
            <a:lum bright="-6000"/>
          </a:blip>
          <a:srcRect l="31003" t="24671" r="28003" b="32666"/>
          <a:stretch/>
        </p:blipFill>
        <p:spPr>
          <a:xfrm>
            <a:off x="0" y="0"/>
            <a:ext cx="9144000" cy="495288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ffebf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rcRect l="47003" t="24671" r="11999" b="34001"/>
          <a:stretch/>
        </p:blipFill>
        <p:spPr>
          <a:xfrm>
            <a:off x="0" y="0"/>
            <a:ext cx="9144000" cy="487692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3540600" y="556272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隶书"/>
              </a:rPr>
              <a:t>双龙戏珠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>
            <a:hlinkClick r:id="rId2" action="ppaction://hlinksldjump"/>
          </p:cNvPr>
          <p:cNvSpPr/>
          <p:nvPr/>
        </p:nvSpPr>
        <p:spPr>
          <a:xfrm>
            <a:off x="8299440" y="6172200"/>
            <a:ext cx="838080" cy="685800"/>
          </a:xfrm>
          <a:custGeom>
            <a:avLst/>
            <a:gdLst>
              <a:gd name="textAreaLeft" fmla="*/ 44280 w 838080"/>
              <a:gd name="textAreaRight" fmla="*/ 793800 w 8380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6394" h="21600">
                <a:moveTo>
                  <a:pt x="0" y="0"/>
                </a:moveTo>
                <a:lnTo>
                  <a:pt x="26394" y="0"/>
                </a:lnTo>
                <a:lnTo>
                  <a:pt x="26394" y="21600"/>
                </a:lnTo>
                <a:lnTo>
                  <a:pt x="0" y="21600"/>
                </a:lnTo>
                <a:close/>
              </a:path>
              <a:path fill="lightenLess" w="26394" h="21600">
                <a:moveTo>
                  <a:pt x="0" y="0"/>
                </a:moveTo>
                <a:lnTo>
                  <a:pt x="26394" y="0"/>
                </a:lnTo>
                <a:lnTo>
                  <a:pt x="24994" y="1400"/>
                </a:lnTo>
                <a:lnTo>
                  <a:pt x="1400" y="1400"/>
                </a:lnTo>
                <a:close/>
              </a:path>
              <a:path fill="darken" w="26394" h="21600">
                <a:moveTo>
                  <a:pt x="26394" y="0"/>
                </a:moveTo>
                <a:lnTo>
                  <a:pt x="26394" y="21600"/>
                </a:lnTo>
                <a:lnTo>
                  <a:pt x="24994" y="20200"/>
                </a:lnTo>
                <a:lnTo>
                  <a:pt x="24994" y="1400"/>
                </a:lnTo>
                <a:close/>
              </a:path>
              <a:path fill="darkenLess" w="26394" h="21600">
                <a:moveTo>
                  <a:pt x="263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94" y="20200"/>
                </a:lnTo>
                <a:close/>
              </a:path>
              <a:path fill="lighten" w="263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94" h="21600">
                <a:moveTo>
                  <a:pt x="6190" y="7493"/>
                </a:moveTo>
                <a:lnTo>
                  <a:pt x="9698" y="7493"/>
                </a:lnTo>
                <a:lnTo>
                  <a:pt x="9698" y="12828"/>
                </a:lnTo>
                <a:cubicBezTo>
                  <a:pt x="9698" y="13751"/>
                  <a:pt x="10499" y="14482"/>
                  <a:pt x="11534" y="14482"/>
                </a:cubicBezTo>
                <a:lnTo>
                  <a:pt x="13197" y="14482"/>
                </a:lnTo>
                <a:cubicBezTo>
                  <a:pt x="14233" y="14482"/>
                  <a:pt x="15033" y="13751"/>
                  <a:pt x="15033" y="12828"/>
                </a:cubicBezTo>
                <a:lnTo>
                  <a:pt x="15033" y="7493"/>
                </a:lnTo>
                <a:lnTo>
                  <a:pt x="13197" y="7493"/>
                </a:lnTo>
                <a:lnTo>
                  <a:pt x="16704" y="3985"/>
                </a:lnTo>
                <a:lnTo>
                  <a:pt x="20377" y="7493"/>
                </a:lnTo>
                <a:lnTo>
                  <a:pt x="18541" y="7493"/>
                </a:lnTo>
                <a:lnTo>
                  <a:pt x="18541" y="12828"/>
                </a:lnTo>
                <a:cubicBezTo>
                  <a:pt x="18541" y="15596"/>
                  <a:pt x="15965" y="18155"/>
                  <a:pt x="13197" y="18155"/>
                </a:cubicBezTo>
                <a:lnTo>
                  <a:pt x="11534" y="18155"/>
                </a:lnTo>
                <a:cubicBezTo>
                  <a:pt x="8767" y="18155"/>
                  <a:pt x="6190" y="15596"/>
                  <a:pt x="6190" y="12828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507528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ffebf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 flipV="1" rot="5400000">
            <a:off x="4201200" y="-1915200"/>
            <a:ext cx="588960" cy="6705720"/>
          </a:xfrm>
          <a:custGeom>
            <a:avLst/>
            <a:gdLst>
              <a:gd name="textAreaLeft" fmla="*/ 376200 w 588960"/>
              <a:gd name="textAreaRight" fmla="*/ 589320 w 588960"/>
              <a:gd name="textAreaTop" fmla="*/ 174600 h 6705720"/>
              <a:gd name="textAreaBottom" fmla="*/ 6531120 h 6705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 rot="5400000">
            <a:off x="4200480" y="2219760"/>
            <a:ext cx="588960" cy="6705720"/>
          </a:xfrm>
          <a:custGeom>
            <a:avLst/>
            <a:gdLst>
              <a:gd name="textAreaLeft" fmla="*/ 376200 w 588960"/>
              <a:gd name="textAreaRight" fmla="*/ 589320 w 588960"/>
              <a:gd name="textAreaTop" fmla="*/ 174600 h 6705720"/>
              <a:gd name="textAreaBottom" fmla="*/ 6531120 h 6705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587040" y="304920"/>
            <a:ext cx="2009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隶书"/>
              </a:rPr>
              <a:t>精美的图案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237680" y="198108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隶书"/>
              </a:rPr>
              <a:t>有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098240" y="190512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隶书"/>
              </a:rPr>
              <a:t>有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46840" y="1905120"/>
            <a:ext cx="127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隶书"/>
              </a:rPr>
              <a:t>还有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951000" y="5881680"/>
            <a:ext cx="127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隶书"/>
              </a:rPr>
              <a:t>所有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6324480" y="2895480"/>
            <a:ext cx="2362320" cy="19051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>
            <a:lum bright="-12000"/>
          </a:blip>
          <a:srcRect l="31003" t="24671" r="28003" b="32666"/>
          <a:stretch/>
        </p:blipFill>
        <p:spPr>
          <a:xfrm>
            <a:off x="3429000" y="2895480"/>
            <a:ext cx="2438280" cy="19051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rcRect l="0" t="0" r="1535" b="1430"/>
          <a:stretch/>
        </p:blipFill>
        <p:spPr>
          <a:xfrm>
            <a:off x="380880" y="2819520"/>
            <a:ext cx="2362320" cy="1981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5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5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1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6T07:02:19Z</dcterms:created>
  <dc:creator>东方电脑</dc:creator>
  <dc:description/>
  <dc:language>en-US</dc:language>
  <cp:lastModifiedBy>微软用户</cp:lastModifiedBy>
  <dcterms:modified xsi:type="dcterms:W3CDTF">2011-10-24T01:39:50Z</dcterms:modified>
  <cp:revision>35</cp:revision>
  <dc:subject/>
  <dc:title>PowerPoint 演示文稿</dc:title>
</cp:coreProperties>
</file>