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yw4-5b.wav" ContentType="audio/x-wav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93AA-2F3B-49A1-B24D-CB53506C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A1DB-7C2F-4195-9D0E-A8A91C2D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60C8-7618-45C4-8CF0-31A1D73B0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A3C8-E6BB-4357-A321-9DA657A7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DB15-7742-499C-936E-B87088EE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B3D1-3997-45E6-9C5F-52AF4797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2A39-E501-49FA-980F-94C6F9C5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8AE0-E89D-419D-A467-49067A86D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E371-2594-4DCD-A902-5025BA57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0F21-81D0-4EC3-9BA8-0F62CDD3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E65D-991E-410D-A204-3ED59AB5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EE75-7352-44A6-BB69-F90B2FED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CE90-8DBE-4135-A8E1-6581F93D14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yw4-5b.wav" TargetMode="External"/><Relationship Id="rId2" Type="http://schemas.openxmlformats.org/officeDocument/2006/relationships/slide" Target="slide15.xml"/><Relationship Id="rId3" Type="http://schemas.openxmlformats.org/officeDocument/2006/relationships/slide" Target="slide16.xml"/><Relationship Id="rId4" Type="http://schemas.openxmlformats.org/officeDocument/2006/relationships/slide" Target="slide1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14.xm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yw4-5b.wav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yw4-5b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6360" y="1700280"/>
            <a:ext cx="612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方正魏碑简体"/>
                <a:ea typeface="方正魏碑简体"/>
              </a:rPr>
              <a:t>赵 州 桥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3645000"/>
            <a:ext cx="5472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授课班级：三年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授  课  人：吴瑛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244000" y="6218280"/>
            <a:ext cx="669960" cy="503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304920" y="3733920"/>
            <a:ext cx="2611440" cy="5544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6084360" y="3716280"/>
            <a:ext cx="2590920" cy="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43280" y="34797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隶书"/>
              </a:rPr>
              <a:t>横跨在</a:t>
            </a: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隶书"/>
              </a:rPr>
              <a:t>37</a:t>
            </a: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隶书"/>
              </a:rPr>
              <a:t>米多宽的河面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1052640"/>
            <a:ext cx="8991360" cy="761400"/>
            <a:chOff x="0" y="1052640"/>
            <a:chExt cx="8991360" cy="761400"/>
          </a:xfrm>
        </p:grpSpPr>
        <p:sp>
          <p:nvSpPr>
            <p:cNvPr id="94" name=""/>
            <p:cNvSpPr/>
            <p:nvPr/>
          </p:nvSpPr>
          <p:spPr>
            <a:xfrm>
              <a:off x="0" y="1128600"/>
              <a:ext cx="0" cy="685440"/>
            </a:xfrm>
            <a:prstGeom prst="line">
              <a:avLst/>
            </a:prstGeom>
            <a:ln w="28440">
              <a:solidFill>
                <a:srgbClr val="e62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991360" y="1052640"/>
              <a:ext cx="0" cy="685440"/>
            </a:xfrm>
            <a:prstGeom prst="line">
              <a:avLst/>
            </a:prstGeom>
            <a:ln w="28440">
              <a:solidFill>
                <a:srgbClr val="e62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433520"/>
              <a:ext cx="3581280" cy="0"/>
            </a:xfrm>
            <a:prstGeom prst="line">
              <a:avLst/>
            </a:prstGeom>
            <a:ln w="38160">
              <a:solidFill>
                <a:srgbClr val="e6204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410080" y="1422000"/>
              <a:ext cx="3581280" cy="20880"/>
            </a:xfrm>
            <a:prstGeom prst="line">
              <a:avLst/>
            </a:prstGeom>
            <a:ln w="28440">
              <a:solidFill>
                <a:srgbClr val="e6204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733920" y="1143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6204f"/>
                </a:solidFill>
                <a:latin typeface="Times New Roman"/>
                <a:ea typeface="隶书"/>
              </a:rPr>
              <a:t> </a:t>
            </a:r>
            <a:r>
              <a:rPr b="0" lang="zh-CN" sz="2800" spc="-1" strike="noStrike">
                <a:solidFill>
                  <a:srgbClr val="e6204f"/>
                </a:solidFill>
                <a:latin typeface="Times New Roman"/>
                <a:ea typeface="隶书"/>
              </a:rPr>
              <a:t>长</a:t>
            </a:r>
            <a:r>
              <a:rPr b="1" lang="zh-CN" sz="2400" spc="-1" strike="noStrike">
                <a:solidFill>
                  <a:srgbClr val="e6204f"/>
                </a:solidFill>
                <a:latin typeface="Times New Roman"/>
                <a:ea typeface="隶书"/>
              </a:rPr>
              <a:t>50</a:t>
            </a:r>
            <a:r>
              <a:rPr b="1" lang="zh-CN" sz="2400" spc="-1" strike="noStrike">
                <a:solidFill>
                  <a:srgbClr val="e6204f"/>
                </a:solidFill>
                <a:latin typeface="Times New Roman"/>
                <a:ea typeface="隶书"/>
              </a:rPr>
              <a:t>多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>
            <a:lum bright="-12000"/>
          </a:blip>
          <a:srcRect l="2524" t="4533" r="2524" b="4391"/>
          <a:stretch/>
        </p:blipFill>
        <p:spPr>
          <a:xfrm>
            <a:off x="0" y="6153120"/>
            <a:ext cx="1692360" cy="704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>
            <a:lum bright="-18000"/>
          </a:blip>
          <a:srcRect l="2524" t="4533" r="2524" b="439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3084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0" y="3932280"/>
            <a:ext cx="3902040" cy="2925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395280" y="1268280"/>
            <a:ext cx="3816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平时，河水从大桥洞流过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67280" y="4149720"/>
            <a:ext cx="5076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发大水的时候，河水还可以从四个小桥洞流过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>
            <a:lum bright="-12000"/>
          </a:blip>
          <a:srcRect l="2524" t="4533" r="2524" b="4391"/>
          <a:stretch/>
        </p:blipFill>
        <p:spPr>
          <a:xfrm>
            <a:off x="7596360" y="6211800"/>
            <a:ext cx="1547640" cy="64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4114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“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这种设计，在建桥史上是一个创举”，“这种设计”指的是什么？有什么好处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>
            <a:lum bright="-6000"/>
          </a:blip>
          <a:srcRect l="13000" t="13999" r="18999" b="47338"/>
          <a:stretch/>
        </p:blipFill>
        <p:spPr>
          <a:xfrm>
            <a:off x="0" y="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V="1">
            <a:off x="4255920" y="2819520"/>
            <a:ext cx="84960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12952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既减轻了流水对桥身的冲击力，使桥不容易被大水冲毁，又减轻了桥身的重量，节省了石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80880" y="1752480"/>
            <a:ext cx="1371600" cy="1143000"/>
            <a:chOff x="380880" y="1752480"/>
            <a:chExt cx="1371600" cy="1143000"/>
          </a:xfrm>
        </p:grpSpPr>
        <p:sp>
          <p:nvSpPr>
            <p:cNvPr id="112" name=""/>
            <p:cNvSpPr/>
            <p:nvPr/>
          </p:nvSpPr>
          <p:spPr>
            <a:xfrm>
              <a:off x="380880" y="1752480"/>
              <a:ext cx="15264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00200" y="27432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04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隶书"/>
              </a:rPr>
              <a:t>这座桥不但坚固，而且美观。桥面两侧有石栏，栏板上雕刻着精美的图案：有的刻着两条相互缠绕的龙，嘴里吐出美丽的水花；有的刻着两条飞龙，前爪相互抵着，各自回首遥望；还有的刻着双龙戏珠。所有的龙似乎都在游动，真像活的一样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"/>
          </p:cNvPr>
          <p:cNvSpPr/>
          <p:nvPr/>
        </p:nvSpPr>
        <p:spPr>
          <a:xfrm>
            <a:off x="822960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5950" y="8406"/>
                </a:moveTo>
                <a:lnTo>
                  <a:pt x="10381" y="8406"/>
                </a:lnTo>
                <a:lnTo>
                  <a:pt x="14802" y="3794"/>
                </a:lnTo>
                <a:lnTo>
                  <a:pt x="14802" y="17806"/>
                </a:lnTo>
                <a:lnTo>
                  <a:pt x="10381" y="13194"/>
                </a:lnTo>
                <a:lnTo>
                  <a:pt x="5950" y="13194"/>
                </a:lnTo>
                <a:close/>
              </a:path>
              <a:path fill="darken" w="25914" h="21600">
                <a:moveTo>
                  <a:pt x="16456" y="10800"/>
                </a:moveTo>
                <a:lnTo>
                  <a:pt x="19963" y="10800"/>
                </a:lnTo>
              </a:path>
              <a:path fill="darken" w="25914" h="21600">
                <a:moveTo>
                  <a:pt x="16456" y="8406"/>
                </a:moveTo>
                <a:lnTo>
                  <a:pt x="19963" y="5639"/>
                </a:lnTo>
              </a:path>
              <a:path fill="darken" w="25914" h="21600">
                <a:moveTo>
                  <a:pt x="16456" y="13194"/>
                </a:moveTo>
                <a:lnTo>
                  <a:pt x="19963" y="159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3733920" y="19810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rId3" action="ppaction://hlinksldjump"/>
          </p:cNvPr>
          <p:cNvSpPr/>
          <p:nvPr/>
        </p:nvSpPr>
        <p:spPr>
          <a:xfrm>
            <a:off x="0" y="34290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4" action="ppaction://hlinksldjump"/>
          </p:cNvPr>
          <p:cNvSpPr/>
          <p:nvPr/>
        </p:nvSpPr>
        <p:spPr>
          <a:xfrm>
            <a:off x="5486400" y="4038480"/>
            <a:ext cx="1981080" cy="762120"/>
          </a:xfrm>
          <a:custGeom>
            <a:avLst/>
            <a:gdLst>
              <a:gd name="textAreaLeft" fmla="*/ 49320 w 1981080"/>
              <a:gd name="textAreaRight" fmla="*/ 1931760 w 1981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2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2" y="20200"/>
                </a:lnTo>
                <a:lnTo>
                  <a:pt x="54732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2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60958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6" h="21600">
                <a:moveTo>
                  <a:pt x="17537" y="10800"/>
                </a:moveTo>
                <a:lnTo>
                  <a:pt x="7031" y="17806"/>
                </a:lnTo>
                <a:lnTo>
                  <a:pt x="7031" y="3794"/>
                </a:lnTo>
                <a:close/>
              </a:path>
              <a:path fill="darken" w="28076" h="21600">
                <a:moveTo>
                  <a:pt x="19382" y="3794"/>
                </a:moveTo>
                <a:lnTo>
                  <a:pt x="19382" y="17806"/>
                </a:lnTo>
                <a:lnTo>
                  <a:pt x="21044" y="17806"/>
                </a:lnTo>
                <a:lnTo>
                  <a:pt x="21044" y="379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5" action="ppaction://hlinksldjump"/>
          </p:cNvPr>
          <p:cNvSpPr/>
          <p:nvPr/>
        </p:nvSpPr>
        <p:spPr>
          <a:xfrm>
            <a:off x="6248520" y="6095880"/>
            <a:ext cx="990360" cy="76212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66" h="21600">
                <a:moveTo>
                  <a:pt x="0" y="0"/>
                </a:moveTo>
                <a:lnTo>
                  <a:pt x="28066" y="0"/>
                </a:lnTo>
                <a:lnTo>
                  <a:pt x="28066" y="21600"/>
                </a:lnTo>
                <a:lnTo>
                  <a:pt x="0" y="21600"/>
                </a:lnTo>
                <a:close/>
              </a:path>
              <a:path fill="lightenLess" w="28066" h="21600">
                <a:moveTo>
                  <a:pt x="0" y="0"/>
                </a:moveTo>
                <a:lnTo>
                  <a:pt x="28066" y="0"/>
                </a:lnTo>
                <a:lnTo>
                  <a:pt x="26666" y="1400"/>
                </a:lnTo>
                <a:lnTo>
                  <a:pt x="1400" y="1400"/>
                </a:lnTo>
                <a:close/>
              </a:path>
              <a:path fill="darken" w="28066" h="21600">
                <a:moveTo>
                  <a:pt x="28066" y="0"/>
                </a:moveTo>
                <a:lnTo>
                  <a:pt x="28066" y="21600"/>
                </a:lnTo>
                <a:lnTo>
                  <a:pt x="26666" y="20200"/>
                </a:lnTo>
                <a:lnTo>
                  <a:pt x="26666" y="1400"/>
                </a:lnTo>
                <a:close/>
              </a:path>
              <a:path fill="darkenLess" w="28066" h="21600">
                <a:moveTo>
                  <a:pt x="28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6" y="20200"/>
                </a:lnTo>
                <a:close/>
              </a:path>
              <a:path fill="lighten" w="28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6" h="21600">
                <a:moveTo>
                  <a:pt x="7026" y="7493"/>
                </a:moveTo>
                <a:lnTo>
                  <a:pt x="10534" y="7493"/>
                </a:lnTo>
                <a:lnTo>
                  <a:pt x="10534" y="12828"/>
                </a:lnTo>
                <a:cubicBezTo>
                  <a:pt x="10534" y="13751"/>
                  <a:pt x="11335" y="14482"/>
                  <a:pt x="12370" y="14482"/>
                </a:cubicBezTo>
                <a:lnTo>
                  <a:pt x="14033" y="14482"/>
                </a:lnTo>
                <a:cubicBezTo>
                  <a:pt x="15069" y="14482"/>
                  <a:pt x="15869" y="13751"/>
                  <a:pt x="15869" y="12828"/>
                </a:cubicBezTo>
                <a:lnTo>
                  <a:pt x="15869" y="7493"/>
                </a:lnTo>
                <a:lnTo>
                  <a:pt x="14033" y="7493"/>
                </a:lnTo>
                <a:lnTo>
                  <a:pt x="17540" y="3985"/>
                </a:lnTo>
                <a:lnTo>
                  <a:pt x="21213" y="7493"/>
                </a:lnTo>
                <a:lnTo>
                  <a:pt x="19377" y="7493"/>
                </a:lnTo>
                <a:lnTo>
                  <a:pt x="19377" y="12828"/>
                </a:lnTo>
                <a:cubicBezTo>
                  <a:pt x="19377" y="15596"/>
                  <a:pt x="16801" y="18155"/>
                  <a:pt x="14033" y="18155"/>
                </a:cubicBezTo>
                <a:lnTo>
                  <a:pt x="12370" y="18155"/>
                </a:lnTo>
                <a:cubicBezTo>
                  <a:pt x="9603" y="18155"/>
                  <a:pt x="7026" y="15596"/>
                  <a:pt x="7026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56386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6248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精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05000" y="5602320"/>
            <a:ext cx="49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相互缠绕  吐出美丽的水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8299440" y="6172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0" t="0" r="0" b="1430"/>
          <a:stretch/>
        </p:blipFill>
        <p:spPr>
          <a:xfrm>
            <a:off x="0" y="0"/>
            <a:ext cx="922032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870200" y="560232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前爪相互抵着  各自回首遥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8305920" y="6172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>
            <a:lum bright="-6000"/>
          </a:blip>
          <a:srcRect l="31003" t="24671" r="28003" b="32666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540600" y="55627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双龙戏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8299440" y="6172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075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flipV="1" rot="5400000">
            <a:off x="4201200" y="-1915200"/>
            <a:ext cx="588960" cy="6705720"/>
          </a:xfrm>
          <a:custGeom>
            <a:avLst/>
            <a:gdLst>
              <a:gd name="textAreaLeft" fmla="*/ 376200 w 588960"/>
              <a:gd name="textAreaRight" fmla="*/ 589320 w 588960"/>
              <a:gd name="textAreaTop" fmla="*/ 174600 h 6705720"/>
              <a:gd name="textAreaBottom" fmla="*/ 6531120 h 670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rot="5400000">
            <a:off x="4200480" y="2219760"/>
            <a:ext cx="588960" cy="6705720"/>
          </a:xfrm>
          <a:custGeom>
            <a:avLst/>
            <a:gdLst>
              <a:gd name="textAreaLeft" fmla="*/ 376200 w 588960"/>
              <a:gd name="textAreaRight" fmla="*/ 589320 w 588960"/>
              <a:gd name="textAreaTop" fmla="*/ 174600 h 6705720"/>
              <a:gd name="textAreaBottom" fmla="*/ 6531120 h 670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7040" y="3049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精美的图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37680" y="1981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有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98240" y="19051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有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46840" y="19051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还有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51000" y="58816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所有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362320" cy="1905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>
            <a:lum bright="-12000"/>
          </a:blip>
          <a:srcRect l="31003" t="24671" r="28003" b="32666"/>
          <a:stretch/>
        </p:blipFill>
        <p:spPr>
          <a:xfrm>
            <a:off x="3429000" y="2895480"/>
            <a:ext cx="2438280" cy="1905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rcRect l="0" t="0" r="1535" b="1430"/>
          <a:stretch/>
        </p:blipFill>
        <p:spPr>
          <a:xfrm>
            <a:off x="380880" y="2819520"/>
            <a:ext cx="236232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rId1"/>
          </p:cNvPr>
          <p:cNvSpPr/>
          <p:nvPr/>
        </p:nvSpPr>
        <p:spPr>
          <a:xfrm>
            <a:off x="0" y="7632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这座桥不但（        ），而且（        ）。桥面两侧有石栏，栏板上雕刻着（       ）的图案：有的刻着两条（               ）的龙，嘴里吐出美丽的水花；有的刻着两条飞龙，前爪（               ），各自（               ） ；  还有的刻着（              ）。所有的龙似乎都在（      ），真像（      ）的一样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050800" y="763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坚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36000" y="838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美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31480" y="1523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精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81760" y="2286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相互缠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24760" y="3672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相互抵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77000" y="4433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回首遥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32120" y="5181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双龙戏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90240" y="5943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3720" y="5958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游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-18000"/>
          </a:blip>
          <a:srcRect l="2524" t="4533" r="2524" b="439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76360" y="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3300"/>
                </a:solidFill>
                <a:latin typeface="方正魏碑简体"/>
                <a:ea typeface="方正魏碑简体"/>
              </a:rPr>
              <a:t>赵 州 桥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556000" y="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赵州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56000" y="620640"/>
            <a:ext cx="1726920" cy="12034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 flipH="1">
            <a:off x="4724280" y="2362320"/>
            <a:ext cx="45720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27720" y="2275920"/>
            <a:ext cx="498240" cy="412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356000">
            <a:off x="4500000" y="256536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6204f"/>
                </a:solidFill>
                <a:latin typeface="Times New Roman"/>
                <a:ea typeface="隶书"/>
              </a:rPr>
              <a:t>坚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20301000">
            <a:off x="5639040" y="25905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6204f"/>
                </a:solidFill>
                <a:latin typeface="Times New Roman"/>
                <a:ea typeface="隶书"/>
              </a:rPr>
              <a:t>美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2627280" y="2060640"/>
            <a:ext cx="1584360" cy="17524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6732720" y="2565360"/>
            <a:ext cx="1726920" cy="1211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6732720" y="1413000"/>
            <a:ext cx="1726920" cy="114444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4837320" y="3003120"/>
            <a:ext cx="944640" cy="445320"/>
            <a:chOff x="4837320" y="3003120"/>
            <a:chExt cx="944640" cy="445320"/>
          </a:xfrm>
        </p:grpSpPr>
        <p:sp>
          <p:nvSpPr>
            <p:cNvPr id="166" name=""/>
            <p:cNvSpPr/>
            <p:nvPr/>
          </p:nvSpPr>
          <p:spPr>
            <a:xfrm>
              <a:off x="4837320" y="3013200"/>
              <a:ext cx="347400" cy="425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459760" y="3003120"/>
              <a:ext cx="322200" cy="4453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4932360" y="3357720"/>
            <a:ext cx="93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6204f"/>
                </a:solidFill>
                <a:latin typeface="Times New Roman"/>
                <a:ea typeface="楷体_GB2312"/>
              </a:rPr>
              <a:t>创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35640" y="3860640"/>
            <a:ext cx="0" cy="3812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76920" y="38862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ff"/>
                </a:solidFill>
                <a:latin typeface="Times New Roman"/>
                <a:ea typeface="隶书"/>
              </a:rPr>
              <a:t>世界闻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547640" y="1506600"/>
            <a:ext cx="4176000" cy="1284480"/>
            <a:chOff x="1547640" y="1506600"/>
            <a:chExt cx="4176000" cy="1284480"/>
          </a:xfrm>
        </p:grpSpPr>
        <p:grpSp>
          <p:nvGrpSpPr>
            <p:cNvPr id="172" name=""/>
            <p:cNvGrpSpPr/>
            <p:nvPr/>
          </p:nvGrpSpPr>
          <p:grpSpPr>
            <a:xfrm>
              <a:off x="4168080" y="1557360"/>
              <a:ext cx="1555560" cy="1233720"/>
              <a:chOff x="4168080" y="1557360"/>
              <a:chExt cx="1555560" cy="1233720"/>
            </a:xfrm>
          </p:grpSpPr>
          <p:sp>
            <p:nvSpPr>
              <p:cNvPr id="173" name=""/>
              <p:cNvSpPr/>
              <p:nvPr/>
            </p:nvSpPr>
            <p:spPr>
              <a:xfrm>
                <a:off x="4168080" y="1557360"/>
                <a:ext cx="654840" cy="52992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249800" y="2087280"/>
                <a:ext cx="14738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00ff"/>
                    </a:solidFill>
                    <a:latin typeface="Times New Roman"/>
                    <a:ea typeface="隶书"/>
                  </a:rPr>
                  <a:t>           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特点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1547640" y="1506600"/>
              <a:ext cx="1096560" cy="1113480"/>
              <a:chOff x="1547640" y="1506600"/>
              <a:chExt cx="1096560" cy="1113480"/>
            </a:xfrm>
          </p:grpSpPr>
          <p:sp>
            <p:nvSpPr>
              <p:cNvPr id="176" name=""/>
              <p:cNvSpPr/>
              <p:nvPr/>
            </p:nvSpPr>
            <p:spPr>
              <a:xfrm flipH="1">
                <a:off x="2087280" y="1506600"/>
                <a:ext cx="556920" cy="63180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47640" y="2221200"/>
                <a:ext cx="818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00ff"/>
                    </a:solidFill>
                    <a:latin typeface="Times New Roman"/>
                    <a:ea typeface="隶书"/>
                  </a:rPr>
                  <a:t> </a:t>
                </a:r>
                <a:r>
                  <a:rPr b="0" lang="zh-CN" sz="2000" spc="-1" strike="noStrike">
                    <a:solidFill>
                      <a:srgbClr val="ff00ff"/>
                    </a:solidFill>
                    <a:latin typeface="Times New Roman"/>
                    <a:ea typeface="隶书"/>
                  </a:rPr>
                  <a:t>设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1692360" y="2421000"/>
            <a:ext cx="775800" cy="879840"/>
            <a:chOff x="1692360" y="2421000"/>
            <a:chExt cx="775800" cy="879840"/>
          </a:xfrm>
        </p:grpSpPr>
        <p:sp>
          <p:nvSpPr>
            <p:cNvPr id="179" name=""/>
            <p:cNvSpPr/>
            <p:nvPr/>
          </p:nvSpPr>
          <p:spPr>
            <a:xfrm>
              <a:off x="2002680" y="2421000"/>
              <a:ext cx="0" cy="581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92360" y="2901960"/>
              <a:ext cx="77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e6204f"/>
                  </a:solidFill>
                  <a:latin typeface="Times New Roman"/>
                  <a:ea typeface="楷体_GB2312"/>
                </a:rPr>
                <a:t>李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403280" y="3357720"/>
            <a:ext cx="1371600" cy="916200"/>
            <a:chOff x="1403280" y="3357720"/>
            <a:chExt cx="1371600" cy="916200"/>
          </a:xfrm>
        </p:grpSpPr>
        <p:sp>
          <p:nvSpPr>
            <p:cNvPr id="182" name=""/>
            <p:cNvSpPr/>
            <p:nvPr/>
          </p:nvSpPr>
          <p:spPr>
            <a:xfrm>
              <a:off x="2012760" y="3357720"/>
              <a:ext cx="0" cy="53316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403280" y="387504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ff"/>
                  </a:solidFill>
                  <a:latin typeface="Times New Roman"/>
                  <a:ea typeface="隶书"/>
                </a:rPr>
                <a:t>劳动人民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411280" y="4508640"/>
            <a:ext cx="3048120" cy="609480"/>
            <a:chOff x="2411280" y="4508640"/>
            <a:chExt cx="3048120" cy="609480"/>
          </a:xfrm>
        </p:grpSpPr>
        <p:sp>
          <p:nvSpPr>
            <p:cNvPr id="185" name=""/>
            <p:cNvSpPr/>
            <p:nvPr/>
          </p:nvSpPr>
          <p:spPr>
            <a:xfrm>
              <a:off x="2411280" y="4584600"/>
              <a:ext cx="990720" cy="53352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4468680" y="4508640"/>
              <a:ext cx="990720" cy="6094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979640" y="5373720"/>
            <a:ext cx="468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智慧、才干，遗产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7010280" cy="66294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80880" y="519588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赵州桥表现了我国古代劳动人民的智慧和才干，是我国宝贵的历史遗产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rcRect l="1375" t="0" r="0" b="0"/>
          <a:stretch/>
        </p:blipFill>
        <p:spPr>
          <a:xfrm>
            <a:off x="1763640" y="836640"/>
            <a:ext cx="5486400" cy="39625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>
            <a:lum bright="-12000"/>
          </a:blip>
          <a:srcRect l="2524" t="4533" r="2524" b="4391"/>
          <a:stretch/>
        </p:blipFill>
        <p:spPr>
          <a:xfrm>
            <a:off x="0" y="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75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1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342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5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Times New Roman"/>
                <a:ea typeface="黑体"/>
              </a:rPr>
              <a:t>看看谁学得最棒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课后作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5564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Times New Roman"/>
                <a:ea typeface="黑体"/>
              </a:rPr>
              <a:t>想一想：“赵州桥不但坚固，而且美观。”这句话好在哪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67560" y="603396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卢沟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55000" y="603396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北京的十七孔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yw4-5b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099080" y="602784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北京颐和园的玉带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099080" y="603396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北京颐和园的彩虹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黑体"/>
              </a:rPr>
              <a:t>看谁读得棒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r>
              <a:rPr b="0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县   济   隋   匠  部   砌   横   跨   坚   雕   抵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971640" y="4437000"/>
            <a:ext cx="4464000" cy="2071800"/>
            <a:chOff x="971640" y="4437000"/>
            <a:chExt cx="4464000" cy="2071800"/>
          </a:xfrm>
        </p:grpSpPr>
        <p:sp>
          <p:nvSpPr>
            <p:cNvPr id="49" name=""/>
            <p:cNvSpPr/>
            <p:nvPr/>
          </p:nvSpPr>
          <p:spPr>
            <a:xfrm>
              <a:off x="971640" y="4941720"/>
              <a:ext cx="4464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ff"/>
                  </a:solidFill>
                  <a:latin typeface="Times New Roman"/>
                  <a:ea typeface="黑体"/>
                </a:rPr>
                <a:t>爪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35280" y="4797360"/>
              <a:ext cx="288720" cy="1289160"/>
            </a:xfrm>
            <a:custGeom>
              <a:avLst/>
              <a:gdLst>
                <a:gd name="textAreaLeft" fmla="*/ 184680 w 288720"/>
                <a:gd name="textAreaRight" fmla="*/ 289080 w 288720"/>
                <a:gd name="textAreaTop" fmla="*/ 33480 h 1289160"/>
                <a:gd name="textAreaBottom" fmla="*/ 1255680 h 128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63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84360" y="4437000"/>
              <a:ext cx="1224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zhuǎ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84360" y="5805360"/>
              <a:ext cx="151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zhǎo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3635280" y="443700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（鸡爪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64000" y="580536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（前爪）（张牙舞爪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547600" y="602784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圆明园的会心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798984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隋朝   设计   参加   雄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全部   横跨   创举   减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重量   节省   坚固   美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石栏   栏板   精美   图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前爪   回首   遥望   才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宝贵   遗产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冲击力 双龙戏珠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>
            <a:lum bright="-12000"/>
          </a:blip>
          <a:srcRect l="2524" t="4533" r="2524" b="439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1280" y="4221000"/>
            <a:ext cx="7772400" cy="20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河北省赵县的洨河上，有一座世界闻名的石拱桥，叫安济桥，又叫赵州桥。它是隋朝的石匠李春设计和参加建造的，到现在已经有一千四百多年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813744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这么长的桥，全部用石头砌成，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面没有桥墩，只有一个拱形的大桥洞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黑体"/>
                <a:ea typeface="黑体"/>
              </a:rPr>
              <a:t>横跨在三十七米多宽的河面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1560" y="2862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黑体"/>
              </a:rPr>
              <a:t>横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>
            <a:lum bright="-12000"/>
          </a:blip>
          <a:srcRect l="2524" t="4533" r="2524" b="4391"/>
          <a:stretch/>
        </p:blipFill>
        <p:spPr>
          <a:xfrm>
            <a:off x="0" y="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3860640"/>
            <a:ext cx="9144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请你默读课文后向大家介绍赵州桥什么样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6477120"/>
            <a:ext cx="5715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" action="ppaction://hlinksldjump"/>
          </p:cNvPr>
          <p:cNvSpPr/>
          <p:nvPr/>
        </p:nvSpPr>
        <p:spPr>
          <a:xfrm>
            <a:off x="845172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9695" y="10800"/>
                </a:moveTo>
                <a:lnTo>
                  <a:pt x="9189" y="17806"/>
                </a:lnTo>
                <a:lnTo>
                  <a:pt x="9189" y="3794"/>
                </a:lnTo>
                <a:close/>
              </a:path>
              <a:path fill="darken" w="32392" h="21600">
                <a:moveTo>
                  <a:pt x="21540" y="3794"/>
                </a:moveTo>
                <a:lnTo>
                  <a:pt x="21540" y="17806"/>
                </a:lnTo>
                <a:lnTo>
                  <a:pt x="23202" y="17806"/>
                </a:lnTo>
                <a:lnTo>
                  <a:pt x="23202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7689960" y="640080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4490" y="10800"/>
                </a:moveTo>
                <a:lnTo>
                  <a:pt x="24995" y="3794"/>
                </a:lnTo>
                <a:lnTo>
                  <a:pt x="24995" y="17806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12645" y="3794"/>
                </a:lnTo>
                <a:lnTo>
                  <a:pt x="12645" y="17806"/>
                </a:lnTo>
                <a:lnTo>
                  <a:pt x="1098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4" action="ppaction://hlinksldjump"/>
          </p:cNvPr>
          <p:cNvSpPr/>
          <p:nvPr/>
        </p:nvSpPr>
        <p:spPr>
          <a:xfrm>
            <a:off x="8458200" y="6415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设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24680" y="6415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0629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这座古老的石桥到底有什么特别的地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呢？请同学们自由读第二自然段，边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边想，用﹏画出你认为赵州桥特别的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黑体"/>
              </a:rPr>
              <a:t>方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赵州桥非常雄伟。桥长五十多米，有九米多宽，中间行车马，两旁走人。这么长的桥，全部用石头砌成，下面没有桥墩，只有一个拱形的大桥洞，横跨在三十七米多宽的河面上。大桥洞顶上的左右两边，还各有两个拱形的小桥洞。平时，河水从大桥洞流过，发大水的时候，河水还可以从四个小桥洞流过。这种设计，在建桥史上是一个创举，既减轻了流水对桥身的冲击力，使桥不容易被大水冲毁，又减轻了桥身的重量，节省了石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57200" y="4038480"/>
            <a:ext cx="7848720" cy="457200"/>
            <a:chOff x="457200" y="4038480"/>
            <a:chExt cx="7848720" cy="457200"/>
          </a:xfrm>
        </p:grpSpPr>
        <p:sp>
          <p:nvSpPr>
            <p:cNvPr id="72" name=""/>
            <p:cNvSpPr/>
            <p:nvPr/>
          </p:nvSpPr>
          <p:spPr>
            <a:xfrm>
              <a:off x="7848720" y="4038480"/>
              <a:ext cx="457200" cy="0"/>
            </a:xfrm>
            <a:prstGeom prst="line">
              <a:avLst/>
            </a:prstGeom>
            <a:ln w="38160">
              <a:solidFill>
                <a:srgbClr val="e62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" y="4495680"/>
              <a:ext cx="380880" cy="0"/>
            </a:xfrm>
            <a:prstGeom prst="line">
              <a:avLst/>
            </a:prstGeom>
            <a:ln w="38160">
              <a:solidFill>
                <a:srgbClr val="e62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095880" y="4419720"/>
            <a:ext cx="609840" cy="152280"/>
            <a:chOff x="6095880" y="4419720"/>
            <a:chExt cx="609840" cy="152280"/>
          </a:xfrm>
        </p:grpSpPr>
        <p:sp>
          <p:nvSpPr>
            <p:cNvPr id="75" name=""/>
            <p:cNvSpPr/>
            <p:nvPr/>
          </p:nvSpPr>
          <p:spPr>
            <a:xfrm>
              <a:off x="6553080" y="4419720"/>
              <a:ext cx="152640" cy="152280"/>
            </a:xfrm>
            <a:prstGeom prst="ellipse">
              <a:avLst/>
            </a:prstGeom>
            <a:solidFill>
              <a:srgbClr val="e6204f"/>
            </a:solidFill>
            <a:ln w="9360">
              <a:solidFill>
                <a:srgbClr val="e62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5880" y="4419720"/>
              <a:ext cx="152640" cy="152280"/>
            </a:xfrm>
            <a:prstGeom prst="ellipse">
              <a:avLst/>
            </a:prstGeom>
            <a:solidFill>
              <a:srgbClr val="e6204f"/>
            </a:solidFill>
            <a:ln w="9360">
              <a:solidFill>
                <a:srgbClr val="e62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33520" y="1447920"/>
            <a:ext cx="7848360" cy="1752480"/>
            <a:chOff x="533520" y="1447920"/>
            <a:chExt cx="7848360" cy="1752480"/>
          </a:xfrm>
        </p:grpSpPr>
        <p:sp>
          <p:nvSpPr>
            <p:cNvPr id="78" name=""/>
            <p:cNvSpPr/>
            <p:nvPr/>
          </p:nvSpPr>
          <p:spPr>
            <a:xfrm>
              <a:off x="7848720" y="1447920"/>
              <a:ext cx="533160" cy="0"/>
            </a:xfrm>
            <a:prstGeom prst="line">
              <a:avLst/>
            </a:prstGeom>
            <a:ln w="38160">
              <a:solidFill>
                <a:srgbClr val="e62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33520" y="1905120"/>
              <a:ext cx="7619760" cy="0"/>
            </a:xfrm>
            <a:prstGeom prst="line">
              <a:avLst/>
            </a:prstGeom>
            <a:ln w="38160">
              <a:solidFill>
                <a:srgbClr val="e62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533520" y="2286000"/>
              <a:ext cx="7696080" cy="76320"/>
            </a:xfrm>
            <a:prstGeom prst="line">
              <a:avLst/>
            </a:prstGeom>
            <a:ln w="38160">
              <a:solidFill>
                <a:srgbClr val="e62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533520" y="2743200"/>
              <a:ext cx="7696080" cy="76320"/>
            </a:xfrm>
            <a:prstGeom prst="line">
              <a:avLst/>
            </a:prstGeom>
            <a:ln w="38160">
              <a:solidFill>
                <a:srgbClr val="e62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09480" y="3200400"/>
              <a:ext cx="7543800" cy="0"/>
            </a:xfrm>
            <a:prstGeom prst="line">
              <a:avLst/>
            </a:prstGeom>
            <a:ln w="38160">
              <a:solidFill>
                <a:srgbClr val="e62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990720" y="990720"/>
            <a:ext cx="3352680" cy="0"/>
          </a:xfrm>
          <a:prstGeom prst="line">
            <a:avLst/>
          </a:prstGeom>
          <a:ln w="38160">
            <a:solidFill>
              <a:srgbClr val="cc44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1840" y="-22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3120" y="-60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6075360"/>
            <a:ext cx="1042920" cy="782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564000" y="6021360"/>
            <a:ext cx="1116000" cy="83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3">
            <a:lum bright="-6000"/>
          </a:blip>
          <a:srcRect l="13000" t="13999" r="18999" b="47338"/>
          <a:stretch/>
        </p:blipFill>
        <p:spPr>
          <a:xfrm>
            <a:off x="7596360" y="6054840"/>
            <a:ext cx="1547640" cy="8031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6T07:02:19Z</dcterms:created>
  <dc:creator>东方电脑</dc:creator>
  <dc:description/>
  <dc:language>en-US</dc:language>
  <cp:lastModifiedBy>微软用户</cp:lastModifiedBy>
  <dcterms:modified xsi:type="dcterms:W3CDTF">2013-10-31T14:03:32Z</dcterms:modified>
  <cp:revision>45</cp:revision>
  <dc:subject/>
  <dc:title>PowerPoint 演示文稿</dc:title>
</cp:coreProperties>
</file>