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3E98-7118-4140-9225-CFCEC0EF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7EA5-0013-4D92-8399-E9FA24C4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BEA-798B-4F15-B386-C77E9A26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F3B4-A54D-4BBE-9466-A8AFDFEF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2B6E-B885-4132-BD57-8624B54F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D488-7C3B-4E9B-975D-986B309DA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41214-9436-447A-9733-629D1E68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FBAC-EE8B-4745-8F51-BDF79C7D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FFCE-5E92-488E-8EFC-7FE4E4C6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89C8-B550-43C7-93E0-E5005678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5C78-D227-4D6B-9FCC-7E8478F7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911-14A2-47DE-ADB1-84E24F4F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32AE0-1FA9-4C66-93DE-C85E590A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F400E-BFE1-43BE-8B5D-5F37DEC3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40BFD-23AC-446C-BBF1-3C8D4E17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0ED8-F442-4DDA-9CDF-2E014BBC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BDB1-848F-41D0-A67D-F9F55671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80E37-3145-40CD-A42B-9C3EA0390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97D6C-1B2B-4D54-B591-E7E04EF8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DDFB8-6A78-41B1-96A1-96AAACB0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59ACEE-04EF-48CB-B3D4-2236F2DE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5DB01E-9DA9-4013-8244-0ED6BED7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11ED-8746-4423-ACA5-88DE95D4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75C064-6879-4EE8-9139-B00B2FEE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070E40-79E4-466D-AE41-7FB9ACAE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4B5734-3F4F-4335-8500-34F4444E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70BFD2-DB0D-4615-91F0-94ADFB15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DB6E1A-1645-4028-82CC-DD286C27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8E6396-C2EB-41B1-9E71-0F32AC97B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FB5D3E-EE4E-4D89-9A68-A8E30E6F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CB611-4EBA-428A-BF5A-2141B0BD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B6DA6-AA54-4529-88E4-7988B3C5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8C885-F0DD-48C2-9471-626166C3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38F7-C712-4BDA-BC88-DD1DBD9F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043D2-516B-4B9C-8BE7-250F9A51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F95FB5-BC8A-436C-9923-2125368D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8CCDF-2437-48D3-BCAB-95D3C72F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55C38-A9FE-41DE-905A-9F46BDC4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55A5A-40F9-47C5-9725-D37D6D86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68019-C6CF-404C-AC4F-B6F7D7C3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28C3B-2B37-4BBA-95BD-6E45F672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7BBCA-8E58-4AF1-9AA3-D37C33DBD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200C2-3F3D-4CAF-98A3-007CBB33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FEE4F-4EE6-4F74-98C4-3E1C0062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A1F8-CC2F-423E-8A28-35E079406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79EF9-FF5B-43DC-ADA7-77CD7A49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FF331-35B2-45D5-8A50-477462BE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850F1-30FD-4C32-9DD4-2E5F274E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43A0F-1313-4E18-B203-1F17D195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3D1E3-96C8-44CB-99AD-7CA22867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4F3E5-F614-459A-B87D-ADF5A7E6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53AA8-0D61-46B5-9CC0-D3DA5AED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F2A0E-6205-4254-AD19-BD21C16A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D2112-93EA-40DC-9766-98542F8E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64AF2-BAA5-4EBD-A5F7-EC31B17D6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407E-3210-4FEF-8F57-F6E882BD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8397A-A89F-4BAB-9305-B88D84DC4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3D01-1C56-4CEB-979F-262CF4D6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C1B-A0CF-4825-8083-62CF4957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7D9A-D714-4AF4-96BA-2E2F24DE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DAA0B-582F-400A-A184-F1F4B54B51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EB2B-76DD-4749-9F3F-B606D20369C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3838-966E-4525-BAC0-C250B3A9404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63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2F77-7129-4A65-A6DB-E432F177F6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208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0AA6-448F-4D26-9DB9-C8B351738B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050920" y="2952720"/>
            <a:ext cx="547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Arial"/>
              </a:rPr>
              <a:t>赵  州  桥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>
            <a:lum bright="-6000"/>
          </a:blip>
          <a:srcRect l="31003" t="24671" r="28003" b="32666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860840" y="577368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前爪相互抵着  各自回首遥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rcRect l="47003" t="24671" r="11999" b="34001"/>
          <a:stretch/>
        </p:blipFill>
        <p:spPr>
          <a:xfrm>
            <a:off x="0" y="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3537360" y="57736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双龙戏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 flipV="1" rot="5400000">
            <a:off x="4201200" y="-1915200"/>
            <a:ext cx="588960" cy="6705720"/>
          </a:xfrm>
          <a:custGeom>
            <a:avLst/>
            <a:gdLst>
              <a:gd name="textAreaLeft" fmla="*/ 376200 w 588960"/>
              <a:gd name="textAreaRight" fmla="*/ 589320 w 588960"/>
              <a:gd name="textAreaTop" fmla="*/ 174600 h 6705720"/>
              <a:gd name="textAreaBottom" fmla="*/ 6531120 h 670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587040" y="3049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精美的图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37680" y="1981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有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098240" y="19051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有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46840" y="19051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还有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40600" y="55897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所有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>
            <a:lum bright="-12000"/>
          </a:blip>
          <a:srcRect l="31003" t="24671" r="28003" b="32666"/>
          <a:stretch/>
        </p:blipFill>
        <p:spPr>
          <a:xfrm>
            <a:off x="3276720" y="2849400"/>
            <a:ext cx="2438280" cy="20196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>
            <a:lum bright="-12000"/>
          </a:blip>
          <a:srcRect l="47003" t="24671" r="11999" b="34001"/>
          <a:stretch/>
        </p:blipFill>
        <p:spPr>
          <a:xfrm>
            <a:off x="6248520" y="2852640"/>
            <a:ext cx="2361960" cy="20494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4">
            <a:lum bright="-12000"/>
          </a:blip>
          <a:srcRect l="11999" t="23335" r="47003" b="35337"/>
          <a:stretch/>
        </p:blipFill>
        <p:spPr>
          <a:xfrm>
            <a:off x="380880" y="2819520"/>
            <a:ext cx="2362320" cy="19810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340000" y="6237360"/>
            <a:ext cx="6192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268360" y="177336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课余查阅有关桥的资料，了解过去、现在有些什么样的桥。再想象一下，未来的桥将会是什么样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 rot="5400000">
            <a:off x="-1117080" y="2277360"/>
            <a:ext cx="4321080" cy="143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黑体"/>
              </a:rPr>
              <a:t>课后拓展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47640" y="112536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河北省赵县的洨河上，有一座世界闻名的石拱桥，叫安济桥，又叫赵州桥．它是隋朝的石匠李春设计和参加建造的，到现在已经有一千四百多年了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00000" y="1484280"/>
            <a:ext cx="7559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赵县    安济桥     石匠    横跨      坚固       雕刻    前爪      智慧       栏板         图案      宝贵</a:t>
            </a:r>
            <a:r>
              <a:rPr b="0" lang="zh-CN" sz="7200" spc="-1" strike="noStrike">
                <a:solidFill>
                  <a:srgbClr val="ff9900"/>
                </a:solidFill>
                <a:latin typeface="Arial"/>
              </a:rPr>
              <a:t>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56" name=""/>
          <p:cNvSpPr/>
          <p:nvPr/>
        </p:nvSpPr>
        <p:spPr>
          <a:xfrm>
            <a:off x="304920" y="3733920"/>
            <a:ext cx="2611440" cy="5544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6084360" y="3716280"/>
            <a:ext cx="2590920" cy="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843280" y="34797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be0e3"/>
                </a:solidFill>
                <a:latin typeface="Times New Roman"/>
                <a:ea typeface="隶书"/>
              </a:rPr>
              <a:t>横跨在</a:t>
            </a:r>
            <a:r>
              <a:rPr b="1" lang="zh-CN" sz="2400" spc="-1" strike="noStrike">
                <a:solidFill>
                  <a:srgbClr val="bbe0e3"/>
                </a:solidFill>
                <a:latin typeface="Times New Roman"/>
                <a:ea typeface="隶书"/>
              </a:rPr>
              <a:t>37</a:t>
            </a:r>
            <a:r>
              <a:rPr b="1" lang="zh-CN" sz="2400" spc="-1" strike="noStrike">
                <a:solidFill>
                  <a:srgbClr val="bbe0e3"/>
                </a:solidFill>
                <a:latin typeface="Times New Roman"/>
                <a:ea typeface="隶书"/>
              </a:rPr>
              <a:t>米多宽的河面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1052640"/>
            <a:ext cx="8991360" cy="761400"/>
            <a:chOff x="0" y="1052640"/>
            <a:chExt cx="8991360" cy="761400"/>
          </a:xfrm>
        </p:grpSpPr>
        <p:sp>
          <p:nvSpPr>
            <p:cNvPr id="260" name=""/>
            <p:cNvSpPr/>
            <p:nvPr/>
          </p:nvSpPr>
          <p:spPr>
            <a:xfrm>
              <a:off x="0" y="1128600"/>
              <a:ext cx="0" cy="685440"/>
            </a:xfrm>
            <a:prstGeom prst="line">
              <a:avLst/>
            </a:prstGeom>
            <a:ln w="28440">
              <a:solidFill>
                <a:srgbClr val="e62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991360" y="1052640"/>
              <a:ext cx="0" cy="685440"/>
            </a:xfrm>
            <a:prstGeom prst="line">
              <a:avLst/>
            </a:prstGeom>
            <a:ln w="28440">
              <a:solidFill>
                <a:srgbClr val="e620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1433520"/>
              <a:ext cx="3581280" cy="0"/>
            </a:xfrm>
            <a:prstGeom prst="line">
              <a:avLst/>
            </a:prstGeom>
            <a:ln w="38160">
              <a:solidFill>
                <a:srgbClr val="e6204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5410080" y="1422000"/>
              <a:ext cx="3581280" cy="20880"/>
            </a:xfrm>
            <a:prstGeom prst="line">
              <a:avLst/>
            </a:prstGeom>
            <a:ln w="28440">
              <a:solidFill>
                <a:srgbClr val="e6204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733920" y="11430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6204f"/>
                </a:solidFill>
                <a:latin typeface="Times New Roman"/>
                <a:ea typeface="隶书"/>
              </a:rPr>
              <a:t> </a:t>
            </a:r>
            <a:r>
              <a:rPr b="0" lang="zh-CN" sz="2800" spc="-1" strike="noStrike">
                <a:solidFill>
                  <a:srgbClr val="e6204f"/>
                </a:solidFill>
                <a:latin typeface="Times New Roman"/>
                <a:ea typeface="隶书"/>
              </a:rPr>
              <a:t>长</a:t>
            </a:r>
            <a:r>
              <a:rPr b="1" lang="zh-CN" sz="2400" spc="-1" strike="noStrike">
                <a:solidFill>
                  <a:srgbClr val="e6204f"/>
                </a:solidFill>
                <a:latin typeface="Times New Roman"/>
                <a:ea typeface="隶书"/>
              </a:rPr>
              <a:t>50</a:t>
            </a:r>
            <a:r>
              <a:rPr b="1" lang="zh-CN" sz="2400" spc="-1" strike="noStrike">
                <a:solidFill>
                  <a:srgbClr val="e6204f"/>
                </a:solidFill>
                <a:latin typeface="Times New Roman"/>
                <a:ea typeface="隶书"/>
              </a:rPr>
              <a:t>多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2895480" y="388620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小桥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42920" y="4221000"/>
            <a:ext cx="1928880" cy="46080"/>
          </a:xfrm>
          <a:prstGeom prst="line">
            <a:avLst/>
          </a:prstGeom>
          <a:ln w="57240">
            <a:solidFill>
              <a:srgbClr val="e62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435640" y="4076640"/>
            <a:ext cx="2133720" cy="0"/>
          </a:xfrm>
          <a:prstGeom prst="line">
            <a:avLst/>
          </a:prstGeom>
          <a:ln w="57240">
            <a:solidFill>
              <a:srgbClr val="e620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46120" y="3284640"/>
            <a:ext cx="1399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大桥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3933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“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这种设计，在建桥史上是一个创举”</a:t>
            </a:r>
            <a:r>
              <a:rPr b="1" lang="zh-CN" sz="4800" spc="-1" strike="noStrike">
                <a:solidFill>
                  <a:srgbClr val="ffff00"/>
                </a:solidFill>
                <a:latin typeface="隶书"/>
                <a:ea typeface="隶书"/>
              </a:rPr>
              <a:t>.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“</a:t>
            </a: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这种设计”指的是什么？有什么好处？找出能体现“创举”的句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4653000"/>
            <a:ext cx="7993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280" y="5445000"/>
            <a:ext cx="10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404640"/>
            <a:ext cx="9144000" cy="39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这座桥不但坚固，而且美观。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桥面两侧有石栏，栏板上雕刻着精美的图案：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2" action="ppaction://hlinksldjump"/>
              </a:rPr>
              <a:t>有的刻着两条相互缠绕的龙，嘴里吐出美丽的水花；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3" action="ppaction://hlinksldjump"/>
              </a:rPr>
              <a:t>有的刻着两条飞龙，前爪相互抵着，各自回首遥望；</a:t>
            </a:r>
            <a:r>
              <a:rPr b="0" lang="zh-CN" sz="48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4" action="ppaction://hlinksldjump"/>
              </a:rPr>
              <a:t>还有的刻着双龙戏珠。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所有的龙似乎都在游动，真像活的一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5" action="ppaction://hlinksldjump"/>
          </p:cNvPr>
          <p:cNvSpPr/>
          <p:nvPr/>
        </p:nvSpPr>
        <p:spPr>
          <a:xfrm>
            <a:off x="3733920" y="19810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>
            <a:hlinkClick r:id="rId6" action="ppaction://hlinksldjump"/>
          </p:cNvPr>
          <p:cNvSpPr/>
          <p:nvPr/>
        </p:nvSpPr>
        <p:spPr>
          <a:xfrm>
            <a:off x="0" y="34290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>
            <a:hlinkClick r:id="rId7" action="ppaction://hlinksldjump"/>
          </p:cNvPr>
          <p:cNvSpPr/>
          <p:nvPr/>
        </p:nvSpPr>
        <p:spPr>
          <a:xfrm>
            <a:off x="5486400" y="4038480"/>
            <a:ext cx="1981080" cy="762120"/>
          </a:xfrm>
          <a:custGeom>
            <a:avLst/>
            <a:gdLst>
              <a:gd name="textAreaLeft" fmla="*/ 49320 w 1981080"/>
              <a:gd name="textAreaRight" fmla="*/ 1931760 w 1981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2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2" y="20200"/>
                </a:lnTo>
                <a:lnTo>
                  <a:pt x="54732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2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>
            <a:lum bright="-6000"/>
          </a:blip>
          <a:srcRect l="11999" t="23335" r="47003" b="35337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205000" y="560232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相互缠绕  吐出美丽的水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23:57:40Z</dcterms:created>
  <dc:creator/>
  <dc:description/>
  <dc:language>en-US</dc:language>
  <cp:lastModifiedBy>user</cp:lastModifiedBy>
  <dcterms:modified xsi:type="dcterms:W3CDTF">2010-11-06T05:11:38Z</dcterms:modified>
  <cp:revision>20</cp:revision>
  <dc:subject/>
  <dc:title>幻灯片 1</dc:title>
</cp:coreProperties>
</file>