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FBA-FECA-42D3-9AC0-AC145A0A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C10-6CC8-40B7-AE97-080792AF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56C-51E7-4E1C-854B-B6B0B719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1B4-82DF-4F33-9EB7-8CDC2C55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D48-9676-49C9-ABD7-D6EF5CE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349-14C9-4AAB-A170-225479D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95C-CD6E-4D01-A407-E11B3C6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396-3A35-4442-98BF-4BA039D5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3A8-7289-4D5C-B03C-85E4FD9C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3CF-B28C-4A87-8FC7-7F21386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368-C1D6-407D-A9DF-3384F953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732-CECA-4007-BB46-09F6931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489-A203-4008-91AD-7BF0989B2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20005"/>
          <a:stretch/>
        </p:blipFill>
        <p:spPr>
          <a:xfrm rot="21284400">
            <a:off x="5334120" y="167616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谢 谢 大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1623960"/>
            <a:ext cx="7391520" cy="5234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62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原文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者庄周梦为胡蝶，栩栩然胡蝶也。自喻适志与！不知周也。俄然觉，则蘧蘧然周也。不知周之梦为胡蝶与？胡蝶之梦为周与？周与胡蝶则必有分矣。此之谓物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——《庄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物论》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注释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喻：晓，觉得。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适志：得意。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觉：醒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蘧：蘧，原意为惊喜的样子，此处为惊疑的样子。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分：区分、区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物化：事物自身的变化。此处意思为，外部事物都 会与自身交合的，即，万事万物最后都是要合而为一的，指大道时而化为庄周，时而化为蝴蝶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2178000"/>
            <a:ext cx="6705720" cy="468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介绍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周梦蝶，典出《庄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物论》，是战国时期道家学派主要代表人物庄子所提出的一个的哲学命题。在其中，庄子运用浪漫的想象力和美妙的文笔，通过对梦中变化为蝴蝶和梦醒后蝴蝶复化为己的事件的描述与探讨，提出了人不可能确切的区分真实与虚幻和生死物化的观点。虽然故事极其短小，但由于其渗透了庄子诗化哲学的精义，成为了庄子诗化哲学的代表。也由于它包含了浪漫的思想情感和丰富的人生哲学思考，引发后世众多文人骚客的共鸣，成为了他们经常吟咏的题目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含义】　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有一天，庄周梦见自己变成了蝴蝶，一只翩翩起舞的蝴蝶。自己非常快乐，悠然自得，不知道自己是庄周。突然梦醒了，却是僵卧在床的庄周。不知是庄周做梦变成了蝴蝶呢，还是蝴蝶做梦变成了庄周？ 庄周与蝴蝶必定有区别，这就是所说的化为物（指大道时而化为庄周，时而化为蝴蝶）。这则寓言是表现庄子齐物思想的名篇。庄子认为人们如果能打破生死、物我的界限，则无往而不快乐。它写得轻灵飘渺，常为哲学家和文学家所引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-533520"/>
            <a:ext cx="5638680" cy="409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感悟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清人张潮写的《幽梦影》，可称得上是一副供燥热的现代人服用的清凉散。禅不可说，清言不可译。《幽梦影》中有这么一句妙语，可谓是点出了庄子哲学的精髓：“庄周梦为蝴蝶，庄周之幸也；蝴蝶梦为庄周，蝴蝶之不幸也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难道不是吗？庄周化为蝴蝶，从喧嚣的人生走向逍遥之境，是庄周的大幸；而蝴蝶梦为庄周，从逍遥之境步入喧嚣的人生，恐怕就是蝴蝶的悲哀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但是庄周梦蝴蝶是他渴望的境界，渴望的选择。并不是每个人都向往逍遥之境。蝴蝶梦庄周，这是蝴蝶的选择蝴蝶的向往。不能一概而论。这种理论哲学方面运用很广，物与我皆无尽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974960"/>
            <a:ext cx="6858000" cy="4883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哲学探讨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庄子运用浪漫的想象力和美妙的文笔，通过对梦中变化为蝴蝶和梦醒后蝴蝶复化为己的事件的描述与探讨，提出了人不可能确切的区分真实与虚幻和生死物化的观点。并提出一个哲学问题——人如何认识真实。如果梦足够真实，人没有任何能力知道自己是在做梦。虽然故事极其短小，但由于其渗透了庄子诗化哲学的精义，成为了庄子诗化哲学的代表。在一般人看来，一个人在醒时的所见所感是真实的，梦境是幻觉，是不真实的。庄子却以为不然。虽然，醒是一种境界，梦是另一种境界，二者是不相同的；庄周是庄周，蝴蝶是蝴蝶，二者也是不相同的。但庄周看来，他们都只是一种现象，是道运动中的一种形态，一个阶段而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世影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庄周梦蝶”的故事因其深刻的意蕴，浪漫的情怀和开阔的审美想象空间而备受后世文人们的喜爱，同时也成为了后世诗人们借以表达离愁别绪、人生慨叹、思乡恋国、恬淡闲适等多种人生感悟和体验的一个重要意象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382760"/>
            <a:ext cx="7543800" cy="5342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一：离愁别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庄周的“蝴蝶梦”就像那只栩栩飞舞的蝴蝶一样让人梦魂牵绕，其独具特色的艺术魅力使无数文人墨客为之倾醉，此后“梦”与“蝶”交织在一起，以其迷离的梦幻色彩为历代迁客骚所吟唱，这一文学形象也越来越迷人而富有魅力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二：思乡恋国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蝴蝶梦”也常寄托着文人才子们对故国、故土、故人的思念之情。有家不能回，有国不能报，身陷异国他乡的庾信首先借用蝴蝶梦来抒写了自己对故国的思念，独在异乡的哀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三：恬淡闲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部分诗人他们或隐居山林，或身在田园，劳作之余手捧《南华》，与庄蝶共舞，尽情陶醉于大自然中。在他们笔下，庄周梦蝶则脱去了上述忧伤的调子，透露着生活的恬淡与惬意。蝴蝶梦抒写着诗人们闲适恬淡的思想感情，表达了他们对自由生活的热爱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四：人生慨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人经常借庄周梦蝶的故事来吊古怀今，悲今伤古，咏叹人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319480"/>
            <a:ext cx="6400800" cy="4557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者庄周梦为蝴蝶，栩栩然蝴蝶也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喻适志与，不知周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俄然觉，则蘧蘧然周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周之梦为蝴蝶与？蝴蝶之梦为周与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立下分际的标竿时，我作了一个梦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梦见我竟然变成了人，走到草原上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自己飞来飞去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水沾湿了翅膀，却让花香更清明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谷雨虽然寒冷，却让鲜艳的颜色更磅礴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还是蝴蝶的时候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知道自己如此地快乐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遇过这丛花吗？或是这花的诞生是因为我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能再遇到他吗？还是我从未盛开过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过，我知道那花从此印记成我的纹路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que papillon etait le fantom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每一个蝴蝶都是从前的一朵花的鬼魂）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‘une fleur pass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回来寻找它自己。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隐居的女人，她的朋友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723920" y="11426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梦为人的时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才发觉这被忽略的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前世的蝴蝶，在梦的触须中成了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体形式是生命的各站停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懂得太多的人，被心眼绊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计较间迷走打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那不怕貘、不懂生死的翅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飞舞在最美的风景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期待梦醒的时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做一只顺应快乐的蝴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le a dit:"m" (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说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m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le a dit:"n"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她说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n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le a dit:"m"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她说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m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 suite, elle a dit:"pok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然后，她说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pok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que papillon etait le fant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每一个蝴蝶都是从前的一朵花的鬼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'une fleur passe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回来寻找它自己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la fin, elle a dit:"ch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最后，她说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ch/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95480" y="15228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各站停靠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81480" y="6858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苏打绿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843680" y="0"/>
            <a:ext cx="13003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6429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7162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常常我们在自己的立场，模糊了焦点，被不快乐迷惑，却忽略也遗忘了快乐的时候。就像蝴蝶知不知道自己的快乐，我们谁也不知道，但或许当他变成了人，看到自己飞舞的模样，才惊觉自己的快乐！如果我们常常能用别的眼光看看自己的生活，或许更能珍惜自己的生活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生命选择不同的方式呈现，生命在花上，用一季的美丽换取蝴蝶的眼光沾取；在蝴蝶身上，用骄傲的翅膀传播花粉延续花的生命；在每个人身上，呈现的方式都不一样，生命不停流转，停靠在不同的形态之上，短暂或漫长，有时候我们有了太多知识，却因此互相计算计较，如此比起来，那只为了延续生命而绽放飞舞的花和蝶，虽然什么都不懂，是不是比人快乐多了呢？是不是才是没有被现实的梦兽啃食掉梦想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1-14T16:32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