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SPJY.com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3054-C387-4569-AFB2-108AA08740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ADB-096F-4815-8138-19CAF538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77B-FF6B-4BE5-8751-D0E865E2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11F-342C-4169-B496-45F89D01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1CE-C265-4099-BC7E-DAC16D65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83E-F4AC-47E6-A83A-41E0480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25F-02BC-4158-B38F-8B4424F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E37-FEC5-4D43-9692-9349E654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4C1-3938-4258-A508-DE9E1FE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284-375F-4D0B-AD6B-55AF4D9B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A0F-7C30-4574-8934-2D6EA7A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746-90BD-4C97-8425-F504755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B7D-61ED-4C4E-A10B-1911933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979B-43D2-4965-82F1-C2197208DED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副标题 2"/>
          <p:cNvSpPr/>
          <p:nvPr/>
        </p:nvSpPr>
        <p:spPr>
          <a:xfrm>
            <a:off x="2131920" y="2560680"/>
            <a:ext cx="4319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标题 1"/>
          <p:cNvSpPr/>
          <p:nvPr/>
        </p:nvSpPr>
        <p:spPr>
          <a:xfrm>
            <a:off x="2260440" y="1708200"/>
            <a:ext cx="4043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蜘蛛开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36"/>
          <p:cNvSpPr/>
          <p:nvPr/>
        </p:nvSpPr>
        <p:spPr>
          <a:xfrm rot="16248600">
            <a:off x="5922000" y="1307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12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1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1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51"/>
          <p:cNvSpPr/>
          <p:nvPr/>
        </p:nvSpPr>
        <p:spPr>
          <a:xfrm rot="16248600">
            <a:off x="5906160" y="3425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29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30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31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35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7"/>
          <p:cNvSpPr/>
          <p:nvPr/>
        </p:nvSpPr>
        <p:spPr>
          <a:xfrm rot="18142800">
            <a:off x="6729120" y="3383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52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53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54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36"/>
          <p:cNvSpPr/>
          <p:nvPr/>
        </p:nvSpPr>
        <p:spPr>
          <a:xfrm rot="2809800">
            <a:off x="3872880" y="1727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37"/>
          <p:cNvSpPr/>
          <p:nvPr/>
        </p:nvSpPr>
        <p:spPr>
          <a:xfrm rot="4009800">
            <a:off x="3872520" y="22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32"/>
          <p:cNvSpPr/>
          <p:nvPr/>
        </p:nvSpPr>
        <p:spPr>
          <a:xfrm rot="5400000">
            <a:off x="1200960" y="322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47"/>
          <p:cNvSpPr/>
          <p:nvPr/>
        </p:nvSpPr>
        <p:spPr>
          <a:xfrm rot="5220000">
            <a:off x="760680" y="288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50"/>
          <p:cNvSpPr/>
          <p:nvPr/>
        </p:nvSpPr>
        <p:spPr>
          <a:xfrm rot="4020000">
            <a:off x="3761640" y="335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51"/>
          <p:cNvSpPr/>
          <p:nvPr/>
        </p:nvSpPr>
        <p:spPr>
          <a:xfrm rot="4020000">
            <a:off x="4131000" y="35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45"/>
          <p:cNvSpPr/>
          <p:nvPr/>
        </p:nvSpPr>
        <p:spPr>
          <a:xfrm rot="2809800">
            <a:off x="2290680" y="152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46"/>
          <p:cNvSpPr/>
          <p:nvPr/>
        </p:nvSpPr>
        <p:spPr>
          <a:xfrm rot="2809800">
            <a:off x="2659680" y="174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50"/>
          <p:cNvSpPr/>
          <p:nvPr/>
        </p:nvSpPr>
        <p:spPr>
          <a:xfrm rot="2809800">
            <a:off x="3134880" y="239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51"/>
          <p:cNvSpPr/>
          <p:nvPr/>
        </p:nvSpPr>
        <p:spPr>
          <a:xfrm rot="2809800">
            <a:off x="3504600" y="26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32"/>
          <p:cNvSpPr/>
          <p:nvPr/>
        </p:nvSpPr>
        <p:spPr>
          <a:xfrm rot="5400000">
            <a:off x="4811040" y="367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55640" y="1211400"/>
            <a:ext cx="784872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晚上，蜘蛛想：还是卖围巾吧，因为围巾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二天，蜘蛛的招牌换了，上面写着：“围巾编织店，每位顾客只需付一元钱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: 圆角 2"/>
          <p:cNvSpPr/>
          <p:nvPr/>
        </p:nvSpPr>
        <p:spPr>
          <a:xfrm>
            <a:off x="879480" y="1954080"/>
            <a:ext cx="326088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4"/>
          <p:cNvSpPr/>
          <p:nvPr/>
        </p:nvSpPr>
        <p:spPr>
          <a:xfrm>
            <a:off x="611280" y="55548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卖的第二件商品是什么呢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: 圆角 7"/>
          <p:cNvSpPr/>
          <p:nvPr/>
        </p:nvSpPr>
        <p:spPr>
          <a:xfrm>
            <a:off x="5786280" y="1285920"/>
            <a:ext cx="81468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4"/>
          <p:cNvSpPr/>
          <p:nvPr/>
        </p:nvSpPr>
        <p:spPr>
          <a:xfrm>
            <a:off x="900000" y="8431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的第二位顾客是谁呢？结果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164304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顾客来了，只见身子不见头。蜘蛛向上一看，原来是一只长颈鹿，他的脖子和大树一样高，脑袋从树叶间露出来，正对着蜘蛛笑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: 圆角 3"/>
          <p:cNvSpPr/>
          <p:nvPr/>
        </p:nvSpPr>
        <p:spPr>
          <a:xfrm>
            <a:off x="4452840" y="2379600"/>
            <a:ext cx="127152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8"/>
          <p:cNvSpPr/>
          <p:nvPr/>
        </p:nvSpPr>
        <p:spPr>
          <a:xfrm>
            <a:off x="3564000" y="2227320"/>
            <a:ext cx="300996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9"/>
          <p:cNvSpPr/>
          <p:nvPr/>
        </p:nvSpPr>
        <p:spPr>
          <a:xfrm>
            <a:off x="6143760" y="2873520"/>
            <a:ext cx="205416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10"/>
          <p:cNvSpPr/>
          <p:nvPr/>
        </p:nvSpPr>
        <p:spPr>
          <a:xfrm>
            <a:off x="650880" y="3575160"/>
            <a:ext cx="645012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5" descr=""/>
          <p:cNvPicPr/>
          <p:nvPr/>
        </p:nvPicPr>
        <p:blipFill>
          <a:blip r:embed="rId1"/>
          <a:srcRect l="0" t="4748" r="0" b="0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2"/>
          <a:srcRect l="0" t="0" r="0" b="12020"/>
          <a:stretch/>
        </p:blipFill>
        <p:spPr>
          <a:xfrm>
            <a:off x="-30240" y="-33480"/>
            <a:ext cx="9174240" cy="518652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6" descr=""/>
          <p:cNvPicPr/>
          <p:nvPr/>
        </p:nvPicPr>
        <p:blipFill>
          <a:blip r:embed="rId3"/>
          <a:stretch/>
        </p:blipFill>
        <p:spPr>
          <a:xfrm>
            <a:off x="0" y="-33480"/>
            <a:ext cx="914400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6"/>
          <p:cNvSpPr/>
          <p:nvPr/>
        </p:nvSpPr>
        <p:spPr>
          <a:xfrm>
            <a:off x="755640" y="843120"/>
            <a:ext cx="777708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蜘蛛织啊织，足足忙了一个星期，才织完那条长长的围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蜘蛛累得趴倒在地上，心里想：还是卖袜子吧，因为袜子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: 圆角 2"/>
          <p:cNvSpPr/>
          <p:nvPr/>
        </p:nvSpPr>
        <p:spPr>
          <a:xfrm>
            <a:off x="4089240" y="966960"/>
            <a:ext cx="331164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: 圆角 5"/>
          <p:cNvSpPr/>
          <p:nvPr/>
        </p:nvSpPr>
        <p:spPr>
          <a:xfrm>
            <a:off x="2484360" y="2370240"/>
            <a:ext cx="287964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36"/>
          <p:cNvSpPr/>
          <p:nvPr/>
        </p:nvSpPr>
        <p:spPr>
          <a:xfrm rot="16248600">
            <a:off x="5922000" y="1307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5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2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51"/>
          <p:cNvSpPr/>
          <p:nvPr/>
        </p:nvSpPr>
        <p:spPr>
          <a:xfrm rot="16248600">
            <a:off x="5906160" y="3425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32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3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34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38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47"/>
          <p:cNvSpPr/>
          <p:nvPr/>
        </p:nvSpPr>
        <p:spPr>
          <a:xfrm rot="18142800">
            <a:off x="6729120" y="3383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55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56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7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36"/>
          <p:cNvSpPr/>
          <p:nvPr/>
        </p:nvSpPr>
        <p:spPr>
          <a:xfrm rot="2809800">
            <a:off x="3872880" y="1727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37"/>
          <p:cNvSpPr/>
          <p:nvPr/>
        </p:nvSpPr>
        <p:spPr>
          <a:xfrm rot="4009800">
            <a:off x="3872520" y="22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32"/>
          <p:cNvSpPr/>
          <p:nvPr/>
        </p:nvSpPr>
        <p:spPr>
          <a:xfrm rot="5400000">
            <a:off x="1200960" y="322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47"/>
          <p:cNvSpPr/>
          <p:nvPr/>
        </p:nvSpPr>
        <p:spPr>
          <a:xfrm rot="5220000">
            <a:off x="760680" y="288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50"/>
          <p:cNvSpPr/>
          <p:nvPr/>
        </p:nvSpPr>
        <p:spPr>
          <a:xfrm rot="4020000">
            <a:off x="3761640" y="335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51"/>
          <p:cNvSpPr/>
          <p:nvPr/>
        </p:nvSpPr>
        <p:spPr>
          <a:xfrm rot="4020000">
            <a:off x="4131000" y="35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45"/>
          <p:cNvSpPr/>
          <p:nvPr/>
        </p:nvSpPr>
        <p:spPr>
          <a:xfrm rot="2809800">
            <a:off x="2290680" y="152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46"/>
          <p:cNvSpPr/>
          <p:nvPr/>
        </p:nvSpPr>
        <p:spPr>
          <a:xfrm rot="2809800">
            <a:off x="2659680" y="174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50"/>
          <p:cNvSpPr/>
          <p:nvPr/>
        </p:nvSpPr>
        <p:spPr>
          <a:xfrm rot="2809800">
            <a:off x="3134880" y="239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51"/>
          <p:cNvSpPr/>
          <p:nvPr/>
        </p:nvSpPr>
        <p:spPr>
          <a:xfrm rot="2809800">
            <a:off x="3504600" y="26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32"/>
          <p:cNvSpPr/>
          <p:nvPr/>
        </p:nvSpPr>
        <p:spPr>
          <a:xfrm rot="5400000">
            <a:off x="4811040" y="367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4"/>
          <p:cNvSpPr/>
          <p:nvPr/>
        </p:nvSpPr>
        <p:spPr>
          <a:xfrm>
            <a:off x="900000" y="9158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的第三位顾客是谁呢？结果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114560" y="1924200"/>
            <a:ext cx="6843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可是，蜘蛛看到顾客后，却吓得匆忙跑回网上。原来那位顾客竟是一条四十二只脚的蜈蚣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矩形: 圆角 3"/>
          <p:cNvSpPr/>
          <p:nvPr/>
        </p:nvSpPr>
        <p:spPr>
          <a:xfrm>
            <a:off x="1619280" y="3300480"/>
            <a:ext cx="331308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直接连接符 9"/>
          <p:cNvSpPr/>
          <p:nvPr/>
        </p:nvSpPr>
        <p:spPr>
          <a:xfrm>
            <a:off x="7020000" y="2557440"/>
            <a:ext cx="64764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接连接符 10"/>
          <p:cNvSpPr/>
          <p:nvPr/>
        </p:nvSpPr>
        <p:spPr>
          <a:xfrm>
            <a:off x="1244520" y="3164040"/>
            <a:ext cx="2390760" cy="0"/>
          </a:xfrm>
          <a:prstGeom prst="line">
            <a:avLst/>
          </a:prstGeom>
          <a:ln w="3816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Users\Administrator\Desktop\图片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Calibri Light"/>
              </a:rPr>
              <a:t>蜘蛛的招牌分别是怎么写的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矩形 13"/>
          <p:cNvSpPr/>
          <p:nvPr/>
        </p:nvSpPr>
        <p:spPr>
          <a:xfrm>
            <a:off x="157320" y="1638360"/>
            <a:ext cx="8986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罩编织店，每位顾客只需付一元钱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围巾编织店，每位顾客只需付一元钱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袜子编织店，每位顾客只需付一元钱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C:\Users\Administrator\Desktop\图片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2" descr=""/>
          <p:cNvPicPr/>
          <p:nvPr/>
        </p:nvPicPr>
        <p:blipFill>
          <a:blip r:embed="rId2"/>
          <a:stretch/>
        </p:blipFill>
        <p:spPr>
          <a:xfrm>
            <a:off x="208080" y="1494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27" name="文本框 3"/>
          <p:cNvSpPr/>
          <p:nvPr/>
        </p:nvSpPr>
        <p:spPr>
          <a:xfrm>
            <a:off x="928800" y="171468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自由读课文，小组讨论，完成下列表格，说一说蜘蛛为什么总换招牌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36"/>
          <p:cNvSpPr/>
          <p:nvPr/>
        </p:nvSpPr>
        <p:spPr>
          <a:xfrm rot="16248600">
            <a:off x="5922000" y="1307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1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24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25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51"/>
          <p:cNvSpPr/>
          <p:nvPr/>
        </p:nvSpPr>
        <p:spPr>
          <a:xfrm rot="16248600">
            <a:off x="5906160" y="3425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36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37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38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4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47"/>
          <p:cNvSpPr/>
          <p:nvPr/>
        </p:nvSpPr>
        <p:spPr>
          <a:xfrm rot="18142800">
            <a:off x="6729120" y="3383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5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6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6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36"/>
          <p:cNvSpPr/>
          <p:nvPr/>
        </p:nvSpPr>
        <p:spPr>
          <a:xfrm rot="2809800">
            <a:off x="3872880" y="1727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37"/>
          <p:cNvSpPr/>
          <p:nvPr/>
        </p:nvSpPr>
        <p:spPr>
          <a:xfrm rot="4009800">
            <a:off x="3872520" y="22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32"/>
          <p:cNvSpPr/>
          <p:nvPr/>
        </p:nvSpPr>
        <p:spPr>
          <a:xfrm rot="5400000">
            <a:off x="1200960" y="322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7"/>
          <p:cNvSpPr/>
          <p:nvPr/>
        </p:nvSpPr>
        <p:spPr>
          <a:xfrm rot="5220000">
            <a:off x="760680" y="288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50"/>
          <p:cNvSpPr/>
          <p:nvPr/>
        </p:nvSpPr>
        <p:spPr>
          <a:xfrm rot="4020000">
            <a:off x="3761640" y="335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51"/>
          <p:cNvSpPr/>
          <p:nvPr/>
        </p:nvSpPr>
        <p:spPr>
          <a:xfrm rot="4020000">
            <a:off x="4131000" y="35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45"/>
          <p:cNvSpPr/>
          <p:nvPr/>
        </p:nvSpPr>
        <p:spPr>
          <a:xfrm rot="2809800">
            <a:off x="2290680" y="152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46"/>
          <p:cNvSpPr/>
          <p:nvPr/>
        </p:nvSpPr>
        <p:spPr>
          <a:xfrm rot="2809800">
            <a:off x="2659680" y="174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50"/>
          <p:cNvSpPr/>
          <p:nvPr/>
        </p:nvSpPr>
        <p:spPr>
          <a:xfrm rot="2809800">
            <a:off x="3134880" y="239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51"/>
          <p:cNvSpPr/>
          <p:nvPr/>
        </p:nvSpPr>
        <p:spPr>
          <a:xfrm rot="2809800">
            <a:off x="3504600" y="26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32"/>
          <p:cNvSpPr/>
          <p:nvPr/>
        </p:nvSpPr>
        <p:spPr>
          <a:xfrm rot="5400000">
            <a:off x="4811040" y="367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42920" y="700200"/>
          <a:ext cx="7489800" cy="4103640"/>
        </p:xfrm>
        <a:graphic>
          <a:graphicData uri="http://schemas.openxmlformats.org/drawingml/2006/table">
            <a:tbl>
              <a:tblPr/>
              <a:tblGrid>
                <a:gridCol w="1152720"/>
                <a:gridCol w="1439640"/>
                <a:gridCol w="1944720"/>
                <a:gridCol w="2952720"/>
              </a:tblGrid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招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顾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花费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蜘蛛的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口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围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袜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6"/>
          <p:cNvSpPr/>
          <p:nvPr/>
        </p:nvSpPr>
        <p:spPr>
          <a:xfrm>
            <a:off x="2340000" y="1563840"/>
            <a:ext cx="115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河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3784680" y="1563840"/>
            <a:ext cx="1511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整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5651640" y="1563840"/>
            <a:ext cx="273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口罩好难织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2195640" y="2382840"/>
            <a:ext cx="144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570120" y="2382840"/>
            <a:ext cx="1940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一个星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5529240" y="2392200"/>
            <a:ext cx="309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累得趴倒在地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195640" y="3201840"/>
            <a:ext cx="144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5529240" y="3213000"/>
            <a:ext cx="309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吓得跑回网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071800" y="4000680"/>
            <a:ext cx="70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蜘蛛想得简单</a:t>
            </a:r>
            <a:r>
              <a:rPr b="1" lang="en-US" sz="3200" spc="-1" strike="noStrike">
                <a:solidFill>
                  <a:srgbClr val="ff00ff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做事不灵活不懂坚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36"/>
          <p:cNvSpPr/>
          <p:nvPr/>
        </p:nvSpPr>
        <p:spPr>
          <a:xfrm rot="16248600">
            <a:off x="5922000" y="1307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51"/>
          <p:cNvSpPr/>
          <p:nvPr/>
        </p:nvSpPr>
        <p:spPr>
          <a:xfrm rot="16248600">
            <a:off x="5906160" y="3425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47"/>
          <p:cNvSpPr/>
          <p:nvPr/>
        </p:nvSpPr>
        <p:spPr>
          <a:xfrm rot="18142800">
            <a:off x="6729120" y="3383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36"/>
          <p:cNvSpPr/>
          <p:nvPr/>
        </p:nvSpPr>
        <p:spPr>
          <a:xfrm rot="2809800">
            <a:off x="3872880" y="1727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37"/>
          <p:cNvSpPr/>
          <p:nvPr/>
        </p:nvSpPr>
        <p:spPr>
          <a:xfrm rot="4009800">
            <a:off x="3872520" y="22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32"/>
          <p:cNvSpPr/>
          <p:nvPr/>
        </p:nvSpPr>
        <p:spPr>
          <a:xfrm rot="5400000">
            <a:off x="1200960" y="322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47"/>
          <p:cNvSpPr/>
          <p:nvPr/>
        </p:nvSpPr>
        <p:spPr>
          <a:xfrm rot="5220000">
            <a:off x="760680" y="288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50"/>
          <p:cNvSpPr/>
          <p:nvPr/>
        </p:nvSpPr>
        <p:spPr>
          <a:xfrm rot="4020000">
            <a:off x="3761640" y="335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51"/>
          <p:cNvSpPr/>
          <p:nvPr/>
        </p:nvSpPr>
        <p:spPr>
          <a:xfrm rot="4020000">
            <a:off x="4131000" y="35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45"/>
          <p:cNvSpPr/>
          <p:nvPr/>
        </p:nvSpPr>
        <p:spPr>
          <a:xfrm rot="2809800">
            <a:off x="2290680" y="152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46"/>
          <p:cNvSpPr/>
          <p:nvPr/>
        </p:nvSpPr>
        <p:spPr>
          <a:xfrm rot="2809800">
            <a:off x="2659680" y="174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50"/>
          <p:cNvSpPr/>
          <p:nvPr/>
        </p:nvSpPr>
        <p:spPr>
          <a:xfrm rot="2809800">
            <a:off x="3134880" y="239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51"/>
          <p:cNvSpPr/>
          <p:nvPr/>
        </p:nvSpPr>
        <p:spPr>
          <a:xfrm rot="2809800">
            <a:off x="3504600" y="26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32"/>
          <p:cNvSpPr/>
          <p:nvPr/>
        </p:nvSpPr>
        <p:spPr>
          <a:xfrm rot="5400000">
            <a:off x="4811040" y="367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: 形状 9"/>
          <p:cNvSpPr/>
          <p:nvPr/>
        </p:nvSpPr>
        <p:spPr>
          <a:xfrm>
            <a:off x="658800" y="949320"/>
            <a:ext cx="7750080" cy="3781440"/>
          </a:xfrm>
          <a:custGeom>
            <a:avLst/>
            <a:gdLst/>
            <a:ahLst/>
            <a:rect l="l" t="t" r="r" b="b"/>
            <a:pathLst>
              <a:path w="7751618" h="3782291">
                <a:moveTo>
                  <a:pt x="318654" y="228600"/>
                </a:moveTo>
                <a:lnTo>
                  <a:pt x="318654" y="228600"/>
                </a:lnTo>
                <a:cubicBezTo>
                  <a:pt x="339436" y="230909"/>
                  <a:pt x="360333" y="232348"/>
                  <a:pt x="381000" y="235528"/>
                </a:cubicBezTo>
                <a:cubicBezTo>
                  <a:pt x="390410" y="236976"/>
                  <a:pt x="399318" y="240890"/>
                  <a:pt x="408709" y="242455"/>
                </a:cubicBezTo>
                <a:cubicBezTo>
                  <a:pt x="427072" y="245515"/>
                  <a:pt x="445654" y="247073"/>
                  <a:pt x="464127" y="249382"/>
                </a:cubicBezTo>
                <a:cubicBezTo>
                  <a:pt x="484909" y="256309"/>
                  <a:pt x="504584" y="269306"/>
                  <a:pt x="526473" y="270164"/>
                </a:cubicBezTo>
                <a:cubicBezTo>
                  <a:pt x="727388" y="278043"/>
                  <a:pt x="739285" y="274400"/>
                  <a:pt x="865909" y="256309"/>
                </a:cubicBezTo>
                <a:cubicBezTo>
                  <a:pt x="884382" y="249382"/>
                  <a:pt x="902357" y="240948"/>
                  <a:pt x="921327" y="235528"/>
                </a:cubicBezTo>
                <a:cubicBezTo>
                  <a:pt x="934832" y="231669"/>
                  <a:pt x="949180" y="231647"/>
                  <a:pt x="962891" y="228600"/>
                </a:cubicBezTo>
                <a:cubicBezTo>
                  <a:pt x="1201330" y="175614"/>
                  <a:pt x="908796" y="235264"/>
                  <a:pt x="1115291" y="193964"/>
                </a:cubicBezTo>
                <a:cubicBezTo>
                  <a:pt x="1131455" y="187037"/>
                  <a:pt x="1146721" y="177447"/>
                  <a:pt x="1163782" y="173182"/>
                </a:cubicBezTo>
                <a:cubicBezTo>
                  <a:pt x="1184067" y="168111"/>
                  <a:pt x="1205266" y="167677"/>
                  <a:pt x="1226127" y="166255"/>
                </a:cubicBezTo>
                <a:cubicBezTo>
                  <a:pt x="1306890" y="160748"/>
                  <a:pt x="1387764" y="157018"/>
                  <a:pt x="1468582" y="152400"/>
                </a:cubicBezTo>
                <a:cubicBezTo>
                  <a:pt x="1528618" y="145473"/>
                  <a:pt x="1588494" y="136970"/>
                  <a:pt x="1648691" y="131619"/>
                </a:cubicBezTo>
                <a:cubicBezTo>
                  <a:pt x="1692452" y="127729"/>
                  <a:pt x="1736480" y="127714"/>
                  <a:pt x="1780309" y="124691"/>
                </a:cubicBezTo>
                <a:cubicBezTo>
                  <a:pt x="1803460" y="123094"/>
                  <a:pt x="1826491" y="120073"/>
                  <a:pt x="1849582" y="117764"/>
                </a:cubicBezTo>
                <a:lnTo>
                  <a:pt x="2334491" y="124691"/>
                </a:lnTo>
                <a:cubicBezTo>
                  <a:pt x="2366892" y="125462"/>
                  <a:pt x="2399422" y="126811"/>
                  <a:pt x="2431473" y="131619"/>
                </a:cubicBezTo>
                <a:cubicBezTo>
                  <a:pt x="2445915" y="133785"/>
                  <a:pt x="2458829" y="142090"/>
                  <a:pt x="2473036" y="145473"/>
                </a:cubicBezTo>
                <a:cubicBezTo>
                  <a:pt x="2507398" y="153654"/>
                  <a:pt x="2541895" y="161874"/>
                  <a:pt x="2576945" y="166255"/>
                </a:cubicBezTo>
                <a:cubicBezTo>
                  <a:pt x="2659954" y="176631"/>
                  <a:pt x="2613812" y="171636"/>
                  <a:pt x="2715491" y="180109"/>
                </a:cubicBezTo>
                <a:cubicBezTo>
                  <a:pt x="2727036" y="182418"/>
                  <a:pt x="2738353" y="187037"/>
                  <a:pt x="2750127" y="187037"/>
                </a:cubicBezTo>
                <a:cubicBezTo>
                  <a:pt x="3257064" y="187037"/>
                  <a:pt x="3135817" y="196056"/>
                  <a:pt x="3387436" y="173182"/>
                </a:cubicBezTo>
                <a:cubicBezTo>
                  <a:pt x="3464124" y="157845"/>
                  <a:pt x="3476177" y="156952"/>
                  <a:pt x="3560618" y="131619"/>
                </a:cubicBezTo>
                <a:cubicBezTo>
                  <a:pt x="3644055" y="106588"/>
                  <a:pt x="3542596" y="126540"/>
                  <a:pt x="3636818" y="110837"/>
                </a:cubicBezTo>
                <a:cubicBezTo>
                  <a:pt x="3650673" y="103910"/>
                  <a:pt x="3664227" y="96346"/>
                  <a:pt x="3678382" y="90055"/>
                </a:cubicBezTo>
                <a:cubicBezTo>
                  <a:pt x="3698119" y="81283"/>
                  <a:pt x="3753965" y="70464"/>
                  <a:pt x="3761509" y="69273"/>
                </a:cubicBezTo>
                <a:cubicBezTo>
                  <a:pt x="3840299" y="56832"/>
                  <a:pt x="3810590" y="68652"/>
                  <a:pt x="3872345" y="55419"/>
                </a:cubicBezTo>
                <a:cubicBezTo>
                  <a:pt x="4040909" y="19298"/>
                  <a:pt x="3823966" y="62853"/>
                  <a:pt x="3976254" y="27709"/>
                </a:cubicBezTo>
                <a:cubicBezTo>
                  <a:pt x="3998818" y="22502"/>
                  <a:pt x="4053403" y="16188"/>
                  <a:pt x="4073236" y="13855"/>
                </a:cubicBezTo>
                <a:cubicBezTo>
                  <a:pt x="4172166" y="2217"/>
                  <a:pt x="4098987" y="12156"/>
                  <a:pt x="4184073" y="0"/>
                </a:cubicBezTo>
                <a:lnTo>
                  <a:pt x="5223164" y="6928"/>
                </a:lnTo>
                <a:cubicBezTo>
                  <a:pt x="5248667" y="7245"/>
                  <a:pt x="5273974" y="11437"/>
                  <a:pt x="5299364" y="13855"/>
                </a:cubicBezTo>
                <a:cubicBezTo>
                  <a:pt x="5357259" y="19369"/>
                  <a:pt x="5415081" y="25564"/>
                  <a:pt x="5472545" y="34637"/>
                </a:cubicBezTo>
                <a:cubicBezTo>
                  <a:pt x="5500293" y="39018"/>
                  <a:pt x="5527588" y="47884"/>
                  <a:pt x="5555673" y="48491"/>
                </a:cubicBezTo>
                <a:cubicBezTo>
                  <a:pt x="5955079" y="57127"/>
                  <a:pt x="6354618" y="57728"/>
                  <a:pt x="6754091" y="62346"/>
                </a:cubicBezTo>
                <a:cubicBezTo>
                  <a:pt x="6774873" y="64655"/>
                  <a:pt x="6796151" y="64202"/>
                  <a:pt x="6816436" y="69273"/>
                </a:cubicBezTo>
                <a:cubicBezTo>
                  <a:pt x="6824513" y="71292"/>
                  <a:pt x="6828952" y="82136"/>
                  <a:pt x="6837218" y="83128"/>
                </a:cubicBezTo>
                <a:cubicBezTo>
                  <a:pt x="6887708" y="89187"/>
                  <a:pt x="6938818" y="87746"/>
                  <a:pt x="6989618" y="90055"/>
                </a:cubicBezTo>
                <a:cubicBezTo>
                  <a:pt x="7055488" y="98288"/>
                  <a:pt x="7060188" y="96957"/>
                  <a:pt x="7135091" y="117764"/>
                </a:cubicBezTo>
                <a:cubicBezTo>
                  <a:pt x="7252258" y="150311"/>
                  <a:pt x="7089738" y="115622"/>
                  <a:pt x="7204364" y="138546"/>
                </a:cubicBezTo>
                <a:cubicBezTo>
                  <a:pt x="7263245" y="177800"/>
                  <a:pt x="7172035" y="113145"/>
                  <a:pt x="7252854" y="193964"/>
                </a:cubicBezTo>
                <a:cubicBezTo>
                  <a:pt x="7308208" y="249318"/>
                  <a:pt x="7234166" y="171916"/>
                  <a:pt x="7294418" y="249382"/>
                </a:cubicBezTo>
                <a:cubicBezTo>
                  <a:pt x="7302437" y="259693"/>
                  <a:pt x="7312891" y="267855"/>
                  <a:pt x="7322127" y="277091"/>
                </a:cubicBezTo>
                <a:cubicBezTo>
                  <a:pt x="7344420" y="343974"/>
                  <a:pt x="7308675" y="240000"/>
                  <a:pt x="7342909" y="325582"/>
                </a:cubicBezTo>
                <a:cubicBezTo>
                  <a:pt x="7362444" y="374418"/>
                  <a:pt x="7351437" y="371508"/>
                  <a:pt x="7384473" y="422564"/>
                </a:cubicBezTo>
                <a:cubicBezTo>
                  <a:pt x="7399931" y="446454"/>
                  <a:pt x="7453109" y="509602"/>
                  <a:pt x="7474527" y="533400"/>
                </a:cubicBezTo>
                <a:cubicBezTo>
                  <a:pt x="7513430" y="576626"/>
                  <a:pt x="7475142" y="533840"/>
                  <a:pt x="7523018" y="568037"/>
                </a:cubicBezTo>
                <a:cubicBezTo>
                  <a:pt x="7541444" y="581199"/>
                  <a:pt x="7581959" y="637427"/>
                  <a:pt x="7585364" y="644237"/>
                </a:cubicBezTo>
                <a:cubicBezTo>
                  <a:pt x="7589982" y="653473"/>
                  <a:pt x="7595150" y="662454"/>
                  <a:pt x="7599218" y="671946"/>
                </a:cubicBezTo>
                <a:cubicBezTo>
                  <a:pt x="7614769" y="708232"/>
                  <a:pt x="7596811" y="678579"/>
                  <a:pt x="7613073" y="727364"/>
                </a:cubicBezTo>
                <a:cubicBezTo>
                  <a:pt x="7616339" y="737161"/>
                  <a:pt x="7622309" y="745837"/>
                  <a:pt x="7626927" y="755073"/>
                </a:cubicBezTo>
                <a:cubicBezTo>
                  <a:pt x="7631545" y="787400"/>
                  <a:pt x="7634378" y="820034"/>
                  <a:pt x="7640782" y="852055"/>
                </a:cubicBezTo>
                <a:cubicBezTo>
                  <a:pt x="7645400" y="875146"/>
                  <a:pt x="7651055" y="898054"/>
                  <a:pt x="7654636" y="921328"/>
                </a:cubicBezTo>
                <a:cubicBezTo>
                  <a:pt x="7660298" y="958128"/>
                  <a:pt x="7668491" y="1032164"/>
                  <a:pt x="7668491" y="1032164"/>
                </a:cubicBezTo>
                <a:cubicBezTo>
                  <a:pt x="7677727" y="1323109"/>
                  <a:pt x="7683556" y="1614183"/>
                  <a:pt x="7696200" y="1905000"/>
                </a:cubicBezTo>
                <a:cubicBezTo>
                  <a:pt x="7697420" y="1933065"/>
                  <a:pt x="7706190" y="1960304"/>
                  <a:pt x="7710054" y="1988128"/>
                </a:cubicBezTo>
                <a:cubicBezTo>
                  <a:pt x="7717737" y="2043446"/>
                  <a:pt x="7719882" y="2099617"/>
                  <a:pt x="7730836" y="2154382"/>
                </a:cubicBezTo>
                <a:cubicBezTo>
                  <a:pt x="7733145" y="2165928"/>
                  <a:pt x="7734381" y="2177741"/>
                  <a:pt x="7737764" y="2189019"/>
                </a:cubicBezTo>
                <a:cubicBezTo>
                  <a:pt x="7741337" y="2200929"/>
                  <a:pt x="7747000" y="2212110"/>
                  <a:pt x="7751618" y="2223655"/>
                </a:cubicBezTo>
                <a:cubicBezTo>
                  <a:pt x="7749309" y="2403764"/>
                  <a:pt x="7748978" y="2583909"/>
                  <a:pt x="7744691" y="2763982"/>
                </a:cubicBezTo>
                <a:cubicBezTo>
                  <a:pt x="7743761" y="2803058"/>
                  <a:pt x="7727237" y="2829801"/>
                  <a:pt x="7716982" y="2867891"/>
                </a:cubicBezTo>
                <a:cubicBezTo>
                  <a:pt x="7706498" y="2906831"/>
                  <a:pt x="7698735" y="2946454"/>
                  <a:pt x="7689273" y="2985655"/>
                </a:cubicBezTo>
                <a:cubicBezTo>
                  <a:pt x="7682571" y="3013419"/>
                  <a:pt x="7677523" y="3041686"/>
                  <a:pt x="7668491" y="3068782"/>
                </a:cubicBezTo>
                <a:cubicBezTo>
                  <a:pt x="7666182" y="3075709"/>
                  <a:pt x="7664530" y="3082891"/>
                  <a:pt x="7661564" y="3089564"/>
                </a:cubicBezTo>
                <a:cubicBezTo>
                  <a:pt x="7655273" y="3103719"/>
                  <a:pt x="7647139" y="3117002"/>
                  <a:pt x="7640782" y="3131128"/>
                </a:cubicBezTo>
                <a:cubicBezTo>
                  <a:pt x="7626349" y="3163201"/>
                  <a:pt x="7620320" y="3199972"/>
                  <a:pt x="7599218" y="3228109"/>
                </a:cubicBezTo>
                <a:cubicBezTo>
                  <a:pt x="7592291" y="3237346"/>
                  <a:pt x="7584043" y="3245726"/>
                  <a:pt x="7578436" y="3255819"/>
                </a:cubicBezTo>
                <a:cubicBezTo>
                  <a:pt x="7572397" y="3266689"/>
                  <a:pt x="7569632" y="3279092"/>
                  <a:pt x="7564582" y="3290455"/>
                </a:cubicBezTo>
                <a:cubicBezTo>
                  <a:pt x="7560388" y="3299892"/>
                  <a:pt x="7554562" y="3308576"/>
                  <a:pt x="7550727" y="3318164"/>
                </a:cubicBezTo>
                <a:cubicBezTo>
                  <a:pt x="7524744" y="3383121"/>
                  <a:pt x="7548591" y="3362577"/>
                  <a:pt x="7488382" y="3442855"/>
                </a:cubicBezTo>
                <a:cubicBezTo>
                  <a:pt x="7481455" y="3452091"/>
                  <a:pt x="7476111" y="3462762"/>
                  <a:pt x="7467600" y="3470564"/>
                </a:cubicBezTo>
                <a:cubicBezTo>
                  <a:pt x="7448192" y="3488354"/>
                  <a:pt x="7425687" y="3502453"/>
                  <a:pt x="7405254" y="3519055"/>
                </a:cubicBezTo>
                <a:cubicBezTo>
                  <a:pt x="7388732" y="3532480"/>
                  <a:pt x="7374724" y="3549190"/>
                  <a:pt x="7356764" y="3560619"/>
                </a:cubicBezTo>
                <a:cubicBezTo>
                  <a:pt x="7331364" y="3576782"/>
                  <a:pt x="7301853" y="3587820"/>
                  <a:pt x="7280564" y="3609109"/>
                </a:cubicBezTo>
                <a:cubicBezTo>
                  <a:pt x="7222140" y="3667533"/>
                  <a:pt x="7279546" y="3613750"/>
                  <a:pt x="7232073" y="3650673"/>
                </a:cubicBezTo>
                <a:cubicBezTo>
                  <a:pt x="7203612" y="3672809"/>
                  <a:pt x="7181606" y="3696688"/>
                  <a:pt x="7148945" y="3713019"/>
                </a:cubicBezTo>
                <a:cubicBezTo>
                  <a:pt x="7140430" y="3717277"/>
                  <a:pt x="7130214" y="3716777"/>
                  <a:pt x="7121236" y="3719946"/>
                </a:cubicBezTo>
                <a:cubicBezTo>
                  <a:pt x="7090908" y="3730650"/>
                  <a:pt x="7061814" y="3744780"/>
                  <a:pt x="7031182" y="3754582"/>
                </a:cubicBezTo>
                <a:cubicBezTo>
                  <a:pt x="6959153" y="3777631"/>
                  <a:pt x="6949166" y="3775253"/>
                  <a:pt x="6878782" y="3782291"/>
                </a:cubicBezTo>
                <a:cubicBezTo>
                  <a:pt x="6848376" y="3781243"/>
                  <a:pt x="6691840" y="3781863"/>
                  <a:pt x="6622473" y="3768437"/>
                </a:cubicBezTo>
                <a:cubicBezTo>
                  <a:pt x="6395420" y="3724491"/>
                  <a:pt x="6537357" y="3740546"/>
                  <a:pt x="6386945" y="3726873"/>
                </a:cubicBezTo>
                <a:lnTo>
                  <a:pt x="5257800" y="3747655"/>
                </a:lnTo>
                <a:cubicBezTo>
                  <a:pt x="5202346" y="3748841"/>
                  <a:pt x="5147011" y="3754759"/>
                  <a:pt x="5091545" y="3754582"/>
                </a:cubicBezTo>
                <a:lnTo>
                  <a:pt x="3089564" y="3740728"/>
                </a:lnTo>
                <a:lnTo>
                  <a:pt x="1302327" y="3733800"/>
                </a:lnTo>
                <a:cubicBezTo>
                  <a:pt x="1185546" y="3723184"/>
                  <a:pt x="1173831" y="3721502"/>
                  <a:pt x="1018309" y="3713019"/>
                </a:cubicBezTo>
                <a:cubicBezTo>
                  <a:pt x="960621" y="3709872"/>
                  <a:pt x="902854" y="3708400"/>
                  <a:pt x="845127" y="3706091"/>
                </a:cubicBezTo>
                <a:cubicBezTo>
                  <a:pt x="824345" y="3703782"/>
                  <a:pt x="803333" y="3703017"/>
                  <a:pt x="782782" y="3699164"/>
                </a:cubicBezTo>
                <a:cubicBezTo>
                  <a:pt x="766259" y="3696066"/>
                  <a:pt x="750728" y="3688831"/>
                  <a:pt x="734291" y="3685309"/>
                </a:cubicBezTo>
                <a:cubicBezTo>
                  <a:pt x="718326" y="3681888"/>
                  <a:pt x="701964" y="3680691"/>
                  <a:pt x="685800" y="3678382"/>
                </a:cubicBezTo>
                <a:cubicBezTo>
                  <a:pt x="639350" y="3655158"/>
                  <a:pt x="677537" y="3671747"/>
                  <a:pt x="630382" y="3657600"/>
                </a:cubicBezTo>
                <a:cubicBezTo>
                  <a:pt x="616394" y="3653404"/>
                  <a:pt x="602673" y="3648364"/>
                  <a:pt x="588818" y="3643746"/>
                </a:cubicBezTo>
                <a:cubicBezTo>
                  <a:pt x="581891" y="3641437"/>
                  <a:pt x="575196" y="3638251"/>
                  <a:pt x="568036" y="3636819"/>
                </a:cubicBezTo>
                <a:cubicBezTo>
                  <a:pt x="515145" y="3626240"/>
                  <a:pt x="545083" y="3631351"/>
                  <a:pt x="477982" y="3622964"/>
                </a:cubicBezTo>
                <a:cubicBezTo>
                  <a:pt x="471055" y="3620655"/>
                  <a:pt x="464328" y="3617621"/>
                  <a:pt x="457200" y="3616037"/>
                </a:cubicBezTo>
                <a:cubicBezTo>
                  <a:pt x="431507" y="3610327"/>
                  <a:pt x="384199" y="3605180"/>
                  <a:pt x="360218" y="3602182"/>
                </a:cubicBezTo>
                <a:cubicBezTo>
                  <a:pt x="353291" y="3597564"/>
                  <a:pt x="346883" y="3592051"/>
                  <a:pt x="339436" y="3588328"/>
                </a:cubicBezTo>
                <a:cubicBezTo>
                  <a:pt x="332905" y="3585062"/>
                  <a:pt x="324994" y="3585023"/>
                  <a:pt x="318654" y="3581400"/>
                </a:cubicBezTo>
                <a:cubicBezTo>
                  <a:pt x="308630" y="3575672"/>
                  <a:pt x="300969" y="3566347"/>
                  <a:pt x="290945" y="3560619"/>
                </a:cubicBezTo>
                <a:cubicBezTo>
                  <a:pt x="284605" y="3556996"/>
                  <a:pt x="276695" y="3556957"/>
                  <a:pt x="270164" y="3553691"/>
                </a:cubicBezTo>
                <a:cubicBezTo>
                  <a:pt x="262717" y="3549968"/>
                  <a:pt x="256309" y="3544455"/>
                  <a:pt x="249382" y="3539837"/>
                </a:cubicBezTo>
                <a:cubicBezTo>
                  <a:pt x="247073" y="3532910"/>
                  <a:pt x="246000" y="3525438"/>
                  <a:pt x="242454" y="3519055"/>
                </a:cubicBezTo>
                <a:cubicBezTo>
                  <a:pt x="234367" y="3504499"/>
                  <a:pt x="228066" y="3487482"/>
                  <a:pt x="214745" y="3477491"/>
                </a:cubicBezTo>
                <a:cubicBezTo>
                  <a:pt x="180376" y="3451714"/>
                  <a:pt x="196643" y="3463113"/>
                  <a:pt x="166254" y="3442855"/>
                </a:cubicBezTo>
                <a:cubicBezTo>
                  <a:pt x="161636" y="3435928"/>
                  <a:pt x="155679" y="3429725"/>
                  <a:pt x="152400" y="3422073"/>
                </a:cubicBezTo>
                <a:cubicBezTo>
                  <a:pt x="148136" y="3412123"/>
                  <a:pt x="140516" y="3367612"/>
                  <a:pt x="138545" y="3359728"/>
                </a:cubicBezTo>
                <a:cubicBezTo>
                  <a:pt x="126998" y="3313543"/>
                  <a:pt x="133161" y="3369381"/>
                  <a:pt x="124691" y="3297382"/>
                </a:cubicBezTo>
                <a:cubicBezTo>
                  <a:pt x="121711" y="3272052"/>
                  <a:pt x="121957" y="3246340"/>
                  <a:pt x="117764" y="3221182"/>
                </a:cubicBezTo>
                <a:cubicBezTo>
                  <a:pt x="115000" y="3204600"/>
                  <a:pt x="108527" y="3188855"/>
                  <a:pt x="103909" y="3172691"/>
                </a:cubicBezTo>
                <a:cubicBezTo>
                  <a:pt x="101600" y="3142673"/>
                  <a:pt x="99978" y="3112594"/>
                  <a:pt x="96982" y="3082637"/>
                </a:cubicBezTo>
                <a:cubicBezTo>
                  <a:pt x="95357" y="3066390"/>
                  <a:pt x="90278" y="3050472"/>
                  <a:pt x="90054" y="3034146"/>
                </a:cubicBezTo>
                <a:cubicBezTo>
                  <a:pt x="85657" y="2713204"/>
                  <a:pt x="87435" y="2392198"/>
                  <a:pt x="83127" y="2071255"/>
                </a:cubicBezTo>
                <a:cubicBezTo>
                  <a:pt x="82816" y="2048051"/>
                  <a:pt x="79078" y="2025009"/>
                  <a:pt x="76200" y="2001982"/>
                </a:cubicBezTo>
                <a:cubicBezTo>
                  <a:pt x="71323" y="1962968"/>
                  <a:pt x="72025" y="1968674"/>
                  <a:pt x="62345" y="1939637"/>
                </a:cubicBezTo>
                <a:cubicBezTo>
                  <a:pt x="60036" y="1925782"/>
                  <a:pt x="58576" y="1911759"/>
                  <a:pt x="55418" y="1898073"/>
                </a:cubicBezTo>
                <a:cubicBezTo>
                  <a:pt x="44714" y="1851689"/>
                  <a:pt x="28609" y="1806483"/>
                  <a:pt x="20782" y="1759528"/>
                </a:cubicBezTo>
                <a:cubicBezTo>
                  <a:pt x="10723" y="1699182"/>
                  <a:pt x="17260" y="1731590"/>
                  <a:pt x="0" y="1662546"/>
                </a:cubicBezTo>
                <a:cubicBezTo>
                  <a:pt x="2309" y="1570182"/>
                  <a:pt x="781" y="1477643"/>
                  <a:pt x="6927" y="1385455"/>
                </a:cubicBezTo>
                <a:cubicBezTo>
                  <a:pt x="7754" y="1373048"/>
                  <a:pt x="17366" y="1362775"/>
                  <a:pt x="20782" y="1350819"/>
                </a:cubicBezTo>
                <a:cubicBezTo>
                  <a:pt x="26630" y="1330349"/>
                  <a:pt x="29760" y="1309196"/>
                  <a:pt x="34636" y="1288473"/>
                </a:cubicBezTo>
                <a:cubicBezTo>
                  <a:pt x="38997" y="1269938"/>
                  <a:pt x="43260" y="1251364"/>
                  <a:pt x="48491" y="1233055"/>
                </a:cubicBezTo>
                <a:cubicBezTo>
                  <a:pt x="52503" y="1219013"/>
                  <a:pt x="57727" y="1205346"/>
                  <a:pt x="62345" y="1191491"/>
                </a:cubicBezTo>
                <a:cubicBezTo>
                  <a:pt x="64654" y="1184564"/>
                  <a:pt x="65223" y="1176785"/>
                  <a:pt x="69273" y="1170709"/>
                </a:cubicBezTo>
                <a:cubicBezTo>
                  <a:pt x="90025" y="1139581"/>
                  <a:pt x="80035" y="1157658"/>
                  <a:pt x="96982" y="1115291"/>
                </a:cubicBezTo>
                <a:cubicBezTo>
                  <a:pt x="115110" y="1006520"/>
                  <a:pt x="90317" y="1141956"/>
                  <a:pt x="117764" y="1032164"/>
                </a:cubicBezTo>
                <a:cubicBezTo>
                  <a:pt x="134634" y="964682"/>
                  <a:pt x="124546" y="994425"/>
                  <a:pt x="145473" y="942109"/>
                </a:cubicBezTo>
                <a:cubicBezTo>
                  <a:pt x="149427" y="922337"/>
                  <a:pt x="153458" y="899327"/>
                  <a:pt x="159327" y="879764"/>
                </a:cubicBezTo>
                <a:cubicBezTo>
                  <a:pt x="163523" y="865776"/>
                  <a:pt x="168986" y="852188"/>
                  <a:pt x="173182" y="838200"/>
                </a:cubicBezTo>
                <a:cubicBezTo>
                  <a:pt x="175918" y="829081"/>
                  <a:pt x="177373" y="819610"/>
                  <a:pt x="180109" y="810491"/>
                </a:cubicBezTo>
                <a:cubicBezTo>
                  <a:pt x="205407" y="726166"/>
                  <a:pt x="184925" y="805085"/>
                  <a:pt x="200891" y="741219"/>
                </a:cubicBezTo>
                <a:cubicBezTo>
                  <a:pt x="205509" y="704273"/>
                  <a:pt x="205714" y="666503"/>
                  <a:pt x="214745" y="630382"/>
                </a:cubicBezTo>
                <a:cubicBezTo>
                  <a:pt x="217054" y="621146"/>
                  <a:pt x="219057" y="611827"/>
                  <a:pt x="221673" y="602673"/>
                </a:cubicBezTo>
                <a:cubicBezTo>
                  <a:pt x="223679" y="595652"/>
                  <a:pt x="226502" y="588885"/>
                  <a:pt x="228600" y="581891"/>
                </a:cubicBezTo>
                <a:cubicBezTo>
                  <a:pt x="233430" y="565789"/>
                  <a:pt x="238031" y="549618"/>
                  <a:pt x="242454" y="533400"/>
                </a:cubicBezTo>
                <a:cubicBezTo>
                  <a:pt x="251938" y="498625"/>
                  <a:pt x="255320" y="476000"/>
                  <a:pt x="263236" y="436419"/>
                </a:cubicBezTo>
                <a:cubicBezTo>
                  <a:pt x="267854" y="383310"/>
                  <a:pt x="260234" y="327665"/>
                  <a:pt x="277091" y="277091"/>
                </a:cubicBezTo>
                <a:cubicBezTo>
                  <a:pt x="279400" y="270164"/>
                  <a:pt x="278855" y="261472"/>
                  <a:pt x="284018" y="256309"/>
                </a:cubicBezTo>
                <a:cubicBezTo>
                  <a:pt x="289181" y="251146"/>
                  <a:pt x="312881" y="233218"/>
                  <a:pt x="318654" y="228600"/>
                </a:cubicBezTo>
                <a:close/>
              </a:path>
            </a:pathLst>
          </a:cu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Text Box 15" descr=""/>
          <p:cNvPicPr/>
          <p:nvPr/>
        </p:nvPicPr>
        <p:blipFill>
          <a:blip r:embed="rId1"/>
          <a:stretch/>
        </p:blipFill>
        <p:spPr>
          <a:xfrm>
            <a:off x="1023840" y="36360"/>
            <a:ext cx="2189160" cy="1116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900000" y="1131840"/>
            <a:ext cx="748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本文描写了一只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开店，可是她不管卖什么都觉得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总想换个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来做，最后开店失败了。这件事告诉我们生活中要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要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才行得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4788000" y="11318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4788000" y="1776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麻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1062000" y="2394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简单的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4786200" y="307188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懂得坚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928800" y="371484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做事灵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7" name="Picture 2" descr="C:\Users\Administrator\Desktop\图片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48" name="TextBox 4"/>
          <p:cNvSpPr/>
          <p:nvPr/>
        </p:nvSpPr>
        <p:spPr>
          <a:xfrm>
            <a:off x="2399040" y="1214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你认为蜘蛛的招牌应该怎么写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56720" y="235728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卖口罩按大小计价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卖围巾按长短计价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Calibri"/>
              </a:rPr>
              <a:t>卖袜子按多少只计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组合 2" descr=""/>
          <p:cNvPicPr/>
          <p:nvPr/>
        </p:nvPicPr>
        <p:blipFill>
          <a:blip r:embed="rId1"/>
          <a:stretch/>
        </p:blipFill>
        <p:spPr>
          <a:xfrm>
            <a:off x="1633680" y="128520"/>
            <a:ext cx="5224320" cy="4881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3"/>
          <p:cNvSpPr/>
          <p:nvPr/>
        </p:nvSpPr>
        <p:spPr>
          <a:xfrm>
            <a:off x="2143080" y="0"/>
            <a:ext cx="30718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店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C:\Users\Administrator\Desktop\图片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7" descr=""/>
          <p:cNvPicPr/>
          <p:nvPr/>
        </p:nvPicPr>
        <p:blipFill>
          <a:blip r:embed="rId2"/>
          <a:stretch/>
        </p:blipFill>
        <p:spPr>
          <a:xfrm>
            <a:off x="6480" y="1066680"/>
            <a:ext cx="9144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652" name="组合 4"/>
          <p:cNvGrpSpPr/>
          <p:nvPr/>
        </p:nvGrpSpPr>
        <p:grpSpPr>
          <a:xfrm>
            <a:off x="1214280" y="1071720"/>
            <a:ext cx="6604200" cy="1178640"/>
            <a:chOff x="1214280" y="1071720"/>
            <a:chExt cx="6604200" cy="1178640"/>
          </a:xfrm>
        </p:grpSpPr>
        <p:sp>
          <p:nvSpPr>
            <p:cNvPr id="653" name="TextBox 1"/>
            <p:cNvSpPr/>
            <p:nvPr/>
          </p:nvSpPr>
          <p:spPr>
            <a:xfrm>
              <a:off x="1714320" y="1571760"/>
              <a:ext cx="61041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接下来会发生什么事？展开想象，续编故事，讲给大家听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图片 3" descr=""/>
            <p:cNvPicPr/>
            <p:nvPr/>
          </p:nvPicPr>
          <p:blipFill>
            <a:blip r:embed="rId3"/>
            <a:stretch/>
          </p:blipFill>
          <p:spPr>
            <a:xfrm>
              <a:off x="1214280" y="1071720"/>
              <a:ext cx="385200" cy="38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6" descr="C:\Users\Administrator\Desktop\图片 1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515160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1"/>
          <p:cNvGrpSpPr/>
          <p:nvPr/>
        </p:nvGrpSpPr>
        <p:grpSpPr>
          <a:xfrm>
            <a:off x="785880" y="928800"/>
            <a:ext cx="7970760" cy="678600"/>
            <a:chOff x="785880" y="928800"/>
            <a:chExt cx="7970760" cy="678600"/>
          </a:xfrm>
        </p:grpSpPr>
        <p:sp>
          <p:nvSpPr>
            <p:cNvPr id="657" name="TextBox 1"/>
            <p:cNvSpPr/>
            <p:nvPr/>
          </p:nvSpPr>
          <p:spPr>
            <a:xfrm>
              <a:off x="1142280" y="928800"/>
              <a:ext cx="76143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根据示意图讲一讲这个故事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8" name="图片 5" descr=""/>
            <p:cNvPicPr/>
            <p:nvPr/>
          </p:nvPicPr>
          <p:blipFill>
            <a:blip r:embed="rId2"/>
            <a:stretch/>
          </p:blipFill>
          <p:spPr>
            <a:xfrm>
              <a:off x="785880" y="1072440"/>
              <a:ext cx="385200" cy="38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9" name="图片 1" descr=""/>
          <p:cNvPicPr/>
          <p:nvPr/>
        </p:nvPicPr>
        <p:blipFill>
          <a:blip r:embed="rId3"/>
          <a:stretch/>
        </p:blipFill>
        <p:spPr>
          <a:xfrm>
            <a:off x="1206360" y="1852560"/>
            <a:ext cx="51753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2" descr="C:\Users\Administrator\Desktop\图片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214720" y="428760"/>
            <a:ext cx="4786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认识“店、蹲”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生字，会写“店、决”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朗读课文，能根据示意图讲故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能根据课文内容展开想象，续编故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:\Users\Administrator\Desktop\图片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5" descr=""/>
          <p:cNvPicPr/>
          <p:nvPr/>
        </p:nvPicPr>
        <p:blipFill>
          <a:blip r:embed="rId2"/>
          <a:stretch/>
        </p:blipFill>
        <p:spPr>
          <a:xfrm>
            <a:off x="208080" y="120636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8"/>
          <p:cNvSpPr/>
          <p:nvPr/>
        </p:nvSpPr>
        <p:spPr>
          <a:xfrm>
            <a:off x="928800" y="17146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请同学们自由读课文，借助拼音，读准字音，读通句子。不熟悉的生字词多读几遍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36"/>
          <p:cNvSpPr/>
          <p:nvPr/>
        </p:nvSpPr>
        <p:spPr>
          <a:xfrm rot="16248600">
            <a:off x="5922000" y="1307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5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5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51"/>
          <p:cNvSpPr/>
          <p:nvPr/>
        </p:nvSpPr>
        <p:spPr>
          <a:xfrm rot="16248600">
            <a:off x="5906160" y="3425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62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63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64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68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7"/>
          <p:cNvSpPr/>
          <p:nvPr/>
        </p:nvSpPr>
        <p:spPr>
          <a:xfrm rot="18142800">
            <a:off x="6729120" y="3383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85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86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7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6"/>
          <p:cNvSpPr/>
          <p:nvPr/>
        </p:nvSpPr>
        <p:spPr>
          <a:xfrm rot="2809800">
            <a:off x="3872880" y="1727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7"/>
          <p:cNvSpPr/>
          <p:nvPr/>
        </p:nvSpPr>
        <p:spPr>
          <a:xfrm rot="4009800">
            <a:off x="3872520" y="2270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32"/>
          <p:cNvSpPr/>
          <p:nvPr/>
        </p:nvSpPr>
        <p:spPr>
          <a:xfrm rot="5400000">
            <a:off x="1200960" y="3220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7"/>
          <p:cNvSpPr/>
          <p:nvPr/>
        </p:nvSpPr>
        <p:spPr>
          <a:xfrm rot="5220000">
            <a:off x="760680" y="288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50"/>
          <p:cNvSpPr/>
          <p:nvPr/>
        </p:nvSpPr>
        <p:spPr>
          <a:xfrm rot="4020000">
            <a:off x="3761640" y="3358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51"/>
          <p:cNvSpPr/>
          <p:nvPr/>
        </p:nvSpPr>
        <p:spPr>
          <a:xfrm rot="4020000">
            <a:off x="4131000" y="3573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45"/>
          <p:cNvSpPr/>
          <p:nvPr/>
        </p:nvSpPr>
        <p:spPr>
          <a:xfrm rot="2809800">
            <a:off x="2290680" y="152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46"/>
          <p:cNvSpPr/>
          <p:nvPr/>
        </p:nvSpPr>
        <p:spPr>
          <a:xfrm rot="2809800">
            <a:off x="2659680" y="1740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50"/>
          <p:cNvSpPr/>
          <p:nvPr/>
        </p:nvSpPr>
        <p:spPr>
          <a:xfrm rot="2809800">
            <a:off x="3134880" y="2398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51"/>
          <p:cNvSpPr/>
          <p:nvPr/>
        </p:nvSpPr>
        <p:spPr>
          <a:xfrm rot="2809800">
            <a:off x="3504600" y="261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32"/>
          <p:cNvSpPr/>
          <p:nvPr/>
        </p:nvSpPr>
        <p:spPr>
          <a:xfrm rot="5400000">
            <a:off x="4811040" y="3674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: 圆角 1"/>
          <p:cNvSpPr/>
          <p:nvPr/>
        </p:nvSpPr>
        <p:spPr>
          <a:xfrm>
            <a:off x="681120" y="1071720"/>
            <a:ext cx="7778520" cy="3911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41520" y="1419120"/>
            <a:ext cx="77245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商店   蹲在   寂寞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口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编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顾客    付钱   工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交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长颈鹿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袜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匆忙   蜈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决定    终于   完成   星期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27"/>
          <p:cNvGrpSpPr/>
          <p:nvPr/>
        </p:nvGrpSpPr>
        <p:grpSpPr>
          <a:xfrm>
            <a:off x="3604680" y="342000"/>
            <a:ext cx="1960920" cy="628200"/>
            <a:chOff x="3604680" y="342000"/>
            <a:chExt cx="1960920" cy="628200"/>
          </a:xfrm>
        </p:grpSpPr>
        <p:sp>
          <p:nvSpPr>
            <p:cNvPr id="164" name="矩形: 圆角 28"/>
            <p:cNvSpPr/>
            <p:nvPr/>
          </p:nvSpPr>
          <p:spPr>
            <a:xfrm rot="21177000">
              <a:off x="3635280" y="375840"/>
              <a:ext cx="590400" cy="5353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: 圆角 29"/>
            <p:cNvSpPr/>
            <p:nvPr/>
          </p:nvSpPr>
          <p:spPr>
            <a:xfrm rot="432000">
              <a:off x="4292280" y="38664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: 圆角 30"/>
            <p:cNvSpPr/>
            <p:nvPr/>
          </p:nvSpPr>
          <p:spPr>
            <a:xfrm rot="21187800">
              <a:off x="4943520" y="401400"/>
              <a:ext cx="592200" cy="535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TextBox 36"/>
          <p:cNvSpPr/>
          <p:nvPr/>
        </p:nvSpPr>
        <p:spPr>
          <a:xfrm>
            <a:off x="1014480" y="1174680"/>
            <a:ext cx="102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2124000" y="11746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3805200" y="115236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6"/>
          <p:cNvSpPr/>
          <p:nvPr/>
        </p:nvSpPr>
        <p:spPr>
          <a:xfrm>
            <a:off x="4351320" y="113832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5837400" y="11523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zh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7020000" y="11523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6"/>
          <p:cNvSpPr/>
          <p:nvPr/>
        </p:nvSpPr>
        <p:spPr>
          <a:xfrm>
            <a:off x="1249200" y="2079720"/>
            <a:ext cx="10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6"/>
          <p:cNvSpPr/>
          <p:nvPr/>
        </p:nvSpPr>
        <p:spPr>
          <a:xfrm>
            <a:off x="5129280" y="208296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6"/>
          <p:cNvSpPr/>
          <p:nvPr/>
        </p:nvSpPr>
        <p:spPr>
          <a:xfrm>
            <a:off x="6732720" y="202248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6"/>
          <p:cNvSpPr/>
          <p:nvPr/>
        </p:nvSpPr>
        <p:spPr>
          <a:xfrm>
            <a:off x="1576440" y="296532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ǐ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6"/>
          <p:cNvSpPr/>
          <p:nvPr/>
        </p:nvSpPr>
        <p:spPr>
          <a:xfrm>
            <a:off x="3151080" y="300672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w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4792680" y="29811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ō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6218280" y="29764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w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6"/>
          <p:cNvSpPr/>
          <p:nvPr/>
        </p:nvSpPr>
        <p:spPr>
          <a:xfrm>
            <a:off x="7062840" y="296244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ō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3056040" y="20890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3" name="Picture 2" descr="C:\Users\Administrator\Desktop\图片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3328920" y="1285920"/>
            <a:ext cx="322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蜘蛛先后开了哪些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来的顾客分别是谁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结果怎样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2719440" y="42876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※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再读感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755640" y="2135160"/>
            <a:ext cx="777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蜘蛛决定开一家商店。卖什么呢？就卖口罩吧，因为口罩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611280" y="113184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卖的第一件商品是什么呢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: 圆角 7"/>
          <p:cNvSpPr/>
          <p:nvPr/>
        </p:nvSpPr>
        <p:spPr>
          <a:xfrm>
            <a:off x="1258920" y="2892600"/>
            <a:ext cx="81432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椭圆 8"/>
          <p:cNvSpPr/>
          <p:nvPr/>
        </p:nvSpPr>
        <p:spPr>
          <a:xfrm>
            <a:off x="4500720" y="2803680"/>
            <a:ext cx="2519280" cy="6696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4"/>
          <p:cNvSpPr/>
          <p:nvPr/>
        </p:nvSpPr>
        <p:spPr>
          <a:xfrm>
            <a:off x="900000" y="8431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的第一位顾客是谁呢？结果如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330200" y="1716120"/>
            <a:ext cx="6626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顾客来了，是一只河马。河马嘴巴那么大，口罩好难织啊，蜘蛛用了一整天的工夫，终于织完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: 圆角 3"/>
          <p:cNvSpPr/>
          <p:nvPr/>
        </p:nvSpPr>
        <p:spPr>
          <a:xfrm>
            <a:off x="5506920" y="1838160"/>
            <a:ext cx="81468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: 圆角 4"/>
          <p:cNvSpPr/>
          <p:nvPr/>
        </p:nvSpPr>
        <p:spPr>
          <a:xfrm>
            <a:off x="1401840" y="2476440"/>
            <a:ext cx="4919760" cy="4939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等腰三角形 5"/>
          <p:cNvSpPr/>
          <p:nvPr/>
        </p:nvSpPr>
        <p:spPr>
          <a:xfrm>
            <a:off x="5218200" y="3568680"/>
            <a:ext cx="215640" cy="122400"/>
          </a:xfrm>
          <a:prstGeom prst="triangle">
            <a:avLst>
              <a:gd name="adj" fmla="val 50000"/>
            </a:avLst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等腰三角形 6"/>
          <p:cNvSpPr/>
          <p:nvPr/>
        </p:nvSpPr>
        <p:spPr>
          <a:xfrm>
            <a:off x="5578560" y="3575160"/>
            <a:ext cx="215640" cy="123840"/>
          </a:xfrm>
          <a:prstGeom prst="triangle">
            <a:avLst>
              <a:gd name="adj" fmla="val 50000"/>
            </a:avLst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: 圆角 4"/>
          <p:cNvSpPr/>
          <p:nvPr/>
        </p:nvSpPr>
        <p:spPr>
          <a:xfrm>
            <a:off x="1785960" y="3071880"/>
            <a:ext cx="307188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" descr=""/>
          <p:cNvPicPr/>
          <p:nvPr/>
        </p:nvPicPr>
        <p:blipFill>
          <a:blip r:embed="rId2"/>
          <a:srcRect l="10348" t="0" r="0" b="1461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2"/>
          <p:cNvSpPr/>
          <p:nvPr/>
        </p:nvSpPr>
        <p:spPr>
          <a:xfrm>
            <a:off x="984960" y="220680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3"/>
          <p:cNvSpPr/>
          <p:nvPr/>
        </p:nvSpPr>
        <p:spPr>
          <a:xfrm>
            <a:off x="1112040" y="2333520"/>
            <a:ext cx="3603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http://www.LSPJY.com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微软用户</cp:lastModifiedBy>
  <dcterms:modified xsi:type="dcterms:W3CDTF">2019-03-20T06:47:32Z</dcterms:modified>
  <cp:revision>1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来源">
    <vt:lpwstr>状元成才路系列</vt:lpwstr>
  </property>
</Properties>
</file>