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31.gif" ContentType="image/gif"/>
  <Override PartName="/ppt/media/image23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2.png" ContentType="image/png"/>
  <Override PartName="/ppt/media/image1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B08E-5D47-4C5C-943E-AA0102A01C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hyperlink" Target="file:///&#23567;&#34584;&#34523;&#32455;&#32593;.wmv" TargetMode="External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1116000" y="1276200"/>
            <a:ext cx="6950160" cy="2857680"/>
            <a:chOff x="1116000" y="1276200"/>
            <a:chExt cx="6950160" cy="2857680"/>
          </a:xfrm>
        </p:grpSpPr>
        <p:sp>
          <p:nvSpPr>
            <p:cNvPr id="80" name="任意多边形: 形状 12"/>
            <p:cNvSpPr/>
            <p:nvPr/>
          </p:nvSpPr>
          <p:spPr>
            <a:xfrm>
              <a:off x="1116000" y="1276200"/>
              <a:ext cx="6950160" cy="2857680"/>
            </a:xfrm>
            <a:custGeom>
              <a:avLst/>
              <a:gdLst/>
              <a:ahLst/>
              <a:rect l="l" t="t" r="r" b="b"/>
              <a:pathLst>
                <a:path w="6950665" h="2857939">
                  <a:moveTo>
                    <a:pt x="315918" y="518777"/>
                  </a:moveTo>
                  <a:lnTo>
                    <a:pt x="315918" y="518777"/>
                  </a:lnTo>
                  <a:cubicBezTo>
                    <a:pt x="325369" y="495149"/>
                    <a:pt x="331040" y="469631"/>
                    <a:pt x="344272" y="447893"/>
                  </a:cubicBezTo>
                  <a:cubicBezTo>
                    <a:pt x="352804" y="433876"/>
                    <a:pt x="412068" y="352543"/>
                    <a:pt x="443509" y="327391"/>
                  </a:cubicBezTo>
                  <a:cubicBezTo>
                    <a:pt x="464094" y="310923"/>
                    <a:pt x="503482" y="287421"/>
                    <a:pt x="528569" y="277772"/>
                  </a:cubicBezTo>
                  <a:cubicBezTo>
                    <a:pt x="544624" y="271597"/>
                    <a:pt x="561747" y="268654"/>
                    <a:pt x="578188" y="263595"/>
                  </a:cubicBezTo>
                  <a:cubicBezTo>
                    <a:pt x="592471" y="259200"/>
                    <a:pt x="606279" y="253269"/>
                    <a:pt x="620718" y="249419"/>
                  </a:cubicBezTo>
                  <a:cubicBezTo>
                    <a:pt x="641767" y="243806"/>
                    <a:pt x="663741" y="241802"/>
                    <a:pt x="684514" y="235242"/>
                  </a:cubicBezTo>
                  <a:cubicBezTo>
                    <a:pt x="708781" y="227579"/>
                    <a:pt x="730601" y="212610"/>
                    <a:pt x="755397" y="206888"/>
                  </a:cubicBezTo>
                  <a:cubicBezTo>
                    <a:pt x="789341" y="199055"/>
                    <a:pt x="903045" y="189600"/>
                    <a:pt x="946783" y="185623"/>
                  </a:cubicBezTo>
                  <a:cubicBezTo>
                    <a:pt x="968048" y="180897"/>
                    <a:pt x="988796" y="171625"/>
                    <a:pt x="1010579" y="171446"/>
                  </a:cubicBezTo>
                  <a:cubicBezTo>
                    <a:pt x="1725659" y="165585"/>
                    <a:pt x="1554109" y="146355"/>
                    <a:pt x="1868272" y="185623"/>
                  </a:cubicBezTo>
                  <a:cubicBezTo>
                    <a:pt x="1877723" y="190349"/>
                    <a:pt x="1886504" y="196764"/>
                    <a:pt x="1896625" y="199800"/>
                  </a:cubicBezTo>
                  <a:cubicBezTo>
                    <a:pt x="1923866" y="207972"/>
                    <a:pt x="1937301" y="202418"/>
                    <a:pt x="1960420" y="213977"/>
                  </a:cubicBezTo>
                  <a:cubicBezTo>
                    <a:pt x="1968040" y="217787"/>
                    <a:pt x="1974066" y="224343"/>
                    <a:pt x="1981686" y="228153"/>
                  </a:cubicBezTo>
                  <a:cubicBezTo>
                    <a:pt x="2061191" y="267905"/>
                    <a:pt x="1928081" y="190435"/>
                    <a:pt x="2031304" y="249419"/>
                  </a:cubicBezTo>
                  <a:cubicBezTo>
                    <a:pt x="2038701" y="253646"/>
                    <a:pt x="2044592" y="260604"/>
                    <a:pt x="2052569" y="263595"/>
                  </a:cubicBezTo>
                  <a:cubicBezTo>
                    <a:pt x="2060500" y="266569"/>
                    <a:pt x="2125757" y="276975"/>
                    <a:pt x="2130541" y="277772"/>
                  </a:cubicBezTo>
                  <a:cubicBezTo>
                    <a:pt x="2175434" y="275409"/>
                    <a:pt x="2220449" y="274754"/>
                    <a:pt x="2265220" y="270684"/>
                  </a:cubicBezTo>
                  <a:cubicBezTo>
                    <a:pt x="2272661" y="270007"/>
                    <a:pt x="2279490" y="266219"/>
                    <a:pt x="2286486" y="263595"/>
                  </a:cubicBezTo>
                  <a:cubicBezTo>
                    <a:pt x="2339929" y="243554"/>
                    <a:pt x="2303744" y="256721"/>
                    <a:pt x="2350281" y="235242"/>
                  </a:cubicBezTo>
                  <a:cubicBezTo>
                    <a:pt x="2425104" y="200708"/>
                    <a:pt x="2394083" y="209744"/>
                    <a:pt x="2463695" y="199800"/>
                  </a:cubicBezTo>
                  <a:cubicBezTo>
                    <a:pt x="2480235" y="192712"/>
                    <a:pt x="2496932" y="185981"/>
                    <a:pt x="2513314" y="178535"/>
                  </a:cubicBezTo>
                  <a:cubicBezTo>
                    <a:pt x="2552965" y="160512"/>
                    <a:pt x="2540124" y="161365"/>
                    <a:pt x="2591286" y="143093"/>
                  </a:cubicBezTo>
                  <a:cubicBezTo>
                    <a:pt x="2607485" y="137308"/>
                    <a:pt x="2624658" y="134567"/>
                    <a:pt x="2640904" y="128916"/>
                  </a:cubicBezTo>
                  <a:cubicBezTo>
                    <a:pt x="2787069" y="78076"/>
                    <a:pt x="2707269" y="93107"/>
                    <a:pt x="2803937" y="79298"/>
                  </a:cubicBezTo>
                  <a:cubicBezTo>
                    <a:pt x="2818114" y="72209"/>
                    <a:pt x="2831038" y="61662"/>
                    <a:pt x="2846467" y="58032"/>
                  </a:cubicBezTo>
                  <a:cubicBezTo>
                    <a:pt x="2871871" y="52054"/>
                    <a:pt x="2898485" y="53676"/>
                    <a:pt x="2924439" y="50944"/>
                  </a:cubicBezTo>
                  <a:cubicBezTo>
                    <a:pt x="2943384" y="48950"/>
                    <a:pt x="2962244" y="46219"/>
                    <a:pt x="2981146" y="43856"/>
                  </a:cubicBezTo>
                  <a:cubicBezTo>
                    <a:pt x="3192748" y="-40786"/>
                    <a:pt x="3027190" y="20192"/>
                    <a:pt x="3590746" y="36767"/>
                  </a:cubicBezTo>
                  <a:cubicBezTo>
                    <a:pt x="3640568" y="38232"/>
                    <a:pt x="3739602" y="50944"/>
                    <a:pt x="3739602" y="50944"/>
                  </a:cubicBezTo>
                  <a:cubicBezTo>
                    <a:pt x="3753779" y="55670"/>
                    <a:pt x="3767763" y="61016"/>
                    <a:pt x="3782132" y="65121"/>
                  </a:cubicBezTo>
                  <a:cubicBezTo>
                    <a:pt x="3800866" y="70474"/>
                    <a:pt x="3820242" y="73486"/>
                    <a:pt x="3838839" y="79298"/>
                  </a:cubicBezTo>
                  <a:cubicBezTo>
                    <a:pt x="3858108" y="85320"/>
                    <a:pt x="3876277" y="94542"/>
                    <a:pt x="3895546" y="100563"/>
                  </a:cubicBezTo>
                  <a:cubicBezTo>
                    <a:pt x="3914143" y="106374"/>
                    <a:pt x="3933656" y="108927"/>
                    <a:pt x="3952253" y="114739"/>
                  </a:cubicBezTo>
                  <a:cubicBezTo>
                    <a:pt x="4083906" y="155881"/>
                    <a:pt x="3957610" y="123168"/>
                    <a:pt x="4037314" y="143093"/>
                  </a:cubicBezTo>
                  <a:cubicBezTo>
                    <a:pt x="4044402" y="150181"/>
                    <a:pt x="4050422" y="158531"/>
                    <a:pt x="4058579" y="164358"/>
                  </a:cubicBezTo>
                  <a:cubicBezTo>
                    <a:pt x="4067177" y="170500"/>
                    <a:pt x="4077758" y="173292"/>
                    <a:pt x="4086932" y="178535"/>
                  </a:cubicBezTo>
                  <a:cubicBezTo>
                    <a:pt x="4125405" y="200520"/>
                    <a:pt x="4090475" y="186805"/>
                    <a:pt x="4129462" y="199800"/>
                  </a:cubicBezTo>
                  <a:cubicBezTo>
                    <a:pt x="4138913" y="213977"/>
                    <a:pt x="4152428" y="226166"/>
                    <a:pt x="4157816" y="242330"/>
                  </a:cubicBezTo>
                  <a:cubicBezTo>
                    <a:pt x="4160179" y="249418"/>
                    <a:pt x="4160237" y="257761"/>
                    <a:pt x="4164904" y="263595"/>
                  </a:cubicBezTo>
                  <a:cubicBezTo>
                    <a:pt x="4177142" y="278893"/>
                    <a:pt x="4197496" y="280604"/>
                    <a:pt x="4214523" y="284860"/>
                  </a:cubicBezTo>
                  <a:cubicBezTo>
                    <a:pt x="4226359" y="284452"/>
                    <a:pt x="4419072" y="283028"/>
                    <a:pt x="4483881" y="270684"/>
                  </a:cubicBezTo>
                  <a:cubicBezTo>
                    <a:pt x="4512591" y="265216"/>
                    <a:pt x="4540231" y="254888"/>
                    <a:pt x="4568941" y="249419"/>
                  </a:cubicBezTo>
                  <a:cubicBezTo>
                    <a:pt x="4607481" y="242078"/>
                    <a:pt x="4722741" y="236705"/>
                    <a:pt x="4746151" y="235242"/>
                  </a:cubicBezTo>
                  <a:lnTo>
                    <a:pt x="5554225" y="249419"/>
                  </a:lnTo>
                  <a:cubicBezTo>
                    <a:pt x="5563964" y="249667"/>
                    <a:pt x="5573180" y="253944"/>
                    <a:pt x="5582579" y="256507"/>
                  </a:cubicBezTo>
                  <a:cubicBezTo>
                    <a:pt x="5675170" y="281759"/>
                    <a:pt x="5593488" y="258689"/>
                    <a:pt x="5667639" y="284860"/>
                  </a:cubicBezTo>
                  <a:cubicBezTo>
                    <a:pt x="5695823" y="294807"/>
                    <a:pt x="5724346" y="303763"/>
                    <a:pt x="5752700" y="313214"/>
                  </a:cubicBezTo>
                  <a:lnTo>
                    <a:pt x="5773965" y="320302"/>
                  </a:lnTo>
                  <a:lnTo>
                    <a:pt x="5816495" y="334479"/>
                  </a:lnTo>
                  <a:cubicBezTo>
                    <a:pt x="5894986" y="397272"/>
                    <a:pt x="5858024" y="383847"/>
                    <a:pt x="5915732" y="398274"/>
                  </a:cubicBezTo>
                  <a:cubicBezTo>
                    <a:pt x="5941292" y="500522"/>
                    <a:pt x="5894894" y="316254"/>
                    <a:pt x="5936997" y="476246"/>
                  </a:cubicBezTo>
                  <a:cubicBezTo>
                    <a:pt x="5944435" y="504510"/>
                    <a:pt x="5946749" y="534444"/>
                    <a:pt x="5958262" y="561307"/>
                  </a:cubicBezTo>
                  <a:cubicBezTo>
                    <a:pt x="5961787" y="569532"/>
                    <a:pt x="5992457" y="581646"/>
                    <a:pt x="6000793" y="582572"/>
                  </a:cubicBezTo>
                  <a:cubicBezTo>
                    <a:pt x="6036096" y="586494"/>
                    <a:pt x="6071676" y="587297"/>
                    <a:pt x="6107118" y="589660"/>
                  </a:cubicBezTo>
                  <a:cubicBezTo>
                    <a:pt x="6121295" y="594386"/>
                    <a:pt x="6135335" y="599543"/>
                    <a:pt x="6149648" y="603837"/>
                  </a:cubicBezTo>
                  <a:cubicBezTo>
                    <a:pt x="6158979" y="606637"/>
                    <a:pt x="6168760" y="607845"/>
                    <a:pt x="6178002" y="610926"/>
                  </a:cubicBezTo>
                  <a:cubicBezTo>
                    <a:pt x="6215070" y="623282"/>
                    <a:pt x="6218370" y="629012"/>
                    <a:pt x="6255974" y="646367"/>
                  </a:cubicBezTo>
                  <a:cubicBezTo>
                    <a:pt x="6274772" y="655043"/>
                    <a:pt x="6313300" y="669421"/>
                    <a:pt x="6333946" y="681809"/>
                  </a:cubicBezTo>
                  <a:cubicBezTo>
                    <a:pt x="6348556" y="690575"/>
                    <a:pt x="6361518" y="702004"/>
                    <a:pt x="6376476" y="710163"/>
                  </a:cubicBezTo>
                  <a:cubicBezTo>
                    <a:pt x="6387646" y="716256"/>
                    <a:pt x="6400795" y="718160"/>
                    <a:pt x="6411918" y="724339"/>
                  </a:cubicBezTo>
                  <a:cubicBezTo>
                    <a:pt x="6471070" y="757201"/>
                    <a:pt x="6409841" y="737997"/>
                    <a:pt x="6468625" y="752693"/>
                  </a:cubicBezTo>
                  <a:cubicBezTo>
                    <a:pt x="6505568" y="774858"/>
                    <a:pt x="6505907" y="772910"/>
                    <a:pt x="6539509" y="802312"/>
                  </a:cubicBezTo>
                  <a:cubicBezTo>
                    <a:pt x="6547053" y="808913"/>
                    <a:pt x="6553163" y="817053"/>
                    <a:pt x="6560774" y="823577"/>
                  </a:cubicBezTo>
                  <a:cubicBezTo>
                    <a:pt x="6569744" y="831265"/>
                    <a:pt x="6580346" y="836939"/>
                    <a:pt x="6589127" y="844842"/>
                  </a:cubicBezTo>
                  <a:cubicBezTo>
                    <a:pt x="6695588" y="940656"/>
                    <a:pt x="6575833" y="842711"/>
                    <a:pt x="6667100" y="915726"/>
                  </a:cubicBezTo>
                  <a:cubicBezTo>
                    <a:pt x="6672616" y="932274"/>
                    <a:pt x="6685305" y="966722"/>
                    <a:pt x="6688365" y="986609"/>
                  </a:cubicBezTo>
                  <a:cubicBezTo>
                    <a:pt x="6691618" y="1007756"/>
                    <a:pt x="6692279" y="1029246"/>
                    <a:pt x="6695453" y="1050405"/>
                  </a:cubicBezTo>
                  <a:cubicBezTo>
                    <a:pt x="6699372" y="1076530"/>
                    <a:pt x="6704449" y="1102473"/>
                    <a:pt x="6709630" y="1128377"/>
                  </a:cubicBezTo>
                  <a:cubicBezTo>
                    <a:pt x="6711541" y="1137930"/>
                    <a:pt x="6715116" y="1147121"/>
                    <a:pt x="6716718" y="1156730"/>
                  </a:cubicBezTo>
                  <a:cubicBezTo>
                    <a:pt x="6719850" y="1175520"/>
                    <a:pt x="6721444" y="1194535"/>
                    <a:pt x="6723807" y="1213437"/>
                  </a:cubicBezTo>
                  <a:cubicBezTo>
                    <a:pt x="6721444" y="1265418"/>
                    <a:pt x="6722683" y="1317689"/>
                    <a:pt x="6716718" y="1369381"/>
                  </a:cubicBezTo>
                  <a:cubicBezTo>
                    <a:pt x="6715507" y="1379878"/>
                    <a:pt x="6705883" y="1387710"/>
                    <a:pt x="6702541" y="1397735"/>
                  </a:cubicBezTo>
                  <a:cubicBezTo>
                    <a:pt x="6698731" y="1409165"/>
                    <a:pt x="6698623" y="1421554"/>
                    <a:pt x="6695453" y="1433177"/>
                  </a:cubicBezTo>
                  <a:cubicBezTo>
                    <a:pt x="6683774" y="1476001"/>
                    <a:pt x="6686605" y="1467713"/>
                    <a:pt x="6667100" y="1496972"/>
                  </a:cubicBezTo>
                  <a:cubicBezTo>
                    <a:pt x="6654795" y="1558491"/>
                    <a:pt x="6650367" y="1565067"/>
                    <a:pt x="6667100" y="1652916"/>
                  </a:cubicBezTo>
                  <a:cubicBezTo>
                    <a:pt x="6669311" y="1664521"/>
                    <a:pt x="6679395" y="1673581"/>
                    <a:pt x="6688365" y="1681270"/>
                  </a:cubicBezTo>
                  <a:cubicBezTo>
                    <a:pt x="6699510" y="1690823"/>
                    <a:pt x="6723588" y="1697736"/>
                    <a:pt x="6737983" y="1702535"/>
                  </a:cubicBezTo>
                  <a:cubicBezTo>
                    <a:pt x="6749797" y="1711986"/>
                    <a:pt x="6762117" y="1720837"/>
                    <a:pt x="6773425" y="1730888"/>
                  </a:cubicBezTo>
                  <a:cubicBezTo>
                    <a:pt x="6824995" y="1776728"/>
                    <a:pt x="6779700" y="1744522"/>
                    <a:pt x="6823044" y="1773419"/>
                  </a:cubicBezTo>
                  <a:cubicBezTo>
                    <a:pt x="6845076" y="1839517"/>
                    <a:pt x="6806766" y="1729708"/>
                    <a:pt x="6851397" y="1830126"/>
                  </a:cubicBezTo>
                  <a:cubicBezTo>
                    <a:pt x="6855354" y="1839028"/>
                    <a:pt x="6854868" y="1849434"/>
                    <a:pt x="6858486" y="1858479"/>
                  </a:cubicBezTo>
                  <a:cubicBezTo>
                    <a:pt x="6864373" y="1873195"/>
                    <a:pt x="6873655" y="1886378"/>
                    <a:pt x="6879751" y="1901009"/>
                  </a:cubicBezTo>
                  <a:cubicBezTo>
                    <a:pt x="6913447" y="1981881"/>
                    <a:pt x="6872258" y="1907426"/>
                    <a:pt x="6915193" y="1978981"/>
                  </a:cubicBezTo>
                  <a:cubicBezTo>
                    <a:pt x="6917556" y="1990795"/>
                    <a:pt x="6920126" y="2002569"/>
                    <a:pt x="6922281" y="2014423"/>
                  </a:cubicBezTo>
                  <a:cubicBezTo>
                    <a:pt x="6924852" y="2028563"/>
                    <a:pt x="6926251" y="2042923"/>
                    <a:pt x="6929369" y="2056953"/>
                  </a:cubicBezTo>
                  <a:cubicBezTo>
                    <a:pt x="6930990" y="2064247"/>
                    <a:pt x="6934095" y="2071130"/>
                    <a:pt x="6936458" y="2078219"/>
                  </a:cubicBezTo>
                  <a:cubicBezTo>
                    <a:pt x="6938821" y="2104210"/>
                    <a:pt x="6940309" y="2130295"/>
                    <a:pt x="6943546" y="2156191"/>
                  </a:cubicBezTo>
                  <a:cubicBezTo>
                    <a:pt x="6945040" y="2168146"/>
                    <a:pt x="6951157" y="2179596"/>
                    <a:pt x="6950634" y="2191632"/>
                  </a:cubicBezTo>
                  <a:cubicBezTo>
                    <a:pt x="6948353" y="2244092"/>
                    <a:pt x="6945260" y="2310050"/>
                    <a:pt x="6922281" y="2361753"/>
                  </a:cubicBezTo>
                  <a:cubicBezTo>
                    <a:pt x="6918821" y="2369538"/>
                    <a:pt x="6912619" y="2375795"/>
                    <a:pt x="6908104" y="2383019"/>
                  </a:cubicBezTo>
                  <a:cubicBezTo>
                    <a:pt x="6886159" y="2418130"/>
                    <a:pt x="6882558" y="2434216"/>
                    <a:pt x="6844309" y="2460991"/>
                  </a:cubicBezTo>
                  <a:cubicBezTo>
                    <a:pt x="6836328" y="2466578"/>
                    <a:pt x="6825406" y="2465716"/>
                    <a:pt x="6815955" y="2468079"/>
                  </a:cubicBezTo>
                  <a:cubicBezTo>
                    <a:pt x="6794690" y="2479893"/>
                    <a:pt x="6774247" y="2493327"/>
                    <a:pt x="6752160" y="2503521"/>
                  </a:cubicBezTo>
                  <a:cubicBezTo>
                    <a:pt x="6743315" y="2507603"/>
                    <a:pt x="6732929" y="2507188"/>
                    <a:pt x="6723807" y="2510609"/>
                  </a:cubicBezTo>
                  <a:cubicBezTo>
                    <a:pt x="6713913" y="2514319"/>
                    <a:pt x="6705384" y="2521175"/>
                    <a:pt x="6695453" y="2524786"/>
                  </a:cubicBezTo>
                  <a:cubicBezTo>
                    <a:pt x="6657324" y="2538651"/>
                    <a:pt x="6614153" y="2545299"/>
                    <a:pt x="6574951" y="2553139"/>
                  </a:cubicBezTo>
                  <a:cubicBezTo>
                    <a:pt x="6544725" y="2568252"/>
                    <a:pt x="6525571" y="2579066"/>
                    <a:pt x="6489890" y="2588581"/>
                  </a:cubicBezTo>
                  <a:cubicBezTo>
                    <a:pt x="6473747" y="2592886"/>
                    <a:pt x="6456710" y="2592681"/>
                    <a:pt x="6440272" y="2595670"/>
                  </a:cubicBezTo>
                  <a:cubicBezTo>
                    <a:pt x="6399003" y="2603174"/>
                    <a:pt x="6418734" y="2604599"/>
                    <a:pt x="6369388" y="2616935"/>
                  </a:cubicBezTo>
                  <a:cubicBezTo>
                    <a:pt x="6346847" y="2622570"/>
                    <a:pt x="6289719" y="2628316"/>
                    <a:pt x="6270151" y="2631112"/>
                  </a:cubicBezTo>
                  <a:cubicBezTo>
                    <a:pt x="6255923" y="2633145"/>
                    <a:pt x="6241797" y="2635837"/>
                    <a:pt x="6227620" y="2638200"/>
                  </a:cubicBezTo>
                  <a:cubicBezTo>
                    <a:pt x="6218169" y="2642926"/>
                    <a:pt x="6209673" y="2650541"/>
                    <a:pt x="6199267" y="2652377"/>
                  </a:cubicBezTo>
                  <a:cubicBezTo>
                    <a:pt x="6130613" y="2664492"/>
                    <a:pt x="6126504" y="2650640"/>
                    <a:pt x="6078765" y="2666553"/>
                  </a:cubicBezTo>
                  <a:cubicBezTo>
                    <a:pt x="6066694" y="2670577"/>
                    <a:pt x="6055394" y="2676706"/>
                    <a:pt x="6043323" y="2680730"/>
                  </a:cubicBezTo>
                  <a:cubicBezTo>
                    <a:pt x="6034081" y="2683811"/>
                    <a:pt x="6024336" y="2685143"/>
                    <a:pt x="6014969" y="2687819"/>
                  </a:cubicBezTo>
                  <a:cubicBezTo>
                    <a:pt x="6007785" y="2689872"/>
                    <a:pt x="6000912" y="2692941"/>
                    <a:pt x="5993704" y="2694907"/>
                  </a:cubicBezTo>
                  <a:cubicBezTo>
                    <a:pt x="5974906" y="2700034"/>
                    <a:pt x="5955088" y="2701848"/>
                    <a:pt x="5936997" y="2709084"/>
                  </a:cubicBezTo>
                  <a:cubicBezTo>
                    <a:pt x="5925183" y="2713809"/>
                    <a:pt x="5913716" y="2719518"/>
                    <a:pt x="5901555" y="2723260"/>
                  </a:cubicBezTo>
                  <a:cubicBezTo>
                    <a:pt x="5882932" y="2728990"/>
                    <a:pt x="5863445" y="2731625"/>
                    <a:pt x="5844848" y="2737437"/>
                  </a:cubicBezTo>
                  <a:cubicBezTo>
                    <a:pt x="5711012" y="2779261"/>
                    <a:pt x="5770799" y="2768505"/>
                    <a:pt x="5667639" y="2779967"/>
                  </a:cubicBezTo>
                  <a:cubicBezTo>
                    <a:pt x="5648737" y="2787055"/>
                    <a:pt x="5630845" y="2797913"/>
                    <a:pt x="5610932" y="2801232"/>
                  </a:cubicBezTo>
                  <a:cubicBezTo>
                    <a:pt x="5573569" y="2807459"/>
                    <a:pt x="5535266" y="2805175"/>
                    <a:pt x="5497518" y="2808321"/>
                  </a:cubicBezTo>
                  <a:cubicBezTo>
                    <a:pt x="5478534" y="2809903"/>
                    <a:pt x="5459693" y="2812891"/>
                    <a:pt x="5440811" y="2815409"/>
                  </a:cubicBezTo>
                  <a:cubicBezTo>
                    <a:pt x="5424250" y="2817617"/>
                    <a:pt x="5407519" y="2818949"/>
                    <a:pt x="5391193" y="2822498"/>
                  </a:cubicBezTo>
                  <a:cubicBezTo>
                    <a:pt x="5353114" y="2830776"/>
                    <a:pt x="5316661" y="2848259"/>
                    <a:pt x="5277779" y="2850851"/>
                  </a:cubicBezTo>
                  <a:lnTo>
                    <a:pt x="5171453" y="2857939"/>
                  </a:lnTo>
                  <a:lnTo>
                    <a:pt x="4136551" y="2836674"/>
                  </a:lnTo>
                  <a:cubicBezTo>
                    <a:pt x="4101734" y="2833009"/>
                    <a:pt x="4064962" y="2827460"/>
                    <a:pt x="4030225" y="2822498"/>
                  </a:cubicBezTo>
                  <a:cubicBezTo>
                    <a:pt x="4006597" y="2813047"/>
                    <a:pt x="3983307" y="2802703"/>
                    <a:pt x="3959341" y="2794144"/>
                  </a:cubicBezTo>
                  <a:cubicBezTo>
                    <a:pt x="3950167" y="2790867"/>
                    <a:pt x="3940143" y="2790385"/>
                    <a:pt x="3930988" y="2787056"/>
                  </a:cubicBezTo>
                  <a:cubicBezTo>
                    <a:pt x="3914077" y="2780907"/>
                    <a:pt x="3898544" y="2771158"/>
                    <a:pt x="3881369" y="2765791"/>
                  </a:cubicBezTo>
                  <a:cubicBezTo>
                    <a:pt x="3860577" y="2759293"/>
                    <a:pt x="3838622" y="2757227"/>
                    <a:pt x="3817574" y="2751614"/>
                  </a:cubicBezTo>
                  <a:cubicBezTo>
                    <a:pt x="3803135" y="2747764"/>
                    <a:pt x="3789784" y="2739894"/>
                    <a:pt x="3775044" y="2737437"/>
                  </a:cubicBezTo>
                  <a:cubicBezTo>
                    <a:pt x="3716034" y="2727602"/>
                    <a:pt x="3746742" y="2732382"/>
                    <a:pt x="3682895" y="2723260"/>
                  </a:cubicBezTo>
                  <a:lnTo>
                    <a:pt x="3463155" y="2737437"/>
                  </a:lnTo>
                  <a:cubicBezTo>
                    <a:pt x="3452732" y="2739174"/>
                    <a:pt x="3444962" y="2748711"/>
                    <a:pt x="3434802" y="2751614"/>
                  </a:cubicBezTo>
                  <a:cubicBezTo>
                    <a:pt x="3411633" y="2758234"/>
                    <a:pt x="3387397" y="2760373"/>
                    <a:pt x="3363918" y="2765791"/>
                  </a:cubicBezTo>
                  <a:cubicBezTo>
                    <a:pt x="3241751" y="2793983"/>
                    <a:pt x="3303200" y="2784638"/>
                    <a:pt x="3179620" y="2794144"/>
                  </a:cubicBezTo>
                  <a:lnTo>
                    <a:pt x="2754318" y="2787056"/>
                  </a:lnTo>
                  <a:cubicBezTo>
                    <a:pt x="2697451" y="2785025"/>
                    <a:pt x="2640867" y="2778031"/>
                    <a:pt x="2584197" y="2772879"/>
                  </a:cubicBezTo>
                  <a:cubicBezTo>
                    <a:pt x="2562889" y="2770942"/>
                    <a:pt x="2541536" y="2769128"/>
                    <a:pt x="2520402" y="2765791"/>
                  </a:cubicBezTo>
                  <a:cubicBezTo>
                    <a:pt x="2496601" y="2762033"/>
                    <a:pt x="2473347" y="2755188"/>
                    <a:pt x="2449518" y="2751614"/>
                  </a:cubicBezTo>
                  <a:cubicBezTo>
                    <a:pt x="2426035" y="2748092"/>
                    <a:pt x="2402235" y="2747148"/>
                    <a:pt x="2378634" y="2744526"/>
                  </a:cubicBezTo>
                  <a:cubicBezTo>
                    <a:pt x="2255909" y="2730890"/>
                    <a:pt x="2294889" y="2737701"/>
                    <a:pt x="2222690" y="2723260"/>
                  </a:cubicBezTo>
                  <a:cubicBezTo>
                    <a:pt x="2213239" y="2718535"/>
                    <a:pt x="2204361" y="2712425"/>
                    <a:pt x="2194337" y="2709084"/>
                  </a:cubicBezTo>
                  <a:cubicBezTo>
                    <a:pt x="2175853" y="2702923"/>
                    <a:pt x="2137630" y="2694907"/>
                    <a:pt x="2137630" y="2694907"/>
                  </a:cubicBezTo>
                  <a:cubicBezTo>
                    <a:pt x="2110564" y="2674608"/>
                    <a:pt x="2101103" y="2664871"/>
                    <a:pt x="2066746" y="2652377"/>
                  </a:cubicBezTo>
                  <a:cubicBezTo>
                    <a:pt x="2055423" y="2648260"/>
                    <a:pt x="2042779" y="2648960"/>
                    <a:pt x="2031304" y="2645288"/>
                  </a:cubicBezTo>
                  <a:cubicBezTo>
                    <a:pt x="1983620" y="2630029"/>
                    <a:pt x="1937221" y="2610929"/>
                    <a:pt x="1889537" y="2595670"/>
                  </a:cubicBezTo>
                  <a:cubicBezTo>
                    <a:pt x="1878062" y="2591998"/>
                    <a:pt x="1865635" y="2592043"/>
                    <a:pt x="1854095" y="2588581"/>
                  </a:cubicBezTo>
                  <a:cubicBezTo>
                    <a:pt x="1759176" y="2560106"/>
                    <a:pt x="1896230" y="2590810"/>
                    <a:pt x="1761946" y="2546051"/>
                  </a:cubicBezTo>
                  <a:cubicBezTo>
                    <a:pt x="1754858" y="2543688"/>
                    <a:pt x="1747483" y="2542055"/>
                    <a:pt x="1740681" y="2538963"/>
                  </a:cubicBezTo>
                  <a:cubicBezTo>
                    <a:pt x="1709078" y="2524598"/>
                    <a:pt x="1676821" y="2502675"/>
                    <a:pt x="1641444" y="2496432"/>
                  </a:cubicBezTo>
                  <a:cubicBezTo>
                    <a:pt x="1615743" y="2491897"/>
                    <a:pt x="1589463" y="2491707"/>
                    <a:pt x="1563472" y="2489344"/>
                  </a:cubicBezTo>
                  <a:cubicBezTo>
                    <a:pt x="1487863" y="2491707"/>
                    <a:pt x="1412137" y="2491613"/>
                    <a:pt x="1336644" y="2496432"/>
                  </a:cubicBezTo>
                  <a:cubicBezTo>
                    <a:pt x="1280757" y="2499999"/>
                    <a:pt x="1144259" y="2526154"/>
                    <a:pt x="1095639" y="2531874"/>
                  </a:cubicBezTo>
                  <a:cubicBezTo>
                    <a:pt x="1060362" y="2536024"/>
                    <a:pt x="1024721" y="2536130"/>
                    <a:pt x="989314" y="2538963"/>
                  </a:cubicBezTo>
                  <a:cubicBezTo>
                    <a:pt x="965644" y="2540857"/>
                    <a:pt x="942058" y="2543688"/>
                    <a:pt x="918430" y="2546051"/>
                  </a:cubicBezTo>
                  <a:cubicBezTo>
                    <a:pt x="169769" y="2536201"/>
                    <a:pt x="560430" y="2605845"/>
                    <a:pt x="344272" y="2524786"/>
                  </a:cubicBezTo>
                  <a:cubicBezTo>
                    <a:pt x="337276" y="2522163"/>
                    <a:pt x="330003" y="2520321"/>
                    <a:pt x="323007" y="2517698"/>
                  </a:cubicBezTo>
                  <a:cubicBezTo>
                    <a:pt x="311308" y="2513311"/>
                    <a:pt x="271080" y="2497822"/>
                    <a:pt x="259211" y="2489344"/>
                  </a:cubicBezTo>
                  <a:cubicBezTo>
                    <a:pt x="251054" y="2483517"/>
                    <a:pt x="245557" y="2474603"/>
                    <a:pt x="237946" y="2468079"/>
                  </a:cubicBezTo>
                  <a:cubicBezTo>
                    <a:pt x="188965" y="2426095"/>
                    <a:pt x="226238" y="2471781"/>
                    <a:pt x="181239" y="2404284"/>
                  </a:cubicBezTo>
                  <a:cubicBezTo>
                    <a:pt x="158350" y="2335615"/>
                    <a:pt x="169260" y="2376826"/>
                    <a:pt x="181239" y="2227074"/>
                  </a:cubicBezTo>
                  <a:cubicBezTo>
                    <a:pt x="181835" y="2219626"/>
                    <a:pt x="184182" y="2212026"/>
                    <a:pt x="188327" y="2205809"/>
                  </a:cubicBezTo>
                  <a:cubicBezTo>
                    <a:pt x="219684" y="2158775"/>
                    <a:pt x="200576" y="2209665"/>
                    <a:pt x="223769" y="2163279"/>
                  </a:cubicBezTo>
                  <a:cubicBezTo>
                    <a:pt x="258446" y="2093924"/>
                    <a:pt x="219281" y="2155834"/>
                    <a:pt x="252123" y="2106572"/>
                  </a:cubicBezTo>
                  <a:cubicBezTo>
                    <a:pt x="276585" y="2033182"/>
                    <a:pt x="263875" y="2079713"/>
                    <a:pt x="252123" y="1915186"/>
                  </a:cubicBezTo>
                  <a:cubicBezTo>
                    <a:pt x="250898" y="1898032"/>
                    <a:pt x="236963" y="1865128"/>
                    <a:pt x="230858" y="1851391"/>
                  </a:cubicBezTo>
                  <a:cubicBezTo>
                    <a:pt x="226566" y="1841735"/>
                    <a:pt x="220606" y="1832848"/>
                    <a:pt x="216681" y="1823037"/>
                  </a:cubicBezTo>
                  <a:cubicBezTo>
                    <a:pt x="211131" y="1809162"/>
                    <a:pt x="209187" y="1793873"/>
                    <a:pt x="202504" y="1780507"/>
                  </a:cubicBezTo>
                  <a:cubicBezTo>
                    <a:pt x="194884" y="1765268"/>
                    <a:pt x="174151" y="1737977"/>
                    <a:pt x="174151" y="1737977"/>
                  </a:cubicBezTo>
                  <a:cubicBezTo>
                    <a:pt x="169425" y="1716712"/>
                    <a:pt x="164963" y="1695386"/>
                    <a:pt x="159974" y="1674181"/>
                  </a:cubicBezTo>
                  <a:cubicBezTo>
                    <a:pt x="155511" y="1655215"/>
                    <a:pt x="149183" y="1636662"/>
                    <a:pt x="145797" y="1617474"/>
                  </a:cubicBezTo>
                  <a:cubicBezTo>
                    <a:pt x="130037" y="1528167"/>
                    <a:pt x="151984" y="1580229"/>
                    <a:pt x="124532" y="1525326"/>
                  </a:cubicBezTo>
                  <a:cubicBezTo>
                    <a:pt x="122169" y="1513512"/>
                    <a:pt x="120754" y="1501468"/>
                    <a:pt x="117444" y="1489884"/>
                  </a:cubicBezTo>
                  <a:cubicBezTo>
                    <a:pt x="111286" y="1468331"/>
                    <a:pt x="103268" y="1447353"/>
                    <a:pt x="96179" y="1426088"/>
                  </a:cubicBezTo>
                  <a:cubicBezTo>
                    <a:pt x="93816" y="1419000"/>
                    <a:pt x="90902" y="1412072"/>
                    <a:pt x="89090" y="1404823"/>
                  </a:cubicBezTo>
                  <a:cubicBezTo>
                    <a:pt x="81734" y="1375397"/>
                    <a:pt x="77766" y="1353358"/>
                    <a:pt x="67825" y="1326851"/>
                  </a:cubicBezTo>
                  <a:cubicBezTo>
                    <a:pt x="63357" y="1314937"/>
                    <a:pt x="58816" y="1303036"/>
                    <a:pt x="53648" y="1291409"/>
                  </a:cubicBezTo>
                  <a:cubicBezTo>
                    <a:pt x="49357" y="1281753"/>
                    <a:pt x="43396" y="1272867"/>
                    <a:pt x="39472" y="1263056"/>
                  </a:cubicBezTo>
                  <a:cubicBezTo>
                    <a:pt x="14167" y="1199792"/>
                    <a:pt x="38392" y="1240173"/>
                    <a:pt x="11118" y="1199260"/>
                  </a:cubicBezTo>
                  <a:cubicBezTo>
                    <a:pt x="-1824" y="1134550"/>
                    <a:pt x="-5477" y="1131652"/>
                    <a:pt x="11118" y="1036228"/>
                  </a:cubicBezTo>
                  <a:cubicBezTo>
                    <a:pt x="16100" y="1007581"/>
                    <a:pt x="38241" y="999330"/>
                    <a:pt x="53648" y="979521"/>
                  </a:cubicBezTo>
                  <a:cubicBezTo>
                    <a:pt x="64109" y="966072"/>
                    <a:pt x="82002" y="936991"/>
                    <a:pt x="82002" y="936991"/>
                  </a:cubicBezTo>
                  <a:cubicBezTo>
                    <a:pt x="97206" y="891377"/>
                    <a:pt x="77171" y="940918"/>
                    <a:pt x="110355" y="894460"/>
                  </a:cubicBezTo>
                  <a:cubicBezTo>
                    <a:pt x="134943" y="860037"/>
                    <a:pt x="116192" y="875698"/>
                    <a:pt x="131620" y="844842"/>
                  </a:cubicBezTo>
                  <a:cubicBezTo>
                    <a:pt x="135430" y="837222"/>
                    <a:pt x="142337" y="831362"/>
                    <a:pt x="145797" y="823577"/>
                  </a:cubicBezTo>
                  <a:cubicBezTo>
                    <a:pt x="145802" y="823565"/>
                    <a:pt x="163516" y="770420"/>
                    <a:pt x="167062" y="759781"/>
                  </a:cubicBezTo>
                  <a:cubicBezTo>
                    <a:pt x="169425" y="752693"/>
                    <a:pt x="170007" y="744733"/>
                    <a:pt x="174151" y="738516"/>
                  </a:cubicBezTo>
                  <a:cubicBezTo>
                    <a:pt x="214783" y="677565"/>
                    <a:pt x="166064" y="754688"/>
                    <a:pt x="195416" y="695986"/>
                  </a:cubicBezTo>
                  <a:cubicBezTo>
                    <a:pt x="199226" y="688366"/>
                    <a:pt x="204867" y="681809"/>
                    <a:pt x="209593" y="674721"/>
                  </a:cubicBezTo>
                  <a:cubicBezTo>
                    <a:pt x="211956" y="667633"/>
                    <a:pt x="214628" y="660640"/>
                    <a:pt x="216681" y="653456"/>
                  </a:cubicBezTo>
                  <a:cubicBezTo>
                    <a:pt x="219357" y="644089"/>
                    <a:pt x="219931" y="634056"/>
                    <a:pt x="223769" y="625102"/>
                  </a:cubicBezTo>
                  <a:cubicBezTo>
                    <a:pt x="227125" y="617272"/>
                    <a:pt x="233220" y="610925"/>
                    <a:pt x="237946" y="603837"/>
                  </a:cubicBezTo>
                  <a:lnTo>
                    <a:pt x="259211" y="540042"/>
                  </a:lnTo>
                  <a:cubicBezTo>
                    <a:pt x="261574" y="532954"/>
                    <a:pt x="259617" y="522119"/>
                    <a:pt x="266300" y="518777"/>
                  </a:cubicBezTo>
                  <a:lnTo>
                    <a:pt x="315918" y="518777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文本框 15"/>
            <p:cNvSpPr/>
            <p:nvPr/>
          </p:nvSpPr>
          <p:spPr>
            <a:xfrm>
              <a:off x="1331280" y="1635480"/>
              <a:ext cx="626544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小小诸葛亮，独坐中军帐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摆下八卦阵，专捉飞来将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猜一动物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标题 1"/>
          <p:cNvSpPr/>
          <p:nvPr/>
        </p:nvSpPr>
        <p:spPr>
          <a:xfrm>
            <a:off x="181080" y="304920"/>
            <a:ext cx="18698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蜘 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36"/>
          <p:cNvSpPr/>
          <p:nvPr/>
        </p:nvSpPr>
        <p:spPr>
          <a:xfrm rot="16248600">
            <a:off x="5927040" y="13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20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2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文本框 29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文本框 51"/>
          <p:cNvSpPr/>
          <p:nvPr/>
        </p:nvSpPr>
        <p:spPr>
          <a:xfrm rot="16248600">
            <a:off x="5911200" y="343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40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文本框 41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42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46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47"/>
          <p:cNvSpPr/>
          <p:nvPr/>
        </p:nvSpPr>
        <p:spPr>
          <a:xfrm rot="18142800">
            <a:off x="6734160" y="338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63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64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65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36"/>
          <p:cNvSpPr/>
          <p:nvPr/>
        </p:nvSpPr>
        <p:spPr>
          <a:xfrm rot="2809800">
            <a:off x="3877920" y="173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37"/>
          <p:cNvSpPr/>
          <p:nvPr/>
        </p:nvSpPr>
        <p:spPr>
          <a:xfrm rot="4009800">
            <a:off x="3877920" y="227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32"/>
          <p:cNvSpPr/>
          <p:nvPr/>
        </p:nvSpPr>
        <p:spPr>
          <a:xfrm rot="5400000">
            <a:off x="1205280" y="3225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47"/>
          <p:cNvSpPr/>
          <p:nvPr/>
        </p:nvSpPr>
        <p:spPr>
          <a:xfrm rot="5220000">
            <a:off x="766080" y="289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50"/>
          <p:cNvSpPr/>
          <p:nvPr/>
        </p:nvSpPr>
        <p:spPr>
          <a:xfrm rot="4020000">
            <a:off x="3766320" y="3363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51"/>
          <p:cNvSpPr/>
          <p:nvPr/>
        </p:nvSpPr>
        <p:spPr>
          <a:xfrm rot="4020000">
            <a:off x="4135680" y="357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45"/>
          <p:cNvSpPr/>
          <p:nvPr/>
        </p:nvSpPr>
        <p:spPr>
          <a:xfrm rot="2809800">
            <a:off x="2294640" y="153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46"/>
          <p:cNvSpPr/>
          <p:nvPr/>
        </p:nvSpPr>
        <p:spPr>
          <a:xfrm rot="2809800">
            <a:off x="2665440" y="174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50"/>
          <p:cNvSpPr/>
          <p:nvPr/>
        </p:nvSpPr>
        <p:spPr>
          <a:xfrm rot="2809800">
            <a:off x="3139560" y="240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51"/>
          <p:cNvSpPr/>
          <p:nvPr/>
        </p:nvSpPr>
        <p:spPr>
          <a:xfrm rot="2809800">
            <a:off x="3510000" y="26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32"/>
          <p:cNvSpPr/>
          <p:nvPr/>
        </p:nvSpPr>
        <p:spPr>
          <a:xfrm rot="5400000">
            <a:off x="4815720" y="367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4"/>
          <p:cNvSpPr/>
          <p:nvPr/>
        </p:nvSpPr>
        <p:spPr>
          <a:xfrm>
            <a:off x="719280" y="933480"/>
            <a:ext cx="795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课文，说说蜘蛛为什么要开店呢？找出相关语句读一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Text Box 15" descr=""/>
          <p:cNvPicPr/>
          <p:nvPr/>
        </p:nvPicPr>
        <p:blipFill>
          <a:blip r:embed="rId2"/>
          <a:stretch/>
        </p:blipFill>
        <p:spPr>
          <a:xfrm>
            <a:off x="996840" y="82440"/>
            <a:ext cx="2149560" cy="10717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539640" y="2427120"/>
            <a:ext cx="813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一只蜘蛛，每天蹲在网上等着小飞虫落在上面，好寂寞，好无聊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1"/>
          <p:cNvSpPr/>
          <p:nvPr/>
        </p:nvSpPr>
        <p:spPr>
          <a:xfrm>
            <a:off x="3059280" y="3124080"/>
            <a:ext cx="865080" cy="5940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9"/>
          <p:cNvSpPr/>
          <p:nvPr/>
        </p:nvSpPr>
        <p:spPr>
          <a:xfrm>
            <a:off x="2303640" y="37339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孤单冷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28"/>
          <p:cNvSpPr/>
          <p:nvPr/>
        </p:nvSpPr>
        <p:spPr>
          <a:xfrm>
            <a:off x="4500720" y="3733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指由于清闲而烦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11"/>
          <p:cNvSpPr/>
          <p:nvPr/>
        </p:nvSpPr>
        <p:spPr>
          <a:xfrm>
            <a:off x="4697280" y="3117960"/>
            <a:ext cx="863640" cy="5950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12"/>
          <p:cNvSpPr/>
          <p:nvPr/>
        </p:nvSpPr>
        <p:spPr>
          <a:xfrm>
            <a:off x="2687760" y="3740040"/>
            <a:ext cx="3009600" cy="0"/>
          </a:xfrm>
          <a:prstGeom prst="line">
            <a:avLst/>
          </a:prstGeom>
          <a:ln w="381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6"/>
          <p:cNvSpPr/>
          <p:nvPr/>
        </p:nvSpPr>
        <p:spPr>
          <a:xfrm>
            <a:off x="755640" y="2135160"/>
            <a:ext cx="7777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卖口罩吧，因为口罩织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还是卖围巾吧，因为围巾织起来很简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还是卖袜子吧，因为袜子织起来很简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4"/>
          <p:cNvSpPr/>
          <p:nvPr/>
        </p:nvSpPr>
        <p:spPr>
          <a:xfrm>
            <a:off x="611280" y="113184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找蜘蛛想卖什么的语句，一起来读一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矩形: 圆角 7"/>
          <p:cNvSpPr/>
          <p:nvPr/>
        </p:nvSpPr>
        <p:spPr>
          <a:xfrm>
            <a:off x="1639800" y="2311560"/>
            <a:ext cx="81432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椭圆 8"/>
          <p:cNvSpPr/>
          <p:nvPr/>
        </p:nvSpPr>
        <p:spPr>
          <a:xfrm>
            <a:off x="4954680" y="2135160"/>
            <a:ext cx="2519280" cy="669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: 圆角 7"/>
          <p:cNvSpPr/>
          <p:nvPr/>
        </p:nvSpPr>
        <p:spPr>
          <a:xfrm>
            <a:off x="2065320" y="2916360"/>
            <a:ext cx="81432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椭圆 3"/>
          <p:cNvSpPr/>
          <p:nvPr/>
        </p:nvSpPr>
        <p:spPr>
          <a:xfrm>
            <a:off x="5248440" y="2827440"/>
            <a:ext cx="2519280" cy="669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矩形: 圆角 7"/>
          <p:cNvSpPr/>
          <p:nvPr/>
        </p:nvSpPr>
        <p:spPr>
          <a:xfrm>
            <a:off x="2065320" y="3568680"/>
            <a:ext cx="814320" cy="493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椭圆 5"/>
          <p:cNvSpPr/>
          <p:nvPr/>
        </p:nvSpPr>
        <p:spPr>
          <a:xfrm>
            <a:off x="5327640" y="3476520"/>
            <a:ext cx="2519280" cy="669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4"/>
          <p:cNvSpPr/>
          <p:nvPr/>
        </p:nvSpPr>
        <p:spPr>
          <a:xfrm>
            <a:off x="900000" y="84312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顾客来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相关语句，并把表格填充完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36"/>
          <p:cNvSpPr/>
          <p:nvPr/>
        </p:nvSpPr>
        <p:spPr>
          <a:xfrm rot="16248600">
            <a:off x="5927040" y="13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1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24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25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51"/>
          <p:cNvSpPr/>
          <p:nvPr/>
        </p:nvSpPr>
        <p:spPr>
          <a:xfrm rot="16248600">
            <a:off x="5911200" y="343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36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37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38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4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文本框 47"/>
          <p:cNvSpPr/>
          <p:nvPr/>
        </p:nvSpPr>
        <p:spPr>
          <a:xfrm rot="18142800">
            <a:off x="6734160" y="338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59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60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61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6"/>
          <p:cNvSpPr/>
          <p:nvPr/>
        </p:nvSpPr>
        <p:spPr>
          <a:xfrm rot="2809800">
            <a:off x="3877920" y="173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7"/>
          <p:cNvSpPr/>
          <p:nvPr/>
        </p:nvSpPr>
        <p:spPr>
          <a:xfrm rot="4009800">
            <a:off x="3877920" y="227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32"/>
          <p:cNvSpPr/>
          <p:nvPr/>
        </p:nvSpPr>
        <p:spPr>
          <a:xfrm rot="5400000">
            <a:off x="1205280" y="3225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47"/>
          <p:cNvSpPr/>
          <p:nvPr/>
        </p:nvSpPr>
        <p:spPr>
          <a:xfrm rot="5220000">
            <a:off x="766080" y="289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50"/>
          <p:cNvSpPr/>
          <p:nvPr/>
        </p:nvSpPr>
        <p:spPr>
          <a:xfrm rot="4020000">
            <a:off x="3766320" y="3363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51"/>
          <p:cNvSpPr/>
          <p:nvPr/>
        </p:nvSpPr>
        <p:spPr>
          <a:xfrm rot="4020000">
            <a:off x="4135680" y="357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45"/>
          <p:cNvSpPr/>
          <p:nvPr/>
        </p:nvSpPr>
        <p:spPr>
          <a:xfrm rot="2809800">
            <a:off x="2294640" y="153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46"/>
          <p:cNvSpPr/>
          <p:nvPr/>
        </p:nvSpPr>
        <p:spPr>
          <a:xfrm rot="2809800">
            <a:off x="2665440" y="174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50"/>
          <p:cNvSpPr/>
          <p:nvPr/>
        </p:nvSpPr>
        <p:spPr>
          <a:xfrm rot="2809800">
            <a:off x="3139560" y="240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51"/>
          <p:cNvSpPr/>
          <p:nvPr/>
        </p:nvSpPr>
        <p:spPr>
          <a:xfrm rot="2809800">
            <a:off x="3510000" y="26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32"/>
          <p:cNvSpPr/>
          <p:nvPr/>
        </p:nvSpPr>
        <p:spPr>
          <a:xfrm rot="5400000">
            <a:off x="4815720" y="367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042920" y="846000"/>
          <a:ext cx="7489800" cy="3957480"/>
        </p:xfrm>
        <a:graphic>
          <a:graphicData uri="http://schemas.openxmlformats.org/drawingml/2006/table">
            <a:tbl>
              <a:tblPr/>
              <a:tblGrid>
                <a:gridCol w="1152360"/>
                <a:gridCol w="1440000"/>
                <a:gridCol w="1944720"/>
                <a:gridCol w="2952720"/>
              </a:tblGrid>
              <a:tr h="674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招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顾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花费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蜘蛛的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口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围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袜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3" name="Text Box 6"/>
          <p:cNvSpPr/>
          <p:nvPr/>
        </p:nvSpPr>
        <p:spPr>
          <a:xfrm>
            <a:off x="2340000" y="1563840"/>
            <a:ext cx="115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河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3784680" y="1563840"/>
            <a:ext cx="1511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整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5651640" y="1563840"/>
            <a:ext cx="273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口罩好难织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2195640" y="2382840"/>
            <a:ext cx="1444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3570120" y="2382840"/>
            <a:ext cx="1940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一个星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5529240" y="2392200"/>
            <a:ext cx="309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袜子织起来简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2195640" y="3201840"/>
            <a:ext cx="1444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蜈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5529240" y="3213000"/>
            <a:ext cx="309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吓得跑回网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2293920" y="3946680"/>
            <a:ext cx="6589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蜘蛛是个头脑简单，怕吃苦的家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36"/>
          <p:cNvSpPr/>
          <p:nvPr/>
        </p:nvSpPr>
        <p:spPr>
          <a:xfrm rot="16248600">
            <a:off x="5927040" y="13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12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18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51"/>
          <p:cNvSpPr/>
          <p:nvPr/>
        </p:nvSpPr>
        <p:spPr>
          <a:xfrm rot="16248600">
            <a:off x="5911200" y="343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29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30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1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35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7"/>
          <p:cNvSpPr/>
          <p:nvPr/>
        </p:nvSpPr>
        <p:spPr>
          <a:xfrm rot="18142800">
            <a:off x="6734160" y="338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52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53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54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36"/>
          <p:cNvSpPr/>
          <p:nvPr/>
        </p:nvSpPr>
        <p:spPr>
          <a:xfrm rot="2809800">
            <a:off x="3877920" y="173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37"/>
          <p:cNvSpPr/>
          <p:nvPr/>
        </p:nvSpPr>
        <p:spPr>
          <a:xfrm rot="4009800">
            <a:off x="3877920" y="227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32"/>
          <p:cNvSpPr/>
          <p:nvPr/>
        </p:nvSpPr>
        <p:spPr>
          <a:xfrm rot="5400000">
            <a:off x="1205280" y="3225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47"/>
          <p:cNvSpPr/>
          <p:nvPr/>
        </p:nvSpPr>
        <p:spPr>
          <a:xfrm rot="5220000">
            <a:off x="766080" y="289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50"/>
          <p:cNvSpPr/>
          <p:nvPr/>
        </p:nvSpPr>
        <p:spPr>
          <a:xfrm rot="4020000">
            <a:off x="3766320" y="3363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51"/>
          <p:cNvSpPr/>
          <p:nvPr/>
        </p:nvSpPr>
        <p:spPr>
          <a:xfrm rot="4020000">
            <a:off x="4135680" y="357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45"/>
          <p:cNvSpPr/>
          <p:nvPr/>
        </p:nvSpPr>
        <p:spPr>
          <a:xfrm rot="2809800">
            <a:off x="2294640" y="153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46"/>
          <p:cNvSpPr/>
          <p:nvPr/>
        </p:nvSpPr>
        <p:spPr>
          <a:xfrm rot="2809800">
            <a:off x="2665440" y="174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50"/>
          <p:cNvSpPr/>
          <p:nvPr/>
        </p:nvSpPr>
        <p:spPr>
          <a:xfrm rot="2809800">
            <a:off x="3139560" y="240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51"/>
          <p:cNvSpPr/>
          <p:nvPr/>
        </p:nvSpPr>
        <p:spPr>
          <a:xfrm rot="2809800">
            <a:off x="3510000" y="26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32"/>
          <p:cNvSpPr/>
          <p:nvPr/>
        </p:nvSpPr>
        <p:spPr>
          <a:xfrm rot="5400000">
            <a:off x="4815720" y="367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6"/>
          <p:cNvSpPr/>
          <p:nvPr/>
        </p:nvSpPr>
        <p:spPr>
          <a:xfrm>
            <a:off x="861840" y="1219320"/>
            <a:ext cx="784872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罩编织店，每位顾客只需一元钱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围巾编织店，每位顾客只需一元钱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袜子编织店，每位顾客只需一元钱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矩形 4"/>
          <p:cNvSpPr/>
          <p:nvPr/>
        </p:nvSpPr>
        <p:spPr>
          <a:xfrm>
            <a:off x="611280" y="55548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蜘蛛头脑简单，还体现在什么上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矩形 3"/>
          <p:cNvSpPr/>
          <p:nvPr/>
        </p:nvSpPr>
        <p:spPr>
          <a:xfrm>
            <a:off x="2871720" y="3587760"/>
            <a:ext cx="23004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招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矩形 1" descr=""/>
          <p:cNvPicPr/>
          <p:nvPr/>
        </p:nvPicPr>
        <p:blipFill>
          <a:blip r:embed="rId2"/>
          <a:stretch/>
        </p:blipFill>
        <p:spPr>
          <a:xfrm>
            <a:off x="1270080" y="1598760"/>
            <a:ext cx="76611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4"/>
          <p:cNvSpPr/>
          <p:nvPr/>
        </p:nvSpPr>
        <p:spPr>
          <a:xfrm>
            <a:off x="684360" y="1135080"/>
            <a:ext cx="7991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蜘蛛为什么会吐丝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蜘蛛的腹部有六种腺体，称为吐丝器。各种腺体产生不同的蛛丝，腺体顶端有喷丝头，上面有小孔，喷出的液体一遇空气立即凝结成黏性强、张力大的蛛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Text Box 15" descr=""/>
          <p:cNvPicPr/>
          <p:nvPr/>
        </p:nvPicPr>
        <p:blipFill>
          <a:blip r:embed="rId2"/>
          <a:stretch/>
        </p:blipFill>
        <p:spPr>
          <a:xfrm>
            <a:off x="1046160" y="61920"/>
            <a:ext cx="21510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6" descr=""/>
          <p:cNvPicPr/>
          <p:nvPr/>
        </p:nvPicPr>
        <p:blipFill>
          <a:blip r:embed="rId2"/>
          <a:stretch/>
        </p:blipFill>
        <p:spPr>
          <a:xfrm>
            <a:off x="2124000" y="1635120"/>
            <a:ext cx="4784760" cy="2676600"/>
          </a:xfrm>
          <a:prstGeom prst="rect">
            <a:avLst/>
          </a:prstGeom>
          <a:ln w="0">
            <a:noFill/>
          </a:ln>
        </p:spPr>
      </p:pic>
      <p:sp>
        <p:nvSpPr>
          <p:cNvPr id="739" name="矩形 4"/>
          <p:cNvSpPr/>
          <p:nvPr/>
        </p:nvSpPr>
        <p:spPr>
          <a:xfrm>
            <a:off x="2644920" y="771480"/>
            <a:ext cx="374328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3"/>
              </a:rPr>
              <a:t>小蜘蛛织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0" name="图片 3" descr=""/>
          <p:cNvPicPr/>
          <p:nvPr/>
        </p:nvPicPr>
        <p:blipFill>
          <a:blip r:embed="rId4"/>
          <a:stretch/>
        </p:blipFill>
        <p:spPr>
          <a:xfrm>
            <a:off x="6300720" y="16351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文本框 14"/>
          <p:cNvSpPr/>
          <p:nvPr/>
        </p:nvSpPr>
        <p:spPr>
          <a:xfrm>
            <a:off x="250920" y="1276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看拼音，写词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933480" y="1995480"/>
            <a:ext cx="8066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shānɡ diàn   jué dìnɡ    zhī wéi jī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 ）   （      ） （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zhōnɡ yú    wán chénɡ     xīnɡ q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 ）   （      ）   （      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Text Box 15" descr=""/>
          <p:cNvPicPr/>
          <p:nvPr/>
        </p:nvPicPr>
        <p:blipFill>
          <a:blip r:embed="rId2"/>
          <a:stretch/>
        </p:blipFill>
        <p:spPr>
          <a:xfrm>
            <a:off x="1046160" y="61920"/>
            <a:ext cx="2151000" cy="1071720"/>
          </a:xfrm>
          <a:prstGeom prst="rect">
            <a:avLst/>
          </a:prstGeom>
          <a:ln w="0">
            <a:noFill/>
          </a:ln>
        </p:spPr>
      </p:pic>
      <p:sp>
        <p:nvSpPr>
          <p:cNvPr id="744" name="文本框 16"/>
          <p:cNvSpPr/>
          <p:nvPr/>
        </p:nvSpPr>
        <p:spPr>
          <a:xfrm>
            <a:off x="1424160" y="257004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商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17"/>
          <p:cNvSpPr/>
          <p:nvPr/>
        </p:nvSpPr>
        <p:spPr>
          <a:xfrm>
            <a:off x="4067280" y="257004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18"/>
          <p:cNvSpPr/>
          <p:nvPr/>
        </p:nvSpPr>
        <p:spPr>
          <a:xfrm>
            <a:off x="6351480" y="2570040"/>
            <a:ext cx="1820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织围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19"/>
          <p:cNvSpPr/>
          <p:nvPr/>
        </p:nvSpPr>
        <p:spPr>
          <a:xfrm>
            <a:off x="1424160" y="372420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终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21"/>
          <p:cNvSpPr/>
          <p:nvPr/>
        </p:nvSpPr>
        <p:spPr>
          <a:xfrm>
            <a:off x="4067280" y="3724200"/>
            <a:ext cx="1238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完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22"/>
          <p:cNvSpPr/>
          <p:nvPr/>
        </p:nvSpPr>
        <p:spPr>
          <a:xfrm>
            <a:off x="6640560" y="372420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星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3"/>
          <p:cNvSpPr/>
          <p:nvPr/>
        </p:nvSpPr>
        <p:spPr>
          <a:xfrm>
            <a:off x="611280" y="293544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春天在哪里？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是谁给了我们幸福的生活？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14"/>
          <p:cNvSpPr/>
          <p:nvPr/>
        </p:nvSpPr>
        <p:spPr>
          <a:xfrm>
            <a:off x="971640" y="484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照样子，写句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826920" y="11430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例：卖什么呢？就卖口罩吧，因为口罩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起来很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3"/>
          <p:cNvSpPr/>
          <p:nvPr/>
        </p:nvSpPr>
        <p:spPr>
          <a:xfrm>
            <a:off x="3333600" y="2949480"/>
            <a:ext cx="325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春天在花园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1619280" y="22780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小猫在干什么？它正在玩球呢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12"/>
          <p:cNvSpPr/>
          <p:nvPr/>
        </p:nvSpPr>
        <p:spPr>
          <a:xfrm>
            <a:off x="5759280" y="3700440"/>
            <a:ext cx="325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是亲爱的祖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" descr=""/>
          <p:cNvPicPr/>
          <p:nvPr/>
        </p:nvPicPr>
        <p:blipFill>
          <a:blip r:embed="rId2"/>
          <a:stretch/>
        </p:blipFill>
        <p:spPr>
          <a:xfrm>
            <a:off x="768240" y="425520"/>
            <a:ext cx="2160720" cy="2881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768240" y="1658880"/>
            <a:ext cx="756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蜘蛛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节肢动物，身体分为头胸部和腹部，腹部有纺器，内连丝腺，能吐丝结网。除南极洲以外，全世界均有分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: 圆角 3"/>
          <p:cNvSpPr/>
          <p:nvPr/>
        </p:nvSpPr>
        <p:spPr>
          <a:xfrm>
            <a:off x="684360" y="1390680"/>
            <a:ext cx="7848360" cy="25495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d5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文本框 14"/>
          <p:cNvSpPr/>
          <p:nvPr/>
        </p:nvSpPr>
        <p:spPr>
          <a:xfrm>
            <a:off x="1187280" y="627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拓展阅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14"/>
          <p:cNvSpPr/>
          <p:nvPr/>
        </p:nvSpPr>
        <p:spPr>
          <a:xfrm>
            <a:off x="1042920" y="1419120"/>
            <a:ext cx="7561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关于蜘蛛的歇后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蚕宝宝牵蜘蛛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丝（私）连丝（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苍蝇会蜘蛛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自投罗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苍蝇碰上蜘蛛网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脱不了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老蜘蛛的内脏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满肚子丝（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Text Box 15" descr=""/>
          <p:cNvPicPr/>
          <p:nvPr/>
        </p:nvPicPr>
        <p:blipFill>
          <a:blip r:embed="rId2"/>
          <a:stretch/>
        </p:blipFill>
        <p:spPr>
          <a:xfrm>
            <a:off x="2189160" y="219240"/>
            <a:ext cx="4253040" cy="1112760"/>
          </a:xfrm>
          <a:prstGeom prst="rect">
            <a:avLst/>
          </a:prstGeom>
          <a:ln w="0">
            <a:noFill/>
          </a:ln>
        </p:spPr>
      </p:pic>
      <p:grpSp>
        <p:nvGrpSpPr>
          <p:cNvPr id="759" name="组合 1"/>
          <p:cNvGrpSpPr/>
          <p:nvPr/>
        </p:nvGrpSpPr>
        <p:grpSpPr>
          <a:xfrm>
            <a:off x="647640" y="1298520"/>
            <a:ext cx="7970760" cy="678600"/>
            <a:chOff x="647640" y="1298520"/>
            <a:chExt cx="7970760" cy="678600"/>
          </a:xfrm>
        </p:grpSpPr>
        <p:sp>
          <p:nvSpPr>
            <p:cNvPr id="760" name="TextBox 1"/>
            <p:cNvSpPr/>
            <p:nvPr/>
          </p:nvSpPr>
          <p:spPr>
            <a:xfrm>
              <a:off x="1004040" y="1298520"/>
              <a:ext cx="76143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朗读课文。根据示意图讲一讲这个故事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1" name="图片 5" descr=""/>
            <p:cNvPicPr/>
            <p:nvPr/>
          </p:nvPicPr>
          <p:blipFill>
            <a:blip r:embed="rId3"/>
            <a:stretch/>
          </p:blipFill>
          <p:spPr>
            <a:xfrm>
              <a:off x="647640" y="1442160"/>
              <a:ext cx="385200" cy="38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2" name="图片 1" descr=""/>
          <p:cNvPicPr/>
          <p:nvPr/>
        </p:nvPicPr>
        <p:blipFill>
          <a:blip r:embed="rId4"/>
          <a:stretch/>
        </p:blipFill>
        <p:spPr>
          <a:xfrm>
            <a:off x="2050920" y="2211480"/>
            <a:ext cx="5162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1"/>
          <p:cNvSpPr/>
          <p:nvPr/>
        </p:nvSpPr>
        <p:spPr>
          <a:xfrm>
            <a:off x="611280" y="1419120"/>
            <a:ext cx="8137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师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学们可以在熟读课文的基础上，按照图中提示的思路来讲讲这个故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组合 4"/>
          <p:cNvGrpSpPr/>
          <p:nvPr/>
        </p:nvGrpSpPr>
        <p:grpSpPr>
          <a:xfrm>
            <a:off x="971640" y="771480"/>
            <a:ext cx="7704000" cy="678600"/>
            <a:chOff x="971640" y="771480"/>
            <a:chExt cx="7704000" cy="678600"/>
          </a:xfrm>
        </p:grpSpPr>
        <p:sp>
          <p:nvSpPr>
            <p:cNvPr id="765" name="TextBox 1"/>
            <p:cNvSpPr/>
            <p:nvPr/>
          </p:nvSpPr>
          <p:spPr>
            <a:xfrm>
              <a:off x="1356840" y="771480"/>
              <a:ext cx="73188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接下来会发生什么事？展开想象，续编故事，讲给大家听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6" name="图片 3" descr=""/>
            <p:cNvPicPr/>
            <p:nvPr/>
          </p:nvPicPr>
          <p:blipFill>
            <a:blip r:embed="rId2"/>
            <a:stretch/>
          </p:blipFill>
          <p:spPr>
            <a:xfrm>
              <a:off x="971640" y="915120"/>
              <a:ext cx="3852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7" name="文本框 6"/>
          <p:cNvSpPr/>
          <p:nvPr/>
        </p:nvSpPr>
        <p:spPr>
          <a:xfrm>
            <a:off x="1316160" y="2046240"/>
            <a:ext cx="7359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师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因为蜘蛛开店只想做那些容易的事，所以她还会遇到困难的。同学们可以展开丰富的想象来续编故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1"/>
          <p:cNvSpPr/>
          <p:nvPr/>
        </p:nvSpPr>
        <p:spPr>
          <a:xfrm>
            <a:off x="900000" y="1779480"/>
            <a:ext cx="774072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课文，默写今天学习的生字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展开想象，说说蜘蛛接下来可能会怎么做，讲给大家听一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9" name="组合 27"/>
          <p:cNvGrpSpPr/>
          <p:nvPr/>
        </p:nvGrpSpPr>
        <p:grpSpPr>
          <a:xfrm>
            <a:off x="3230640" y="793800"/>
            <a:ext cx="2596680" cy="646200"/>
            <a:chOff x="3230640" y="793800"/>
            <a:chExt cx="2596680" cy="646200"/>
          </a:xfrm>
        </p:grpSpPr>
        <p:sp>
          <p:nvSpPr>
            <p:cNvPr id="770" name="矩形: 圆角 28"/>
            <p:cNvSpPr/>
            <p:nvPr/>
          </p:nvSpPr>
          <p:spPr>
            <a:xfrm rot="671400">
              <a:off x="3276360" y="846000"/>
              <a:ext cx="590400" cy="53316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: 圆角 29"/>
            <p:cNvSpPr/>
            <p:nvPr/>
          </p:nvSpPr>
          <p:spPr>
            <a:xfrm rot="21203400">
              <a:off x="3930480" y="842760"/>
              <a:ext cx="590400" cy="5331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后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矩形: 圆角 30"/>
            <p:cNvSpPr/>
            <p:nvPr/>
          </p:nvSpPr>
          <p:spPr>
            <a:xfrm rot="497400">
              <a:off x="4568760" y="8647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矩形: 圆角 30"/>
            <p:cNvSpPr/>
            <p:nvPr/>
          </p:nvSpPr>
          <p:spPr>
            <a:xfrm rot="21330600">
              <a:off x="5214960" y="866880"/>
              <a:ext cx="592200" cy="531720"/>
            </a:xfrm>
            <a:prstGeom prst="roundRect">
              <a:avLst>
                <a:gd name="adj" fmla="val 16667"/>
              </a:avLst>
            </a:prstGeom>
            <a:solidFill>
              <a:srgbClr val="ccff66">
                <a:alpha val="7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7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副标题 2"/>
          <p:cNvSpPr/>
          <p:nvPr/>
        </p:nvSpPr>
        <p:spPr>
          <a:xfrm>
            <a:off x="2131920" y="2560680"/>
            <a:ext cx="4319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标题 1"/>
          <p:cNvSpPr/>
          <p:nvPr/>
        </p:nvSpPr>
        <p:spPr>
          <a:xfrm>
            <a:off x="2260440" y="1708200"/>
            <a:ext cx="4043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0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蜘蛛开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6"/>
          <p:cNvSpPr/>
          <p:nvPr/>
        </p:nvSpPr>
        <p:spPr>
          <a:xfrm>
            <a:off x="2131920" y="2546280"/>
            <a:ext cx="43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"/>
          <p:cNvPicPr/>
          <p:nvPr/>
        </p:nvPicPr>
        <p:blipFill>
          <a:blip r:embed="rId3"/>
          <a:stretch/>
        </p:blipFill>
        <p:spPr>
          <a:xfrm>
            <a:off x="12600" y="2571840"/>
            <a:ext cx="9131400" cy="25606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8"/>
          <p:cNvSpPr/>
          <p:nvPr/>
        </p:nvSpPr>
        <p:spPr>
          <a:xfrm>
            <a:off x="755640" y="2859120"/>
            <a:ext cx="7416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听朗读，自由读课文。借助拼音，读准字音，读通句子，不熟悉的生字词多读几遍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36"/>
          <p:cNvSpPr/>
          <p:nvPr/>
        </p:nvSpPr>
        <p:spPr>
          <a:xfrm rot="16248600">
            <a:off x="5927040" y="13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7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2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3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51"/>
          <p:cNvSpPr/>
          <p:nvPr/>
        </p:nvSpPr>
        <p:spPr>
          <a:xfrm rot="16248600">
            <a:off x="5911200" y="343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4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35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36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0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7"/>
          <p:cNvSpPr/>
          <p:nvPr/>
        </p:nvSpPr>
        <p:spPr>
          <a:xfrm rot="18142800">
            <a:off x="6734160" y="338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57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58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59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36"/>
          <p:cNvSpPr/>
          <p:nvPr/>
        </p:nvSpPr>
        <p:spPr>
          <a:xfrm rot="2809800">
            <a:off x="3877920" y="173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37"/>
          <p:cNvSpPr/>
          <p:nvPr/>
        </p:nvSpPr>
        <p:spPr>
          <a:xfrm rot="4009800">
            <a:off x="3877920" y="227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2"/>
          <p:cNvSpPr/>
          <p:nvPr/>
        </p:nvSpPr>
        <p:spPr>
          <a:xfrm rot="5400000">
            <a:off x="1205280" y="3225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47"/>
          <p:cNvSpPr/>
          <p:nvPr/>
        </p:nvSpPr>
        <p:spPr>
          <a:xfrm rot="5220000">
            <a:off x="766080" y="289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50"/>
          <p:cNvSpPr/>
          <p:nvPr/>
        </p:nvSpPr>
        <p:spPr>
          <a:xfrm rot="4020000">
            <a:off x="3766320" y="3363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51"/>
          <p:cNvSpPr/>
          <p:nvPr/>
        </p:nvSpPr>
        <p:spPr>
          <a:xfrm rot="4020000">
            <a:off x="4135680" y="357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45"/>
          <p:cNvSpPr/>
          <p:nvPr/>
        </p:nvSpPr>
        <p:spPr>
          <a:xfrm rot="2809800">
            <a:off x="2294640" y="153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46"/>
          <p:cNvSpPr/>
          <p:nvPr/>
        </p:nvSpPr>
        <p:spPr>
          <a:xfrm rot="2809800">
            <a:off x="2665440" y="174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50"/>
          <p:cNvSpPr/>
          <p:nvPr/>
        </p:nvSpPr>
        <p:spPr>
          <a:xfrm rot="2809800">
            <a:off x="3139560" y="240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51"/>
          <p:cNvSpPr/>
          <p:nvPr/>
        </p:nvSpPr>
        <p:spPr>
          <a:xfrm rot="2809800">
            <a:off x="3510000" y="26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32"/>
          <p:cNvSpPr/>
          <p:nvPr/>
        </p:nvSpPr>
        <p:spPr>
          <a:xfrm rot="5400000">
            <a:off x="4815720" y="367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任意多边形: 形状 9"/>
          <p:cNvSpPr/>
          <p:nvPr/>
        </p:nvSpPr>
        <p:spPr>
          <a:xfrm>
            <a:off x="658800" y="949320"/>
            <a:ext cx="7750080" cy="3781440"/>
          </a:xfrm>
          <a:custGeom>
            <a:avLst/>
            <a:gdLst/>
            <a:ahLst/>
            <a:rect l="l" t="t" r="r" b="b"/>
            <a:pathLst>
              <a:path w="7751618" h="3782291">
                <a:moveTo>
                  <a:pt x="318654" y="228600"/>
                </a:moveTo>
                <a:lnTo>
                  <a:pt x="318654" y="228600"/>
                </a:lnTo>
                <a:cubicBezTo>
                  <a:pt x="339436" y="230909"/>
                  <a:pt x="360333" y="232348"/>
                  <a:pt x="381000" y="235528"/>
                </a:cubicBezTo>
                <a:cubicBezTo>
                  <a:pt x="390410" y="236976"/>
                  <a:pt x="399318" y="240890"/>
                  <a:pt x="408709" y="242455"/>
                </a:cubicBezTo>
                <a:cubicBezTo>
                  <a:pt x="427072" y="245515"/>
                  <a:pt x="445654" y="247073"/>
                  <a:pt x="464127" y="249382"/>
                </a:cubicBezTo>
                <a:cubicBezTo>
                  <a:pt x="484909" y="256309"/>
                  <a:pt x="504584" y="269306"/>
                  <a:pt x="526473" y="270164"/>
                </a:cubicBezTo>
                <a:cubicBezTo>
                  <a:pt x="727388" y="278043"/>
                  <a:pt x="739285" y="274400"/>
                  <a:pt x="865909" y="256309"/>
                </a:cubicBezTo>
                <a:cubicBezTo>
                  <a:pt x="884382" y="249382"/>
                  <a:pt x="902357" y="240948"/>
                  <a:pt x="921327" y="235528"/>
                </a:cubicBezTo>
                <a:cubicBezTo>
                  <a:pt x="934832" y="231669"/>
                  <a:pt x="949180" y="231647"/>
                  <a:pt x="962891" y="228600"/>
                </a:cubicBezTo>
                <a:cubicBezTo>
                  <a:pt x="1201330" y="175614"/>
                  <a:pt x="908796" y="235264"/>
                  <a:pt x="1115291" y="193964"/>
                </a:cubicBezTo>
                <a:cubicBezTo>
                  <a:pt x="1131455" y="187037"/>
                  <a:pt x="1146721" y="177447"/>
                  <a:pt x="1163782" y="173182"/>
                </a:cubicBezTo>
                <a:cubicBezTo>
                  <a:pt x="1184067" y="168111"/>
                  <a:pt x="1205266" y="167677"/>
                  <a:pt x="1226127" y="166255"/>
                </a:cubicBezTo>
                <a:cubicBezTo>
                  <a:pt x="1306890" y="160748"/>
                  <a:pt x="1387764" y="157018"/>
                  <a:pt x="1468582" y="152400"/>
                </a:cubicBezTo>
                <a:cubicBezTo>
                  <a:pt x="1528618" y="145473"/>
                  <a:pt x="1588494" y="136970"/>
                  <a:pt x="1648691" y="131619"/>
                </a:cubicBezTo>
                <a:cubicBezTo>
                  <a:pt x="1692452" y="127729"/>
                  <a:pt x="1736480" y="127714"/>
                  <a:pt x="1780309" y="124691"/>
                </a:cubicBezTo>
                <a:cubicBezTo>
                  <a:pt x="1803460" y="123094"/>
                  <a:pt x="1826491" y="120073"/>
                  <a:pt x="1849582" y="117764"/>
                </a:cubicBezTo>
                <a:lnTo>
                  <a:pt x="2334491" y="124691"/>
                </a:lnTo>
                <a:cubicBezTo>
                  <a:pt x="2366892" y="125462"/>
                  <a:pt x="2399422" y="126811"/>
                  <a:pt x="2431473" y="131619"/>
                </a:cubicBezTo>
                <a:cubicBezTo>
                  <a:pt x="2445915" y="133785"/>
                  <a:pt x="2458829" y="142090"/>
                  <a:pt x="2473036" y="145473"/>
                </a:cubicBezTo>
                <a:cubicBezTo>
                  <a:pt x="2507398" y="153654"/>
                  <a:pt x="2541895" y="161874"/>
                  <a:pt x="2576945" y="166255"/>
                </a:cubicBezTo>
                <a:cubicBezTo>
                  <a:pt x="2659954" y="176631"/>
                  <a:pt x="2613812" y="171636"/>
                  <a:pt x="2715491" y="180109"/>
                </a:cubicBezTo>
                <a:cubicBezTo>
                  <a:pt x="2727036" y="182418"/>
                  <a:pt x="2738353" y="187037"/>
                  <a:pt x="2750127" y="187037"/>
                </a:cubicBezTo>
                <a:cubicBezTo>
                  <a:pt x="3257064" y="187037"/>
                  <a:pt x="3135817" y="196056"/>
                  <a:pt x="3387436" y="173182"/>
                </a:cubicBezTo>
                <a:cubicBezTo>
                  <a:pt x="3464124" y="157845"/>
                  <a:pt x="3476177" y="156952"/>
                  <a:pt x="3560618" y="131619"/>
                </a:cubicBezTo>
                <a:cubicBezTo>
                  <a:pt x="3644055" y="106588"/>
                  <a:pt x="3542596" y="126540"/>
                  <a:pt x="3636818" y="110837"/>
                </a:cubicBezTo>
                <a:cubicBezTo>
                  <a:pt x="3650673" y="103910"/>
                  <a:pt x="3664227" y="96346"/>
                  <a:pt x="3678382" y="90055"/>
                </a:cubicBezTo>
                <a:cubicBezTo>
                  <a:pt x="3698119" y="81283"/>
                  <a:pt x="3753965" y="70464"/>
                  <a:pt x="3761509" y="69273"/>
                </a:cubicBezTo>
                <a:cubicBezTo>
                  <a:pt x="3840299" y="56832"/>
                  <a:pt x="3810590" y="68652"/>
                  <a:pt x="3872345" y="55419"/>
                </a:cubicBezTo>
                <a:cubicBezTo>
                  <a:pt x="4040909" y="19298"/>
                  <a:pt x="3823966" y="62853"/>
                  <a:pt x="3976254" y="27709"/>
                </a:cubicBezTo>
                <a:cubicBezTo>
                  <a:pt x="3998818" y="22502"/>
                  <a:pt x="4053403" y="16188"/>
                  <a:pt x="4073236" y="13855"/>
                </a:cubicBezTo>
                <a:cubicBezTo>
                  <a:pt x="4172166" y="2217"/>
                  <a:pt x="4098987" y="12156"/>
                  <a:pt x="4184073" y="0"/>
                </a:cubicBezTo>
                <a:lnTo>
                  <a:pt x="5223164" y="6928"/>
                </a:lnTo>
                <a:cubicBezTo>
                  <a:pt x="5248667" y="7245"/>
                  <a:pt x="5273974" y="11437"/>
                  <a:pt x="5299364" y="13855"/>
                </a:cubicBezTo>
                <a:cubicBezTo>
                  <a:pt x="5357259" y="19369"/>
                  <a:pt x="5415081" y="25564"/>
                  <a:pt x="5472545" y="34637"/>
                </a:cubicBezTo>
                <a:cubicBezTo>
                  <a:pt x="5500293" y="39018"/>
                  <a:pt x="5527588" y="47884"/>
                  <a:pt x="5555673" y="48491"/>
                </a:cubicBezTo>
                <a:cubicBezTo>
                  <a:pt x="5955079" y="57127"/>
                  <a:pt x="6354618" y="57728"/>
                  <a:pt x="6754091" y="62346"/>
                </a:cubicBezTo>
                <a:cubicBezTo>
                  <a:pt x="6774873" y="64655"/>
                  <a:pt x="6796151" y="64202"/>
                  <a:pt x="6816436" y="69273"/>
                </a:cubicBezTo>
                <a:cubicBezTo>
                  <a:pt x="6824513" y="71292"/>
                  <a:pt x="6828952" y="82136"/>
                  <a:pt x="6837218" y="83128"/>
                </a:cubicBezTo>
                <a:cubicBezTo>
                  <a:pt x="6887708" y="89187"/>
                  <a:pt x="6938818" y="87746"/>
                  <a:pt x="6989618" y="90055"/>
                </a:cubicBezTo>
                <a:cubicBezTo>
                  <a:pt x="7055488" y="98288"/>
                  <a:pt x="7060188" y="96957"/>
                  <a:pt x="7135091" y="117764"/>
                </a:cubicBezTo>
                <a:cubicBezTo>
                  <a:pt x="7252258" y="150311"/>
                  <a:pt x="7089738" y="115622"/>
                  <a:pt x="7204364" y="138546"/>
                </a:cubicBezTo>
                <a:cubicBezTo>
                  <a:pt x="7263245" y="177800"/>
                  <a:pt x="7172035" y="113145"/>
                  <a:pt x="7252854" y="193964"/>
                </a:cubicBezTo>
                <a:cubicBezTo>
                  <a:pt x="7308208" y="249318"/>
                  <a:pt x="7234166" y="171916"/>
                  <a:pt x="7294418" y="249382"/>
                </a:cubicBezTo>
                <a:cubicBezTo>
                  <a:pt x="7302437" y="259693"/>
                  <a:pt x="7312891" y="267855"/>
                  <a:pt x="7322127" y="277091"/>
                </a:cubicBezTo>
                <a:cubicBezTo>
                  <a:pt x="7344420" y="343974"/>
                  <a:pt x="7308675" y="240000"/>
                  <a:pt x="7342909" y="325582"/>
                </a:cubicBezTo>
                <a:cubicBezTo>
                  <a:pt x="7362444" y="374418"/>
                  <a:pt x="7351437" y="371508"/>
                  <a:pt x="7384473" y="422564"/>
                </a:cubicBezTo>
                <a:cubicBezTo>
                  <a:pt x="7399931" y="446454"/>
                  <a:pt x="7453109" y="509602"/>
                  <a:pt x="7474527" y="533400"/>
                </a:cubicBezTo>
                <a:cubicBezTo>
                  <a:pt x="7513430" y="576626"/>
                  <a:pt x="7475142" y="533840"/>
                  <a:pt x="7523018" y="568037"/>
                </a:cubicBezTo>
                <a:cubicBezTo>
                  <a:pt x="7541444" y="581199"/>
                  <a:pt x="7581959" y="637427"/>
                  <a:pt x="7585364" y="644237"/>
                </a:cubicBezTo>
                <a:cubicBezTo>
                  <a:pt x="7589982" y="653473"/>
                  <a:pt x="7595150" y="662454"/>
                  <a:pt x="7599218" y="671946"/>
                </a:cubicBezTo>
                <a:cubicBezTo>
                  <a:pt x="7614769" y="708232"/>
                  <a:pt x="7596811" y="678579"/>
                  <a:pt x="7613073" y="727364"/>
                </a:cubicBezTo>
                <a:cubicBezTo>
                  <a:pt x="7616339" y="737161"/>
                  <a:pt x="7622309" y="745837"/>
                  <a:pt x="7626927" y="755073"/>
                </a:cubicBezTo>
                <a:cubicBezTo>
                  <a:pt x="7631545" y="787400"/>
                  <a:pt x="7634378" y="820034"/>
                  <a:pt x="7640782" y="852055"/>
                </a:cubicBezTo>
                <a:cubicBezTo>
                  <a:pt x="7645400" y="875146"/>
                  <a:pt x="7651055" y="898054"/>
                  <a:pt x="7654636" y="921328"/>
                </a:cubicBezTo>
                <a:cubicBezTo>
                  <a:pt x="7660298" y="958128"/>
                  <a:pt x="7668491" y="1032164"/>
                  <a:pt x="7668491" y="1032164"/>
                </a:cubicBezTo>
                <a:cubicBezTo>
                  <a:pt x="7677727" y="1323109"/>
                  <a:pt x="7683556" y="1614183"/>
                  <a:pt x="7696200" y="1905000"/>
                </a:cubicBezTo>
                <a:cubicBezTo>
                  <a:pt x="7697420" y="1933065"/>
                  <a:pt x="7706190" y="1960304"/>
                  <a:pt x="7710054" y="1988128"/>
                </a:cubicBezTo>
                <a:cubicBezTo>
                  <a:pt x="7717737" y="2043446"/>
                  <a:pt x="7719882" y="2099617"/>
                  <a:pt x="7730836" y="2154382"/>
                </a:cubicBezTo>
                <a:cubicBezTo>
                  <a:pt x="7733145" y="2165928"/>
                  <a:pt x="7734381" y="2177741"/>
                  <a:pt x="7737764" y="2189019"/>
                </a:cubicBezTo>
                <a:cubicBezTo>
                  <a:pt x="7741337" y="2200929"/>
                  <a:pt x="7747000" y="2212110"/>
                  <a:pt x="7751618" y="2223655"/>
                </a:cubicBezTo>
                <a:cubicBezTo>
                  <a:pt x="7749309" y="2403764"/>
                  <a:pt x="7748978" y="2583909"/>
                  <a:pt x="7744691" y="2763982"/>
                </a:cubicBezTo>
                <a:cubicBezTo>
                  <a:pt x="7743761" y="2803058"/>
                  <a:pt x="7727237" y="2829801"/>
                  <a:pt x="7716982" y="2867891"/>
                </a:cubicBezTo>
                <a:cubicBezTo>
                  <a:pt x="7706498" y="2906831"/>
                  <a:pt x="7698735" y="2946454"/>
                  <a:pt x="7689273" y="2985655"/>
                </a:cubicBezTo>
                <a:cubicBezTo>
                  <a:pt x="7682571" y="3013419"/>
                  <a:pt x="7677523" y="3041686"/>
                  <a:pt x="7668491" y="3068782"/>
                </a:cubicBezTo>
                <a:cubicBezTo>
                  <a:pt x="7666182" y="3075709"/>
                  <a:pt x="7664530" y="3082891"/>
                  <a:pt x="7661564" y="3089564"/>
                </a:cubicBezTo>
                <a:cubicBezTo>
                  <a:pt x="7655273" y="3103719"/>
                  <a:pt x="7647139" y="3117002"/>
                  <a:pt x="7640782" y="3131128"/>
                </a:cubicBezTo>
                <a:cubicBezTo>
                  <a:pt x="7626349" y="3163201"/>
                  <a:pt x="7620320" y="3199972"/>
                  <a:pt x="7599218" y="3228109"/>
                </a:cubicBezTo>
                <a:cubicBezTo>
                  <a:pt x="7592291" y="3237346"/>
                  <a:pt x="7584043" y="3245726"/>
                  <a:pt x="7578436" y="3255819"/>
                </a:cubicBezTo>
                <a:cubicBezTo>
                  <a:pt x="7572397" y="3266689"/>
                  <a:pt x="7569632" y="3279092"/>
                  <a:pt x="7564582" y="3290455"/>
                </a:cubicBezTo>
                <a:cubicBezTo>
                  <a:pt x="7560388" y="3299892"/>
                  <a:pt x="7554562" y="3308576"/>
                  <a:pt x="7550727" y="3318164"/>
                </a:cubicBezTo>
                <a:cubicBezTo>
                  <a:pt x="7524744" y="3383121"/>
                  <a:pt x="7548591" y="3362577"/>
                  <a:pt x="7488382" y="3442855"/>
                </a:cubicBezTo>
                <a:cubicBezTo>
                  <a:pt x="7481455" y="3452091"/>
                  <a:pt x="7476111" y="3462762"/>
                  <a:pt x="7467600" y="3470564"/>
                </a:cubicBezTo>
                <a:cubicBezTo>
                  <a:pt x="7448192" y="3488354"/>
                  <a:pt x="7425687" y="3502453"/>
                  <a:pt x="7405254" y="3519055"/>
                </a:cubicBezTo>
                <a:cubicBezTo>
                  <a:pt x="7388732" y="3532480"/>
                  <a:pt x="7374724" y="3549190"/>
                  <a:pt x="7356764" y="3560619"/>
                </a:cubicBezTo>
                <a:cubicBezTo>
                  <a:pt x="7331364" y="3576782"/>
                  <a:pt x="7301853" y="3587820"/>
                  <a:pt x="7280564" y="3609109"/>
                </a:cubicBezTo>
                <a:cubicBezTo>
                  <a:pt x="7222140" y="3667533"/>
                  <a:pt x="7279546" y="3613750"/>
                  <a:pt x="7232073" y="3650673"/>
                </a:cubicBezTo>
                <a:cubicBezTo>
                  <a:pt x="7203612" y="3672809"/>
                  <a:pt x="7181606" y="3696688"/>
                  <a:pt x="7148945" y="3713019"/>
                </a:cubicBezTo>
                <a:cubicBezTo>
                  <a:pt x="7140430" y="3717277"/>
                  <a:pt x="7130214" y="3716777"/>
                  <a:pt x="7121236" y="3719946"/>
                </a:cubicBezTo>
                <a:cubicBezTo>
                  <a:pt x="7090908" y="3730650"/>
                  <a:pt x="7061814" y="3744780"/>
                  <a:pt x="7031182" y="3754582"/>
                </a:cubicBezTo>
                <a:cubicBezTo>
                  <a:pt x="6959153" y="3777631"/>
                  <a:pt x="6949166" y="3775253"/>
                  <a:pt x="6878782" y="3782291"/>
                </a:cubicBezTo>
                <a:cubicBezTo>
                  <a:pt x="6848376" y="3781243"/>
                  <a:pt x="6691840" y="3781863"/>
                  <a:pt x="6622473" y="3768437"/>
                </a:cubicBezTo>
                <a:cubicBezTo>
                  <a:pt x="6395420" y="3724491"/>
                  <a:pt x="6537357" y="3740546"/>
                  <a:pt x="6386945" y="3726873"/>
                </a:cubicBezTo>
                <a:lnTo>
                  <a:pt x="5257800" y="3747655"/>
                </a:lnTo>
                <a:cubicBezTo>
                  <a:pt x="5202346" y="3748841"/>
                  <a:pt x="5147011" y="3754759"/>
                  <a:pt x="5091545" y="3754582"/>
                </a:cubicBezTo>
                <a:lnTo>
                  <a:pt x="3089564" y="3740728"/>
                </a:lnTo>
                <a:lnTo>
                  <a:pt x="1302327" y="3733800"/>
                </a:lnTo>
                <a:cubicBezTo>
                  <a:pt x="1185546" y="3723184"/>
                  <a:pt x="1173831" y="3721502"/>
                  <a:pt x="1018309" y="3713019"/>
                </a:cubicBezTo>
                <a:cubicBezTo>
                  <a:pt x="960621" y="3709872"/>
                  <a:pt x="902854" y="3708400"/>
                  <a:pt x="845127" y="3706091"/>
                </a:cubicBezTo>
                <a:cubicBezTo>
                  <a:pt x="824345" y="3703782"/>
                  <a:pt x="803333" y="3703017"/>
                  <a:pt x="782782" y="3699164"/>
                </a:cubicBezTo>
                <a:cubicBezTo>
                  <a:pt x="766259" y="3696066"/>
                  <a:pt x="750728" y="3688831"/>
                  <a:pt x="734291" y="3685309"/>
                </a:cubicBezTo>
                <a:cubicBezTo>
                  <a:pt x="718326" y="3681888"/>
                  <a:pt x="701964" y="3680691"/>
                  <a:pt x="685800" y="3678382"/>
                </a:cubicBezTo>
                <a:cubicBezTo>
                  <a:pt x="639350" y="3655158"/>
                  <a:pt x="677537" y="3671747"/>
                  <a:pt x="630382" y="3657600"/>
                </a:cubicBezTo>
                <a:cubicBezTo>
                  <a:pt x="616394" y="3653404"/>
                  <a:pt x="602673" y="3648364"/>
                  <a:pt x="588818" y="3643746"/>
                </a:cubicBezTo>
                <a:cubicBezTo>
                  <a:pt x="581891" y="3641437"/>
                  <a:pt x="575196" y="3638251"/>
                  <a:pt x="568036" y="3636819"/>
                </a:cubicBezTo>
                <a:cubicBezTo>
                  <a:pt x="515145" y="3626240"/>
                  <a:pt x="545083" y="3631351"/>
                  <a:pt x="477982" y="3622964"/>
                </a:cubicBezTo>
                <a:cubicBezTo>
                  <a:pt x="471055" y="3620655"/>
                  <a:pt x="464328" y="3617621"/>
                  <a:pt x="457200" y="3616037"/>
                </a:cubicBezTo>
                <a:cubicBezTo>
                  <a:pt x="431507" y="3610327"/>
                  <a:pt x="384199" y="3605180"/>
                  <a:pt x="360218" y="3602182"/>
                </a:cubicBezTo>
                <a:cubicBezTo>
                  <a:pt x="353291" y="3597564"/>
                  <a:pt x="346883" y="3592051"/>
                  <a:pt x="339436" y="3588328"/>
                </a:cubicBezTo>
                <a:cubicBezTo>
                  <a:pt x="332905" y="3585062"/>
                  <a:pt x="324994" y="3585023"/>
                  <a:pt x="318654" y="3581400"/>
                </a:cubicBezTo>
                <a:cubicBezTo>
                  <a:pt x="308630" y="3575672"/>
                  <a:pt x="300969" y="3566347"/>
                  <a:pt x="290945" y="3560619"/>
                </a:cubicBezTo>
                <a:cubicBezTo>
                  <a:pt x="284605" y="3556996"/>
                  <a:pt x="276695" y="3556957"/>
                  <a:pt x="270164" y="3553691"/>
                </a:cubicBezTo>
                <a:cubicBezTo>
                  <a:pt x="262717" y="3549968"/>
                  <a:pt x="256309" y="3544455"/>
                  <a:pt x="249382" y="3539837"/>
                </a:cubicBezTo>
                <a:cubicBezTo>
                  <a:pt x="247073" y="3532910"/>
                  <a:pt x="246000" y="3525438"/>
                  <a:pt x="242454" y="3519055"/>
                </a:cubicBezTo>
                <a:cubicBezTo>
                  <a:pt x="234367" y="3504499"/>
                  <a:pt x="228066" y="3487482"/>
                  <a:pt x="214745" y="3477491"/>
                </a:cubicBezTo>
                <a:cubicBezTo>
                  <a:pt x="180376" y="3451714"/>
                  <a:pt x="196643" y="3463113"/>
                  <a:pt x="166254" y="3442855"/>
                </a:cubicBezTo>
                <a:cubicBezTo>
                  <a:pt x="161636" y="3435928"/>
                  <a:pt x="155679" y="3429725"/>
                  <a:pt x="152400" y="3422073"/>
                </a:cubicBezTo>
                <a:cubicBezTo>
                  <a:pt x="148136" y="3412123"/>
                  <a:pt x="140516" y="3367612"/>
                  <a:pt x="138545" y="3359728"/>
                </a:cubicBezTo>
                <a:cubicBezTo>
                  <a:pt x="126998" y="3313543"/>
                  <a:pt x="133161" y="3369381"/>
                  <a:pt x="124691" y="3297382"/>
                </a:cubicBezTo>
                <a:cubicBezTo>
                  <a:pt x="121711" y="3272052"/>
                  <a:pt x="121957" y="3246340"/>
                  <a:pt x="117764" y="3221182"/>
                </a:cubicBezTo>
                <a:cubicBezTo>
                  <a:pt x="115000" y="3204600"/>
                  <a:pt x="108527" y="3188855"/>
                  <a:pt x="103909" y="3172691"/>
                </a:cubicBezTo>
                <a:cubicBezTo>
                  <a:pt x="101600" y="3142673"/>
                  <a:pt x="99978" y="3112594"/>
                  <a:pt x="96982" y="3082637"/>
                </a:cubicBezTo>
                <a:cubicBezTo>
                  <a:pt x="95357" y="3066390"/>
                  <a:pt x="90278" y="3050472"/>
                  <a:pt x="90054" y="3034146"/>
                </a:cubicBezTo>
                <a:cubicBezTo>
                  <a:pt x="85657" y="2713204"/>
                  <a:pt x="87435" y="2392198"/>
                  <a:pt x="83127" y="2071255"/>
                </a:cubicBezTo>
                <a:cubicBezTo>
                  <a:pt x="82816" y="2048051"/>
                  <a:pt x="79078" y="2025009"/>
                  <a:pt x="76200" y="2001982"/>
                </a:cubicBezTo>
                <a:cubicBezTo>
                  <a:pt x="71323" y="1962968"/>
                  <a:pt x="72025" y="1968674"/>
                  <a:pt x="62345" y="1939637"/>
                </a:cubicBezTo>
                <a:cubicBezTo>
                  <a:pt x="60036" y="1925782"/>
                  <a:pt x="58576" y="1911759"/>
                  <a:pt x="55418" y="1898073"/>
                </a:cubicBezTo>
                <a:cubicBezTo>
                  <a:pt x="44714" y="1851689"/>
                  <a:pt x="28609" y="1806483"/>
                  <a:pt x="20782" y="1759528"/>
                </a:cubicBezTo>
                <a:cubicBezTo>
                  <a:pt x="10723" y="1699182"/>
                  <a:pt x="17260" y="1731590"/>
                  <a:pt x="0" y="1662546"/>
                </a:cubicBezTo>
                <a:cubicBezTo>
                  <a:pt x="2309" y="1570182"/>
                  <a:pt x="781" y="1477643"/>
                  <a:pt x="6927" y="1385455"/>
                </a:cubicBezTo>
                <a:cubicBezTo>
                  <a:pt x="7754" y="1373048"/>
                  <a:pt x="17366" y="1362775"/>
                  <a:pt x="20782" y="1350819"/>
                </a:cubicBezTo>
                <a:cubicBezTo>
                  <a:pt x="26630" y="1330349"/>
                  <a:pt x="29760" y="1309196"/>
                  <a:pt x="34636" y="1288473"/>
                </a:cubicBezTo>
                <a:cubicBezTo>
                  <a:pt x="38997" y="1269938"/>
                  <a:pt x="43260" y="1251364"/>
                  <a:pt x="48491" y="1233055"/>
                </a:cubicBezTo>
                <a:cubicBezTo>
                  <a:pt x="52503" y="1219013"/>
                  <a:pt x="57727" y="1205346"/>
                  <a:pt x="62345" y="1191491"/>
                </a:cubicBezTo>
                <a:cubicBezTo>
                  <a:pt x="64654" y="1184564"/>
                  <a:pt x="65223" y="1176785"/>
                  <a:pt x="69273" y="1170709"/>
                </a:cubicBezTo>
                <a:cubicBezTo>
                  <a:pt x="90025" y="1139581"/>
                  <a:pt x="80035" y="1157658"/>
                  <a:pt x="96982" y="1115291"/>
                </a:cubicBezTo>
                <a:cubicBezTo>
                  <a:pt x="115110" y="1006520"/>
                  <a:pt x="90317" y="1141956"/>
                  <a:pt x="117764" y="1032164"/>
                </a:cubicBezTo>
                <a:cubicBezTo>
                  <a:pt x="134634" y="964682"/>
                  <a:pt x="124546" y="994425"/>
                  <a:pt x="145473" y="942109"/>
                </a:cubicBezTo>
                <a:cubicBezTo>
                  <a:pt x="149427" y="922337"/>
                  <a:pt x="153458" y="899327"/>
                  <a:pt x="159327" y="879764"/>
                </a:cubicBezTo>
                <a:cubicBezTo>
                  <a:pt x="163523" y="865776"/>
                  <a:pt x="168986" y="852188"/>
                  <a:pt x="173182" y="838200"/>
                </a:cubicBezTo>
                <a:cubicBezTo>
                  <a:pt x="175918" y="829081"/>
                  <a:pt x="177373" y="819610"/>
                  <a:pt x="180109" y="810491"/>
                </a:cubicBezTo>
                <a:cubicBezTo>
                  <a:pt x="205407" y="726166"/>
                  <a:pt x="184925" y="805085"/>
                  <a:pt x="200891" y="741219"/>
                </a:cubicBezTo>
                <a:cubicBezTo>
                  <a:pt x="205509" y="704273"/>
                  <a:pt x="205714" y="666503"/>
                  <a:pt x="214745" y="630382"/>
                </a:cubicBezTo>
                <a:cubicBezTo>
                  <a:pt x="217054" y="621146"/>
                  <a:pt x="219057" y="611827"/>
                  <a:pt x="221673" y="602673"/>
                </a:cubicBezTo>
                <a:cubicBezTo>
                  <a:pt x="223679" y="595652"/>
                  <a:pt x="226502" y="588885"/>
                  <a:pt x="228600" y="581891"/>
                </a:cubicBezTo>
                <a:cubicBezTo>
                  <a:pt x="233430" y="565789"/>
                  <a:pt x="238031" y="549618"/>
                  <a:pt x="242454" y="533400"/>
                </a:cubicBezTo>
                <a:cubicBezTo>
                  <a:pt x="251938" y="498625"/>
                  <a:pt x="255320" y="476000"/>
                  <a:pt x="263236" y="436419"/>
                </a:cubicBezTo>
                <a:cubicBezTo>
                  <a:pt x="267854" y="383310"/>
                  <a:pt x="260234" y="327665"/>
                  <a:pt x="277091" y="277091"/>
                </a:cubicBezTo>
                <a:cubicBezTo>
                  <a:pt x="279400" y="270164"/>
                  <a:pt x="278855" y="261472"/>
                  <a:pt x="284018" y="256309"/>
                </a:cubicBezTo>
                <a:cubicBezTo>
                  <a:pt x="289181" y="251146"/>
                  <a:pt x="312881" y="233218"/>
                  <a:pt x="318654" y="22860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Text Box 15" descr=""/>
          <p:cNvPicPr/>
          <p:nvPr/>
        </p:nvPicPr>
        <p:blipFill>
          <a:blip r:embed="rId2"/>
          <a:stretch/>
        </p:blipFill>
        <p:spPr>
          <a:xfrm>
            <a:off x="1046160" y="61920"/>
            <a:ext cx="2151000" cy="1071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1131840"/>
            <a:ext cx="748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本文描写了一只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开店，可是她不管卖什么都觉得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总想换个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来做，最后开店失败了。这件事告诉我们生活中不想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，总想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_________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是行不通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788000" y="11318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蜘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788000" y="1776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麻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062000" y="2394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简单的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216400" y="303228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真心付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403280" y="365616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投机取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36"/>
          <p:cNvSpPr/>
          <p:nvPr/>
        </p:nvSpPr>
        <p:spPr>
          <a:xfrm rot="16248600">
            <a:off x="5927040" y="131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3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51"/>
          <p:cNvSpPr/>
          <p:nvPr/>
        </p:nvSpPr>
        <p:spPr>
          <a:xfrm rot="16248600">
            <a:off x="843192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50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51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51"/>
          <p:cNvSpPr/>
          <p:nvPr/>
        </p:nvSpPr>
        <p:spPr>
          <a:xfrm rot="16248600">
            <a:off x="5911200" y="3430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62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63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64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68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7"/>
          <p:cNvSpPr/>
          <p:nvPr/>
        </p:nvSpPr>
        <p:spPr>
          <a:xfrm rot="18142800">
            <a:off x="6734160" y="338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85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86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87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2"/>
          <p:cNvSpPr/>
          <p:nvPr/>
        </p:nvSpPr>
        <p:spPr>
          <a:xfrm rot="4189800">
            <a:off x="282924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36"/>
          <p:cNvSpPr/>
          <p:nvPr/>
        </p:nvSpPr>
        <p:spPr>
          <a:xfrm rot="2809800">
            <a:off x="3877920" y="173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37"/>
          <p:cNvSpPr/>
          <p:nvPr/>
        </p:nvSpPr>
        <p:spPr>
          <a:xfrm rot="4009800">
            <a:off x="3877920" y="227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46"/>
          <p:cNvSpPr/>
          <p:nvPr/>
        </p:nvSpPr>
        <p:spPr>
          <a:xfrm rot="2809800">
            <a:off x="480816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32"/>
          <p:cNvSpPr/>
          <p:nvPr/>
        </p:nvSpPr>
        <p:spPr>
          <a:xfrm rot="5400000">
            <a:off x="1205280" y="3225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45"/>
          <p:cNvSpPr/>
          <p:nvPr/>
        </p:nvSpPr>
        <p:spPr>
          <a:xfrm rot="2809800">
            <a:off x="2874600" y="274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47"/>
          <p:cNvSpPr/>
          <p:nvPr/>
        </p:nvSpPr>
        <p:spPr>
          <a:xfrm rot="5220000">
            <a:off x="766080" y="289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49"/>
          <p:cNvSpPr/>
          <p:nvPr/>
        </p:nvSpPr>
        <p:spPr>
          <a:xfrm rot="4020000">
            <a:off x="2527920" y="3737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50"/>
          <p:cNvSpPr/>
          <p:nvPr/>
        </p:nvSpPr>
        <p:spPr>
          <a:xfrm rot="4020000">
            <a:off x="3766320" y="3363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51"/>
          <p:cNvSpPr/>
          <p:nvPr/>
        </p:nvSpPr>
        <p:spPr>
          <a:xfrm rot="4020000">
            <a:off x="4135680" y="357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45"/>
          <p:cNvSpPr/>
          <p:nvPr/>
        </p:nvSpPr>
        <p:spPr>
          <a:xfrm rot="2809800">
            <a:off x="2294640" y="153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46"/>
          <p:cNvSpPr/>
          <p:nvPr/>
        </p:nvSpPr>
        <p:spPr>
          <a:xfrm rot="2809800">
            <a:off x="2665440" y="174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9"/>
          <p:cNvSpPr/>
          <p:nvPr/>
        </p:nvSpPr>
        <p:spPr>
          <a:xfrm rot="2809800">
            <a:off x="3251880" y="196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50"/>
          <p:cNvSpPr/>
          <p:nvPr/>
        </p:nvSpPr>
        <p:spPr>
          <a:xfrm rot="2809800">
            <a:off x="3139560" y="240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51"/>
          <p:cNvSpPr/>
          <p:nvPr/>
        </p:nvSpPr>
        <p:spPr>
          <a:xfrm rot="2809800">
            <a:off x="3510000" y="2617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32"/>
          <p:cNvSpPr/>
          <p:nvPr/>
        </p:nvSpPr>
        <p:spPr>
          <a:xfrm rot="5400000">
            <a:off x="4815720" y="3679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: 圆角 1"/>
          <p:cNvSpPr/>
          <p:nvPr/>
        </p:nvSpPr>
        <p:spPr>
          <a:xfrm>
            <a:off x="681120" y="1071720"/>
            <a:ext cx="7778520" cy="39114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641520" y="1419120"/>
            <a:ext cx="77245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商店   蹲在   寂寞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口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编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顾客    付钱   工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交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长颈鹿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袜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匆忙   蜈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决定    终于   完成   星期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27"/>
          <p:cNvGrpSpPr/>
          <p:nvPr/>
        </p:nvGrpSpPr>
        <p:grpSpPr>
          <a:xfrm>
            <a:off x="3604680" y="342000"/>
            <a:ext cx="1960920" cy="628200"/>
            <a:chOff x="3604680" y="342000"/>
            <a:chExt cx="1960920" cy="628200"/>
          </a:xfrm>
        </p:grpSpPr>
        <p:sp>
          <p:nvSpPr>
            <p:cNvPr id="304" name="矩形: 圆角 28"/>
            <p:cNvSpPr/>
            <p:nvPr/>
          </p:nvSpPr>
          <p:spPr>
            <a:xfrm rot="21177000">
              <a:off x="3635280" y="375840"/>
              <a:ext cx="590400" cy="5353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: 圆角 29"/>
            <p:cNvSpPr/>
            <p:nvPr/>
          </p:nvSpPr>
          <p:spPr>
            <a:xfrm rot="432000">
              <a:off x="4292280" y="38664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: 圆角 30"/>
            <p:cNvSpPr/>
            <p:nvPr/>
          </p:nvSpPr>
          <p:spPr>
            <a:xfrm rot="21187800">
              <a:off x="4943520" y="401400"/>
              <a:ext cx="592200" cy="535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7"/>
          <p:cNvSpPr/>
          <p:nvPr/>
        </p:nvSpPr>
        <p:spPr>
          <a:xfrm>
            <a:off x="641520" y="1422360"/>
            <a:ext cx="77245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商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蹲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在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寂寞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口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编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客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付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钱   工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交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颈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鹿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子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忙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蜈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决定    终于   完成   星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36"/>
          <p:cNvSpPr/>
          <p:nvPr/>
        </p:nvSpPr>
        <p:spPr>
          <a:xfrm>
            <a:off x="1014480" y="1174680"/>
            <a:ext cx="102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i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6"/>
          <p:cNvSpPr/>
          <p:nvPr/>
        </p:nvSpPr>
        <p:spPr>
          <a:xfrm>
            <a:off x="2124000" y="11746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ū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36"/>
          <p:cNvSpPr/>
          <p:nvPr/>
        </p:nvSpPr>
        <p:spPr>
          <a:xfrm>
            <a:off x="3805200" y="115236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36"/>
          <p:cNvSpPr/>
          <p:nvPr/>
        </p:nvSpPr>
        <p:spPr>
          <a:xfrm>
            <a:off x="4351320" y="113832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m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6"/>
          <p:cNvSpPr/>
          <p:nvPr/>
        </p:nvSpPr>
        <p:spPr>
          <a:xfrm>
            <a:off x="5837400" y="11523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zhà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6"/>
          <p:cNvSpPr/>
          <p:nvPr/>
        </p:nvSpPr>
        <p:spPr>
          <a:xfrm>
            <a:off x="7020000" y="11523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bi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36"/>
          <p:cNvSpPr/>
          <p:nvPr/>
        </p:nvSpPr>
        <p:spPr>
          <a:xfrm>
            <a:off x="1249200" y="2079720"/>
            <a:ext cx="10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ɡ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36"/>
          <p:cNvSpPr/>
          <p:nvPr/>
        </p:nvSpPr>
        <p:spPr>
          <a:xfrm>
            <a:off x="5129280" y="208296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6"/>
          <p:cNvSpPr/>
          <p:nvPr/>
        </p:nvSpPr>
        <p:spPr>
          <a:xfrm>
            <a:off x="6732720" y="202248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36"/>
          <p:cNvSpPr/>
          <p:nvPr/>
        </p:nvSpPr>
        <p:spPr>
          <a:xfrm>
            <a:off x="1576440" y="296532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ǐ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36"/>
          <p:cNvSpPr/>
          <p:nvPr/>
        </p:nvSpPr>
        <p:spPr>
          <a:xfrm>
            <a:off x="3151080" y="300672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w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36"/>
          <p:cNvSpPr/>
          <p:nvPr/>
        </p:nvSpPr>
        <p:spPr>
          <a:xfrm>
            <a:off x="4792680" y="298116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cō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6"/>
          <p:cNvSpPr/>
          <p:nvPr/>
        </p:nvSpPr>
        <p:spPr>
          <a:xfrm>
            <a:off x="6218280" y="29764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w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36"/>
          <p:cNvSpPr/>
          <p:nvPr/>
        </p:nvSpPr>
        <p:spPr>
          <a:xfrm>
            <a:off x="7062840" y="296244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ɡō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36"/>
          <p:cNvSpPr/>
          <p:nvPr/>
        </p:nvSpPr>
        <p:spPr>
          <a:xfrm>
            <a:off x="3056040" y="208908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4" name="Text Box 5" descr=""/>
          <p:cNvPicPr/>
          <p:nvPr/>
        </p:nvPicPr>
        <p:blipFill>
          <a:blip r:embed="rId3"/>
          <a:stretch/>
        </p:blipFill>
        <p:spPr>
          <a:xfrm>
            <a:off x="1403280" y="206676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325" name="Text Box 5" descr=""/>
          <p:cNvPicPr/>
          <p:nvPr/>
        </p:nvPicPr>
        <p:blipFill>
          <a:blip r:embed="rId4"/>
          <a:stretch/>
        </p:blipFill>
        <p:spPr>
          <a:xfrm>
            <a:off x="826920" y="325440"/>
            <a:ext cx="1008360" cy="830160"/>
          </a:xfrm>
          <a:prstGeom prst="rect">
            <a:avLst/>
          </a:prstGeom>
          <a:ln w="0">
            <a:noFill/>
          </a:ln>
        </p:spPr>
      </p:pic>
      <p:pic>
        <p:nvPicPr>
          <p:cNvPr id="326" name="Text Box 5" descr=""/>
          <p:cNvPicPr/>
          <p:nvPr/>
        </p:nvPicPr>
        <p:blipFill>
          <a:blip r:embed="rId5"/>
          <a:stretch/>
        </p:blipFill>
        <p:spPr>
          <a:xfrm>
            <a:off x="2071800" y="44784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327" name="Text Box 5" descr=""/>
          <p:cNvPicPr/>
          <p:nvPr/>
        </p:nvPicPr>
        <p:blipFill>
          <a:blip r:embed="rId6"/>
          <a:stretch/>
        </p:blipFill>
        <p:spPr>
          <a:xfrm>
            <a:off x="3274920" y="321948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328" name="Text Box 5" descr=""/>
          <p:cNvPicPr/>
          <p:nvPr/>
        </p:nvPicPr>
        <p:blipFill>
          <a:blip r:embed="rId7"/>
          <a:stretch/>
        </p:blipFill>
        <p:spPr>
          <a:xfrm>
            <a:off x="5291280" y="336384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329" name="Text Box 5" descr=""/>
          <p:cNvPicPr/>
          <p:nvPr/>
        </p:nvPicPr>
        <p:blipFill>
          <a:blip r:embed="rId8"/>
          <a:stretch/>
        </p:blipFill>
        <p:spPr>
          <a:xfrm>
            <a:off x="6804000" y="329076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330" name="Text Box 5" descr=""/>
          <p:cNvPicPr/>
          <p:nvPr/>
        </p:nvPicPr>
        <p:blipFill>
          <a:blip r:embed="rId9"/>
          <a:stretch/>
        </p:blipFill>
        <p:spPr>
          <a:xfrm>
            <a:off x="7812000" y="260028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331" name="Text Box 5" descr=""/>
          <p:cNvPicPr/>
          <p:nvPr/>
        </p:nvPicPr>
        <p:blipFill>
          <a:blip r:embed="rId10"/>
          <a:stretch/>
        </p:blipFill>
        <p:spPr>
          <a:xfrm>
            <a:off x="8116920" y="405936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332" name="Text Box 5" descr=""/>
          <p:cNvPicPr/>
          <p:nvPr/>
        </p:nvPicPr>
        <p:blipFill>
          <a:blip r:embed="rId11"/>
          <a:stretch/>
        </p:blipFill>
        <p:spPr>
          <a:xfrm>
            <a:off x="4648320" y="2246400"/>
            <a:ext cx="1008000" cy="831600"/>
          </a:xfrm>
          <a:prstGeom prst="rect">
            <a:avLst/>
          </a:prstGeom>
          <a:ln w="0">
            <a:noFill/>
          </a:ln>
        </p:spPr>
      </p:pic>
      <p:pic>
        <p:nvPicPr>
          <p:cNvPr id="333" name="Text Box 5" descr=""/>
          <p:cNvPicPr/>
          <p:nvPr/>
        </p:nvPicPr>
        <p:blipFill>
          <a:blip r:embed="rId12"/>
          <a:stretch/>
        </p:blipFill>
        <p:spPr>
          <a:xfrm>
            <a:off x="2952720" y="1649520"/>
            <a:ext cx="1008000" cy="831600"/>
          </a:xfrm>
          <a:prstGeom prst="rect">
            <a:avLst/>
          </a:prstGeom>
          <a:ln w="0">
            <a:noFill/>
          </a:ln>
        </p:spPr>
      </p:pic>
      <p:pic>
        <p:nvPicPr>
          <p:cNvPr id="334" name="Text Box 5" descr=""/>
          <p:cNvPicPr/>
          <p:nvPr/>
        </p:nvPicPr>
        <p:blipFill>
          <a:blip r:embed="rId13"/>
          <a:stretch/>
        </p:blipFill>
        <p:spPr>
          <a:xfrm>
            <a:off x="3780000" y="44784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335" name="Text Box 5" descr=""/>
          <p:cNvPicPr/>
          <p:nvPr/>
        </p:nvPicPr>
        <p:blipFill>
          <a:blip r:embed="rId14"/>
          <a:stretch/>
        </p:blipFill>
        <p:spPr>
          <a:xfrm>
            <a:off x="4605480" y="113040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336" name="Text Box 5" descr=""/>
          <p:cNvPicPr/>
          <p:nvPr/>
        </p:nvPicPr>
        <p:blipFill>
          <a:blip r:embed="rId15"/>
          <a:stretch/>
        </p:blipFill>
        <p:spPr>
          <a:xfrm>
            <a:off x="5553000" y="159696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337" name="Text Box 5" descr=""/>
          <p:cNvPicPr/>
          <p:nvPr/>
        </p:nvPicPr>
        <p:blipFill>
          <a:blip r:embed="rId16"/>
          <a:stretch/>
        </p:blipFill>
        <p:spPr>
          <a:xfrm>
            <a:off x="6507000" y="1596960"/>
            <a:ext cx="1008360" cy="830160"/>
          </a:xfrm>
          <a:prstGeom prst="rect">
            <a:avLst/>
          </a:prstGeom>
          <a:ln w="0">
            <a:noFill/>
          </a:ln>
        </p:spPr>
      </p:pic>
      <p:pic>
        <p:nvPicPr>
          <p:cNvPr id="338" name="Text Box 5" descr=""/>
          <p:cNvPicPr/>
          <p:nvPr/>
        </p:nvPicPr>
        <p:blipFill>
          <a:blip r:embed="rId17"/>
          <a:stretch/>
        </p:blipFill>
        <p:spPr>
          <a:xfrm>
            <a:off x="5559480" y="417600"/>
            <a:ext cx="100800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95062E-006 L 0.63454 -0.30463 E">
                                      <p:cBhvr>
                                        <p:cTn id="246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9753E-006 L 0.69757 0.02253 E">
                                      <p:cBhvr>
                                        <p:cTn id="258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877E-006 L 0.2092 -0.57068 E">
                                      <p:cBhvr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23457E-006 L 0.56128 0.00926 E">
                                      <p:cBhvr>
                                        <p:cTn id="282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6.17284E-007 L 0.07638 -0.22716 E">
                                      <p:cBhvr>
                                        <p:cTn id="294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6.17284E-007 L 0.18923 -0.21296 E">
                                      <p:cBhvr>
                                        <p:cTn id="306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802E-006 L 0.28437 -0.12222 E">
                                      <p:cBhvr>
                                        <p:cTn id="318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3457E-006 L 0.37465 -0.00401 E">
                                      <p:cBhvr>
                                        <p:cTn id="330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20988E-006 L 0.4717 -0.23765 E">
                                      <p:cBhvr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28628 -0.3537 E">
                                      <p:cBhvr>
                                        <p:cTn id="35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7284E-006 L -0.09115 -0.70617 E">
                                      <p:cBhvr>
                                        <p:cTn id="366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46914E-007 L -0.05781 -0.43642 E">
                                      <p:cBhvr>
                                        <p:cTn id="378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9.87654E-007 L 0.03212 -0.55679 E">
                                      <p:cBhvr>
                                        <p:cTn id="39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23457E-007 L 0.42968 -0.5429 E">
                                      <p:cBhvr>
                                        <p:cTn id="402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L 0.17101 0.00185 E">
                                      <p:cBhvr>
                                        <p:cTn id="414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ext Box 15" descr=""/>
          <p:cNvPicPr/>
          <p:nvPr/>
        </p:nvPicPr>
        <p:blipFill>
          <a:blip r:embed="rId2"/>
          <a:stretch/>
        </p:blipFill>
        <p:spPr>
          <a:xfrm>
            <a:off x="939960" y="79200"/>
            <a:ext cx="2151000" cy="107028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7"/>
          <p:cNvGrpSpPr/>
          <p:nvPr/>
        </p:nvGrpSpPr>
        <p:grpSpPr>
          <a:xfrm>
            <a:off x="2055960" y="1211400"/>
            <a:ext cx="836640" cy="882360"/>
            <a:chOff x="2055960" y="1211400"/>
            <a:chExt cx="836640" cy="882360"/>
          </a:xfrm>
        </p:grpSpPr>
        <p:grpSp>
          <p:nvGrpSpPr>
            <p:cNvPr id="341" name="组合 7"/>
            <p:cNvGrpSpPr/>
            <p:nvPr/>
          </p:nvGrpSpPr>
          <p:grpSpPr>
            <a:xfrm>
              <a:off x="2055960" y="1243080"/>
              <a:ext cx="836640" cy="850680"/>
              <a:chOff x="2055960" y="1243080"/>
              <a:chExt cx="836640" cy="850680"/>
            </a:xfrm>
          </p:grpSpPr>
          <p:sp>
            <p:nvSpPr>
              <p:cNvPr id="342" name="矩形 1"/>
              <p:cNvSpPr/>
              <p:nvPr/>
            </p:nvSpPr>
            <p:spPr>
              <a:xfrm>
                <a:off x="205596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接连接符 4"/>
              <p:cNvSpPr/>
              <p:nvPr/>
            </p:nvSpPr>
            <p:spPr>
              <a:xfrm>
                <a:off x="205596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直接连接符 6"/>
              <p:cNvSpPr/>
              <p:nvPr/>
            </p:nvSpPr>
            <p:spPr>
              <a:xfrm>
                <a:off x="247464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5" name="文本框 64"/>
            <p:cNvSpPr/>
            <p:nvPr/>
          </p:nvSpPr>
          <p:spPr>
            <a:xfrm>
              <a:off x="2081160" y="12114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店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10"/>
          <p:cNvGrpSpPr/>
          <p:nvPr/>
        </p:nvGrpSpPr>
        <p:grpSpPr>
          <a:xfrm>
            <a:off x="3151080" y="1209600"/>
            <a:ext cx="836640" cy="884160"/>
            <a:chOff x="3151080" y="1209600"/>
            <a:chExt cx="836640" cy="884160"/>
          </a:xfrm>
        </p:grpSpPr>
        <p:grpSp>
          <p:nvGrpSpPr>
            <p:cNvPr id="347" name="组合 7"/>
            <p:cNvGrpSpPr/>
            <p:nvPr/>
          </p:nvGrpSpPr>
          <p:grpSpPr>
            <a:xfrm>
              <a:off x="3151080" y="1242720"/>
              <a:ext cx="836640" cy="851040"/>
              <a:chOff x="3151080" y="1242720"/>
              <a:chExt cx="836640" cy="851040"/>
            </a:xfrm>
          </p:grpSpPr>
          <p:sp>
            <p:nvSpPr>
              <p:cNvPr id="348" name="矩形 1"/>
              <p:cNvSpPr/>
              <p:nvPr/>
            </p:nvSpPr>
            <p:spPr>
              <a:xfrm>
                <a:off x="3151080" y="124272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直接连接符 4"/>
              <p:cNvSpPr/>
              <p:nvPr/>
            </p:nvSpPr>
            <p:spPr>
              <a:xfrm>
                <a:off x="3151080" y="1654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直接连接符 6"/>
              <p:cNvSpPr/>
              <p:nvPr/>
            </p:nvSpPr>
            <p:spPr>
              <a:xfrm>
                <a:off x="3569760" y="1256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1" name="文本框 64"/>
            <p:cNvSpPr/>
            <p:nvPr/>
          </p:nvSpPr>
          <p:spPr>
            <a:xfrm>
              <a:off x="3176280" y="12096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决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11"/>
          <p:cNvGrpSpPr/>
          <p:nvPr/>
        </p:nvGrpSpPr>
        <p:grpSpPr>
          <a:xfrm>
            <a:off x="4230720" y="1211400"/>
            <a:ext cx="836640" cy="882360"/>
            <a:chOff x="4230720" y="1211400"/>
            <a:chExt cx="836640" cy="882360"/>
          </a:xfrm>
        </p:grpSpPr>
        <p:grpSp>
          <p:nvGrpSpPr>
            <p:cNvPr id="353" name="组合 7"/>
            <p:cNvGrpSpPr/>
            <p:nvPr/>
          </p:nvGrpSpPr>
          <p:grpSpPr>
            <a:xfrm>
              <a:off x="4230720" y="1243080"/>
              <a:ext cx="836640" cy="850680"/>
              <a:chOff x="4230720" y="1243080"/>
              <a:chExt cx="836640" cy="850680"/>
            </a:xfrm>
          </p:grpSpPr>
          <p:sp>
            <p:nvSpPr>
              <p:cNvPr id="354" name="矩形 1"/>
              <p:cNvSpPr/>
              <p:nvPr/>
            </p:nvSpPr>
            <p:spPr>
              <a:xfrm>
                <a:off x="423072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直接连接符 4"/>
              <p:cNvSpPr/>
              <p:nvPr/>
            </p:nvSpPr>
            <p:spPr>
              <a:xfrm>
                <a:off x="423072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直接连接符 6"/>
              <p:cNvSpPr/>
              <p:nvPr/>
            </p:nvSpPr>
            <p:spPr>
              <a:xfrm>
                <a:off x="464940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7" name="文本框 64"/>
            <p:cNvSpPr/>
            <p:nvPr/>
          </p:nvSpPr>
          <p:spPr>
            <a:xfrm>
              <a:off x="4255920" y="12114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12"/>
          <p:cNvGrpSpPr/>
          <p:nvPr/>
        </p:nvGrpSpPr>
        <p:grpSpPr>
          <a:xfrm>
            <a:off x="5311800" y="1203480"/>
            <a:ext cx="836640" cy="890280"/>
            <a:chOff x="5311800" y="1203480"/>
            <a:chExt cx="836640" cy="890280"/>
          </a:xfrm>
        </p:grpSpPr>
        <p:grpSp>
          <p:nvGrpSpPr>
            <p:cNvPr id="359" name="组合 7"/>
            <p:cNvGrpSpPr/>
            <p:nvPr/>
          </p:nvGrpSpPr>
          <p:grpSpPr>
            <a:xfrm>
              <a:off x="5311800" y="1243080"/>
              <a:ext cx="836640" cy="850680"/>
              <a:chOff x="5311800" y="1243080"/>
              <a:chExt cx="836640" cy="850680"/>
            </a:xfrm>
          </p:grpSpPr>
          <p:sp>
            <p:nvSpPr>
              <p:cNvPr id="360" name="矩形 1"/>
              <p:cNvSpPr/>
              <p:nvPr/>
            </p:nvSpPr>
            <p:spPr>
              <a:xfrm>
                <a:off x="531180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直接连接符 4"/>
              <p:cNvSpPr/>
              <p:nvPr/>
            </p:nvSpPr>
            <p:spPr>
              <a:xfrm>
                <a:off x="531180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直接连接符 6"/>
              <p:cNvSpPr/>
              <p:nvPr/>
            </p:nvSpPr>
            <p:spPr>
              <a:xfrm>
                <a:off x="573048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3" name="文本框 64"/>
            <p:cNvSpPr/>
            <p:nvPr/>
          </p:nvSpPr>
          <p:spPr>
            <a:xfrm>
              <a:off x="5329080" y="120348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商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15"/>
          <p:cNvGrpSpPr/>
          <p:nvPr/>
        </p:nvGrpSpPr>
        <p:grpSpPr>
          <a:xfrm>
            <a:off x="6372360" y="1211400"/>
            <a:ext cx="836640" cy="882360"/>
            <a:chOff x="6372360" y="1211400"/>
            <a:chExt cx="836640" cy="882360"/>
          </a:xfrm>
        </p:grpSpPr>
        <p:grpSp>
          <p:nvGrpSpPr>
            <p:cNvPr id="365" name="组合 7"/>
            <p:cNvGrpSpPr/>
            <p:nvPr/>
          </p:nvGrpSpPr>
          <p:grpSpPr>
            <a:xfrm>
              <a:off x="6372360" y="1243080"/>
              <a:ext cx="836640" cy="850680"/>
              <a:chOff x="6372360" y="1243080"/>
              <a:chExt cx="836640" cy="850680"/>
            </a:xfrm>
          </p:grpSpPr>
          <p:sp>
            <p:nvSpPr>
              <p:cNvPr id="366" name="矩形 1"/>
              <p:cNvSpPr/>
              <p:nvPr/>
            </p:nvSpPr>
            <p:spPr>
              <a:xfrm>
                <a:off x="6372360" y="1243080"/>
                <a:ext cx="836640" cy="837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直接连接符 4"/>
              <p:cNvSpPr/>
              <p:nvPr/>
            </p:nvSpPr>
            <p:spPr>
              <a:xfrm>
                <a:off x="6372360" y="16552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直接连接符 6"/>
              <p:cNvSpPr/>
              <p:nvPr/>
            </p:nvSpPr>
            <p:spPr>
              <a:xfrm>
                <a:off x="6791040" y="1256400"/>
                <a:ext cx="0" cy="83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9" name="文本框 64"/>
            <p:cNvSpPr/>
            <p:nvPr/>
          </p:nvSpPr>
          <p:spPr>
            <a:xfrm>
              <a:off x="6397560" y="12114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夫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16"/>
          <p:cNvGrpSpPr/>
          <p:nvPr/>
        </p:nvGrpSpPr>
        <p:grpSpPr>
          <a:xfrm>
            <a:off x="2657520" y="2284560"/>
            <a:ext cx="836640" cy="884160"/>
            <a:chOff x="2657520" y="2284560"/>
            <a:chExt cx="836640" cy="884160"/>
          </a:xfrm>
        </p:grpSpPr>
        <p:grpSp>
          <p:nvGrpSpPr>
            <p:cNvPr id="371" name="组合 7"/>
            <p:cNvGrpSpPr/>
            <p:nvPr/>
          </p:nvGrpSpPr>
          <p:grpSpPr>
            <a:xfrm>
              <a:off x="2657520" y="2317680"/>
              <a:ext cx="836640" cy="851040"/>
              <a:chOff x="2657520" y="2317680"/>
              <a:chExt cx="836640" cy="851040"/>
            </a:xfrm>
          </p:grpSpPr>
          <p:sp>
            <p:nvSpPr>
              <p:cNvPr id="372" name="矩形 1"/>
              <p:cNvSpPr/>
              <p:nvPr/>
            </p:nvSpPr>
            <p:spPr>
              <a:xfrm>
                <a:off x="2657520" y="231768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直接连接符 4"/>
              <p:cNvSpPr/>
              <p:nvPr/>
            </p:nvSpPr>
            <p:spPr>
              <a:xfrm>
                <a:off x="2657520" y="27298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直接连接符 6"/>
              <p:cNvSpPr/>
              <p:nvPr/>
            </p:nvSpPr>
            <p:spPr>
              <a:xfrm>
                <a:off x="3076200" y="2331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5" name="文本框 64"/>
            <p:cNvSpPr/>
            <p:nvPr/>
          </p:nvSpPr>
          <p:spPr>
            <a:xfrm>
              <a:off x="2682720" y="228456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终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17"/>
          <p:cNvGrpSpPr/>
          <p:nvPr/>
        </p:nvGrpSpPr>
        <p:grpSpPr>
          <a:xfrm>
            <a:off x="3746520" y="2286000"/>
            <a:ext cx="836640" cy="882720"/>
            <a:chOff x="3746520" y="2286000"/>
            <a:chExt cx="836640" cy="882720"/>
          </a:xfrm>
        </p:grpSpPr>
        <p:grpSp>
          <p:nvGrpSpPr>
            <p:cNvPr id="377" name="组合 7"/>
            <p:cNvGrpSpPr/>
            <p:nvPr/>
          </p:nvGrpSpPr>
          <p:grpSpPr>
            <a:xfrm>
              <a:off x="3746520" y="2317680"/>
              <a:ext cx="836640" cy="851040"/>
              <a:chOff x="3746520" y="2317680"/>
              <a:chExt cx="836640" cy="851040"/>
            </a:xfrm>
          </p:grpSpPr>
          <p:sp>
            <p:nvSpPr>
              <p:cNvPr id="378" name="矩形 1"/>
              <p:cNvSpPr/>
              <p:nvPr/>
            </p:nvSpPr>
            <p:spPr>
              <a:xfrm>
                <a:off x="3746520" y="231768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直接连接符 4"/>
              <p:cNvSpPr/>
              <p:nvPr/>
            </p:nvSpPr>
            <p:spPr>
              <a:xfrm>
                <a:off x="3746520" y="272988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直接连接符 6"/>
              <p:cNvSpPr/>
              <p:nvPr/>
            </p:nvSpPr>
            <p:spPr>
              <a:xfrm>
                <a:off x="4165200" y="2331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1" name="文本框 64"/>
            <p:cNvSpPr/>
            <p:nvPr/>
          </p:nvSpPr>
          <p:spPr>
            <a:xfrm>
              <a:off x="3771720" y="22860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完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53"/>
          <p:cNvGrpSpPr/>
          <p:nvPr/>
        </p:nvGrpSpPr>
        <p:grpSpPr>
          <a:xfrm>
            <a:off x="4832280" y="2278080"/>
            <a:ext cx="838440" cy="882720"/>
            <a:chOff x="4832280" y="2278080"/>
            <a:chExt cx="838440" cy="882720"/>
          </a:xfrm>
        </p:grpSpPr>
        <p:grpSp>
          <p:nvGrpSpPr>
            <p:cNvPr id="383" name="组合 7"/>
            <p:cNvGrpSpPr/>
            <p:nvPr/>
          </p:nvGrpSpPr>
          <p:grpSpPr>
            <a:xfrm>
              <a:off x="4832280" y="2309760"/>
              <a:ext cx="838440" cy="851040"/>
              <a:chOff x="4832280" y="2309760"/>
              <a:chExt cx="838440" cy="851040"/>
            </a:xfrm>
          </p:grpSpPr>
          <p:sp>
            <p:nvSpPr>
              <p:cNvPr id="384" name="矩形 1"/>
              <p:cNvSpPr/>
              <p:nvPr/>
            </p:nvSpPr>
            <p:spPr>
              <a:xfrm>
                <a:off x="4832280" y="2309760"/>
                <a:ext cx="8384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直接连接符 4"/>
              <p:cNvSpPr/>
              <p:nvPr/>
            </p:nvSpPr>
            <p:spPr>
              <a:xfrm>
                <a:off x="4832280" y="272196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直接连接符 6"/>
              <p:cNvSpPr/>
              <p:nvPr/>
            </p:nvSpPr>
            <p:spPr>
              <a:xfrm>
                <a:off x="5251680" y="232308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4"/>
            <p:cNvSpPr/>
            <p:nvPr/>
          </p:nvSpPr>
          <p:spPr>
            <a:xfrm>
              <a:off x="4857480" y="2278080"/>
              <a:ext cx="81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换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矩形 4"/>
          <p:cNvSpPr/>
          <p:nvPr/>
        </p:nvSpPr>
        <p:spPr>
          <a:xfrm>
            <a:off x="1019160" y="3362400"/>
            <a:ext cx="7261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仔细观察田字格中的生字，找一找有相同特点的生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53"/>
          <p:cNvGrpSpPr/>
          <p:nvPr/>
        </p:nvGrpSpPr>
        <p:grpSpPr>
          <a:xfrm>
            <a:off x="5940360" y="2279520"/>
            <a:ext cx="838440" cy="882720"/>
            <a:chOff x="5940360" y="2279520"/>
            <a:chExt cx="838440" cy="882720"/>
          </a:xfrm>
        </p:grpSpPr>
        <p:grpSp>
          <p:nvGrpSpPr>
            <p:cNvPr id="390" name="组合 7"/>
            <p:cNvGrpSpPr/>
            <p:nvPr/>
          </p:nvGrpSpPr>
          <p:grpSpPr>
            <a:xfrm>
              <a:off x="5940360" y="2311200"/>
              <a:ext cx="838440" cy="851040"/>
              <a:chOff x="5940360" y="2311200"/>
              <a:chExt cx="838440" cy="851040"/>
            </a:xfrm>
          </p:grpSpPr>
          <p:sp>
            <p:nvSpPr>
              <p:cNvPr id="391" name="矩形 1"/>
              <p:cNvSpPr/>
              <p:nvPr/>
            </p:nvSpPr>
            <p:spPr>
              <a:xfrm>
                <a:off x="5940360" y="2311200"/>
                <a:ext cx="8384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直接连接符 4"/>
              <p:cNvSpPr/>
              <p:nvPr/>
            </p:nvSpPr>
            <p:spPr>
              <a:xfrm>
                <a:off x="5940360" y="272340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直接连接符 6"/>
              <p:cNvSpPr/>
              <p:nvPr/>
            </p:nvSpPr>
            <p:spPr>
              <a:xfrm>
                <a:off x="6359760" y="23245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4" name="文本框 64"/>
            <p:cNvSpPr/>
            <p:nvPr/>
          </p:nvSpPr>
          <p:spPr>
            <a:xfrm>
              <a:off x="5965560" y="2279520"/>
              <a:ext cx="81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期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4"/>
          <p:cNvSpPr/>
          <p:nvPr/>
        </p:nvSpPr>
        <p:spPr>
          <a:xfrm>
            <a:off x="826920" y="1512720"/>
            <a:ext cx="462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包围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左右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下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独体字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64"/>
          <p:cNvSpPr/>
          <p:nvPr/>
        </p:nvSpPr>
        <p:spPr>
          <a:xfrm>
            <a:off x="120492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64"/>
          <p:cNvSpPr/>
          <p:nvPr/>
        </p:nvSpPr>
        <p:spPr>
          <a:xfrm>
            <a:off x="200988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64"/>
          <p:cNvSpPr/>
          <p:nvPr/>
        </p:nvSpPr>
        <p:spPr>
          <a:xfrm>
            <a:off x="281628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64"/>
          <p:cNvSpPr/>
          <p:nvPr/>
        </p:nvSpPr>
        <p:spPr>
          <a:xfrm>
            <a:off x="362124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64"/>
          <p:cNvSpPr/>
          <p:nvPr/>
        </p:nvSpPr>
        <p:spPr>
          <a:xfrm>
            <a:off x="442764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64"/>
          <p:cNvSpPr/>
          <p:nvPr/>
        </p:nvSpPr>
        <p:spPr>
          <a:xfrm>
            <a:off x="5232240" y="635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64"/>
          <p:cNvSpPr/>
          <p:nvPr/>
        </p:nvSpPr>
        <p:spPr>
          <a:xfrm>
            <a:off x="6039000" y="635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76"/>
          <p:cNvSpPr/>
          <p:nvPr/>
        </p:nvSpPr>
        <p:spPr>
          <a:xfrm>
            <a:off x="6843600" y="635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5"/>
          <p:cNvSpPr/>
          <p:nvPr/>
        </p:nvSpPr>
        <p:spPr>
          <a:xfrm>
            <a:off x="7650000" y="635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26094 0.17592 E">
                                      <p:cBhvr>
                                        <p:cTn id="44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13264 0.31574 E">
                                      <p:cBhvr>
                                        <p:cTn id="445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04375 0.45586 E">
                                      <p:cBhvr>
                                        <p:cTn id="449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0.03611 0.45586 E">
                                      <p:cBhvr>
                                        <p:cTn id="453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-0.08368 0.59599 E">
                                      <p:cBhvr>
                                        <p:cTn id="45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1401 0.31574 E">
                                      <p:cBhvr>
                                        <p:cTn id="46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-0.14167 0.45586 E">
                                      <p:cBhvr>
                                        <p:cTn id="465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L -0.22969 0.31574 E">
                                      <p:cBhvr>
                                        <p:cTn id="469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0.22343 0.31574 E">
                                      <p:cBhvr>
                                        <p:cTn id="473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微软用户</cp:lastModifiedBy>
  <dcterms:modified xsi:type="dcterms:W3CDTF">2019-03-20T06:46:28Z</dcterms:modified>
  <cp:revision>7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  <property fmtid="{D5CDD505-2E9C-101B-9397-08002B2CF9AE}" pid="3" name="来源">
    <vt:lpwstr>状元成才路系列</vt:lpwstr>
  </property>
</Properties>
</file>