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604-ADC8-4AC2-94EE-FB9C26BB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DB0-7D94-4FBC-B117-1692E47B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300-DC98-4941-AE6D-3C5A22D8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B91-7D7A-4CB7-9ABC-A65BEA16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734-C3F9-4C62-B0AA-75071EC5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FC6-E6FE-4803-9A71-8CAE2F64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DFE-7989-4880-8015-1B0E119A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1BB-1225-4E1F-AB39-8262495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A5B-C30B-448D-92F5-E7514A13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53D-E9C4-48F6-92AC-23C93E12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839-4869-439F-852C-E1343168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4A3-8C63-43F6-99BC-F961FC5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2DC-CDAB-4B2E-A959-B2941A357D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413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e24130"/>
                </a:solidFill>
                <a:latin typeface="楷体_GB2312"/>
                <a:ea typeface="楷体_GB2312"/>
              </a:rPr>
              <a:t>张中丞传后叙 </a:t>
            </a:r>
            <a:br>
              <a:rPr sz="5400"/>
            </a:br>
            <a:br>
              <a:rPr sz="3600"/>
            </a:br>
            <a:r>
              <a:rPr b="1" lang="zh-CN" sz="4000" spc="-1" strike="noStrike">
                <a:solidFill>
                  <a:srgbClr val="e24130"/>
                </a:solidFill>
                <a:latin typeface="楷体_GB2312"/>
                <a:ea typeface="楷体_GB2312"/>
              </a:rPr>
              <a:t>韩 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原文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籍曰：有于嵩者，少依于巡；及巡起事，嵩尝在围中。籍大历中，于和州乌江县见嵩，嵩时年六十余矣。以巡初尝得临涣县尉，好学无所不读。籍时尚小，粗问巡、远事，不能细也。云巡长七尺余，须髯若神。尝见嵩读《汉书》，谓嵩曰：“何为久读此？”嵩曰：“未熟也。”巡曰：“吾于书读不过三遍，终身不忘也。”因诵嵩所读书，尽卷不错一字。嵩惊，以为巡偶熟此卷，因乱抽他帙以试。无不尽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749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译文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张籍说：有一个名则于嵩的人，青年时代跟随张巡办事；等到张巡起兵讨伐叛贼时，于嵩也曾在敌人围困之中。张籍大历年间在和州乌江县见过于嵩。于嵩当时已经六十多岁了。由于张巡的缘故，当初曾当上了临涣县的县尉，喜欢学问，没有什么书不读。张籍那时还小，粗略地打听过张巡和许远的事情，了解得不够详细。于嵩说张巡身高七尺多，胡子长得如同神像。他曾有一次看到于嵩在读《汉书》，便问：“为什么老是读这一部书？”于嵩回答说：“还没读熟呢。”张巡说：“我读书不超过三遍，终生不会忘掉。”于是背诵起于嵩正读的那卷书，背诵完了整卷没错一个字。于嵩很惊讶，以为张巡碰巧熟读过这一卷，于是随意抽出其他各卷来测试，无不都是这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原文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嵩又取架上诸书，试以问巡。巡应口诵无疑。嵩从巡久，亦不见巡常读书也。为文章，操纸笔立书，未尝起草。初守睢阳对，士卒仅万人。城中居人，户亦且数万。巡因—见问姓名，其后无不识者。巡怒，须髯辄张。及城陷，贼缚巡等数十人坐，且将戮。巡起旋，其众见巡起，或起或泣。巡曰：“汝勿怖，死，命也。”众泣不能仰视。巡就戮时，颜色不乱，阳阳如平常。远宽厚长者，貌如其心。与巡同年生，月日后于巡，呼巡为兄。死时年四十九。嵩贞元初死于毫、宋间。或传嵩有田在毫、宋间，武人夺而有之。嵩将诣州讼理，为所杀。嵩无子，张籍云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852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译文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于嵩又从书架上取出另外一些书，试着拿来考问张巡，随问随诵，毫不踌躇。于嵩跟随张巡的日子很长，也没见过张巡经常读书。做文章时，拿起纸笔就写，不曾打过草稿。开始驻守睢阳时，土兵差不多有上万人，城里的居民，户口也将近几万。张巡通过见一面，问过姓名，以后碰见便没有不认识的。张巡发起怒来，胡须总是张开的。到了睢阳失陷的时候，叛贼捆绑张巡等几十个人，坐等着，将要被杀掉。张巡起身小便，部下看到张巡站起来，有的也站起来，有的掉眼泪。张巡说：“你们别害怕，死是命中注定的。”部下悲泣得不忍心仰起头来看。张巡受戮时，脸色不变，就如同平常一样满不在乎。许远是位宽厚的老成人，相貌也同他的心地一样质朴。他和张巡同一年出生，月份和日子在张巡之后，称张巡为兄。死时四十九岁。于嵩贞元初年死在毫、宋一带。有人传说于嵩有田宅在毫、宋一带，有个武人侵夺霸占了他的田宅。于嵩打算到睢阳告状，被那个武人所杀害。于嵩没有儿子，这是张籍说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990099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990099"/>
                </a:solidFill>
                <a:latin typeface="宋体"/>
              </a:rPr>
              <a:t>所欲忠者，国与主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者：助词，附在别的词的后面，组成名词性短语。译“所要孝忠的是国家与君主罢了”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990099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990099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990099"/>
                </a:solidFill>
                <a:latin typeface="宋体"/>
              </a:rPr>
              <a:t>宁能知人之卒不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宁能：怎么。之：助词，用在主语和谓语之间，取消句子独立性，可不译。卒：副词，最终。译“怎么能料到别人最终不来救援呢”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990099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990099"/>
                </a:solidFill>
                <a:latin typeface="宋体"/>
              </a:rPr>
              <a:t>此矢所以志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所以：用来……的。志：通“识”作标记。译“这支箭就是用来作标记的”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84200" y="625320"/>
            <a:ext cx="62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语言知识</a:t>
            </a: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</a:t>
            </a: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1412640"/>
            <a:ext cx="7467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特殊句式：</a:t>
            </a: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1bf7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疑畏死而辞服于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句既是状语后置句，又是省略句，应该是“疑之畏死而于贼辞服”。译“怀疑他（许远）害怕死而向敌人说了屈服的话”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何为久读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宾语前置句，疑问代词“何”作介词“为”的宾语前置，应该是“为何久读此”。译“为什么总读这本书呢”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为所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所：固定句式，表示被动。译“被武人杀害”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400800"/>
            <a:ext cx="1040040" cy="28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95480" y="843120"/>
            <a:ext cx="74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语言知识</a:t>
            </a: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</a:t>
            </a:r>
            <a:r>
              <a:rPr b="0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热情地歌颂了张巡、许远、南霁云等为国为民抗击安史叛军而宁死不屈的英雄事迹，批判了那些不顾国家人民安危，忌贤妒能，拥兵谋私的军阀，驳斥了那些小人造谣中伤的流言蜚语，抒发了自己对抗战英雄的崇敬之情，补叙了轶事，澄清了事实，伸张了正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4320" y="6172200"/>
            <a:ext cx="1039680" cy="28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39840" y="98568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          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层次结构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文可分四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第一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交待写作本文的时间和缘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第二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驳斥小人的流言蜚语，歌颂张许二人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贵品质和历史功勋。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第一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驳斥“畏死辞服于赋”的错误论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个事实论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“位本在巡上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   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“苦守尺寸之心，食其所爱之肉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  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“虽愚人变能数日而知死处矣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远之畏死亦明矣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4777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层次结构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第二层（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批驳“城之陷，自远所分始”的论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个比喻说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“人之将死，其脏腑必有先受其斋者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“引绳而绝亡，其绝必有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    “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城之陷，自远所分始”的论调“与儿童之见无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第三层（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驳斥“责二公以死守”的错误议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首先：指出张许不知旁人会见死不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次：强调睢阳尚不能守，逃到他处又何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然后：睢阳不能守率残余饿赢能突出重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接着：歌颂张，许“守一城，捍天下”的功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后：怒斥小人不追究拥兵坐观者，反责“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以死守”的卑劣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4777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层次结构（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第三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记叙南霁云的事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层：叙南霁云乞师贺兰进明的经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层：南霁云与张巡壮烈就义的经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第四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补叙张巡，许远的轶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层：详叙张巡博学与英勇就义的事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层：简叙许远宽厚的为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层：交代于嵩（讲述张、许轶事之人）之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4320" y="6248520"/>
            <a:ext cx="10396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艺术特色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、夹叙夹议，叙议结合，神气流注，章法浑成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先议后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看来是两大部分，但毫无脱节之感，这首先是因为不管是叙述，还是议论都服务于赞美英雄，斥责小人的鲜明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整体上讲文章的前半部分侧重议论，但议论中带有叙事。例如：“远虽村若不及巡者，……与巡死先后异耳”。这节文字主要对许远的高贵品质进行议论。但也附带叙述了许远开门纳巡，授之柄而处其下的事迹。把议论与叙述有机地统一在一起。再如“这诚畏死，何苦守尺雨寸之地……以与赋抗而不降乎？”这一节文字主要针对“畏死”的论调进行驳斥，但又包含了对许远杀所爱的人充饥的事迹的叙述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666280" y="6095880"/>
            <a:ext cx="47772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艺术特色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、描写人物，形象逼真，气韵生动，丰富饱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人物各有性格特征，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南霁云的刚烈英武，张巡的从容不乱。许远的宽厚谦逊，贺兰进明的卑劣无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在塑造人物形象时具有以下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1)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通过若干精彩的场面描写，刻画人物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中南霁云乞师贺兰进明的描写最脍炙人口，文中精心描写了南霁云慷慨陈辞、拔刀断指、抽矢射塔三个场面，歌颂其凛然正气，赞美其忠肝义胆。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4777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韩愈，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唐代文学家、思想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字退之，河南河阳人。自谓郡望昌黎，世称韩昌黎，谥号“文”，后人尊称韩文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韩愈与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柳宗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为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古文运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倡导者，为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“唐宋散文八大家”之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他反对六朝以来的骈文，提倡先秦、两汉的散文，文学上主张“辞必己出”、“惟陈言之务去”。他的文章，说理透辟，气势充沛，结构严谨，语言精炼，对当时及后代的散文创作都有重大影响。有《昌黎先生文集》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6248520"/>
            <a:ext cx="1039680" cy="28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836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艺术特色（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413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从人物的言行中塑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南霁云在贺兰宴会上的讲话：“云来时，睢阳之人不食月余日矣。虽欲独食义不忍，虽食且不下咽。”三个“食”字，顿为两层，显得强调有力，加上两个“虽……不……”句式连用，将南霁云时刻挂念着围城中父老和同伴们的心理，赤诚报国不图个人好处的品质，生动地刻画了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3)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拔所佩刀断一指，血淋漓，以示贺兰”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现出霁云刚烈无比的激愤难抑的感情，令人触目惊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4777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艺术特色（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、衬托手法塑造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南霁云的忠肝义胆，磊落胸怀和刚烈英武，以贺兰进明可耻的居心和卑劣的行径作反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张巡就义时从容镇定，视死如归，也是由其部下的痛苦哀恸的表情来衬托的。“一座大惊，皆感激为云泣下”的表现，衬托出南霁云拔刀断指行为的壮烈感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4320" y="6172200"/>
            <a:ext cx="10396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重难点问题及答案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、谈谈本文的议论与叙事并重的特色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 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最大特色是议论与叙事并重，前半部分侧重于议论，针对污蔑许远的错误论调进行驳斥，在驳斥中补叙许远事迹。后半部分侧重于叙事，着重记叙了南霁云的动人事迹，并补叙张巡、许远的其他事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、本文前半部分是驳论，驳论时所用的论据和所采用的论证方法。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类比论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用日常生活中的事理作理论论据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文第三自然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对比论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用“弃城而图存者”、“擅强兵坐而观者”作对比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四自然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4777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重难点问题答案（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、概述张巡、许远、南霁云三人的性格特征。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张巡：具有从容镇定的气度，视死如归的品质，博闻强记的品格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许远：具有宽厚谦和、为国让贤的崇高品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南霁云：嫉恶如仇、忠贞刚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、分析本文的细节描写在刻画人物性格方面的作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采用细节描写，使人物形象更加生动传神。如南霁云的拔刀断指、抽矢射塔的描写，张巡的超人记忆力和就义时的动作、语言描写，都是最精彩的片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4320" y="6095880"/>
            <a:ext cx="10396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1828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选自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《昌黎先生集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张中丞，即张巡，邓州南阳人。开元未进士。安禄山反，张巡起兵抗击，同睢阳（今河南商丘）太守许远共同守护睢阳，被拜为御史中丞，故称其张中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e24130"/>
                </a:solidFill>
                <a:latin typeface="宋体"/>
              </a:rPr>
              <a:t>序”是文章体裁的一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古人常用它来说明著作写作出版的情况，和对作家作品的介绍评论，一般放在书前，变称作“叙”或“引”。“后序”除具备“序”的作用外，还可对著作进行补充，批语或反驳，一般放在书后。</a:t>
            </a:r>
            <a:r>
              <a:rPr b="1" lang="zh-CN" sz="2400" spc="-1" strike="noStrike">
                <a:solidFill>
                  <a:srgbClr val="401bf7"/>
                </a:solidFill>
                <a:latin typeface="宋体"/>
              </a:rPr>
              <a:t>本文是作者在阅读李翰所写的《张巡传》后，对有关材料作的补充，对有关人物的议论，所以题为“后叙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400800"/>
            <a:ext cx="1040040" cy="285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16200" y="770040"/>
            <a:ext cx="56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      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题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唐隶宗至德二年（公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），安庆绪（安禄山之子）部将尹子奇率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大军攻睢阳，张巡，许远率兵匕千人坚守数月，终因粮尽兵绝，睢阳陷落，张巡及部将五十余人牺牲，许远被叛军掳至洛阳，不屈而死。睢阳保卫战遏制了叛军的攻势，捍卫了江淮地区人民的生命与财产，为唐军积蓄力量，准备反攻赢得了宝贵的时间，因而张巡，许远等人受到了人民的赞扬 传颂。但当时一些坐观睢 阳陷落而不增援的武官，为自己的可耻行为辩解，同某些嫉妒张，许功绩的文人一起，散布流言，对张，许等抗敌英雄诋毁。张巡的友人李翰写了这篇补叙英雄事迹，批驳流言蜚语，弘扬英雄精神，反对藩镇作乱的散文名作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400800"/>
            <a:ext cx="1040040" cy="28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0200" y="338040"/>
            <a:ext cx="61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        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23840" y="692280"/>
            <a:ext cx="70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原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和二年四月十三日夜，愈与吴郡张籍阅家中旧书，得李翰所为《张巡传》。翰以文章自名，为此传颇详密。然尚恨有阙者，不为许远立传，又不载雷万春事首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21300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译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元和二年四月十三日夜，我和吴郡人张籍翻阅家中旧书，发现李翰撰写的《张巡传》。李翰以文章写得好而自负，这篇传记写得很详细周密。但可惜还有不足之处，没有替许远立传，又没有记载雷万春事迹的头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33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原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远虽材若不及巡者，开门纳巡，位本在巡上，授之柄而处其下，无所疑忌，竟与巡俱守死，成功名。城陷而虏。与巡死先后异耳。两家子弟材智下，不能通知二父志，以为巡死而远就虏，疑畏死而辞服于贼。远诚畏死，何苦守尺寸之地，食其所爱之肉，以与贼抗而不降乎？当其围守时，外无蚍蜉蚁子之援，所欲忠者，国与主耳。而贼语以国亡主灭。远见救援不至，而贼来益众，必以其言为信。外无待而犹死守，人相食且尽，虽愚人亦能数日而知死处矣。远之不畏死亦明矣。乌有城坏其徒俱死，独蒙愧耻求活？虽至愚者不忍为。呜呼！而谓远之贤而力之邪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03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译文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许远虽然才能似乎比不上张巡，但他打开城门，接纳张巡共守睢阳。地位本来在张巡之上，却把权柄交给他，受他指挥，没有什么猜疑和妒忌，最后和张巡一起守城，一起死难，建立了功名，由于城池沦陷而被俘虏，和张巡的死相比先后不同时罢了。许、张两家子弟才能智慧低下，不能彻底理解许远、张巡的志气。张家子弟认为张巡战死而许远受虏不死，怀疑许远怕死而降贼。许远假如怕死的话，为何要苦苦地死守小小的睢阳城，把自己的奴僮杀了给土兵们吃，来同敌军抗战而不投降呢？当他们被围困的时候，城外连极其弱小的援兵都没有，他们所要效忠的只是国家和君主罢了，而叛军则告诉许远唐朝已经灭亡，君主已经死了。许远看见救兵不来，而叛军却越来越多，一定以为敌人的话是真的。等不到外来的救兵尚且死守城池，人吃人也快吃完了，即使是傻瓜也会算得出死亡的期限！由此看来，许远的不怕死也就很明白了。哪有城池失陷了，部下都死光了，他自己却独自含羞忍辱，苟且偷生的呢？即使是最愚蠢的人也不肯这么做。唉！难道说许远这样贤明的人会做这样的事吗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原文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者又谓远与巡分城而守，城之陷，自远所分始，以此诟远。此又与儿童之见无异。人之将死，其藏腑必有先受其病者。引绳而绝之，其绝必有处。观者见其然，从而尤之，其亦不达于理矣。小人之好议论，不乐成人之美如是哉！如巡、远之所成就，如此卓卓，犹不得免，其他则又何说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2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译文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谈论的人又说许远和张巡分别守城，城池失陷是从许远所分担的一面开始的，拿这个来辱骂许远。这又和儿童的见识没有差别。人要死，他的内部器官一定有先得那个病的部位；拉断绳子，它断开的地方一定是绳子的某一段。观察人死、绳断的人见到情况是这样，据此就责怪某一内脏和绳子的某一段，也未免太不懂道理了。小人喜欢非议，不乐意成全别人的好事竟然到了这个地步哇！象张巡、许远对国家作出的贡献是如此卓越，还不免遭受指摘，别的事情那还有什么可说的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76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原文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二公之初守也，宁能知人之卒不救，弃城而逆遁？苟此不能守，虽避之他处何益？及其无救而且穷也，将其创残饿羸之余，虽欲去必不达。二公之贤，其讲之精矣。守一城，捍天下，以千百就尽之卒，战百万日滋之师，蔽遮江淮，沮遏其势。天下之不亡，其谁之功也？当是时，弃城而图存者，不可一二数，擅强兵坐而观者相环也。不追议此，而责二公以死守，亦见其自比于逆乱，设淫辞而助之攻也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愈尝从事于汴、徐二府，屡道于两州间，亲祭于其所谓双庙者。其老人往往说巡、远时事云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1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译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当张、许二公初守睢阳的时候，怎能料到人家终于不来救援，因而放弃睢阳，事先退走呢？如果这座城不能够守住，即使退避到别的地方去又有什么用处呢？等到确无救兵，处于困难的境地时，率领着他们那些因受伤而残废、因挨饿而瘦弱的余部，即便想撤离睢阳也肯定不可能了。张、许二公这样贤明，他们已经考虑得很周到了。坚守一座城池，来保卫朝廷，凭借千百名接近死亡的士兵，抵挡上百万日益增多的敌军，掩蔽江淮流域，从而阻遏叛军的兵势。唐王朝没有被灭亡，是谁的功劳呢？在当时，丢弃城池而考虑活路的不是少数几个人，掌握强兵、坐视不救的人到处都是。他们不去追究非议这些人，反而责怪张、许不该死守，也就可见他们把自己比同叛逆，制造邪说帮助叛敌攻击张、许二公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曾在汴州、徐州二幕府任推官，多次经过两州之间的睢阳城，亲自到那称为“双庙”的地方致祭过，那里的老人常常谈到张巡、许远当时的事情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9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原文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南霁云之乞救于贺兰也，贺兰嫉巡、远之声威功绩出己上，不肯出师救。爱霁云之勇且壮，不听其语，强留之。具食与乐，延霁云坐。霁云慷慨语曰：“云来时，睢阳之人不食月余日矣。云虽欲独食，义不忍。虽食且不下咽。”因拔所佩刀断一指，血淋漓，以示贺兰。一座大惊，皆感激为云泣下。云知贺兰终无为云出师意，即驰去。将出城，抽矢射佛寺浮图，矢著其上砖半箭。曰：“吾归破贼，必灭贺兰！此矢所以志也。”愈贞元中过泗州，船上人犹指以相语。城陷，贼以刃胁降巡。巡不屈，即牵去，将斩之。又降霁云。云未应。巡呼云曰：“南八，男儿死耳，不可为不义屈！”云笑曰：“欲将以有为也。公有言，云敢不死？”即不屈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译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南霁云向贺兰进明请求救援，贺兰嫉妒张巡、许远的名声威望和功劳业绩超过自己，不肯出兵援救。贺兰喜欢南霁云的英勇和豪壮，不听他求救的要求，硬要留他下来，陈设酒肉，具备歌舞，邀请南霁云入座。南霁云情绪激昂地说：“我南霁云来的时候，睢阳城内的人已经有一个多月没东西吃了。我即使想一个人吃，道义上不忍心这样做，即使吃也咽不下去。”于是抽出随身佩带的刀砍断一个手指，鲜血淋漓，来给贺兰看。满座的人非常震惊，都感动奋激得为他掉泪。南霁云明白贺兰终究不会有为自己出兵的意思，就飞马离去了。快要出城的时候，抽出一支箭射向佛寺的高塔，箭射中在塔上，有一半箭头穿进砖里。他说：“我这次回去，如果打败了叛贼，一定回来灭掉贺兰！这一箭就作为我报仇的记号。”我于贞元年问路过泗州，船上的人还指着中箭韵塔砖告诉我当年的情况。睢阳城失陷时，叛贼用刀威逼张巡投降。张巡不屈服，随即被拉走，行将斩首。又威逼南霁云投降。南霁云没有回答。张巡对南霁云呼喊道：“南八，大丈夫一死罢了，不能屈从不义的人！”南霁云笑着回答说：“我原想要有所作为。现在您说这话，我敢不死吗？”于是他就没有屉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1:26:07Z</dcterms:created>
  <dc:creator>hch</dc:creator>
  <dc:description/>
  <dc:language>en-US</dc:language>
  <cp:lastModifiedBy>hch</cp:lastModifiedBy>
  <dcterms:modified xsi:type="dcterms:W3CDTF">2005-12-06T02:19:17Z</dcterms:modified>
  <cp:revision>3</cp:revision>
  <dc:subject/>
  <dc:title> 张中丞传后叙   韩 愈</dc:title>
</cp:coreProperties>
</file>