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1B1-4B52-44D4-BEF8-BF7C0C01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7CC-1BDF-4771-8508-E37CE1A3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FA6-8FA3-4DEB-B9B5-5EE9D199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E90-A18F-4AFD-8346-36EA21F8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51B-92F1-450C-9783-071B165D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964-A9B6-4C1D-879C-529C6039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0CE-9099-4E3A-A60A-5101E394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7A7-E078-47B9-A22F-6562B0E9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B9A-7BA6-4BD5-BB22-FADB5F29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D60-D3F5-4AC8-BC9E-F9307479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729-0802-49ED-A159-01AB13F0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C96-94C0-4D2A-A208-F4F9C5D5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EBA6-4628-4292-A39C-05D834916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68360" y="836640"/>
            <a:ext cx="49834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致 橡 树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26370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幼圆"/>
              </a:rPr>
              <a:t>舒 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486900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执教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: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丹阳吴塘职业高级中学     徐得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127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1" name=""/>
          <p:cNvSpPr/>
          <p:nvPr/>
        </p:nvSpPr>
        <p:spPr>
          <a:xfrm>
            <a:off x="1643760" y="691200"/>
            <a:ext cx="9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一想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6320" y="2276640"/>
            <a:ext cx="729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木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7680" y="4437000"/>
            <a:ext cx="127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橡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4724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铜枝铁干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256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红硕的花朵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256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象征：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女性的柔美气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4724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象征：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男性的阳刚气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2708280"/>
            <a:ext cx="792360" cy="289080"/>
          </a:xfrm>
          <a:custGeom>
            <a:avLst/>
            <a:gdLst>
              <a:gd name="textAreaLeft" fmla="*/ 99000 w 792360"/>
              <a:gd name="textAreaRight" fmla="*/ 693360 w 792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4797360"/>
            <a:ext cx="792360" cy="287280"/>
          </a:xfrm>
          <a:custGeom>
            <a:avLst/>
            <a:gdLst>
              <a:gd name="textAreaLeft" fmla="*/ 99000 w 792360"/>
              <a:gd name="textAreaRight" fmla="*/ 693360 w 79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2360" y="2637000"/>
            <a:ext cx="433440" cy="360360"/>
          </a:xfrm>
          <a:custGeom>
            <a:avLst/>
            <a:gdLst>
              <a:gd name="textAreaLeft" fmla="*/ 67680 w 433440"/>
              <a:gd name="textAreaRight" fmla="*/ 379440 w 4334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4797360"/>
            <a:ext cx="504720" cy="360360"/>
          </a:xfrm>
          <a:custGeom>
            <a:avLst/>
            <a:gdLst>
              <a:gd name="textAreaLeft" fmla="*/ 78840 w 504720"/>
              <a:gd name="textAreaRight" fmla="*/ 441720 w 504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143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7" name=""/>
          <p:cNvSpPr/>
          <p:nvPr/>
        </p:nvSpPr>
        <p:spPr>
          <a:xfrm>
            <a:off x="1356480" y="-1080"/>
            <a:ext cx="9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议一议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765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从诗中看，作为女性的木棉她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追求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什么样的爱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42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我必须是你近旁的一株木棉，作为树的形象和你站在一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7813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根，紧握在地下 </a:t>
            </a:r>
            <a:br>
              <a:rPr sz="2400"/>
            </a:b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叶，相触在云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573360"/>
            <a:ext cx="29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每一阵风过 </a:t>
            </a:r>
            <a:br>
              <a:rPr sz="2400"/>
            </a:b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我们都互相致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522936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我们分担寒潮、风雷、霹雳</a:t>
            </a:r>
            <a:br>
              <a:rPr sz="2400"/>
            </a:b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我们共享雾霭、流岚、虹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36572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但没有人 </a:t>
            </a:r>
            <a:br>
              <a:rPr sz="2400"/>
            </a:b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听懂我们的言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2133720"/>
            <a:ext cx="360360" cy="3816360"/>
          </a:xfrm>
          <a:custGeom>
            <a:avLst/>
            <a:gdLst>
              <a:gd name="textAreaLeft" fmla="*/ 0 w 360360"/>
              <a:gd name="textAreaRight" fmla="*/ 129960 w 36036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565360"/>
            <a:ext cx="172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等独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互依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彼此尊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互有默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甘共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3716280"/>
            <a:ext cx="1152720" cy="792360"/>
          </a:xfrm>
          <a:prstGeom prst="rightArrow">
            <a:avLst>
              <a:gd name="adj1" fmla="val 50000"/>
              <a:gd name="adj2" fmla="val 36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9640" y="364500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肯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159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"/>
          <p:cNvSpPr/>
          <p:nvPr/>
        </p:nvSpPr>
        <p:spPr>
          <a:xfrm>
            <a:off x="1572120" y="403560"/>
            <a:ext cx="9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议一议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1484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在诗中作为女性的“木棉树”，她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否定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什么样爱情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2781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攀援的凌霄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3284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痴情的鸟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3789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泉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4292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险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4797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日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5229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春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3640" y="2924280"/>
            <a:ext cx="216000" cy="2665440"/>
          </a:xfrm>
          <a:custGeom>
            <a:avLst/>
            <a:gdLst>
              <a:gd name="textAreaLeft" fmla="*/ 0 w 216000"/>
              <a:gd name="textAreaRight" fmla="*/ 78120 w 21600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92360" y="2997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男性为中心，女性为从属；以男性为主体，女性为附庸的缺乏独立人格的爱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3716280"/>
            <a:ext cx="1295640" cy="720720"/>
          </a:xfrm>
          <a:prstGeom prst="rightArrow">
            <a:avLst>
              <a:gd name="adj1" fmla="val 50000"/>
              <a:gd name="adj2" fmla="val 449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364500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否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176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0" name=""/>
          <p:cNvSpPr/>
          <p:nvPr/>
        </p:nvSpPr>
        <p:spPr>
          <a:xfrm>
            <a:off x="1788120" y="475200"/>
            <a:ext cx="9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说一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03280" y="191628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3300"/>
                </a:solidFill>
                <a:latin typeface="Times New Roman"/>
              </a:rPr>
              <a:t>你欣赏诗中的主人公木棉吗</a:t>
            </a: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?</a:t>
            </a:r>
            <a:r>
              <a:rPr b="1" lang="zh-CN" sz="4800" spc="-1" strike="noStrike">
                <a:solidFill>
                  <a:srgbClr val="003300"/>
                </a:solidFill>
                <a:latin typeface="Times New Roman"/>
              </a:rPr>
              <a:t>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183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"/>
          <p:cNvSpPr/>
          <p:nvPr/>
        </p:nvSpPr>
        <p:spPr>
          <a:xfrm>
            <a:off x="1547640" y="19162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88120" y="475200"/>
            <a:ext cx="9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练一练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0440" y="1773360"/>
            <a:ext cx="82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诗中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甚至日光、甚至春雨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 ”后面都省略了句子，请补充完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328464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甚至也不止像日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温暖你的躯体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甚至也不止像春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滋润你的心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192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" name=""/>
          <p:cNvSpPr/>
          <p:nvPr/>
        </p:nvSpPr>
        <p:spPr>
          <a:xfrm>
            <a:off x="1788120" y="475200"/>
            <a:ext cx="9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一读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76360" y="234936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Times New Roman"/>
              </a:rPr>
              <a:t>齐读并再次感受这首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199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3" name=""/>
          <p:cNvSpPr/>
          <p:nvPr/>
        </p:nvSpPr>
        <p:spPr>
          <a:xfrm>
            <a:off x="1716840" y="475200"/>
            <a:ext cx="9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做一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17733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熟读并背诵这首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2924280"/>
            <a:ext cx="68403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怎样理解诗的最后一句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爱——不仅爱你伟岸的身躯， 也爱你坚持的位置，足下的土地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66680" y="167652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幼圆"/>
              </a:rPr>
              <a:t>谢谢大家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46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"/>
          <p:cNvSpPr/>
          <p:nvPr/>
        </p:nvSpPr>
        <p:spPr>
          <a:xfrm>
            <a:off x="868680" y="1879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者简介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1197000"/>
            <a:ext cx="381636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隶书"/>
              </a:rPr>
              <a:t>舒婷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隶书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代著名女诗人，原名龚佩瑜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5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生于福建泉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196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开始写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代表诗作有《致橡树》《双桅船》《会唱歌的鸢尾花》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祖国啊，我亲爱的祖国！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0" y="981000"/>
            <a:ext cx="4788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42920" y="333360"/>
            <a:ext cx="252576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朗诵感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1844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要求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2852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一遍   读音节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378936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二遍   把握内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/>
          </p:cNvPr>
          <p:cNvSpPr/>
          <p:nvPr/>
        </p:nvSpPr>
        <p:spPr>
          <a:xfrm>
            <a:off x="6156360" y="4653000"/>
            <a:ext cx="2016000" cy="1081080"/>
          </a:xfrm>
          <a:custGeom>
            <a:avLst/>
            <a:gdLst>
              <a:gd name="textAreaLeft" fmla="*/ 67320 w 2016000"/>
              <a:gd name="textAreaRight" fmla="*/ 1948680 w 2016000"/>
              <a:gd name="textAreaTop" fmla="*/ 67320 h 1081080"/>
              <a:gd name="textAreaBottom" fmla="*/ 101376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924" y="1350"/>
                </a:lnTo>
                <a:lnTo>
                  <a:pt x="1350" y="135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924" y="20250"/>
                </a:lnTo>
                <a:lnTo>
                  <a:pt x="38924" y="135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924" y="2025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274" h="21600">
                <a:moveTo>
                  <a:pt x="13093" y="8394"/>
                </a:moveTo>
                <a:lnTo>
                  <a:pt x="17547" y="8394"/>
                </a:lnTo>
                <a:lnTo>
                  <a:pt x="21992" y="3756"/>
                </a:lnTo>
                <a:lnTo>
                  <a:pt x="21992" y="17844"/>
                </a:lnTo>
                <a:lnTo>
                  <a:pt x="17547" y="13206"/>
                </a:lnTo>
                <a:lnTo>
                  <a:pt x="13093" y="13206"/>
                </a:lnTo>
                <a:close/>
              </a:path>
              <a:path fill="darken" w="40274" h="21600">
                <a:moveTo>
                  <a:pt x="23654" y="10800"/>
                </a:moveTo>
                <a:lnTo>
                  <a:pt x="27181" y="10800"/>
                </a:lnTo>
              </a:path>
              <a:path fill="darken" w="40274" h="21600">
                <a:moveTo>
                  <a:pt x="23654" y="8394"/>
                </a:moveTo>
                <a:lnTo>
                  <a:pt x="27181" y="5611"/>
                </a:lnTo>
              </a:path>
              <a:path fill="darken" w="40274" h="21600">
                <a:moveTo>
                  <a:pt x="23654" y="13206"/>
                </a:moveTo>
                <a:lnTo>
                  <a:pt x="27181" y="15989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60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" name=""/>
          <p:cNvSpPr/>
          <p:nvPr/>
        </p:nvSpPr>
        <p:spPr>
          <a:xfrm>
            <a:off x="870840" y="403560"/>
            <a:ext cx="22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托物言志</a:t>
            </a:r>
            <a:r>
              <a:rPr b="1" lang="en-US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1557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就是在特定的背景下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借助对某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象征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物的状写描摹来表达思想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9600" y="270720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象征</a:t>
            </a:r>
            <a:r>
              <a:rPr b="1" lang="en-US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716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是指通过某一特定的具体形象来表示与之相似或相近的概念、思想或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49417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《致橡树》就是属于托物言志类的诗歌，主要使用了象征这种表现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70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4" name=""/>
          <p:cNvSpPr/>
          <p:nvPr/>
        </p:nvSpPr>
        <p:spPr>
          <a:xfrm>
            <a:off x="1788120" y="691200"/>
            <a:ext cx="9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找一找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58920" y="1989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213372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198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木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16360" y="2133720"/>
            <a:ext cx="863640" cy="215640"/>
          </a:xfrm>
          <a:prstGeom prst="rightArrow">
            <a:avLst>
              <a:gd name="adj1" fmla="val 50000"/>
              <a:gd name="adj2" fmla="val 100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1916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象征：女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32130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335772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3141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橡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3357720"/>
            <a:ext cx="863640" cy="215640"/>
          </a:xfrm>
          <a:prstGeom prst="rightArrow">
            <a:avLst>
              <a:gd name="adj1" fmla="val 50000"/>
              <a:gd name="adj2" fmla="val 100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24360" y="306864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象征：男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4005360"/>
            <a:ext cx="302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87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1" name=""/>
          <p:cNvSpPr/>
          <p:nvPr/>
        </p:nvSpPr>
        <p:spPr>
          <a:xfrm>
            <a:off x="2534760" y="447120"/>
            <a:ext cx="3548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找一找：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诗中体现木棉为女性形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和橡树为男性形象的句子</a:t>
            </a:r>
            <a:r>
              <a:rPr b="0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36320" y="2276640"/>
            <a:ext cx="729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木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1989000"/>
            <a:ext cx="432000" cy="1656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7680" y="4437000"/>
            <a:ext cx="127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橡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4149720"/>
            <a:ext cx="432000" cy="165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3933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你有你的铜枝铁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4724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像刀、像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84360" y="5516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也像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1773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我有我红硕的花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2492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像沉重的叹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3284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又像英勇的火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103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" name=""/>
          <p:cNvSpPr/>
          <p:nvPr/>
        </p:nvSpPr>
        <p:spPr>
          <a:xfrm>
            <a:off x="586800" y="-1080"/>
            <a:ext cx="15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橡   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1052640"/>
            <a:ext cx="2376720" cy="29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橡树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又叫白栎树。落叶乔木，高可达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米以上，产于我国淮河流域及四川以南地区，喜光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981000"/>
            <a:ext cx="56516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111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" name=""/>
          <p:cNvSpPr/>
          <p:nvPr/>
        </p:nvSpPr>
        <p:spPr>
          <a:xfrm>
            <a:off x="729000" y="-1080"/>
            <a:ext cx="183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华文新魏"/>
                <a:ea typeface="华文新魏"/>
              </a:rPr>
              <a:t>木 棉 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907920"/>
            <a:ext cx="30956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木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又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英雄树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，是一种长在我国东南、西南一带的落叶乔木，高可达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米以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早春先叶后花，形大，红色，生长快，萌芽力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0" y="836640"/>
            <a:ext cx="5148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aphicFrame>
          <p:nvGraphicFramePr>
            <p:cNvPr id="119" name=""/>
            <p:cNvGraphicFramePr/>
            <p:nvPr/>
          </p:nvGraphicFramePr>
          <p:xfrm>
            <a:off x="0" y="0"/>
            <a:ext cx="9143640" cy="343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0" y="3433680"/>
            <a:ext cx="9143640" cy="343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433680"/>
                      <a:ext cx="9143640" cy="34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0" y="620640"/>
            <a:ext cx="5580000" cy="623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5651640" y="620640"/>
            <a:ext cx="3492360" cy="6237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看一看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：          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橡树 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与  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隶书"/>
              </a:rPr>
              <a:t>木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7:23:17Z</dcterms:created>
  <dc:creator>tggr</dc:creator>
  <dc:description/>
  <dc:language>en-US</dc:language>
  <cp:lastModifiedBy>徐得亮</cp:lastModifiedBy>
  <cp:lastPrinted>1899-12-30T00:00:00Z</cp:lastPrinted>
  <dcterms:modified xsi:type="dcterms:W3CDTF">2007-12-11T04:34:57Z</dcterms:modified>
  <cp:revision>128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