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4962-81ED-46B9-805D-8D7E98FF4D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2F21-ECC7-4522-B49B-CB6A2515F4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8D3-F892-4694-A313-AEB8C009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16B-9249-4A07-9F44-80987C6C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CC188-B5DC-49A0-AB42-A0F1C7B2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62034-8BB7-473A-920A-17F892CD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A71D8-5D85-4A26-914E-015C3A23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3918D-F438-478E-9198-EF9DEA5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6B0A1-D5E0-4751-A559-B1664013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17FBA-EFB5-4337-9B82-4B59B8B3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BCFD2-CDB9-4B16-982A-0240131C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8138F-902A-4B0B-BF53-9CE70521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97AAB-8B17-41B7-A21B-CC080C50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6C8F8-FA5F-4C53-AE8A-203774F2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E08-435B-425D-8AE8-1C74D746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CB762-87E4-4BA1-B1AB-1A506DEF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42563-6C03-4A23-B365-3C77A4DD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8F48F-5732-4717-BEEC-5EDD474B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FB91E-8483-41E6-A372-824AF4BC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39F5E-D85D-4B99-BF3A-CD49F97A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BD80D-DC48-4F3C-A594-0498BA07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3AFBC-BB8B-4C9E-AA35-9D87BFC7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F6556-7BDD-41EE-85A2-1176A801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85DD5-C433-4A6C-95AE-6D30636B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0818F-943D-469C-AA5B-FED5E5CD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479-98E4-4597-9E84-A7CF19DB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E1EC3-D034-434A-8B76-5B23EA08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FE332-3ED5-43A4-95D4-302E7616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926E1-7CD4-4890-8221-4638B661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4DB5C-83B5-4F7C-97E1-919BF134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CB553-B4ED-4954-90F6-42BEFC3E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CFC54-45A2-4A9C-9BC0-F9B3AA61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EB9C1-FC41-48BF-8AB9-A4074127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14437-AAAE-4F54-A2A1-979677F3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47A2D-1DC3-4526-83A5-DC9FAB4F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9E77B-C8E9-4ECB-BA7C-065DA6C9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5EC1-D39F-41BF-9D2F-505663B0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DE2FB-BC23-4A07-9BE4-0B049FBF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D35F1-BA77-4DB6-B3E3-5803A635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4E389-D19E-457C-8FE6-68B859B0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1B0FE-3B6F-426A-AE7F-049EE2AF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539CC-8E19-491C-A078-37D0857C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EC2DC-99BB-4862-9338-F8C4DDF9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A6C76-ADE2-4D0E-BD3A-F1C5E4D1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D0894-81F8-43F7-8756-C597EE62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B0155-1106-4C7D-830E-FBCB0F83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DCBC2-DE29-4D6C-A165-ACA462F1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E641-293A-4C4D-9978-C95D486E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C7CCA-D734-43AB-AE27-E48426D2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4F467-BB86-42D1-891E-C4F44361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7DA31-7A84-4761-AAB9-00930F96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6B7A8-54B1-4852-A726-AC63BF87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41C3F-4316-450F-A365-DB90B2A8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82ED-B2F7-4389-A1A2-7BAB9F47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C782-259A-4A66-B19D-18C2C076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5C7F-792E-4E60-964E-34B1983E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90E8-654E-46B6-8926-6948331F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41BD-79F7-45D0-BCBB-10357D0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5CD-319A-4497-A953-314753BF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C8BB-86A2-4B16-BB5C-2DC46847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396F-7B08-45DC-9350-3FBB6E6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F4C1-FD2D-4321-86BA-27268326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0E37-D61E-4A48-9ED4-BB4A3D12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442E-2ECA-4999-BA75-7475D791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4917-48FB-4368-A2FF-72CEFF8E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51113-85A2-464F-BE07-1B3BCF38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59D0-4F57-40A1-A480-B3E7980C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0E0CB-8C75-4D13-B1AE-C3CCC267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4852-4712-41E1-AEE5-0093B289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083-C1E8-465F-B74D-2CB51C0A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E3473-746B-4B86-A121-6CB922AA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2D821-0E09-40C4-B47C-05A5B8BE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B961-7541-4C3E-905C-EB9AD2F0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A8724-905B-4076-8619-93C41BCF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DB36-0B40-449E-BA53-F6376793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1B44B-1B18-453C-91BA-EEE7C137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D4D4E-801D-4430-ACC0-EADB2F7E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3F570-786C-4DF4-8639-F97131F3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8242-4598-4327-96D5-25CA89BD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D4837-B827-4CAA-BA24-3575E95B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488-A2BE-4DFA-B788-902FAA3A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E2CED-011C-4CE0-8D0D-FA4C3F70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3956-5650-418D-BD25-546A902B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133A-00F4-4546-97BB-EBB10746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C393-430C-4F21-A996-E0A99F17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E1644-6C85-4581-8C39-EEB1114E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786B8-C352-4BDD-A6BD-8EDC5975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14B84-78B0-4877-B76C-1844F358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FC96C-12CE-4560-A868-DED6AC97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CBFC2-A2E6-48B6-8A26-06995ADB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06104-2C2F-47C2-BC35-9316E878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03B-0F42-497E-9655-AC158944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B919C-C609-4662-8A0C-5212EF22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FECF7-CA6B-4097-8FBB-B30CBADE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345E1-5957-42FC-853A-CFFF7428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71EB0-760E-4A50-94AA-055B656D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CD795-F7FD-4305-8D2A-596F83D8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9541C-B6BD-4880-A7BA-42133472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F330E-F74A-4D83-A127-5F788A20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E465C-CE82-4822-8DCA-77FC245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7127B-6C03-4D90-8E96-B9B73763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58B0-C398-421E-9E7C-1660A885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E28-347B-4EA9-AFBA-2286B4CA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8E9BE-8E24-44D4-8658-02A85ADC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9B637-822C-46FC-8C82-4432C7C0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14AB-534E-4E26-9CE6-008AD317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C686F-9906-445D-98B1-A623CF9F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D095F-AE5F-471D-B643-87344024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F0CD0-0518-4DA3-BAAB-3B7E1FBA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82357-0C52-4F22-85A0-5B186476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675DB-CFCE-424C-B56E-9DCB6785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DFE97-E96A-402F-B8B6-9BA00320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62B24-A88C-4AF1-AC96-007C3F8B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C1C-7A13-4F74-8ABD-352FE2D8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53DD6-1D0A-4093-ABBC-921975D6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8AC02-0D79-46CA-B270-5EA6BB7C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A00AC-67B0-4581-AB03-FCB7765B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7172A-A55F-46C3-88F6-F396B651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3D973-2EFA-458A-9112-ED888874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F99FC-AE05-42EF-9510-556C2E15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C3ABF-7158-4E7B-8C37-7D20EB8D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866DC-35CD-4D4D-9C92-36DBFD7C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82494-563C-4044-8F22-77D46EFC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32973-BD0C-4779-9CCD-C6EC5A6F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015-0E05-4EFA-B66A-37AABED5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2546E-2548-4AE8-B9EF-D5D59929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77F93-CD1B-4A92-8826-CCEF2A89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45A43-F52F-40CB-99F2-750E271F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665BC-4847-4477-B5E9-4A9145D2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F94F8-6877-4719-8FCB-E7F212F5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58DDC-E70C-4A50-A68E-81B9FC48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38D16-0A3E-4E09-BBA7-86ADF319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F7899-235A-45CD-9A61-1940AB0B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DCCCD-AF24-4722-AD4C-398E0688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EBBB0-77E7-4A68-AC6D-D5A91C55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777-B523-4D3E-AABC-66B934E3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B226E-6C7E-4D6B-B9F6-D763AB17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FC617-E15E-47CB-9DF5-ACB36FE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0784B-7050-420E-A6BC-0CD602D4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108B2-2880-424B-BAD4-E73F4EA7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FC72C-91F9-4078-B7BD-2EB5E934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4754F-88A1-49ED-9BD1-A3D80C70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03943-33F5-4658-9DF8-11124861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77F29-04C2-4EAB-B854-D5A5F750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37C2D-D54C-4E77-BA05-214FFA3C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3E204-B69A-4493-A321-40A0A6B0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2091-2734-451D-A1E6-84C03CD74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8BA0-B96B-4CCA-9ABF-3AF656AFC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7D1F-CC42-475C-A829-6DECE1A35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E7E9-46AA-4922-87BE-9D7A52EB6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AD65-C063-4B3D-BD87-1F2C38122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D87F-3F43-4EF1-9049-1E8AFFA36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A327-6C1A-483F-AEC1-1879878F7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5FDF-6CE1-4FFF-9D2F-ADC126423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82A4-B797-408B-9AD9-A0FB46597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513E-AE91-44EE-B807-9A4859A53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A09B-3B2D-4A80-AD84-6EB85B72C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87FB-9A2A-4E0C-98D0-7A75CE681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0" y="876240"/>
            <a:ext cx="450072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1fbfb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81fbfb"/>
                </a:solidFill>
                <a:latin typeface="Arial"/>
                <a:ea typeface="楷体_GB2312"/>
              </a:rPr>
              <a:t>在天愿做比翼鸟，</a:t>
            </a:r>
            <a:br>
              <a:rPr sz="4000"/>
            </a:br>
            <a:r>
              <a:rPr b="0" lang="zh-CN" sz="4000" spc="-1" strike="noStrike">
                <a:solidFill>
                  <a:srgbClr val="81fbfb"/>
                </a:solidFill>
                <a:latin typeface="Arial"/>
                <a:ea typeface="楷体_GB2312"/>
              </a:rPr>
              <a:t>在地愿为连理枝。”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81fbfb"/>
                </a:solidFill>
                <a:latin typeface="Arial"/>
                <a:ea typeface="楷体_GB2312"/>
              </a:rPr>
              <a:t>“两情若是久长时，</a:t>
            </a:r>
            <a:br>
              <a:rPr sz="4000"/>
            </a:br>
            <a:r>
              <a:rPr b="0" lang="zh-CN" sz="4000" spc="-1" strike="noStrike">
                <a:solidFill>
                  <a:srgbClr val="81fbfb"/>
                </a:solidFill>
                <a:latin typeface="Arial"/>
                <a:ea typeface="楷体_GB2312"/>
              </a:rPr>
              <a:t>又岂在朝朝暮暮。”</a:t>
            </a:r>
            <a:r>
              <a:rPr b="0" lang="zh-CN" sz="4000" spc="-1" strike="noStrike">
                <a:solidFill>
                  <a:srgbClr val="81fbf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01" name="Rectangle 5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6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9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2891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6af00"/>
                </a:solidFill>
                <a:latin typeface="Arial"/>
                <a:ea typeface="黑体"/>
              </a:rPr>
              <a:t>阳刚之气的橡树</a:t>
            </a:r>
            <a:br>
              <a:rPr sz="2400"/>
            </a:br>
            <a:r>
              <a:rPr b="1" lang="zh-CN" sz="2400" spc="-1" strike="noStrike">
                <a:solidFill>
                  <a:srgbClr val="6b6bcf"/>
                </a:solidFill>
                <a:latin typeface="Arial"/>
                <a:ea typeface="黑体"/>
              </a:rPr>
              <a:t>阴柔之美的木棉</a:t>
            </a:r>
            <a:r>
              <a:rPr b="0" lang="zh-CN" sz="4000" spc="-1" strike="noStrike">
                <a:solidFill>
                  <a:srgbClr val="6b6bc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6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222268"/>
                </a:solidFill>
                <a:latin typeface="Arial"/>
              </a:rPr>
              <a:t>）“ 我必须是你近旁的一株木棉， 作为树的形象和你站在一起。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　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爱的基础应是独立平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6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222268"/>
                </a:solidFill>
                <a:latin typeface="Arial"/>
              </a:rPr>
              <a:t>）根，紧握在地下，叶，相触在云里。每一阵风过，我们都互相致意，但没有人听懂我们的言语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既有独立的人格，又有精神上的默契，灵犀相通，相敬如宾。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68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222268"/>
                </a:solidFill>
                <a:latin typeface="Arial"/>
              </a:rPr>
              <a:t>）我们分担寒潮、风雨、霹雳。我们共享雾蔼、流岚、虹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互相尊重、互相理解、心心相印、息息相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4641840" y="61920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特殊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右大括号 9"/>
          <p:cNvSpPr/>
          <p:nvPr/>
        </p:nvSpPr>
        <p:spPr>
          <a:xfrm>
            <a:off x="3929040" y="500040"/>
            <a:ext cx="571680" cy="78588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785880"/>
              <a:gd name="textAreaBottom" fmla="*/ 7711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55"/>
                  <a:pt x="10800" y="1309"/>
                </a:cubicBezTo>
                <a:lnTo>
                  <a:pt x="10800" y="9491"/>
                </a:lnTo>
                <a:cubicBezTo>
                  <a:pt x="10800" y="10146"/>
                  <a:pt x="16200" y="10800"/>
                  <a:pt x="21600" y="10800"/>
                </a:cubicBezTo>
                <a:cubicBezTo>
                  <a:pt x="16200" y="10800"/>
                  <a:pt x="10800" y="11455"/>
                  <a:pt x="10800" y="12109"/>
                </a:cubicBezTo>
                <a:lnTo>
                  <a:pt x="10800" y="20291"/>
                </a:lnTo>
                <a:cubicBezTo>
                  <a:pt x="10800" y="2094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6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56" name="Rectangle 7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8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1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真正的爱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014200" y="2204640"/>
            <a:ext cx="6272280" cy="2521080"/>
          </a:xfrm>
          <a:prstGeom prst="rect">
            <a:avLst/>
          </a:prstGeom>
          <a:solidFill>
            <a:srgbClr val="e6fffe">
              <a:alpha val="4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b6bcf"/>
                </a:solidFill>
                <a:latin typeface="Arial"/>
              </a:rPr>
              <a:t>我们分担寒潮、风雷、霹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b6bcf"/>
                </a:solidFill>
                <a:latin typeface="Arial"/>
              </a:rPr>
              <a:t>我们共享雾霭、流岚、虹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b6bcf"/>
                </a:solidFill>
                <a:latin typeface="Arial"/>
              </a:rPr>
              <a:t>仿佛永远分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b6bcf"/>
                </a:solidFill>
                <a:latin typeface="Arial"/>
              </a:rPr>
              <a:t>却又终身相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4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62" name="Rectangle 5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6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9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692360" y="980640"/>
            <a:ext cx="55944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cc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cc00"/>
                </a:solidFill>
                <a:latin typeface="黑体"/>
                <a:ea typeface="黑体"/>
              </a:rPr>
              <a:t>这才是伟大的爱情！</a:t>
            </a:r>
            <a:r>
              <a:rPr b="0" lang="zh-CN" sz="4000" spc="-1" strike="noStrike">
                <a:solidFill>
                  <a:srgbClr val="cccc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3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67" name="Rectangle 4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5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8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35040" y="2071800"/>
            <a:ext cx="936720" cy="3457440"/>
          </a:xfrm>
          <a:prstGeom prst="rect">
            <a:avLst/>
          </a:prstGeom>
          <a:solidFill>
            <a:srgbClr val="ffe5ff">
              <a:alpha val="42000"/>
            </a:srgbClr>
          </a:solidFill>
          <a:ln w="9360">
            <a:solidFill>
              <a:srgbClr val="ff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黑体"/>
              </a:rPr>
              <a:t>心中的爱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3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72" name="Rectangle 4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8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5072040" cy="928800"/>
          </a:xfrm>
          <a:prstGeom prst="rect">
            <a:avLst/>
          </a:prstGeom>
          <a:solidFill>
            <a:srgbClr val="f2f2f2">
              <a:alpha val="6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拓展延伸：比较阅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3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77" name="Rectangle 4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5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8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571480" y="632880"/>
            <a:ext cx="3166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Arial"/>
                <a:ea typeface="黑体"/>
              </a:rPr>
              <a:t>一颗开花的树</a:t>
            </a:r>
            <a:br>
              <a:rPr sz="2800"/>
            </a:br>
            <a:r>
              <a:rPr b="1" lang="zh-CN" sz="2000" spc="-1" strike="noStrike">
                <a:solidFill>
                  <a:srgbClr val="ff99ff"/>
                </a:solidFill>
                <a:latin typeface="Arial"/>
              </a:rPr>
              <a:t>席慕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4160" y="2214360"/>
            <a:ext cx="36003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如何让你遇见我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在我最美丽的时刻</a:t>
            </a:r>
            <a:br>
              <a:rPr sz="2000"/>
            </a:br>
            <a:br>
              <a:rPr sz="20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为这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我已在佛前求了五百年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求佛让我们结一段尘缘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佛于是把我化作一棵树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长在你必经的路旁</a:t>
            </a:r>
            <a:br>
              <a:rPr sz="2000"/>
            </a:br>
            <a:br>
              <a:rPr sz="20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阳光下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慎重地开满了花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朵朵都是我前世的盼望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4933800" y="4143240"/>
            <a:ext cx="313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而当你终于无视地走过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在你身后落了一地的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朋友啊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那不是花瓣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那是我凋零的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"/>
          <p:cNvSpPr/>
          <p:nvPr/>
        </p:nvSpPr>
        <p:spPr>
          <a:xfrm>
            <a:off x="4929120" y="2357280"/>
            <a:ext cx="2286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当你走近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请你细听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那颤抖的叶</a:t>
            </a:r>
            <a:br>
              <a:rPr sz="2200"/>
            </a:br>
            <a:r>
              <a:rPr b="1" lang="zh-CN" sz="2200" spc="-1" strike="noStrike">
                <a:solidFill>
                  <a:srgbClr val="c00000"/>
                </a:solidFill>
                <a:latin typeface="华文彩云"/>
                <a:ea typeface="华文彩云"/>
              </a:rPr>
              <a:t>是我等待的热情</a:t>
            </a:r>
            <a:br>
              <a:rPr sz="20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6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85" name="Rectangle 7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1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1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cc"/>
                </a:solidFill>
                <a:latin typeface="Arial"/>
                <a:ea typeface="黑体"/>
              </a:rPr>
              <a:t>李商隐</a:t>
            </a:r>
            <a:r>
              <a:rPr b="1" lang="en-US" sz="3600" spc="-1" strike="noStrike">
                <a:solidFill>
                  <a:srgbClr val="cccccc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cccccc"/>
                </a:solidFill>
                <a:latin typeface="Arial"/>
                <a:ea typeface="黑体"/>
              </a:rPr>
              <a:t>无题</a:t>
            </a:r>
            <a:r>
              <a:rPr b="1" lang="en-US" sz="3600" spc="-1" strike="noStrike">
                <a:solidFill>
                  <a:srgbClr val="cccccc"/>
                </a:solidFill>
                <a:latin typeface="Arial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7280" y="1428480"/>
            <a:ext cx="7283520" cy="3871800"/>
          </a:xfrm>
          <a:prstGeom prst="rect">
            <a:avLst/>
          </a:prstGeom>
          <a:solidFill>
            <a:srgbClr val="c0c0c0">
              <a:alpha val="46000"/>
            </a:srgbClr>
          </a:solidFill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相见时难别亦难，东风无力百花残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春蚕到死丝方尽，蜡炬成灰泪始干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晓镜但愁云鬓改，夜吟应觉月光寒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蓬山此去多无路，青鸟殷勤为探看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4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91" name="Rectangle 5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6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643720" y="2214720"/>
            <a:ext cx="2172960" cy="2714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bdfd"/>
                </a:solidFill>
                <a:latin typeface="黑体"/>
                <a:ea typeface="黑体"/>
              </a:rPr>
              <a:t>鹊桥仙 </a:t>
            </a:r>
            <a:br>
              <a:rPr sz="3600"/>
            </a:br>
            <a:r>
              <a:rPr b="1" lang="zh-CN" sz="2400" spc="-1" strike="noStrike">
                <a:solidFill>
                  <a:srgbClr val="5fbdfd"/>
                </a:solidFill>
                <a:latin typeface="Arial"/>
              </a:rPr>
              <a:t>秦观</a:t>
            </a:r>
            <a:r>
              <a:rPr b="0" lang="zh-CN" sz="4000" spc="-1" strike="noStrike">
                <a:solidFill>
                  <a:srgbClr val="5fbdf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28800" y="1143000"/>
            <a:ext cx="4029120" cy="5143680"/>
          </a:xfrm>
          <a:prstGeom prst="rect">
            <a:avLst/>
          </a:prstGeom>
          <a:solidFill>
            <a:srgbClr val="c0c0c0">
              <a:alpha val="53000"/>
            </a:srgbClr>
          </a:solidFill>
          <a:ln w="0">
            <a:noFill/>
          </a:ln>
        </p:spPr>
        <p:txBody>
          <a:bodyPr anchor="t" vert="eaVer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纤云弄巧，飞星传恨，银汉迢迢暗度。金风玉露一相逢，便胜却人间无数。 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  柔情似水，佳期如梦，忍顾鹊桥归路。两情若是久长时，又岂在朝朝暮暮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4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97" name="Rectangle 5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6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9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108480" y="33300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Arial"/>
                <a:ea typeface="楷体_GB2312"/>
              </a:rPr>
              <a:t>凌霄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602" name="Rectangle 4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8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AutoShape 9"/>
          <p:cNvSpPr/>
          <p:nvPr/>
        </p:nvSpPr>
        <p:spPr>
          <a:xfrm>
            <a:off x="781200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36000" y="260280"/>
            <a:ext cx="1522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鸟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608" name="Rectangle 5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9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AutoShape 11"/>
          <p:cNvSpPr/>
          <p:nvPr/>
        </p:nvSpPr>
        <p:spPr>
          <a:xfrm>
            <a:off x="781200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276360" y="1143000"/>
            <a:ext cx="51116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讨论：情为何物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06" name="Rectangle 4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5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8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732720" y="404280"/>
            <a:ext cx="195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泉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9"/>
          <p:cNvSpPr/>
          <p:nvPr/>
        </p:nvSpPr>
        <p:spPr>
          <a:xfrm>
            <a:off x="781200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541920" y="26964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险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616" name="Rectangle 4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8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AutoShape 9"/>
          <p:cNvSpPr/>
          <p:nvPr/>
        </p:nvSpPr>
        <p:spPr>
          <a:xfrm>
            <a:off x="781200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24360" y="5444640"/>
            <a:ext cx="18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日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3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622" name="Rectangle 4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5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8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AutoShape 9"/>
          <p:cNvSpPr/>
          <p:nvPr/>
        </p:nvSpPr>
        <p:spPr>
          <a:xfrm>
            <a:off x="781200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973920" y="188640"/>
            <a:ext cx="217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春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628" name="Rectangle 5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6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9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AutoShape 10"/>
          <p:cNvSpPr/>
          <p:nvPr/>
        </p:nvSpPr>
        <p:spPr>
          <a:xfrm>
            <a:off x="781200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10397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8552" y="3794"/>
                </a:lnTo>
                <a:lnTo>
                  <a:pt x="8552" y="17806"/>
                </a:lnTo>
                <a:lnTo>
                  <a:pt x="68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WordArt 5"/>
          <p:cNvSpPr txBox="1"/>
          <p:nvPr/>
        </p:nvSpPr>
        <p:spPr>
          <a:xfrm>
            <a:off x="7596360" y="1268280"/>
            <a:ext cx="1008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96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致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96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96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橡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96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96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树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96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0" name="WordArt 6" descr=""/>
          <p:cNvPicPr/>
          <p:nvPr/>
        </p:nvPicPr>
        <p:blipFill>
          <a:blip r:embed="rId2"/>
          <a:stretch/>
        </p:blipFill>
        <p:spPr>
          <a:xfrm>
            <a:off x="7943760" y="3468600"/>
            <a:ext cx="480960" cy="97020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4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12" name="Rectangle 5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9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572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爱情语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143000" y="2118600"/>
            <a:ext cx="728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爱情不是一颗心去敲打另一颗心，而是两颗心共同撞击的火花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苏联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伊萨可夫斯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爱是一种甜蜜的痛苦。真诚的爱情永远不是一条平坦的道路。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英国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莎士比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伟大的爱情能使最平庸的人变得敏锐、勇于献身、充满信心。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法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安德烈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莫洛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爱情是伟大的导师，教我们重新做人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法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莫里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4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18" name="Rectangle 5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9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92360" y="249192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自由朗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4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23" name="Rectangle 5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6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9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3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27" name="Rectangle 4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8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0" name="致橡树.mp3" descr=""/>
          <p:cNvPicPr/>
          <p:nvPr/>
        </p:nvPicPr>
        <p:blipFill>
          <a:blip r:embed="rId2"/>
          <a:stretch/>
        </p:blipFill>
        <p:spPr>
          <a:xfrm>
            <a:off x="824400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7974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Arial"/>
                <a:ea typeface="黑体"/>
              </a:rPr>
              <a:t>意  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571560" y="20718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凌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鸟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泉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险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日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春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34" name="Rectangle 5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6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9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79280" y="54900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世俗的爱情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419280" y="2133720"/>
            <a:ext cx="3754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方攀附的爱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924360" y="29962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方痴恋的爱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5145120" y="4004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味奉献的爱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8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42" name="Rectangle 9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96000" y="1341000"/>
            <a:ext cx="216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f2f2"/>
                </a:solidFill>
                <a:latin typeface="Arial"/>
                <a:ea typeface="楷体_GB2312"/>
              </a:rPr>
              <a:t>木   棉</a:t>
            </a:r>
            <a:r>
              <a:rPr b="0" lang="zh-CN" sz="44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5364000" y="2855160"/>
            <a:ext cx="3313440" cy="825480"/>
          </a:xfrm>
          <a:prstGeom prst="rect">
            <a:avLst/>
          </a:prstGeom>
          <a:solidFill>
            <a:srgbClr val="f2f2f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9f"/>
                </a:solidFill>
                <a:latin typeface="Arial"/>
              </a:rPr>
              <a:t>象征女性阴柔之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339f"/>
                </a:solidFill>
                <a:latin typeface="Arial"/>
              </a:rPr>
              <a:t>平等、独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4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sp>
          <p:nvSpPr>
            <p:cNvPr id="548" name="Rectangle 5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6"/>
            <p:cNvSpPr/>
            <p:nvPr/>
          </p:nvSpPr>
          <p:spPr>
            <a:xfrm>
              <a:off x="-34920" y="-27000"/>
              <a:ext cx="9178920" cy="431640"/>
            </a:xfrm>
            <a:prstGeom prst="rect">
              <a:avLst/>
            </a:prstGeom>
            <a:solidFill>
              <a:srgbClr val="bce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9"/>
            <p:cNvSpPr/>
            <p:nvPr/>
          </p:nvSpPr>
          <p:spPr>
            <a:xfrm>
              <a:off x="685800" y="442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09:02:19Z</dcterms:created>
  <dc:creator>FiSh</dc:creator>
  <dc:description/>
  <dc:language>en-US</dc:language>
  <cp:lastModifiedBy>于丽波</cp:lastModifiedBy>
  <dcterms:modified xsi:type="dcterms:W3CDTF">2018-11-25T08:46:20Z</dcterms:modified>
  <cp:revision>38</cp:revision>
  <dc:subject/>
  <dc:title>幻灯片 1</dc:title>
</cp:coreProperties>
</file>