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137-61E6-408F-A0E4-F939531F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84C-CD28-4902-B127-9CDD9739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B51-8555-48B5-B03F-251464E5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5BA-15FF-4884-91A2-669458BA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9777-A474-460A-9DFC-ABA3EDFE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D925-9FEA-4312-AB60-F5AA6B3C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452E-1457-4A75-AEF3-48FF8FA7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0FA5-9896-47D8-9046-BA82B8FE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B429-0E95-4A8A-A597-F55C8977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14E9-F9FD-474B-8FA1-5B56D923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ABFF-8348-4E04-AA73-0F5ECF53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876-7EF8-49A4-A054-8236D89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8079-3EE2-43ED-8B2D-EF867A7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F55B-F909-4185-BE2A-7479D37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B409-A58A-438B-997A-48343E4E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3EC8-129A-4C9F-9CC5-659F4E09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A378-7C05-4439-BF0A-AF0AF9EB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DA36-E23E-4C8B-85D8-DBF4CDEC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74BD-55D6-4ABC-BFF4-B96722CD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65ED-601A-428C-A16B-43AF0377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DA5F-A85D-4C8C-B998-5FE59975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B1C4-4466-414B-A596-5F4C702A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734-7995-445E-AE92-B486BE48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5A52-2A4A-49AC-A4C0-EB513D82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91D6-AA2A-431A-851E-F8956EFE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5A2E-9106-4A6C-B7C9-229F541B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A0D02-5C90-4A9A-BF85-76F72B7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7F91-B297-4D73-9924-ED534DDC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7828-B705-45C8-8A66-32DEF354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DFD7-5F80-441F-A3C6-4172513A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22D0-9E3F-4274-9163-1A1AA725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7F31-1A15-4A09-9066-29412BF8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3AEB8-3969-404A-8633-5838AA1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89E-106E-4B3B-9E94-4DC1B23A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E4A4-A85C-41C5-A33F-0C6940CF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34F00-4C4B-492D-83AF-B6CE4971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5F9DD-9C97-42A8-814A-79B4718E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A8A5-6912-4AB2-B889-9C404B19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9BB3-8227-46F4-80DE-3686D1F6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23679-502B-472D-AC94-B908D19B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E75C-FB53-45D4-ACBF-736DF975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E43F-CBB0-42F8-8E77-4138176D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8DAD4-E7A4-4437-9A73-DD9E9258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0F4C-2EBC-4D84-8FFC-04615D88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379-C7F3-42F0-8F18-49B2831C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52C09-2670-4645-B9FC-13AB9782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B1C4B-0FE9-4249-A6F4-CA0643E1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5321E-EAB6-4867-A24D-81713883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91F97-C31E-4496-86C4-81F69B27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4F4B-86BB-49B8-8BF5-0F40866B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0C41-C4B7-4DB8-917E-527C7C0B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7A116-48C9-43DA-A8B7-376F868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A74F4-2A08-4DB6-B113-C10CE4B1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061B6-2332-407A-AFCC-FB5B751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2EF1-9C7E-458B-A83E-095E606E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F32-3FDD-4812-B1C4-0A885055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9C43F-FBF7-4DF9-A439-613D7A7E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B927-8E2D-462D-A2DC-482D41D5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31FAB-D5CA-4FD0-B6DA-E0184FCC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E94E-7C27-481F-9325-5911A39D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1F6BD-9281-4F7B-A37F-CA59BB71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FB263-28B5-41B0-9BCE-81BBE686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BD4CD-F28D-4B1D-9C37-0141CF3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E9CD1-0F68-4AD8-937B-E7A44FE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8E907-89F2-41DA-B308-486AE232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A3904-9A3C-4334-ABDF-438A8E44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C0A-FB50-4457-A643-785C59D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EE248-AC4C-444B-AEE0-CA455220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EBDB-CC6B-40BA-9A41-831A40B7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9FF1-654F-4B97-99CA-C7828FDA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C52-C994-435E-884D-D2A921DA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26F-1851-4B2B-8258-F8253B1F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64B1-80D0-477D-9F39-55A0BA6788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6149-6AD4-4DDA-B949-934ECB66FB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F6C3-11A5-4BAF-96E1-209C5AA5859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0DC8-E9FA-46A2-B52B-96297ACC5BDC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6EE7-102F-4C8B-A1AE-F5888250632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706F-1BB9-4F64-8C76-D99ADF17E33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8920" y="185256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关关雎鸠，在河之洲。窈窕淑女，君子好逑。             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—</a:t>
            </a: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《关雎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3468600"/>
            <a:ext cx="8064360" cy="36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君当作磐石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妾当作蒲苇。蒲苇韧如丝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磐石无转移 。                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              —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《孔雀东南飞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557280"/>
            <a:ext cx="4897440" cy="7034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</a:rPr>
              <a:t>古人爱情诗中的意象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攀援的凌霄花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424720" cy="48686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3" action="ppaction://hlinksldjump"/>
          </p:cNvPr>
          <p:cNvSpPr/>
          <p:nvPr/>
        </p:nvSpPr>
        <p:spPr>
          <a:xfrm>
            <a:off x="395280" y="333360"/>
            <a:ext cx="720720" cy="792000"/>
          </a:xfrm>
          <a:custGeom>
            <a:avLst/>
            <a:gdLst>
              <a:gd name="textAreaLeft" fmla="*/ 297000 w 720720"/>
              <a:gd name="textAreaRight" fmla="*/ 423720 w 72072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2411280" y="1197000"/>
          <a:ext cx="6121080" cy="4752720"/>
        </p:xfrm>
        <a:graphic>
          <a:graphicData uri="http://schemas.openxmlformats.org/drawingml/2006/table">
            <a:tbl>
              <a:tblPr/>
              <a:tblGrid>
                <a:gridCol w="2859120"/>
                <a:gridCol w="32619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意  象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与树的关系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6227640" y="2347560"/>
            <a:ext cx="10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依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32824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痴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26440" y="45802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奉献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1380960" cy="1447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977760" cy="2016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240000" y="3357720"/>
            <a:ext cx="108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鸟    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33160" y="24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凌霄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4437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泉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4437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险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5300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5157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日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4360" y="5157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春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33336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木棉的独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痴情的鸟儿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560" y="3612960"/>
            <a:ext cx="524196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424720" cy="5040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95280" y="404640"/>
            <a:ext cx="792000" cy="720720"/>
          </a:xfrm>
          <a:custGeom>
            <a:avLst/>
            <a:gdLst>
              <a:gd name="textAreaLeft" fmla="*/ 326160 w 792000"/>
              <a:gd name="textAreaRight" fmla="*/ 465840 w 79200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40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泉源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424720" cy="5400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39640" y="333360"/>
            <a:ext cx="576360" cy="719280"/>
          </a:xfrm>
          <a:custGeom>
            <a:avLst/>
            <a:gdLst>
              <a:gd name="textAreaLeft" fmla="*/ 237600 w 576360"/>
              <a:gd name="textAreaRight" fmla="*/ 338760 w 57636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3360" y="33300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险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569080" cy="5184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68360" y="404640"/>
            <a:ext cx="790560" cy="720720"/>
          </a:xfrm>
          <a:custGeom>
            <a:avLst/>
            <a:gdLst>
              <a:gd name="textAreaLeft" fmla="*/ 325800 w 790560"/>
              <a:gd name="textAreaRight" fmla="*/ 464760 w 79056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3360" y="333000"/>
            <a:ext cx="8540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日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893080" cy="5373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39640" y="333360"/>
            <a:ext cx="576360" cy="863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355680 h 863640"/>
              <a:gd name="textAreaBottom" fmla="*/ 5079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540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春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183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95280" y="404640"/>
            <a:ext cx="576360" cy="648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267120 h 648000"/>
              <a:gd name="textAreaBottom" fmla="*/ 38088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3360" y="333360"/>
            <a:ext cx="8540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木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569080" cy="5183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68360" y="333360"/>
            <a:ext cx="647640" cy="71928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思考：谁在“致橡树”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25034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木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自己对爱情的独特理解，自己的爱情观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800600" y="243216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3228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845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36840" y="558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89480" y="573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5335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１、作者否定了哪几种爱情观？为什么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6360" y="191628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１）极力攀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157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因为爱的双方没有平等、独立可言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708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（２）单方痴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47640" y="3500280"/>
            <a:ext cx="676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（３）一味奉献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08720" y="4365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日光 、 春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92720" y="1916280"/>
            <a:ext cx="295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凌霄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08720" y="285264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鸟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76720" y="3573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源泉、险峰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983600" y="836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天愿作比翼鸟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16200" y="836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地愿为连理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9240" y="2276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身无彩凤双飞翼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2720" y="2276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心有灵犀一点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83600" y="386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两情若是久长时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60560" y="386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又岂在朝朝暮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1726920" cy="1717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7020000" y="4724280"/>
            <a:ext cx="1801800" cy="17528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219640" y="1557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白居易《长恨歌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19640" y="3141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李商隐《无题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4724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秦观《鹊桥仙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17440" y="333360"/>
            <a:ext cx="8675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诗人所向往的爱情是什么？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932440" cy="4713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816680" y="21178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</a:rPr>
              <a:t>平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8320" y="114732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</a:rPr>
              <a:t>树与树的关系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143000" y="2209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橡树：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男性的阳刚气概。伟岸挺拔，刚强不屈，锋芒锐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16000" y="4005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木棉：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女性的柔韧气质。健康活泼， 深沉博大，坚韧不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58920" y="62064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橡树、木棉分别象征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0920" y="558972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托物言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24000" y="1052640"/>
            <a:ext cx="806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作者向往的真正的爱情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22096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１）、平等独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28195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２）、心心相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3429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３）、祸福与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４）、相知相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rcRect l="0" t="1512" r="8979" b="0"/>
          <a:stretch/>
        </p:blipFill>
        <p:spPr>
          <a:xfrm>
            <a:off x="0" y="333360"/>
            <a:ext cx="6300720" cy="6237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71240" y="549360"/>
            <a:ext cx="11552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天愿作比翼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地愿为连理枝。－－《长恨歌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47240" y="1696680"/>
            <a:ext cx="1155240" cy="35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枝枝相覆盖 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叶叶相交通。－－《孔雀东南飞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86200" cy="4114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427640" y="476280"/>
            <a:ext cx="4167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简：你以为我穷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不好看，就没有感情吗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我也会的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如果上帝赋予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财富和美貌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我一定要使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难于离开我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就象现在我难于离开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上帝没有这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我们的精神是同等的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就如同你跟我经过坟墓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同样地站在上帝面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5280" y="58244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电影《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爱》剧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原著夏洛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勃朗特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404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拓展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：平等的爱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85406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42d49"/>
                </a:solidFill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342d49"/>
                </a:solidFill>
                <a:latin typeface="Arial"/>
              </a:rPr>
              <a:t>孤独的英雄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067280" y="1915920"/>
            <a:ext cx="47052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黑夜给了我黑色的眼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却用它来寻找光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顾城《一代人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067280" y="4134960"/>
            <a:ext cx="4922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卑鄙是卑鄙者的通行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高尚是高尚者的墓志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北岛《回答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203640" cy="47530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611280" y="549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拓展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：朦胧诗派其他代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332000" y="191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诗人按照先破后立的艺术构思，否定了种种世俗的爱情观，在强调独立平等的基础上，提出了自己的理想的爱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02320" y="738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小结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685560" y="620640"/>
            <a:ext cx="2009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致  橡  树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8560" y="4724280"/>
            <a:ext cx="152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舒  婷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187280" y="1447920"/>
            <a:ext cx="7488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学习目标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１、初步了解朦胧诗的特点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2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、培养解读诗歌意象的能力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3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、树立正确的爱情观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673440" cy="4753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780000" y="268164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舒婷，原名龚佩瑜。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195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年出生于福建泉州，当代女诗人。主要作品《双桅船》《舒婷顾城抒情诗选》等。《祖国啊，我亲爱的祖国！》获全国青年优秀诗歌奖。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年代末，她和同代人北岛、顾城、梁小斌等以迥异于前辈的诗风，在中国诗坛上掀起了一股“朦胧诗”的大潮。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476360" y="42242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涌现于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代左右。一改新诗明白如话、几近分行散文式的传统特点，意蕴深厚而不显露，变诗的单一形象为多层次的意象迭加，给读者留下广阔的想象、阐述的余地，使许多诗失却传统的明朗色彩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蒙上了一层朦朦胧胧的氛围。他们用朦胧诗表达了一代人对国家命运的反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对社会生活的方方面面的审慎思索和批判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87040" y="1100880"/>
            <a:ext cx="12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朦胧诗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826920" y="10414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炫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16905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慰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24098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霹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6920" y="40370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雾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3244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流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7116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60920" y="1041480"/>
            <a:ext cx="17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xu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2000" y="1617840"/>
            <a:ext cx="12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i ji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92320" y="2370240"/>
            <a:ext cx="6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ī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24000" y="40273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ǎ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3080" y="3357720"/>
            <a:ext cx="6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52720" y="47926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n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1280" y="16700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安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16360" y="237636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云与地面之间发生的一种强烈的雷电现象。响声很大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92360" y="3357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山里的雾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21080" y="40528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云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65520" y="4838760"/>
            <a:ext cx="58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大气中有时跟虹同时出现的一种光的现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108756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夸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68360" y="47628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27280" y="141300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深 情 朗 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2492280"/>
            <a:ext cx="8280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、读准字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、把握停顿、重音、节奏和速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、根据语义抒发情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812000" y="573408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20709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浏览课文，思考完成表格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24000" y="1557360"/>
          <a:ext cx="8540280" cy="3885840"/>
        </p:xfrm>
        <a:graphic>
          <a:graphicData uri="http://schemas.openxmlformats.org/drawingml/2006/table">
            <a:tbl>
              <a:tblPr/>
              <a:tblGrid>
                <a:gridCol w="3988800"/>
                <a:gridCol w="455148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意  象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与树的关系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0:19:47Z</dcterms:created>
  <dc:creator>User</dc:creator>
  <dc:description/>
  <dc:language>en-US</dc:language>
  <cp:lastModifiedBy>微软用户</cp:lastModifiedBy>
  <dcterms:modified xsi:type="dcterms:W3CDTF">2013-09-11T07:56:05Z</dcterms:modified>
  <cp:revision>23</cp:revision>
  <dc:subject/>
  <dc:title>幻灯片 1</dc:title>
</cp:coreProperties>
</file>