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5.jpeg" ContentType="image/jpeg"/>
  <Override PartName="/ppt/media/image14.gif" ContentType="image/gif"/>
  <Override PartName="/ppt/media/image13.jpeg" ContentType="image/jpeg"/>
  <Override PartName="/ppt/media/image1.jpeg" ContentType="image/jpeg"/>
  <Override PartName="/ppt/media/image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1C5-4AF6-446D-9DEB-ADE4C59A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6446-2E81-49B3-B236-78128C24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C2A2-5822-456D-8781-396128CA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E7D-69B8-4F1F-BFF7-47C81D85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6E4-5771-4E18-AFE6-32B2B51A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A9C-0EEA-4A6C-A94C-2B78D839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5CDE-2EE1-42E6-9498-BB2C703B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2C3-7305-49D2-BB62-8D0E15B7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08B-376A-48C1-B63D-B63B0B0A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BEE-72D1-450E-8D08-84B91FC3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B2C-F209-419E-AC80-EC3FA8AC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8B4-A4FF-435A-A8AA-6CF6B674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0FAE-DD99-4DA3-96E0-D48EAC3E80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cn87.com/qjshu/articleshow.asp?articleID=347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114800" cy="6172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260280"/>
            <a:ext cx="3938400" cy="6172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62120" y="380880"/>
            <a:ext cx="255780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9600" spc="-1" strike="noStrike">
                <a:solidFill>
                  <a:srgbClr val="ff0066"/>
                </a:solidFill>
                <a:latin typeface="Times New Roman"/>
                <a:ea typeface="隶书"/>
              </a:rPr>
              <a:t>致橡树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舒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95480" y="2803680"/>
            <a:ext cx="335304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厦门市集美职业技术学校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    </a:t>
            </a: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语文组：韩奇平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advTm="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ff6699">
              <a:alpha val="50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3228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845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36840" y="558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89480" y="573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8088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１、作者否定了哪几种爱情观？为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1981080"/>
            <a:ext cx="49528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Times New Roman"/>
                <a:ea typeface="隶书"/>
              </a:rPr>
              <a:t>（１）极力攀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Times New Roman"/>
                <a:ea typeface="隶书"/>
              </a:rPr>
              <a:t>（２）单方痴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Times New Roman"/>
                <a:ea typeface="隶书"/>
              </a:rPr>
              <a:t>（３）一味奉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334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因为爱的双方没有平等、独立可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43000" y="1066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２、作者向往的真正的爱情是什么样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259092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）、平等独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3276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）、心心相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47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）、祸福与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53341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）、相知相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40384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）、独立个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43000" y="1828800"/>
            <a:ext cx="6781680" cy="91692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橡树：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男性的阳刚气概。伟岸挺拔，刚强不屈，锋芒锐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4038480"/>
            <a:ext cx="6934320" cy="9716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木棉：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女性的柔韧气质。健康活泼， 深沉博大，坚韧不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380880"/>
            <a:ext cx="8610480" cy="8251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３、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橡树、木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分别象征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533520"/>
            <a:ext cx="350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隶书"/>
              </a:rPr>
              <a:t>小结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286000"/>
            <a:ext cx="84582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诗人按照先破后立的艺术构思，否定了种种世俗的爱情观，在强调独立平等的基础上，提出了自己的理想的爱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324480" y="304920"/>
            <a:ext cx="1714680" cy="2057400"/>
          </a:xfrm>
          <a:prstGeom prst="rect">
            <a:avLst/>
          </a:prstGeom>
          <a:ln w="0">
            <a:noFill/>
          </a:ln>
        </p:spPr>
      </p:pic>
    </p:spTree>
  </p:cSld>
  <p:transition advTm="1000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95480" y="2666880"/>
            <a:ext cx="3429000" cy="2743200"/>
          </a:xfrm>
          <a:custGeom>
            <a:avLst/>
            <a:gdLst>
              <a:gd name="textAreaLeft" fmla="*/ 805680 w 3429000"/>
              <a:gd name="textAreaRight" fmla="*/ 2620800 w 3429000"/>
              <a:gd name="textAreaTop" fmla="*/ 322560 h 2743200"/>
              <a:gd name="textAreaBottom" fmla="*/ 1720800 h 2743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d0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你对爱情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怎么看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38080" y="1600200"/>
            <a:ext cx="7391520" cy="3511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学习目标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隶书"/>
              </a:rPr>
              <a:t>１、了解朦胧诗的特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隶书"/>
              </a:rPr>
              <a:t>２、树立正确的爱情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52680" y="0"/>
            <a:ext cx="5791320" cy="6953760"/>
          </a:xfrm>
          <a:prstGeom prst="rect">
            <a:avLst/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舒婷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国当代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</a:rPr>
              <a:t>朦胧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诗歌的代表人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作品：《四月的黄昏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《这也是一切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《呵，母亲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《思念》 《也许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《祖国呵，我亲爱的祖国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《双桅船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762120"/>
            <a:ext cx="8305560" cy="104436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朦胧诗：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产生于７０年代末、 ８０年代初，强调诗人的自我意识。内容含蓄隽永，形式虚实相生，它往往借助象征、比喻等手法，创造一种朦胧的艺术形象或意境，从而诱发人们的好奇心和想象力，使人获得特殊的审美享受。代表诗人还有顾城、北岛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124080"/>
            <a:ext cx="8153640" cy="280080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１、《一代人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黑夜给了我黑色的眼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我却用它来寻找光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09480"/>
            <a:ext cx="838188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欣赏朦胧诗，体会其特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09480"/>
            <a:ext cx="8077320" cy="527328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２、《小巷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800" spc="-1" strike="noStrike">
                <a:solidFill>
                  <a:srgbClr val="ccff33"/>
                </a:solidFill>
                <a:latin typeface="Times New Roman"/>
              </a:rPr>
              <a:t>小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33"/>
                </a:solidFill>
                <a:latin typeface="Times New Roman"/>
              </a:rPr>
              <a:t>            </a:t>
            </a:r>
            <a:r>
              <a:rPr b="1" lang="zh-CN" sz="4800" spc="-1" strike="noStrike">
                <a:solidFill>
                  <a:srgbClr val="ccff33"/>
                </a:solidFill>
                <a:latin typeface="Times New Roman"/>
              </a:rPr>
              <a:t>又弯又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33"/>
                </a:solidFill>
                <a:latin typeface="Times New Roman"/>
              </a:rPr>
              <a:t>            </a:t>
            </a:r>
            <a:r>
              <a:rPr b="1" lang="zh-CN" sz="4800" spc="-1" strike="noStrike">
                <a:solidFill>
                  <a:srgbClr val="ccff33"/>
                </a:solidFill>
                <a:latin typeface="Times New Roman"/>
              </a:rPr>
              <a:t>我用一把钥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33"/>
                </a:solidFill>
                <a:latin typeface="Times New Roman"/>
              </a:rPr>
              <a:t>            </a:t>
            </a:r>
            <a:r>
              <a:rPr b="1" lang="zh-CN" sz="4800" spc="-1" strike="noStrike">
                <a:solidFill>
                  <a:srgbClr val="ccff33"/>
                </a:solidFill>
                <a:latin typeface="Times New Roman"/>
              </a:rPr>
              <a:t>敲着厚厚的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43000" y="838080"/>
            <a:ext cx="7162920" cy="478620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３、《远和近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ccff33"/>
                </a:solidFill>
                <a:latin typeface="Times New Roman"/>
              </a:rPr>
              <a:t>你</a:t>
            </a:r>
            <a:r>
              <a:rPr b="1" lang="zh-CN" sz="4000" spc="-1" strike="noStrike">
                <a:solidFill>
                  <a:srgbClr val="ccff33"/>
                </a:solidFill>
                <a:latin typeface="Times New Roman"/>
              </a:rPr>
              <a:t>/ </a:t>
            </a:r>
            <a:r>
              <a:rPr b="1" lang="zh-CN" sz="4000" spc="-1" strike="noStrike">
                <a:solidFill>
                  <a:srgbClr val="ccff33"/>
                </a:solidFill>
                <a:latin typeface="Times New Roman"/>
              </a:rPr>
              <a:t>一会儿看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ccff33"/>
                </a:solidFill>
                <a:latin typeface="Times New Roman"/>
              </a:rPr>
              <a:t>一会儿看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ccff33"/>
                </a:solidFill>
                <a:latin typeface="Times New Roman"/>
              </a:rPr>
              <a:t>我觉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ccff33"/>
                </a:solidFill>
                <a:latin typeface="Times New Roman"/>
              </a:rPr>
              <a:t>你看我时很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ccff33"/>
                </a:solidFill>
                <a:latin typeface="Times New Roman"/>
              </a:rPr>
              <a:t>你看云时很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4800600"/>
            <a:ext cx="5562720" cy="14778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/>
              </a:rPr>
              <a:t>木棉的自白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533520"/>
            <a:ext cx="8305920" cy="44056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讨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１、作者否定了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哪几种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爱情观？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２、作者向往的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真正的爱情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是什么样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３、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橡树、木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分别象征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6:39:48Z</dcterms:created>
  <dc:creator>OEM</dc:creator>
  <dc:description/>
  <dc:language>en-US</dc:language>
  <cp:lastModifiedBy>陈妙芬</cp:lastModifiedBy>
  <dcterms:modified xsi:type="dcterms:W3CDTF">2014-05-13T02:49:34Z</dcterms:modified>
  <cp:revision>23</cp:revision>
  <dc:subject/>
  <dc:title>PowerPoint 演示文稿</dc:title>
</cp:coreProperties>
</file>