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C7A-3649-44F8-970E-60F0AC03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148-34DC-4DF6-8114-4088DD88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4B0-B9A0-470B-9B8F-5ED41BA3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445-03FA-4F0B-9C77-F7EB2A72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E44-2213-4650-B4A1-6C77E210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F4B-5DD9-46D5-BB9F-E70C5FBC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249-12D7-4101-B23E-33ED1645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AA6-8C84-45FA-9324-A640ED25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6CF-F88C-423B-9455-312288AF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DAF-5CF6-462C-9EE1-FB6F4C57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B0D-55F4-4947-B1EF-6D57C5B4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1F9-A4A0-410B-98CD-C038E364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BCD9-C58D-4139-8AF7-F14F7225A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slide" Target="slide17.xml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" Target="slide18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b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b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b5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10" descr=""/>
          <p:cNvPicPr/>
          <p:nvPr/>
        </p:nvPicPr>
        <p:blipFill>
          <a:blip r:embed="rId11"/>
          <a:stretch/>
        </p:blipFill>
        <p:spPr>
          <a:xfrm>
            <a:off x="987480" y="2133720"/>
            <a:ext cx="7424640" cy="2066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b6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M:\教学\forest_1012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1000080" y="57168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M:\教学\1442172391.jpg"/>
          <p:cNvPicPr/>
          <p:nvPr/>
        </p:nvPicPr>
        <p:blipFill>
          <a:blip r:embed="rId4"/>
          <a:stretch/>
        </p:blipFill>
        <p:spPr>
          <a:xfrm>
            <a:off x="714240" y="4287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1649520" y="3011760"/>
            <a:ext cx="688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有意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大的摇篮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望无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浓绿的树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遮住了蓝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1655640" y="857160"/>
            <a:ext cx="26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原始森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先的摇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213372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比喻人类幼年时的生活环境和文化的发源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2735280" y="2133720"/>
            <a:ext cx="26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摇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1479600" y="716040"/>
            <a:ext cx="39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祖先的摇篮”有哪些美好遥远的回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221480" y="1449000"/>
            <a:ext cx="1460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祖先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曾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大树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野果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掏鹊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曾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片草地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野兔赛跑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蘑菇打伞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5650560" y="1588320"/>
            <a:ext cx="1460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在这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逗小松鼠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野蔷薇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在这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捉红蜻蜓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逮绿蝈蝈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1479600" y="716040"/>
            <a:ext cx="39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祖先的摇篮”有哪些美好遥远的回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071720" y="3284640"/>
            <a:ext cx="542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儿吹动树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沙！沙沙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回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么美好，又那么遥远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928800" y="1862640"/>
            <a:ext cx="600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我们的祖先，可曾在  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那时候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直接连接符 11"/>
          <p:cNvSpPr/>
          <p:nvPr/>
        </p:nvSpPr>
        <p:spPr>
          <a:xfrm>
            <a:off x="4714920" y="2357280"/>
            <a:ext cx="2928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直接连接符 12"/>
          <p:cNvSpPr/>
          <p:nvPr/>
        </p:nvSpPr>
        <p:spPr>
          <a:xfrm>
            <a:off x="2714760" y="3143160"/>
            <a:ext cx="49291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1585800" y="1150200"/>
            <a:ext cx="4714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苍苍茫茫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始森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先的摇篮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久天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远永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被污染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500040" y="654120"/>
            <a:ext cx="82152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地把诗歌朗读几遍。再想想“祖先的摇篮”有怎样美好而遥远的回忆？怎样才能让“祖先的摇篮”地久天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左右两边能搭配的词语用线连起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蝈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蘑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鹊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直接连接符 6"/>
          <p:cNvSpPr/>
          <p:nvPr/>
        </p:nvSpPr>
        <p:spPr>
          <a:xfrm>
            <a:off x="1357200" y="3357720"/>
            <a:ext cx="2857680" cy="57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直接连接符 7"/>
          <p:cNvSpPr/>
          <p:nvPr/>
        </p:nvSpPr>
        <p:spPr>
          <a:xfrm>
            <a:off x="1357200" y="4000680"/>
            <a:ext cx="2786040" cy="1714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直接连接符 9"/>
          <p:cNvSpPr/>
          <p:nvPr/>
        </p:nvSpPr>
        <p:spPr>
          <a:xfrm>
            <a:off x="1357200" y="4572000"/>
            <a:ext cx="2786040" cy="571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直接连接符 11"/>
          <p:cNvSpPr/>
          <p:nvPr/>
        </p:nvSpPr>
        <p:spPr>
          <a:xfrm flipV="1">
            <a:off x="1357200" y="4572000"/>
            <a:ext cx="2786040" cy="71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直接连接符 15"/>
          <p:cNvSpPr/>
          <p:nvPr/>
        </p:nvSpPr>
        <p:spPr>
          <a:xfrm flipV="1">
            <a:off x="1428840" y="3429000"/>
            <a:ext cx="2643120" cy="235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250920" y="1515960"/>
            <a:ext cx="860580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找有关诗句，说说课文中为什么把原始森林称作“祖先的摇篮”？照样子，也来说几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那（苍苍茫茫的原始森林），是（祖先）的摇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（                  ），是（    ）的摇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（                  ），是（    ）的摇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back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up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next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2"/>
          <p:cNvSpPr/>
          <p:nvPr/>
        </p:nvSpPr>
        <p:spPr>
          <a:xfrm>
            <a:off x="357120" y="1413000"/>
            <a:ext cx="864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写双通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你是“天然博物馆”的一名小小讲解员，你会如何向大家介绍？选择其中的一个场景或有特色的景物向大家作交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拓展作业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324000" y="1111680"/>
            <a:ext cx="85658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抄写词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篮  浓绿  赛跑  遥远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苍苍  地久天长  污染 文明  神圣  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有感情地朗读（或背诵）课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24000" y="476280"/>
            <a:ext cx="84628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学目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要求预习课文。自学认识生字。积累相应的词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联系上下文和查找资料等方法，试着解决阅读中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课文内容，明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先的摇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含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地朗读课文，体会诗的意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会大自然的美好，增强自觉保护生态环境的意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b2"/>
          <p:cNvPicPr/>
          <p:nvPr/>
        </p:nvPicPr>
        <p:blipFill>
          <a:blip r:embed="rId2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b3"/>
          <p:cNvPicPr/>
          <p:nvPr/>
        </p:nvPicPr>
        <p:blipFill>
          <a:blip r:embed="rId3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b4"/>
          <p:cNvPicPr/>
          <p:nvPr/>
        </p:nvPicPr>
        <p:blipFill>
          <a:blip r:embed="rId4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b5"/>
          <p:cNvPicPr/>
          <p:nvPr/>
        </p:nvPicPr>
        <p:blipFill>
          <a:blip r:embed="rId5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46" name="WordArt 10" descr=""/>
          <p:cNvPicPr/>
          <p:nvPr/>
        </p:nvPicPr>
        <p:blipFill>
          <a:blip r:embed="rId6"/>
          <a:stretch/>
        </p:blipFill>
        <p:spPr>
          <a:xfrm>
            <a:off x="987480" y="2133720"/>
            <a:ext cx="7424640" cy="2066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b6"/>
          <p:cNvPicPr/>
          <p:nvPr/>
        </p:nvPicPr>
        <p:blipFill>
          <a:blip r:embed="rId7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1434960" y="796680"/>
            <a:ext cx="5585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习课文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通课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字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疑问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集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154520" y="2362680"/>
            <a:ext cx="700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赛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遥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苍苍茫茫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物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污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久天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11280" y="90792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M:\教学\800737611.jpg"/>
          <p:cNvPicPr/>
          <p:nvPr/>
        </p:nvPicPr>
        <p:blipFill>
          <a:blip r:embed="rId4"/>
          <a:stretch/>
        </p:blipFill>
        <p:spPr>
          <a:xfrm>
            <a:off x="642960" y="571680"/>
            <a:ext cx="7620120" cy="5500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M:\教学\1108401187.jpg"/>
          <p:cNvPicPr/>
          <p:nvPr/>
        </p:nvPicPr>
        <p:blipFill>
          <a:blip r:embed="rId4"/>
          <a:stretch/>
        </p:blipFill>
        <p:spPr>
          <a:xfrm>
            <a:off x="714240" y="500040"/>
            <a:ext cx="7620120" cy="550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M:\教学\1442160891.jpg"/>
          <p:cNvPicPr/>
          <p:nvPr/>
        </p:nvPicPr>
        <p:blipFill>
          <a:blip r:embed="rId4"/>
          <a:stretch/>
        </p:blipFill>
        <p:spPr>
          <a:xfrm>
            <a:off x="857160" y="4287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M:\教学\2007526141431443.jpg"/>
          <p:cNvPicPr/>
          <p:nvPr/>
        </p:nvPicPr>
        <p:blipFill>
          <a:blip r:embed="rId4"/>
          <a:stretch/>
        </p:blipFill>
        <p:spPr>
          <a:xfrm>
            <a:off x="714240" y="571680"/>
            <a:ext cx="7643880" cy="5433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M:\教学\2007526141450588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928800" y="571680"/>
            <a:ext cx="7429320" cy="5257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9-03-22T03:41:03Z</dcterms:modified>
  <cp:revision>113</cp:revision>
  <dc:subject/>
  <dc:title>PowerPoint Presentation</dc:title>
</cp:coreProperties>
</file>