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C5F-954E-447F-8A58-757505CB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441-8E8A-4FB1-AE97-B15F5986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D77-BFDB-4C1A-B2DF-C3D9F9BD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71B-27F8-4DF4-9DE8-BC6C9AD4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501-EE9B-4C77-BA9C-A4F88E71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60A-CD57-47B2-8DA9-0C81D3F0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A64-8EDC-440E-8634-0869BEC4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668-7F0C-41E6-91E3-BDCE628D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4D3-F222-49FE-A202-5A12CABF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3A1-E6A2-47D9-9C6A-CC117FBF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A7E-33AD-4DEE-9CAF-56ED3F4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A8B-845B-4FEA-B0F6-D6837B85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D907-70A7-4452-A3D9-B4CEA7D6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图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97080" y="2707920"/>
            <a:ext cx="99010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祖先的摇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285840" y="2858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亿合公中心小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仪玉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468360" y="333360"/>
            <a:ext cx="611172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2" descr="图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843280" y="3009960"/>
            <a:ext cx="3600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QQ截图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2349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字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270828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摇篮          浓绿          赛跑            遥远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苍茫茫           地 久天长            污染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明 神圣    博物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168984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学习目标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培养联系上下文理解词语的能力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理解课文内容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继续培养正确、流利、有感情地朗读课文的能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360440"/>
            <a:ext cx="8906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资料展示、引入新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展示同学们自己收集的资料，充分了解感受原始大森林的美丽神秘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的祖先就生活在这儿美丽的地方，今天就让我们一起走进原始森林，感受一下祖先生活的环境吧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</a:rPr>
              <a:t>自读课文、思考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2041200"/>
            <a:ext cx="91440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摇篮”的含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“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祖先的摇篮”指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什么称作“摇篮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词语搭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166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572000" y="2205000"/>
            <a:ext cx="273528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蝈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野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蘑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松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鹊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1332000" y="2492280"/>
            <a:ext cx="2592360" cy="79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258920" y="3213000"/>
            <a:ext cx="266544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 flipV="1">
            <a:off x="1258920" y="2491920"/>
            <a:ext cx="2665440" cy="2737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1258920" y="3789360"/>
            <a:ext cx="266544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1258920" y="3789360"/>
            <a:ext cx="2665440" cy="79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细读课文、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说原始森林是祖先的摇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00000" y="2997360"/>
            <a:ext cx="63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9640" y="299736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祖先的摇篮有着怎样美好而遥远的回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1280" y="4437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祖先的摇篮怎样才能地久天长，永远不被污染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完了课文，你也展开自己的想像，来画画这美丽的摇篮吧。想想我们的祖先可能在这里做什么？来画一画，写一写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图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8:41:23Z</dcterms:created>
  <dc:creator/>
  <dc:description/>
  <dc:language>en-US</dc:language>
  <cp:lastModifiedBy>微软用户</cp:lastModifiedBy>
  <dcterms:modified xsi:type="dcterms:W3CDTF">2019-03-22T03:39:55Z</dcterms:modified>
  <cp:revision>2</cp:revision>
  <dc:subject/>
  <dc:title>祖先的摇篮</dc:title>
</cp:coreProperties>
</file>