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EFD-3F59-4B67-80C9-01F41356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377-91AD-4CEB-901C-A1D88501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E6A-3D9D-4468-B81E-60C7B5FC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C0A-86BF-4918-86C0-FACBAEC9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6BC6-F54F-4160-98D9-BAA56652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5F27-1AD1-46C9-8607-7FFAEB58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99B3-DD39-4863-AA53-0CCAFBE4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3E50-DDD0-4416-A808-81E8C5F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AF77-B65D-4DF5-8198-4FFE4B2A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BA6C-9587-4AF5-866A-A105872D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17EB-6A96-47AB-A7B3-E1C2C49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50F-E38B-45AD-A766-84C8350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0BB0-B4E1-4049-A4AB-FCA4B878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5D43-4BE4-4569-85B5-3D4F0D2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A8C8-A871-451A-85D1-30B0E2A8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03F2-1B1C-4362-B884-C1F1B50E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12B8-9E2D-412E-B71F-9E5F55D1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B49-034E-4BF9-82F0-589B2CE9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9A3-F1F8-4DE3-AAA1-7F13E845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9F6-1179-4544-A46A-7F3ACA47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3F6-CD0B-4413-9EA1-D4E563E9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8B7-A297-464B-B909-8400DAD9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8DB-E2AB-4F7D-96B7-BB256840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ADF-49EF-46F8-935D-7AA9BF09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ED59-6A14-4662-945F-AD99C28E3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9922-1384-4588-AF4F-13B9F8484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图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97080" y="2707920"/>
            <a:ext cx="99010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祖先的摇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468360" y="333360"/>
            <a:ext cx="611172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冀教版）二年级语文下册第二单元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>
            <a:hlinkClick r:id="rId1" action="ppaction://hlinksldjump"/>
          </p:cNvPr>
          <p:cNvSpPr/>
          <p:nvPr/>
        </p:nvSpPr>
        <p:spPr>
          <a:xfrm>
            <a:off x="2590920" y="228600"/>
            <a:ext cx="48006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爷爷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原始森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我们祖先的摇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有意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该是多大的摇篮哪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浓绿的树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望无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遮住了蓝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bafa6fd800e1caf538012f2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>
            <a:hlinkClick r:id="rId3" action="ppaction://hlinksldjump"/>
          </p:cNvPr>
          <p:cNvSpPr/>
          <p:nvPr/>
        </p:nvSpPr>
        <p:spPr>
          <a:xfrm>
            <a:off x="2563920" y="2629080"/>
            <a:ext cx="5852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啊，古老的原始森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祖先的摇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细读课文、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852560" y="1417680"/>
            <a:ext cx="59356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古老的原始森林是什么样子的？从文中找出相关语句来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900000" y="2997360"/>
            <a:ext cx="63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"/>
          <p:cNvSpPr/>
          <p:nvPr/>
        </p:nvSpPr>
        <p:spPr>
          <a:xfrm>
            <a:off x="4622040" y="3363840"/>
            <a:ext cx="78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浓绿的树荫，一望无边，遮住了蓝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树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草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野蔷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细读课文、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00000" y="2997360"/>
            <a:ext cx="63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709640" y="1971720"/>
            <a:ext cx="572472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祖先的摇篮有着怎样 美好而遥远的回忆？在哪些小节中看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e12f9519295316a84aedbc1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>
            <a:hlinkClick r:id="rId3" action="ppaction://hlinksldjump"/>
          </p:cNvPr>
          <p:cNvSpPr/>
          <p:nvPr/>
        </p:nvSpPr>
        <p:spPr>
          <a:xfrm>
            <a:off x="457200" y="228600"/>
            <a:ext cx="4419720" cy="64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们的祖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可曾在这些大树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摘野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掏鹊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可曾在那片草地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和野兔赛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看蘑菇打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996be1138c099ad3c2fd78e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>
            <a:hlinkClick r:id="rId3" action="ppaction://hlinksldjump"/>
          </p:cNvPr>
          <p:cNvSpPr/>
          <p:nvPr/>
        </p:nvSpPr>
        <p:spPr>
          <a:xfrm>
            <a:off x="762120" y="228600"/>
            <a:ext cx="4495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那时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孩子们也在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逗小松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采野蔷薇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也曾在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捉红蜻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逮绿蝈蝈儿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bafa6fd800e1caf538012f2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>
            <a:hlinkClick r:id="rId3" action="ppaction://hlinksldjump"/>
          </p:cNvPr>
          <p:cNvSpPr/>
          <p:nvPr/>
        </p:nvSpPr>
        <p:spPr>
          <a:xfrm>
            <a:off x="3505320" y="1371600"/>
            <a:ext cx="47242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风儿吹动树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沙沙，沙沙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那回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么美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又那么遥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词语搭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714760" y="1856880"/>
            <a:ext cx="7855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00840" y="2214720"/>
            <a:ext cx="18572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蝈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野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蘑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松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鹊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286080" y="2357280"/>
            <a:ext cx="2786040" cy="857520"/>
          </a:xfrm>
          <a:prstGeom prst="line">
            <a:avLst/>
          </a:prstGeom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214800" y="3071880"/>
            <a:ext cx="2665440" cy="2016000"/>
          </a:xfrm>
          <a:prstGeom prst="line">
            <a:avLst/>
          </a:prstGeom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3286080" y="2571480"/>
            <a:ext cx="2786040" cy="2593800"/>
          </a:xfrm>
          <a:prstGeom prst="line">
            <a:avLst/>
          </a:prstGeom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3357720" y="3857760"/>
            <a:ext cx="2665080" cy="792000"/>
          </a:xfrm>
          <a:prstGeom prst="line">
            <a:avLst/>
          </a:prstGeom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 flipV="1">
            <a:off x="3286080" y="3928680"/>
            <a:ext cx="2786040" cy="577800"/>
          </a:xfrm>
          <a:prstGeom prst="line">
            <a:avLst/>
          </a:prstGeom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细读课文、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祖先们果真是这样在原始森林里生活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00000" y="2997360"/>
            <a:ext cx="63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9640" y="299736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想、可曾、回忆          作者的猜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39640" y="4309920"/>
            <a:ext cx="820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祖先的摇篮怎样才能地久天长，永远不被污染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28400" y="-360"/>
            <a:ext cx="77151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拓展延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学完了课文，你也展开自己的想像，来画画这美丽的摇篮吧。想想我们的祖先可能在这里做什么？来画一画，写一写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14200" y="173808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同学们展示出自己收集的资料，充分了解感受原始大森林的美丽神秘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们的祖先就生活在这儿美丽的地方，今天就让我们一起走进原始森林，感受一下祖先生活的环境吧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结合课文、理解题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2041200"/>
            <a:ext cx="91440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摇篮”的含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 “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祖先的摇篮”指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为什么称作“摇篮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初读课文，随文识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417320"/>
            <a:ext cx="91440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自读课文，用你认为最好的方法认识本课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把诗歌读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小组合作，组长读字，成员找卡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认读词语卡片（做找朋友的游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老师检查认字情况（开火车读生字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914400" y="1143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343400" y="17478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掏鹊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743200" y="17478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曾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85800" y="17478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原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939000" y="17478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好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85800" y="3017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逮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781360" y="3016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蝈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851360" y="3017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意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892080" y="512136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浓绿的树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6711840" y="29098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回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892080" y="41292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遥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3006720" y="41292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想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5334120" y="41292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望无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4952880" y="512136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古老的森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4353480" y="6066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初读课文、随文识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914400" y="1143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165560" y="6858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63840" y="6858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5800" y="6858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191120" y="3733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867280" y="6858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762120" y="2209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479680" y="2209680"/>
            <a:ext cx="78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62120" y="3733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67804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4148280" y="22096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586728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5791320" y="22096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整体感知、了解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数数这篇课文共有几个小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00000" y="2997360"/>
            <a:ext cx="63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39640" y="299736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这篇课文主要写的是什么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11280" y="4437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81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900000" y="2997360"/>
            <a:ext cx="63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11280" y="4437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细读课文、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982880" y="2449440"/>
            <a:ext cx="5935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哪些小节直接描写原始森林是我们祖先的摇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900000" y="2997360"/>
            <a:ext cx="63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39640" y="299736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11280" y="4437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8:41:23Z</dcterms:created>
  <dc:creator/>
  <dc:description/>
  <cp:keywords/>
  <dc:language>en-US</dc:language>
  <cp:lastModifiedBy>微软用户</cp:lastModifiedBy>
  <dcterms:modified xsi:type="dcterms:W3CDTF">2019-03-22T03:40:13Z</dcterms:modified>
  <cp:revision>23</cp:revision>
  <dc:subject/>
  <dc:title>祖先的摇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