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6B23-E53C-4C0F-B362-7F651D25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1764-5460-4403-9815-8F0D4B26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072-6289-4156-807C-D4284FA3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5C9-B805-4D21-A491-3AEBBB3F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8959-3A6F-4127-B957-4D685B70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973-3A66-4C14-BB69-2C5E9023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704C-15B6-4A77-AF8E-9E72B212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65B4-BD3C-4F36-92C5-772BA5D7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AD8-2EAB-4F49-87D1-8CE0AB3C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09C1-0660-49A5-8287-78D9BAFF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0E9-EEE0-413F-B7A1-9A936C8B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CEF-251C-4AA6-9566-2AFD2771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7E54-FA94-4FE0-93C9-4A4BFC02D0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92360" y="549360"/>
            <a:ext cx="590400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足下的文化与野草之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个景观设计师的手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3440" y="1916280"/>
            <a:ext cx="8208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俞孔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41400" y="476280"/>
            <a:ext cx="27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三、阅读“理解自然”部分，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484280"/>
            <a:ext cx="83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结合俞先生对水面和古榕的设计处理，看看他的设计表现了怎样的场所文化？用原文回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920" y="287172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用自己的语言概括其场所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80000" y="3933720"/>
            <a:ext cx="31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珍惜平常之美，珍惜普通之物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尊重自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28440" y="256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四、欣赏设计之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7468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032320" y="1484280"/>
            <a:ext cx="729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公园全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04000" y="2565360"/>
            <a:ext cx="219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所选野生植物有：荷花、茭白、菖蒲等，很好地保持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亲水性和生态性的自然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6840" y="333360"/>
            <a:ext cx="22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设计途径之一：尊重没有设计师的设计（保留过去的遗存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276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76720" y="2421000"/>
            <a:ext cx="1460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铁轨也是造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厂最具标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的景观元素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一。将其保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下来，使人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冒险、挑战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寻求平衡感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天性得以袒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72360" y="4762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设计途径之二：再利用（改变或修饰，增与减的设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679440" y="1484280"/>
            <a:ext cx="1887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曲线的拉膜钢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被设计者认为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遗憾，因为这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是迎合大众审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需要的过分的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观元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867280" y="2060640"/>
            <a:ext cx="3719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红色记忆（装置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装下这块场地上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段时间里曾经发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故事。墙上那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驳的领袖画像，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子上残留的“安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生产” 、“节约用电”等等的红色告示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0360" y="40464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设计途径之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再生设计（创造新的语言和新的形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148160" y="836640"/>
            <a:ext cx="14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盒子外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了茅草－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当地最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野性的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渲染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洪荒与历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的气氛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5964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56600" y="1125360"/>
            <a:ext cx="1247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大量使用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乡土野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包括用于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岸绿化的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水植物，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类茅草－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水生、湿生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旱生乡土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物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563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661440" y="765000"/>
            <a:ext cx="167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野草不自美，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人、因设计而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。用那些被人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践踏、鄙视的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草，来传达新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代的价值观和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美观，并以此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起人们对自然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尊重，培育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伦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200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16360" y="3403440"/>
            <a:ext cx="6227640" cy="345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15560" y="765000"/>
            <a:ext cx="326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美国哈佛大学设计学博士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北京大学教授、博士生导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北京大学景观设计学研究院院长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北京土人景观规划设计研究院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长、首席设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3080" y="18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俞孔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260280"/>
            <a:ext cx="79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五、请同学们理出景观设计的四个关键词，概括景观设计的基本思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32960" y="184464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关键词：场地元素、场所文化、设计途径、场所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321300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景观设计的基本思路：利用场地元素，挖掘场所文化，创新设计途径，显现场所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820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六、析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足下文化，就是关注平常人的事，关注他们的感情、他们的需要；野草之美，就是善待脚下的自然，乡土的自然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足下文化与野草之美，就是要实践新的社会和土地的伦理，这种新伦理体现在尊重平常与平民，回到人性与公民性，回到土地与地方性，重建人与自然关系的和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诚如俞孔坚先生所说：“一个成熟的民族，懂得审美的民族，最能知道珍惜平常的美，尊重普通人，尊重普通的乡土物种，这便是尊重足下文化与野草之美的真实内涵。做到了这一点，离和谐社会要求的人与自然关系的和谐也就不远了。”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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167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078400" y="76140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示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22120" y="59868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浙江台洲永宁公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007120" y="83304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示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99120" y="648000"/>
            <a:ext cx="729000" cy="63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沈阳建筑大学稻田校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73080" y="765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启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1916280"/>
            <a:ext cx="756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做好一个好的景观设计师，具备科学精神和人文精神至关重要。本设计到处闪耀着科学与人文的光芒，主要体现在三个方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尊重人性，以人为本的平民意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尊重历史，立足本土的民族精神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尊重自然，敢于创新的科学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00" y="549360"/>
            <a:ext cx="4140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9933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我看来，无所谓建筑风格，只要你能适应这块土地，能亲近这块土地，就是好的建筑，好的人居模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----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俞孔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片林荫，一条河流，一块绿地，无不潜藏着无穷的诗意，保住这份诗意，它一定会让人获得身心再生之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----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俞孔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9933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8000" y="3068640"/>
            <a:ext cx="90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建造在一片废旧造船厂的场地上，反映了五十年社会主义中国的不寻常的历史，设计的挑战包括变动的水位线、残留锈蚀的船坞及机器、洪水控制与古树保存之间的矛盾。它很好地融合了生态理念、现代环境意识、文化与人性，很好地体现了社会主义中国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5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来深厚的的发展历史和工业化探索历程，很好地解决了防洪与古树保护、产业用地更新与城市现代化等问题。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     ——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评委会评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7280" y="213372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获奖情况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：美国景观设计师协会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00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度荣誉设计奖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26828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项目特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：珍惜足下的文化，追求野草之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476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设计主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：产业旧址的再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广东中山歧江公园的设计理念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追求时间的美，工业的美，野草的美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落差错愕的美。珍惜足下的文化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平常的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化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曾经被忽视而将逝去的文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中山岐江公园的场地原是中山著名的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中造船厂，特定历史背景下，几代人艰苦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创业历程在这里沉淀为真实而弥足珍贵的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市记忆。 设计者用崇敬和珍惜将他们重新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化成富于生命的音符。表现劳动与创造者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文灵光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543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新型的景观设计遐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69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景观与城市的生态设计反映了人类的一个新的梦想，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这个梦想就是将自然与文化、设计的环境与生命的环境相融合，将美的形式与生态功能真正全面地融合。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它要让景观不再是孤立的城市中的特定用地，而是让其消融，进入千家万户，它要让自然参与设计，让自然过程伴依人民的日常生活，在生活中享受优雅醇和的自然美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33000" y="260280"/>
            <a:ext cx="35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一、阅读“理解场地”部分，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48880" y="11970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建公园前，这块场地有哪些景观元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6920" y="222408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按照景观设计常规，对它们会怎么处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48440" y="34290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俞孔坚先生是怎么做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12720" y="333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明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91360" y="1197000"/>
            <a:ext cx="11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水面、古榕、野草、废弃的厂房和机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67120" y="213372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留水面、保古榕、除野草、拆厂房、卖机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2922480"/>
            <a:ext cx="82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修建栈桥式亲水生态湖岸，让人亲水，保护生      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古榕和水塔形成岛屿，既丰富景观，又有实用性（防洪，航标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引入新的设计形式（保留、再利用、再生），使厂房及机器设备既显现场所精神，又具备使用功能和审美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549360"/>
            <a:ext cx="753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二、阅读“理解文化与传统”部分，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15573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、从文中找出体现该场所文化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69000" y="256536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用自己的语言概括其场所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364500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珍惜日常文化，珍惜平常之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尊重历史，尊重劳动人民，尊重劳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2:14:27Z</dcterms:created>
  <dc:creator>sunsun</dc:creator>
  <dc:description/>
  <dc:language>en-US</dc:language>
  <cp:lastModifiedBy>zmj</cp:lastModifiedBy>
  <dcterms:modified xsi:type="dcterms:W3CDTF">2011-08-24T08:23:12Z</dcterms:modified>
  <cp:revision>49</cp:revision>
  <dc:subject/>
  <dc:title>幻灯片 1</dc:title>
</cp:coreProperties>
</file>