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15.png" ContentType="image/png"/>
  <Override PartName="/ppt/media/image24.jpeg" ContentType="image/jpeg"/>
  <Override PartName="/ppt/media/image27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3D21-7ADD-44A0-A101-73F2D35BA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F748-B122-4359-B612-3B88A4706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372D-7FCA-497E-9999-49772DA7F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3C7B-6774-4A7D-8F7F-FE786BD44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1A71-69CB-4267-A7C9-F238C2472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1CE9-40CC-4405-838E-B2BF7496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26D3-D98F-4B30-9EE9-B0926B4B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A0A3-DC2A-4C03-93CC-02AF4EE0A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907C-E501-4A78-BF77-797E7A88F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0C38-6F7D-4761-A4AB-2549E23E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82D7-8BBD-4445-9899-000C5549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56B3-B9DC-429B-8867-76D1A2AE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6FF22-9593-4BA5-97AC-C6B80FEC9F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12000" y="33336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直线路网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5821200"/>
            <a:ext cx="91440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高水位水际细部：植物的大部分没于水中，只留头部探出水面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5821200"/>
            <a:ext cx="91440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可进入性：栈桥使人在不同水位条件下，可以恒常地与水亲近，并近距离欣赏水际生态群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32200" y="836640"/>
            <a:ext cx="6678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琥珀灯塔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829440" y="907920"/>
            <a:ext cx="78984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骨骼水塔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791840" y="1268280"/>
            <a:ext cx="66780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万杆柱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403280" y="0"/>
            <a:ext cx="58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Arial"/>
              </a:rPr>
              <a:t>红色记忆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147120" y="2363040"/>
            <a:ext cx="1319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??"/>
              </a:rPr>
              <a:t>　　　　　　　　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516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低水位全景：栈桥式湖岸设计即使在低水位状态下，仍然具有良好的亲水性，多种水生、湿生和中植物生长在适宜的生境下生长，方格网栈桥将人导入水际和一个丰富多彩边缘生态群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4292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高水位全景：栈桥被淹没，水生植物探出了柔和的头部，使湖岸变的格外生动，自然却决不荒野，规整却决不僵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45943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低水位局部：层层跌落的栈桥，随着水位的退却而慢慢浮露水面，平整的浅灰色花岗岩桥面如出浴之肌肤，饱含着色泽，两侧是高挺的水草，垂直与水平线条形成强烈的对比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52293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中水位局部：随着水位的上涨，水体沿着高低栈桥间的阶梯爬上岸来，栈桥和两侧的水草慢慢沉入水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5605200"/>
            <a:ext cx="91440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高水位之上的局部：将方格栈桥网延伸，其间种以野生的象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5891040"/>
            <a:ext cx="914400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低水位细部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最底层栈桥浮出水面，既是如此，人也可亲近水体和刚出水的草丛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6108480"/>
            <a:ext cx="91440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中水位细部：最底层栈桥半没于水下，若隐若现，小鱼也游上了桥面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2:14:27Z</dcterms:created>
  <dc:creator>sunsun</dc:creator>
  <dc:description/>
  <dc:language>en-US</dc:language>
  <cp:lastModifiedBy>teacher</cp:lastModifiedBy>
  <dcterms:modified xsi:type="dcterms:W3CDTF">2005-10-09T01:55:39Z</dcterms:modified>
  <cp:revision>2</cp:revision>
  <dc:subject/>
  <dc:title>幻灯片 1</dc:title>
</cp:coreProperties>
</file>