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clap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9BF-07F4-4E09-9B3E-04EC282E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ADD-0EE9-47C9-90AC-78FA6EE2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503-E7F8-4737-A0D0-6A2E7CE0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AA1-56B5-480C-A2E6-D3E9DB39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F838-B3EA-49FA-92DB-5443FED7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2F00-DD12-484C-8444-5C1DF9B6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A640-CF16-4E5F-981D-DDACED79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83C-0B35-4521-9E48-56BB6CA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2A5C-CEC9-49CF-843F-2749C029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2AD8-5603-4529-A618-26D09A6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E01F-C94E-4118-A4D8-EC7468A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41E-5CBD-4181-9C28-D3541103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593B-D4CE-4F5D-8AE6-04F603F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357-4D77-4EFF-BBA3-975B4AA8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62B7-4E1D-4C32-A048-59F17B72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5B8-8EF0-4783-B9DF-7595FCF3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2D87-137B-4A33-BC40-79F98581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550-0FA9-46EC-8B3C-A26B487E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6C1-B24E-4B30-91A1-FBC8D07E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D9E-C270-4F0D-AE75-E1B203E9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8C3-6079-4447-814F-7CEBF5CD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219-EB77-414F-B7BA-EDE762F9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A7B-9DE2-466A-8F66-77251CA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895-4C4C-4FCA-9CAB-8FF7F19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1735-39FA-43FF-A6B0-4CD46CF561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8F01-9F59-4C8A-9D85-3468FF8919E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28760" y="249228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Agency FB"/>
                <a:ea typeface="华文行楷"/>
              </a:rPr>
              <a:t>足下的文化与野草之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lap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248960" y="1413000"/>
            <a:ext cx="146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所选野生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有：荷花、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白、菖蒲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很好地保持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亲水性和生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性的自然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61440" y="765000"/>
            <a:ext cx="167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野草不自美，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人、因设计而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。用那些被人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践踏、鄙视的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草，来传达新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代的价值观和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美观，并以此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起人们对自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尊重，培育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伦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76720" y="907920"/>
            <a:ext cx="146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铁轨也是造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厂最具标志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的景观元素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一。将其保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下来，使人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冒险、挑战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寻求平衡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天性得以袒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679440" y="1484280"/>
            <a:ext cx="188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曲线的拉膜钢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被设计者认为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遗憾，因为这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是迎合大众审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需要的过分的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观元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543800" cy="6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新型的景观设计遐想：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景观与城市的生态设计反映了人类的一个新的梦想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这个梦想就是将自然与文化、设计的环境与生命的环境相融合，将美的形式与生态功能真正全面地融合。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它要让景观不再是孤立的城市中的特定用地，而是让其消融，进入千家万户，它要让自然参与设计，让自然过程伴依人民的日常生活，在生活中享受优雅醇和的自然美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lap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78400" y="76140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示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22120" y="59868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浙江台洲永宁公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007120" y="83304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示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99120" y="648000"/>
            <a:ext cx="72900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沈阳建筑大学稻田校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560" y="981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《足下的文化与野草之美》作为说明文的学习要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１新颖独到的设计理念和超越传统的设计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２层次清晰、主次分明的写作思路和文章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３自然流畅的语言表达和严谨准确的科学阐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４丰富的人文、艺术内涵以及生动的文化气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lap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357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403440"/>
            <a:ext cx="8039160" cy="345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15560" y="981000"/>
            <a:ext cx="326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美国哈佛大学设计学博士 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北京大学教授、博士生导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北京大学景观设计学研究院院长 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北京土人景观规划设计研究院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长、首席设计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53080" y="38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俞孔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3" name="clap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10920" y="764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3280" y="1052640"/>
            <a:ext cx="39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在我看来，无所谓建筑风格，只要你能适应这块土地，能亲近这块土地，就是好的建筑，好的人居模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俞孔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一片林荫，一条河流，一块绿地，无不潜藏着无穷的诗意，保住这份诗意，它一定会让人获得身心再生之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俞孔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993300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  <p:sndAc>
      <p:stSnd>
        <p:snd r:embed="rId2" name="clap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560" y="26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析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足下文化，就是关注平常人的事，关注他们的感情、他们的需要；野草之美，就是善待脚下的自然，乡土的自然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足下文化与野草之美，就是要实践新的社会和土地的伦理，这种新伦理体现在尊重平常与平民，回到人性与公民性，回到土地与地方性，重建人与自然关系的和谐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诚如俞孔坚先生所说：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成熟的民族，懂得审美的民族，最能知道珍惜平常的美，尊重普通人，尊重普通的乡土物种，这便是尊重足下文化与野草之美的真实内涵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做到了这一点，离和谐社会要求的人与自然关系的和谐也就不远了。”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33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广东中山歧江公园的设计理念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求时间的美，工业的美，野草的美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落差错愕的美。珍惜足下的文化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平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文化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曾经被忽视而将逝去的文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中山岐江公园的场地原是中山著名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粤中造船厂，特定历史背景下，几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人艰苦的创业历程在这里沉淀为真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而弥足珍贵的城市记忆。 设计者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崇敬和珍惜将他们重新幻化成富于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命的音符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现劳动与创造者的人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灵光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468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032320" y="11383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公园全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67280" y="1268280"/>
            <a:ext cx="371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红色记忆（装置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装下这块场地上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段时间里曾经发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的故事。墙上那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驳的领袖画像，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子上残留的“安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生产” 、“节约用电”等等的红色告示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148160" y="836640"/>
            <a:ext cx="14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盒子外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了茅草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当地最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野性的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渲染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洪荒与历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的气氛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49680" y="1125360"/>
            <a:ext cx="1460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大量使用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乡土野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包括用于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岸绿化的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水植物，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类茅草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水生、湿生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旱生乡土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物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2" name="cla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4:47:09Z</dcterms:created>
  <dc:creator>荀雷</dc:creator>
  <dc:description/>
  <dc:language>en-US</dc:language>
  <cp:lastModifiedBy>Lenovo User</cp:lastModifiedBy>
  <dcterms:modified xsi:type="dcterms:W3CDTF">2006-05-18T00:06:26Z</dcterms:modified>
  <cp:revision>80</cp:revision>
  <dc:subject/>
  <dc:title>PowerPoint 演示文稿</dc:title>
</cp:coreProperties>
</file>