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6.jpeg" ContentType="image/jpeg"/>
  <Override PartName="/ppt/media/image13.gif" ContentType="image/gif"/>
  <Override PartName="/ppt/media/image4.jpeg" ContentType="image/jpeg"/>
  <Override PartName="/ppt/media/cashreg.wav" ContentType="audio/x-wav"/>
  <Override PartName="/ppt/media/image2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1F6-1718-47B5-90ED-F4F15935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559A-2141-4164-868B-A9AD0D56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531-2BAB-4131-8AF1-A5AC9B4D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19D-BEDC-41EB-A355-03B1611B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FAD-F730-4EF1-B60A-DF0BD6AF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401-2E3F-4AA7-B8C0-C2D83C44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3D4-D450-4355-919F-B2BD0A6E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8C6-DB97-4D8D-A472-F04A8064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608-B983-49A0-9984-21A96AEC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05E-F266-4081-A415-F704F012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70AE-6B28-47EF-B25C-A4D772F4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E76-6D7F-4274-839C-DED4010E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51D4-76B5-4870-A245-2A7BB82B7E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330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课文导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国是一个诗的国度，而唐诗则是这个诗国的高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唐诗，它是一页页活的历史，它是一幅幅生动的画面，让我们读唐诗，来为之而喜，为之而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b1be5"/>
                </a:solidFill>
                <a:latin typeface="Times New Roman"/>
              </a:rPr>
              <a:t>中心思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77724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首诗比喻奇妙，由于受纯朴民风的影响，李白的这首诗非常质朴平实，更显得情真意切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9112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李白游泾县桃花潭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常在村民汪伦家作客。临走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汪伦来送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于是李白写这首诗留别。诗中表达了李白对汪伦这个普通村民的深情厚谊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268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内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335772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品鉴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95480" y="205740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  <p:seq>
              <p:cTn id="2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905120" y="990720"/>
            <a:ext cx="6338880" cy="2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抢答题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汪伦是一个的      、      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              把              送给                 。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7920" y="24922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27640" y="24922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31240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78320" y="31417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1600" y="31417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609480"/>
            <a:ext cx="79930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54107"/>
                </a:solidFill>
                <a:latin typeface="Times New Roman"/>
                <a:ea typeface="幼圆"/>
              </a:rPr>
              <a:t>四人小组讨论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6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想象汪伦送别李白时的心情，讨论一下如果你是汪伦，你会唱着什么歌去送行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90920" y="609480"/>
            <a:ext cx="6553080" cy="37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54107"/>
                </a:solidFill>
                <a:latin typeface="Times New Roman"/>
                <a:ea typeface="幼圆"/>
              </a:rPr>
              <a:t>拓展题：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6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</a:t>
            </a:r>
            <a:r>
              <a:rPr b="0" lang="zh-CN" sz="6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想想还有哪些古诗是写朋友依依惜别的呢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573372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90792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海内存知己，天涯若比邻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勃：《送杜少府之任蜀州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又送王孙去，萋萋满别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白：《送友人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春草明年绿，王孙归不归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白居易：《赋得古原草送别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劝君更尽一杯酒，西出阳关无故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维：《送元二使安西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9360"/>
            <a:ext cx="8839080" cy="65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知识巩固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多音字组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íng  (           )                       tà (  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áng (           )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踏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ā (  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《赠汪伦》是一首（        ）诗，是（    ）代诗人（         ）专门写来送给（        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解释加横的字的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不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汪伦送我情。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闻岸上踏歌声。（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190512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182880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50760" y="162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1be5"/>
                </a:solidFill>
                <a:latin typeface="Times New Roman"/>
              </a:rPr>
              <a:t>行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31680" y="220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1be5"/>
                </a:solidFill>
                <a:latin typeface="Times New Roman"/>
              </a:rPr>
              <a:t>银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27320" y="1555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1be5"/>
                </a:solidFill>
                <a:latin typeface="Times New Roman"/>
              </a:rPr>
              <a:t>踢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71680" y="2179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1be5"/>
                </a:solidFill>
                <a:latin typeface="Times New Roman"/>
              </a:rPr>
              <a:t>踏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87480" y="321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1be5"/>
                </a:solidFill>
                <a:latin typeface="Times New Roman"/>
              </a:rPr>
              <a:t>送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8640" y="328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1be5"/>
                </a:solidFill>
                <a:latin typeface="Times New Roman"/>
              </a:rPr>
              <a:t>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040" y="321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1be5"/>
                </a:solidFill>
                <a:latin typeface="Times New Roman"/>
              </a:rPr>
              <a:t>李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00040" y="364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1be5"/>
                </a:solidFill>
                <a:latin typeface="Times New Roman"/>
              </a:rPr>
              <a:t>汪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50960" y="527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1be5"/>
                </a:solidFill>
                <a:latin typeface="Times New Roman"/>
              </a:rPr>
              <a:t>不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08200" y="58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1be5"/>
                </a:solidFill>
                <a:latin typeface="Times New Roman"/>
              </a:rPr>
              <a:t>忽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038480" y="1447920"/>
            <a:ext cx="471024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头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月轮回，时光穿梭，转眼间已到了二十一世纪。有一天，李白乘坐着一辆轿车到桃花潭去游玩。正看得起劲时，忽然后面有人喊了声：“李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!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白回过头来一看，原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--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24360" y="2421000"/>
            <a:ext cx="47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学们可以把古诗改写成一个小故事，也可以续写一篇文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62064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22840" y="692280"/>
            <a:ext cx="470988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月轮回，时光穿梭，转眼间已到了二十一世纪。有一天，李白乘坐着一辆轿车到桃花潭去游玩。正看得起劲时，忽然后面有人喊了声：“李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李白回过头来一看，原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-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33336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自主设计：你能接着写下去吗？发挥你的想象试一试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48656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古诗两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1be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e5"/>
                </a:solidFill>
                <a:latin typeface="Times New Roman"/>
              </a:rPr>
              <a:t>赠汪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李白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b1be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e5"/>
                </a:solidFill>
                <a:latin typeface="Times New Roman"/>
              </a:rPr>
              <a:t>九月九日忆山东兄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王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97960" y="3933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西师版四年级上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522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5445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92360" y="1341360"/>
            <a:ext cx="583236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观赏！ </a:t>
            </a:r>
            <a:endParaRPr b="1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228600"/>
            <a:ext cx="7804080" cy="6629400"/>
            <a:chOff x="0" y="228600"/>
            <a:chExt cx="7804080" cy="662940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0" y="228600"/>
              <a:ext cx="5037120" cy="662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185800" y="838080"/>
              <a:ext cx="2618280" cy="41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66ff"/>
                  </a:solidFill>
                  <a:latin typeface="Times New Roman"/>
                </a:rPr>
                <a:t>赠  汪  伦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83800" y="3657600"/>
              <a:ext cx="11552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李    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515600" cy="7086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32000" y="1066680"/>
            <a:ext cx="6696000" cy="49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483d3"/>
                </a:solidFill>
                <a:latin typeface="Times New Roman"/>
                <a:ea typeface="隶书"/>
              </a:rPr>
              <a:t>按要求学习古诗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、了解写作背景，朗读古     诗，注意读准字音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合注释，理解诗句的                           意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，并联起来说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要求掌握并背诵这首古诗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55640" y="404640"/>
            <a:ext cx="7416720" cy="2617920"/>
            <a:chOff x="755640" y="404640"/>
            <a:chExt cx="7416720" cy="2617920"/>
          </a:xfrm>
        </p:grpSpPr>
        <p:sp>
          <p:nvSpPr>
            <p:cNvPr id="53" name=""/>
            <p:cNvSpPr/>
            <p:nvPr/>
          </p:nvSpPr>
          <p:spPr>
            <a:xfrm>
              <a:off x="755640" y="772560"/>
              <a:ext cx="7416720" cy="22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李白一生既喜欢做诗，也很喜欢喝酒和游历名川大山，豪士汪伦非常仰慕他的才华，很想与他结为朋友。听说李白到了安徽，就写了一封信托人带给李白，上面写道：“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先生好游乎？此地有十里桃花。先生好饮乎？此地有万家酒店。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“李白到了之后十分疑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汪伦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微笑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解释说：“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十里桃花是十里外有个桃花渡口，万家酒店是店家姓万，并非一万家酒店。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李白恍然大悟，他不但没有生气，反而被汪伦的幽默与风趣逗得大笑起来，两人一见如故。汪伦留李白住了好几天，天天用美酒深情款待他，李白在那儿过得非常愉快， 临走时写了那首著名的送别诗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961560" y="404640"/>
              <a:ext cx="3502080" cy="101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趣味故事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76760" y="0"/>
            <a:ext cx="44672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1125360"/>
            <a:ext cx="358128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赠  汪  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李白乘船将欲行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忽闻岸上踏歌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4221000"/>
            <a:ext cx="374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桃花潭水深千尺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及汪伦送我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3141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57560" y="2349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xí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76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28472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5953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551628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3636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作者简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1268280"/>
            <a:ext cx="748836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李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0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6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唐代人，字太白，号青莲居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李白的诗以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抒情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主。是继屈原之后，第一个真正能够广泛地从当时的民间文艺和秦、汉、魏以来的乐府民歌吸取其丰富营养，集中提高而形成他的独特风貌。他具有超异寻常的艺术天才和磅礴雄伟的艺术力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国最为杰出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浪漫主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诗人，有「诗仙」之称。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商隐、李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并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又与杜甫齐名，世称「大李杜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061640"/>
            <a:ext cx="23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注释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795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踏歌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民间的一种唱歌形式，一边唱歌，一边用脚踏地打拍子，可以边走    边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桃花潭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今安徽泾县西南一百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不及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如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深千尺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运用了夸张的修辞手法。 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b1be5"/>
                </a:solidFill>
                <a:latin typeface="Times New Roman"/>
              </a:rPr>
              <a:t>诗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27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李白坐上小船刚刚要启程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忽然听到岸上传来告别的踏歌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即使桃花潭的水有一千尺那么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也深不过汪伦送别我的一片真情。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720" y="3789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及汪伦送我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6560" y="2208240"/>
            <a:ext cx="25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白乘船将欲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6560" y="27082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忽闻岸上踏歌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6560" y="3287880"/>
            <a:ext cx="29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桃花潭水深千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04:22:36Z</dcterms:created>
  <dc:creator>群志科技</dc:creator>
  <dc:description/>
  <dc:language>en-US</dc:language>
  <cp:lastModifiedBy>asus</cp:lastModifiedBy>
  <dcterms:modified xsi:type="dcterms:W3CDTF">2013-05-20T16:25:49Z</dcterms:modified>
  <cp:revision>19</cp:revision>
  <dc:subject/>
  <dc:title>PowerPoint 演示文稿</dc:title>
</cp:coreProperties>
</file>