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618-40E8-443C-A8BE-528F1003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BE1-5E80-4938-A6B4-8D7E8873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980-8422-4274-94AB-0E25A0A5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F03-865D-42A9-96C2-9C8AAA7C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3108-13EE-4F54-894A-3230EE51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8CA5-75E6-46EA-9C41-838FF424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5BD8-9325-41A4-92BC-9F02E87B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0FB9-FBAE-4944-A397-9B59590E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E666-1491-4031-B990-91A7C616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4346-D67E-4B15-ADF6-DC5B207B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E596-3090-4540-8BFE-815CE47D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FEE-3DCD-4FF1-A171-4DA1F74F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25F3-2A33-47EA-8A7D-5E2B9086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8A0D-58AF-4A15-9735-31F3410B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0F92-BB92-42DA-B18A-5E81AFC1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7B50-FCD9-4E10-AA80-5CDCCCBD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EAE0-5567-4B00-B6E5-80EBB807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ADA-4E43-4955-98D8-119A96A6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7E6-713F-4B28-B712-A42047CD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32D-7CBD-4EC3-A09B-4ECD757B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5AB-159C-4586-A5F2-EFAE6D01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287-329D-445A-8E8F-742B8A7E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935E-E4DA-4498-B003-4E256F28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698-D764-4102-96C7-A1356247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510C-4BD5-40B4-8AA9-17731D4E90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BC56-0F84-4823-A0A9-FC6B3410C35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22760" y="651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《古诗三首》—赠汪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赠汪伦诗画欣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3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240160" y="1135080"/>
            <a:ext cx="2417760" cy="4123080"/>
            <a:chOff x="5240160" y="1135080"/>
            <a:chExt cx="2417760" cy="4123080"/>
          </a:xfrm>
        </p:grpSpPr>
        <p:sp>
          <p:nvSpPr>
            <p:cNvPr id="189" name=""/>
            <p:cNvSpPr/>
            <p:nvPr/>
          </p:nvSpPr>
          <p:spPr>
            <a:xfrm>
              <a:off x="5240160" y="2421000"/>
              <a:ext cx="23752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李白乘舟将欲行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忽闻岸上踏歌声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桃花潭水深千尺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不及汪伦送我情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67120" y="1135080"/>
              <a:ext cx="199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华文细黑"/>
                </a:rPr>
                <a:t>赠汪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华文细黑"/>
                </a:rPr>
                <a:t>            </a:t>
              </a: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华文细黑"/>
                </a:rPr>
                <a:t>李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3792600" cy="5832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525320" y="-380880"/>
            <a:ext cx="2527560" cy="2606400"/>
            <a:chOff x="1525320" y="-380880"/>
            <a:chExt cx="2527560" cy="2606400"/>
          </a:xfrm>
        </p:grpSpPr>
        <p:sp>
          <p:nvSpPr>
            <p:cNvPr id="193" name=""/>
            <p:cNvSpPr/>
            <p:nvPr/>
          </p:nvSpPr>
          <p:spPr>
            <a:xfrm>
              <a:off x="1525320" y="302760"/>
              <a:ext cx="180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07120" y="-380880"/>
              <a:ext cx="144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华文细黑"/>
                </a:rPr>
                <a:t>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589120" y="19112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99"/>
                </a:solidFill>
                <a:latin typeface="Arial"/>
                <a:ea typeface="隶书"/>
              </a:rPr>
              <a:t>李白乘舟将欲行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99"/>
                </a:solidFill>
                <a:latin typeface="Arial"/>
                <a:ea typeface="隶书"/>
              </a:rPr>
              <a:t>忽闻岸上踏歌声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525320" y="-380880"/>
            <a:ext cx="2527560" cy="2606400"/>
            <a:chOff x="1525320" y="-380880"/>
            <a:chExt cx="2527560" cy="2606400"/>
          </a:xfrm>
        </p:grpSpPr>
        <p:sp>
          <p:nvSpPr>
            <p:cNvPr id="197" name=""/>
            <p:cNvSpPr/>
            <p:nvPr/>
          </p:nvSpPr>
          <p:spPr>
            <a:xfrm>
              <a:off x="1525320" y="302760"/>
              <a:ext cx="180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07120" y="-380880"/>
              <a:ext cx="144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华文细黑"/>
                </a:rPr>
                <a:t>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589120" y="19112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99"/>
                </a:solidFill>
                <a:latin typeface="Arial"/>
                <a:ea typeface="隶书"/>
              </a:rPr>
              <a:t>李白乘舟将欲行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忽闻</a:t>
            </a:r>
            <a:r>
              <a:rPr b="1" lang="zh-CN" sz="6000" spc="-1" strike="noStrike">
                <a:solidFill>
                  <a:srgbClr val="006699"/>
                </a:solidFill>
                <a:latin typeface="Arial"/>
                <a:ea typeface="隶书"/>
              </a:rPr>
              <a:t>岸上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踏歌</a:t>
            </a:r>
            <a:r>
              <a:rPr b="1" lang="zh-CN" sz="6000" spc="-1" strike="noStrike">
                <a:solidFill>
                  <a:srgbClr val="006699"/>
                </a:solidFill>
                <a:latin typeface="Arial"/>
                <a:ea typeface="隶书"/>
              </a:rPr>
              <a:t>声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514600" y="533520"/>
            <a:ext cx="3792600" cy="5832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2607120" y="-380880"/>
            <a:ext cx="3988440" cy="4435200"/>
            <a:chOff x="2607120" y="-380880"/>
            <a:chExt cx="3988440" cy="4435200"/>
          </a:xfrm>
        </p:grpSpPr>
        <p:sp>
          <p:nvSpPr>
            <p:cNvPr id="202" name=""/>
            <p:cNvSpPr/>
            <p:nvPr/>
          </p:nvSpPr>
          <p:spPr>
            <a:xfrm>
              <a:off x="2757240" y="302760"/>
              <a:ext cx="383832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8080"/>
                  </a:solidFill>
                  <a:latin typeface="Arial"/>
                  <a:ea typeface="隶书"/>
                </a:rPr>
                <a:t>桃花潭水</a:t>
              </a:r>
              <a:r>
                <a:rPr b="1" lang="zh-CN" sz="6000" spc="-1" strike="noStrike">
                  <a:solidFill>
                    <a:srgbClr val="ff0066"/>
                  </a:solidFill>
                  <a:latin typeface="Arial"/>
                  <a:ea typeface="隶书"/>
                </a:rPr>
                <a:t>深千尺</a:t>
              </a:r>
              <a:r>
                <a:rPr b="1" lang="zh-CN" sz="6000" spc="-1" strike="noStrike">
                  <a:solidFill>
                    <a:srgbClr val="008080"/>
                  </a:solidFill>
                  <a:latin typeface="Arial"/>
                  <a:ea typeface="隶书"/>
                </a:rPr>
                <a:t>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66"/>
                  </a:solidFill>
                  <a:latin typeface="Arial"/>
                  <a:ea typeface="隶书"/>
                </a:rPr>
                <a:t>不及</a:t>
              </a:r>
              <a:r>
                <a:rPr b="1" lang="zh-CN" sz="6000" spc="-1" strike="noStrike">
                  <a:solidFill>
                    <a:srgbClr val="008080"/>
                  </a:solidFill>
                  <a:latin typeface="Arial"/>
                  <a:ea typeface="隶书"/>
                </a:rPr>
                <a:t>汪伦送我情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07120" y="-380880"/>
              <a:ext cx="144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华文细黑"/>
                </a:rPr>
                <a:t>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112840" y="350532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Arial"/>
              </a:rPr>
              <a:t>即使……但是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31520" y="40608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能把这句诗换成感叹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73480" y="4616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试试换成反问句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3881520" cy="2575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3889440" cy="257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364000" y="981000"/>
            <a:ext cx="3449880" cy="457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4215600" y="10123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99"/>
                </a:solidFill>
                <a:latin typeface="Arial"/>
                <a:ea typeface="华文细黑"/>
              </a:rPr>
              <a:t>同学离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44320" y="386640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99"/>
                </a:solidFill>
                <a:latin typeface="Arial"/>
                <a:ea typeface="华文细黑"/>
              </a:rPr>
              <a:t>亲人离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960" y="5734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战友离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2286000"/>
            <a:ext cx="2520720" cy="1440000"/>
          </a:xfrm>
          <a:prstGeom prst="foldedCorner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离别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课堂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2514600"/>
            <a:ext cx="784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千里黄云白日曛，          故人西辞黄鹤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北风吹雁雪纷纷。          烟花三月下扬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莫愁前路无知己，          孤帆远影碧空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天下谁人不识君。          唯见长江天际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44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别董大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黄鹤楼送孟浩然之广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3848400" cy="500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63760" y="4572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80"/>
                </a:solidFill>
                <a:latin typeface="Times New Roman"/>
                <a:ea typeface="华文中宋"/>
              </a:rPr>
              <a:t>李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680440" y="1905120"/>
            <a:ext cx="27928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3726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李白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701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762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字太白，号青莲居士。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我国唐代伟大诗人。他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下了上千首诗篇，有《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夜思》《夜宿山寺》《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发白帝城》《望庐山瀑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》等。被称为“诗仙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804000" y="-44280"/>
            <a:ext cx="2339640" cy="6858000"/>
            <a:chOff x="6804000" y="-44280"/>
            <a:chExt cx="2339640" cy="6858000"/>
          </a:xfrm>
        </p:grpSpPr>
        <p:sp>
          <p:nvSpPr>
            <p:cNvPr id="94" name=""/>
            <p:cNvSpPr/>
            <p:nvPr/>
          </p:nvSpPr>
          <p:spPr>
            <a:xfrm>
              <a:off x="680400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4036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7708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1452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5088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8760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2468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6140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9776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3520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7192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0864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4572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8244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1916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5660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296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2932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6676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0348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3984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7728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400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5108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8780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2452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6196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9832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3504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7248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0884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556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8300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1936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5608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9316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2988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6660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0404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4040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7712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1456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5092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836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472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6144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9888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3524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7196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0940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4576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8248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1992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5664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79300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83044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6680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90352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94096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97732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01404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051480" y="-44280"/>
              <a:ext cx="1872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8784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25280" y="-44280"/>
              <a:ext cx="18360" cy="6858000"/>
            </a:xfrm>
            <a:prstGeom prst="rect">
              <a:avLst/>
            </a:prstGeom>
            <a:solidFill>
              <a:srgbClr val="d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14760" y="1301760"/>
            <a:ext cx="6069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古诗二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61040" y="115524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隶书"/>
              </a:rPr>
              <a:t>赠汪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5867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03520" y="60199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实验小学：陈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25560" y="2743200"/>
            <a:ext cx="39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十里桃花”和“万家酒店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4040" y="835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  <a:ea typeface="华文新魏"/>
              </a:rPr>
              <a:t>小故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9480" y="57913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2308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570120" cy="548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4572000" y="2438280"/>
            <a:ext cx="4572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李白乘舟将欲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忽闻岸上踏歌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桃花潭水深千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不及汪伦送我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赠汪伦   </a:t>
            </a:r>
            <a:br>
              <a:rPr sz="4400"/>
            </a:b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李白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04920" y="617220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2176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980440" y="236232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Arial"/>
              </a:rPr>
              <a:t>赠     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词语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762120" y="380880"/>
            <a:ext cx="746784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赠  汪  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李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李 白 乘 舟 将 欲 行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忽 闻 岸 上 踏 歌 声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桃 花 潭 水 深 千 尺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 及 汪 伦 送 我 情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3733920"/>
            <a:ext cx="4572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欲：将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忽闻：忽然听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踏歌：古代民间的一种歌唱形式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一边用脚打节拍，一边唱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548640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不及：比不上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3399"/>
                </a:solidFill>
                <a:latin typeface="宋体"/>
              </a:rPr>
              <a:t>深千尺：有千尺那么深。</a:t>
            </a:r>
            <a:r>
              <a:rPr b="1" lang="zh-CN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5240160" y="1135080"/>
            <a:ext cx="2417760" cy="4123080"/>
            <a:chOff x="5240160" y="1135080"/>
            <a:chExt cx="2417760" cy="4123080"/>
          </a:xfrm>
        </p:grpSpPr>
        <p:sp>
          <p:nvSpPr>
            <p:cNvPr id="175" name=""/>
            <p:cNvSpPr/>
            <p:nvPr/>
          </p:nvSpPr>
          <p:spPr>
            <a:xfrm>
              <a:off x="5240160" y="2421000"/>
              <a:ext cx="23752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李白乘舟将欲行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忽闻岸上踏歌声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桃花潭水深千尺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不及汪伦送我情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67120" y="1135080"/>
              <a:ext cx="199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华文细黑"/>
                </a:rPr>
                <a:t>赠汪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华文细黑"/>
                </a:rPr>
                <a:t>            </a:t>
              </a: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华文细黑"/>
                </a:rPr>
                <a:t>李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92600" cy="5832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 flipH="1">
            <a:off x="6324480" y="2438280"/>
            <a:ext cx="152640" cy="6098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324480" y="3124080"/>
            <a:ext cx="152640" cy="533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24480" y="3581280"/>
            <a:ext cx="152640" cy="533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324480" y="4191120"/>
            <a:ext cx="152640" cy="5331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409720" y="2438280"/>
            <a:ext cx="228600" cy="6098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409720" y="3048120"/>
            <a:ext cx="228600" cy="6094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409720" y="3581280"/>
            <a:ext cx="228600" cy="533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410080" y="4191120"/>
            <a:ext cx="152640" cy="4572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3792600" cy="5832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6121800" y="1828800"/>
            <a:ext cx="1070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Arial"/>
              </a:rPr>
              <a:t>学习建议</a:t>
            </a:r>
            <a:r>
              <a:rPr b="0" lang="zh-CN" sz="2400" spc="-1" strike="noStrike">
                <a:solidFill>
                  <a:srgbClr val="00808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、朗读法：发散连词解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清诗意后朗读全诗，读出感受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会和重音、节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2:22:33Z</dcterms:created>
  <dc:creator>bobo</dc:creator>
  <dc:description/>
  <dc:language>en-US</dc:language>
  <cp:lastModifiedBy>微软用户</cp:lastModifiedBy>
  <dcterms:modified xsi:type="dcterms:W3CDTF">2014-07-09T13:01:24Z</dcterms:modified>
  <cp:revision>69</cp:revision>
  <dc:subject/>
  <dc:title>幻灯片 1</dc:title>
</cp:coreProperties>
</file>