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type.wav" ContentType="audio/x-wav"/>
  <Override PartName="/ppt/media/image2.png" ContentType="image/png"/>
  <Override PartName="/ppt/media/whoosh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A557-7F0C-42AA-B231-0EFD4E78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9FF5-C2CA-4414-B268-213985F2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3890-ACFE-4305-9AA2-D4430703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72B5-CFBA-4E72-A058-85F6D048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1F21-A9BA-4F4F-A887-F679422B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1CEB-331E-48FE-BFE6-6BC0EDE6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B7E9-8A64-4436-B9FD-88764A39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A195-853D-4A4C-AE7A-45B9527E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828F-99B5-4F3B-8409-3ED1C626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2C17-14E2-4664-BAED-10F2CB6F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15D0-8D13-48A2-B3F8-1FDFFD17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CC8C-0CB6-4586-92E4-62B6AAA7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E856-6FA0-4BE0-BC43-D1970666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1E0C-0623-4E43-8BC4-2E261058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A01C-B0E0-4CAF-B5A8-C4C58DAC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7F40-0EBF-437C-A53A-EA555345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95FB-4D80-4355-953F-FF047D30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D7CD-B64A-4AEC-816C-551F2715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0A91-9492-4B65-8910-FC9FF98F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BFB0-5AB9-43A8-AA6D-6839B168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D09C-9C46-450C-86FF-263F0D28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F3AC-349C-46E6-93AC-811F9F7B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5C11-F56B-4D65-975C-07580ABB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65A3-40D3-4365-8E4B-F1632848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34C4-4AAD-44DF-B829-79E1262234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1B4B-81E1-494C-B242-A78354E4D1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e40000"/>
                </a:solidFill>
                <a:latin typeface="Arial"/>
              </a:rPr>
              <a:t>詹天佑</a:t>
            </a:r>
            <a:endParaRPr b="0" lang="en-US" sz="8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332000" y="4365720"/>
            <a:ext cx="64008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大庆</a:t>
            </a: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陈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60000" y="28692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７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﹑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修建过程主要有几件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　　　　　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勘测线路　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　　　　　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开凿隧道    八达岭：竖井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居庸关：对进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设计线路：“人”字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851280" y="2276640"/>
            <a:ext cx="142920" cy="1223640"/>
          </a:xfrm>
          <a:custGeom>
            <a:avLst/>
            <a:gdLst>
              <a:gd name="textAreaLeft" fmla="*/ 91440 w 142920"/>
              <a:gd name="textAreaRight" fmla="*/ 143280 w 142920"/>
              <a:gd name="textAreaTop" fmla="*/ 31680 h 1223640"/>
              <a:gd name="textAreaBottom" fmla="*/ 1191960 h 122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140360" y="450864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1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r>
              <a:rPr b="0" lang="zh-CN" sz="48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八达岭隧道“竖井”法施工示意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0" y="-1066680"/>
            <a:ext cx="9144000" cy="792468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4724280" y="3276720"/>
            <a:ext cx="762120" cy="3200400"/>
          </a:xfrm>
          <a:prstGeom prst="downArrow">
            <a:avLst>
              <a:gd name="adj1" fmla="val 50000"/>
              <a:gd name="adj2" fmla="val 104983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962520" y="6019920"/>
            <a:ext cx="761760" cy="609480"/>
          </a:xfrm>
          <a:prstGeom prst="leftArrow">
            <a:avLst>
              <a:gd name="adj1" fmla="val 50000"/>
              <a:gd name="adj2" fmla="val 3124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10080" y="6019920"/>
            <a:ext cx="762120" cy="609480"/>
          </a:xfrm>
          <a:prstGeom prst="rightArrow">
            <a:avLst>
              <a:gd name="adj1" fmla="val 50000"/>
              <a:gd name="adj2" fmla="val 3126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458200" y="601992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6019920"/>
            <a:ext cx="838080" cy="609480"/>
          </a:xfrm>
          <a:prstGeom prst="rightArrow">
            <a:avLst>
              <a:gd name="adj1" fmla="val 50000"/>
              <a:gd name="adj2" fmla="val 3437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38080" y="6324480"/>
            <a:ext cx="33530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72200" y="6324480"/>
            <a:ext cx="2362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304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八达岭隧道“竖井法”施工示意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2676600" y="2492280"/>
            <a:ext cx="6467400" cy="42102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-609480" y="6248520"/>
            <a:ext cx="1981080" cy="609480"/>
          </a:xfrm>
          <a:prstGeom prst="rightArrow">
            <a:avLst>
              <a:gd name="adj1" fmla="val 50000"/>
              <a:gd name="adj2" fmla="val 8126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315200" y="6248520"/>
            <a:ext cx="1828800" cy="609480"/>
          </a:xfrm>
          <a:prstGeom prst="leftArrow">
            <a:avLst>
              <a:gd name="adj1" fmla="val 50000"/>
              <a:gd name="adj2" fmla="val 750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057400" y="6553080"/>
            <a:ext cx="5334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371600" y="6553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371600" y="6553080"/>
            <a:ext cx="59436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-1143000" y="304920"/>
            <a:ext cx="92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居庸关隧道施工示意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9280" y="263520"/>
            <a:ext cx="816948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﹑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修建过程最能突出詹天佑什么特点？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勇担重任　</a:t>
            </a:r>
            <a:r>
              <a:rPr b="1" lang="zh-CN" sz="4800" spc="-1" strike="noStrike">
                <a:solidFill>
                  <a:srgbClr val="003366"/>
                </a:solidFill>
                <a:latin typeface="Arial"/>
              </a:rPr>
              <a:t>　爱国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铁路工程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亲自勘测　　</a:t>
            </a:r>
            <a:r>
              <a:rPr b="1" lang="zh-CN" sz="4800" spc="-1" strike="noStrike">
                <a:solidFill>
                  <a:srgbClr val="003366"/>
                </a:solidFill>
                <a:latin typeface="Arial"/>
              </a:rPr>
              <a:t>杰出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智慧和才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快速开凿　　有力回击帝国主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巧妙设计　　受到人们敬仰怀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提前竣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92360" y="2708280"/>
            <a:ext cx="944640" cy="3313080"/>
          </a:xfrm>
          <a:custGeom>
            <a:avLst/>
            <a:gdLst>
              <a:gd name="textAreaLeft" fmla="*/ 0 w 944640"/>
              <a:gd name="textAreaRight" fmla="*/ 340920 w 94464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-75960" y="189000"/>
            <a:ext cx="1277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京张铁路青龙桥站詹天佑铜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2054160" y="-1440"/>
            <a:ext cx="503388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00000"/>
                </a:solidFill>
                <a:uFillTx/>
                <a:latin typeface="Arial"/>
              </a:rPr>
              <a:t>想象说话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5027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看着詹天佑的铜像你想说些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3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98440" y="228600"/>
            <a:ext cx="854064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填空：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篇课文写了詹天佑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事，表现了詹天佑是一位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工程师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文章先概括地点出中心，然后再选择修筑过程中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三件典型事例，进行具体的叙述，以表现人物的品格特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本课写作特点：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 写人物记叙文选择人物一生中</a:t>
            </a:r>
            <a:r>
              <a:rPr b="1" lang="zh-CN" sz="4800" spc="-1" strike="noStrike" u="sng">
                <a:solidFill>
                  <a:srgbClr val="003366"/>
                </a:solidFill>
                <a:uFillTx/>
                <a:latin typeface="Arial"/>
              </a:rPr>
              <a:t>最重要的事件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来写，通过</a:t>
            </a:r>
            <a:r>
              <a:rPr b="1" lang="zh-CN" sz="4800" spc="-1" strike="noStrike" u="sng">
                <a:solidFill>
                  <a:srgbClr val="003366"/>
                </a:solidFill>
                <a:uFillTx/>
                <a:latin typeface="Arial"/>
              </a:rPr>
              <a:t>具体典型的事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表现人物的品格特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可采用</a:t>
            </a:r>
            <a:r>
              <a:rPr b="1" lang="zh-CN" sz="4800" spc="-1" strike="noStrike" u="sng">
                <a:solidFill>
                  <a:srgbClr val="003366"/>
                </a:solidFill>
                <a:uFillTx/>
                <a:latin typeface="Arial"/>
              </a:rPr>
              <a:t>先概括后具体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写作方法。（先总后分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</a:rPr>
              <a:t>比较写法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《詹天佑》与《郑成功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9240" y="645840"/>
            <a:ext cx="8529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作业</a:t>
            </a:r>
            <a:br>
              <a:rPr sz="5400"/>
            </a:b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用先概括后具体的方法写一 篇短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中心句：     某某是一位品学兼优的同学，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3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2987280" y="260280"/>
            <a:ext cx="6156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1905—1909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年主持修建我国自建的第一条铁路—京张铁路（北京至张家口）在修建中用“人”字形线路，减少工程数量；用“竖井施工法”开挖隧道，缩短了工期。京张铁路的修建，为我国培养了第一批铁路工程师，有力得回击了帝国主义，表现了深厚的爱国情义，为我国以后的铁路修筑作出了贡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665440" cy="34560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0" y="3860640"/>
            <a:ext cx="33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詹天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1861--191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铁路工程专家               安徽婺源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395280" y="18900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自课文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,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结合上下句理解以下词语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24000" y="2133720"/>
            <a:ext cx="8820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阻挠   要挟  轰动   勉励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藐视  周密  竣工   毅然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轻蔑   回击  任命   精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勘测路线  赞叹不已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75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8200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问题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清政府计划修建京张铁路，帝国主义为什么出来阻挠？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0" y="2924280"/>
            <a:ext cx="896472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3366"/>
                </a:solidFill>
                <a:latin typeface="Arial"/>
              </a:rPr>
              <a:t>为争夺这一铁路的修筑权，进一步控制我国北部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78598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、最后帝国主义提出一个什么条件？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Arial"/>
              </a:rPr>
              <a:t>清政府如果用本国的工程师来修筑铁路，他们就不在过问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36480" y="83628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、我们国家自己的事，帝国主义为什么要过问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68360" y="279216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03366"/>
                </a:solidFill>
                <a:latin typeface="Arial"/>
              </a:rPr>
              <a:t>过问”实质上是要干预我国的内政，控制掠夺我国的经济</a:t>
            </a:r>
            <a:r>
              <a:rPr b="1" lang="zh-CN" sz="4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3366"/>
                </a:solidFill>
                <a:latin typeface="Arial"/>
              </a:rPr>
              <a:t>掠夺我国的资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820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、什么叫要挟？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帝国主义凭什么要挟？</a:t>
            </a:r>
            <a:br>
              <a:rPr sz="4800"/>
            </a:b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50920" y="257616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3366"/>
                </a:solidFill>
                <a:latin typeface="Arial"/>
              </a:rPr>
              <a:t>……</a:t>
            </a:r>
            <a:r>
              <a:rPr b="1" lang="zh-CN" sz="5400" spc="-1" strike="noStrike">
                <a:solidFill>
                  <a:srgbClr val="003366"/>
                </a:solidFill>
                <a:latin typeface="Arial"/>
              </a:rPr>
              <a:t>凭他们强大的国力，侵略的本性；清政府的腐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５ 、詹天佑在什么背景修建京张铁路的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8000" y="2565000"/>
            <a:ext cx="8675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Arial"/>
              </a:rPr>
              <a:t>帝国主义阻挠、要挟、轻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560" y="1341360"/>
            <a:ext cx="87138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６ 詹天佑出任京张铁路总工程师时，国内外反应如何？</a:t>
            </a:r>
            <a:br>
              <a:rPr sz="5400"/>
            </a:b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国内：</a:t>
            </a:r>
            <a:r>
              <a:rPr b="1" lang="zh-CN" sz="5400" spc="-1" strike="noStrike">
                <a:solidFill>
                  <a:srgbClr val="003366"/>
                </a:solidFill>
                <a:latin typeface="Arial"/>
              </a:rPr>
              <a:t>全国轰动了 ……       咱们可争一口气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国外：</a:t>
            </a:r>
            <a:r>
              <a:rPr b="1" lang="zh-CN" sz="5400" spc="-1" strike="noStrike">
                <a:solidFill>
                  <a:srgbClr val="003366"/>
                </a:solidFill>
                <a:latin typeface="Arial"/>
              </a:rPr>
              <a:t>认为是个笑话……      轻蔑地说：“……没出世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1:40:28Z</dcterms:created>
  <dc:creator>Chinese User</dc:creator>
  <dc:description/>
  <dc:language>en-US</dc:language>
  <cp:lastModifiedBy>番茄花园</cp:lastModifiedBy>
  <dcterms:modified xsi:type="dcterms:W3CDTF">2008-01-21T12:07:51Z</dcterms:modified>
  <cp:revision>4</cp:revision>
  <dc:subject/>
  <dc:title>詹天佑</dc:title>
</cp:coreProperties>
</file>