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gif" ContentType="image/gif"/>
  <Override PartName="/ppt/media/chimes.wav" ContentType="audio/x-wav"/>
  <Override PartName="/ppt/media/image11.jpeg" ContentType="image/jpeg"/>
  <Override PartName="/ppt/media/image6.png" ContentType="image/png"/>
  <Override PartName="/ppt/media/image7.gif" ContentType="image/gif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95F7-5A24-4C3D-817E-B47731EF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30A-5ACF-4544-9FDA-6B9F3604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CFF-8F4D-49A2-8B67-0337D872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4997-5785-4D36-AE3F-3DD472F0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0A7A-C7D9-439F-B10C-D1D20E34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E604-2AF6-4B64-B8F0-11729B33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6A3A-4DAD-4B07-9939-218E39B0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A005-C072-4193-A6D6-1667652D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E831-5700-4635-8A1A-2E4A9DEC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CA2C-7F88-4C4D-BC44-12E3C93B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CFA0-313B-4187-812F-8205C61C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EF14-ACC9-4B32-8118-79BE2A7B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7D08-8D1D-4268-AE35-04675E5A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7B81-B1E6-40EA-8230-1B5342AF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1AA7-6869-4A64-8B88-8AB6EC41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C1F9-E2A2-42DB-8F21-693FDCA1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AF5C-3A62-4FC3-8067-AA4EF90B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380E-736E-4BC5-B80D-C5FA8D18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C998-6F57-4FD0-A66D-5F188360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3B26-A603-45FC-9E08-84DF21BB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80CB-B25E-40A1-A047-D24E8EB1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A58B-C161-4466-B7B9-B1A9403E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A8C-1E48-4459-A52B-26677FA0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2F9-05FF-49B0-BB76-54DA3584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190F-1967-4D21-9A4E-7AEADBCC0D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B801-7271-48EF-8D09-449C40611B71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266,2,&#24187;&#28783;&#29255; 2" TargetMode="External"/><Relationship Id="rId3" Type="http://schemas.openxmlformats.org/officeDocument/2006/relationships/hyperlink" Target="262,8,&#24187;&#28783;&#29255; 8" TargetMode="External"/><Relationship Id="rId4" Type="http://schemas.openxmlformats.org/officeDocument/2006/relationships/hyperlink" Target="264,7,&#24187;&#28783;&#29255; 7" TargetMode="External"/><Relationship Id="rId5" Type="http://schemas.openxmlformats.org/officeDocument/2006/relationships/hyperlink" Target="265,5,&#24187;&#28783;&#29255; 5" TargetMode="External"/><Relationship Id="rId6" Type="http://schemas.openxmlformats.org/officeDocument/2006/relationships/hyperlink" Target="256,1,&#24187;&#28783;&#29255; 1" TargetMode="External"/><Relationship Id="rId7" Type="http://schemas.openxmlformats.org/officeDocument/2006/relationships/hyperlink" Target="270,10,&#24187;&#28783;&#29255; 10" TargetMode="External"/><Relationship Id="rId8" Type="http://schemas.openxmlformats.org/officeDocument/2006/relationships/hyperlink" Target="-1,11,&#24187;&#28783;&#29255; 11" TargetMode="Externa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hyperlink" Target="268,13,&#24187;&#28783;&#29255; 13" TargetMode="External"/><Relationship Id="rId4" Type="http://schemas.openxmlformats.org/officeDocument/2006/relationships/hyperlink" Target="../Local Settings/Temp/Rar$DI00.027/&#20154;&#23383;&#24418;&#32447;&#36335;.swf" TargetMode="External"/><Relationship Id="rId5" Type="http://schemas.openxmlformats.org/officeDocument/2006/relationships/hyperlink" Target="../Local Settings/Temp/Rar$DI00.027/&#20154;&#23383;&#24418;&#32447;&#36335;.swf" TargetMode="External"/><Relationship Id="rId6" Type="http://schemas.openxmlformats.org/officeDocument/2006/relationships/hyperlink" Target="../Local Settings/Temp/Rar$DI00.027/&#20154;&#23383;&#24418;&#32447;&#36335;.swf" TargetMode="External"/><Relationship Id="rId7" Type="http://schemas.openxmlformats.org/officeDocument/2006/relationships/hyperlink" Target="..\Local Settings\Temp\Rar$DI00.027\&#20843;&#36798;&#23725;&#20013;&#37096;&#20991;&#20117;&#27861;.swf" TargetMode="External"/><Relationship Id="rId8" Type="http://schemas.openxmlformats.org/officeDocument/2006/relationships/hyperlink" Target="..\Local Settings\Temp\Rar$DI00.027\&#20843;&#36798;&#23725;&#20013;&#37096;&#20991;&#20117;&#27861;.swf" TargetMode="External"/><Relationship Id="rId9" Type="http://schemas.openxmlformats.org/officeDocument/2006/relationships/hyperlink" Target="..\Local Settings\Temp\Rar$DI00.027\&#20843;&#36798;&#23725;&#20013;&#37096;&#20991;&#20117;&#27861;.swf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049" descr="无标题z"/>
          <p:cNvPicPr/>
          <p:nvPr/>
        </p:nvPicPr>
        <p:blipFill>
          <a:blip r:embed="rId1"/>
          <a:stretch/>
        </p:blipFill>
        <p:spPr>
          <a:xfrm>
            <a:off x="4859280" y="692280"/>
            <a:ext cx="3809880" cy="54864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050"/>
          <p:cNvSpPr/>
          <p:nvPr/>
        </p:nvSpPr>
        <p:spPr>
          <a:xfrm>
            <a:off x="304920" y="68580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408"/>
                </a:solidFill>
                <a:latin typeface="宋体"/>
              </a:rPr>
              <a:t>九年义务教育六年制小学教科书语文第</a:t>
            </a:r>
            <a:r>
              <a:rPr b="0" lang="en-US" sz="1600" spc="-1" strike="noStrike">
                <a:solidFill>
                  <a:srgbClr val="000408"/>
                </a:solidFill>
                <a:latin typeface="宋体"/>
              </a:rPr>
              <a:t>12</a:t>
            </a:r>
            <a:r>
              <a:rPr b="0" lang="zh-CN" sz="1600" spc="-1" strike="noStrike">
                <a:solidFill>
                  <a:srgbClr val="000408"/>
                </a:solidFill>
                <a:latin typeface="宋体"/>
              </a:rPr>
              <a:t>册课件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文本框 2051"/>
          <p:cNvSpPr/>
          <p:nvPr/>
        </p:nvSpPr>
        <p:spPr>
          <a:xfrm>
            <a:off x="685800" y="1905120"/>
            <a:ext cx="40384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宋体"/>
              </a:rPr>
              <a:t>詹  天  佑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文本框 2060"/>
          <p:cNvSpPr/>
          <p:nvPr/>
        </p:nvSpPr>
        <p:spPr>
          <a:xfrm>
            <a:off x="2627280" y="6308640"/>
            <a:ext cx="15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从修筑京张铁路这件事中，你觉得詹天佑是个怎样的人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Arial"/>
              </a:rPr>
              <a:t>詹天佑是一位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______________</a:t>
            </a:r>
            <a:r>
              <a:rPr b="0" lang="zh-CN" sz="4000" spc="-1" strike="noStrike">
                <a:solidFill>
                  <a:srgbClr val="990033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杰出的爱国工程师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不畏艰难险阻，迎难而上的工程师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勇于实践、勇于创新的工程师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从修筑京张铁路这件事中，你觉得詹天佑是个怎样的人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Arial"/>
              </a:rPr>
              <a:t>詹天佑是一位</a:t>
            </a:r>
            <a:r>
              <a:rPr b="1" lang="zh-CN" sz="3600" spc="-1" strike="noStrike">
                <a:solidFill>
                  <a:srgbClr val="cc66ff"/>
                </a:solidFill>
                <a:latin typeface="Arial"/>
                <a:ea typeface="楷体_GB2312"/>
              </a:rPr>
              <a:t>杰出的爱国工程师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这是一条由我国的工程设计人员设计施工的铁路干线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消息一传出来，全国都轰动了，大家说这一回咱们可争了一口气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能在南口以北修筑铁路的中国工程师还没有出世呢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楷体_GB2312"/>
              </a:rPr>
              <a:t>从修筑京张铁路这件事中，你觉得詹天佑是个怎样的人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Arial"/>
              </a:rPr>
              <a:t>詹天佑是一位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楷体_GB2312"/>
              </a:rPr>
              <a:t>不畏艰难险阻，迎难而上的工程师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詹天佑不怕困难，也不怕嘲笑，毅然接受了任务，马上开始勘测线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从修筑京张铁路这件事中，你觉得詹天佑是个怎样的人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Arial"/>
              </a:rPr>
              <a:t>詹天佑是一位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勇于实践、勇于创新的工程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白天，他攀山越岭，勘测线路；晚上，他就在油灯下绘图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工地上没有抽水机，詹天佑就带头挑着水桶去排水。他常常跟工人们同吃同住，不离开工地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文本框 106497"/>
          <p:cNvSpPr/>
          <p:nvPr/>
        </p:nvSpPr>
        <p:spPr>
          <a:xfrm>
            <a:off x="457200" y="552600"/>
            <a:ext cx="8305920" cy="59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詹天佑是我国杰出的爱国工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程师。从北京到张家口这一段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路，最早是在他的主持下修筑成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功的。这是第一条完全由我国的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工程技术人员设计施工的铁路干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线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1" name="组合 106498"/>
          <p:cNvGrpSpPr/>
          <p:nvPr/>
        </p:nvGrpSpPr>
        <p:grpSpPr>
          <a:xfrm>
            <a:off x="533520" y="533520"/>
            <a:ext cx="8076960" cy="1904760"/>
            <a:chOff x="533520" y="533520"/>
            <a:chExt cx="8076960" cy="1904760"/>
          </a:xfrm>
        </p:grpSpPr>
        <p:sp>
          <p:nvSpPr>
            <p:cNvPr id="142" name="文本框 106499"/>
            <p:cNvSpPr/>
            <p:nvPr/>
          </p:nvSpPr>
          <p:spPr>
            <a:xfrm>
              <a:off x="5256000" y="53352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杰出</a:t>
              </a:r>
              <a:endParaRPr b="0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3" name="文本框 106500"/>
            <p:cNvSpPr/>
            <p:nvPr/>
          </p:nvSpPr>
          <p:spPr>
            <a:xfrm>
              <a:off x="6705720" y="53352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爱国</a:t>
              </a:r>
              <a:endParaRPr b="0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4" name="直接连接符 106501"/>
            <p:cNvSpPr/>
            <p:nvPr/>
          </p:nvSpPr>
          <p:spPr>
            <a:xfrm>
              <a:off x="1676520" y="1371600"/>
              <a:ext cx="6933960" cy="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5" name="直接连接符 106502"/>
            <p:cNvSpPr/>
            <p:nvPr/>
          </p:nvSpPr>
          <p:spPr>
            <a:xfrm>
              <a:off x="533520" y="2438280"/>
              <a:ext cx="1371600" cy="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4097" descr="无标题"/>
          <p:cNvPicPr/>
          <p:nvPr/>
        </p:nvPicPr>
        <p:blipFill>
          <a:blip r:embed="rId1"/>
          <a:stretch/>
        </p:blipFill>
        <p:spPr>
          <a:xfrm>
            <a:off x="457200" y="380880"/>
            <a:ext cx="7162920" cy="601992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4098"/>
          <p:cNvSpPr/>
          <p:nvPr/>
        </p:nvSpPr>
        <p:spPr>
          <a:xfrm>
            <a:off x="3581280" y="1752480"/>
            <a:ext cx="35816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宋体"/>
              </a:rPr>
              <a:t>詹  天  佑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文本框 4099"/>
          <p:cNvSpPr/>
          <p:nvPr/>
        </p:nvSpPr>
        <p:spPr>
          <a:xfrm>
            <a:off x="1066680" y="838080"/>
            <a:ext cx="6324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宋体"/>
              </a:rPr>
              <a:t>小语第</a:t>
            </a:r>
            <a:r>
              <a:rPr b="0" lang="en-US" sz="2400" spc="-1" strike="noStrike">
                <a:solidFill>
                  <a:srgbClr val="9900cc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9900cc"/>
                </a:solidFill>
                <a:latin typeface="宋体"/>
              </a:rPr>
              <a:t>册课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文本框 4111"/>
          <p:cNvSpPr/>
          <p:nvPr/>
        </p:nvSpPr>
        <p:spPr>
          <a:xfrm>
            <a:off x="7848720" y="1219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c5900"/>
                </a:solidFill>
                <a:uFillTx/>
                <a:latin typeface="宋体"/>
                <a:hlinkClick r:id="rId2"/>
              </a:rPr>
              <a:t>导  入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文本框 4115"/>
          <p:cNvSpPr/>
          <p:nvPr/>
        </p:nvSpPr>
        <p:spPr>
          <a:xfrm>
            <a:off x="7924680" y="24382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c5900"/>
                </a:solidFill>
                <a:uFillTx/>
                <a:latin typeface="Times New Roman"/>
                <a:hlinkClick r:id="rId3"/>
              </a:rPr>
              <a:t>八达岭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文本框 4116"/>
          <p:cNvSpPr/>
          <p:nvPr/>
        </p:nvSpPr>
        <p:spPr>
          <a:xfrm>
            <a:off x="7924680" y="18288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c5900"/>
                </a:solidFill>
                <a:uFillTx/>
                <a:latin typeface="Times New Roman"/>
                <a:hlinkClick r:id="rId4"/>
              </a:rPr>
              <a:t>居庸关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文本框 4117"/>
          <p:cNvSpPr/>
          <p:nvPr/>
        </p:nvSpPr>
        <p:spPr>
          <a:xfrm>
            <a:off x="7905600" y="3124080"/>
            <a:ext cx="247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c5900"/>
                </a:solidFill>
                <a:uFillTx/>
                <a:latin typeface="Times New Roman"/>
                <a:hlinkClick r:id="rId5"/>
              </a:rPr>
              <a:t>人字形_x000b_线    路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文本框 4118"/>
          <p:cNvSpPr/>
          <p:nvPr/>
        </p:nvSpPr>
        <p:spPr>
          <a:xfrm>
            <a:off x="7924680" y="55627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c5900"/>
                </a:solidFill>
                <a:uFillTx/>
                <a:latin typeface="Times New Roman"/>
                <a:hlinkClick r:id="rId6"/>
              </a:rPr>
              <a:t>返   回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文本框 4119"/>
          <p:cNvSpPr/>
          <p:nvPr/>
        </p:nvSpPr>
        <p:spPr>
          <a:xfrm>
            <a:off x="7924680" y="42670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c5900"/>
                </a:solidFill>
                <a:uFillTx/>
                <a:latin typeface="Times New Roman"/>
                <a:hlinkClick r:id="rId7"/>
              </a:rPr>
              <a:t>总   结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文本框 4120"/>
          <p:cNvSpPr/>
          <p:nvPr/>
        </p:nvSpPr>
        <p:spPr>
          <a:xfrm>
            <a:off x="7924680" y="4952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c5900"/>
                </a:solidFill>
                <a:uFillTx/>
                <a:latin typeface="Times New Roman"/>
                <a:hlinkClick r:id="rId8"/>
              </a:rPr>
              <a:t>资   料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文本框 13313"/>
          <p:cNvSpPr/>
          <p:nvPr/>
        </p:nvSpPr>
        <p:spPr>
          <a:xfrm>
            <a:off x="0" y="1295280"/>
            <a:ext cx="5029200" cy="453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a77"/>
                </a:solidFill>
                <a:latin typeface="Times New Roman"/>
                <a:ea typeface="华文细黑"/>
              </a:rPr>
              <a:t>         </a:t>
            </a:r>
            <a:r>
              <a:rPr b="1" lang="zh-CN" sz="5400" spc="-1" strike="noStrike">
                <a:solidFill>
                  <a:srgbClr val="9900cc"/>
                </a:solidFill>
                <a:latin typeface="宋体"/>
              </a:rPr>
              <a:t>詹天佑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宋体"/>
              </a:rPr>
              <a:t>  </a:t>
            </a:r>
            <a:r>
              <a:rPr b="1" lang="zh-CN" sz="5400" spc="-1" strike="noStrike">
                <a:solidFill>
                  <a:srgbClr val="9900cc"/>
                </a:solidFill>
                <a:latin typeface="宋体"/>
              </a:rPr>
              <a:t>我国杰出的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宋体"/>
              </a:rPr>
              <a:t>  </a:t>
            </a:r>
            <a:r>
              <a:rPr b="1" lang="zh-CN" sz="5400" spc="-1" strike="noStrike">
                <a:solidFill>
                  <a:srgbClr val="9900cc"/>
                </a:solidFill>
                <a:latin typeface="宋体"/>
              </a:rPr>
              <a:t>爱国工程师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Times New Roman"/>
                <a:ea typeface="华文细黑"/>
              </a:rPr>
              <a:t> 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7" name="图片 13315" descr="无标题z"/>
          <p:cNvPicPr/>
          <p:nvPr/>
        </p:nvPicPr>
        <p:blipFill>
          <a:blip r:embed="rId1"/>
          <a:stretch/>
        </p:blipFill>
        <p:spPr>
          <a:xfrm>
            <a:off x="5410080" y="1066680"/>
            <a:ext cx="3430800" cy="4800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15362"/>
          <p:cNvSpPr/>
          <p:nvPr/>
        </p:nvSpPr>
        <p:spPr>
          <a:xfrm>
            <a:off x="1295280" y="15238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408"/>
                </a:solidFill>
                <a:latin typeface="Times New Roman"/>
              </a:rPr>
              <a:t>有一家外国报纸轻蔑地说：“能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文本框 15363"/>
          <p:cNvSpPr/>
          <p:nvPr/>
        </p:nvSpPr>
        <p:spPr>
          <a:xfrm>
            <a:off x="1219320" y="22860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408"/>
                </a:solidFill>
                <a:latin typeface="Times New Roman"/>
              </a:rPr>
              <a:t>在南口以北修筑铁路的中国工程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文本框 15364"/>
          <p:cNvSpPr/>
          <p:nvPr/>
        </p:nvSpPr>
        <p:spPr>
          <a:xfrm>
            <a:off x="1219320" y="3048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408"/>
                </a:solidFill>
                <a:latin typeface="Times New Roman"/>
              </a:rPr>
              <a:t>还没有出世呢。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1" name="图片 15365" descr="pic_r02_c02"/>
          <p:cNvPicPr/>
          <p:nvPr/>
        </p:nvPicPr>
        <p:blipFill>
          <a:blip r:embed="rId1"/>
          <a:stretch/>
        </p:blipFill>
        <p:spPr>
          <a:xfrm>
            <a:off x="7315200" y="609480"/>
            <a:ext cx="1006560" cy="731880"/>
          </a:xfrm>
          <a:prstGeom prst="rect">
            <a:avLst/>
          </a:prstGeom>
          <a:ln w="0">
            <a:noFill/>
          </a:ln>
        </p:spPr>
      </p:pic>
      <p:sp>
        <p:nvSpPr>
          <p:cNvPr id="162" name="文本框 15366"/>
          <p:cNvSpPr/>
          <p:nvPr/>
        </p:nvSpPr>
        <p:spPr>
          <a:xfrm>
            <a:off x="971640" y="4149720"/>
            <a:ext cx="72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请联系上下文回答 “还没有出世”是什么意思？这家外国报纸为什么要这样说</a:t>
            </a: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任意多边形 10245"/>
          <p:cNvSpPr/>
          <p:nvPr/>
        </p:nvSpPr>
        <p:spPr>
          <a:xfrm rot="21556200">
            <a:off x="2555640" y="3105000"/>
            <a:ext cx="3527280" cy="3276720"/>
          </a:xfrm>
          <a:custGeom>
            <a:avLst/>
            <a:gdLst/>
            <a:ahLst/>
            <a:rect l="l" t="t" r="r" b="b"/>
            <a:pathLst>
              <a:path w="4514" h="2974">
                <a:moveTo>
                  <a:pt x="0" y="2880"/>
                </a:moveTo>
                <a:cubicBezTo>
                  <a:pt x="50" y="2807"/>
                  <a:pt x="3" y="2883"/>
                  <a:pt x="36" y="2810"/>
                </a:cubicBezTo>
                <a:cubicBezTo>
                  <a:pt x="51" y="2778"/>
                  <a:pt x="83" y="2716"/>
                  <a:pt x="83" y="2716"/>
                </a:cubicBezTo>
                <a:cubicBezTo>
                  <a:pt x="104" y="2630"/>
                  <a:pt x="118" y="2542"/>
                  <a:pt x="141" y="2457"/>
                </a:cubicBezTo>
                <a:cubicBezTo>
                  <a:pt x="158" y="2394"/>
                  <a:pt x="200" y="2269"/>
                  <a:pt x="200" y="2269"/>
                </a:cubicBezTo>
                <a:cubicBezTo>
                  <a:pt x="211" y="2186"/>
                  <a:pt x="221" y="2113"/>
                  <a:pt x="247" y="2034"/>
                </a:cubicBezTo>
                <a:cubicBezTo>
                  <a:pt x="259" y="1863"/>
                  <a:pt x="288" y="1702"/>
                  <a:pt x="341" y="1540"/>
                </a:cubicBezTo>
                <a:cubicBezTo>
                  <a:pt x="351" y="1459"/>
                  <a:pt x="370" y="1384"/>
                  <a:pt x="388" y="1305"/>
                </a:cubicBezTo>
                <a:cubicBezTo>
                  <a:pt x="422" y="1154"/>
                  <a:pt x="385" y="1190"/>
                  <a:pt x="459" y="1141"/>
                </a:cubicBezTo>
                <a:cubicBezTo>
                  <a:pt x="479" y="1145"/>
                  <a:pt x="500" y="1143"/>
                  <a:pt x="518" y="1152"/>
                </a:cubicBezTo>
                <a:cubicBezTo>
                  <a:pt x="533" y="1159"/>
                  <a:pt x="539" y="1179"/>
                  <a:pt x="553" y="1188"/>
                </a:cubicBezTo>
                <a:cubicBezTo>
                  <a:pt x="563" y="1195"/>
                  <a:pt x="576" y="1195"/>
                  <a:pt x="588" y="1199"/>
                </a:cubicBezTo>
                <a:cubicBezTo>
                  <a:pt x="604" y="1195"/>
                  <a:pt x="622" y="1197"/>
                  <a:pt x="635" y="1188"/>
                </a:cubicBezTo>
                <a:cubicBezTo>
                  <a:pt x="647" y="1180"/>
                  <a:pt x="650" y="1163"/>
                  <a:pt x="659" y="1152"/>
                </a:cubicBezTo>
                <a:cubicBezTo>
                  <a:pt x="673" y="1135"/>
                  <a:pt x="686" y="1115"/>
                  <a:pt x="706" y="1105"/>
                </a:cubicBezTo>
                <a:cubicBezTo>
                  <a:pt x="727" y="1095"/>
                  <a:pt x="753" y="1098"/>
                  <a:pt x="776" y="1094"/>
                </a:cubicBezTo>
                <a:cubicBezTo>
                  <a:pt x="807" y="1078"/>
                  <a:pt x="839" y="1064"/>
                  <a:pt x="870" y="1047"/>
                </a:cubicBezTo>
                <a:cubicBezTo>
                  <a:pt x="882" y="1040"/>
                  <a:pt x="891" y="1025"/>
                  <a:pt x="905" y="1023"/>
                </a:cubicBezTo>
                <a:cubicBezTo>
                  <a:pt x="925" y="1020"/>
                  <a:pt x="944" y="1031"/>
                  <a:pt x="964" y="1035"/>
                </a:cubicBezTo>
                <a:cubicBezTo>
                  <a:pt x="1056" y="1094"/>
                  <a:pt x="948" y="1018"/>
                  <a:pt x="1023" y="1094"/>
                </a:cubicBezTo>
                <a:cubicBezTo>
                  <a:pt x="1053" y="1125"/>
                  <a:pt x="1105" y="1141"/>
                  <a:pt x="1141" y="1164"/>
                </a:cubicBezTo>
                <a:cubicBezTo>
                  <a:pt x="1233" y="1023"/>
                  <a:pt x="1243" y="824"/>
                  <a:pt x="1258" y="659"/>
                </a:cubicBezTo>
                <a:cubicBezTo>
                  <a:pt x="1269" y="538"/>
                  <a:pt x="1265" y="506"/>
                  <a:pt x="1282" y="400"/>
                </a:cubicBezTo>
                <a:cubicBezTo>
                  <a:pt x="1284" y="385"/>
                  <a:pt x="1300" y="320"/>
                  <a:pt x="1305" y="318"/>
                </a:cubicBezTo>
                <a:cubicBezTo>
                  <a:pt x="1330" y="306"/>
                  <a:pt x="1360" y="310"/>
                  <a:pt x="1387" y="306"/>
                </a:cubicBezTo>
                <a:cubicBezTo>
                  <a:pt x="1507" y="330"/>
                  <a:pt x="1630" y="329"/>
                  <a:pt x="1752" y="341"/>
                </a:cubicBezTo>
                <a:cubicBezTo>
                  <a:pt x="1776" y="349"/>
                  <a:pt x="1805" y="356"/>
                  <a:pt x="1822" y="377"/>
                </a:cubicBezTo>
                <a:cubicBezTo>
                  <a:pt x="1839" y="398"/>
                  <a:pt x="1831" y="438"/>
                  <a:pt x="1846" y="459"/>
                </a:cubicBezTo>
                <a:cubicBezTo>
                  <a:pt x="1865" y="486"/>
                  <a:pt x="1898" y="502"/>
                  <a:pt x="1916" y="529"/>
                </a:cubicBezTo>
                <a:cubicBezTo>
                  <a:pt x="1924" y="541"/>
                  <a:pt x="1929" y="556"/>
                  <a:pt x="1940" y="565"/>
                </a:cubicBezTo>
                <a:cubicBezTo>
                  <a:pt x="1950" y="573"/>
                  <a:pt x="1963" y="572"/>
                  <a:pt x="1975" y="576"/>
                </a:cubicBezTo>
                <a:cubicBezTo>
                  <a:pt x="1991" y="572"/>
                  <a:pt x="2006" y="568"/>
                  <a:pt x="2022" y="565"/>
                </a:cubicBezTo>
                <a:cubicBezTo>
                  <a:pt x="2053" y="560"/>
                  <a:pt x="2085" y="560"/>
                  <a:pt x="2116" y="553"/>
                </a:cubicBezTo>
                <a:cubicBezTo>
                  <a:pt x="2140" y="548"/>
                  <a:pt x="2163" y="535"/>
                  <a:pt x="2187" y="529"/>
                </a:cubicBezTo>
                <a:cubicBezTo>
                  <a:pt x="2210" y="523"/>
                  <a:pt x="2234" y="522"/>
                  <a:pt x="2257" y="518"/>
                </a:cubicBezTo>
                <a:cubicBezTo>
                  <a:pt x="2506" y="434"/>
                  <a:pt x="2121" y="449"/>
                  <a:pt x="2633" y="471"/>
                </a:cubicBezTo>
                <a:cubicBezTo>
                  <a:pt x="2656" y="493"/>
                  <a:pt x="2679" y="511"/>
                  <a:pt x="2692" y="541"/>
                </a:cubicBezTo>
                <a:cubicBezTo>
                  <a:pt x="2711" y="585"/>
                  <a:pt x="2713" y="618"/>
                  <a:pt x="2739" y="659"/>
                </a:cubicBezTo>
                <a:cubicBezTo>
                  <a:pt x="2742" y="672"/>
                  <a:pt x="2758" y="747"/>
                  <a:pt x="2775" y="753"/>
                </a:cubicBezTo>
                <a:cubicBezTo>
                  <a:pt x="2792" y="758"/>
                  <a:pt x="2806" y="737"/>
                  <a:pt x="2822" y="729"/>
                </a:cubicBezTo>
                <a:cubicBezTo>
                  <a:pt x="2830" y="713"/>
                  <a:pt x="2841" y="699"/>
                  <a:pt x="2845" y="682"/>
                </a:cubicBezTo>
                <a:cubicBezTo>
                  <a:pt x="2853" y="651"/>
                  <a:pt x="2846" y="617"/>
                  <a:pt x="2857" y="588"/>
                </a:cubicBezTo>
                <a:cubicBezTo>
                  <a:pt x="2873" y="546"/>
                  <a:pt x="2907" y="512"/>
                  <a:pt x="2927" y="471"/>
                </a:cubicBezTo>
                <a:cubicBezTo>
                  <a:pt x="2938" y="449"/>
                  <a:pt x="2933" y="418"/>
                  <a:pt x="2951" y="400"/>
                </a:cubicBezTo>
                <a:cubicBezTo>
                  <a:pt x="3006" y="345"/>
                  <a:pt x="3084" y="315"/>
                  <a:pt x="3139" y="259"/>
                </a:cubicBezTo>
                <a:cubicBezTo>
                  <a:pt x="3162" y="235"/>
                  <a:pt x="3186" y="212"/>
                  <a:pt x="3209" y="188"/>
                </a:cubicBezTo>
                <a:cubicBezTo>
                  <a:pt x="3254" y="58"/>
                  <a:pt x="3216" y="179"/>
                  <a:pt x="3245" y="47"/>
                </a:cubicBezTo>
                <a:cubicBezTo>
                  <a:pt x="3248" y="35"/>
                  <a:pt x="3247" y="21"/>
                  <a:pt x="3256" y="12"/>
                </a:cubicBezTo>
                <a:cubicBezTo>
                  <a:pt x="3265" y="3"/>
                  <a:pt x="3280" y="4"/>
                  <a:pt x="3292" y="0"/>
                </a:cubicBezTo>
                <a:cubicBezTo>
                  <a:pt x="3336" y="30"/>
                  <a:pt x="3340" y="49"/>
                  <a:pt x="3362" y="94"/>
                </a:cubicBezTo>
                <a:cubicBezTo>
                  <a:pt x="3382" y="135"/>
                  <a:pt x="3420" y="163"/>
                  <a:pt x="3445" y="200"/>
                </a:cubicBezTo>
                <a:cubicBezTo>
                  <a:pt x="3449" y="224"/>
                  <a:pt x="3445" y="250"/>
                  <a:pt x="3456" y="271"/>
                </a:cubicBezTo>
                <a:cubicBezTo>
                  <a:pt x="3462" y="284"/>
                  <a:pt x="3481" y="285"/>
                  <a:pt x="3492" y="294"/>
                </a:cubicBezTo>
                <a:cubicBezTo>
                  <a:pt x="3527" y="323"/>
                  <a:pt x="3548" y="365"/>
                  <a:pt x="3597" y="377"/>
                </a:cubicBezTo>
                <a:cubicBezTo>
                  <a:pt x="3628" y="385"/>
                  <a:pt x="3691" y="400"/>
                  <a:pt x="3691" y="400"/>
                </a:cubicBezTo>
                <a:cubicBezTo>
                  <a:pt x="3746" y="480"/>
                  <a:pt x="3729" y="506"/>
                  <a:pt x="3715" y="623"/>
                </a:cubicBezTo>
                <a:cubicBezTo>
                  <a:pt x="3709" y="670"/>
                  <a:pt x="3691" y="764"/>
                  <a:pt x="3691" y="764"/>
                </a:cubicBezTo>
                <a:cubicBezTo>
                  <a:pt x="3699" y="927"/>
                  <a:pt x="3667" y="1079"/>
                  <a:pt x="3809" y="1176"/>
                </a:cubicBezTo>
                <a:cubicBezTo>
                  <a:pt x="3817" y="1188"/>
                  <a:pt x="3821" y="1202"/>
                  <a:pt x="3832" y="1211"/>
                </a:cubicBezTo>
                <a:cubicBezTo>
                  <a:pt x="3842" y="1219"/>
                  <a:pt x="3859" y="1214"/>
                  <a:pt x="3868" y="1223"/>
                </a:cubicBezTo>
                <a:cubicBezTo>
                  <a:pt x="3877" y="1232"/>
                  <a:pt x="3874" y="1247"/>
                  <a:pt x="3880" y="1258"/>
                </a:cubicBezTo>
                <a:cubicBezTo>
                  <a:pt x="3900" y="1297"/>
                  <a:pt x="3903" y="1293"/>
                  <a:pt x="3938" y="1317"/>
                </a:cubicBezTo>
                <a:cubicBezTo>
                  <a:pt x="3945" y="1353"/>
                  <a:pt x="3957" y="1387"/>
                  <a:pt x="3962" y="1423"/>
                </a:cubicBezTo>
                <a:cubicBezTo>
                  <a:pt x="3975" y="1522"/>
                  <a:pt x="3961" y="1551"/>
                  <a:pt x="4009" y="1623"/>
                </a:cubicBezTo>
                <a:cubicBezTo>
                  <a:pt x="4009" y="1625"/>
                  <a:pt x="4027" y="1698"/>
                  <a:pt x="4032" y="1705"/>
                </a:cubicBezTo>
                <a:cubicBezTo>
                  <a:pt x="4082" y="1780"/>
                  <a:pt x="4051" y="1705"/>
                  <a:pt x="4103" y="1764"/>
                </a:cubicBezTo>
                <a:cubicBezTo>
                  <a:pt x="4129" y="1793"/>
                  <a:pt x="4150" y="1827"/>
                  <a:pt x="4173" y="1858"/>
                </a:cubicBezTo>
                <a:cubicBezTo>
                  <a:pt x="4185" y="1874"/>
                  <a:pt x="4197" y="1889"/>
                  <a:pt x="4209" y="1905"/>
                </a:cubicBezTo>
                <a:cubicBezTo>
                  <a:pt x="4221" y="1921"/>
                  <a:pt x="4244" y="1952"/>
                  <a:pt x="4244" y="1952"/>
                </a:cubicBezTo>
                <a:cubicBezTo>
                  <a:pt x="4257" y="2028"/>
                  <a:pt x="4260" y="2113"/>
                  <a:pt x="4279" y="2187"/>
                </a:cubicBezTo>
                <a:cubicBezTo>
                  <a:pt x="4303" y="2281"/>
                  <a:pt x="4343" y="2376"/>
                  <a:pt x="4373" y="2469"/>
                </a:cubicBezTo>
                <a:cubicBezTo>
                  <a:pt x="4384" y="2503"/>
                  <a:pt x="4424" y="2521"/>
                  <a:pt x="4444" y="2551"/>
                </a:cubicBezTo>
                <a:cubicBezTo>
                  <a:pt x="4423" y="2613"/>
                  <a:pt x="4447" y="2669"/>
                  <a:pt x="4467" y="2728"/>
                </a:cubicBezTo>
                <a:cubicBezTo>
                  <a:pt x="4475" y="2751"/>
                  <a:pt x="4483" y="2775"/>
                  <a:pt x="4491" y="2798"/>
                </a:cubicBezTo>
                <a:cubicBezTo>
                  <a:pt x="4495" y="2810"/>
                  <a:pt x="4503" y="2833"/>
                  <a:pt x="4503" y="2833"/>
                </a:cubicBezTo>
                <a:cubicBezTo>
                  <a:pt x="4514" y="2967"/>
                  <a:pt x="4514" y="2920"/>
                  <a:pt x="4514" y="2974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直接连接符 10247"/>
          <p:cNvSpPr/>
          <p:nvPr/>
        </p:nvSpPr>
        <p:spPr>
          <a:xfrm>
            <a:off x="2700360" y="5734080"/>
            <a:ext cx="1440000" cy="0"/>
          </a:xfrm>
          <a:prstGeom prst="line">
            <a:avLst/>
          </a:prstGeom>
          <a:ln w="127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直接连接符 10248"/>
          <p:cNvSpPr/>
          <p:nvPr/>
        </p:nvSpPr>
        <p:spPr>
          <a:xfrm flipH="1">
            <a:off x="4788000" y="5734080"/>
            <a:ext cx="1218960" cy="0"/>
          </a:xfrm>
          <a:prstGeom prst="line">
            <a:avLst/>
          </a:prstGeom>
          <a:ln w="127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6" name="图片 10252" descr="pic_r02_c02"/>
          <p:cNvPicPr/>
          <p:nvPr/>
        </p:nvPicPr>
        <p:blipFill>
          <a:blip r:embed="rId2"/>
          <a:stretch/>
        </p:blipFill>
        <p:spPr>
          <a:xfrm>
            <a:off x="250920" y="189000"/>
            <a:ext cx="649080" cy="43164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10253"/>
          <p:cNvSpPr/>
          <p:nvPr/>
        </p:nvSpPr>
        <p:spPr>
          <a:xfrm>
            <a:off x="2484360" y="63388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（两端同时向中间凿进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文本框 10254"/>
          <p:cNvSpPr/>
          <p:nvPr/>
        </p:nvSpPr>
        <p:spPr>
          <a:xfrm>
            <a:off x="1187280" y="692280"/>
            <a:ext cx="67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矩形 10255"/>
          <p:cNvSpPr/>
          <p:nvPr/>
        </p:nvSpPr>
        <p:spPr>
          <a:xfrm>
            <a:off x="36360" y="333360"/>
            <a:ext cx="907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詹天佑是一位勇于实践，勇于创新的工程师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矩形 10256"/>
          <p:cNvSpPr/>
          <p:nvPr/>
        </p:nvSpPr>
        <p:spPr>
          <a:xfrm>
            <a:off x="423720" y="1557360"/>
            <a:ext cx="854100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居庸关山势高，岩层厚，詹天佑决定采用从两端同时向中间凿进的办法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任意多边形 8193"/>
          <p:cNvSpPr/>
          <p:nvPr/>
        </p:nvSpPr>
        <p:spPr>
          <a:xfrm rot="111600">
            <a:off x="539280" y="2852640"/>
            <a:ext cx="8136000" cy="3133800"/>
          </a:xfrm>
          <a:custGeom>
            <a:avLst/>
            <a:gdLst/>
            <a:ahLst/>
            <a:rect l="l" t="t" r="r" b="b"/>
            <a:pathLst>
              <a:path w="5761" h="2598">
                <a:moveTo>
                  <a:pt x="0" y="2598"/>
                </a:moveTo>
                <a:cubicBezTo>
                  <a:pt x="15" y="2538"/>
                  <a:pt x="28" y="2479"/>
                  <a:pt x="47" y="2421"/>
                </a:cubicBezTo>
                <a:cubicBezTo>
                  <a:pt x="61" y="2260"/>
                  <a:pt x="72" y="2100"/>
                  <a:pt x="82" y="1939"/>
                </a:cubicBezTo>
                <a:cubicBezTo>
                  <a:pt x="91" y="1796"/>
                  <a:pt x="88" y="1722"/>
                  <a:pt x="129" y="1599"/>
                </a:cubicBezTo>
                <a:cubicBezTo>
                  <a:pt x="142" y="1559"/>
                  <a:pt x="188" y="1528"/>
                  <a:pt x="211" y="1493"/>
                </a:cubicBezTo>
                <a:cubicBezTo>
                  <a:pt x="300" y="1516"/>
                  <a:pt x="286" y="1542"/>
                  <a:pt x="352" y="1587"/>
                </a:cubicBezTo>
                <a:cubicBezTo>
                  <a:pt x="370" y="1535"/>
                  <a:pt x="408" y="1498"/>
                  <a:pt x="423" y="1446"/>
                </a:cubicBezTo>
                <a:cubicBezTo>
                  <a:pt x="443" y="1379"/>
                  <a:pt x="460" y="1312"/>
                  <a:pt x="482" y="1246"/>
                </a:cubicBezTo>
                <a:cubicBezTo>
                  <a:pt x="483" y="1243"/>
                  <a:pt x="503" y="1177"/>
                  <a:pt x="505" y="1175"/>
                </a:cubicBezTo>
                <a:cubicBezTo>
                  <a:pt x="525" y="1148"/>
                  <a:pt x="553" y="1125"/>
                  <a:pt x="564" y="1093"/>
                </a:cubicBezTo>
                <a:cubicBezTo>
                  <a:pt x="568" y="1081"/>
                  <a:pt x="570" y="1069"/>
                  <a:pt x="576" y="1058"/>
                </a:cubicBezTo>
                <a:cubicBezTo>
                  <a:pt x="593" y="1029"/>
                  <a:pt x="635" y="976"/>
                  <a:pt x="635" y="976"/>
                </a:cubicBezTo>
                <a:cubicBezTo>
                  <a:pt x="635" y="975"/>
                  <a:pt x="656" y="906"/>
                  <a:pt x="658" y="905"/>
                </a:cubicBezTo>
                <a:cubicBezTo>
                  <a:pt x="673" y="899"/>
                  <a:pt x="689" y="913"/>
                  <a:pt x="705" y="917"/>
                </a:cubicBezTo>
                <a:cubicBezTo>
                  <a:pt x="728" y="951"/>
                  <a:pt x="784" y="1015"/>
                  <a:pt x="799" y="1058"/>
                </a:cubicBezTo>
                <a:cubicBezTo>
                  <a:pt x="803" y="1070"/>
                  <a:pt x="804" y="1083"/>
                  <a:pt x="811" y="1093"/>
                </a:cubicBezTo>
                <a:cubicBezTo>
                  <a:pt x="820" y="1107"/>
                  <a:pt x="835" y="1115"/>
                  <a:pt x="846" y="1128"/>
                </a:cubicBezTo>
                <a:cubicBezTo>
                  <a:pt x="855" y="1139"/>
                  <a:pt x="862" y="1152"/>
                  <a:pt x="870" y="1164"/>
                </a:cubicBezTo>
                <a:cubicBezTo>
                  <a:pt x="883" y="1150"/>
                  <a:pt x="922" y="1115"/>
                  <a:pt x="928" y="1093"/>
                </a:cubicBezTo>
                <a:cubicBezTo>
                  <a:pt x="937" y="1060"/>
                  <a:pt x="947" y="929"/>
                  <a:pt x="975" y="893"/>
                </a:cubicBezTo>
                <a:cubicBezTo>
                  <a:pt x="984" y="882"/>
                  <a:pt x="999" y="878"/>
                  <a:pt x="1011" y="870"/>
                </a:cubicBezTo>
                <a:cubicBezTo>
                  <a:pt x="1030" y="874"/>
                  <a:pt x="1050" y="877"/>
                  <a:pt x="1069" y="881"/>
                </a:cubicBezTo>
                <a:cubicBezTo>
                  <a:pt x="1101" y="888"/>
                  <a:pt x="1164" y="905"/>
                  <a:pt x="1164" y="905"/>
                </a:cubicBezTo>
                <a:cubicBezTo>
                  <a:pt x="1225" y="950"/>
                  <a:pt x="1276" y="1004"/>
                  <a:pt x="1340" y="1046"/>
                </a:cubicBezTo>
                <a:cubicBezTo>
                  <a:pt x="1348" y="1058"/>
                  <a:pt x="1350" y="1076"/>
                  <a:pt x="1363" y="1081"/>
                </a:cubicBezTo>
                <a:cubicBezTo>
                  <a:pt x="1402" y="1097"/>
                  <a:pt x="1405" y="1052"/>
                  <a:pt x="1410" y="1034"/>
                </a:cubicBezTo>
                <a:cubicBezTo>
                  <a:pt x="1418" y="956"/>
                  <a:pt x="1425" y="886"/>
                  <a:pt x="1446" y="811"/>
                </a:cubicBezTo>
                <a:cubicBezTo>
                  <a:pt x="1449" y="799"/>
                  <a:pt x="1448" y="785"/>
                  <a:pt x="1457" y="776"/>
                </a:cubicBezTo>
                <a:cubicBezTo>
                  <a:pt x="1485" y="748"/>
                  <a:pt x="1520" y="729"/>
                  <a:pt x="1551" y="705"/>
                </a:cubicBezTo>
                <a:cubicBezTo>
                  <a:pt x="1578" y="685"/>
                  <a:pt x="1622" y="635"/>
                  <a:pt x="1622" y="635"/>
                </a:cubicBezTo>
                <a:cubicBezTo>
                  <a:pt x="1689" y="639"/>
                  <a:pt x="1756" y="636"/>
                  <a:pt x="1822" y="646"/>
                </a:cubicBezTo>
                <a:cubicBezTo>
                  <a:pt x="1854" y="651"/>
                  <a:pt x="1875" y="701"/>
                  <a:pt x="1892" y="717"/>
                </a:cubicBezTo>
                <a:cubicBezTo>
                  <a:pt x="1902" y="727"/>
                  <a:pt x="1916" y="732"/>
                  <a:pt x="1928" y="740"/>
                </a:cubicBezTo>
                <a:cubicBezTo>
                  <a:pt x="1944" y="751"/>
                  <a:pt x="1961" y="762"/>
                  <a:pt x="1975" y="776"/>
                </a:cubicBezTo>
                <a:cubicBezTo>
                  <a:pt x="2031" y="833"/>
                  <a:pt x="2026" y="934"/>
                  <a:pt x="2116" y="964"/>
                </a:cubicBezTo>
                <a:cubicBezTo>
                  <a:pt x="2172" y="880"/>
                  <a:pt x="2157" y="921"/>
                  <a:pt x="2174" y="846"/>
                </a:cubicBezTo>
                <a:cubicBezTo>
                  <a:pt x="2224" y="863"/>
                  <a:pt x="2224" y="887"/>
                  <a:pt x="2268" y="917"/>
                </a:cubicBezTo>
                <a:cubicBezTo>
                  <a:pt x="2294" y="955"/>
                  <a:pt x="2325" y="973"/>
                  <a:pt x="2351" y="1011"/>
                </a:cubicBezTo>
                <a:cubicBezTo>
                  <a:pt x="2442" y="988"/>
                  <a:pt x="2431" y="960"/>
                  <a:pt x="2457" y="881"/>
                </a:cubicBezTo>
                <a:cubicBezTo>
                  <a:pt x="2471" y="698"/>
                  <a:pt x="2508" y="482"/>
                  <a:pt x="2562" y="305"/>
                </a:cubicBezTo>
                <a:cubicBezTo>
                  <a:pt x="2617" y="313"/>
                  <a:pt x="2675" y="308"/>
                  <a:pt x="2727" y="329"/>
                </a:cubicBezTo>
                <a:cubicBezTo>
                  <a:pt x="2780" y="350"/>
                  <a:pt x="2830" y="461"/>
                  <a:pt x="2868" y="482"/>
                </a:cubicBezTo>
                <a:cubicBezTo>
                  <a:pt x="2889" y="494"/>
                  <a:pt x="2915" y="490"/>
                  <a:pt x="2939" y="494"/>
                </a:cubicBezTo>
                <a:cubicBezTo>
                  <a:pt x="2989" y="544"/>
                  <a:pt x="3019" y="609"/>
                  <a:pt x="3068" y="658"/>
                </a:cubicBezTo>
                <a:cubicBezTo>
                  <a:pt x="3135" y="726"/>
                  <a:pt x="3190" y="795"/>
                  <a:pt x="3232" y="881"/>
                </a:cubicBezTo>
                <a:cubicBezTo>
                  <a:pt x="3241" y="937"/>
                  <a:pt x="3259" y="1061"/>
                  <a:pt x="3291" y="1093"/>
                </a:cubicBezTo>
                <a:cubicBezTo>
                  <a:pt x="3348" y="1150"/>
                  <a:pt x="3325" y="1122"/>
                  <a:pt x="3362" y="1175"/>
                </a:cubicBezTo>
                <a:cubicBezTo>
                  <a:pt x="3365" y="1184"/>
                  <a:pt x="3380" y="1246"/>
                  <a:pt x="3397" y="1246"/>
                </a:cubicBezTo>
                <a:cubicBezTo>
                  <a:pt x="3417" y="1246"/>
                  <a:pt x="3428" y="1223"/>
                  <a:pt x="3444" y="1211"/>
                </a:cubicBezTo>
                <a:cubicBezTo>
                  <a:pt x="3504" y="1121"/>
                  <a:pt x="3487" y="920"/>
                  <a:pt x="3491" y="834"/>
                </a:cubicBezTo>
                <a:cubicBezTo>
                  <a:pt x="3522" y="842"/>
                  <a:pt x="3556" y="844"/>
                  <a:pt x="3585" y="858"/>
                </a:cubicBezTo>
                <a:cubicBezTo>
                  <a:pt x="3615" y="872"/>
                  <a:pt x="3667" y="917"/>
                  <a:pt x="3667" y="917"/>
                </a:cubicBezTo>
                <a:cubicBezTo>
                  <a:pt x="3715" y="988"/>
                  <a:pt x="3663" y="920"/>
                  <a:pt x="3726" y="976"/>
                </a:cubicBezTo>
                <a:cubicBezTo>
                  <a:pt x="3794" y="1036"/>
                  <a:pt x="3835" y="1107"/>
                  <a:pt x="3926" y="1128"/>
                </a:cubicBezTo>
                <a:cubicBezTo>
                  <a:pt x="4041" y="927"/>
                  <a:pt x="3971" y="1077"/>
                  <a:pt x="3996" y="635"/>
                </a:cubicBezTo>
                <a:cubicBezTo>
                  <a:pt x="4004" y="493"/>
                  <a:pt x="4075" y="298"/>
                  <a:pt x="4126" y="164"/>
                </a:cubicBezTo>
                <a:cubicBezTo>
                  <a:pt x="4136" y="137"/>
                  <a:pt x="4131" y="104"/>
                  <a:pt x="4149" y="82"/>
                </a:cubicBezTo>
                <a:cubicBezTo>
                  <a:pt x="4175" y="50"/>
                  <a:pt x="4232" y="23"/>
                  <a:pt x="4267" y="0"/>
                </a:cubicBezTo>
                <a:cubicBezTo>
                  <a:pt x="4326" y="20"/>
                  <a:pt x="4355" y="83"/>
                  <a:pt x="4396" y="129"/>
                </a:cubicBezTo>
                <a:cubicBezTo>
                  <a:pt x="4418" y="154"/>
                  <a:pt x="4443" y="176"/>
                  <a:pt x="4467" y="200"/>
                </a:cubicBezTo>
                <a:cubicBezTo>
                  <a:pt x="4509" y="242"/>
                  <a:pt x="4542" y="297"/>
                  <a:pt x="4584" y="341"/>
                </a:cubicBezTo>
                <a:cubicBezTo>
                  <a:pt x="4610" y="417"/>
                  <a:pt x="4640" y="457"/>
                  <a:pt x="4714" y="482"/>
                </a:cubicBezTo>
                <a:cubicBezTo>
                  <a:pt x="4726" y="474"/>
                  <a:pt x="4736" y="464"/>
                  <a:pt x="4749" y="458"/>
                </a:cubicBezTo>
                <a:cubicBezTo>
                  <a:pt x="4771" y="448"/>
                  <a:pt x="4819" y="435"/>
                  <a:pt x="4819" y="435"/>
                </a:cubicBezTo>
                <a:cubicBezTo>
                  <a:pt x="4912" y="466"/>
                  <a:pt x="4931" y="466"/>
                  <a:pt x="4996" y="529"/>
                </a:cubicBezTo>
                <a:cubicBezTo>
                  <a:pt x="5025" y="589"/>
                  <a:pt x="5037" y="643"/>
                  <a:pt x="5054" y="705"/>
                </a:cubicBezTo>
                <a:cubicBezTo>
                  <a:pt x="5060" y="729"/>
                  <a:pt x="5070" y="752"/>
                  <a:pt x="5078" y="776"/>
                </a:cubicBezTo>
                <a:cubicBezTo>
                  <a:pt x="5082" y="788"/>
                  <a:pt x="5090" y="811"/>
                  <a:pt x="5090" y="811"/>
                </a:cubicBezTo>
                <a:cubicBezTo>
                  <a:pt x="5094" y="854"/>
                  <a:pt x="5095" y="897"/>
                  <a:pt x="5101" y="940"/>
                </a:cubicBezTo>
                <a:cubicBezTo>
                  <a:pt x="5103" y="953"/>
                  <a:pt x="5101" y="972"/>
                  <a:pt x="5113" y="976"/>
                </a:cubicBezTo>
                <a:cubicBezTo>
                  <a:pt x="5136" y="983"/>
                  <a:pt x="5160" y="968"/>
                  <a:pt x="5184" y="964"/>
                </a:cubicBezTo>
                <a:cubicBezTo>
                  <a:pt x="5262" y="984"/>
                  <a:pt x="5207" y="959"/>
                  <a:pt x="5254" y="1011"/>
                </a:cubicBezTo>
                <a:cubicBezTo>
                  <a:pt x="5276" y="1036"/>
                  <a:pt x="5325" y="1081"/>
                  <a:pt x="5325" y="1081"/>
                </a:cubicBezTo>
                <a:cubicBezTo>
                  <a:pt x="5344" y="1139"/>
                  <a:pt x="5393" y="1176"/>
                  <a:pt x="5431" y="1222"/>
                </a:cubicBezTo>
                <a:cubicBezTo>
                  <a:pt x="5440" y="1233"/>
                  <a:pt x="5448" y="1245"/>
                  <a:pt x="5454" y="1258"/>
                </a:cubicBezTo>
                <a:cubicBezTo>
                  <a:pt x="5464" y="1281"/>
                  <a:pt x="5478" y="1328"/>
                  <a:pt x="5478" y="1328"/>
                </a:cubicBezTo>
                <a:cubicBezTo>
                  <a:pt x="5482" y="1465"/>
                  <a:pt x="5479" y="1603"/>
                  <a:pt x="5489" y="1740"/>
                </a:cubicBezTo>
                <a:cubicBezTo>
                  <a:pt x="5490" y="1758"/>
                  <a:pt x="5510" y="1770"/>
                  <a:pt x="5513" y="1787"/>
                </a:cubicBezTo>
                <a:cubicBezTo>
                  <a:pt x="5562" y="2108"/>
                  <a:pt x="5491" y="1873"/>
                  <a:pt x="5548" y="2045"/>
                </a:cubicBezTo>
                <a:cubicBezTo>
                  <a:pt x="5566" y="2100"/>
                  <a:pt x="5643" y="2182"/>
                  <a:pt x="5677" y="2233"/>
                </a:cubicBezTo>
                <a:cubicBezTo>
                  <a:pt x="5684" y="2244"/>
                  <a:pt x="5682" y="2258"/>
                  <a:pt x="5689" y="2269"/>
                </a:cubicBezTo>
                <a:cubicBezTo>
                  <a:pt x="5706" y="2298"/>
                  <a:pt x="5748" y="2351"/>
                  <a:pt x="5748" y="2351"/>
                </a:cubicBezTo>
                <a:cubicBezTo>
                  <a:pt x="5761" y="2390"/>
                  <a:pt x="5760" y="2374"/>
                  <a:pt x="5760" y="2398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直接连接符 8200"/>
          <p:cNvSpPr/>
          <p:nvPr/>
        </p:nvSpPr>
        <p:spPr>
          <a:xfrm flipH="1">
            <a:off x="5148360" y="5445000"/>
            <a:ext cx="782640" cy="0"/>
          </a:xfrm>
          <a:prstGeom prst="line">
            <a:avLst/>
          </a:prstGeom>
          <a:ln w="127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直接连接符 8201"/>
          <p:cNvSpPr/>
          <p:nvPr/>
        </p:nvSpPr>
        <p:spPr>
          <a:xfrm>
            <a:off x="468360" y="5373720"/>
            <a:ext cx="1439640" cy="0"/>
          </a:xfrm>
          <a:prstGeom prst="line">
            <a:avLst/>
          </a:prstGeom>
          <a:ln w="127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直接连接符 8202"/>
          <p:cNvSpPr/>
          <p:nvPr/>
        </p:nvSpPr>
        <p:spPr>
          <a:xfrm>
            <a:off x="6156360" y="5445000"/>
            <a:ext cx="720720" cy="0"/>
          </a:xfrm>
          <a:prstGeom prst="line">
            <a:avLst/>
          </a:prstGeom>
          <a:ln w="127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直接连接符 8203"/>
          <p:cNvSpPr/>
          <p:nvPr/>
        </p:nvSpPr>
        <p:spPr>
          <a:xfrm flipH="1">
            <a:off x="7164360" y="5445000"/>
            <a:ext cx="1062000" cy="0"/>
          </a:xfrm>
          <a:prstGeom prst="line">
            <a:avLst/>
          </a:prstGeom>
          <a:ln w="127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直接连接符 8207"/>
          <p:cNvSpPr/>
          <p:nvPr/>
        </p:nvSpPr>
        <p:spPr>
          <a:xfrm>
            <a:off x="6012000" y="3573360"/>
            <a:ext cx="0" cy="1727280"/>
          </a:xfrm>
          <a:prstGeom prst="line">
            <a:avLst/>
          </a:prstGeom>
          <a:ln w="127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7" name="图片 8209" descr="pic_r02_c02"/>
          <p:cNvPicPr/>
          <p:nvPr/>
        </p:nvPicPr>
        <p:blipFill>
          <a:blip r:embed="rId2"/>
          <a:stretch/>
        </p:blipFill>
        <p:spPr>
          <a:xfrm>
            <a:off x="7667640" y="6093000"/>
            <a:ext cx="901800" cy="765000"/>
          </a:xfrm>
          <a:prstGeom prst="rect">
            <a:avLst/>
          </a:prstGeom>
          <a:ln w="0">
            <a:noFill/>
          </a:ln>
        </p:spPr>
      </p:pic>
      <p:sp>
        <p:nvSpPr>
          <p:cNvPr id="178" name="文本框 8210"/>
          <p:cNvSpPr/>
          <p:nvPr/>
        </p:nvSpPr>
        <p:spPr>
          <a:xfrm>
            <a:off x="2843280" y="5805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（中部竖井法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直接连接符 8211"/>
          <p:cNvSpPr/>
          <p:nvPr/>
        </p:nvSpPr>
        <p:spPr>
          <a:xfrm flipH="1">
            <a:off x="2555640" y="5445000"/>
            <a:ext cx="927000" cy="12960"/>
          </a:xfrm>
          <a:prstGeom prst="line">
            <a:avLst/>
          </a:prstGeom>
          <a:ln w="127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直接连接符 8212"/>
          <p:cNvSpPr/>
          <p:nvPr/>
        </p:nvSpPr>
        <p:spPr>
          <a:xfrm>
            <a:off x="3924360" y="5445000"/>
            <a:ext cx="1079280" cy="0"/>
          </a:xfrm>
          <a:prstGeom prst="line">
            <a:avLst/>
          </a:prstGeom>
          <a:ln w="127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直接连接符 8213"/>
          <p:cNvSpPr/>
          <p:nvPr/>
        </p:nvSpPr>
        <p:spPr>
          <a:xfrm>
            <a:off x="3708360" y="3573360"/>
            <a:ext cx="0" cy="1871640"/>
          </a:xfrm>
          <a:prstGeom prst="line">
            <a:avLst/>
          </a:prstGeom>
          <a:ln w="127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矩形 8214"/>
          <p:cNvSpPr/>
          <p:nvPr/>
        </p:nvSpPr>
        <p:spPr>
          <a:xfrm>
            <a:off x="0" y="404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詹天佑是一位勇于实践、勇于创新的工程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文本框 8215"/>
          <p:cNvSpPr/>
          <p:nvPr/>
        </p:nvSpPr>
        <p:spPr>
          <a:xfrm>
            <a:off x="539640" y="134136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10000"/>
                </a:solidFill>
                <a:latin typeface="Times New Roman"/>
                <a:ea typeface="楷体_GB2312"/>
              </a:rPr>
              <a:t>八达岭隧道长一千一百多米，有居庸关隧道的三倍长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97281"/>
          <p:cNvSpPr/>
          <p:nvPr/>
        </p:nvSpPr>
        <p:spPr>
          <a:xfrm>
            <a:off x="838080" y="685800"/>
            <a:ext cx="365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文本框 97282"/>
          <p:cNvSpPr/>
          <p:nvPr/>
        </p:nvSpPr>
        <p:spPr>
          <a:xfrm>
            <a:off x="6400800" y="60958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文本框 97283"/>
          <p:cNvSpPr/>
          <p:nvPr/>
        </p:nvSpPr>
        <p:spPr>
          <a:xfrm>
            <a:off x="369720" y="549360"/>
            <a:ext cx="859500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詹天佑（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861—1919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年），江西婺源人。他是我国杰出的爱国工程师、铁路工程专家。他自幼酷爱学习。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87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年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岁的詹天佑考取了第一批幼童赴美留学班。在美国中学读书的时候，他发愤学习自然科学。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878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年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7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岁的詹天佑考入了美国耶鲁大学，学习土木工程和铁路专业，毕业成绩优异。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88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年回国。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888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年在当时的中国铁路公司任工程师。在他开始任职的八十天里，就完成了塘沽到天津的铁路铺轨任务。后来又建成了滦河大桥。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894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年英国工程研究会正式接纳詹天佑为会员。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905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年清政府任命詹天佑为修建京张铁路的总工程师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919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年，詹天佑积劳成疾，不幸逝世，终年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58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岁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资  料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11266" descr="无标题"/>
          <p:cNvPicPr/>
          <p:nvPr/>
        </p:nvPicPr>
        <p:blipFill>
          <a:blip r:embed="rId1"/>
          <a:stretch/>
        </p:blipFill>
        <p:spPr>
          <a:xfrm>
            <a:off x="609480" y="1143000"/>
            <a:ext cx="5639040" cy="4006800"/>
          </a:xfrm>
          <a:prstGeom prst="rect">
            <a:avLst/>
          </a:prstGeom>
          <a:ln w="0">
            <a:noFill/>
          </a:ln>
        </p:spPr>
      </p:pic>
      <p:sp>
        <p:nvSpPr>
          <p:cNvPr id="185" name="文本框 11267"/>
          <p:cNvSpPr/>
          <p:nvPr/>
        </p:nvSpPr>
        <p:spPr>
          <a:xfrm>
            <a:off x="6629400" y="2819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  <a:ea typeface="华文细黑"/>
              </a:rPr>
              <a:t>        </a:t>
            </a:r>
            <a:r>
              <a:rPr b="0" lang="zh-CN" sz="2400" spc="-1" strike="noStrike">
                <a:solidFill>
                  <a:srgbClr val="000408"/>
                </a:solidFill>
                <a:latin typeface="Times New Roman"/>
                <a:ea typeface="华文细黑"/>
              </a:rPr>
              <a:t>火车是怎样过青龙桥的？为什么要把铁路设计为人字形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6" name="图片 11268" descr="pic_r02_c02"/>
          <p:cNvPicPr/>
          <p:nvPr/>
        </p:nvPicPr>
        <p:blipFill>
          <a:blip r:embed="rId2"/>
          <a:stretch/>
        </p:blipFill>
        <p:spPr>
          <a:xfrm>
            <a:off x="6934320" y="1219320"/>
            <a:ext cx="1006200" cy="731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7169" descr="hc3"/>
          <p:cNvPicPr/>
          <p:nvPr/>
        </p:nvPicPr>
        <p:blipFill>
          <a:blip r:embed="rId1"/>
          <a:stretch/>
        </p:blipFill>
        <p:spPr>
          <a:xfrm>
            <a:off x="2666880" y="685800"/>
            <a:ext cx="5867640" cy="396252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7171" descr="pic_r02_c02"/>
          <p:cNvPicPr/>
          <p:nvPr/>
        </p:nvPicPr>
        <p:blipFill>
          <a:blip r:embed="rId2"/>
          <a:stretch/>
        </p:blipFill>
        <p:spPr>
          <a:xfrm>
            <a:off x="0" y="0"/>
            <a:ext cx="826920" cy="90792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7172"/>
          <p:cNvSpPr/>
          <p:nvPr/>
        </p:nvSpPr>
        <p:spPr>
          <a:xfrm>
            <a:off x="304920" y="2514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408"/>
                </a:solidFill>
                <a:latin typeface="Times New Roman"/>
              </a:rPr>
              <a:t>想一想，生活中哪些时候也用到这个办法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14689" descr="pic_r02_c02"/>
          <p:cNvPicPr/>
          <p:nvPr/>
        </p:nvPicPr>
        <p:blipFill>
          <a:blip r:embed="rId1"/>
          <a:stretch/>
        </p:blipFill>
        <p:spPr>
          <a:xfrm>
            <a:off x="468360" y="0"/>
            <a:ext cx="649080" cy="73188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114690"/>
          <p:cNvSpPr/>
          <p:nvPr/>
        </p:nvSpPr>
        <p:spPr>
          <a:xfrm>
            <a:off x="0" y="191628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想一想，生活中哪些时候也用到这个办法</a:t>
            </a:r>
            <a:r>
              <a:rPr b="1" lang="zh-CN" sz="3200" spc="-1" strike="noStrike">
                <a:solidFill>
                  <a:srgbClr val="000408"/>
                </a:solidFill>
                <a:latin typeface="Times New Roman"/>
                <a:ea typeface="楷体_GB2312"/>
              </a:rPr>
              <a:t>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矩形 114691"/>
          <p:cNvSpPr txBox="1"/>
          <p:nvPr/>
        </p:nvSpPr>
        <p:spPr>
          <a:xfrm rot="21374400">
            <a:off x="2576160" y="1337760"/>
            <a:ext cx="5897520" cy="300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9900cc"/>
                  </a:solidFill>
                  <a:round/>
                </a:ln>
                <a:solidFill>
                  <a:srgbClr val="9900cc"/>
                </a:solidFill>
                <a:latin typeface="黑体"/>
              </a:rPr>
              <a:t>“</a:t>
            </a:r>
            <a:r>
              <a:rPr b="1" lang="zh-CN" sz="5400" spc="1" strike="noStrike">
                <a:ln w="9360">
                  <a:solidFill>
                    <a:srgbClr val="9900cc"/>
                  </a:solidFill>
                  <a:round/>
                </a:ln>
                <a:solidFill>
                  <a:srgbClr val="9900cc"/>
                </a:solidFill>
                <a:latin typeface="黑体"/>
              </a:rPr>
              <a:t>人”字形线路</a:t>
            </a:r>
            <a:endParaRPr b="1" lang="en-US" sz="5400" spc="1" strike="noStrike">
              <a:ln w="9360">
                <a:solidFill>
                  <a:srgbClr val="9900cc"/>
                </a:solidFill>
                <a:round/>
              </a:ln>
              <a:solidFill>
                <a:srgbClr val="9900cc"/>
              </a:solidFill>
              <a:latin typeface="黑体"/>
              <a:ea typeface="黑体"/>
            </a:endParaRPr>
          </a:p>
        </p:txBody>
      </p:sp>
      <p:sp>
        <p:nvSpPr>
          <p:cNvPr id="193" name="矩形 114692"/>
          <p:cNvSpPr/>
          <p:nvPr/>
        </p:nvSpPr>
        <p:spPr>
          <a:xfrm>
            <a:off x="2781360" y="495000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勇于创新的智慧才干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56326" descr="人物照片"/>
          <p:cNvPicPr/>
          <p:nvPr/>
        </p:nvPicPr>
        <p:blipFill>
          <a:blip r:embed="rId1"/>
          <a:stretch/>
        </p:blipFill>
        <p:spPr>
          <a:xfrm>
            <a:off x="0" y="476280"/>
            <a:ext cx="3203640" cy="583236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56321"/>
          <p:cNvSpPr/>
          <p:nvPr/>
        </p:nvSpPr>
        <p:spPr>
          <a:xfrm>
            <a:off x="3063960" y="1092240"/>
            <a:ext cx="64767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为国争光的爱国思想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文本框 56323"/>
          <p:cNvSpPr/>
          <p:nvPr/>
        </p:nvSpPr>
        <p:spPr>
          <a:xfrm>
            <a:off x="3132000" y="2173320"/>
            <a:ext cx="6705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严肃认真的工作态度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文本框 56324"/>
          <p:cNvSpPr/>
          <p:nvPr/>
        </p:nvSpPr>
        <p:spPr>
          <a:xfrm>
            <a:off x="3139920" y="3500280"/>
            <a:ext cx="64008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身先士卒的工作作风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文本框 56325"/>
          <p:cNvSpPr/>
          <p:nvPr/>
        </p:nvSpPr>
        <p:spPr>
          <a:xfrm>
            <a:off x="3279600" y="4797360"/>
            <a:ext cx="6477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勇于创新的智慧才干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117761"/>
          <p:cNvSpPr txBox="1"/>
          <p:nvPr/>
        </p:nvSpPr>
        <p:spPr>
          <a:xfrm>
            <a:off x="2209680" y="2438280"/>
            <a:ext cx="4267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方正舒体"/>
              </a:rPr>
              <a:t>课后练习</a:t>
            </a:r>
            <a:endParaRPr b="1" lang="en-US" sz="66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文本框 118785"/>
          <p:cNvSpPr/>
          <p:nvPr/>
        </p:nvSpPr>
        <p:spPr>
          <a:xfrm>
            <a:off x="533520" y="457200"/>
            <a:ext cx="8229600" cy="58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一、将下面词语归类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要挟  油灯  控制  藐视  隧道  艰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勉励  恶劣  阻挠  周密  工程  请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带头  容易  陡坡  杰出  铜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名词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动词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形容词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文本框 118786"/>
          <p:cNvSpPr/>
          <p:nvPr/>
        </p:nvSpPr>
        <p:spPr>
          <a:xfrm>
            <a:off x="2286000" y="35053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油灯、隧道、工程、陡坡、铜像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文本框 118787"/>
          <p:cNvSpPr/>
          <p:nvPr/>
        </p:nvSpPr>
        <p:spPr>
          <a:xfrm>
            <a:off x="2286000" y="4267080"/>
            <a:ext cx="586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要挟、控制、勉励、阻挠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请教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  带头、藐视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文本框 118788"/>
          <p:cNvSpPr/>
          <p:nvPr/>
        </p:nvSpPr>
        <p:spPr>
          <a:xfrm>
            <a:off x="2666880" y="5715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艰巨、恶劣、周密、容易、杰出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文本框 119809"/>
          <p:cNvSpPr/>
          <p:nvPr/>
        </p:nvSpPr>
        <p:spPr>
          <a:xfrm>
            <a:off x="533520" y="6094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二、将下面的句子改成反问句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文本框 119810"/>
          <p:cNvSpPr/>
          <p:nvPr/>
        </p:nvSpPr>
        <p:spPr>
          <a:xfrm>
            <a:off x="838080" y="17524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中国那时候已经有了自己的工程师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文本框 119811"/>
          <p:cNvSpPr/>
          <p:nvPr/>
        </p:nvSpPr>
        <p:spPr>
          <a:xfrm>
            <a:off x="838080" y="3352680"/>
            <a:ext cx="7925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这是中国人自己修筑的第一条铁路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定要把它修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文本框 119812"/>
          <p:cNvSpPr/>
          <p:nvPr/>
        </p:nvSpPr>
        <p:spPr>
          <a:xfrm>
            <a:off x="1523880" y="25909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难道中国那时候没有自己的工程师吗？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文本框 119813"/>
          <p:cNvSpPr/>
          <p:nvPr/>
        </p:nvSpPr>
        <p:spPr>
          <a:xfrm>
            <a:off x="990720" y="4952880"/>
            <a:ext cx="723888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这是中国人自己修筑的第一条铁路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难道不应把它修好吗？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120833"/>
          <p:cNvSpPr/>
          <p:nvPr/>
        </p:nvSpPr>
        <p:spPr>
          <a:xfrm>
            <a:off x="228600" y="121932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挠（   ） 绕（   ） 竣（   ） 俊（   ）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饶（   ） 娆（   ） 骏（   ） 峻（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文本框 120834"/>
          <p:cNvSpPr/>
          <p:nvPr/>
        </p:nvSpPr>
        <p:spPr>
          <a:xfrm>
            <a:off x="228600" y="289548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控（   ） 嘲（   ） 毅（   ） 扛（   ）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空（   ） 潮（   ） 屹（   ） 杠（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文本框 120835"/>
          <p:cNvSpPr/>
          <p:nvPr/>
        </p:nvSpPr>
        <p:spPr>
          <a:xfrm>
            <a:off x="228600" y="4572000"/>
            <a:ext cx="8686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绘（   ） 浆（   ） 岔（   ） 藐（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会（   ） 桨（   ） 盆（   ） 蔑（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文本框 120836"/>
          <p:cNvSpPr/>
          <p:nvPr/>
        </p:nvSpPr>
        <p:spPr>
          <a:xfrm>
            <a:off x="533520" y="3808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三、比一比，组词语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3" name="组合 120837"/>
          <p:cNvGrpSpPr/>
          <p:nvPr/>
        </p:nvGrpSpPr>
        <p:grpSpPr>
          <a:xfrm>
            <a:off x="990720" y="1219320"/>
            <a:ext cx="990360" cy="1282320"/>
            <a:chOff x="990720" y="1219320"/>
            <a:chExt cx="990360" cy="1282320"/>
          </a:xfrm>
        </p:grpSpPr>
        <p:sp>
          <p:nvSpPr>
            <p:cNvPr id="214" name="文本框 120838"/>
            <p:cNvSpPr/>
            <p:nvPr/>
          </p:nvSpPr>
          <p:spPr>
            <a:xfrm>
              <a:off x="990720" y="121932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阻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5" name="文本框 120839"/>
            <p:cNvSpPr/>
            <p:nvPr/>
          </p:nvSpPr>
          <p:spPr>
            <a:xfrm>
              <a:off x="990720" y="19810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富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16" name="组合 120840"/>
          <p:cNvGrpSpPr/>
          <p:nvPr/>
        </p:nvGrpSpPr>
        <p:grpSpPr>
          <a:xfrm>
            <a:off x="3048120" y="1233360"/>
            <a:ext cx="990360" cy="1268280"/>
            <a:chOff x="3048120" y="1233360"/>
            <a:chExt cx="990360" cy="1268280"/>
          </a:xfrm>
        </p:grpSpPr>
        <p:sp>
          <p:nvSpPr>
            <p:cNvPr id="217" name="文本框 120841"/>
            <p:cNvSpPr/>
            <p:nvPr/>
          </p:nvSpPr>
          <p:spPr>
            <a:xfrm>
              <a:off x="3048120" y="12333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缠绕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8" name="文本框 120842"/>
            <p:cNvSpPr/>
            <p:nvPr/>
          </p:nvSpPr>
          <p:spPr>
            <a:xfrm>
              <a:off x="3048120" y="19810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妖娆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19" name="组合 120843"/>
          <p:cNvGrpSpPr/>
          <p:nvPr/>
        </p:nvGrpSpPr>
        <p:grpSpPr>
          <a:xfrm>
            <a:off x="5105520" y="1219320"/>
            <a:ext cx="990360" cy="1296720"/>
            <a:chOff x="5105520" y="1219320"/>
            <a:chExt cx="990360" cy="1296720"/>
          </a:xfrm>
        </p:grpSpPr>
        <p:sp>
          <p:nvSpPr>
            <p:cNvPr id="220" name="文本框 120844"/>
            <p:cNvSpPr/>
            <p:nvPr/>
          </p:nvSpPr>
          <p:spPr>
            <a:xfrm>
              <a:off x="5105520" y="121932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竣工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1" name="文本框 120845"/>
            <p:cNvSpPr/>
            <p:nvPr/>
          </p:nvSpPr>
          <p:spPr>
            <a:xfrm>
              <a:off x="5105520" y="19954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骏马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2" name="组合 120846"/>
          <p:cNvGrpSpPr/>
          <p:nvPr/>
        </p:nvGrpSpPr>
        <p:grpSpPr>
          <a:xfrm>
            <a:off x="7162920" y="1219320"/>
            <a:ext cx="990360" cy="1296720"/>
            <a:chOff x="7162920" y="1219320"/>
            <a:chExt cx="990360" cy="1296720"/>
          </a:xfrm>
        </p:grpSpPr>
        <p:sp>
          <p:nvSpPr>
            <p:cNvPr id="223" name="文本框 120847"/>
            <p:cNvSpPr/>
            <p:nvPr/>
          </p:nvSpPr>
          <p:spPr>
            <a:xfrm>
              <a:off x="7162920" y="121932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俊俏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4" name="文本框 120848"/>
            <p:cNvSpPr/>
            <p:nvPr/>
          </p:nvSpPr>
          <p:spPr>
            <a:xfrm>
              <a:off x="7162920" y="19954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峻岭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5" name="组合 120849"/>
          <p:cNvGrpSpPr/>
          <p:nvPr/>
        </p:nvGrpSpPr>
        <p:grpSpPr>
          <a:xfrm>
            <a:off x="990720" y="2895480"/>
            <a:ext cx="990360" cy="1297080"/>
            <a:chOff x="990720" y="2895480"/>
            <a:chExt cx="990360" cy="1297080"/>
          </a:xfrm>
        </p:grpSpPr>
        <p:sp>
          <p:nvSpPr>
            <p:cNvPr id="226" name="文本框 120850"/>
            <p:cNvSpPr/>
            <p:nvPr/>
          </p:nvSpPr>
          <p:spPr>
            <a:xfrm>
              <a:off x="990720" y="28954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控制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7" name="文本框 120851"/>
            <p:cNvSpPr/>
            <p:nvPr/>
          </p:nvSpPr>
          <p:spPr>
            <a:xfrm>
              <a:off x="990720" y="36720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空气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8" name="组合 120852"/>
          <p:cNvGrpSpPr/>
          <p:nvPr/>
        </p:nvGrpSpPr>
        <p:grpSpPr>
          <a:xfrm>
            <a:off x="3048120" y="2895480"/>
            <a:ext cx="990360" cy="1297080"/>
            <a:chOff x="3048120" y="2895480"/>
            <a:chExt cx="990360" cy="1297080"/>
          </a:xfrm>
        </p:grpSpPr>
        <p:sp>
          <p:nvSpPr>
            <p:cNvPr id="229" name="文本框 120853"/>
            <p:cNvSpPr/>
            <p:nvPr/>
          </p:nvSpPr>
          <p:spPr>
            <a:xfrm>
              <a:off x="3048120" y="28954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嘲笑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0" name="文本框 120854"/>
            <p:cNvSpPr/>
            <p:nvPr/>
          </p:nvSpPr>
          <p:spPr>
            <a:xfrm>
              <a:off x="3048120" y="36720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潮水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31" name="组合 120855"/>
          <p:cNvGrpSpPr/>
          <p:nvPr/>
        </p:nvGrpSpPr>
        <p:grpSpPr>
          <a:xfrm>
            <a:off x="5105520" y="2895480"/>
            <a:ext cx="990360" cy="1297080"/>
            <a:chOff x="5105520" y="2895480"/>
            <a:chExt cx="990360" cy="1297080"/>
          </a:xfrm>
        </p:grpSpPr>
        <p:sp>
          <p:nvSpPr>
            <p:cNvPr id="232" name="文本框 120856"/>
            <p:cNvSpPr/>
            <p:nvPr/>
          </p:nvSpPr>
          <p:spPr>
            <a:xfrm>
              <a:off x="5105520" y="28954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毅然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3" name="文本框 120857"/>
            <p:cNvSpPr/>
            <p:nvPr/>
          </p:nvSpPr>
          <p:spPr>
            <a:xfrm>
              <a:off x="5105520" y="36720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毅力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34" name="组合 120858"/>
          <p:cNvGrpSpPr/>
          <p:nvPr/>
        </p:nvGrpSpPr>
        <p:grpSpPr>
          <a:xfrm>
            <a:off x="7162920" y="2895480"/>
            <a:ext cx="990360" cy="1297080"/>
            <a:chOff x="7162920" y="2895480"/>
            <a:chExt cx="990360" cy="1297080"/>
          </a:xfrm>
        </p:grpSpPr>
        <p:sp>
          <p:nvSpPr>
            <p:cNvPr id="235" name="文本框 120859"/>
            <p:cNvSpPr/>
            <p:nvPr/>
          </p:nvSpPr>
          <p:spPr>
            <a:xfrm>
              <a:off x="7162920" y="28954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扛着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6" name="文本框 120860"/>
            <p:cNvSpPr/>
            <p:nvPr/>
          </p:nvSpPr>
          <p:spPr>
            <a:xfrm>
              <a:off x="7162920" y="36720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杠子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37" name="组合 120861"/>
          <p:cNvGrpSpPr/>
          <p:nvPr/>
        </p:nvGrpSpPr>
        <p:grpSpPr>
          <a:xfrm>
            <a:off x="990720" y="4572000"/>
            <a:ext cx="990360" cy="1296720"/>
            <a:chOff x="990720" y="4572000"/>
            <a:chExt cx="990360" cy="1296720"/>
          </a:xfrm>
        </p:grpSpPr>
        <p:sp>
          <p:nvSpPr>
            <p:cNvPr id="238" name="文本框 120862"/>
            <p:cNvSpPr/>
            <p:nvPr/>
          </p:nvSpPr>
          <p:spPr>
            <a:xfrm>
              <a:off x="990720" y="45720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描绘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9" name="文本框 120863"/>
            <p:cNvSpPr/>
            <p:nvPr/>
          </p:nvSpPr>
          <p:spPr>
            <a:xfrm>
              <a:off x="990720" y="5348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会议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40" name="组合 120864"/>
          <p:cNvGrpSpPr/>
          <p:nvPr/>
        </p:nvGrpSpPr>
        <p:grpSpPr>
          <a:xfrm>
            <a:off x="3048120" y="4572000"/>
            <a:ext cx="990360" cy="1296720"/>
            <a:chOff x="3048120" y="4572000"/>
            <a:chExt cx="990360" cy="1296720"/>
          </a:xfrm>
        </p:grpSpPr>
        <p:sp>
          <p:nvSpPr>
            <p:cNvPr id="241" name="文本框 120865"/>
            <p:cNvSpPr/>
            <p:nvPr/>
          </p:nvSpPr>
          <p:spPr>
            <a:xfrm>
              <a:off x="3048120" y="45720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泥浆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2" name="文本框 120866"/>
            <p:cNvSpPr/>
            <p:nvPr/>
          </p:nvSpPr>
          <p:spPr>
            <a:xfrm>
              <a:off x="3048120" y="5348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船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43" name="组合 120867"/>
          <p:cNvGrpSpPr/>
          <p:nvPr/>
        </p:nvGrpSpPr>
        <p:grpSpPr>
          <a:xfrm>
            <a:off x="5105520" y="4572000"/>
            <a:ext cx="990360" cy="1296720"/>
            <a:chOff x="5105520" y="4572000"/>
            <a:chExt cx="990360" cy="1296720"/>
          </a:xfrm>
        </p:grpSpPr>
        <p:sp>
          <p:nvSpPr>
            <p:cNvPr id="244" name="文本框 120868"/>
            <p:cNvSpPr/>
            <p:nvPr/>
          </p:nvSpPr>
          <p:spPr>
            <a:xfrm>
              <a:off x="5105520" y="45720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岔路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5" name="文本框 120869"/>
            <p:cNvSpPr/>
            <p:nvPr/>
          </p:nvSpPr>
          <p:spPr>
            <a:xfrm>
              <a:off x="5105520" y="5348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脸盆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46" name="组合 120870"/>
          <p:cNvGrpSpPr/>
          <p:nvPr/>
        </p:nvGrpSpPr>
        <p:grpSpPr>
          <a:xfrm>
            <a:off x="7162920" y="4572000"/>
            <a:ext cx="990360" cy="1296720"/>
            <a:chOff x="7162920" y="4572000"/>
            <a:chExt cx="990360" cy="1296720"/>
          </a:xfrm>
        </p:grpSpPr>
        <p:sp>
          <p:nvSpPr>
            <p:cNvPr id="247" name="文本框 120871"/>
            <p:cNvSpPr/>
            <p:nvPr/>
          </p:nvSpPr>
          <p:spPr>
            <a:xfrm>
              <a:off x="7162920" y="45720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藐视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8" name="文本框 120872"/>
            <p:cNvSpPr/>
            <p:nvPr/>
          </p:nvSpPr>
          <p:spPr>
            <a:xfrm>
              <a:off x="7162920" y="5348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轻蔑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116737"/>
          <p:cNvSpPr/>
          <p:nvPr/>
        </p:nvSpPr>
        <p:spPr>
          <a:xfrm>
            <a:off x="457200" y="6094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3.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根据课文回答问题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文本框 116738"/>
          <p:cNvSpPr/>
          <p:nvPr/>
        </p:nvSpPr>
        <p:spPr>
          <a:xfrm>
            <a:off x="0" y="190512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开凿居庸关隧道用（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办法，原因是（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文本框 116739"/>
          <p:cNvSpPr/>
          <p:nvPr/>
        </p:nvSpPr>
        <p:spPr>
          <a:xfrm>
            <a:off x="457200" y="403848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开凿八达岭隧道用（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）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办法，原因是（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）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文本框 116740"/>
          <p:cNvSpPr/>
          <p:nvPr/>
        </p:nvSpPr>
        <p:spPr>
          <a:xfrm>
            <a:off x="5105520" y="19810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从两端同时向中间凿进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文本框 116741"/>
          <p:cNvSpPr/>
          <p:nvPr/>
        </p:nvSpPr>
        <p:spPr>
          <a:xfrm>
            <a:off x="4800600" y="2819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山势高，岩层厚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文本框 116742"/>
          <p:cNvSpPr/>
          <p:nvPr/>
        </p:nvSpPr>
        <p:spPr>
          <a:xfrm>
            <a:off x="5181480" y="40384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中部凿井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文本框 116743"/>
          <p:cNvSpPr/>
          <p:nvPr/>
        </p:nvSpPr>
        <p:spPr>
          <a:xfrm>
            <a:off x="4343400" y="48769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隧道很长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12289" descr="t2"/>
          <p:cNvPicPr/>
          <p:nvPr/>
        </p:nvPicPr>
        <p:blipFill>
          <a:blip r:embed="rId1"/>
          <a:stretch/>
        </p:blipFill>
        <p:spPr>
          <a:xfrm>
            <a:off x="3780000" y="1052640"/>
            <a:ext cx="5003640" cy="5029200"/>
          </a:xfrm>
          <a:prstGeom prst="rect">
            <a:avLst/>
          </a:prstGeom>
          <a:ln w="0">
            <a:noFill/>
          </a:ln>
        </p:spPr>
      </p:pic>
      <p:sp>
        <p:nvSpPr>
          <p:cNvPr id="257" name="文本框 12290"/>
          <p:cNvSpPr/>
          <p:nvPr/>
        </p:nvSpPr>
        <p:spPr>
          <a:xfrm>
            <a:off x="250920" y="1989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408"/>
                </a:solidFill>
                <a:latin typeface="宋体"/>
              </a:rPr>
              <a:t>当我们坐火车去八达岭，途中路过青龙桥车站时，会看到这样一座铜像，这就是詹天佑。此时此刻，你会想些什么呢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8" name="图片 12294" descr="pic_r02_c02"/>
          <p:cNvPicPr/>
          <p:nvPr/>
        </p:nvPicPr>
        <p:blipFill>
          <a:blip r:embed="rId2"/>
          <a:stretch/>
        </p:blipFill>
        <p:spPr>
          <a:xfrm>
            <a:off x="0" y="6308640"/>
            <a:ext cx="755640" cy="54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词           语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文本框 101378"/>
          <p:cNvSpPr/>
          <p:nvPr/>
        </p:nvSpPr>
        <p:spPr>
          <a:xfrm>
            <a:off x="684360" y="1817640"/>
            <a:ext cx="813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施工  阻挠  控制  轰动  尝试  勉励  扛着  测绘  否则  开凿  泥浆  缩短  游览  勘测    攀山越岭居庸关  赞叹不已 修筑权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113665"/>
          <p:cNvSpPr txBox="1"/>
          <p:nvPr/>
        </p:nvSpPr>
        <p:spPr>
          <a:xfrm>
            <a:off x="2268360" y="549360"/>
            <a:ext cx="4319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9900ff"/>
                </a:solidFill>
                <a:latin typeface="宋体"/>
              </a:rPr>
              <a:t>我的观点</a:t>
            </a:r>
            <a:endParaRPr b="0" lang="en-US" sz="1800" spc="-1" strike="noStrike">
              <a:ln w="0">
                <a:noFill/>
              </a:ln>
              <a:solidFill>
                <a:srgbClr val="9900ff"/>
              </a:solidFill>
              <a:latin typeface="宋体"/>
              <a:ea typeface="宋体"/>
            </a:endParaRPr>
          </a:p>
        </p:txBody>
      </p:sp>
      <p:sp>
        <p:nvSpPr>
          <p:cNvPr id="260" name="文本框 113666"/>
          <p:cNvSpPr/>
          <p:nvPr/>
        </p:nvSpPr>
        <p:spPr>
          <a:xfrm>
            <a:off x="250920" y="2205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詹天佑是我国杰出的爱国工程师、铁路工程专家。他自幼酷爱学习。詹天佑的一生为中国的铁路事业作出了卓越的贡献。我们为我们国家有这样的爱国工程师、铁路工程专家而感到由衷的骄傲，詹天佑是我们学习的榜样，我们想：今天，我们要刻苦学习，将来才能像詹天佑一样为祖国作出贡献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21857"/>
          <p:cNvSpPr txBox="1"/>
          <p:nvPr/>
        </p:nvSpPr>
        <p:spPr>
          <a:xfrm>
            <a:off x="1752480" y="1035000"/>
            <a:ext cx="23148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琥珀"/>
              </a:rPr>
              <a:t>詹天佑</a:t>
            </a:r>
            <a:endParaRPr b="1" lang="en-US" sz="60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3" name="矩形 121858"/>
          <p:cNvSpPr txBox="1"/>
          <p:nvPr/>
        </p:nvSpPr>
        <p:spPr>
          <a:xfrm>
            <a:off x="5019840" y="806400"/>
            <a:ext cx="3286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杰出 爱国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94" name="文本框 121859"/>
          <p:cNvSpPr/>
          <p:nvPr/>
        </p:nvSpPr>
        <p:spPr>
          <a:xfrm>
            <a:off x="228600" y="2178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接受任务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5" name="组合 121860"/>
          <p:cNvGrpSpPr/>
          <p:nvPr/>
        </p:nvGrpSpPr>
        <p:grpSpPr>
          <a:xfrm>
            <a:off x="0" y="2852640"/>
            <a:ext cx="2209680" cy="1296720"/>
            <a:chOff x="0" y="2852640"/>
            <a:chExt cx="2209680" cy="1296720"/>
          </a:xfrm>
        </p:grpSpPr>
        <p:sp>
          <p:nvSpPr>
            <p:cNvPr id="96" name="直接连接符 121861"/>
            <p:cNvSpPr/>
            <p:nvPr/>
          </p:nvSpPr>
          <p:spPr>
            <a:xfrm>
              <a:off x="990720" y="2852640"/>
              <a:ext cx="0" cy="68580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7" name="文本框 121862"/>
            <p:cNvSpPr/>
            <p:nvPr/>
          </p:nvSpPr>
          <p:spPr>
            <a:xfrm>
              <a:off x="0" y="3506760"/>
              <a:ext cx="2209680" cy="642600"/>
            </a:xfrm>
            <a:prstGeom prst="rect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主持修筑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8" name="组合 121863"/>
          <p:cNvGrpSpPr/>
          <p:nvPr/>
        </p:nvGrpSpPr>
        <p:grpSpPr>
          <a:xfrm>
            <a:off x="250920" y="4292640"/>
            <a:ext cx="2209680" cy="1752120"/>
            <a:chOff x="250920" y="4292640"/>
            <a:chExt cx="2209680" cy="1752120"/>
          </a:xfrm>
        </p:grpSpPr>
        <p:sp>
          <p:nvSpPr>
            <p:cNvPr id="99" name="文本框 121864"/>
            <p:cNvSpPr/>
            <p:nvPr/>
          </p:nvSpPr>
          <p:spPr>
            <a:xfrm>
              <a:off x="250920" y="5327640"/>
              <a:ext cx="2209680" cy="717120"/>
            </a:xfrm>
            <a:prstGeom prst="rect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dc5900"/>
                  </a:solidFill>
                  <a:uFillTx/>
                  <a:latin typeface="Times New Roman"/>
                  <a:ea typeface="楷体_GB2312"/>
                  <a:hlinkClick r:id="rId3"/>
                </a:rPr>
                <a:t>提前竣工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" name="直接连接符 121865"/>
            <p:cNvSpPr/>
            <p:nvPr/>
          </p:nvSpPr>
          <p:spPr>
            <a:xfrm>
              <a:off x="1241640" y="4292640"/>
              <a:ext cx="0" cy="103500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01" name="左大括号 121866"/>
          <p:cNvSpPr/>
          <p:nvPr/>
        </p:nvSpPr>
        <p:spPr>
          <a:xfrm>
            <a:off x="2209680" y="2863800"/>
            <a:ext cx="228600" cy="1981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007a77"/>
          </a:solidFill>
          <a:ln w="38160">
            <a:solidFill>
              <a:srgbClr val="ebf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文本框 121867"/>
          <p:cNvSpPr/>
          <p:nvPr/>
        </p:nvSpPr>
        <p:spPr>
          <a:xfrm>
            <a:off x="2362320" y="2527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勘测线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文本框 121868"/>
          <p:cNvSpPr/>
          <p:nvPr/>
        </p:nvSpPr>
        <p:spPr>
          <a:xfrm>
            <a:off x="2362320" y="3441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开凿隧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文本框 121869"/>
          <p:cNvSpPr/>
          <p:nvPr/>
        </p:nvSpPr>
        <p:spPr>
          <a:xfrm>
            <a:off x="2362320" y="4432320"/>
            <a:ext cx="4343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c5900"/>
                </a:solidFill>
                <a:uFillTx/>
                <a:latin typeface="Times New Roman"/>
                <a:ea typeface="楷体_GB2312"/>
                <a:hlinkClick r:id="rId4"/>
              </a:rPr>
              <a:t>设计线路</a:t>
            </a:r>
            <a:r>
              <a:rPr b="0" lang="en-US" sz="3600" spc="-1" strike="noStrike" u="sng">
                <a:solidFill>
                  <a:srgbClr val="dc5900"/>
                </a:solidFill>
                <a:uFillTx/>
                <a:latin typeface="Times New Roman"/>
                <a:ea typeface="楷体_GB2312"/>
                <a:hlinkClick r:id="rId5"/>
              </a:rPr>
              <a:t>——</a:t>
            </a:r>
            <a:r>
              <a:rPr b="0" lang="zh-CN" sz="3600" spc="-1" strike="noStrike" u="sng">
                <a:solidFill>
                  <a:srgbClr val="dc5900"/>
                </a:solidFill>
                <a:uFillTx/>
                <a:latin typeface="Times New Roman"/>
                <a:ea typeface="楷体_GB2312"/>
                <a:hlinkClick r:id="rId6"/>
              </a:rPr>
              <a:t>人字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左大括号 121870"/>
          <p:cNvSpPr/>
          <p:nvPr/>
        </p:nvSpPr>
        <p:spPr>
          <a:xfrm>
            <a:off x="4500720" y="321300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007a77"/>
          </a:solidFill>
          <a:ln w="38160">
            <a:solidFill>
              <a:srgbClr val="ebf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文本框 121871"/>
          <p:cNvSpPr/>
          <p:nvPr/>
        </p:nvSpPr>
        <p:spPr>
          <a:xfrm>
            <a:off x="4648320" y="3747960"/>
            <a:ext cx="3581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c5900"/>
                </a:solidFill>
                <a:uFillTx/>
                <a:latin typeface="Times New Roman"/>
                <a:ea typeface="楷体_GB2312"/>
                <a:hlinkClick r:id="rId7"/>
              </a:rPr>
              <a:t>八达岭</a:t>
            </a:r>
            <a:r>
              <a:rPr b="0" lang="en-US" sz="2800" spc="-1" strike="noStrike" u="sng">
                <a:solidFill>
                  <a:srgbClr val="dc5900"/>
                </a:solidFill>
                <a:uFillTx/>
                <a:latin typeface="Times New Roman"/>
                <a:ea typeface="楷体_GB2312"/>
                <a:hlinkClick r:id="rId8"/>
              </a:rPr>
              <a:t>——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Times New Roman"/>
                <a:ea typeface="楷体_GB2312"/>
                <a:hlinkClick r:id="rId9"/>
              </a:rPr>
              <a:t>中部凿井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文本框 121872"/>
          <p:cNvSpPr/>
          <p:nvPr/>
        </p:nvSpPr>
        <p:spPr>
          <a:xfrm>
            <a:off x="4648320" y="31240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居庸关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两端同时凿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文本框 121873"/>
          <p:cNvSpPr/>
          <p:nvPr/>
        </p:nvSpPr>
        <p:spPr>
          <a:xfrm>
            <a:off x="2743200" y="53020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力回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文本框 121874"/>
          <p:cNvSpPr/>
          <p:nvPr/>
        </p:nvSpPr>
        <p:spPr>
          <a:xfrm>
            <a:off x="5181480" y="53020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赞叹不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文本框 111617"/>
          <p:cNvSpPr/>
          <p:nvPr/>
        </p:nvSpPr>
        <p:spPr>
          <a:xfrm>
            <a:off x="539640" y="2602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1" name="图片 111618" descr="pic_r02_c02"/>
          <p:cNvPicPr/>
          <p:nvPr/>
        </p:nvPicPr>
        <p:blipFill>
          <a:blip r:embed="rId1"/>
          <a:stretch/>
        </p:blipFill>
        <p:spPr>
          <a:xfrm>
            <a:off x="0" y="6021360"/>
            <a:ext cx="755640" cy="54936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111619"/>
          <p:cNvSpPr/>
          <p:nvPr/>
        </p:nvSpPr>
        <p:spPr>
          <a:xfrm>
            <a:off x="826920" y="333360"/>
            <a:ext cx="424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自学要求：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文本框 111620"/>
          <p:cNvSpPr/>
          <p:nvPr/>
        </p:nvSpPr>
        <p:spPr>
          <a:xfrm>
            <a:off x="900000" y="155736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660066"/>
                </a:solidFill>
                <a:latin typeface="黑体"/>
                <a:ea typeface="黑体"/>
              </a:rPr>
              <a:t>在勘测线路时，詹天佑是怎样勉励工作人员的？他是怎么做的？心里是怎么想的？分别用“</a:t>
            </a:r>
            <a:r>
              <a:rPr b="1" lang="en-US" sz="4400" spc="-1" strike="noStrike">
                <a:solidFill>
                  <a:srgbClr val="660066"/>
                </a:solidFill>
                <a:latin typeface="黑体"/>
                <a:ea typeface="黑体"/>
              </a:rPr>
              <a:t>-----”“_____”</a:t>
            </a:r>
            <a:r>
              <a:rPr b="1" lang="zh-CN" sz="4400" spc="-1" strike="noStrike">
                <a:solidFill>
                  <a:srgbClr val="660066"/>
                </a:solidFill>
                <a:latin typeface="黑体"/>
                <a:ea typeface="黑体"/>
              </a:rPr>
              <a:t>、“</a:t>
            </a:r>
            <a:r>
              <a:rPr b="1" lang="en-US" sz="4400" spc="-1" strike="noStrike">
                <a:solidFill>
                  <a:srgbClr val="660066"/>
                </a:solidFill>
                <a:latin typeface="黑体"/>
                <a:ea typeface="黑体"/>
              </a:rPr>
              <a:t> </a:t>
            </a:r>
            <a:r>
              <a:rPr b="1" lang="zh-CN" sz="4400" spc="-1" strike="noStrike">
                <a:solidFill>
                  <a:srgbClr val="660066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660066"/>
                </a:solidFill>
                <a:latin typeface="黑体"/>
                <a:ea typeface="黑体"/>
              </a:rPr>
              <a:t>  </a:t>
            </a:r>
            <a:r>
              <a:rPr b="1" lang="zh-CN" sz="4400" spc="-1" strike="noStrike">
                <a:solidFill>
                  <a:srgbClr val="660066"/>
                </a:solidFill>
                <a:latin typeface="黑体"/>
                <a:ea typeface="黑体"/>
              </a:rPr>
              <a:t>）”在书上标出。你是怎么理解的，请写上批注。</a:t>
            </a:r>
            <a:r>
              <a:rPr b="1" lang="en-US" sz="4400" spc="-1" strike="noStrike">
                <a:solidFill>
                  <a:srgbClr val="660066"/>
                </a:solidFill>
                <a:latin typeface="黑体"/>
                <a:ea typeface="黑体"/>
              </a:rPr>
              <a:t> 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108545"/>
          <p:cNvSpPr/>
          <p:nvPr/>
        </p:nvSpPr>
        <p:spPr>
          <a:xfrm>
            <a:off x="0" y="47628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我会读</a:t>
            </a: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文本框 108546"/>
          <p:cNvSpPr/>
          <p:nvPr/>
        </p:nvSpPr>
        <p:spPr>
          <a:xfrm>
            <a:off x="826920" y="206064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408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408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000408"/>
                </a:solidFill>
                <a:latin typeface="Times New Roman"/>
              </a:rPr>
              <a:t>詹天佑经常勉励工作人员说：“我们的工作首先要精密，不能有一点儿马虎，‘大概’‘差不多’，这类说法不应该出自工程人员之口。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6" name="图片 108547" descr="pic_r02_c02"/>
          <p:cNvPicPr/>
          <p:nvPr/>
        </p:nvPicPr>
        <p:blipFill>
          <a:blip r:embed="rId1"/>
          <a:stretch/>
        </p:blipFill>
        <p:spPr>
          <a:xfrm>
            <a:off x="7596360" y="620640"/>
            <a:ext cx="1006200" cy="73188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108548"/>
          <p:cNvSpPr/>
          <p:nvPr/>
        </p:nvSpPr>
        <p:spPr>
          <a:xfrm>
            <a:off x="1295280" y="4724280"/>
            <a:ext cx="72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云形标注 109574"/>
          <p:cNvSpPr/>
          <p:nvPr/>
        </p:nvSpPr>
        <p:spPr>
          <a:xfrm>
            <a:off x="6859440" y="331920"/>
            <a:ext cx="2105280" cy="1152360"/>
          </a:xfrm>
          <a:prstGeom prst="cloudCallout">
            <a:avLst>
              <a:gd name="adj1" fmla="val -69231"/>
              <a:gd name="adj2" fmla="val 117907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文本框 109575"/>
          <p:cNvSpPr/>
          <p:nvPr/>
        </p:nvSpPr>
        <p:spPr>
          <a:xfrm>
            <a:off x="1403280" y="836640"/>
            <a:ext cx="424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看谁读得好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文本框 109576"/>
          <p:cNvSpPr/>
          <p:nvPr/>
        </p:nvSpPr>
        <p:spPr>
          <a:xfrm>
            <a:off x="166680" y="457200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文本框 109578"/>
          <p:cNvSpPr/>
          <p:nvPr/>
        </p:nvSpPr>
        <p:spPr>
          <a:xfrm>
            <a:off x="6978600" y="476280"/>
            <a:ext cx="241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努力喔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黑体"/>
              </a:rPr>
              <a:t>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2" name="图片 109579" descr="062"/>
          <p:cNvPicPr/>
          <p:nvPr/>
        </p:nvPicPr>
        <p:blipFill>
          <a:blip r:embed="rId1"/>
          <a:stretch/>
        </p:blipFill>
        <p:spPr>
          <a:xfrm>
            <a:off x="5435640" y="476280"/>
            <a:ext cx="1657440" cy="167652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09580" descr="q4"/>
          <p:cNvPicPr/>
          <p:nvPr/>
        </p:nvPicPr>
        <p:blipFill>
          <a:blip r:embed="rId2"/>
          <a:stretch/>
        </p:blipFill>
        <p:spPr>
          <a:xfrm>
            <a:off x="609480" y="990720"/>
            <a:ext cx="685800" cy="40788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109582"/>
          <p:cNvSpPr/>
          <p:nvPr/>
        </p:nvSpPr>
        <p:spPr>
          <a:xfrm>
            <a:off x="684360" y="2133720"/>
            <a:ext cx="73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他亲自带着学生和工人，扛着标杆，背着经纬仪，在峭壁上定点、测绘。塞外常常狂风怒号，黄沙满天，一不小心还有坠入深谷的危险。不管条件怎样恶劣，詹天佑始终坚持在野外工作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5" name="图片 109581" descr="ok3"/>
          <p:cNvPicPr/>
          <p:nvPr/>
        </p:nvPicPr>
        <p:blipFill>
          <a:blip r:embed="rId3"/>
          <a:stretch/>
        </p:blipFill>
        <p:spPr>
          <a:xfrm>
            <a:off x="9524880" y="6662880"/>
            <a:ext cx="68580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1699920"/>
            <a:ext cx="806436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、遇到困难，他总是想：这是中国人自己修筑的第一条铁路，一定要把他修好；否则，不但惹外国人讥笑，还会使中国的工程师失掉信心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7" name="图片 110594" descr="062"/>
          <p:cNvPicPr/>
          <p:nvPr/>
        </p:nvPicPr>
        <p:blipFill>
          <a:blip r:embed="rId1"/>
          <a:stretch/>
        </p:blipFill>
        <p:spPr>
          <a:xfrm>
            <a:off x="3851280" y="26028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128" name="云形标注 110595"/>
          <p:cNvSpPr/>
          <p:nvPr/>
        </p:nvSpPr>
        <p:spPr>
          <a:xfrm>
            <a:off x="6300720" y="0"/>
            <a:ext cx="2303640" cy="1486080"/>
          </a:xfrm>
          <a:prstGeom prst="cloudCallout">
            <a:avLst>
              <a:gd name="adj1" fmla="val -80666"/>
              <a:gd name="adj2" fmla="val -1624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文本框 110596"/>
          <p:cNvSpPr/>
          <p:nvPr/>
        </p:nvSpPr>
        <p:spPr>
          <a:xfrm>
            <a:off x="6553080" y="18900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努力吆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</a:rPr>
              <a:t>自学提示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文本框 112642"/>
          <p:cNvSpPr/>
          <p:nvPr/>
        </p:nvSpPr>
        <p:spPr>
          <a:xfrm>
            <a:off x="250920" y="177336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自由读课文，要求读准字音，读通课文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思考詹天佑是一个怎样的人，用课文中的句子来回答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画出最使你感动的地方，如有感想，就在旁边简单写一些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4:14:57Z</dcterms:created>
  <dc:creator>戚凤鸣</dc:creator>
  <dc:description/>
  <dc:language>en-US</dc:language>
  <cp:lastModifiedBy>admin</cp:lastModifiedBy>
  <dcterms:modified xsi:type="dcterms:W3CDTF">2019-05-25T03:46:11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