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.jpeg" ContentType="image/jpeg"/>
  <Override PartName="/ppt/media/image3.gif" ContentType="image/gif"/>
  <Override PartName="/ppt/media/image1.jpeg" ContentType="image/jpeg"/>
  <Override PartName="/ppt/media/image4.gif" ContentType="image/gif"/>
  <Override PartName="/ppt/media/image6.jpeg" ContentType="image/jpeg"/>
  <Override PartName="/ppt/media/image5.jpeg" ContentType="image/jpeg"/>
  <Override PartName="/ppt/media/image11.gif" ContentType="image/gif"/>
  <Override PartName="/ppt/media/image7.jpeg" ContentType="image/jpeg"/>
  <Override PartName="/ppt/media/image10.gif" ContentType="image/gif"/>
  <Override PartName="/ppt/media/hammer.wav" ContentType="audio/x-wav"/>
  <Override PartName="/ppt/media/image12.jpeg" ContentType="image/jpeg"/>
  <Override PartName="/ppt/media/image8.gif" ContentType="image/gif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2951-9DA1-4AD8-8436-58B9789C1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D6A7-F361-4BC8-B51D-49BEB21D0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E9C0-226C-4FE2-8C09-7BD6E17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CB5F-8130-4ADB-B070-07242B376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9AD-DE78-4C57-A2A5-FD4AD8B5F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F6AF-103A-4C06-BAB8-A00BA18FA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2BEE-3D8A-44AE-8739-0139FAF8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E28E-FBB1-4A92-A00F-CB4AB76A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D694-EE3F-400F-9B64-366F994F0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56E-CA83-4B3E-B966-51A4E69E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C39D-DEFB-4C0D-AAE8-798FD2AA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BFE4-7085-4BBB-B5AE-A5580A7B2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8FCC3-1C9C-4264-9B49-7CCE45909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hammer.wav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hyperlink" Target="http://chinese.cersp.com/sJxzy/cSgsw/200709/4990.html" TargetMode="External"/><Relationship Id="rId3" Type="http://schemas.openxmlformats.org/officeDocument/2006/relationships/image" Target="../media/image9.jpeg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audio" Target="../media/hammer.wav"/><Relationship Id="rId7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3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qqgua.com/Article/qqbq/2836.html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audio" Target="../media/hammer.wav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hammer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539640" y="1267920"/>
            <a:ext cx="806472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黑体"/>
              </a:rPr>
              <a:t>这是四点零八分的北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Arial"/>
                <a:ea typeface="黑体"/>
              </a:rPr>
              <a:t>食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1190791436673110" descr=""/>
          <p:cNvPicPr/>
          <p:nvPr/>
        </p:nvPicPr>
        <p:blipFill>
          <a:blip r:embed="rId2"/>
          <a:stretch/>
        </p:blipFill>
        <p:spPr>
          <a:xfrm>
            <a:off x="6983280" y="4697280"/>
            <a:ext cx="2160720" cy="216072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3" name="hammer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导入设计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北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年奥运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文化名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交通方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北京火车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本课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20061226104519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hamme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重点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短小纪录片了解时代背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设置问题共同研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难点突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抓住富于暗示的关键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结合影视常识进一步认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20076160215040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hammer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2006111108522311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2" name="hamme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注重学生主体发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学生是知识的接受者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学会独立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学会合作思考问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课堂的反馈和评价意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充分时间的练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基础知识的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知识的牵引比较和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正确精准的历史评价和文学评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增强审美意思和辨别能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3239_2007042204214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黑体"/>
              </a:rPr>
              <a:t>拓展练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-360" y="1699920"/>
            <a:ext cx="932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  <a:ea typeface="黑体"/>
              </a:rPr>
              <a:t>欣赏食指《相信未来》，并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2007092008511789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86680" y="2857680"/>
            <a:ext cx="2857320" cy="4000320"/>
          </a:xfrm>
          <a:prstGeom prst="rect">
            <a:avLst/>
          </a:prstGeom>
          <a:ln w="0">
            <a:noFill/>
          </a:ln>
        </p:spPr>
      </p:pic>
      <p:pic>
        <p:nvPicPr>
          <p:cNvPr id="104" name="angel2" descr=""/>
          <p:cNvPicPr/>
          <p:nvPr/>
        </p:nvPicPr>
        <p:blipFill>
          <a:blip r:embed="rId4"/>
          <a:stretch/>
        </p:blipFill>
        <p:spPr>
          <a:xfrm>
            <a:off x="2700360" y="2924280"/>
            <a:ext cx="1981080" cy="1650960"/>
          </a:xfrm>
          <a:prstGeom prst="rect">
            <a:avLst/>
          </a:prstGeom>
          <a:ln w="0">
            <a:noFill/>
          </a:ln>
        </p:spPr>
      </p:pic>
      <p:pic>
        <p:nvPicPr>
          <p:cNvPr id="105" name="angel1" descr=""/>
          <p:cNvPicPr/>
          <p:nvPr/>
        </p:nvPicPr>
        <p:blipFill>
          <a:blip r:embed="rId5"/>
          <a:stretch/>
        </p:blipFill>
        <p:spPr>
          <a:xfrm>
            <a:off x="0" y="5207040"/>
            <a:ext cx="1981080" cy="165096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6" name="hammer.wav"/>
      </p:stSnd>
    </p:sndAc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思考辨析：鲁迅在《狂人日记》的最后发出“救救孩子”的呼喊，而食指也在诗中写到“相信战胜死亡的年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华文行楷"/>
              </a:rPr>
              <a:t>”，为什么两位作家都把希望寄托在未来？他们在思想上有什么共通之处？结合时代文化背景说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066920" y="6021000"/>
            <a:ext cx="58572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6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thumb_5739f2362b977cf2b6d8c5c1f67201fd" descr=""/>
          <p:cNvPicPr/>
          <p:nvPr/>
        </p:nvPicPr>
        <p:blipFill>
          <a:blip r:embed="rId1"/>
          <a:stretch/>
        </p:blipFill>
        <p:spPr>
          <a:xfrm>
            <a:off x="5219640" y="3533760"/>
            <a:ext cx="3924360" cy="3324240"/>
          </a:xfrm>
          <a:prstGeom prst="rect">
            <a:avLst/>
          </a:prstGeom>
          <a:ln w="0">
            <a:noFill/>
          </a:ln>
        </p:spPr>
      </p:pic>
      <p:pic>
        <p:nvPicPr>
          <p:cNvPr id="109" name="500_rTiNYVOo" descr=""/>
          <p:cNvPicPr/>
          <p:nvPr/>
        </p:nvPicPr>
        <p:blipFill>
          <a:blip r:embed="rId2"/>
          <a:stretch/>
        </p:blipFill>
        <p:spPr>
          <a:xfrm>
            <a:off x="0" y="3500280"/>
            <a:ext cx="3564000" cy="3357720"/>
          </a:xfrm>
          <a:prstGeom prst="rect">
            <a:avLst/>
          </a:prstGeom>
          <a:ln w="0">
            <a:noFill/>
          </a:ln>
        </p:spPr>
      </p:pic>
      <p:pic>
        <p:nvPicPr>
          <p:cNvPr id="110" name="20061021204459235" descr=""/>
          <p:cNvPicPr/>
          <p:nvPr/>
        </p:nvPicPr>
        <p:blipFill>
          <a:blip r:embed="rId3"/>
          <a:stretch/>
        </p:blipFill>
        <p:spPr>
          <a:xfrm>
            <a:off x="6948360" y="2637000"/>
            <a:ext cx="71460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4" name="hammer.wav"/>
      </p:stSnd>
    </p:sndAc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本课重点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品味本诗“时代悲剧性”的主题；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66"/>
                </a:solidFill>
                <a:latin typeface="Arial"/>
                <a:ea typeface="黑体"/>
              </a:rPr>
              <a:t>感受诗人深刻的人性关怀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3212640"/>
            <a:ext cx="914400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本课难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本诗幻觉意象的组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20061021204459235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812000" y="5661000"/>
            <a:ext cx="1332000" cy="1197000"/>
          </a:xfrm>
          <a:prstGeom prst="rect">
            <a:avLst/>
          </a:prstGeom>
          <a:ln w="0">
            <a:noFill/>
          </a:ln>
        </p:spPr>
      </p:pic>
      <p:pic>
        <p:nvPicPr>
          <p:cNvPr id="48" name="20061021204459235" descr=""/>
          <p:cNvPicPr/>
          <p:nvPr/>
        </p:nvPicPr>
        <p:blipFill>
          <a:blip r:embed="rId4"/>
          <a:stretch/>
        </p:blipFill>
        <p:spPr>
          <a:xfrm>
            <a:off x="0" y="0"/>
            <a:ext cx="714240" cy="71424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  <p:sndAc>
      <p:stSnd>
        <p:snd r:embed="rId5" name="hammer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最后布置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本堂课结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谢谢大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9647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知识与能力：鉴赏现代诗歌，品味深刻主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过程与方法：放在时代大背景来理解深刻内涵，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强调思想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；反复朗读，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强调人文性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情感态度与价值观：感受诗人深刻的人性关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教学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435880" cy="45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发挥学生的主体作用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启发学生提出问题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表层的问题引入潜层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学法指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用现代视角解决经典问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用历史的眼光培养思考问题的方式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学生分组讨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解决不同视角多义性的问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教学辅助手段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幻灯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小视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珍贵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技能和能力的培养方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教师范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学生朗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感情共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归纳总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200561044849571" descr="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5867280" y="333000"/>
            <a:ext cx="3035520" cy="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6280" bIns="26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 rot="5400000">
            <a:off x="6330960" y="217476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诵读感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67" name="Music"/>
          <p:cNvSpPr/>
          <p:nvPr/>
        </p:nvSpPr>
        <p:spPr>
          <a:xfrm rot="618000">
            <a:off x="7164360" y="5013360"/>
            <a:ext cx="895320" cy="135252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1403280" y="549360"/>
          <a:ext cx="4289040" cy="1017000"/>
        </p:xfrm>
        <a:graphic>
          <a:graphicData uri="http://schemas.openxmlformats.org/drawingml/2006/table">
            <a:tbl>
              <a:tblPr/>
              <a:tblGrid>
                <a:gridCol w="4289040"/>
              </a:tblGrid>
              <a:tr h="1017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这是四点零八分的北京</a:t>
                      </a:r>
                      <a:r>
                        <a:rPr b="1" lang="en-US" sz="1800" spc="-1" strike="noStrike">
                          <a:solidFill>
                            <a:srgbClr val="00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"/>
          <p:cNvSpPr/>
          <p:nvPr/>
        </p:nvSpPr>
        <p:spPr>
          <a:xfrm>
            <a:off x="2716200" y="214740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979640" y="1773360"/>
          <a:ext cx="5329080" cy="3600360"/>
        </p:xfrm>
        <a:graphic>
          <a:graphicData uri="http://schemas.openxmlformats.org/drawingml/2006/table">
            <a:tbl>
              <a:tblPr/>
              <a:tblGrid>
                <a:gridCol w="5329080"/>
              </a:tblGrid>
              <a:tr h="3600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这是四点零八分的北京，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一片手的海洋翻动；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这是四点零八分的北京，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一声雄伟的汽笛长鸣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北京车站高大的建筑，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突然一阵剧烈的抖动。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我双眼吃惊地望着窗外，</a:t>
                      </a:r>
                      <a:br>
                        <a:rPr sz="2400"/>
                      </a:br>
                      <a:r>
                        <a:rPr b="1" lang="en-US" sz="2400" spc="-1" strike="noStrike">
                          <a:solidFill>
                            <a:srgbClr val="000066"/>
                          </a:solidFill>
                          <a:latin typeface="Arial"/>
                          <a:ea typeface="黑体"/>
                        </a:rPr>
                        <a:t>不知发生了什么事情……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1" name=""/>
          <p:cNvSpPr txBox="1"/>
          <p:nvPr/>
        </p:nvSpPr>
        <p:spPr>
          <a:xfrm>
            <a:off x="324000" y="5805360"/>
            <a:ext cx="5371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故乡   母亲    痛苦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457200" y="23760"/>
            <a:ext cx="77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凌霄花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教学的结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一、导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二、作者作品介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三、时代背景简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四、朗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五、分析课文，教学重点解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，六、语言分析，教学难点突破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七、拓展练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hecker dir="horz"/>
    <p:sndAc>
      <p:stSnd>
        <p:snd r:embed="rId2" name="hamme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7T05:16:08Z</dcterms:created>
  <dc:creator>微软用户</dc:creator>
  <dc:description/>
  <dc:language>en-US</dc:language>
  <cp:lastModifiedBy>zmj</cp:lastModifiedBy>
  <dcterms:modified xsi:type="dcterms:W3CDTF">2011-12-20T09:51:44Z</dcterms:modified>
  <cp:revision>24</cp:revision>
  <dc:subject/>
  <dc:title>食指疯了，顾城自杀了，北岛流亡瑞典，舒婷沉默无语</dc:title>
</cp:coreProperties>
</file>