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2"/>
          <p:cNvSpPr txBox="1"/>
          <p:nvPr/>
        </p:nvSpPr>
        <p:spPr>
          <a:xfrm>
            <a:off x="250920" y="260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一导入新课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68360" y="1523880"/>
            <a:ext cx="8786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9900cc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黑夜给了我黑色的眼睛，我却用它来寻找光明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——</a:t>
            </a: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顾城</a:t>
            </a: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9900cc"/>
                </a:solidFill>
                <a:latin typeface="Arial"/>
              </a:rPr>
              <a:t>一代人</a:t>
            </a:r>
            <a:r>
              <a:rPr b="1" lang="en-US" sz="5400" spc="-1" strike="noStrike">
                <a:solidFill>
                  <a:srgbClr val="9900cc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250920" y="189000"/>
            <a:ext cx="2808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五合作探究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79280" y="1125360"/>
            <a:ext cx="85694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诗中第一节有对当时场景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真实记录，把它找出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第一节“这是四点零八分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北京”出现两次，有什么作用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、北京车站高大的建筑，突然一阵剧烈的抖动，诗人当时为什么会有这种感觉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WordArt 2"/>
          <p:cNvSpPr txBox="1"/>
          <p:nvPr/>
        </p:nvSpPr>
        <p:spPr>
          <a:xfrm>
            <a:off x="684360" y="189000"/>
            <a:ext cx="228600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六精读品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468360" y="254376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我的心骤然一阵疼痛，一定是 妈妈缀扣子的针线穿透了心胸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宋体"/>
              </a:rPr>
              <a:t>“</a:t>
            </a:r>
            <a:r>
              <a:rPr b="1" lang="zh-CN" sz="4800" spc="-1" strike="noStrike">
                <a:solidFill>
                  <a:srgbClr val="800080"/>
                </a:solidFill>
                <a:latin typeface="宋体"/>
              </a:rPr>
              <a:t>我”的心为什么会如此疼痛？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1332000" y="2515320"/>
            <a:ext cx="6769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</a:rPr>
              <a:t>、“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北京在我的脚下， 已经缓缓地移动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宋体"/>
              </a:rPr>
              <a:t>这里有什么含义？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11280" y="1556640"/>
            <a:ext cx="8532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“我再次向北京挥动手臂， 想一把抓住他的衣领， 然后对她大声地叫喊： 永远记着我，妈妈啊，北京！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0080"/>
                </a:solidFill>
                <a:latin typeface="宋体"/>
              </a:rPr>
              <a:t>诗人把“妈妈”和“北京”叠合在一起写，有何深意？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971640" y="1599120"/>
            <a:ext cx="7632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、“因为这是我的北京， 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  这是我的最后的北京。”</a:t>
            </a:r>
            <a:r>
              <a:rPr b="1" lang="zh-CN" sz="4800" spc="-1" strike="noStrike">
                <a:solidFill>
                  <a:srgbClr val="800080"/>
                </a:solidFill>
                <a:latin typeface="宋体"/>
              </a:rPr>
              <a:t>“最后”有什么含义？</a:t>
            </a: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 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0" y="1700280"/>
            <a:ext cx="932508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欣赏食指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相信未来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并回答问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3"/>
          <p:cNvSpPr txBox="1"/>
          <p:nvPr/>
        </p:nvSpPr>
        <p:spPr>
          <a:xfrm>
            <a:off x="179280" y="260280"/>
            <a:ext cx="2592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七拓展延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0" y="18900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思考辨析：鲁迅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狂人日记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最后发出“救救孩子”的呼喊，而食指也在诗中写到“相信战胜死亡的年轻</a:t>
            </a:r>
            <a:r>
              <a:rPr b="0" lang="zh-CN" sz="40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”，为什么两位作家都把希望寄托在未来？他们在思想上有什么共通之处？结合时代文化背景说一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3" descr="500_rTiNYVOo"/>
          <p:cNvPicPr/>
          <p:nvPr/>
        </p:nvPicPr>
        <p:blipFill>
          <a:blip r:embed="rId1"/>
          <a:stretch/>
        </p:blipFill>
        <p:spPr>
          <a:xfrm>
            <a:off x="0" y="3429000"/>
            <a:ext cx="3780000" cy="3024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4" descr="thumb_5739f2362b977cf2b6d8c5c1f67201fd"/>
          <p:cNvPicPr/>
          <p:nvPr/>
        </p:nvPicPr>
        <p:blipFill>
          <a:blip r:embed="rId2"/>
          <a:stretch/>
        </p:blipFill>
        <p:spPr>
          <a:xfrm>
            <a:off x="5219640" y="3429000"/>
            <a:ext cx="3924360" cy="3095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6"/>
          <p:cNvSpPr txBox="1"/>
          <p:nvPr/>
        </p:nvSpPr>
        <p:spPr>
          <a:xfrm>
            <a:off x="2959200" y="623880"/>
            <a:ext cx="3095640" cy="135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结束语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" name="AutoShape 2"/>
          <p:cNvSpPr/>
          <p:nvPr/>
        </p:nvSpPr>
        <p:spPr>
          <a:xfrm>
            <a:off x="539640" y="2133720"/>
            <a:ext cx="7991640" cy="3458880"/>
          </a:xfrm>
          <a:prstGeom prst="roundRect">
            <a:avLst>
              <a:gd name="adj" fmla="val 16667"/>
            </a:avLst>
          </a:prstGeom>
          <a:solidFill>
            <a:srgbClr val="ffffff">
              <a:alpha val="70000"/>
            </a:srgbClr>
          </a:solidFill>
          <a:ln w="25560">
            <a:solidFill>
              <a:srgbClr val="00ffff"/>
            </a:solidFill>
            <a:miter/>
          </a:ln>
          <a:effectLst>
            <a:outerShdw dist="17819" dir="2700000" blurRad="0" rotWithShape="0">
              <a:srgbClr val="005e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同一个世界，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宋体"/>
              </a:rPr>
              <a:t>同一个梦想！</a:t>
            </a: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WordArt 7" descr=""/>
          <p:cNvPicPr/>
          <p:nvPr/>
        </p:nvPicPr>
        <p:blipFill>
          <a:blip r:embed="rId1"/>
          <a:stretch/>
        </p:blipFill>
        <p:spPr>
          <a:xfrm>
            <a:off x="390600" y="1146240"/>
            <a:ext cx="8362800" cy="2840040"/>
          </a:xfrm>
          <a:prstGeom prst="rect">
            <a:avLst/>
          </a:prstGeom>
          <a:ln w="0">
            <a:noFill/>
          </a:ln>
        </p:spPr>
      </p:pic>
      <p:sp>
        <p:nvSpPr>
          <p:cNvPr id="75" name="Text Box 8"/>
          <p:cNvSpPr/>
          <p:nvPr/>
        </p:nvSpPr>
        <p:spPr>
          <a:xfrm>
            <a:off x="3255840" y="4226040"/>
            <a:ext cx="3332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 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457200" y="457200"/>
            <a:ext cx="48769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食指，原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郭路生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，著名诗人，被称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新诗潮诗歌第一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小学开始热爱诗歌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岁时写的名作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相信未来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、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海洋三部曲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》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、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</a:rPr>
              <a:t>这是四点零八分的北京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等以手抄本的形式在社会上广为流传。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年４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日与已故诗人海子共同获得第三届人民文学奖诗歌奖。著有诗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相信未来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食指、黑大春现代抒情诗合集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诗探索金库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食指卷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食指的诗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20050616170622728"/>
          <p:cNvPicPr/>
          <p:nvPr/>
        </p:nvPicPr>
        <p:blipFill>
          <a:blip r:embed="rId1"/>
          <a:stretch/>
        </p:blipFill>
        <p:spPr>
          <a:xfrm>
            <a:off x="5334120" y="1219320"/>
            <a:ext cx="3581280" cy="4010040"/>
          </a:xfrm>
          <a:prstGeom prst="rect">
            <a:avLst/>
          </a:prstGeom>
          <a:ln w="0">
            <a:noFill/>
          </a:ln>
        </p:spPr>
      </p:pic>
      <p:sp>
        <p:nvSpPr>
          <p:cNvPr id="78" name="WordArt 7"/>
          <p:cNvSpPr txBox="1"/>
          <p:nvPr/>
        </p:nvSpPr>
        <p:spPr>
          <a:xfrm>
            <a:off x="0" y="0"/>
            <a:ext cx="228600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走进作者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2"/>
          <p:cNvSpPr txBox="1"/>
          <p:nvPr/>
        </p:nvSpPr>
        <p:spPr>
          <a:xfrm>
            <a:off x="250920" y="26028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三预习检测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5280" y="907920"/>
            <a:ext cx="7705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文体知识填空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四点零八分的北京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作者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选自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本诗描写的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年代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青年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一段特殊历史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我的心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阵疼痛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定是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针线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______________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1042920" y="1197000"/>
            <a:ext cx="684216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解释词语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剧 烈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猛烈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骤 然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突然、忽然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窗 棂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窗格子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告 别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离别、分手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【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声 浪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】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指许多人呼喊的声音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WordArt 5"/>
          <p:cNvSpPr txBox="1"/>
          <p:nvPr/>
        </p:nvSpPr>
        <p:spPr>
          <a:xfrm>
            <a:off x="179280" y="189000"/>
            <a:ext cx="45720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四初读课文，整体感知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755640" y="1444680"/>
            <a:ext cx="8720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自由朗读课文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谈谈自己的阅读体会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200561044849571"/>
          <p:cNvPicPr/>
          <p:nvPr/>
        </p:nvPicPr>
        <p:blipFill>
          <a:blip r:embed="rId1"/>
          <a:stretch/>
        </p:blipFill>
        <p:spPr>
          <a:xfrm>
            <a:off x="0" y="404640"/>
            <a:ext cx="5940360" cy="6120000"/>
          </a:xfrm>
          <a:prstGeom prst="rect">
            <a:avLst/>
          </a:prstGeom>
          <a:ln w="0">
            <a:noFill/>
          </a:ln>
        </p:spPr>
      </p:pic>
      <p:sp>
        <p:nvSpPr>
          <p:cNvPr id="85" name="WordArt 3"/>
          <p:cNvSpPr txBox="1"/>
          <p:nvPr/>
        </p:nvSpPr>
        <p:spPr>
          <a:xfrm>
            <a:off x="324000" y="5805360"/>
            <a:ext cx="537192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故乡   母亲    痛苦</a:t>
            </a:r>
            <a:endParaRPr b="0" lang="en-US" sz="4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6" name="WordArt 4"/>
          <p:cNvSpPr txBox="1"/>
          <p:nvPr/>
        </p:nvSpPr>
        <p:spPr>
          <a:xfrm rot="5400000">
            <a:off x="6330960" y="217476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34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新魏"/>
              </a:rPr>
              <a:t>诵读感悟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</p:spTree>
  </p:cSld>
  <p:transition>
    <p:zoom dir="out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00761602150405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87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0b0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20061111085223119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7T14:00:27Z</dcterms:created>
  <dc:creator/>
  <dc:description/>
  <dc:language>en-US</dc:language>
  <cp:lastModifiedBy>dadi</cp:lastModifiedBy>
  <dcterms:modified xsi:type="dcterms:W3CDTF">2016-04-02T12:48:55Z</dcterms:modified>
  <cp:revision>64</cp:revision>
  <dc:subject/>
  <dc:title>幻灯片 1</dc:title>
</cp:coreProperties>
</file>