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png" ContentType="image/png"/>
  <Override PartName="/ppt/media/image23.jpeg" ContentType="image/jpeg"/>
  <Override PartName="/ppt/media/image21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5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8.jpeg" ContentType="image/jpeg"/>
  <Override PartName="/ppt/media/image38.png" ContentType="image/png"/>
  <Override PartName="/ppt/media/image36.jpeg" ContentType="image/jpeg"/>
  <Override PartName="/ppt/media/image9.png" ContentType="image/png"/>
  <Override PartName="/ppt/media/image13.png" ContentType="image/png"/>
  <Override PartName="/ppt/media/image30.png" ContentType="image/png"/>
  <Override PartName="/ppt/media/image37.jpeg" ContentType="image/jpeg"/>
  <Override PartName="/ppt/media/image32.jpeg" ContentType="image/jpeg"/>
  <Override PartName="/ppt/media/image28.png" ContentType="image/png"/>
  <Override PartName="/ppt/media/image7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35.jpeg" ContentType="image/jpeg"/>
  <Override PartName="/ppt/media/image10.png" ContentType="image/png"/>
  <Override PartName="/ppt/media/image1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947AF-C70C-4686-9948-637FD6358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468A-3ADC-4848-B7CB-C8057BFAE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E2D0E-F099-4732-8579-9BE74CC6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D1394-0E07-475B-A6E5-179982BEA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A30947-88FF-46DF-A98A-9D8EEE96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3F134F-3841-4A08-B822-2472E997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A954E-08DF-4346-B386-CB6426F2C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3BA3C0-B303-46BF-B364-5E4C60E7A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02329-B02B-4C56-AD6F-9FE1D46DE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E5FA06-0FE9-4EC7-9F0C-4B95D7D40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2FB7ED-3316-41FA-A084-FD434627C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6EB7-EDDD-4594-BC25-085AA41B3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039A7-8CD8-43F0-9AEC-5D7325C4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6EC33-433B-4FF6-AFCE-01DA6B219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4015C-4C3C-4880-A539-4134850B2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53116-83AE-4131-BECF-43B55119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894B4-6082-4F3E-A0AC-B5338D01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63D0-5D73-400D-B6CE-2DE61E285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E556B-18DD-4314-B292-F7283E4A0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D8C2-3EEE-4A74-A09A-3E798B25F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FC80-AFF7-48E7-B619-1F7296427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F061-7089-40D9-9ABC-F6CFADAD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622E3-FF0C-4815-BC45-EBBCBD56A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F8AE-2DE7-4F65-94AC-83997A3AE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91451-C405-440B-8278-1A215C3E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F7F1-D8E4-48C8-879F-CD25E43E9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E7533-F2D2-4437-A0FB-B026E0F4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80642-8DFA-45EC-8EE2-37C1E9F35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44914-0887-4DE0-9A6A-1226C092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C2851B-ABD3-498C-B5A8-4C8931733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FE8962-91E6-45A3-93C2-3E89EA1E1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CF5B-E54C-4711-93E9-1B9033F4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EF37EA-B3CE-4D94-B4E8-438EBB2AD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A92BA-E4DE-46A2-B722-D415F1BC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FE9789-66A7-4CD8-A048-278BDB84E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1EF7A-B495-4A4D-B7EF-18602A41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DD73B-66A9-41F4-BFC2-5851EA4AA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5D8233-AA8F-424D-A1D4-FF6CA357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1D7637-3674-46F3-8F5C-2576603E1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E1D6C-CD1E-4437-B872-88C69B7E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D4CCA-151B-4183-96C8-64253D46F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0F208A-5F32-4E81-A2D1-056E3FC8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B91EB-E1E3-42FA-85BA-ABD6F807B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BE5C1-D8C1-4318-B480-872C2672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3851CB-272D-4C4A-A6DA-D331645A9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B581E-B612-47A2-9475-7645A44B3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F623C-D734-44B3-AE8B-F20A4A07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13954-46C7-444E-9E6E-AC1D9B05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2E8AD-7B76-4C00-884C-80B38426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A897F-0F44-4D14-B425-7B963E0E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7A373-B4F9-4900-9E18-AE579C16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B2005-AC33-4136-B96D-932DC4583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47A6C-71BC-4882-8D94-7BAEB5FE5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034C-A976-4A68-A318-DA5FD159E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282E0-4206-4645-ACBB-B3BFA116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2F16F0-8395-428E-A5EC-731814BBD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F7EB48-FC07-4FE3-93ED-633D2B22D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A381F9-ADBE-4F27-872D-C9B7CBBF3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A67F2-EC01-492B-8562-13162C59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397EAF-0A18-4AF0-B0CA-D11E67206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516F4-453A-4058-A2F5-FE1E9BCB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38A2F2-02C6-40EA-BBAB-29C026AA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35F52-506B-4BB3-96C7-67FBCDC99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44B5F-493C-45AD-850D-5960FAF67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7CB9-208C-49BA-9B21-AA3BBC936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D0716D-37E0-4F19-95AB-D0F0B5B7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971400-39D0-4B31-ACD3-59468D079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32D1C4-F472-4B64-8B02-8C0E1820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1B7F1-D6DC-4E01-9321-A50649CB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887FB-7275-42E6-BA1F-B85E982CE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22A63-86E0-4069-8E6F-719E7F65C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1B33CE-B55F-4C43-BC91-92D9EA587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E5176-26BC-452D-9ADA-18FE2E908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F1B87-02E6-46AE-8500-15DA2134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EA855-3B2F-45F2-B259-444CB4F4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B0DB-A87B-4DDE-8E3E-D8462CBC3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69546-2A1F-4138-9D95-0E5864F3B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6D8001-4640-4F50-A25F-FB8DDD5F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5BEAAB-67DD-4BF6-ACBC-DA455D3D0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F262B-C3C3-4B68-81A0-7FAB66E19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D81EFA-577F-4A86-BB19-3EF4271B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8DFDC5-0C74-4278-B438-6C69614B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2B1BF-D1DF-4FCA-9FA2-FABFA6172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001CEF-8892-49CC-9E37-C39AB14B9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75A60E-92ED-4011-824C-718777DF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BDC646-ABB2-4CBE-8AD4-965E6EC1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6FB0-53C7-4188-BC57-47B3CA6E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641E7D-8C56-4F6A-B820-D79FDDA97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E8DCBC-56D4-4CCB-B51F-92DD173B9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87E4B2-326E-48B0-88D3-FE68EFDA9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AD8E59-644B-437E-9CCE-D2612F780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A2D96C-BA36-437A-A51B-67662BE48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5A504-D68B-4BB0-B73F-F430CEFBA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2801F-F93D-4D48-BE45-1213F6D56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D59891-933F-4F13-A770-E2DB9B22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6E3CD0-AC1B-4544-B989-DBB9D19C9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F1B3D-00F4-4587-9454-7D68E299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FC0A-755F-4294-88A6-5CC00EC7D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1529A-3992-43FF-A850-ABC859469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3E4EC-7E8B-4ED2-A6D8-17443570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40C1B0-CCF2-494B-B41E-0A8D2F7D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64FC2A-06A6-4202-BFD1-0F042535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485F93-CE9C-4422-BEB6-DE4506B0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7B1CA-1F36-4199-A10A-695C351D0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7FB7B-C315-4B9E-B718-9BAFF5199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6F5FD7-CA61-4533-88B8-DDF9E8E2D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2F6C3-60AE-40E8-8E65-48A9939F3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B025C0-3B21-4286-86AD-451664E9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角三角形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组合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2" name="任意多边形 16"/>
            <p:cNvSpPr/>
            <p:nvPr/>
          </p:nvSpPr>
          <p:spPr>
            <a:xfrm>
              <a:off x="1693440" y="4952880"/>
              <a:ext cx="7444440" cy="48672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720"/>
                <a:gd name="textAreaBottom" fmla="*/ 487080 h 48672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任意多边形 18"/>
            <p:cNvSpPr/>
            <p:nvPr/>
          </p:nvSpPr>
          <p:spPr>
            <a:xfrm>
              <a:off x="44280" y="5236560"/>
              <a:ext cx="9093600" cy="786240"/>
            </a:xfrm>
            <a:custGeom>
              <a:avLst/>
              <a:gdLst>
                <a:gd name="textAreaLeft" fmla="*/ 0 w 9093600"/>
                <a:gd name="textAreaRight" fmla="*/ 9093960 w 9093600"/>
                <a:gd name="textAreaTop" fmla="*/ 0 h 786240"/>
                <a:gd name="textAreaBottom" fmla="*/ 786600 h 78624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任意多边形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" name="任意多边形 19" descr=""/>
              <p:cNvPicPr/>
              <p:nvPr/>
            </p:nvPicPr>
            <p:blipFill>
              <a:blip r:embed="rId3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7" name="直接连接符 20" descr=""/>
            <p:cNvPicPr/>
            <p:nvPr/>
          </p:nvPicPr>
          <p:blipFill>
            <a:blip r:embed="rId4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7306-C2AE-45BC-8A51-5759EC9332E9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2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4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5" name="燕尾形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燕尾形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A1FD3-30BB-4FC4-BA54-4CBCE6B33EC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01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3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67B20-A001-445F-B9F8-C4CBF495599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3A45-A33E-4ED5-86C1-E3B83FEC64F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89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1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D176-33F3-4E4E-A9D9-6A268E78063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2F914-E0DA-4016-B51E-3C194119A98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任意多边形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任意多边形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6" name="直角三角形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77" name="直角三角形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9" name="直接连接符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0" name="燕尾形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燕尾形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072E-0C67-431C-9157-FBAFF1F06AB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任意多边形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任意多边形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直角三角形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6" name="直角三角形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直接连接符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8BF5-87BF-4A62-B9FA-FF66736FB76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6E72-1635-44C4-AEE9-626B44724F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9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9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9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9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9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ook.sohu.com/20050629/n240136073.shtml" TargetMode="External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9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9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9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9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hyperlink" Target="http://chinese.cersp.com/sJxzy/cSgsw/200709/4990.html" TargetMode="External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9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bs.chinabroadcast.cn/simple/index.php?t45502.html" TargetMode="External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9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9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9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标题 3" descr=""/>
          <p:cNvPicPr/>
          <p:nvPr/>
        </p:nvPicPr>
        <p:blipFill>
          <a:blip r:embed="rId2"/>
          <a:stretch/>
        </p:blipFill>
        <p:spPr>
          <a:xfrm>
            <a:off x="0" y="284040"/>
            <a:ext cx="8229600" cy="11224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 txBox="1"/>
          <p:nvPr/>
        </p:nvSpPr>
        <p:spPr>
          <a:xfrm>
            <a:off x="499680" y="1785960"/>
            <a:ext cx="8643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Arial"/>
                <a:ea typeface="黑体"/>
              </a:rPr>
              <a:t>四十年前北京的火车站，诗人食指，当时还是个学生，作为上山下乡知青队伍中的一员，在即将离开故乡北京的一刹那，心灵突然受到强烈的触动，这种触动包括对故乡、母亲、文明的眷恋，也许还包括对不可知的未来的恐惧。凡是经历过那种场面的人，都会永世不忘。远离父母、远离亲人、远离家乡，对刚刚步入人生的十几岁的青年到底意味着什么？在惶恐、希求与别离的痛苦之中，告别的泪雨与声浪如海潮般有卷走车站的力量。这不是一般的分离，也许就是永别。同学朋友各奔东西，父母儿女远隔千里，到底何时能相见？到底明天会发生什么？“文革”的那些岁月里谁也无法预测，也许这就是他们“最后的北京”，只有把诸多情绪融入诗中，成为定格，永远不会消失在我们心灵的视线中，这就使全诗丰满而完整。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Picture 2" descr="3-07"/>
          <p:cNvPicPr/>
          <p:nvPr/>
        </p:nvPicPr>
        <p:blipFill>
          <a:blip r:embed="rId2"/>
          <a:stretch/>
        </p:blipFill>
        <p:spPr>
          <a:xfrm>
            <a:off x="1219320" y="304920"/>
            <a:ext cx="67053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2" descr="l5"/>
          <p:cNvPicPr/>
          <p:nvPr/>
        </p:nvPicPr>
        <p:blipFill>
          <a:blip r:embed="rId2"/>
          <a:stretch/>
        </p:blipFill>
        <p:spPr>
          <a:xfrm>
            <a:off x="1905120" y="228600"/>
            <a:ext cx="51894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Picture 2" descr="200761602150405"/>
          <p:cNvPicPr/>
          <p:nvPr/>
        </p:nvPicPr>
        <p:blipFill>
          <a:blip r:embed="rId2"/>
          <a:stretch/>
        </p:blipFill>
        <p:spPr>
          <a:xfrm>
            <a:off x="826920" y="622440"/>
            <a:ext cx="7490160" cy="5632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douzhenghui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3" descr="20050710235911641"/>
          <p:cNvPicPr/>
          <p:nvPr/>
        </p:nvPicPr>
        <p:blipFill>
          <a:blip r:embed="rId2"/>
          <a:stretch/>
        </p:blipFill>
        <p:spPr>
          <a:xfrm>
            <a:off x="0" y="274680"/>
            <a:ext cx="1554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Picture 2" descr="pdslb"/>
          <p:cNvPicPr/>
          <p:nvPr/>
        </p:nvPicPr>
        <p:blipFill>
          <a:blip r:embed="rId2"/>
          <a:stretch/>
        </p:blipFill>
        <p:spPr>
          <a:xfrm>
            <a:off x="609480" y="380880"/>
            <a:ext cx="8001000" cy="613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2" descr="mzd1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4" name="Picture 2" descr="36"/>
          <p:cNvPicPr/>
          <p:nvPr/>
        </p:nvPicPr>
        <p:blipFill>
          <a:blip r:embed="rId2"/>
          <a:stretch/>
        </p:blipFill>
        <p:spPr>
          <a:xfrm>
            <a:off x="2438280" y="228600"/>
            <a:ext cx="4635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知识青年到农村去，接受贫下中农的再教育，很有必要。”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Picture 4" descr="index_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2" descr="Img24013607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4" name="WordArt 3"/>
          <p:cNvSpPr txBox="1"/>
          <p:nvPr/>
        </p:nvSpPr>
        <p:spPr>
          <a:xfrm rot="5400000">
            <a:off x="-1371960" y="2590920"/>
            <a:ext cx="5715000" cy="1447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黑体"/>
              </a:rPr>
              <a:t>这是四点零八分的北京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黑体"/>
              <a:ea typeface="黑体"/>
            </a:endParaRPr>
          </a:p>
        </p:txBody>
      </p:sp>
      <p:sp>
        <p:nvSpPr>
          <p:cNvPr id="415" name="WordArt 4"/>
          <p:cNvSpPr txBox="1"/>
          <p:nvPr/>
        </p:nvSpPr>
        <p:spPr>
          <a:xfrm rot="5400000">
            <a:off x="2621520" y="959400"/>
            <a:ext cx="862200" cy="619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食指</a:t>
            </a:r>
            <a:endParaRPr b="1" lang="en-US" sz="2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3" descr="c2"/>
          <p:cNvPicPr/>
          <p:nvPr/>
        </p:nvPicPr>
        <p:blipFill>
          <a:blip r:embed="rId2"/>
          <a:stretch/>
        </p:blipFill>
        <p:spPr>
          <a:xfrm>
            <a:off x="0" y="0"/>
            <a:ext cx="8962920" cy="639936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4"/>
          <p:cNvSpPr/>
          <p:nvPr/>
        </p:nvSpPr>
        <p:spPr>
          <a:xfrm>
            <a:off x="0" y="-458640"/>
            <a:ext cx="183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Text Box 5"/>
          <p:cNvSpPr/>
          <p:nvPr/>
        </p:nvSpPr>
        <p:spPr>
          <a:xfrm>
            <a:off x="0" y="-473040"/>
            <a:ext cx="17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知识青年上山下乡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20061111085223119"/>
          <p:cNvPicPr/>
          <p:nvPr/>
        </p:nvPicPr>
        <p:blipFill>
          <a:blip r:embed="rId2"/>
          <a:stretch/>
        </p:blipFill>
        <p:spPr>
          <a:xfrm>
            <a:off x="1042920" y="779400"/>
            <a:ext cx="7058160" cy="528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ext Box 2"/>
          <p:cNvSpPr/>
          <p:nvPr/>
        </p:nvSpPr>
        <p:spPr>
          <a:xfrm>
            <a:off x="457200" y="457200"/>
            <a:ext cx="487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食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原名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郭路生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著名诗人，被称为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新诗潮诗歌第一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小学开始热爱诗歌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岁时写的名作《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相信未来》、《海洋三部曲》、《这是四点零八分的北京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以手抄本的形式在社会上广为流传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0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４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日与已故诗人海子共同获得第三届人民文学奖诗歌奖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著有诗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《相信未来》、《食指、黑大春现代抒情诗合集》、《诗探索金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食指卷》、《食指的诗》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2" name="Picture 4" descr="无标题"/>
          <p:cNvPicPr/>
          <p:nvPr/>
        </p:nvPicPr>
        <p:blipFill>
          <a:blip r:embed="rId2"/>
          <a:stretch/>
        </p:blipFill>
        <p:spPr>
          <a:xfrm>
            <a:off x="5580000" y="476280"/>
            <a:ext cx="3384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Rectangle 2" descr=""/>
          <p:cNvPicPr/>
          <p:nvPr/>
        </p:nvPicPr>
        <p:blipFill>
          <a:blip r:embed="rId2"/>
          <a:stretch/>
        </p:blipFill>
        <p:spPr>
          <a:xfrm>
            <a:off x="0" y="274680"/>
            <a:ext cx="5054760" cy="114300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/>
          </p:nvPr>
        </p:nvSpPr>
        <p:spPr>
          <a:xfrm>
            <a:off x="-360" y="1413000"/>
            <a:ext cx="38098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这是四点零八分的北京，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一片手的海洋翻动；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这是四点零八分的北京，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一声雄伟的汽笛长鸣。  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           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北京车站高大的建筑，    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突然一阵剧烈的抖动。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我双眼</a:t>
            </a:r>
            <a:r>
              <a:rPr b="0" lang="zh-CN" sz="1600" spc="-1" strike="noStrike">
                <a:solidFill>
                  <a:srgbClr val="ff0000"/>
                </a:solidFill>
                <a:latin typeface="Lucida Sans Unicode"/>
                <a:ea typeface="黑体"/>
              </a:rPr>
              <a:t>吃惊</a:t>
            </a: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地望着窗外，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不知发生了什么事情。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我的心</a:t>
            </a:r>
            <a:r>
              <a:rPr b="0" lang="zh-CN" sz="1600" spc="-1" strike="noStrike">
                <a:solidFill>
                  <a:srgbClr val="ff0000"/>
                </a:solidFill>
                <a:latin typeface="Lucida Sans Unicode"/>
                <a:ea typeface="黑体"/>
              </a:rPr>
              <a:t>骤</a:t>
            </a: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然一阵疼痛，一定是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妈妈缀扣子的针线穿透了心胸。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这时，我的心变成了一只风筝，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风筝的线绳就在妈妈手中。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线绳绷得太紧了，就要扯断了，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我不得不把头探出车厢的窗</a:t>
            </a:r>
            <a:r>
              <a:rPr b="0" lang="zh-CN" sz="1600" spc="-1" strike="noStrike">
                <a:solidFill>
                  <a:srgbClr val="ff0000"/>
                </a:solidFill>
                <a:latin typeface="Lucida Sans Unicode"/>
                <a:ea typeface="黑体"/>
              </a:rPr>
              <a:t>棂</a:t>
            </a: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直到这时，直到这时候，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我才明白发生了什么事情。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179280" y="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朗读诗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 Box 5"/>
          <p:cNvSpPr/>
          <p:nvPr/>
        </p:nvSpPr>
        <p:spPr>
          <a:xfrm>
            <a:off x="5076720" y="1341360"/>
            <a:ext cx="3672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一阵阵告别的声浪，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就要卷走车站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北京在我的脚下，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已经缓缓地移动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再次向北京挥动手臂，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想一把抓住他的衣领，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然后对她大声地叫喊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永远记着我，妈妈啊，北京！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终于抓住了什么东西，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管他是谁的手，不能松，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因为这是我的北京，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这是我的最后的北京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6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 Box 6"/>
          <p:cNvSpPr/>
          <p:nvPr/>
        </p:nvSpPr>
        <p:spPr>
          <a:xfrm>
            <a:off x="1547640" y="364500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zhòu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3708360" y="5157720"/>
            <a:ext cx="934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í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这是四点零八分的北京[1].mp3" descr=""/>
          <p:cNvPicPr/>
          <p:nvPr/>
        </p:nvPicPr>
        <p:blipFill>
          <a:blip r:embed="rId3"/>
          <a:stretch/>
        </p:blipFill>
        <p:spPr>
          <a:xfrm>
            <a:off x="324000" y="62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" fill="hold"/>
                                        <p:tgtEl>
                                          <p:spTgt spid="4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838"/>
                            </p:stCondLst>
                            <p:childTnLst>
                              <p:par>
                                <p:cTn id="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30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7838"/>
                            </p:stCondLst>
                            <p:childTnLst>
                              <p:par>
                                <p:cTn id="6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30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0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3238"/>
                            </p:stCondLst>
                            <p:childTnLst>
                              <p:par>
                                <p:cTn id="6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30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30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30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9238"/>
                            </p:stCondLst>
                            <p:childTnLst>
                              <p:par>
                                <p:cTn id="7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3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30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4938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30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27638"/>
                            </p:stCondLst>
                            <p:childTnLst>
                              <p:par>
                                <p:cTn id="8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3000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30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30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33338"/>
                            </p:stCondLst>
                            <p:childTnLst>
                              <p:par>
                                <p:cTn id="9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3000"/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3000" fill="hold"/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3000" fill="hold"/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39038"/>
                            </p:stCondLst>
                            <p:childTnLst>
                              <p:par>
                                <p:cTn id="9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3000"/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45038"/>
                            </p:stCondLst>
                            <p:childTnLst>
                              <p:par>
                                <p:cTn id="10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738"/>
                            </p:stCondLst>
                            <p:childTnLst>
                              <p:par>
                                <p:cTn id="10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3000"/>
                                        <p:tgtEl>
                                          <p:spTgt spid="4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4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44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7338"/>
                            </p:stCondLst>
                            <p:childTnLst>
                              <p:par>
                                <p:cTn id="11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3000"/>
                                        <p:tgtEl>
                                          <p:spTgt spid="4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3000" fill="hold"/>
                                        <p:tgtEl>
                                          <p:spTgt spid="4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000" fill="hold"/>
                                        <p:tgtEl>
                                          <p:spTgt spid="44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64238"/>
                            </p:stCondLst>
                            <p:childTnLst>
                              <p:par>
                                <p:cTn id="12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3000"/>
                                        <p:tgtEl>
                                          <p:spTgt spid="4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3000" fill="hold"/>
                                        <p:tgtEl>
                                          <p:spTgt spid="4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44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71138"/>
                            </p:stCondLst>
                            <p:childTnLst>
                              <p:par>
                                <p:cTn id="12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4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4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44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77438"/>
                            </p:stCondLst>
                            <p:childTnLst>
                              <p:par>
                                <p:cTn id="1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3000"/>
                                        <p:tgtEl>
                                          <p:spTgt spid="4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4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000" fill="hold"/>
                                        <p:tgtEl>
                                          <p:spTgt spid="44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84338"/>
                            </p:stCondLst>
                            <p:childTnLst>
                              <p:par>
                                <p:cTn id="13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3000"/>
                                        <p:tgtEl>
                                          <p:spTgt spid="4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3000" fill="hold"/>
                                        <p:tgtEl>
                                          <p:spTgt spid="4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3000" fill="hold"/>
                                        <p:tgtEl>
                                          <p:spTgt spid="44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91238"/>
                            </p:stCondLst>
                            <p:childTnLst>
                              <p:par>
                                <p:cTn id="14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3000"/>
                                        <p:tgtEl>
                                          <p:spTgt spid="4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3000" fill="hold"/>
                                        <p:tgtEl>
                                          <p:spTgt spid="4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000" fill="hold"/>
                                        <p:tgtEl>
                                          <p:spTgt spid="444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97238"/>
                            </p:stCondLst>
                            <p:childTnLst>
                              <p:par>
                                <p:cTn id="150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3000"/>
                                        <p:tgtEl>
                                          <p:spTgt spid="4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3000" fill="hold"/>
                                        <p:tgtEl>
                                          <p:spTgt spid="4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444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03538"/>
                            </p:stCondLst>
                            <p:childTnLst>
                              <p:par>
                                <p:cTn id="1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3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30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Rectangle 2" descr=""/>
          <p:cNvPicPr/>
          <p:nvPr/>
        </p:nvPicPr>
        <p:blipFill>
          <a:blip r:embed="rId2"/>
          <a:stretch/>
        </p:blipFill>
        <p:spPr>
          <a:xfrm>
            <a:off x="0" y="274680"/>
            <a:ext cx="5054760" cy="114300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-360" y="1413000"/>
            <a:ext cx="380988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这是四点零八分的北京，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一片手的海洋翻动；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这是四点零八分的北京，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一声雄伟的汽笛长鸣。  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            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北京车站高大的建筑，    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突然一阵剧烈的抖动。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我双眼</a:t>
            </a:r>
            <a:r>
              <a:rPr b="0" lang="zh-CN" sz="1600" spc="-1" strike="noStrike">
                <a:solidFill>
                  <a:srgbClr val="ff0000"/>
                </a:solidFill>
                <a:latin typeface="Lucida Sans Unicode"/>
                <a:ea typeface="黑体"/>
              </a:rPr>
              <a:t>吃惊</a:t>
            </a: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地望着窗外，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不知发生了什么事情。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我的心</a:t>
            </a:r>
            <a:r>
              <a:rPr b="0" lang="zh-CN" sz="1600" spc="-1" strike="noStrike">
                <a:solidFill>
                  <a:srgbClr val="ff0000"/>
                </a:solidFill>
                <a:latin typeface="Lucida Sans Unicode"/>
                <a:ea typeface="黑体"/>
              </a:rPr>
              <a:t>骤</a:t>
            </a: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然一阵疼痛，一定是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妈妈缀扣子的针线穿透了心胸。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这时，我的心变成了一只风筝，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风筝的线绳就在妈妈手中。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线绳绷得太紧了，就要扯断了，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我不得不把头探出车厢的窗</a:t>
            </a:r>
            <a:r>
              <a:rPr b="0" lang="zh-CN" sz="1600" spc="-1" strike="noStrike">
                <a:solidFill>
                  <a:srgbClr val="ff0000"/>
                </a:solidFill>
                <a:latin typeface="Lucida Sans Unicode"/>
                <a:ea typeface="黑体"/>
              </a:rPr>
              <a:t>棂</a:t>
            </a: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。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直到这时，直到这时候，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7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Lucida Sans Unicode"/>
                <a:ea typeface="黑体"/>
              </a:rPr>
              <a:t>我才明白发生了什么事情。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7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179280" y="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朗读诗歌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 Box 5"/>
          <p:cNvSpPr/>
          <p:nvPr/>
        </p:nvSpPr>
        <p:spPr>
          <a:xfrm>
            <a:off x="5076720" y="1341360"/>
            <a:ext cx="367200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-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一阵阵告别的声浪，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就要卷走车站；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北京在我的脚下，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已经缓缓地移动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我再次向北京挥动手臂，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想一把抓住他的衣领，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然后对她大声地叫喊：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永远记着我，妈妈啊，北京！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终于抓住了什么东西，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管他是谁的手，不能松，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因为这是我的北京，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这是我的最后的北京。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968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日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6"/>
          <p:cNvSpPr/>
          <p:nvPr/>
        </p:nvSpPr>
        <p:spPr>
          <a:xfrm>
            <a:off x="1547640" y="364500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zhòu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Text Box 7"/>
          <p:cNvSpPr/>
          <p:nvPr/>
        </p:nvSpPr>
        <p:spPr>
          <a:xfrm>
            <a:off x="3708360" y="5157720"/>
            <a:ext cx="934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líng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6" name="这是四点零八分的北京[1].mp3" descr=""/>
          <p:cNvPicPr/>
          <p:nvPr/>
        </p:nvPicPr>
        <p:blipFill>
          <a:blip r:embed="rId3"/>
          <a:stretch/>
        </p:blipFill>
        <p:spPr>
          <a:xfrm>
            <a:off x="324000" y="620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5" dur="1" fill="hold"/>
                                        <p:tgtEl>
                                          <p:spTgt spid="4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16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838"/>
                            </p:stCondLst>
                            <p:childTnLst>
                              <p:par>
                                <p:cTn id="17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30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3000" fill="hold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7838"/>
                            </p:stCondLst>
                            <p:childTnLst>
                              <p:par>
                                <p:cTn id="17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3000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30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 fill="hold"/>
                                        <p:tgtEl>
                                          <p:spTgt spid="4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3238"/>
                            </p:stCondLst>
                            <p:childTnLst>
                              <p:par>
                                <p:cTn id="18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30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30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3000" fill="hold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9238"/>
                            </p:stCondLst>
                            <p:childTnLst>
                              <p:par>
                                <p:cTn id="1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3000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30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3000" fill="hold"/>
                                        <p:tgtEl>
                                          <p:spTgt spid="4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4938"/>
                            </p:stCondLst>
                            <p:childTnLst>
                              <p:par>
                                <p:cTn id="19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30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30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3000" fill="hold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27638"/>
                            </p:stCondLst>
                            <p:childTnLst>
                              <p:par>
                                <p:cTn id="20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3000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30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3000" fill="hold"/>
                                        <p:tgtEl>
                                          <p:spTgt spid="4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33338"/>
                            </p:stCondLst>
                            <p:childTnLst>
                              <p:par>
                                <p:cTn id="20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3000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3000" fill="hold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3000" fill="hold"/>
                                        <p:tgtEl>
                                          <p:spTgt spid="4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9038"/>
                            </p:stCondLst>
                            <p:childTnLst>
                              <p:par>
                                <p:cTn id="21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3000"/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3000" fill="hold"/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3000" fill="hold"/>
                                        <p:tgtEl>
                                          <p:spTgt spid="4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5038"/>
                            </p:stCondLst>
                            <p:childTnLst>
                              <p:par>
                                <p:cTn id="22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3000"/>
                                        <p:tgtEl>
                                          <p:spTgt spid="4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4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4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738"/>
                            </p:stCondLst>
                            <p:childTnLst>
                              <p:par>
                                <p:cTn id="22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3000"/>
                                        <p:tgtEl>
                                          <p:spTgt spid="4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3000" fill="hold"/>
                                        <p:tgtEl>
                                          <p:spTgt spid="4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0" fill="hold"/>
                                        <p:tgtEl>
                                          <p:spTgt spid="45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7338"/>
                            </p:stCondLst>
                            <p:childTnLst>
                              <p:par>
                                <p:cTn id="23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3000"/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3000" fill="hold"/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000" fill="hold"/>
                                        <p:tgtEl>
                                          <p:spTgt spid="4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64238"/>
                            </p:stCondLst>
                            <p:childTnLst>
                              <p:par>
                                <p:cTn id="23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3000"/>
                                        <p:tgtEl>
                                          <p:spTgt spid="4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3000" fill="hold"/>
                                        <p:tgtEl>
                                          <p:spTgt spid="4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3000" fill="hold"/>
                                        <p:tgtEl>
                                          <p:spTgt spid="45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71138"/>
                            </p:stCondLst>
                            <p:childTnLst>
                              <p:par>
                                <p:cTn id="24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3000"/>
                                        <p:tgtEl>
                                          <p:spTgt spid="4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3000" fill="hold"/>
                                        <p:tgtEl>
                                          <p:spTgt spid="4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3000" fill="hold"/>
                                        <p:tgtEl>
                                          <p:spTgt spid="45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77438"/>
                            </p:stCondLst>
                            <p:childTnLst>
                              <p:par>
                                <p:cTn id="25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3000"/>
                                        <p:tgtEl>
                                          <p:spTgt spid="4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3000" fill="hold"/>
                                        <p:tgtEl>
                                          <p:spTgt spid="4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3000" fill="hold"/>
                                        <p:tgtEl>
                                          <p:spTgt spid="45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84338"/>
                            </p:stCondLst>
                            <p:childTnLst>
                              <p:par>
                                <p:cTn id="25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3000"/>
                                        <p:tgtEl>
                                          <p:spTgt spid="4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4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3000" fill="hold"/>
                                        <p:tgtEl>
                                          <p:spTgt spid="451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91238"/>
                            </p:stCondLst>
                            <p:childTnLst>
                              <p:par>
                                <p:cTn id="26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3000"/>
                                        <p:tgtEl>
                                          <p:spTgt spid="4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3000" fill="hold"/>
                                        <p:tgtEl>
                                          <p:spTgt spid="4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3000" fill="hold"/>
                                        <p:tgtEl>
                                          <p:spTgt spid="451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97238"/>
                            </p:stCondLst>
                            <p:childTnLst>
                              <p:par>
                                <p:cTn id="26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3000"/>
                                        <p:tgtEl>
                                          <p:spTgt spid="45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3000" fill="hold"/>
                                        <p:tgtEl>
                                          <p:spTgt spid="45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3000" fill="hold"/>
                                        <p:tgtEl>
                                          <p:spTgt spid="451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03538"/>
                            </p:stCondLst>
                            <p:childTnLst>
                              <p:par>
                                <p:cTn id="2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Rectangle 2" descr=""/>
          <p:cNvPicPr/>
          <p:nvPr/>
        </p:nvPicPr>
        <p:blipFill>
          <a:blip r:embed="rId2"/>
          <a:stretch/>
        </p:blipFill>
        <p:spPr>
          <a:xfrm>
            <a:off x="0" y="284040"/>
            <a:ext cx="8229600" cy="11224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本诗写于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968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日，诗中描述的是诗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968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4:08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告别家乡北京到山西插队的情形。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四点零八分的北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成了诗人个人命运的记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二）段落层次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．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节：开门见山，写           时的情景。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．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节：表达诗人对故乡和亲人        的            和离开时的          感受。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．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节：直抒自己对北京的            之情。 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．这首诗写的是什么时候的事？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．“高大的建筑突然一阵剧烈的抖动”是何意思？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．诗人把妈妈和北京叠连在一起有何蕴意？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．诗人表现的是一种什么心情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WordArt 3"/>
          <p:cNvSpPr txBox="1"/>
          <p:nvPr/>
        </p:nvSpPr>
        <p:spPr>
          <a:xfrm>
            <a:off x="755640" y="476280"/>
            <a:ext cx="1828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57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读后思考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Text Box 2"/>
          <p:cNvSpPr/>
          <p:nvPr/>
        </p:nvSpPr>
        <p:spPr>
          <a:xfrm>
            <a:off x="793800" y="100188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阅读诗歌，整理每节的内容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Text Box 3"/>
          <p:cNvSpPr/>
          <p:nvPr/>
        </p:nvSpPr>
        <p:spPr>
          <a:xfrm>
            <a:off x="1251000" y="214488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四点零八分的北京          告别北京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Text Box 5"/>
          <p:cNvSpPr/>
          <p:nvPr/>
        </p:nvSpPr>
        <p:spPr>
          <a:xfrm>
            <a:off x="1251000" y="28306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火车开动离京                  迷惘失落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6"/>
          <p:cNvSpPr/>
          <p:nvPr/>
        </p:nvSpPr>
        <p:spPr>
          <a:xfrm>
            <a:off x="1403280" y="374508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8"/>
          <p:cNvSpPr/>
          <p:nvPr/>
        </p:nvSpPr>
        <p:spPr>
          <a:xfrm>
            <a:off x="1251000" y="35164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幻觉叠合                          眷恋母爱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9"/>
          <p:cNvSpPr/>
          <p:nvPr/>
        </p:nvSpPr>
        <p:spPr>
          <a:xfrm>
            <a:off x="1251000" y="42022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告别亲人                          回归现实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Text Box 10"/>
          <p:cNvSpPr/>
          <p:nvPr/>
        </p:nvSpPr>
        <p:spPr>
          <a:xfrm>
            <a:off x="1251000" y="496404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物我颠倒                          漂泊无依 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 Box 11"/>
          <p:cNvSpPr/>
          <p:nvPr/>
        </p:nvSpPr>
        <p:spPr>
          <a:xfrm>
            <a:off x="1251000" y="557388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依恋北京                    惶惑无助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2"/>
          <p:cNvSpPr/>
          <p:nvPr/>
        </p:nvSpPr>
        <p:spPr>
          <a:xfrm>
            <a:off x="457200" y="45720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Times New Roman"/>
              </a:rPr>
              <a:t>诗人的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</a:rPr>
              <a:t>情感思路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 Box 3"/>
          <p:cNvSpPr/>
          <p:nvPr/>
        </p:nvSpPr>
        <p:spPr>
          <a:xfrm>
            <a:off x="762120" y="152388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迷惘、恐惧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不知发生了什么事情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Line 4"/>
          <p:cNvSpPr/>
          <p:nvPr/>
        </p:nvSpPr>
        <p:spPr>
          <a:xfrm>
            <a:off x="4067280" y="24210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 Box 5"/>
          <p:cNvSpPr/>
          <p:nvPr/>
        </p:nvSpPr>
        <p:spPr>
          <a:xfrm>
            <a:off x="990720" y="36576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震惊、绝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我才明白发生了什么事情）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 Box 6"/>
          <p:cNvSpPr/>
          <p:nvPr/>
        </p:nvSpPr>
        <p:spPr>
          <a:xfrm>
            <a:off x="685800" y="472428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全诗把诗人对故乡家人的留恋，对自己现状和未来的惶惑和无助表现得深刻彻底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6" name="标题 1" descr=""/>
          <p:cNvPicPr/>
          <p:nvPr/>
        </p:nvPicPr>
        <p:blipFill>
          <a:blip r:embed="rId2"/>
          <a:stretch/>
        </p:blipFill>
        <p:spPr>
          <a:xfrm>
            <a:off x="0" y="284040"/>
            <a:ext cx="8229600" cy="11224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了解诗人食指及其本诗的写作背景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理解诗句的含意及其主旨；体会本诗的语言特点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理解诗人独特地内心感受，培养热爱家乡的真挚感情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善于通过主观感受表达内心的强烈震动；善于把握特定瞬间的景物感受进行描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Rectangle 2" descr=""/>
          <p:cNvPicPr/>
          <p:nvPr/>
        </p:nvPicPr>
        <p:blipFill>
          <a:blip r:embed="rId2"/>
          <a:stretch/>
        </p:blipFill>
        <p:spPr>
          <a:xfrm>
            <a:off x="0" y="274680"/>
            <a:ext cx="5985000" cy="114300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火车即将离开车站，许多送行的人在和即将远去的亲人告别，在诗人看来，是告别的声浪如同要卷走车站，表明送行的人很多；后两句本应是火车缓缓地移动，但诗人用一种物我颠倒的错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——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北京在我的脚下，已经缓缓地移动。”传达出心声：脚下的大地仿佛被掏空，自己要被北京、被故乡抛弃，此后将到异地漂泊谋生。写出诗人的失落伤感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2"/>
          <p:cNvSpPr/>
          <p:nvPr/>
        </p:nvSpPr>
        <p:spPr>
          <a:xfrm>
            <a:off x="762120" y="60948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全诗主题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Text Box 3"/>
          <p:cNvSpPr/>
          <p:nvPr/>
        </p:nvSpPr>
        <p:spPr>
          <a:xfrm>
            <a:off x="826920" y="1701720"/>
            <a:ext cx="7315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本诗通过描写了诗人告别北京时的悲凉场面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把远离父母、家乡的惜别之情，对未来命运的忧虑和恐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都汇聚到“四点零八分的北京”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这一瞬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见证了那段不堪回首的历史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通过对火车开动这一特定场景的描绘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表达了诗人对故乡和亲人的依恋之情。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Rectangle 2" descr=""/>
          <p:cNvPicPr/>
          <p:nvPr/>
        </p:nvPicPr>
        <p:blipFill>
          <a:blip r:embed="rId2"/>
          <a:stretch/>
        </p:blipFill>
        <p:spPr>
          <a:xfrm>
            <a:off x="0" y="274680"/>
            <a:ext cx="7210440" cy="114300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 txBox="1"/>
          <p:nvPr/>
        </p:nvSpPr>
        <p:spPr>
          <a:xfrm>
            <a:off x="0" y="1413000"/>
            <a:ext cx="77724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词语运用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语言朴实，亲切自然。如“妈妈缀扣子的针线穿透了心胸”，“风筝的线绳就在母亲的手中”淳朴的语句中含蓄地表达了作者的感情。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中心表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文章通过对火车开动这一特定场景的描绘，表达了诗人对故乡和亲人的依恋之情。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表达方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诗人通过对火车在四点零八分开动这一历史瞬间的放大，表达了对历史的深刻反思，通过对个人遭际的速写式的记录，见证了那段不堪回首的历史。</a:t>
            </a:r>
            <a:br>
              <a:rPr sz="2800"/>
            </a:br>
            <a:br>
              <a:rPr sz="2800"/>
            </a:b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写作借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：诗人运用拟人、比喻等修辞来表达对故土的留恋。如“北京在我的脚下，已经缓缓地移动。”“永远记着我，妈妈啊北京！”这样能增强诗歌的感染力，这是同学们需学习借鉴的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0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2"/>
          <p:cNvSpPr/>
          <p:nvPr/>
        </p:nvSpPr>
        <p:spPr>
          <a:xfrm>
            <a:off x="324000" y="909720"/>
            <a:ext cx="85406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be0e3"/>
                </a:solidFill>
                <a:latin typeface="Times New Roman"/>
              </a:rPr>
              <a:t>表达方式：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bbe0e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be0e3"/>
                </a:solidFill>
                <a:latin typeface="Times New Roman"/>
              </a:rPr>
              <a:t>诗人通过对火车在四点零八分开动这一历史瞬间的放大，（细节刻画）表达了对历史的深刻反思，通过对个人遭际的速写式的记录，见证了那段不堪回首的历史。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Rectangle 2" descr=""/>
          <p:cNvPicPr/>
          <p:nvPr/>
        </p:nvPicPr>
        <p:blipFill>
          <a:blip r:embed="rId2"/>
          <a:stretch/>
        </p:blipFill>
        <p:spPr>
          <a:xfrm>
            <a:off x="0" y="287280"/>
            <a:ext cx="8229600" cy="11160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 txBox="1"/>
          <p:nvPr/>
        </p:nvSpPr>
        <p:spPr>
          <a:xfrm>
            <a:off x="-360" y="1699920"/>
            <a:ext cx="932508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7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300" spc="-1" strike="noStrike">
                <a:solidFill>
                  <a:srgbClr val="ff0000"/>
                </a:solidFill>
                <a:latin typeface="Arial"/>
                <a:ea typeface="黑体"/>
              </a:rPr>
              <a:t>欣赏食指</a:t>
            </a:r>
            <a:r>
              <a:rPr b="1" lang="en-US" sz="4300" spc="-1" strike="noStrike">
                <a:solidFill>
                  <a:srgbClr val="ff0000"/>
                </a:solidFill>
                <a:latin typeface="Arial"/>
                <a:ea typeface="黑体"/>
              </a:rPr>
              <a:t>《</a:t>
            </a:r>
            <a:r>
              <a:rPr b="1" lang="zh-CN" sz="4300" spc="-1" strike="noStrike">
                <a:solidFill>
                  <a:srgbClr val="ff0000"/>
                </a:solidFill>
                <a:latin typeface="Arial"/>
                <a:ea typeface="黑体"/>
              </a:rPr>
              <a:t>相信未来</a:t>
            </a:r>
            <a:r>
              <a:rPr b="1" lang="en-US" sz="4300" spc="-1" strike="noStrike">
                <a:solidFill>
                  <a:srgbClr val="ff0000"/>
                </a:solidFill>
                <a:latin typeface="Arial"/>
                <a:ea typeface="黑体"/>
              </a:rPr>
              <a:t>》</a:t>
            </a:r>
            <a:r>
              <a:rPr b="1" lang="zh-CN" sz="4300" spc="-1" strike="noStrike">
                <a:solidFill>
                  <a:srgbClr val="ff0000"/>
                </a:solidFill>
                <a:latin typeface="Arial"/>
                <a:ea typeface="黑体"/>
              </a:rPr>
              <a:t>，并回答问题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4" descr="2007092008511789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59280" y="2565360"/>
            <a:ext cx="2857680" cy="40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0" dur="50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Group 2"/>
          <p:cNvGrpSpPr/>
          <p:nvPr/>
        </p:nvGrpSpPr>
        <p:grpSpPr>
          <a:xfrm>
            <a:off x="184320" y="-1257480"/>
            <a:ext cx="8778600" cy="360"/>
            <a:chOff x="184320" y="-1257480"/>
            <a:chExt cx="8778600" cy="360"/>
          </a:xfrm>
        </p:grpSpPr>
        <p:sp>
          <p:nvSpPr>
            <p:cNvPr id="486" name="Rectangle 3"/>
            <p:cNvSpPr/>
            <p:nvPr/>
          </p:nvSpPr>
          <p:spPr>
            <a:xfrm>
              <a:off x="184320" y="-1257480"/>
              <a:ext cx="8778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Rectangle 4"/>
            <p:cNvSpPr/>
            <p:nvPr/>
          </p:nvSpPr>
          <p:spPr>
            <a:xfrm>
              <a:off x="184320" y="-1257480"/>
              <a:ext cx="8778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8" name="Rectangle 5"/>
          <p:cNvSpPr/>
          <p:nvPr/>
        </p:nvSpPr>
        <p:spPr>
          <a:xfrm>
            <a:off x="0" y="0"/>
            <a:ext cx="480060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bbe0e3"/>
                </a:solidFill>
                <a:latin typeface="Times New Roman"/>
              </a:rPr>
              <a:t>相信未来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蜘蛛网无情地查封了我的炉台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灰烬的余烟叹息着贫困的悲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依然固执地铺平失望的灰烬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美丽的雪花写下：相信未来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我的紫葡萄化为深秋的露水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当我的鲜花依偎在别人的情怀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依然固执地用凝霜的枯藤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凄凉的大地上写下：相信未来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要用手指那涌向天边的排浪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要用手撑那托住太阳的大海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摇曳着曙光那枝温暖漂亮的笔杆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用孩子的笔体写下：相信未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之所以坚定地相信未来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Rectangle 6"/>
          <p:cNvSpPr/>
          <p:nvPr/>
        </p:nvSpPr>
        <p:spPr>
          <a:xfrm>
            <a:off x="5333040" y="0"/>
            <a:ext cx="31068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我相信未来人们的眼睛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她有拨开历史风尘的睫毛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她有看透岁月篇章的瞳孔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不管人们对于我们腐烂的皮肉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那些迷途的惆怅、失败的苦痛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寄予感动的热泪、深切的同情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还是给以轻蔑的微笑、辛辣的嘲讽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坚信人们对于我们的脊骨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那无数次的探索、迷途、失败和成功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定会给予热情、客观、公正的评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的，我焦急地等待着他们的评定</a:t>
            </a:r>
            <a:br>
              <a:rPr sz="2400"/>
            </a:b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朋友，坚定地相信未来吧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信不屈不挠的努力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信战胜死亡的年轻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相信未来、热爱生命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Line 7"/>
          <p:cNvSpPr/>
          <p:nvPr/>
        </p:nvSpPr>
        <p:spPr>
          <a:xfrm>
            <a:off x="434340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2"/>
          <p:cNvSpPr/>
          <p:nvPr/>
        </p:nvSpPr>
        <p:spPr>
          <a:xfrm>
            <a:off x="685800" y="533520"/>
            <a:ext cx="7848720" cy="1352880"/>
          </a:xfrm>
          <a:prstGeom prst="rect">
            <a:avLst/>
          </a:prstGeom>
          <a:solidFill>
            <a:srgbClr val="eeee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3199320" tIns="206280" bIns="171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808080"/>
                </a:solidFill>
                <a:latin typeface="Times New Roman"/>
              </a:rPr>
              <a:t>每每读此诗，那荡气回肠的感觉伴随着油然而生的勇气，令我不顾一切的吼出来，用声嘶力竭的咆哮宣泄一往无前的悲愤。每每读完此诗，那惊天地，泣鬼神的诗句在翻腾激扬彭湃的心绪后，又带给我无畏的缄默。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Picture 4" descr="1111642766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34120" y="1371600"/>
            <a:ext cx="297180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Rectangle 2" descr=""/>
          <p:cNvPicPr/>
          <p:nvPr/>
        </p:nvPicPr>
        <p:blipFill>
          <a:blip r:embed="rId2"/>
          <a:stretch/>
        </p:blipFill>
        <p:spPr>
          <a:xfrm>
            <a:off x="0" y="274680"/>
            <a:ext cx="3460680" cy="11430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3" descr="thumb_5739f2362b977cf2b6d8c5c1f67201fd"/>
          <p:cNvPicPr/>
          <p:nvPr/>
        </p:nvPicPr>
        <p:blipFill>
          <a:blip r:embed="rId3"/>
          <a:stretch/>
        </p:blipFill>
        <p:spPr>
          <a:xfrm>
            <a:off x="5076720" y="3429000"/>
            <a:ext cx="3924360" cy="33242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" descr="500_rTiNYVOo"/>
          <p:cNvPicPr/>
          <p:nvPr/>
        </p:nvPicPr>
        <p:blipFill>
          <a:blip r:embed="rId4"/>
          <a:stretch/>
        </p:blipFill>
        <p:spPr>
          <a:xfrm>
            <a:off x="216000" y="3357720"/>
            <a:ext cx="3564000" cy="33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Picture 2" descr="2006122610451919"/>
          <p:cNvPicPr/>
          <p:nvPr/>
        </p:nvPicPr>
        <p:blipFill>
          <a:blip r:embed="rId2"/>
          <a:stretch/>
        </p:blipFill>
        <p:spPr>
          <a:xfrm>
            <a:off x="250920" y="351000"/>
            <a:ext cx="8207280" cy="615600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3"/>
          <p:cNvSpPr/>
          <p:nvPr/>
        </p:nvSpPr>
        <p:spPr>
          <a:xfrm>
            <a:off x="2411280" y="5661000"/>
            <a:ext cx="47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青山遮不住，毕竟东流去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Rectangle 2" descr=""/>
          <p:cNvPicPr/>
          <p:nvPr/>
        </p:nvPicPr>
        <p:blipFill>
          <a:blip r:embed="rId2"/>
          <a:stretch/>
        </p:blipFill>
        <p:spPr>
          <a:xfrm>
            <a:off x="0" y="284040"/>
            <a:ext cx="8229600" cy="112248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反复朗诵此诗，加深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、预习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外国诗两首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WordArt 4"/>
          <p:cNvSpPr txBox="1"/>
          <p:nvPr/>
        </p:nvSpPr>
        <p:spPr>
          <a:xfrm>
            <a:off x="2411280" y="3789360"/>
            <a:ext cx="2718000" cy="13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9069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大家！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重点：理解诗人要表达的思想感情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难点：诗歌的主题比较深刻而含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2"/>
          <a:stretch/>
        </p:blipFill>
        <p:spPr>
          <a:xfrm>
            <a:off x="0" y="274680"/>
            <a:ext cx="172404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Rectangle 2" descr=""/>
          <p:cNvPicPr/>
          <p:nvPr/>
        </p:nvPicPr>
        <p:blipFill>
          <a:blip r:embed="rId2"/>
          <a:stretch/>
        </p:blipFill>
        <p:spPr>
          <a:xfrm>
            <a:off x="0" y="284040"/>
            <a:ext cx="8229600" cy="11224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一、导入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分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二、作者作品介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分钟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三、时代背景简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分钟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四、朗读课文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分钟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五、分析课文，教学重点解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分钟，六、语言分析，教学难点突破思考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七、拓展练习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分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WordArt 2"/>
          <p:cNvSpPr txBox="1"/>
          <p:nvPr/>
        </p:nvSpPr>
        <p:spPr>
          <a:xfrm>
            <a:off x="1371600" y="1981080"/>
            <a:ext cx="6095880" cy="19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宋体"/>
              </a:rPr>
              <a:t>文化大革命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684360" y="333360"/>
            <a:ext cx="237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时代背景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2" descr="2"/>
          <p:cNvPicPr/>
          <p:nvPr/>
        </p:nvPicPr>
        <p:blipFill>
          <a:blip r:embed="rId2"/>
          <a:stretch/>
        </p:blipFill>
        <p:spPr>
          <a:xfrm>
            <a:off x="0" y="-60480"/>
            <a:ext cx="9144000" cy="682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Rectangle 2" descr=""/>
          <p:cNvPicPr/>
          <p:nvPr/>
        </p:nvPicPr>
        <p:blipFill>
          <a:blip r:embed="rId2"/>
          <a:stretch/>
        </p:blipFill>
        <p:spPr>
          <a:xfrm>
            <a:off x="0" y="284040"/>
            <a:ext cx="8229600" cy="11224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牛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干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知青下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dc:language>en-US</dc:language>
  <cp:lastModifiedBy>USER</cp:lastModifiedBy>
  <dcterms:modified xsi:type="dcterms:W3CDTF">2016-04-12T18:55:15Z</dcterms:modified>
  <cp:revision>0</cp:revision>
  <dc:subject> </dc:subject>
  <dc:title> </dc:title>
</cp:coreProperties>
</file>