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8.jpeg" ContentType="image/jpeg"/>
  <Override PartName="/ppt/media/image29.jpeg" ContentType="image/jpeg"/>
  <Override PartName="/ppt/media/whoosh.wav" ContentType="audio/x-wav"/>
  <Override PartName="/ppt/media/image26.jpeg" ContentType="image/jpeg"/>
  <Override PartName="/ppt/media/image32.jpeg" ContentType="image/jpeg"/>
  <Override PartName="/ppt/media/image5.jpeg" ContentType="image/jpeg"/>
  <Override PartName="/ppt/media/image13.gif" ContentType="image/gif"/>
  <Override PartName="/ppt/media/chimes.wav" ContentType="audio/x-wav"/>
  <Override PartName="/ppt/media/image16.jpeg" ContentType="image/jpeg"/>
  <Override PartName="/ppt/media/image27.jpeg" ContentType="image/jpeg"/>
  <Override PartName="/ppt/media/image10.png" ContentType="image/png"/>
  <Override PartName="/ppt/media/image28.gif" ContentType="image/gif"/>
  <Override PartName="/ppt/media/image14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CAMERA.WAV" ContentType="audio/x-wav"/>
  <Override PartName="/ppt/media/image6.jpeg" ContentType="image/jpeg"/>
  <Override PartName="/ppt/media/type.wav" ContentType="audio/x-wav"/>
  <Override PartName="/ppt/media/image9.jpeg" ContentType="image/jpeg"/>
  <Override PartName="/ppt/media/image11.jpeg" ContentType="image/jpeg"/>
  <Override PartName="/ppt/media/image1.png" ContentType="image/png"/>
  <Override PartName="/ppt/media/image12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5A7C-9A5C-4C45-BC2E-A7AAD7B17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1F17-A64B-40EC-89A2-0B7B453A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8958-914A-4FA8-96CF-379E3DCE2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7BE6-94EE-4CB2-B7D4-D804B9A69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294D8-D2F9-4454-A600-D246A660C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D6C40-DD74-4B9A-867A-41F6B335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E994-8959-4565-909E-D0C3ADA7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E551-B940-47FD-A3DF-3FA36AD6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0BB3-68CC-4B39-BC79-7B2BEEC2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DADC-A87B-437B-8450-EB9567FE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CF35-8F5E-4701-B0E1-3472C0C3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6CB6-68F9-4A92-9514-7DAEA64C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7EAC-F531-40D6-92BC-706EDEFD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232D-6925-4EFD-86E7-77C0A9AF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2ED8-A93B-4B85-8F89-EEE5B147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68D35-4873-4C4E-8541-84909A06D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5DA97-5119-4AE4-9F2B-D6686FACF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32C08-66EA-451A-B3DB-F12A8E416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19AAD-1531-4922-9053-620B111D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A3B6F-E917-4B94-9785-750453A0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91F5E-3D55-4E88-8697-B735D64B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D95BF-1EA2-44BD-96CE-8EBF55CC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C447-0368-4E36-A446-8EC14A46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310BA-52D1-4F0A-9E4E-033E60DC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AF867-E893-4F92-8502-FE1C6FF3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E5265-25DE-4A61-8038-F5F7F022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DFBCB-87E1-445A-B875-2F18B450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F4449-EA67-45AB-8308-267B0BC6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82C4E-EA0D-4B29-A1FD-1759C6E29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56F08-B3E0-40E1-92B1-678C8DF8D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2C624-1094-42B1-B61E-F0F392A4F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FC996-74C6-4BD4-8C26-E28FF47B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0253A-DD5C-4880-B7D4-56897EE2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6BDD-BAD8-4B9A-89A9-C5180181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F194D-760B-46DE-A88C-1F79F783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985D8-14BB-4F88-A27E-668C4568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F29D5-7F05-4918-9642-BE488253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C2859-CE4C-4AF4-9A97-0DB4042C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00269-07D8-442D-BD55-418D126F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7208A-9B1F-49E9-AFF7-FC563397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9332E-DE77-4A00-81A0-F3CB0422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48F2B-9C7F-4BAE-A231-7EB73BCA8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B567B-F445-4B28-97A1-EB0E58BC2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4B09-3572-4BF0-9547-976388FB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9DC3-9F9C-4D74-98F4-0F54E730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DF75-7D9C-462D-85E4-59EAFA35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15D6-35EF-40EA-9090-4F55C8A4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F69C-A773-4B3B-84A4-2F91D51A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4C21-6CAF-4318-879C-F154A6BC73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42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4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5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6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9EA2-97D7-4CED-AC5F-B86A9F30C16A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46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47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2B6F-A66D-4B53-83B8-ABC12C3398D2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161F-BAB6-4C18-8BC2-8D15966421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image" Target="../media/image2.png"/><Relationship Id="rId4" Type="http://schemas.openxmlformats.org/officeDocument/2006/relationships/audio" Target="../media/type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audio" Target="../media/type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whoosh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19.xml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24.jpe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9.xml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8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whoosh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audio" Target="../media/type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type.wav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whoosh.wav"/><Relationship Id="rId6" Type="http://schemas.openxmlformats.org/officeDocument/2006/relationships/audio" Target="../media/CAMERA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audio" Target="../media/chimes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304920" y="228600"/>
            <a:ext cx="8569080" cy="18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展示华夏文化魅力</a:t>
            </a:r>
            <a:endParaRPr b="1" lang="en-US" sz="6600" spc="1" strike="noStrike">
              <a:ln w="9360">
                <a:solidFill>
                  <a:srgbClr val="ffcc99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292" name=""/>
          <p:cNvSpPr/>
          <p:nvPr/>
        </p:nvSpPr>
        <p:spPr>
          <a:xfrm>
            <a:off x="5853960" y="3276720"/>
            <a:ext cx="219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800000"/>
                </a:solidFill>
                <a:latin typeface="Arial"/>
                <a:ea typeface="隶书"/>
              </a:rPr>
              <a:t>——</a:t>
            </a:r>
            <a:r>
              <a:rPr b="0" lang="zh-CN" sz="6000" spc="-1" strike="noStrike">
                <a:solidFill>
                  <a:srgbClr val="800000"/>
                </a:solidFill>
                <a:latin typeface="Arial"/>
                <a:ea typeface="隶书"/>
              </a:rPr>
              <a:t>余玮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19720" y="5257800"/>
            <a:ext cx="4495680" cy="1343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447920" y="1219320"/>
            <a:ext cx="6858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中国银行总部大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肯尼迪图书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华盛顿国家艺术馆东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巴黎罗浮宫玻璃金字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5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香山饭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6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香港中国银行大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7238880" y="5334120"/>
            <a:ext cx="1905120" cy="152388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380880" y="0"/>
            <a:ext cx="838224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速读课文，请同学们找出贝聿铭在建筑设计方面的主要成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xidan11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6985080" cy="530856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1752480" y="5730480"/>
            <a:ext cx="64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中国银行总部大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4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7924680" cy="46814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2723040" y="5058720"/>
            <a:ext cx="332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.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肯尼迪图书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4064040" cy="520704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4800600" y="457200"/>
            <a:ext cx="4064040" cy="309888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724280" y="4586400"/>
            <a:ext cx="44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华盛顿国家艺术馆东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3504960" cy="266724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5029200" y="1752480"/>
            <a:ext cx="4114800" cy="373248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0" y="289548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6243840" y="3049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罗浮宫玻璃金字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290640" y="4267080"/>
            <a:ext cx="190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5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香山饭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3657600" y="152280"/>
            <a:ext cx="4572000" cy="319896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4876920" cy="3429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2916360" y="0"/>
            <a:ext cx="503208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308880" y="762120"/>
            <a:ext cx="13993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6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香港中国银行大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0" y="3505320"/>
            <a:ext cx="9144000" cy="28080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826920" y="384120"/>
            <a:ext cx="7560000" cy="18104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33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研读第二部分：在非议之中屡创建筑奇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一部分写了贝聿铭在建筑设计上的突出成就，作者从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正面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侧面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描写了贝聿铭具有世界影响的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座建筑物的设计和建造。分别找出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正面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侧面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描写的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0" y="3657600"/>
            <a:ext cx="2979720" cy="20588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685800" y="5661000"/>
            <a:ext cx="2878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肯尼迪图书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200400" y="5715000"/>
            <a:ext cx="26668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华盛顿国家艺术馆</a:t>
            </a:r>
            <a:r>
              <a:rPr b="1" lang="zh-CN" sz="2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248520" y="5715000"/>
            <a:ext cx="26668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罗浮宫玻璃金字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5"/>
          <a:stretch/>
        </p:blipFill>
        <p:spPr>
          <a:xfrm>
            <a:off x="6172200" y="3581280"/>
            <a:ext cx="2798640" cy="205452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6"/>
          <a:stretch/>
        </p:blipFill>
        <p:spPr>
          <a:xfrm>
            <a:off x="3048120" y="3581280"/>
            <a:ext cx="2985840" cy="20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11280" y="1371600"/>
            <a:ext cx="813744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正面：“使贝聿铭声名远扬、济身世界级建筑大师行列”，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见这一作品的水平之高。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设计新颖、造型大胆、技术高超”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它的主要特点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侧面：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肯尼迪遗孀杰奎琳的评价</a:t>
            </a: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——“贝聿铭的唯美世界，无人可与之相比”，可见其艺术性之高。“在美国建筑界引起了轰动，被公认是美国建筑史上的最佳杰作之一”“贝聿铭年”“美国建筑学院金质奖章”，都说明了这一作品的成就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>
            <a:hlinkClick r:id="rId1" action="ppaction://hlinksldjump"/>
          </p:cNvPr>
          <p:cNvSpPr/>
          <p:nvPr/>
        </p:nvSpPr>
        <p:spPr>
          <a:xfrm>
            <a:off x="8388360" y="6237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900000" y="588960"/>
            <a:ext cx="410364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华文新魏"/>
                <a:ea typeface="华文新魏"/>
              </a:rPr>
              <a:t>肯尼迪图书馆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609480" y="1295280"/>
            <a:ext cx="8379000" cy="329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正面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座建筑物的最大特点是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同周围环境构成高度谐调的景色”。“给人以变幻莫测的感觉”“映照出一幅美丽的图画” 等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侧面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国总统卡特的称赞：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是对建筑物的评价——“是华盛顿市和谐而周全的一部分”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是对它作用的评价——“公众生活与艺术情趣之间日益增强联系的象征”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三是对贝聿铭的评价——“不可多得的杰出建筑师”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>
            <a:hlinkClick r:id="rId2" action="ppaction://hlinksldjump"/>
          </p:cNvPr>
          <p:cNvSpPr/>
          <p:nvPr/>
        </p:nvSpPr>
        <p:spPr>
          <a:xfrm>
            <a:off x="8459640" y="6237360"/>
            <a:ext cx="433440" cy="47628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476280"/>
              <a:gd name="textAreaBottom" fmla="*/ 448200 h 476280"/>
            </a:gdLst>
            <a:ahLst/>
            <a:rect l="textAreaLeft" t="textAreaTop" r="textAreaRight" b="textAreaBottom"/>
            <a:pathLst>
              <a:path w="21600" h="23733">
                <a:moveTo>
                  <a:pt x="0" y="0"/>
                </a:moveTo>
                <a:lnTo>
                  <a:pt x="21600" y="0"/>
                </a:lnTo>
                <a:lnTo>
                  <a:pt x="21600" y="23733"/>
                </a:lnTo>
                <a:lnTo>
                  <a:pt x="0" y="23733"/>
                </a:lnTo>
                <a:close/>
              </a:path>
              <a:path fill="lightenLess" w="21600" h="237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33">
                <a:moveTo>
                  <a:pt x="21600" y="0"/>
                </a:moveTo>
                <a:lnTo>
                  <a:pt x="21600" y="23733"/>
                </a:lnTo>
                <a:lnTo>
                  <a:pt x="20200" y="22333"/>
                </a:lnTo>
                <a:lnTo>
                  <a:pt x="20200" y="1400"/>
                </a:lnTo>
                <a:close/>
              </a:path>
              <a:path fill="darkenLess" w="21600" h="23733">
                <a:moveTo>
                  <a:pt x="21600" y="23733"/>
                </a:moveTo>
                <a:lnTo>
                  <a:pt x="0" y="23733"/>
                </a:lnTo>
                <a:lnTo>
                  <a:pt x="1400" y="22333"/>
                </a:lnTo>
                <a:lnTo>
                  <a:pt x="20200" y="22333"/>
                </a:lnTo>
                <a:close/>
              </a:path>
              <a:path fill="lighten" w="21600" h="23733">
                <a:moveTo>
                  <a:pt x="0" y="237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33"/>
                </a:lnTo>
                <a:close/>
              </a:path>
              <a:path fill="darken" w="21600" h="23733">
                <a:moveTo>
                  <a:pt x="7301" y="11867"/>
                </a:moveTo>
                <a:lnTo>
                  <a:pt x="17806" y="4860"/>
                </a:lnTo>
                <a:lnTo>
                  <a:pt x="17806" y="18873"/>
                </a:lnTo>
                <a:close/>
              </a:path>
              <a:path fill="darken" w="21600" h="23733">
                <a:moveTo>
                  <a:pt x="3794" y="4860"/>
                </a:moveTo>
                <a:lnTo>
                  <a:pt x="5456" y="4860"/>
                </a:lnTo>
                <a:lnTo>
                  <a:pt x="5456" y="18873"/>
                </a:lnTo>
                <a:lnTo>
                  <a:pt x="3794" y="18873"/>
                </a:lnTo>
                <a:close/>
              </a:path>
            </a:pathLst>
          </a:cu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09480" y="304920"/>
            <a:ext cx="532944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华文新魏"/>
                <a:ea typeface="华文新魏"/>
              </a:rPr>
              <a:t>华盛顿国家艺术馆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454680"/>
            <a:ext cx="33530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66"/>
                </a:solidFill>
                <a:latin typeface="Verdana"/>
              </a:rPr>
              <a:t>贝  聿  铭</a:t>
            </a:r>
            <a:endParaRPr b="0" lang="en-US" sz="5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609120" y="1904760"/>
            <a:ext cx="2667240" cy="41907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5802480" y="685800"/>
            <a:ext cx="3341520" cy="55450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3581280" y="1905120"/>
            <a:ext cx="1954440" cy="47973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0" y="1905120"/>
            <a:ext cx="3314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539640" y="765000"/>
            <a:ext cx="6840720" cy="348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正面：“法国密特朗时代最辉煌的建筑”“公认为当代建筑艺术最伟大的奇迹”“位列‘当代建筑的十大奇迹’之首”，可见这一设计的艺术价值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侧面：“法国政府广泛征求设计方案”。“应征者都是”“著名建筑师”，“世界上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5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声誉卓著的博物馆馆长对应征的设计方案进选抉择”，可见竞争之激烈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3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位馆长选择了贝聿铭的设计方案”，然后写密特朗总统的力排众议、获得“普茨克奖”，则是对这一方案的最好肯定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罗浮宫院内飞来了一颗巨大的宝石”，则是公众现在的评价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983360" y="476280"/>
            <a:ext cx="5493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6816960" y="692280"/>
            <a:ext cx="1642680" cy="518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隶书"/>
                <a:ea typeface="隶书"/>
              </a:rPr>
              <a:t>罗浮宫玻璃金字塔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5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71560" y="615600"/>
            <a:ext cx="62913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9900"/>
                </a:solidFill>
                <a:latin typeface="Verdana"/>
                <a:ea typeface="隶书"/>
              </a:rPr>
              <a:t>思考并讨论：</a:t>
            </a:r>
            <a:endParaRPr b="0" lang="en-US" sz="6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贝聿铭设计的建筑物类型多、范围广，为什么要对这几个建筑进行如此详尽的介绍呢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"/>
          <p:cNvSpPr/>
          <p:nvPr/>
        </p:nvSpPr>
        <p:spPr>
          <a:xfrm>
            <a:off x="457200" y="4572000"/>
            <a:ext cx="8305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a0000"/>
                </a:solidFill>
                <a:latin typeface="Verdana"/>
              </a:rPr>
              <a:t>这几座建筑物，是他在建筑设计上最突出的成就，也是具有世界影响的几座建筑，它们的设计和建造，证明贝聿铭“是当之无愧的世界著名建筑大师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5" dur="75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71200" y="615600"/>
            <a:ext cx="8163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6633"/>
                </a:solidFill>
                <a:latin typeface="Verdana"/>
                <a:ea typeface="隶书"/>
              </a:rPr>
              <a:t>思考并讨论：</a:t>
            </a:r>
            <a:endParaRPr b="0" lang="en-US" sz="6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52280" y="281916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既然是介绍贝聿铭和他设计的建筑，为什么会以“展示华夏文化魅力”为本文的标题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2727360" y="238752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22669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深刻含义：艺术属于文化的范畴，贝聿铭建筑设计的独特之处就在于他在设计中融进了中国——华夏建筑艺术的精华，他向世界展示的是建筑的艺术，是华夏文化的魅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09680" cy="1905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71560" y="617400"/>
            <a:ext cx="427680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9900"/>
                </a:solidFill>
                <a:latin typeface="Times New Roman"/>
                <a:ea typeface="隶书"/>
              </a:rPr>
              <a:t>课外欣赏：</a:t>
            </a:r>
            <a:endParaRPr b="0" lang="en-US" sz="6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962520" y="2437920"/>
            <a:ext cx="4687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贝聿铭设计的其他的建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151920" y="1905120"/>
            <a:ext cx="2667240" cy="274320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152280" y="1905120"/>
            <a:ext cx="3429000" cy="3200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0" y="274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jianzhu88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209080" cy="480204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2015640" y="5512680"/>
            <a:ext cx="503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路思义教堂，造型独特的精神家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0" y="233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jianzhu12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4456080" cy="652464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6031080" y="585720"/>
            <a:ext cx="1277640" cy="53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姜森美术馆 纽约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0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77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3" dur="770" fill="hold"/>
                                        <p:tgtEl>
                                          <p:spTgt spid="4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5" dur="77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7" dur="77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968400" y="855720"/>
            <a:ext cx="7275600" cy="433224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1908000" y="5660280"/>
            <a:ext cx="44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麦耶生交响乐中心 德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0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8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8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8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8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531000"/>
            <a:ext cx="36576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66"/>
                </a:solidFill>
                <a:latin typeface="Verdana"/>
              </a:rPr>
              <a:t>贝  聿  铭</a:t>
            </a:r>
            <a:endParaRPr b="0" lang="en-US" sz="5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1890720"/>
            <a:ext cx="472428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世界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著名建筑大师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在国际学术界被公认为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现代派建筑代表人物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曾获里根总统授予的美国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“国家艺术奖”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密特朗总统授予的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“光荣勋章”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布什总统颁发的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“全美十佳公民奖”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。其设计作品曾获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“普茨克奖”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5029200" y="1905120"/>
            <a:ext cx="3889440" cy="472428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3657600" y="190512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533520" y="228600"/>
            <a:ext cx="8381880" cy="36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贝聿铭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（     ）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 魅（  ）力 晶莹剔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（  ）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透 金融（  ） 相得益彰（   ）初露头角    奠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（   ）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定   授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（   ）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予 颁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（  ）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发    荣誉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（   ）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 声名远扬  初生之犊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（   ）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 遗孀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（      ）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新颖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（  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628360" y="414360"/>
            <a:ext cx="224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yù mí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646320" y="420840"/>
            <a:ext cx="132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mè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127320" y="1219320"/>
            <a:ext cx="63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t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198560" y="1335240"/>
            <a:ext cx="162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ró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886200" y="1981080"/>
            <a:ext cx="1828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zhā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676520" y="297180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dià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324480" y="289548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shòu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752480" y="380988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bā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238880" y="38098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y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238880" y="464832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d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09680" y="5562720"/>
            <a:ext cx="2362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shuā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629400" y="56386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yǐ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457200" y="228600"/>
            <a:ext cx="8686800" cy="36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谐调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（   ）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  变幻莫测     和谐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（    ）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  别具匠心     遴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（  ）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选  声誉卓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（   ）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著  抉择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（     ）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  负荷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（  ）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轩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（   ）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然大波   力排众议  摩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（   ）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天    当之无愧    功成名就     萦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（   ）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95960" y="304920"/>
            <a:ext cx="137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tiá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883600" y="1219320"/>
            <a:ext cx="107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xi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496200" y="2057400"/>
            <a:ext cx="165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zhu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600560" y="2133720"/>
            <a:ext cx="9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lí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52960" y="3048120"/>
            <a:ext cx="194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jué z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772400" y="3048120"/>
            <a:ext cx="762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h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514880" y="3809880"/>
            <a:ext cx="186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xuā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025360" y="4724280"/>
            <a:ext cx="115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m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439600" y="5638680"/>
            <a:ext cx="150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yí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609480" y="838080"/>
            <a:ext cx="8153640" cy="31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坦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（   ）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诚  水榭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（   ）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熔于一炉  坐落 勘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（  ）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察      参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（  ）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天    融为一体   貌不惊人     轻妆淡抹     相辅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（   ）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相成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842840" y="990720"/>
            <a:ext cx="1215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tǎ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846120" y="1066680"/>
            <a:ext cx="107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xi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434280" y="2057400"/>
            <a:ext cx="132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kā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665720" y="3048120"/>
            <a:ext cx="126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cā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77240" y="5181480"/>
            <a:ext cx="81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f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733360" y="533520"/>
            <a:ext cx="182628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听音乐   默读课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812000" y="198756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101080" y="62064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580000" y="602136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580000" y="623736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04920" y="15228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思考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80880" y="1219320"/>
            <a:ext cx="640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1.</a:t>
            </a: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开头两段写了什么内容？它在全文中有什么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" y="2743200"/>
            <a:ext cx="617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2.</a:t>
            </a: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文中的三个小标题分别讲了什么内容？它们是按照什么顺序来写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80880" y="487692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3. </a:t>
            </a: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找出贝聿铭在建筑设计方面的主要成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4" dur="180000" fill="hold"/>
                                        <p:tgtEl>
                                          <p:spTgt spid="3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950480" y="1676520"/>
            <a:ext cx="484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开头语：描写中国银行总部大厦的惊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气势和高贵气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655800" y="57150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宋体"/>
              </a:rPr>
              <a:t>总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066680" y="3048120"/>
            <a:ext cx="701064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华文新魏"/>
              </a:rPr>
              <a:t>这样写就一下子吸引住了读者，由此引出了本文记述的对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华文新魏"/>
              </a:rPr>
              <a:t>这样的开头，起着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华文新魏"/>
              </a:rPr>
              <a:t>统领全文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华文新魏"/>
              </a:rPr>
              <a:t>的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开头两段写了什么内容？它在全文中有什么作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981080" y="1351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贝聿铭早期在建筑业获得的成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981080" y="259092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贝聿铭在建筑设计上的突出成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905120" y="403848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贝聿铭在为中国设计的建筑中表现出来的一片爱国之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4080" y="1676520"/>
            <a:ext cx="6069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国外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624080" y="4191120"/>
            <a:ext cx="6069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国内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848720" y="3200400"/>
            <a:ext cx="75960" cy="838080"/>
          </a:xfrm>
          <a:prstGeom prst="downArrow">
            <a:avLst>
              <a:gd name="adj1" fmla="val 50000"/>
              <a:gd name="adj2" fmla="val 275829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-152280" y="1371600"/>
            <a:ext cx="18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（初露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角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-152280" y="2666880"/>
            <a:ext cx="1904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（创建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奇迹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-152280" y="419112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（不变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中国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2362320"/>
            <a:ext cx="76320" cy="533160"/>
          </a:xfrm>
          <a:prstGeom prst="downArrow">
            <a:avLst>
              <a:gd name="adj1" fmla="val 50000"/>
              <a:gd name="adj2" fmla="val 174646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85800" y="3733920"/>
            <a:ext cx="76320" cy="533160"/>
          </a:xfrm>
          <a:prstGeom prst="downArrow">
            <a:avLst>
              <a:gd name="adj1" fmla="val 50000"/>
              <a:gd name="adj2" fmla="val 174646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" y="5181480"/>
            <a:ext cx="76320" cy="685800"/>
          </a:xfrm>
          <a:prstGeom prst="downArrow">
            <a:avLst>
              <a:gd name="adj1" fmla="val 50000"/>
              <a:gd name="adj2" fmla="val 224646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215000" y="571500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隶书"/>
              </a:rPr>
              <a:t>归纳：贝聿铭是建筑艺术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28600" y="152280"/>
            <a:ext cx="86104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文中的三个小标题分别讲了什么内容？ 它们是按照什么顺序来写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mj</cp:lastModifiedBy>
  <dcterms:modified xsi:type="dcterms:W3CDTF">2007-07-31T04:39:08Z</dcterms:modified>
  <cp:revision>7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