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微软用户" initials="微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2-11-04T18:03:42.265000000" idx="1">
    <p:pos x="5760" y="-14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405-9B5A-4CBB-AE48-A6442EB0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A20-B6A6-4979-8C66-E01E3B8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6D-72AD-4A92-841E-CA7B14A3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BCA-FB74-4538-BCB3-F8358389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1D0-310A-46B9-8E7F-1BAF976F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EAD-59C9-40DE-A7E9-3D6DA226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C6E-C853-4869-9169-A2BD5C87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12C-AF0A-400D-A918-ABBD9A5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D4F-9410-40EF-9CDA-6F9CDA2D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CB9-D66F-4AE9-B14F-10FE839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AF3-1509-45AE-BC4C-BBE904D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17F-5941-42A0-807B-5215520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2456-033B-4EFD-AC1D-FD88FA271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nwen.soso.com/z/Search.e?sp=S&#21021;&#26149;&amp;ch=w.search.yjjlink&amp;cid=w.search.yjjlink" TargetMode="External"/><Relationship Id="rId3" Type="http://schemas.openxmlformats.org/officeDocument/2006/relationships/hyperlink" Target="http://wenwen.soso.com/z/Search.e?sp=S&#33970;&#20844;&#33521;&amp;ch=w.search.yjjlink&amp;cid=w.search.yjjlink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05320" y="1752480"/>
            <a:ext cx="4343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会说没有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会走没有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它会告诉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时候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什么时候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0" y="24382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>
                    <a:alpha val="90000"/>
                  </a:srgbClr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猜谜语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>
                  <a:alpha val="90000"/>
                </a:srgbClr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115920"/>
            <a:ext cx="788508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15920"/>
            <a:ext cx="7885080" cy="6481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-304920" y="-228600"/>
            <a:ext cx="82616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95560" y="2854440"/>
            <a:ext cx="139932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打开喇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34000" y="1197000"/>
            <a:ext cx="152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野蔷薇绽开笑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7885080" y="6236640"/>
            <a:ext cx="719280" cy="1778040"/>
          </a:xfrm>
          <a:custGeom>
            <a:avLst/>
            <a:gdLst>
              <a:gd name="textAreaLeft" fmla="*/ 96120 w 719280"/>
              <a:gd name="textAreaRight" fmla="*/ 623160 w 719280"/>
              <a:gd name="textAreaTop" fmla="*/ 311040 h 1778040"/>
              <a:gd name="textAreaBottom" fmla="*/ 128916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88760" y="2096280"/>
            <a:ext cx="109476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向你点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每当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初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来临，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蒲公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碧绿丛中绽开朵朵黄色的小花。花开过后，种子上的白色冠毛结为一个个绒球，随风摇曳。种子成熟后，随风飘到新的地方安家落户，孕育新的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360" y="-1447920"/>
            <a:ext cx="815328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049240" y="126864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</a:rPr>
              <a:t>午时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54160" y="81180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午时花展现美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4400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32480" y="180936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夜  来  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91120" y="1219320"/>
            <a:ext cx="4762440" cy="47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20574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54160" y="52452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夜来香散发香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077320" y="5791320"/>
            <a:ext cx="533160" cy="457200"/>
          </a:xfrm>
          <a:custGeom>
            <a:avLst/>
            <a:gdLst>
              <a:gd name="textAreaLeft" fmla="*/ 71280 w 533160"/>
              <a:gd name="textAreaRight" fmla="*/ 461880 w 53316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85680" y="3648960"/>
            <a:ext cx="4852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早上七点争奇斗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5638680" cy="683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3581280" cy="6705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808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丝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" y="168372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午六点舒展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05920" y="586728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86000" y="4005360"/>
            <a:ext cx="45468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月夜掀起美女的面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67280" y="4365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紫茉莉：下午五点左右开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810240" cy="2495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37160" y="112536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蛇床花：黎明三点左右开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1752480"/>
            <a:ext cx="7696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676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1197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1219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1676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1676520"/>
            <a:ext cx="914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276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276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3276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2819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200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3200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3213000"/>
            <a:ext cx="68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380880"/>
            <a:ext cx="2819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会认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"/>
          <p:cNvSpPr/>
          <p:nvPr/>
        </p:nvSpPr>
        <p:spPr>
          <a:xfrm>
            <a:off x="2430000" y="263700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黑体"/>
                <a:ea typeface="黑体"/>
              </a:rPr>
              <a:t>牵 约 展 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3880" y="1447920"/>
            <a:ext cx="58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植物知道时间，动物和昆虫也有这种本领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下节课我们再接着学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3733920" cy="1776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934320" y="5021280"/>
            <a:ext cx="220968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209680" y="17524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12 </a:t>
            </a: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自然界的时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457200"/>
            <a:ext cx="33530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通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2096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由轻声读文，读准每个字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遇到难读的句子，请多读几遍，把句子读通顺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14600" y="3808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篇课文主 要写了哪些生物的活动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333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188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38098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91320" y="4303800"/>
            <a:ext cx="3352680" cy="2554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396252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植物开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动物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、昆虫采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花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时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活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（描写方法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花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时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活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（描写方法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牵牛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野蔷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蒲公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午时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夜来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花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时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活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（描写方法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牵牛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清晨四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野蔷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清晨五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蒲公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清晨六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午时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正中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夜来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夜幕降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花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时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活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（描写方法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牵牛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清晨四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打开喇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野蔷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清晨五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绽开笑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蒲公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清晨六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向你点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午时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正中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展现美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夜来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夜幕降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散发香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58:06Z</dcterms:created>
  <dc:creator>微软用户</dc:creator>
  <dc:description/>
  <dc:language>en-US</dc:language>
  <cp:lastModifiedBy>微软用户</cp:lastModifiedBy>
  <dcterms:modified xsi:type="dcterms:W3CDTF">2012-11-11T04:13:20Z</dcterms:modified>
  <cp:revision>5</cp:revision>
  <dc:subject/>
  <dc:title>幻灯片 1</dc:title>
</cp:coreProperties>
</file>