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0.jpeg" ContentType="image/jpeg"/>
  <Override PartName="/ppt/media/image5.png" ContentType="image/png"/>
  <Override PartName="/ppt/media/chimes.wav" ContentType="audio/x-wav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7.jpeg" ContentType="image/jpeg"/>
  <Override PartName="/ppt/media/image6.png" ContentType="image/pn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6920" y="206064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0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12.gif"/><Relationship Id="rId5" Type="http://schemas.openxmlformats.org/officeDocument/2006/relationships/image" Target="../media/image14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9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40" y="-55440"/>
            <a:ext cx="9218880" cy="7142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54280" y="1828800"/>
            <a:ext cx="54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143000"/>
            <a:ext cx="7162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仿宋"/>
              </a:rPr>
              <a:t>12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仿宋"/>
              </a:rPr>
              <a:t>自然界的时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仿宋"/>
              <a:ea typeface="仿宋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189000"/>
            <a:ext cx="122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0000"/>
                </a:solidFill>
                <a:latin typeface="Arial"/>
              </a:rPr>
              <a:t>野蔷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2360" y="580536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五点钟，野蔷薇</a:t>
            </a:r>
            <a:r>
              <a:rPr b="1" i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绽开笑脸</a:t>
            </a:r>
            <a:r>
              <a:rPr b="1" i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639280" y="613872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8425"/>
                </a:moveTo>
                <a:lnTo>
                  <a:pt x="13376" y="11036"/>
                </a:ln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lnTo>
                  <a:pt x="17763" y="15388"/>
                </a:lnTo>
                <a:lnTo>
                  <a:pt x="16109" y="15388"/>
                </a:lnTo>
                <a:lnTo>
                  <a:pt x="16109" y="22577"/>
                </a:lnTo>
                <a:lnTo>
                  <a:pt x="5491" y="22577"/>
                </a:lnTo>
                <a:lnTo>
                  <a:pt x="5491" y="15388"/>
                </a:lnTo>
                <a:lnTo>
                  <a:pt x="3837" y="15388"/>
                </a:lnTo>
                <a:close/>
              </a:path>
              <a:path fill="darkenLess" w="21600" h="30776">
                <a:moveTo>
                  <a:pt x="13376" y="11036"/>
                </a:move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close/>
              </a:path>
              <a:path fill="darkenLess" w="21600" h="30776">
                <a:moveTo>
                  <a:pt x="9877" y="18887"/>
                </a:moveTo>
                <a:lnTo>
                  <a:pt x="11723" y="18887"/>
                </a:lnTo>
                <a:lnTo>
                  <a:pt x="11723" y="22577"/>
                </a:lnTo>
                <a:lnTo>
                  <a:pt x="16109" y="22577"/>
                </a:lnTo>
                <a:lnTo>
                  <a:pt x="16109" y="15388"/>
                </a:lnTo>
                <a:lnTo>
                  <a:pt x="5491" y="15388"/>
                </a:lnTo>
                <a:lnTo>
                  <a:pt x="5491" y="22577"/>
                </a:lnTo>
                <a:lnTo>
                  <a:pt x="9877" y="225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66680" y="55627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60093"/>
                </a:solidFill>
                <a:latin typeface="Arial"/>
              </a:rPr>
              <a:t>六点钟 ，蒲公英</a:t>
            </a:r>
            <a:r>
              <a:rPr b="1" i="1" lang="zh-CN" sz="4400" spc="-1" strike="noStrike">
                <a:solidFill>
                  <a:srgbClr val="99cc00"/>
                </a:solidFill>
                <a:latin typeface="Arial"/>
              </a:rPr>
              <a:t>向你点头</a:t>
            </a:r>
            <a:r>
              <a:rPr b="1" i="1" lang="zh-CN" sz="4400" spc="-1" strike="noStrike">
                <a:solidFill>
                  <a:srgbClr val="d60093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75640" y="0"/>
            <a:ext cx="136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Arial"/>
              </a:rPr>
              <a:t>午时花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8639280" y="613872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8425"/>
                </a:moveTo>
                <a:lnTo>
                  <a:pt x="13376" y="11036"/>
                </a:ln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lnTo>
                  <a:pt x="17763" y="15388"/>
                </a:lnTo>
                <a:lnTo>
                  <a:pt x="16109" y="15388"/>
                </a:lnTo>
                <a:lnTo>
                  <a:pt x="16109" y="22577"/>
                </a:lnTo>
                <a:lnTo>
                  <a:pt x="5491" y="22577"/>
                </a:lnTo>
                <a:lnTo>
                  <a:pt x="5491" y="15388"/>
                </a:lnTo>
                <a:lnTo>
                  <a:pt x="3837" y="15388"/>
                </a:lnTo>
                <a:close/>
              </a:path>
              <a:path fill="darkenLess" w="21600" h="30776">
                <a:moveTo>
                  <a:pt x="13376" y="11036"/>
                </a:move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close/>
              </a:path>
              <a:path fill="darkenLess" w="21600" h="30776">
                <a:moveTo>
                  <a:pt x="9877" y="18887"/>
                </a:moveTo>
                <a:lnTo>
                  <a:pt x="11723" y="18887"/>
                </a:lnTo>
                <a:lnTo>
                  <a:pt x="11723" y="22577"/>
                </a:lnTo>
                <a:lnTo>
                  <a:pt x="16109" y="22577"/>
                </a:lnTo>
                <a:lnTo>
                  <a:pt x="16109" y="15388"/>
                </a:lnTo>
                <a:lnTo>
                  <a:pt x="5491" y="15388"/>
                </a:lnTo>
                <a:lnTo>
                  <a:pt x="5491" y="22577"/>
                </a:lnTo>
                <a:lnTo>
                  <a:pt x="9877" y="225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1814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4876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769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到了太阳当顶的中午，美丽的午时花才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展现它的美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39280" y="613872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8425"/>
                </a:moveTo>
                <a:lnTo>
                  <a:pt x="13376" y="11036"/>
                </a:ln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lnTo>
                  <a:pt x="17763" y="15388"/>
                </a:lnTo>
                <a:lnTo>
                  <a:pt x="16109" y="15388"/>
                </a:lnTo>
                <a:lnTo>
                  <a:pt x="16109" y="22577"/>
                </a:lnTo>
                <a:lnTo>
                  <a:pt x="5491" y="22577"/>
                </a:lnTo>
                <a:lnTo>
                  <a:pt x="5491" y="15388"/>
                </a:lnTo>
                <a:lnTo>
                  <a:pt x="3837" y="15388"/>
                </a:lnTo>
                <a:close/>
              </a:path>
              <a:path fill="darkenLess" w="21600" h="30776">
                <a:moveTo>
                  <a:pt x="13376" y="11036"/>
                </a:move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close/>
              </a:path>
              <a:path fill="darkenLess" w="21600" h="30776">
                <a:moveTo>
                  <a:pt x="9877" y="18887"/>
                </a:moveTo>
                <a:lnTo>
                  <a:pt x="11723" y="18887"/>
                </a:lnTo>
                <a:lnTo>
                  <a:pt x="11723" y="22577"/>
                </a:lnTo>
                <a:lnTo>
                  <a:pt x="16109" y="22577"/>
                </a:lnTo>
                <a:lnTo>
                  <a:pt x="16109" y="15388"/>
                </a:lnTo>
                <a:lnTo>
                  <a:pt x="5491" y="15388"/>
                </a:lnTo>
                <a:lnTo>
                  <a:pt x="5491" y="22577"/>
                </a:lnTo>
                <a:lnTo>
                  <a:pt x="9877" y="225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685800"/>
            <a:ext cx="1079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Arial"/>
              </a:rPr>
              <a:t>夜来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181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夜幕降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夜来香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声不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地散发出它的香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9000"/>
            <a:ext cx="914400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牵牛花  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楷体_GB2312"/>
              </a:rPr>
              <a:t>打开喇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野蔷薇  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楷体_GB2312"/>
              </a:rPr>
              <a:t>绽开笑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蒲公英  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楷体_GB2312"/>
              </a:rPr>
              <a:t>向你点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美丽的午时花  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楷体_GB2312"/>
              </a:rPr>
              <a:t>展现它的美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夜来香  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楷体_GB2312"/>
              </a:rPr>
              <a:t>不声不响地散发出它的香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黑体"/>
              </a:rPr>
              <a:t> </a:t>
            </a:r>
            <a:r>
              <a:rPr b="1" lang="zh-CN" sz="5400" spc="-1" strike="noStrike">
                <a:solidFill>
                  <a:srgbClr val="ff9900"/>
                </a:solidFill>
                <a:latin typeface="黑体"/>
              </a:rPr>
              <a:t>仔细观察一下各种花开放的时间，你发现了什么？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1143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23880" y="2362320"/>
          <a:ext cx="7682040" cy="4046400"/>
        </p:xfrm>
        <a:graphic>
          <a:graphicData uri="http://schemas.openxmlformats.org/drawingml/2006/table">
            <a:tbl>
              <a:tblPr/>
              <a:tblGrid>
                <a:gridCol w="2043000"/>
                <a:gridCol w="2743200"/>
                <a:gridCol w="2895840"/>
              </a:tblGrid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花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开放时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	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描写的方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牵牛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野蔷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绽开笑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蒲公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午时花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	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中午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夜来香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24080" y="3048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清晨四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733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早晨五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419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早晨六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419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夜幕降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打开喇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19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向你点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展现美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不声不响的散发香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943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447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981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514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2004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03848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57200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105520"/>
            <a:ext cx="228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562720"/>
            <a:ext cx="2286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60199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82360" y="611280"/>
            <a:ext cx="7596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把这些花的时间表列出来吗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4960" y="765000"/>
            <a:ext cx="838044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你能把这些花的时间表列出来吗？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2120" y="838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44956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牵牛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715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野蔷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791320"/>
            <a:ext cx="2133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蒲公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5335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午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5638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夜来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08360" y="1628640"/>
            <a:ext cx="59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植物知道时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动物也有这种的本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170028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981000"/>
            <a:ext cx="2016360" cy="122400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627280" y="1628640"/>
            <a:ext cx="91440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承上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13080" y="3357720"/>
            <a:ext cx="91440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启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2708280"/>
            <a:ext cx="2016360" cy="122400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东方欲晓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百鸟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就开始啼鸣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1952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日落西山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，躲在地洞里的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地鼠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黑体"/>
              </a:rPr>
              <a:t>开始活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886200"/>
            <a:ext cx="678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猫头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似乎知道田鼠的底细，它白天睡觉，夜间到田野中巡逻捕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05320" y="1752480"/>
            <a:ext cx="4343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会说没有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会走没有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会告诉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时候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时候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5400000">
            <a:off x="0" y="24382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>
                    <a:alpha val="90000"/>
                  </a:srgbClr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黑体"/>
              </a:rPr>
              <a:t>猜谜语</a:t>
            </a:r>
            <a:endParaRPr b="1" i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ff">
                  <a:alpha val="90000"/>
                </a:srgbClr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8380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辛勤的蜜蜂一早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飞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牵牛花，中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飞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午时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04812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夜蛾是夜来香的客人，每天晚上，总是准时去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拜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95640" y="1484280"/>
            <a:ext cx="69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原来在动植物生命的内部有一个神秘的生命之钟，人们把它叫做“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黑体"/>
              </a:rPr>
              <a:t>生物钟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14600" y="38088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 要写了什么？从哪几方面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33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188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791320" y="4303800"/>
            <a:ext cx="3352680" cy="2554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38280" y="3962520"/>
            <a:ext cx="3429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6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960" y="-4320000"/>
            <a:ext cx="759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9520" y="36576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植物开花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动物活动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昆虫采蜜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429000" y="228600"/>
            <a:ext cx="579132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华文楷体"/>
              </a:rPr>
              <a:t>你答对了吗？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华文楷体"/>
              <a:ea typeface="华文楷体"/>
            </a:endParaRPr>
          </a:p>
        </p:txBody>
      </p:sp>
      <p:sp>
        <p:nvSpPr>
          <p:cNvPr id="178" name=""/>
          <p:cNvSpPr/>
          <p:nvPr/>
        </p:nvSpPr>
        <p:spPr>
          <a:xfrm>
            <a:off x="1969200" y="3325680"/>
            <a:ext cx="191700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三个方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91120" y="1219320"/>
            <a:ext cx="4762440" cy="47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20574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7280" y="1341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大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自然就是一座美丽的时钟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457200"/>
            <a:ext cx="3353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通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20968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由读文，如遇到不认识的字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借助字典、工具书查明读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留心      发现     大约    野蔷薇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绽开      展现     散发    蒲公英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啼鸣      本领     底细    猫头鹰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巡逻      根据     辛勤    生物钟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拜访      内部     神秘  夜幕降临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不声不响   东方欲晓     日落西山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1447920"/>
            <a:ext cx="58676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读一读，画一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究竟是什么让动物、植物、昆虫知道自己的时间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3733920" cy="177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934320" y="5021280"/>
            <a:ext cx="2209680" cy="1684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1676520"/>
            <a:ext cx="69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原来在动植物生命的内部有一个神秘的生命之钟，人们把它叫做“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黑体"/>
              </a:rPr>
              <a:t>生物钟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黑体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6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1225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cc0099"/>
                </a:solidFill>
                <a:latin typeface="Arial"/>
                <a:ea typeface="黑体"/>
              </a:rPr>
              <a:t>牵牛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79132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牵牛花大约在清晨四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打开喇叭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8639280" y="613872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8425"/>
                </a:moveTo>
                <a:lnTo>
                  <a:pt x="13376" y="11036"/>
                </a:ln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lnTo>
                  <a:pt x="17763" y="15388"/>
                </a:lnTo>
                <a:lnTo>
                  <a:pt x="16109" y="15388"/>
                </a:lnTo>
                <a:lnTo>
                  <a:pt x="16109" y="22577"/>
                </a:lnTo>
                <a:lnTo>
                  <a:pt x="5491" y="22577"/>
                </a:lnTo>
                <a:lnTo>
                  <a:pt x="5491" y="15388"/>
                </a:lnTo>
                <a:lnTo>
                  <a:pt x="3837" y="15388"/>
                </a:lnTo>
                <a:close/>
              </a:path>
              <a:path fill="darkenLess" w="21600" h="30776">
                <a:moveTo>
                  <a:pt x="13376" y="11036"/>
                </a:moveTo>
                <a:lnTo>
                  <a:pt x="13376" y="9295"/>
                </a:lnTo>
                <a:lnTo>
                  <a:pt x="15152" y="9295"/>
                </a:lnTo>
                <a:lnTo>
                  <a:pt x="15152" y="12812"/>
                </a:lnTo>
                <a:close/>
              </a:path>
              <a:path fill="darkenLess" w="21600" h="30776">
                <a:moveTo>
                  <a:pt x="9877" y="18887"/>
                </a:moveTo>
                <a:lnTo>
                  <a:pt x="11723" y="18887"/>
                </a:lnTo>
                <a:lnTo>
                  <a:pt x="11723" y="22577"/>
                </a:lnTo>
                <a:lnTo>
                  <a:pt x="16109" y="22577"/>
                </a:lnTo>
                <a:lnTo>
                  <a:pt x="16109" y="15388"/>
                </a:lnTo>
                <a:lnTo>
                  <a:pt x="5491" y="15388"/>
                </a:lnTo>
                <a:lnTo>
                  <a:pt x="5491" y="22577"/>
                </a:lnTo>
                <a:lnTo>
                  <a:pt x="9877" y="225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2:58:35Z</dcterms:created>
  <dc:creator/>
  <dc:description/>
  <cp:keywords/>
  <dc:language>en-US</dc:language>
  <cp:lastModifiedBy>微软用户</cp:lastModifiedBy>
  <dcterms:modified xsi:type="dcterms:W3CDTF">2017-10-18T14:47:47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