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jpeg" ContentType="image/jpeg"/>
  <Override PartName="/ppt/media/image9.gif" ContentType="image/gif"/>
  <Override PartName="/ppt/media/image7.gif" ContentType="image/gif"/>
  <Override PartName="/ppt/media/image10.jpeg" ContentType="image/jpeg"/>
  <Override PartName="/ppt/media/image5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BDF-3284-4A32-A327-6960761E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BD7-1297-4D21-A7A9-DA7A443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627-4651-4060-B8E1-EB6D2626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FE8-93C0-44F0-9910-728B56F7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BBE-0B7D-4E56-AD23-2669D69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A99-E495-4EC9-904B-C6EBCE6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2D7-3B8A-4023-9BBC-9F1138AD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C8C-80F9-4199-B041-B2ABD69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476-0BFC-472F-B3E7-2071ACA5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44D-8F3E-4C81-BD5F-3E825C8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995-77B4-4DA9-95B3-7DF16BF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04D-A5AC-4668-9F29-41E1A13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92A-4E51-41C3-9060-B4C9DA2E9F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71280 w 533160"/>
              <a:gd name="textAreaRight" fmla="*/ 461880 w 5331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077320" y="5791320"/>
            <a:ext cx="533160" cy="457200"/>
          </a:xfrm>
          <a:custGeom>
            <a:avLst/>
            <a:gdLst>
              <a:gd name="textAreaLeft" fmla="*/ 71280 w 533160"/>
              <a:gd name="textAreaRight" fmla="*/ 461880 w 5331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8305920" y="586728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5638680" cy="683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70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808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丝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572000" cy="6095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午时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3429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蛇床花：黎明三点左右开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54100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紫茉莉：下午五点左右开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5335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每年春天四五月份开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05320" y="1752480"/>
            <a:ext cx="4343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说没有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走没有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会告诉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0" y="24382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>
                    <a:alpha val="90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猜谜语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>
                  <a:alpha val="90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1447920"/>
            <a:ext cx="58676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读一读，画一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究竟是什么让动物、植物、昆虫知道自己的时间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10080" y="0"/>
            <a:ext cx="3733920" cy="1776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934320" y="5021280"/>
            <a:ext cx="220968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52480" y="1066680"/>
            <a:ext cx="609624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熟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　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练习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预习下一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209680" y="17524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62440" cy="47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57200"/>
            <a:ext cx="3353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通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20968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读文，如遇到不认识的字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借助字典、工具书查明读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752480"/>
            <a:ext cx="76960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凋     啤     喇      叭     葵     芍      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皎     巡     逻      拜     汐     构      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676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21932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1219320"/>
            <a:ext cx="60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1676520"/>
            <a:ext cx="914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76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276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819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à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200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3200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gò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3200400"/>
            <a:ext cx="68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380880"/>
            <a:ext cx="2819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会认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1295280"/>
            <a:ext cx="7010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鸟窝        美貌      机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拜年        皎洁      辛勤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熟能生巧          前仆后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察言观色          争奇斗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28600"/>
            <a:ext cx="2743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会读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96252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熟练了，就能找到窍门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形容非常熟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886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仆：倒下；继：接着，跟上。前面的倒下了，后面的紧跟上去。形容斗争的英勇壮烈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5715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察：详审。观察别人的说话或脸色。多指揣摸别人的心意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奇：奇异；艳：色彩鲜艳。形容百花竞放，十分艳丽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4648320" y="6324480"/>
            <a:ext cx="457200" cy="38124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14600" y="38088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 要写了什么？从哪几方面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188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791320" y="4303800"/>
            <a:ext cx="3352680" cy="2554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396252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植物开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动物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昆虫采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52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你能把这些花的时间表列出来吗？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762120"/>
          <a:ext cx="7696440" cy="5735520"/>
        </p:xfrm>
        <a:graphic>
          <a:graphicData uri="http://schemas.openxmlformats.org/drawingml/2006/table">
            <a:tbl>
              <a:tblPr/>
              <a:tblGrid>
                <a:gridCol w="2057400"/>
                <a:gridCol w="2743200"/>
                <a:gridCol w="289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花名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放时间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写的方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蛇麻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牵牛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野蔷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蒲公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龙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芍药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时花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丝瓜花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夜来香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光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3048120" y="1371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黎明三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开放、凋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清晨四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早晨五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200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早晨六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962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早晨七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4495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中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下午六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86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日落西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月夜（夜晚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19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打开喇叭、收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438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绽放笑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含笑点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962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争奇斗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495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美丽、展现、美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悄悄地舒展花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41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不声不响的开始吐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5943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好象美女掀起的面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28600" y="1447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981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514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2004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03848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5720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05520"/>
            <a:ext cx="228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5562720"/>
            <a:ext cx="228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172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34520" y="6019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5-16T13:33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