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E5F-00DE-4BFE-A17A-820B232B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D96-E9FF-4C7F-9E4A-94DB4DD7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25D-B1F3-46CB-A778-7E7457EA4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374-F806-444D-B9AE-0F6C2B82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CB1-0F7B-4BAC-A0D7-C7E708D6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C6B-0434-4F6A-836E-ED274C03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682-7986-4E21-A33B-FFB82FCA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EBEF-13C2-4793-8702-28A1F2A7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617-06A1-4DDE-BDB3-3B425295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77D-BC84-4071-91B3-C391EE9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F031-CD9C-4762-925A-90761A7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5E6-943E-4118-B925-E3BAC81D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07D-9B5B-4820-8F7A-51641937B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6725160" y="189000"/>
            <a:ext cx="16426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POP Bauhaus"/>
              </a:rPr>
              <a:t>左迁至蓝关示侄孙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6304320" y="2276640"/>
            <a:ext cx="8506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POP Bauhaus"/>
              </a:rPr>
              <a:t>韩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468360" y="90792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907920"/>
            <a:ext cx="56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隶书"/>
              </a:rPr>
              <a:t>诗歌的三、四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华文隶书"/>
              </a:rPr>
              <a:t>表现了韩愈怎样的性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8360" y="2290680"/>
            <a:ext cx="4753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POP Bauhaus"/>
              </a:rPr>
              <a:t>作者在此申述了自己忠而获罪和非罪远谪的愤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POP Bauhaus"/>
              </a:rPr>
              <a:t>尽管招来一场弥天大祸，他还是老而弥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POP Bauhaus"/>
              </a:rPr>
              <a:t>表现了他刚直不阿的性格</a:t>
            </a:r>
            <a:r>
              <a:rPr b="1" lang="zh-CN" sz="2400" spc="-1" strike="noStrike">
                <a:solidFill>
                  <a:srgbClr val="ffffff"/>
                </a:solidFill>
                <a:latin typeface="POP Bauhaus"/>
                <a:ea typeface="POP Bauhau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692360" y="47628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79280" y="0"/>
            <a:ext cx="66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新魏"/>
              </a:rPr>
              <a:t>诗歌的五、六两句描写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幼圆"/>
              </a:rPr>
              <a:t>作者借景抒发了怎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0" y="189000"/>
            <a:ext cx="6264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Arial"/>
                <a:ea typeface="华文行楷"/>
              </a:rPr>
              <a:t>五六两句借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华文行楷"/>
              </a:rPr>
              <a:t>“秦岭”、“蓝关”</a:t>
            </a:r>
            <a:r>
              <a:rPr b="0" lang="zh-CN" sz="2400" spc="-1" strike="noStrike">
                <a:solidFill>
                  <a:srgbClr val="ccccff"/>
                </a:solidFill>
                <a:latin typeface="Arial"/>
                <a:ea typeface="华文行楷"/>
              </a:rPr>
              <a:t>之自然景色表述了自己的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华文行楷"/>
              </a:rPr>
              <a:t>愁苦悲戚心绪</a:t>
            </a:r>
            <a:r>
              <a:rPr b="0" lang="zh-CN" sz="2400" spc="-1" strike="noStrike">
                <a:solidFill>
                  <a:srgbClr val="ccccff"/>
                </a:solidFill>
                <a:latin typeface="Arial"/>
                <a:ea typeface="华文行楷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Arial"/>
                <a:ea typeface="华文行楷"/>
              </a:rPr>
              <a:t>同时也蕴含为上表付出的惨痛代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ccff"/>
                </a:solidFill>
                <a:latin typeface="Arial"/>
                <a:ea typeface="华文行楷"/>
              </a:rPr>
              <a:t>这两句，一顾一瞻，顾者为长安，因云横秦岭，长安已不可见，“龙颜”难以再睹；瞻者乃潮州，奈何为蓝关大雪所阻，前程曲折坎坷，不敢多想，“马”固不能“前”，“人”却能“前”乎？英雄失路，于此可知矣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华文行楷"/>
              </a:rPr>
              <a:t>马不前”三字，露出英雄失路之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79280" y="47628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POP Bauhaus"/>
                <a:ea typeface="POP Bauhaus"/>
              </a:rPr>
              <a:t>最后两句表达了作者怎样的感情  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79280" y="1484280"/>
            <a:ext cx="6120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尾联很有</a:t>
            </a: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虽九死而不悔</a:t>
            </a:r>
            <a:r>
              <a:rPr b="1" lang="zh-CN" sz="2800" spc="-1" strike="noStrike">
                <a:solidFill>
                  <a:srgbClr val="ffffff"/>
                </a:solidFill>
                <a:latin typeface="Adobe 黑体 Std R"/>
                <a:ea typeface="华文新魏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态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也含有蹇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jiǎn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叔哭师的悲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抒英雄之志，表骨肉之情</a:t>
            </a:r>
            <a:r>
              <a:rPr b="1" lang="zh-CN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悲痛凄楚，溢于言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419640" y="1844640"/>
            <a:ext cx="540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  <a:ea typeface="方正准圆简体"/>
              </a:rPr>
              <a:t>          </a:t>
            </a:r>
            <a:r>
              <a:rPr b="0" lang="zh-CN" sz="2800" spc="-1" strike="noStrike">
                <a:solidFill>
                  <a:srgbClr val="66ff66"/>
                </a:solidFill>
                <a:latin typeface="POP Bauhaus"/>
                <a:ea typeface="POP Bauhaus"/>
              </a:rPr>
              <a:t>抒发了作者内心郁愤以及前途未卜的感伤情绪。感情真挚婉曲，诗风沉郁。</a:t>
            </a:r>
            <a:r>
              <a:rPr b="0" lang="zh-CN" sz="2400" spc="-1" strike="noStrike">
                <a:solidFill>
                  <a:srgbClr val="66ff66"/>
                </a:solidFill>
                <a:latin typeface="POP Bauhaus"/>
                <a:ea typeface="POP Bauhau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867280" y="1197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全诗情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0"/>
            <a:ext cx="7993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总结：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OP Bauhaus"/>
                <a:ea typeface="POP Bauhaus"/>
              </a:rPr>
              <a:t>前两联写“左遣”，一气贯注，浑灏流转。“贬”的原因是“奏”，“奏”的本意是为国“除弊”，可见“贬”非其罪。然而“朝奏”而“夕贬”，处罚何其迅急！一贬就贬到“八千”里以外，处罚又何其严厉！那么“九重天”虽高而不明，也就意在言外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3500280"/>
            <a:ext cx="604836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POP Bauhaus"/>
                <a:ea typeface="POP Bauhaus"/>
              </a:rPr>
              <a:t>第三句理直气壮地声言“欲为圣明除弊事”，表明其刚正不屈的风骨宛然如见。“朝奏”与“夕贬”、“九重天”与“路八千”、“圣明”与“衰朽”、“ 欲为圣明除弊事”与“肯将衰朽惜残年”，强烈对比，高度概括，扩大和加深了诗的内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620640"/>
            <a:ext cx="612144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两联扣题目中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至蓝关示侄孙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颈联上下句各含两个子句，前面的子句写眼前景，后面的子句借景抒情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云横秦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遮天蔽日，回顾长安，不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家何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雪拥蓝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前路艰险，严令限期赶到贬所，怎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不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云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雪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既是实景，又不无象征意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一联，景阔情悲，蕴涵深广，遂成千古名句。作者原是抱着必死的决心上表言事的，如今自料此去必死，故对韩湘安排后事，以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好收吾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给。在章法上，又照应第二联，故语虽悲酸，却悲中有壮，表现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除弊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惜残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坚强意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670200" y="0"/>
            <a:ext cx="547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dobe 黑体 Std R"/>
              </a:rPr>
              <a:t>本诗的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全诗熔叙事、写景、抒情为一体，诗味浓郁，感情真切，对比鲜明，是韩诗七律中的精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6"/>
          <p:cNvSpPr/>
          <p:nvPr/>
        </p:nvSpPr>
        <p:spPr>
          <a:xfrm>
            <a:off x="0" y="4724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5373720"/>
            <a:ext cx="2881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-135720" y="0"/>
            <a:ext cx="18262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POP Bauhaus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0" y="0"/>
            <a:ext cx="684036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简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韩愈（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6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24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唐代思想家、文学家，位居唐宋八大家之首。字退之，世称韩昌黎。贞元进士。他和柳宗元政见不和，但并未影响他们携手倡导古文运动，与柳宗元并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韩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杜牧把韩文与杜诗并列，称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杜诗韩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文章巨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代文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之名。韩诗在艺术上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文为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特点。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3"/>
          <p:cNvPicPr/>
          <p:nvPr/>
        </p:nvPicPr>
        <p:blipFill>
          <a:blip r:embed="rId2"/>
          <a:stretch/>
        </p:blipFill>
        <p:spPr>
          <a:xfrm>
            <a:off x="7416720" y="765000"/>
            <a:ext cx="172728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84360" y="0"/>
            <a:ext cx="626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"/>
                <a:ea typeface="华文行楷"/>
              </a:rPr>
              <a:t>写作背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Arial"/>
                <a:ea typeface="隶书"/>
              </a:rPr>
              <a:t>唐宪宗时，韩愈曾随同裴度平定淮西藩镇之乱。任刑部侍郎，他谏书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隶书"/>
              </a:rPr>
              <a:t>《</a:t>
            </a:r>
            <a:r>
              <a:rPr b="1" lang="zh-CN" sz="2400" spc="-1" strike="noStrike">
                <a:solidFill>
                  <a:srgbClr val="ffcc66"/>
                </a:solidFill>
                <a:latin typeface="Arial"/>
                <a:ea typeface="隶书"/>
              </a:rPr>
              <a:t>论佛骨表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隶书"/>
              </a:rPr>
              <a:t>》</a:t>
            </a:r>
            <a:r>
              <a:rPr b="1" lang="zh-CN" sz="2400" spc="-1" strike="noStrike">
                <a:solidFill>
                  <a:srgbClr val="ffcc66"/>
                </a:solidFill>
                <a:latin typeface="Arial"/>
                <a:ea typeface="隶书"/>
              </a:rPr>
              <a:t>，触怒了唐宪宗，被贬为潮州刺史。在贬谪途中创作了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隶书"/>
              </a:rPr>
              <a:t>《</a:t>
            </a:r>
            <a:r>
              <a:rPr b="1" lang="zh-CN" sz="2400" spc="-1" strike="noStrike">
                <a:solidFill>
                  <a:srgbClr val="ffcc66"/>
                </a:solidFill>
                <a:latin typeface="Arial"/>
                <a:ea typeface="隶书"/>
              </a:rPr>
              <a:t>左迁至蓝关示侄孙湘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隶书"/>
              </a:rPr>
              <a:t>》</a:t>
            </a:r>
            <a:r>
              <a:rPr b="1" lang="zh-CN" sz="2400" spc="-1" strike="noStrike">
                <a:solidFill>
                  <a:srgbClr val="ffcc66"/>
                </a:solidFill>
                <a:latin typeface="Arial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484360" y="0"/>
            <a:ext cx="61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POP Bauhaus"/>
                <a:ea typeface="POP Bauhaus"/>
              </a:rPr>
              <a:t>左迁至蓝关示侄孙湘</a:t>
            </a:r>
            <a:r>
              <a:rPr b="1" lang="zh-CN" sz="1800" spc="-1" strike="noStrike">
                <a:solidFill>
                  <a:srgbClr val="cc0066"/>
                </a:solidFill>
                <a:latin typeface="POP Bauhaus"/>
                <a:ea typeface="POP Bauha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OP Bauhaus"/>
                <a:ea typeface="POP Bauhaus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POP Bauhaus"/>
                <a:ea typeface="POP Bauhaus"/>
              </a:rPr>
              <a:t> </a:t>
            </a:r>
            <a:r>
              <a:rPr b="1" lang="zh-CN" sz="2400" spc="-1" strike="noStrike">
                <a:solidFill>
                  <a:srgbClr val="9900cc"/>
                </a:solidFill>
                <a:latin typeface="POP Bauhaus"/>
                <a:ea typeface="POP Bauhaus"/>
              </a:rPr>
              <a:t>韩愈</a:t>
            </a:r>
            <a:r>
              <a:rPr b="1" lang="zh-CN" sz="1800" spc="-1" strike="noStrike">
                <a:solidFill>
                  <a:srgbClr val="000000"/>
                </a:solidFill>
                <a:latin typeface="POP Bauhaus"/>
                <a:ea typeface="POP Bauhau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OP Bauhaus"/>
                <a:ea typeface="POP Bauhaus"/>
              </a:rPr>
              <a:t>　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POP Bauhaus"/>
                <a:ea typeface="POP Bauhaus"/>
              </a:rPr>
              <a:t>一封朝奏九重天，夕贬潮阳路八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POP Bauhaus"/>
                <a:ea typeface="POP Bauhaus"/>
              </a:rPr>
              <a:t>欲为圣明除弊事，肯将衰朽惜残年！  　        云横秦岭家何在？雪拥蓝关马不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POP Bauhaus"/>
                <a:ea typeface="POP Bauhaus"/>
              </a:rPr>
              <a:t>知汝远来应有意，好收吾骨瘴江边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左迁至蓝关示侄孙湘 朗读.mp3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47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1773360"/>
            <a:ext cx="619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韩愈被贬官至潮州经过蓝田关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他的侄孙韩湘赶来与他同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（左迁，在古代的意思是被贬官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解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835280" y="1989000"/>
            <a:ext cx="7308720" cy="33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Adobe 黑体 Std R"/>
              </a:rPr>
              <a:t>翻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  <a:ea typeface="Adobe 黑体 Std R"/>
              </a:rPr>
              <a:t>一封朝奏九重天，夕贬潮州路八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dobe 黑体 Std R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dobe 黑体 Std R"/>
              </a:rPr>
              <a:t>一篇谏书早晨上奏给皇帝，晚上就被贬官到八千里外的潮州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Adobe 黑体 Std R"/>
              </a:rPr>
              <a:t>欲为圣明除弊事，肯将衰朽惜残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dobe 黑体 Std R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dobe 黑体 Std R"/>
              </a:rPr>
              <a:t>想替皇上除去有害的事，哪能因衰老就吝惜残余的生命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2878200" y="333360"/>
            <a:ext cx="626580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Adobe 黑体 Std R"/>
              </a:rPr>
              <a:t>云横秦岭家何在？雪拥蓝关马不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dobe 黑体 Std R"/>
              </a:rPr>
              <a:t>云彩遮蔽了秦岭，我的家在哪里？大雪阻拦蓝天关的道路，前路艰危，马也不肯前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Adobe 黑体 Std R"/>
              </a:rPr>
              <a:t>知汝远来应有意，好收吾骨瘴江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dobe 黑体 Std R"/>
              </a:rPr>
              <a:t>知道你远道而来定会有所打算，正好在瘴江边收我的尸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3500280"/>
            <a:ext cx="716436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POP Bauhaus"/>
              </a:rPr>
              <a:t>点明自己获罪被贬的原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POP Bauhaus"/>
              </a:rPr>
              <a:t>同时也有虽遭祸被贬亦无怨无悔的情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0" y="2421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赏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：</a:t>
            </a:r>
            <a:r>
              <a:rPr b="1" lang="zh-CN" sz="28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诗歌的前两句点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56000" y="177336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763640" y="115920"/>
            <a:ext cx="65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方正舒体"/>
                <a:ea typeface="方正舒体"/>
              </a:rPr>
              <a:t>开头两句运用什么表现手法，蕴含诗人怎样的思想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203640" y="2133720"/>
            <a:ext cx="5796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第一、二句中的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朝奏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夕贬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九重天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路八千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形成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鲜明对比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我们深切地感受到诗人命运的急剧变化。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透露出作者忠而遭贬的愤怨，也含蓄地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现了他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刚直不阿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坚持真理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倔强性格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09:26:51Z</dcterms:created>
  <dc:creator>雨林木风</dc:creator>
  <dc:description/>
  <dc:language>en-US</dc:language>
  <cp:lastModifiedBy>刘畅</cp:lastModifiedBy>
  <dcterms:modified xsi:type="dcterms:W3CDTF">2013-11-21T05:29:01Z</dcterms:modified>
  <cp:revision>35</cp:revision>
  <dc:subject/>
  <dc:title>幻灯片 1</dc:title>
</cp:coreProperties>
</file>