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8.gif" ContentType="image/gif"/>
  <Override PartName="/ppt/media/image12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5.jpeg" ContentType="image/jpeg"/>
  <Override PartName="/ppt/media/image14.gif" ContentType="image/gif"/>
  <Override PartName="/ppt/media/image1.gif" ContentType="image/gif"/>
  <Override PartName="/ppt/media/image2.gif" ContentType="image/gif"/>
  <Override PartName="/ppt/media/image13.gif" ContentType="image/gif"/>
  <Override PartName="/ppt/media/chimes.wav" ContentType="audio/x-wav"/>
  <Override PartName="/ppt/media/image4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E2DA-6823-493D-9B55-C6B2344B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54C1-0D0F-484D-9353-CFC0BB41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CC65-9BF4-411E-8C39-08E825E0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3918-4C4D-4DEC-8EEE-BDC490D1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2966-9707-46FA-9C98-B63CE1B9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86E5-5889-4928-9E79-FD53F044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D5A0-E873-4991-A5A9-BED6BA01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277F-5957-4EDF-82A9-4B100448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0871-2B29-46A8-9AF6-9282A1FC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3953-06BC-4FF1-9474-71AA9F60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5DA5-CA95-43A9-B042-22D2B8B1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4949-8D14-444B-994A-E8A1AAE3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434B5-A918-4CF1-AD83-D4138911B3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导入新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-1800" y="610920"/>
            <a:ext cx="9132840" cy="55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韩愈大半生仕宦蹉跎，五十岁才因参与平淮而擢升刑部侍郎。两年后又遭被贬，情绪十分低落。潮州州治潮阳在广东东部，距离当时的京师长安有千里之遥。韩愈只身一人，仓促上路，走到蓝田关口时，他的妻儿还没有跟上来，只有他的侄孙子跟了上来，所以他写下这首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19462" descr="t01ce14b42748697428"/>
          <p:cNvPicPr/>
          <p:nvPr/>
        </p:nvPicPr>
        <p:blipFill>
          <a:blip r:embed="rId1"/>
          <a:stretch/>
        </p:blipFill>
        <p:spPr>
          <a:xfrm>
            <a:off x="-1440" y="5640480"/>
            <a:ext cx="9132840" cy="11970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59394" descr="yaya"/>
          <p:cNvPicPr/>
          <p:nvPr/>
        </p:nvPicPr>
        <p:blipFill>
          <a:blip r:embed="rId2"/>
          <a:stretch/>
        </p:blipFill>
        <p:spPr>
          <a:xfrm>
            <a:off x="0" y="-3240"/>
            <a:ext cx="933480" cy="98280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析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815760"/>
            <a:ext cx="9144000" cy="60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首联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直言进谏，获罪被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颔联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忠心国事，抑郁难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颈联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忧国思亲，悲壮怨愤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借景抒情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尾联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话别侄孙，交代后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39942" descr="t0139cd750c73f6119c"/>
          <p:cNvPicPr/>
          <p:nvPr/>
        </p:nvPicPr>
        <p:blipFill>
          <a:blip r:embed="rId1"/>
          <a:stretch/>
        </p:blipFill>
        <p:spPr>
          <a:xfrm>
            <a:off x="0" y="4489560"/>
            <a:ext cx="9144000" cy="236844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阅读理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536400"/>
            <a:ext cx="9144000" cy="63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诗歌的前两句点明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自己获罪被贬的原因。同时也有虽遭祸被贬亦无怨无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开头两句有一对反义词，找出来，说说有何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朝”与“夕”。说明那“一封书”之罪，所得的命运是“朝奏”而“夕贬”。且一贬就是八千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55297" descr="1"/>
          <p:cNvPicPr/>
          <p:nvPr/>
        </p:nvPicPr>
        <p:blipFill>
          <a:blip r:embed="rId1"/>
          <a:stretch/>
        </p:blipFill>
        <p:spPr>
          <a:xfrm>
            <a:off x="-112680" y="6558120"/>
            <a:ext cx="9239040" cy="29988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、诗歌的三、四句表现了韩愈怎样的性格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作者在此申述了自己忠而获罪和非罪远谪的愤慨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尽管招来一场弥天大祸，他还是老而弥坚，表现了他刚直不阿的性格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59413" descr="t01c350bd54c0a89380"/>
          <p:cNvPicPr/>
          <p:nvPr/>
        </p:nvPicPr>
        <p:blipFill>
          <a:blip r:embed="rId1"/>
          <a:stretch/>
        </p:blipFill>
        <p:spPr>
          <a:xfrm>
            <a:off x="0" y="4280040"/>
            <a:ext cx="9144000" cy="257796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2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0" y="14040"/>
            <a:ext cx="9145440" cy="68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诗歌的五、六两句描写什么？作者借景抒发了怎样的感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描写环境。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他立马蓝关，大雪寒天，联想到前路的艰难困苦，未免露出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英雄失路之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最后两句诗表达了作者怎样的感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表达了作者凄楚的激愤之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61441" descr="z2"/>
          <p:cNvPicPr/>
          <p:nvPr/>
        </p:nvPicPr>
        <p:blipFill>
          <a:blip r:embed="rId1"/>
          <a:stretch/>
        </p:blipFill>
        <p:spPr>
          <a:xfrm>
            <a:off x="0" y="4491000"/>
            <a:ext cx="9145440" cy="240048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2" name="chimes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诗歌中运用了哪些对比手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汉仪大隶书简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汉仪大隶书简"/>
              </a:rPr>
              <a:t>朝奏”和“夕贬”；“九重天”和“路八千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诗歌中“横”与“拥”字用得较有意境，说说这样用的好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  “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横”状广度，“拥”状高度，故全诗气势磅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66588" descr="t01b29c290af34b9bd0"/>
          <p:cNvPicPr/>
          <p:nvPr/>
        </p:nvPicPr>
        <p:blipFill>
          <a:blip r:embed="rId1"/>
          <a:stretch/>
        </p:blipFill>
        <p:spPr>
          <a:xfrm>
            <a:off x="0" y="4881600"/>
            <a:ext cx="9144000" cy="197640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2" name="chimes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18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主题思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681120"/>
            <a:ext cx="9144000" cy="61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本诗把朝廷的腐败同自己的不幸遭遇结合到一起来写，怨愤之情及凄楚之情流露于字里行间，是一首比较深刻的政治抒情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66584" descr="t018f6a28ae7dca53b8"/>
          <p:cNvPicPr/>
          <p:nvPr/>
        </p:nvPicPr>
        <p:blipFill>
          <a:blip r:embed="rId1"/>
          <a:stretch/>
        </p:blipFill>
        <p:spPr>
          <a:xfrm>
            <a:off x="0" y="3646440"/>
            <a:ext cx="9144000" cy="321156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7972560" cy="15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左迁至蓝关示侄孙湘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韩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-27000" y="1355760"/>
            <a:ext cx="9104400" cy="546588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786960"/>
            <a:ext cx="9144000" cy="60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了解与韩愈有关的文学常识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结合历史背景深入领会诗歌的思想内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习作者热爱祖国、刚直不阿的品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背诵、默写诗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18462" descr="t01f647d906059fcdcf"/>
          <p:cNvPicPr/>
          <p:nvPr/>
        </p:nvPicPr>
        <p:blipFill>
          <a:blip r:embed="rId1"/>
          <a:stretch/>
        </p:blipFill>
        <p:spPr>
          <a:xfrm>
            <a:off x="-608040" y="5114880"/>
            <a:ext cx="10360080" cy="163836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2701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:\柳6.jpg"/>
          <p:cNvPicPr/>
          <p:nvPr/>
        </p:nvPicPr>
        <p:blipFill>
          <a:blip r:embed="rId1"/>
          <a:stretch/>
        </p:blipFill>
        <p:spPr>
          <a:xfrm>
            <a:off x="0" y="836640"/>
            <a:ext cx="2270160" cy="602136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3076"/>
          <p:cNvSpPr/>
          <p:nvPr/>
        </p:nvSpPr>
        <p:spPr>
          <a:xfrm>
            <a:off x="2195640" y="1197000"/>
            <a:ext cx="69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3077"/>
          <p:cNvSpPr/>
          <p:nvPr/>
        </p:nvSpPr>
        <p:spPr>
          <a:xfrm>
            <a:off x="2270160" y="0"/>
            <a:ext cx="6800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韩愈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68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2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，字退之，世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韩昌黎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昌黎先生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唐朝杰出的文学家，思想家，哲学家，政治家。与柳宗元、欧阳修、王安石、苏轼、苏辙、苏洵、曾巩合称为“唐宋八大家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99"/>
          <p:cNvSpPr/>
          <p:nvPr/>
        </p:nvSpPr>
        <p:spPr>
          <a:xfrm>
            <a:off x="-9360" y="25560"/>
            <a:ext cx="9135720" cy="69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左迁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至蓝关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示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侄孙湘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             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韩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一封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朝奏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九重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天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夕贬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潮州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路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八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欲为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圣明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除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弊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肯将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衰朽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惜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残年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云横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秦岭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家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何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雪拥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蓝关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马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不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知汝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远来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应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有意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好收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吾骨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瘴江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1268" descr="t0199adfd4ee74624f3"/>
          <p:cNvPicPr/>
          <p:nvPr/>
        </p:nvPicPr>
        <p:blipFill>
          <a:blip r:embed="rId1"/>
          <a:stretch/>
        </p:blipFill>
        <p:spPr>
          <a:xfrm>
            <a:off x="5654520" y="1138320"/>
            <a:ext cx="3473640" cy="571176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历史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835200"/>
            <a:ext cx="9144000" cy="60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唐宪宗元和十四年，当时韩愈担任刑部侍郎。唐宪宗要“迎佛骨入大内”，韩愈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论佛骨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劝谏，结果触怒了唐宪宗，几乎被定为死罪，后经他人说情，才改为被贬潮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21510" descr="t01e5e4bd24de49ad29"/>
          <p:cNvPicPr/>
          <p:nvPr/>
        </p:nvPicPr>
        <p:blipFill>
          <a:blip r:embed="rId1"/>
          <a:stretch/>
        </p:blipFill>
        <p:spPr>
          <a:xfrm>
            <a:off x="0" y="4070520"/>
            <a:ext cx="9144000" cy="2787480"/>
          </a:xfrm>
          <a:prstGeom prst="rect">
            <a:avLst/>
          </a:prstGeom>
          <a:ln w="0">
            <a:noFill/>
          </a:ln>
        </p:spPr>
      </p:pic>
      <p:pic>
        <p:nvPicPr>
          <p:cNvPr id="60" name="图片 60417" descr="w028"/>
          <p:cNvPicPr/>
          <p:nvPr/>
        </p:nvPicPr>
        <p:blipFill>
          <a:blip r:embed="rId2"/>
          <a:stretch/>
        </p:blipFill>
        <p:spPr>
          <a:xfrm>
            <a:off x="0" y="0"/>
            <a:ext cx="1244520" cy="120960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字词注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28800" y="682560"/>
            <a:ext cx="9132840" cy="62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左迁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降职，贬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蓝关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蓝田县东南，即蓝田关。   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封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指韩愈的谏书《论佛骨表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朝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zhāo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奏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早晨送呈奏章。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九重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chóng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天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皇帝的宫殿，这里指皇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路八千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泛指路途遥远。八千，不是确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35876" descr="t01111c265b0c57e2ae"/>
          <p:cNvPicPr/>
          <p:nvPr/>
        </p:nvPicPr>
        <p:blipFill>
          <a:blip r:embed="rId1"/>
          <a:stretch/>
        </p:blipFill>
        <p:spPr>
          <a:xfrm>
            <a:off x="2538360" y="6013440"/>
            <a:ext cx="6703920" cy="107964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2240" y="-34920"/>
            <a:ext cx="9145800" cy="68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圣明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指皇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弊事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政治上的弊端，指迎佛骨事。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肯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岂肯，哪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应有意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应该有所打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瘴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zhàng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江边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指岭南。潮州在岭南，古时说岭南多瘴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15370" descr="t01896a76a85b25820e"/>
          <p:cNvPicPr/>
          <p:nvPr/>
        </p:nvPicPr>
        <p:blipFill>
          <a:blip r:embed="rId1"/>
          <a:stretch/>
        </p:blipFill>
        <p:spPr>
          <a:xfrm>
            <a:off x="12600" y="4102200"/>
            <a:ext cx="9147240" cy="274644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翻译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555120"/>
            <a:ext cx="9144000" cy="63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篇谏书早晨上奏给皇帝，晚上就被贬官到路途遥远的潮阳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想替皇上除去有害的事，哪能因衰老就吝惜残余的生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云彩横出于南山，我的家在哪里？在白雪厚积的蓝田关外，马也停住脚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知道你远道而来定会有所打算，正好在瘴江边收殓我的尸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53265" descr="4"/>
          <p:cNvPicPr/>
          <p:nvPr/>
        </p:nvPicPr>
        <p:blipFill>
          <a:blip r:embed="rId1"/>
          <a:stretch/>
        </p:blipFill>
        <p:spPr>
          <a:xfrm>
            <a:off x="0" y="6442200"/>
            <a:ext cx="9144000" cy="41580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5:05:00Z</dcterms:created>
  <dc:creator>User</dc:creator>
  <dc:description/>
  <dc:language>en-US</dc:language>
  <cp:lastModifiedBy>admin</cp:lastModifiedBy>
  <dcterms:modified xsi:type="dcterms:W3CDTF">2019-05-28T04:16:42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