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98B8-22D8-473C-8047-3B2E00D7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7AD-9109-4A99-9FAD-20653EA7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8F374-79DF-49E8-ABBD-F2BEE3B46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B3B85-D2F0-4B28-9A1E-DA08D545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CF6E5-44A2-41ED-BA8B-CCEA248B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6F3DD-48AD-42EE-80DC-22A40F5B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22A97-1A5E-4A30-B099-8F4198FC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15B37-3C97-42F4-BF06-32DA4478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6375B-A9A9-40FE-B8A4-56739B36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ADBCF-55CA-494C-AA50-D1AF3253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E9E8A-DCDE-4E0E-B13F-915CC3E9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DCD-D2B7-47CD-9F5E-D2AF407A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2C9D-5F75-418F-A6D5-8C132767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C8DD-AED3-457B-B7C2-B4FC13AD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CE0F-2C9D-457E-BB9A-45C3420B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3073-E893-4C2C-BC62-A2F5136A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FE7A-550C-4C21-97D0-C2121169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21A1-4A5B-4A6D-8D6D-DA9927AE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BE4A-0E6F-42A0-B1F8-0BE37EFE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CCED-0EA0-43DD-8E47-73E667F4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EFA6-B725-43DC-92C9-9849BDC0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1723-149F-4F4B-82E1-26C3960D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2B7A-6336-4B31-9B09-1425BE5D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2245-85D9-4EC0-AF4A-F104BE36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39CB-1427-4ADC-9BC3-A85B2310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BC9A-DBEF-49C6-A272-CF210FC9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7306A-4524-4C46-9AF0-96595F9C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B1C70-2F1C-47A2-921B-AF249DE4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A881C-9FCD-4CED-9551-F4EE4209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605A0-1BA5-46EC-A88D-78C9FF4F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A921D-FD63-4F4C-B304-27F4AC0C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951-BA07-4849-BF93-13E63722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EA542-7E05-4E8E-8189-67B9D345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AB8FE-ABD5-4573-8ED1-DB6BC0FC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F9C91-7445-41AD-AB35-1249ED31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FFAB1-B594-4859-9021-EA1474B2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5CA9E-ADCD-4F35-A429-AB72E382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19375-C2A0-4171-9FFE-402123F28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A5B69-D9BE-466E-884D-6768DFB4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0D65C-65B3-42E4-ABB9-B5F57AA4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E06BA-791E-4BF1-89FF-D02B3096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A6029-321C-488A-B7FF-61C6941B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E516-CD47-4D7D-978F-C55F0902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2F12F-BA6F-4B7E-9139-8972F737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3AFC5-C294-45F9-A2DC-B32C3083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CA57D-B050-4CCE-B77E-B318358F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E2FEE-BF72-4A99-9824-58BBD82F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C665C-251A-4FFD-B671-C886BC63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83BAE-64CC-4B9D-BE04-6B5C8127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A46F1-8385-404A-84EF-8D0D1CE1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67FBB-4B1E-49C3-9015-CA66B644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FE570-23FB-485D-B04B-F272D08D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D63F9-D13E-44D1-AF9D-3C44DA2F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36B8-852D-4E54-9DB3-A6472D00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5E868-BB89-46DF-B446-40E746E1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6C9D9-C62C-497F-92EB-BADA0753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AB6EC-F12E-4D7A-A57E-253656D4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28C44-18B3-4AC7-BB93-DB2C03EF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2AB62-FDB9-4317-8126-094D2A1A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FE1C0-6B64-4CC9-A382-33F1A7BF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EA89C-C835-4A91-8432-0AA17219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21EAE-5D73-40A3-BC10-FDF34E60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5DE12-4785-4A80-A5B5-7113F1E4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B30D6-6BC5-46C8-BE0A-57F98900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4A94-F0A6-41F0-86FC-05340A38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326E1-F245-4E3D-B51B-BC395DB8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3995A-620B-4EC6-83AB-A845BE26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6322D-3ED4-49ED-AB60-E4E77CC8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8A21A-331B-4EC8-8259-9D49012E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360B1-A2B9-4704-A579-E6424A6C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F61CF-FE4C-477C-91A7-42006F3D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5FC4B-CAD8-46F1-8014-3681C202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0855C-4F37-4920-8B46-5257F725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3B1CC-1222-424C-AD48-C3BF6483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3A962-87AB-4FF9-85CE-EE2067BC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9A4-56AB-4497-9610-AD163F42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44364-A6D6-47E3-A55C-66BDB547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97CA2-AE8B-4A02-97A3-C9201A5B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810B6-D25E-4B2D-8D81-C071C898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38938-03D6-4833-8136-1CF25F9A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91E98-6C2A-4947-972F-8A787FFC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07FFA-00AE-459F-9BE2-18AF2B1A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2CD85-F68D-4A2E-BBF2-581DCC5A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7E8EC-B2FD-4D59-8917-2BAD9DD3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724B8-4A0E-413F-9DFD-24EC7CB7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94B7F-8623-4865-9F80-BFE8A7A5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1AF0-7099-4F3D-B234-B834D736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477B6-5489-4816-8EAE-B0772A44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DE1E3-A7EE-4A5A-95B1-BB332D30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9619C-0422-44DB-A497-E536B000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08580-9135-453C-829E-5C98EF99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34D1D-F868-42C3-B138-28DE2AB1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FE74A-F509-4FF3-A8D5-705789A3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D88B9-FDF4-4C44-8324-9C8B8405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7B70F-8C27-4268-AE0C-DB65272C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530B8-5FB6-4184-9C99-63E26463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92EAB-655A-447C-B354-69B53213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EF6-E64F-45E6-A819-F862E419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D9310-C97F-4D5B-99D0-7C50F680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2361A-72C6-4EF3-BE7D-DFFBAABE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55507-1716-4E3C-92B7-D87E3031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EF30A-2379-44DE-AFB4-60CE01F9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65F1F-524D-43A4-820E-C021F6E6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178CC-808D-434F-AC55-508EB109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40D57-D21B-4011-8B0B-2A955AF6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F7E6D-3A75-4A0D-ACE3-2CB7288C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1B74B-EBA4-4352-8D15-3FB5E903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B6127-223A-4F58-9DE0-83A56187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b83d68">
                  <a:alpha val="40000"/>
                </a:srgbClr>
              </a:gs>
              <a:gs pos="100000">
                <a:srgbClr val="b83d6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7edf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40FA-33E9-468B-B787-0BD3D4847C44}" type="slidenum">
              <a:rPr b="0" lang="en-US" sz="1100" spc="-1" strike="noStrike">
                <a:solidFill>
                  <a:srgbClr val="f7edf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b83d68">
                  <a:alpha val="40000"/>
                </a:srgbClr>
              </a:gs>
              <a:gs pos="100000">
                <a:srgbClr val="b83d6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b83d68">
                  <a:alpha val="40000"/>
                </a:srgbClr>
              </a:gs>
              <a:gs pos="100000">
                <a:srgbClr val="b83d6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b83d68">
                  <a:alpha val="40000"/>
                </a:srgbClr>
              </a:gs>
              <a:gs pos="100000">
                <a:srgbClr val="b83d6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e6ced4">
                  <a:alpha val="50196"/>
                </a:srgbClr>
              </a:gs>
              <a:gs pos="100000">
                <a:srgbClr val="e6ced4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7edf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19F3-2194-41FA-A71A-311589ECAF7A}" type="slidenum">
              <a:rPr b="0" lang="en-US" sz="1100" spc="-1" strike="noStrike">
                <a:solidFill>
                  <a:srgbClr val="f7edf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b83d68">
                  <a:alpha val="40000"/>
                </a:srgbClr>
              </a:gs>
              <a:gs pos="100000">
                <a:srgbClr val="b83d6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b83d68">
                  <a:alpha val="40000"/>
                </a:srgbClr>
              </a:gs>
              <a:gs pos="100000">
                <a:srgbClr val="b83d6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e6ced4">
                  <a:alpha val="50196"/>
                </a:srgbClr>
              </a:gs>
              <a:gs pos="100000">
                <a:srgbClr val="e6ced4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7edf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E572-C9A1-4121-BC17-DEADC980AC61}" type="slidenum">
              <a:rPr b="0" lang="en-US" sz="1100" spc="-1" strike="noStrike">
                <a:solidFill>
                  <a:srgbClr val="f7edf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b83d68">
                  <a:alpha val="40000"/>
                </a:srgbClr>
              </a:gs>
              <a:gs pos="100000">
                <a:srgbClr val="b83d6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b83d68">
                  <a:alpha val="40000"/>
                </a:srgbClr>
              </a:gs>
              <a:gs pos="100000">
                <a:srgbClr val="b83d6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e6ced4">
                  <a:alpha val="50196"/>
                </a:srgbClr>
              </a:gs>
              <a:gs pos="100000">
                <a:srgbClr val="e6ced4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7edf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36F4-A5B7-4593-BAEA-6ED779028D23}" type="slidenum">
              <a:rPr b="0" lang="en-US" sz="1100" spc="-1" strike="noStrike">
                <a:solidFill>
                  <a:srgbClr val="f7edf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b83d68">
                  <a:alpha val="40000"/>
                </a:srgbClr>
              </a:gs>
              <a:gs pos="100000">
                <a:srgbClr val="b83d6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b83d68">
                  <a:alpha val="40000"/>
                </a:srgbClr>
              </a:gs>
              <a:gs pos="100000">
                <a:srgbClr val="b83d6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e6ced4">
                  <a:alpha val="50196"/>
                </a:srgbClr>
              </a:gs>
              <a:gs pos="100000">
                <a:srgbClr val="e6ced4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7edf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65B5-4015-421D-BE49-EFBE0E170294}" type="slidenum">
              <a:rPr b="0" lang="en-US" sz="1100" spc="-1" strike="noStrike">
                <a:solidFill>
                  <a:srgbClr val="f7edf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b83d68">
                  <a:alpha val="40000"/>
                </a:srgbClr>
              </a:gs>
              <a:gs pos="100000">
                <a:srgbClr val="b83d6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b83d68">
                  <a:alpha val="40000"/>
                </a:srgbClr>
              </a:gs>
              <a:gs pos="100000">
                <a:srgbClr val="b83d6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e6ced4">
                  <a:alpha val="50196"/>
                </a:srgbClr>
              </a:gs>
              <a:gs pos="100000">
                <a:srgbClr val="e6ced4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7edf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5E7B-C2E5-4DF8-B212-0ADC5AE375C6}" type="slidenum">
              <a:rPr b="0" lang="en-US" sz="1100" spc="-1" strike="noStrike">
                <a:solidFill>
                  <a:srgbClr val="f7edf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b83d68">
                  <a:alpha val="40000"/>
                </a:srgbClr>
              </a:gs>
              <a:gs pos="100000">
                <a:srgbClr val="b83d6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b83d68">
                  <a:alpha val="40000"/>
                </a:srgbClr>
              </a:gs>
              <a:gs pos="100000">
                <a:srgbClr val="b83d6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e6ced4">
                  <a:alpha val="50196"/>
                </a:srgbClr>
              </a:gs>
              <a:gs pos="100000">
                <a:srgbClr val="e6ced4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7edf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95CE-E976-4C28-9BB7-0DD6503E684C}" type="slidenum">
              <a:rPr b="0" lang="en-US" sz="1100" spc="-1" strike="noStrike">
                <a:solidFill>
                  <a:srgbClr val="f7edf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b83d68">
                  <a:alpha val="40000"/>
                </a:srgbClr>
              </a:gs>
              <a:gs pos="100000">
                <a:srgbClr val="b83d6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b83d68">
                  <a:alpha val="40000"/>
                </a:srgbClr>
              </a:gs>
              <a:gs pos="100000">
                <a:srgbClr val="b83d6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e6ced4">
                  <a:alpha val="50196"/>
                </a:srgbClr>
              </a:gs>
              <a:gs pos="100000">
                <a:srgbClr val="e6ced4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7edf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D13B-BED4-41D7-942F-EE608AE266CB}" type="slidenum">
              <a:rPr b="0" lang="en-US" sz="1100" spc="-1" strike="noStrike">
                <a:solidFill>
                  <a:srgbClr val="f7edf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b83d68">
                  <a:alpha val="40000"/>
                </a:srgbClr>
              </a:gs>
              <a:gs pos="100000">
                <a:srgbClr val="b83d6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b83d68">
                  <a:alpha val="40000"/>
                </a:srgbClr>
              </a:gs>
              <a:gs pos="100000">
                <a:srgbClr val="b83d6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e6ced4">
                  <a:alpha val="50196"/>
                </a:srgbClr>
              </a:gs>
              <a:gs pos="100000">
                <a:srgbClr val="e6ced4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4e7ed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7edf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6D3F-FC63-449B-ABBD-58DDEDB4FFCD}" type="slidenum">
              <a:rPr b="0" lang="en-US" sz="1100" spc="-1" strike="noStrike">
                <a:solidFill>
                  <a:srgbClr val="f7edf1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97256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4e7ed"/>
                </a:solidFill>
                <a:latin typeface="华文隶书"/>
                <a:ea typeface="华文隶书"/>
              </a:rPr>
              <a:t>左迁至蓝关示侄孙湘</a:t>
            </a:r>
            <a:br>
              <a:rPr sz="5400"/>
            </a:br>
            <a:r>
              <a:rPr b="0" lang="zh-CN" sz="3600" spc="-1" strike="noStrike">
                <a:solidFill>
                  <a:srgbClr val="f4e7ed"/>
                </a:solidFill>
                <a:latin typeface="华文隶书"/>
                <a:ea typeface="华文隶书"/>
              </a:rPr>
              <a:t>韩愈</a:t>
            </a:r>
            <a:endParaRPr b="0" lang="en-US" sz="36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396" name="动作按钮: 影片 2"/>
          <p:cNvSpPr/>
          <p:nvPr/>
        </p:nvSpPr>
        <p:spPr>
          <a:xfrm>
            <a:off x="8143920" y="6215040"/>
            <a:ext cx="428760" cy="399960"/>
          </a:xfrm>
          <a:custGeom>
            <a:avLst/>
            <a:gdLst>
              <a:gd name="textAreaLeft" fmla="*/ 25920 w 428760"/>
              <a:gd name="textAreaRight" fmla="*/ 402840 w 42876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3154" h="21600">
                <a:moveTo>
                  <a:pt x="0" y="0"/>
                </a:moveTo>
                <a:lnTo>
                  <a:pt x="23154" y="0"/>
                </a:lnTo>
                <a:lnTo>
                  <a:pt x="23154" y="21600"/>
                </a:lnTo>
                <a:lnTo>
                  <a:pt x="0" y="21600"/>
                </a:lnTo>
                <a:close/>
              </a:path>
              <a:path fill="lightenLess" w="23154" h="21600">
                <a:moveTo>
                  <a:pt x="0" y="0"/>
                </a:moveTo>
                <a:lnTo>
                  <a:pt x="23154" y="0"/>
                </a:lnTo>
                <a:lnTo>
                  <a:pt x="21754" y="1400"/>
                </a:lnTo>
                <a:lnTo>
                  <a:pt x="1400" y="1400"/>
                </a:lnTo>
                <a:close/>
              </a:path>
              <a:path fill="darken" w="23154" h="21600">
                <a:moveTo>
                  <a:pt x="23154" y="0"/>
                </a:moveTo>
                <a:lnTo>
                  <a:pt x="23154" y="21600"/>
                </a:lnTo>
                <a:lnTo>
                  <a:pt x="21754" y="20200"/>
                </a:lnTo>
                <a:lnTo>
                  <a:pt x="21754" y="1400"/>
                </a:lnTo>
                <a:close/>
              </a:path>
              <a:path fill="darkenLess" w="23154" h="21600">
                <a:moveTo>
                  <a:pt x="23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54" y="20200"/>
                </a:lnTo>
                <a:close/>
              </a:path>
              <a:path fill="lighten" w="23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54" h="21600">
                <a:moveTo>
                  <a:pt x="4570" y="7301"/>
                </a:moveTo>
                <a:lnTo>
                  <a:pt x="5484" y="7301"/>
                </a:lnTo>
                <a:lnTo>
                  <a:pt x="5867" y="7667"/>
                </a:lnTo>
                <a:lnTo>
                  <a:pt x="15076" y="7667"/>
                </a:lnTo>
                <a:lnTo>
                  <a:pt x="15633" y="8224"/>
                </a:lnTo>
                <a:lnTo>
                  <a:pt x="15633" y="8772"/>
                </a:lnTo>
                <a:lnTo>
                  <a:pt x="17478" y="8772"/>
                </a:lnTo>
                <a:lnTo>
                  <a:pt x="17844" y="8224"/>
                </a:lnTo>
                <a:lnTo>
                  <a:pt x="18583" y="8224"/>
                </a:lnTo>
                <a:lnTo>
                  <a:pt x="18583" y="13376"/>
                </a:lnTo>
                <a:lnTo>
                  <a:pt x="17844" y="13376"/>
                </a:lnTo>
                <a:lnTo>
                  <a:pt x="17478" y="12828"/>
                </a:lnTo>
                <a:lnTo>
                  <a:pt x="15633" y="12828"/>
                </a:lnTo>
                <a:lnTo>
                  <a:pt x="15633" y="14107"/>
                </a:lnTo>
                <a:lnTo>
                  <a:pt x="6050" y="14107"/>
                </a:lnTo>
                <a:lnTo>
                  <a:pt x="6050" y="9877"/>
                </a:lnTo>
                <a:lnTo>
                  <a:pt x="5867" y="9877"/>
                </a:lnTo>
                <a:lnTo>
                  <a:pt x="5484" y="10243"/>
                </a:lnTo>
                <a:lnTo>
                  <a:pt x="4570" y="10243"/>
                </a:lnTo>
                <a:close/>
              </a:path>
            </a:pathLst>
          </a:custGeom>
          <a:solidFill>
            <a:srgbClr val="b83d68"/>
          </a:solidFill>
          <a:ln w="424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动作按钮: 声音 3"/>
          <p:cNvSpPr/>
          <p:nvPr/>
        </p:nvSpPr>
        <p:spPr>
          <a:xfrm>
            <a:off x="500040" y="6215040"/>
            <a:ext cx="428760" cy="399960"/>
          </a:xfrm>
          <a:custGeom>
            <a:avLst/>
            <a:gdLst>
              <a:gd name="textAreaLeft" fmla="*/ 25920 w 428760"/>
              <a:gd name="textAreaRight" fmla="*/ 402840 w 42876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3154" h="21600">
                <a:moveTo>
                  <a:pt x="0" y="0"/>
                </a:moveTo>
                <a:lnTo>
                  <a:pt x="23154" y="0"/>
                </a:lnTo>
                <a:lnTo>
                  <a:pt x="23154" y="21600"/>
                </a:lnTo>
                <a:lnTo>
                  <a:pt x="0" y="21600"/>
                </a:lnTo>
                <a:close/>
              </a:path>
              <a:path fill="lightenLess" w="23154" h="21600">
                <a:moveTo>
                  <a:pt x="0" y="0"/>
                </a:moveTo>
                <a:lnTo>
                  <a:pt x="23154" y="0"/>
                </a:lnTo>
                <a:lnTo>
                  <a:pt x="21754" y="1400"/>
                </a:lnTo>
                <a:lnTo>
                  <a:pt x="1400" y="1400"/>
                </a:lnTo>
                <a:close/>
              </a:path>
              <a:path fill="darken" w="23154" h="21600">
                <a:moveTo>
                  <a:pt x="23154" y="0"/>
                </a:moveTo>
                <a:lnTo>
                  <a:pt x="23154" y="21600"/>
                </a:lnTo>
                <a:lnTo>
                  <a:pt x="21754" y="20200"/>
                </a:lnTo>
                <a:lnTo>
                  <a:pt x="21754" y="1400"/>
                </a:lnTo>
                <a:close/>
              </a:path>
              <a:path fill="darkenLess" w="23154" h="21600">
                <a:moveTo>
                  <a:pt x="23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54" y="20200"/>
                </a:lnTo>
                <a:close/>
              </a:path>
              <a:path fill="lighten" w="23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54" h="21600">
                <a:moveTo>
                  <a:pt x="4570" y="8406"/>
                </a:moveTo>
                <a:lnTo>
                  <a:pt x="9001" y="8406"/>
                </a:lnTo>
                <a:lnTo>
                  <a:pt x="13422" y="3794"/>
                </a:lnTo>
                <a:lnTo>
                  <a:pt x="13422" y="17806"/>
                </a:lnTo>
                <a:lnTo>
                  <a:pt x="9001" y="13194"/>
                </a:lnTo>
                <a:lnTo>
                  <a:pt x="4570" y="13194"/>
                </a:lnTo>
                <a:close/>
              </a:path>
              <a:path fill="darken" w="23154" h="21600">
                <a:moveTo>
                  <a:pt x="15076" y="10800"/>
                </a:moveTo>
                <a:lnTo>
                  <a:pt x="18583" y="10800"/>
                </a:lnTo>
              </a:path>
              <a:path fill="darken" w="23154" h="21600">
                <a:moveTo>
                  <a:pt x="15076" y="8406"/>
                </a:moveTo>
                <a:lnTo>
                  <a:pt x="18583" y="5639"/>
                </a:lnTo>
              </a:path>
              <a:path fill="darken" w="23154" h="21600">
                <a:moveTo>
                  <a:pt x="15076" y="13194"/>
                </a:moveTo>
                <a:lnTo>
                  <a:pt x="18583" y="15961"/>
                </a:lnTo>
              </a:path>
            </a:pathLst>
          </a:custGeom>
          <a:solidFill>
            <a:srgbClr val="b83d68"/>
          </a:solidFill>
          <a:ln w="424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5" descr="H:\柳6.jpg"/>
          <p:cNvPicPr/>
          <p:nvPr/>
        </p:nvPicPr>
        <p:blipFill>
          <a:blip r:embed="rId1"/>
          <a:stretch/>
        </p:blipFill>
        <p:spPr>
          <a:xfrm>
            <a:off x="3214800" y="2786040"/>
            <a:ext cx="257148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e7ed"/>
                </a:solidFill>
                <a:latin typeface="隶书"/>
                <a:ea typeface="隶书"/>
              </a:rPr>
              <a:t>8</a:t>
            </a:r>
            <a:r>
              <a:rPr b="0" lang="zh-CN" sz="3600" spc="-1" strike="noStrike">
                <a:solidFill>
                  <a:srgbClr val="f4e7ed"/>
                </a:solidFill>
                <a:latin typeface="隶书"/>
                <a:ea typeface="隶书"/>
              </a:rPr>
              <a:t>、诗歌中</a:t>
            </a:r>
            <a:r>
              <a:rPr b="0" lang="zh-CN" sz="3600" spc="-1" strike="noStrike">
                <a:solidFill>
                  <a:srgbClr val="f4e7ed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f4e7ed"/>
                </a:solidFill>
                <a:latin typeface="隶书"/>
                <a:ea typeface="隶书"/>
              </a:rPr>
              <a:t>横</a:t>
            </a:r>
            <a:r>
              <a:rPr b="0" lang="zh-CN" sz="3600" spc="-1" strike="noStrike">
                <a:solidFill>
                  <a:srgbClr val="f4e7ed"/>
                </a:solidFill>
                <a:latin typeface="Arial"/>
                <a:ea typeface="隶书"/>
              </a:rPr>
              <a:t>”</a:t>
            </a:r>
            <a:r>
              <a:rPr b="0" lang="zh-CN" sz="3600" spc="-1" strike="noStrike">
                <a:solidFill>
                  <a:srgbClr val="f4e7ed"/>
                </a:solidFill>
                <a:latin typeface="隶书"/>
                <a:ea typeface="隶书"/>
              </a:rPr>
              <a:t>与</a:t>
            </a:r>
            <a:r>
              <a:rPr b="0" lang="zh-CN" sz="3600" spc="-1" strike="noStrike">
                <a:solidFill>
                  <a:srgbClr val="f4e7ed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f4e7ed"/>
                </a:solidFill>
                <a:latin typeface="隶书"/>
                <a:ea typeface="隶书"/>
              </a:rPr>
              <a:t>拥</a:t>
            </a:r>
            <a:r>
              <a:rPr b="0" lang="zh-CN" sz="3600" spc="-1" strike="noStrike">
                <a:solidFill>
                  <a:srgbClr val="f4e7ed"/>
                </a:solidFill>
                <a:latin typeface="Arial"/>
                <a:ea typeface="隶书"/>
              </a:rPr>
              <a:t>”</a:t>
            </a:r>
            <a:r>
              <a:rPr b="0" lang="zh-CN" sz="3600" spc="-1" strike="noStrike">
                <a:solidFill>
                  <a:srgbClr val="f4e7ed"/>
                </a:solidFill>
                <a:latin typeface="隶书"/>
                <a:ea typeface="隶书"/>
              </a:rPr>
              <a:t>字用得较有意境，说说这样用的好处。</a:t>
            </a:r>
            <a:endParaRPr b="0" lang="en-US" sz="36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4e7e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de66"/>
                </a:solidFill>
                <a:latin typeface="Franklin Gothic Book"/>
                <a:ea typeface="汉仪粗圆简"/>
              </a:rPr>
              <a:t>“</a:t>
            </a:r>
            <a:r>
              <a:rPr b="1" lang="zh-CN" sz="6000" spc="-1" strike="noStrike">
                <a:solidFill>
                  <a:srgbClr val="ffde66"/>
                </a:solidFill>
                <a:latin typeface="Franklin Gothic Book"/>
                <a:ea typeface="汉仪粗圆简"/>
              </a:rPr>
              <a:t>横”状广度，“拥”状高度，故全诗气势磅礴。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928800" y="42876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f0"/>
                </a:solidFill>
                <a:latin typeface="华文琥珀"/>
                <a:ea typeface="华文琥珀"/>
              </a:rPr>
              <a:t>总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839880" y="1314360"/>
            <a:ext cx="1371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首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颔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颈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尾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2057400" y="12952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被贬的原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5">
            <a:hlinkClick r:id="rId1" action="ppaction://hlinksldjump"/>
          </p:cNvPr>
          <p:cNvSpPr/>
          <p:nvPr/>
        </p:nvSpPr>
        <p:spPr>
          <a:xfrm>
            <a:off x="2057400" y="21337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申述忠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6">
            <a:hlinkClick r:id="rId2" action="ppaction://hlinksldjump"/>
          </p:cNvPr>
          <p:cNvSpPr/>
          <p:nvPr/>
        </p:nvSpPr>
        <p:spPr>
          <a:xfrm>
            <a:off x="2133720" y="2911320"/>
            <a:ext cx="236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即景抒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2057400" y="38257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交代后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8"/>
          <p:cNvSpPr/>
          <p:nvPr/>
        </p:nvSpPr>
        <p:spPr>
          <a:xfrm>
            <a:off x="5181480" y="53341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f16c2"/>
                </a:solidFill>
                <a:latin typeface="Times New Roman"/>
              </a:rPr>
              <a:t>肯，岂肯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9"/>
          <p:cNvGrpSpPr/>
          <p:nvPr/>
        </p:nvGrpSpPr>
        <p:grpSpPr>
          <a:xfrm>
            <a:off x="4724280" y="2255760"/>
            <a:ext cx="1447920" cy="2484360"/>
            <a:chOff x="4724280" y="2255760"/>
            <a:chExt cx="1447920" cy="2484360"/>
          </a:xfrm>
        </p:grpSpPr>
        <p:sp>
          <p:nvSpPr>
            <p:cNvPr id="425" name="AutoShape 10"/>
            <p:cNvSpPr/>
            <p:nvPr/>
          </p:nvSpPr>
          <p:spPr>
            <a:xfrm>
              <a:off x="4724280" y="2301840"/>
              <a:ext cx="990720" cy="2438280"/>
            </a:xfrm>
            <a:custGeom>
              <a:avLst/>
              <a:gdLst>
                <a:gd name="textAreaLeft" fmla="*/ 132480 w 990720"/>
                <a:gd name="textAreaRight" fmla="*/ 858240 w 990720"/>
                <a:gd name="textAreaTop" fmla="*/ 426600 h 2438280"/>
                <a:gd name="textAreaBottom" fmla="*/ 176796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Text Box 11"/>
            <p:cNvSpPr/>
            <p:nvPr/>
          </p:nvSpPr>
          <p:spPr>
            <a:xfrm>
              <a:off x="4724280" y="22557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紧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12"/>
            <p:cNvSpPr/>
            <p:nvPr/>
          </p:nvSpPr>
          <p:spPr>
            <a:xfrm>
              <a:off x="4800600" y="385596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Times New Roman"/>
                </a:rPr>
                <a:t>扣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8" name="Group 13"/>
          <p:cNvGrpSpPr/>
          <p:nvPr/>
        </p:nvGrpSpPr>
        <p:grpSpPr>
          <a:xfrm>
            <a:off x="6553080" y="2606760"/>
            <a:ext cx="2286000" cy="1859040"/>
            <a:chOff x="6553080" y="2606760"/>
            <a:chExt cx="2286000" cy="1859040"/>
          </a:xfrm>
        </p:grpSpPr>
        <p:sp>
          <p:nvSpPr>
            <p:cNvPr id="429" name="Text Box 14"/>
            <p:cNvSpPr/>
            <p:nvPr/>
          </p:nvSpPr>
          <p:spPr>
            <a:xfrm>
              <a:off x="6629400" y="2835360"/>
              <a:ext cx="220968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2609b9"/>
                  </a:solidFill>
                  <a:latin typeface="Times New Roman"/>
                  <a:ea typeface="隶书"/>
                </a:rPr>
                <a:t>(</a:t>
              </a:r>
              <a:r>
                <a:rPr b="0" i="1" lang="zh-CN" sz="4000" spc="-1" strike="noStrike">
                  <a:solidFill>
                    <a:srgbClr val="2609b9"/>
                  </a:solidFill>
                  <a:latin typeface="Times New Roman"/>
                  <a:ea typeface="隶书"/>
                </a:rPr>
                <a:t>愤</a:t>
              </a:r>
              <a:r>
                <a:rPr b="0" i="1" lang="en-US" sz="4000" spc="-1" strike="noStrike">
                  <a:solidFill>
                    <a:srgbClr val="2609b9"/>
                  </a:solidFill>
                  <a:latin typeface="Times New Roman"/>
                  <a:ea typeface="隶书"/>
                </a:rPr>
                <a:t>)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0" name="Group 15"/>
            <p:cNvGrpSpPr/>
            <p:nvPr/>
          </p:nvGrpSpPr>
          <p:grpSpPr>
            <a:xfrm>
              <a:off x="6553080" y="2606760"/>
              <a:ext cx="0" cy="1447920"/>
              <a:chOff x="6553080" y="2606760"/>
              <a:chExt cx="0" cy="1447920"/>
            </a:xfrm>
          </p:grpSpPr>
          <p:sp>
            <p:nvSpPr>
              <p:cNvPr id="431" name="Line 16"/>
              <p:cNvSpPr/>
              <p:nvPr/>
            </p:nvSpPr>
            <p:spPr>
              <a:xfrm>
                <a:off x="6553080" y="2606760"/>
                <a:ext cx="0" cy="838080"/>
              </a:xfrm>
              <a:prstGeom prst="line">
                <a:avLst/>
              </a:prstGeom>
              <a:ln w="5724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6553080" y="3444840"/>
                <a:ext cx="0" cy="60984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4e7ed"/>
                </a:solidFill>
                <a:latin typeface="华文新魏"/>
                <a:ea typeface="华文新魏"/>
              </a:rPr>
              <a:t>潮州韩文公祠对联</a:t>
            </a:r>
            <a:endParaRPr b="0" lang="en-US" sz="48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400" name="矩形 2"/>
          <p:cNvSpPr/>
          <p:nvPr/>
        </p:nvSpPr>
        <p:spPr>
          <a:xfrm>
            <a:off x="928800" y="1714680"/>
            <a:ext cx="735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b0f0"/>
                </a:solidFill>
                <a:latin typeface="华文行楷"/>
                <a:ea typeface="华文行楷"/>
              </a:rPr>
              <a:t>辟佛累千言</a:t>
            </a:r>
            <a:r>
              <a:rPr b="0" lang="en-US" sz="4800" spc="-1" strike="noStrike">
                <a:solidFill>
                  <a:srgbClr val="00b0f0"/>
                </a:solidFill>
                <a:latin typeface="华文行楷"/>
                <a:ea typeface="华文行楷"/>
              </a:rPr>
              <a:t>,</a:t>
            </a:r>
            <a:r>
              <a:rPr b="0" lang="zh-CN" sz="4800" spc="-1" strike="noStrike">
                <a:solidFill>
                  <a:srgbClr val="00b0f0"/>
                </a:solidFill>
                <a:latin typeface="华文行楷"/>
                <a:ea typeface="华文行楷"/>
              </a:rPr>
              <a:t>雪冷蓝关</a:t>
            </a:r>
            <a:r>
              <a:rPr b="0" lang="en-US" sz="4800" spc="-1" strike="noStrike">
                <a:solidFill>
                  <a:srgbClr val="00b0f0"/>
                </a:solidFill>
                <a:latin typeface="华文行楷"/>
                <a:ea typeface="华文行楷"/>
              </a:rPr>
              <a:t>,</a:t>
            </a:r>
            <a:r>
              <a:rPr b="0" lang="zh-CN" sz="4800" spc="-1" strike="noStrike">
                <a:solidFill>
                  <a:srgbClr val="00b0f0"/>
                </a:solidFill>
                <a:latin typeface="华文行楷"/>
                <a:ea typeface="华文行楷"/>
              </a:rPr>
              <a:t>从此儒风开岭娇</a:t>
            </a:r>
            <a:r>
              <a:rPr b="0" lang="en-US" sz="4800" spc="-1" strike="noStrike">
                <a:solidFill>
                  <a:srgbClr val="00b0f0"/>
                </a:solidFill>
                <a:latin typeface="华文行楷"/>
                <a:ea typeface="华文行楷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b0f0"/>
                </a:solidFill>
                <a:latin typeface="华文行楷"/>
                <a:ea typeface="华文行楷"/>
              </a:rPr>
              <a:t>到官才八月</a:t>
            </a:r>
            <a:r>
              <a:rPr b="0" lang="en-US" sz="4800" spc="-1" strike="noStrike">
                <a:solidFill>
                  <a:srgbClr val="00b0f0"/>
                </a:solidFill>
                <a:latin typeface="华文行楷"/>
                <a:ea typeface="华文行楷"/>
              </a:rPr>
              <a:t>,</a:t>
            </a:r>
            <a:r>
              <a:rPr b="0" lang="zh-CN" sz="4800" spc="-1" strike="noStrike">
                <a:solidFill>
                  <a:srgbClr val="00b0f0"/>
                </a:solidFill>
                <a:latin typeface="华文行楷"/>
                <a:ea typeface="华文行楷"/>
              </a:rPr>
              <a:t>潮平鳄渚</a:t>
            </a:r>
            <a:r>
              <a:rPr b="0" lang="en-US" sz="4800" spc="-1" strike="noStrike">
                <a:solidFill>
                  <a:srgbClr val="00b0f0"/>
                </a:solidFill>
                <a:latin typeface="华文行楷"/>
                <a:ea typeface="华文行楷"/>
              </a:rPr>
              <a:t>,</a:t>
            </a:r>
            <a:r>
              <a:rPr b="0" lang="zh-CN" sz="4800" spc="-1" strike="noStrike">
                <a:solidFill>
                  <a:srgbClr val="00b0f0"/>
                </a:solidFill>
                <a:latin typeface="华文行楷"/>
                <a:ea typeface="华文行楷"/>
              </a:rPr>
              <a:t>于今香火遍瀛洲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6239880" y="380880"/>
            <a:ext cx="23263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历史背景：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唐宪宗元和十四年，当时韩愈担任刑部侍郎。唐宪宗要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迎佛骨入大内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韩愈上</a:t>
            </a: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论佛骨表</a:t>
            </a: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》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劝谏，结果触怒了唐宪宗，几乎被定为死罪，后经他人说情，才改为被贬潮州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刘禹锡1">
            <a:hlinkClick r:id="rId1" action="ppaction://hlinksldjump"/>
          </p:cNvPr>
          <p:cNvPicPr/>
          <p:nvPr/>
        </p:nvPicPr>
        <p:blipFill>
          <a:blip r:embed="rId2"/>
          <a:srcRect l="0" t="0" r="0" b="7773"/>
          <a:stretch/>
        </p:blipFill>
        <p:spPr>
          <a:xfrm>
            <a:off x="457200" y="2514600"/>
            <a:ext cx="26258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1</a:t>
            </a:r>
            <a:r>
              <a:rPr b="0" lang="zh-CN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诗歌的前两句点明了什么？</a:t>
            </a:r>
            <a:endParaRPr b="0" lang="en-US" sz="48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4e7e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Franklin Gothic Book"/>
                <a:ea typeface="华文隶书"/>
              </a:rPr>
              <a:t>自己获罪被贬的原因。同时也有虽遭祸被贬亦无怨无悔。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b0f0"/>
                </a:solidFill>
                <a:latin typeface="隶书"/>
                <a:ea typeface="隶书"/>
              </a:rPr>
              <a:t>2</a:t>
            </a:r>
            <a:r>
              <a:rPr b="0" lang="zh-CN" sz="4300" spc="-1" strike="noStrike">
                <a:solidFill>
                  <a:srgbClr val="00b0f0"/>
                </a:solidFill>
                <a:latin typeface="隶书"/>
                <a:ea typeface="隶书"/>
              </a:rPr>
              <a:t>、开头两句有一对反义词，找出来，说说有何作用？</a:t>
            </a:r>
            <a:endParaRPr b="0" lang="en-US" sz="43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00040" y="164304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4e7e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Franklin Gothic Book"/>
                <a:ea typeface="汉仪大隶书简"/>
              </a:rPr>
              <a:t>“</a:t>
            </a:r>
            <a:r>
              <a:rPr b="0" lang="zh-CN" sz="4000" spc="-1" strike="noStrike">
                <a:solidFill>
                  <a:srgbClr val="ffffff"/>
                </a:solidFill>
                <a:latin typeface="Franklin Gothic Book"/>
                <a:ea typeface="汉仪大隶书简"/>
              </a:rPr>
              <a:t>朝”与“夕”。说明那“一封书”之罪，所得的命运是“朝奏”而“夕贬”。且一贬就是八千里。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99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799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99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99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17680" y="206280"/>
            <a:ext cx="85960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e7ed"/>
                </a:solidFill>
                <a:latin typeface="华文行楷"/>
                <a:ea typeface="华文行楷"/>
              </a:rPr>
              <a:t>3</a:t>
            </a:r>
            <a:r>
              <a:rPr b="0" lang="zh-CN" sz="4000" spc="-1" strike="noStrike">
                <a:solidFill>
                  <a:srgbClr val="f4e7ed"/>
                </a:solidFill>
                <a:latin typeface="华文行楷"/>
                <a:ea typeface="华文行楷"/>
              </a:rPr>
              <a:t>、诗歌的三、四句表现了韩愈怎样的性格？</a:t>
            </a:r>
            <a:endParaRPr b="0" lang="en-US" sz="40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4e7e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de66"/>
                </a:solidFill>
                <a:latin typeface="Franklin Gothic Book"/>
                <a:ea typeface="华文隶书"/>
              </a:rPr>
              <a:t>作者在此申述了自己忠而获罪和非罪远谪的愤慨。尽管招来一场弥天大祸，他还是老而弥坚，表现了他刚直不阿的性格。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e7ed"/>
                </a:solidFill>
                <a:latin typeface="华文行楷"/>
                <a:ea typeface="华文行楷"/>
              </a:rPr>
              <a:t>4</a:t>
            </a:r>
            <a:r>
              <a:rPr b="0" lang="zh-CN" sz="3600" spc="-1" strike="noStrike">
                <a:solidFill>
                  <a:srgbClr val="f4e7ed"/>
                </a:solidFill>
                <a:latin typeface="华文行楷"/>
                <a:ea typeface="华文行楷"/>
              </a:rPr>
              <a:t>、诗歌的五、六两句描写什么？作者借景抒发了怎样的感情？</a:t>
            </a:r>
            <a:endParaRPr b="0" lang="en-US" sz="36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4e7e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2060"/>
                </a:solidFill>
                <a:latin typeface="Franklin Gothic Book"/>
                <a:ea typeface="华文新魏"/>
              </a:rPr>
              <a:t>描写环境。云彩浓重横在秦岭的上空，我的家在哪里？雪拥蓝田关，连我的马都不前行。“秦岭”指的是终南山，云横而看不见京城，他此时不独系家人，更多的是伤怀国事。他立马蓝关，大雪寒天，联想到前路的艰难困苦，</a:t>
            </a:r>
            <a:r>
              <a:rPr b="0" lang="zh-CN" sz="3600" spc="-1" strike="noStrike">
                <a:solidFill>
                  <a:srgbClr val="b13f9a"/>
                </a:solidFill>
                <a:latin typeface="Franklin Gothic Book"/>
                <a:ea typeface="华文新魏"/>
              </a:rPr>
              <a:t>未免露出英雄失路之悲。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-3.88889E-006 3.7037E-007 C 0.00695 -0.01343 0.01407 -0.02801 0.02101 -0.04676 C 0.03993 -0.1 0.04497 -0.15208 0.03108 -0.15995 C 0.01702 -0.16944 -0.01007 -0.13194 -0.02899 -0.0787 C -0.03906 -0.05069 -0.04496 -0.02407 -0.04704 -0.00394 C -0.05 0.01204 -0.05104 0.02801 -0.05104 0.04676 C -0.05104 0.10671 -0.03802 0.15602 -0.02291 0.15602 C -0.00798 0.15602 0.00504 0.10671 0.00504 0.04676 C 0.00504 0.01875 0.00209 -0.0081 -0.00295 -0.02662 C -0.00503 -0.04259 -0.01007 -0.05995 -0.01597 -0.07732 C -0.03593 -0.13194 -0.06302 -0.16944 -0.07708 -0.15995 C -0.09097 -0.15069 -0.08593 -0.1 -0.06597 -0.04537 C -0.05798 -0.01991 -0.04704 0.00139 -0.03593 0.01597 C -0.02795 0.0294 -0.01892 0.04143 -0.00694 0.05324 C 0.029 0.0919 0.06493 0.10926 0.075 0.09329 C 0.08403 0.07731 0.06407 0.03333 0.02796 -0.00394 C 0.01302 -0.01991 -0.00295 -0.03194 -0.01597 -0.04005 C -0.02795 -0.04792 -0.04305 -0.05463 -0.05902 -0.05857 C -0.10295 -0.07199 -0.14097 -0.06806 -0.14392 -0.04676 C -0.14791 -0.02662 -0.11493 3.70370000000661E-007 -0.071 0.01343 C -0.05104 0.01875 -0.03194 0.0213 -0.01701 0.01991 C -0.00399 0.01991 0.01007 0.01736 0.025 0.01343 C 0.06893 3.70370000000661E-007 0.10209 -0.02801 0.09792 -0.04792 C 0.09497 -0.06806 0.05695 -0.07338 0.01302 -0.05995 C -0.00798 -0.05324 -0.02708 -0.04398 -0.03993 -0.03333 C -0.05104 -0.02523 -0.06198 -0.01597 -0.07395 -0.00394 C -0.10902 0.03472 -0.13003 0.07731 -0.11996 0.09329 C -0.11093 0.10926 -0.07395 0.0919 -0.03906 0.05463 C -0.02204 0.03611 -0.00798 0.01736 -3.88889E-006 3.7037E-007 Z">
                                      <p:cBhvr>
                                        <p:cTn id="68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7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4e7ed"/>
                </a:solidFill>
                <a:latin typeface="华文行楷"/>
                <a:ea typeface="华文行楷"/>
              </a:rPr>
              <a:t>5</a:t>
            </a:r>
            <a:r>
              <a:rPr b="0" lang="zh-CN" sz="4100" spc="-1" strike="noStrike">
                <a:solidFill>
                  <a:srgbClr val="f4e7ed"/>
                </a:solidFill>
                <a:latin typeface="华文行楷"/>
                <a:ea typeface="华文行楷"/>
              </a:rPr>
              <a:t>、最后两句表达了作者怎样的感情？</a:t>
            </a:r>
            <a:endParaRPr b="0" lang="en-US" sz="41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51"/>
              </a:spcBef>
              <a:buClr>
                <a:srgbClr val="f4e7e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200" spc="-1" strike="noStrike">
                <a:solidFill>
                  <a:srgbClr val="ffff00"/>
                </a:solidFill>
                <a:latin typeface="Franklin Gothic Book"/>
                <a:ea typeface="华文隶书"/>
              </a:rPr>
              <a:t>表达了作者凄楚的激愤之情。</a:t>
            </a:r>
            <a:endParaRPr b="0" lang="en-US" sz="6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2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4e7ed"/>
                </a:solidFill>
                <a:latin typeface="华文隶书"/>
                <a:ea typeface="华文隶书"/>
              </a:rPr>
              <a:t>6</a:t>
            </a:r>
            <a:r>
              <a:rPr b="0" lang="zh-CN" sz="4500" spc="-1" strike="noStrike">
                <a:solidFill>
                  <a:srgbClr val="f4e7ed"/>
                </a:solidFill>
                <a:latin typeface="华文隶书"/>
                <a:ea typeface="华文隶书"/>
              </a:rPr>
              <a:t>、诗歌中运用了哪些对比手法？</a:t>
            </a:r>
            <a:endParaRPr b="0" lang="en-US" sz="45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75"/>
              </a:spcBef>
              <a:buClr>
                <a:srgbClr val="f4e7ed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700" spc="-1" strike="noStrike">
                <a:solidFill>
                  <a:srgbClr val="ffde66"/>
                </a:solidFill>
                <a:latin typeface="Franklin Gothic Book"/>
                <a:ea typeface="汉仪大隶书简"/>
              </a:rPr>
              <a:t>“</a:t>
            </a:r>
            <a:r>
              <a:rPr b="1" lang="zh-CN" sz="6700" spc="-1" strike="noStrike">
                <a:solidFill>
                  <a:srgbClr val="ffde66"/>
                </a:solidFill>
                <a:latin typeface="Franklin Gothic Book"/>
                <a:ea typeface="汉仪大隶书简"/>
              </a:rPr>
              <a:t>朝奏”和“夕贬”；“九重天”和“路八千”。</a:t>
            </a:r>
            <a:endParaRPr b="0" lang="en-US" sz="67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22:21:12Z</dcterms:created>
  <dc:creator>微软用户</dc:creator>
  <dc:description/>
  <dc:language>en-US</dc:language>
  <cp:lastModifiedBy>czm</cp:lastModifiedBy>
  <dcterms:modified xsi:type="dcterms:W3CDTF">2007-11-19T08:57:58Z</dcterms:modified>
  <cp:revision>32</cp:revision>
  <dc:subject/>
  <dc:title>（二）、《左迁至蓝关示侄孙湘》</dc:title>
</cp:coreProperties>
</file>