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42BF-6AF3-4113-AB55-1EF2D90D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FA4-F6A3-4A61-9927-3C8F13C0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77E-8222-40B7-9E09-D82787DD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922-6BBC-4692-8264-2DBA0DE3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7938-72C2-4E04-81E6-66A1E736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1669-0296-42F1-ABA9-264026F6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C386-2E05-425A-AF07-58D3232B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C964-6183-4566-B105-52D36884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6DBB-938C-4C71-A199-F2933CE0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94C9-9FD2-4B32-98AE-830B9F30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84BE-D113-4138-8A02-CF3D2AB7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CCA-134B-4AF6-8885-0B84A8CD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F5CC-2B9B-4C5A-9D7B-C2121FF1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ACD0-EAB4-4137-B323-CDB86882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F183-6968-4630-B20F-E3CA523D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9F1D-A1A5-4478-8AFE-153AF229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6711-660C-42DB-A273-0DBD1161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CF8F-ABB2-4A32-B2CA-CB4A9D3A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4E8-0D17-4424-BDC3-3A3D2F89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714D-C0AA-42F4-BC09-B24E4DD9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7D6-0B8E-4D8C-A388-08948045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8CB-8DE8-4CDD-8AB6-A51DD704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AAA0-EFA1-47C0-8F37-081C7278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561-67BF-4A2C-845F-9D8D6E72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框a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框a2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框a3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框a4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AA0A-B96F-4649-BD18-BCC8D847A6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框a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2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框a2" descr=""/>
            <p:cNvPicPr/>
            <p:nvPr/>
          </p:nvPicPr>
          <p:blipFill>
            <a:blip r:embed="rId4"/>
            <a:stretch/>
          </p:blipFill>
          <p:spPr>
            <a:xfrm>
              <a:off x="439560" y="0"/>
              <a:ext cx="82710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框a3" descr=""/>
            <p:cNvPicPr/>
            <p:nvPr/>
          </p:nvPicPr>
          <p:blipFill>
            <a:blip r:embed="rId5"/>
            <a:stretch/>
          </p:blipFill>
          <p:spPr>
            <a:xfrm>
              <a:off x="8702640" y="0"/>
              <a:ext cx="441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框a4" descr=""/>
            <p:cNvPicPr/>
            <p:nvPr/>
          </p:nvPicPr>
          <p:blipFill>
            <a:blip r:embed="rId6"/>
            <a:stretch/>
          </p:blipFill>
          <p:spPr>
            <a:xfrm>
              <a:off x="419040" y="6454800"/>
              <a:ext cx="8285400" cy="40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麒靈" descr=""/>
          <p:cNvPicPr/>
          <p:nvPr/>
        </p:nvPicPr>
        <p:blipFill>
          <a:blip r:embed="rId7"/>
          <a:stretch/>
        </p:blipFill>
        <p:spPr>
          <a:xfrm>
            <a:off x="914400" y="685800"/>
            <a:ext cx="7316640" cy="54878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37C8-DB4B-464C-A64B-2504379595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Edwardsu24/&#20849;&#20139;%20(E)/&#35821;&#35328;&#29305;&#33394;.ppt#Slide 1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136280" y="914400"/>
            <a:ext cx="115524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左迁至蓝关示侄孙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21640" y="457200"/>
            <a:ext cx="3166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一封朝奏九重天，夕贬潮阳路八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欲为圣明除弊事，肯将衰朽惜残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云横秦岭家何在？雪拥蓝关马不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知汝远来应有意，好收吾骨瘴江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0520" y="457200"/>
            <a:ext cx="24354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早春呈水部张十八助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天街小雨润如酥，草色遥看近却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最是一年春好处，绝胜烟柳满皇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250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905120" y="457200"/>
          <a:ext cx="579096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457200"/>
                    <a:ext cx="57909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862320" y="3581280"/>
            <a:ext cx="729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柳宗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古文运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文运动，实际是以复古为名的文风改革运动。韩愈和柳宗元一起提出“文以载道”、“文道结合”的观点。主张学习先秦、两汉“言之有物”、“言贵创新”的优秀散文，坚决摒弃只讲形式不重内容华而不实的文风。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在文学史上，“古文”的概念是韩愈提出来的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是一种与内容空洞、重视词藻、堆砌典故、讲究对偶的骈文相对立的散文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。它以儒家思想为基本内容，取法先秦两汉散文文法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韩愈用其杰出的散文影响文坛，还热情地指导后进写作古文。经过他和柳宗元等人努力，终于把文体从六朝以来浮艳的骈文中解放出来，奠定了唐宋实用散文的基础。《师说》可看作是提倡古文的庄严宣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写作背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唐代，魏晋以来的门阀制度仍有沿袭。贵族子弟都入弘文馆、崇文馆和国子学。他们无论学业如何，都有官可做。韩愈写《师说》的社会背景，可以从柳宗元《答韦中立论师道书》中的一段话里看出。柳宗元说“由魏晋氏以下，人益不事师。今之世不闻有师，有，辄哗笑之，以为狂人。独韩愈奋不顾流俗，犯笑侮，收召后学，做《师说》，因抗颜而为师。世果群怪聚骂，指目牵引，而增与为言辞。愈以是得狂名。居长安，炊不暇熟，又挈挈而东，如是者数矣。”由此可见，韩愈作《师说》，大张旗鼓地宣扬自己的观点，是难能可贵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533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系统"/>
                <a:ea typeface="华文行楷"/>
              </a:rPr>
              <a:t>“</a:t>
            </a:r>
            <a:r>
              <a:rPr b="0" lang="zh-CN" sz="3600" spc="-1" strike="noStrike">
                <a:solidFill>
                  <a:srgbClr val="000066"/>
                </a:solidFill>
                <a:latin typeface="系统"/>
                <a:ea typeface="华文行楷"/>
              </a:rPr>
              <a:t>说”是一种议论文的文体，可以先叙后议，也可夹叙夹议。“说”与“议”相比，随便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362320"/>
            <a:ext cx="7924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系统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系统"/>
                <a:ea typeface="华文新魏"/>
              </a:rPr>
              <a:t>说”，古义为陈述和解说，因而对这类文体，都可按“解说……的道理”来理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8862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系统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系统"/>
                <a:ea typeface="华文新魏"/>
              </a:rPr>
              <a:t>师说”意思是：解说关于“从师”的道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800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《捕蛇者说》、《马说》、《爱莲说》等都属于“说”这种文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韩愈所说的“师”有什么独特的含义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既不指各级官府的学校老师，也不是指“授之书而习其句读”的启蒙老师，而是指社会上学有所成，能“传道受业解惑”的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38080" y="304920"/>
            <a:ext cx="466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字、词、句讲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990720"/>
            <a:ext cx="83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古之学者必有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990720"/>
            <a:ext cx="32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古：两汉以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8288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学者  古义：求学的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438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今义：有专门学问的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20040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师者，所以传道受业解惑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3657600"/>
            <a:ext cx="44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者…也    判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4191120"/>
            <a:ext cx="7102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所”具有代词性质，“以”是介词，构成“以所”介宾短语，但习惯上这两个字倒置着用。“所”指代“老师”，译为“他”，“以”译为“靠”。全句译为：老师，是靠他来传授道理，教授学业，解释疑难问题的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136280" y="380880"/>
            <a:ext cx="1155240" cy="59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夫庸知其年之先后生于吾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02760" y="1066680"/>
            <a:ext cx="115524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庸”和“乎”表示反诘语气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80720" y="1066680"/>
            <a:ext cx="6678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知”是“管、追究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0280" y="990720"/>
            <a:ext cx="164268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哪管他们的年龄是比我大还是比我小呢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4720" y="380880"/>
            <a:ext cx="1155240" cy="58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无贵无贱，无长无少，道之所存，师之所存 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7680" y="914400"/>
            <a:ext cx="1155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”作条件关系的连词“无论”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49880" y="914400"/>
            <a:ext cx="164268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所存”，名词性所字结构，译为“……地方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680" y="914400"/>
            <a:ext cx="2130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无论（地位）高低贵贱，无论（年纪）大小，道理存在的地方，就是老师存在的地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36720" y="906480"/>
            <a:ext cx="287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分析第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7680" y="1741320"/>
            <a:ext cx="359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中心论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251460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古之学者必有师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733920"/>
            <a:ext cx="291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概述中心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352680" y="3733920"/>
            <a:ext cx="121932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4267080"/>
            <a:ext cx="129564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08440" y="318924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什么从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84760" y="451152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以什么人为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457200"/>
            <a:ext cx="21337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内容简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219320"/>
            <a:ext cx="6553080" cy="1818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第一段：在正面阐述中提出论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古之学者必有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人非生而知之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2057400"/>
            <a:ext cx="2514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00"/>
                </a:solidFill>
                <a:latin typeface="Times New Roman"/>
              </a:rPr>
              <a:t>从师的必要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124080"/>
            <a:ext cx="6629400" cy="1169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第二段：从批判反面现象中阐发论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用了对比论证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4419720"/>
            <a:ext cx="66294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第三段：以历史名人为例，进一步论证观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5486400"/>
            <a:ext cx="662940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第四段：说明写作本文的缘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2286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隶书"/>
              </a:rPr>
              <a:t>内容深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990720"/>
            <a:ext cx="8382240" cy="862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文章第二段中“句读之不知，惑之不解，或师焉，或不焉”一句，按平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顺序可改为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1447920"/>
            <a:ext cx="5943600" cy="3988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句读之不知，或师焉；惑之不解，或不焉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74320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3124080"/>
            <a:ext cx="4114800" cy="520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句读之不知”，“或师焉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905120"/>
            <a:ext cx="3657600" cy="520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爱其子，择师而教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981080" y="2437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33720" y="2514600"/>
            <a:ext cx="990360" cy="45972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981080" y="27432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3657600"/>
            <a:ext cx="91440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81080" y="3886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4191120"/>
            <a:ext cx="1066680" cy="520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124080"/>
            <a:ext cx="3962520" cy="520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惑之不解”，“或不焉。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172200" y="2437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905120"/>
            <a:ext cx="3504960" cy="520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其身也，则耻师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2590920"/>
            <a:ext cx="990720" cy="45972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上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17184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4191120"/>
            <a:ext cx="1143000" cy="520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3657600"/>
            <a:ext cx="91440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17184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4800600"/>
            <a:ext cx="7467480" cy="5205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吾未见其明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句相呼应的两个字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4800600"/>
            <a:ext cx="990360" cy="520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惑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532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5805360"/>
            <a:ext cx="2819520" cy="5205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说理严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5562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5627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44792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师    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b0c17"/>
                </a:solidFill>
                <a:latin typeface="Times New Roman"/>
              </a:rPr>
              <a:t>韩  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62120" y="190512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读课文，借助注释、工具书读准字音。理 解重点词的意义和用法，读懂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巩固练习，掌握下列加横线的词含义和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闻道也固先乎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师道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相似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师道之不传也久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余嘉其能行古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3197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道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731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道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4188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道德学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645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风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5103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风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3048120"/>
            <a:ext cx="152280" cy="2590560"/>
          </a:xfrm>
          <a:custGeom>
            <a:avLst/>
            <a:gdLst>
              <a:gd name="textAreaLeft" fmla="*/ 97200 w 152280"/>
              <a:gd name="textAreaRight" fmla="*/ 152640 w 15228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二）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无贵无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圣人无常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吾从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于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圣人也亦远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故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益圣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益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04960" y="18255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无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24280" y="3423960"/>
            <a:ext cx="300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--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师，意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---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耻，意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低于，            动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圣人 愚人       名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20574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5812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b0c17"/>
                </a:solidFill>
                <a:latin typeface="Times New Roman"/>
              </a:rPr>
              <a:t>一、</a:t>
            </a: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齐读课文（默）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体会语言特色</a:t>
            </a: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二、找出中心论点和分论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三、概括每一段的文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               </a:t>
            </a: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段意                                  论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（一）总论从师的必要性和          中心：古之学者必有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择师标准                       标准：无贵</a:t>
            </a: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~</a:t>
            </a: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师之所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（二 ）批判当时士大夫耻于         分论点：师道之不传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从师的风气                          久矣</a:t>
            </a: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~~</a:t>
            </a: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也难矣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（  三）说明谁可为师                   分论点：圣人无常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0c17"/>
                </a:solidFill>
                <a:latin typeface="Times New Roman"/>
              </a:rPr>
              <a:t>（四）说明写作原因                   分论点：不拘于时行古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四、本文运用了哪些论证方法论证中心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作者怎样从理论上对总论点作初步论证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层：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总论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职能（正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必要（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原则和标准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第二段文字用了什么论证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对比论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分论点                          师道之不传也久矣，欲人之无惑也难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论据（三组对比）          正确态度         错误态度         作者的议论抒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古之圣人                    圣人                 众人            圣益圣，愚益愚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今之众人（纵比）    从师而问         耻学于师         其皆出于此乎（反诘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对其子                        爱其子             于其身             小学而大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其身（自比）         择师而教         耻学于师         吾未见其明也（否定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、百工之人                    百工之人         士大夫           师道不复，智反不能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士大夫                       不耻相师          群聚而笑之     其可怪也欤（讽刺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分论点与总论点关系       从批评反面现象中进一步阐明总论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课文第三段所用论证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引证：孔子的言和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论：弟子不必不如师，术业有专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五、总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六、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背诵课文，进一步体会本文的语言特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复习《捕蛇者说》，比较其对比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练习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034480" y="1143000"/>
            <a:ext cx="423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对比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09480" y="1066680"/>
            <a:ext cx="7543800" cy="2776320"/>
            <a:chOff x="609480" y="1066680"/>
            <a:chExt cx="7543800" cy="2776320"/>
          </a:xfrm>
        </p:grpSpPr>
        <p:sp>
          <p:nvSpPr>
            <p:cNvPr id="207" name=""/>
            <p:cNvSpPr/>
            <p:nvPr/>
          </p:nvSpPr>
          <p:spPr>
            <a:xfrm>
              <a:off x="609480" y="1905120"/>
              <a:ext cx="19814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（一）中心论点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90000"/>
                  </a:solidFill>
                  <a:latin typeface="Times New Roman"/>
                </a:rPr>
                <a:t>“</a:t>
              </a:r>
              <a:r>
                <a:rPr b="0" lang="zh-CN" sz="1800" spc="-1" strike="noStrike">
                  <a:solidFill>
                    <a:srgbClr val="990000"/>
                  </a:solidFill>
                  <a:latin typeface="Times New Roman"/>
                </a:rPr>
                <a:t>古之学者必有师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38280" y="1371600"/>
              <a:ext cx="533520" cy="220968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52680" y="160020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（ 二）今人不从师  的表现、后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57800" y="1066680"/>
              <a:ext cx="380880" cy="20574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91320" y="1066680"/>
              <a:ext cx="2361960" cy="14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古圣人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-——</a:t>
              </a: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今众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择师教子——自身耻师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巫医乐师—士大夫之族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</a:rPr>
                <a:t>百工之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38480" y="32004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（三）圣人从师态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5880" y="342900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（四）写作缘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9520" y="1752480"/>
              <a:ext cx="38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90000"/>
                  </a:solidFill>
                  <a:latin typeface="Times New Roman"/>
                </a:rPr>
                <a:t>作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71800" y="3200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990000"/>
                  </a:solidFill>
                  <a:latin typeface="Times New Roman"/>
                </a:rPr>
                <a:t>从师标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3920" y="3581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34120" y="358128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048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380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字词注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143000"/>
            <a:ext cx="8153280" cy="212832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句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 ò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或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焉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ǒu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经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huà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 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có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书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 ù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huá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cōng)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dān)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pán)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cháng)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近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yú)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y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rǎn) 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pān)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幼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zhǎng)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须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yú)    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y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41911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隶书"/>
              </a:rPr>
              <a:t>通假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518148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传道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受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业解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不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焉，或师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5105520"/>
            <a:ext cx="380988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受”通“授”，传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5715000"/>
            <a:ext cx="365760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”通“否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447920" y="1447560"/>
            <a:ext cx="2514600" cy="4267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90920" y="4038480"/>
            <a:ext cx="1676160" cy="45972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假异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514600" y="38858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304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找出古今异义的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066680"/>
            <a:ext cx="830592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古之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学者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必有师：（古）泛指求学的人；读书人。（今）指有专门学问的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981080"/>
            <a:ext cx="8458200" cy="398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所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传道受业解惑也：（古）特殊指示代词“所”与介词“以”结合，译为㈠用来……办法（方式、工具、依据等）；㈡……的原因（或缘由）。（今）表因果关系的连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3276720"/>
            <a:ext cx="8382240" cy="3988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贵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贱，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少：（古）无论，不论。（今）没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3962520"/>
            <a:ext cx="8458200" cy="3988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小学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而大遗：（古）①小的方面；②一般指研究文字、训诂、音韵的学问。     （今）对儿童、少年实施初等教育的学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5029200"/>
            <a:ext cx="8458200" cy="3988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句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之不知：（古）句子停顿的地方。（今）看字发出声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5943600"/>
            <a:ext cx="8458200" cy="39888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之</a:t>
            </a:r>
            <a:r>
              <a:rPr b="1" lang="zh-CN" sz="2000" spc="-1" strike="noStrike">
                <a:solidFill>
                  <a:srgbClr val="993300"/>
                </a:solidFill>
                <a:latin typeface="Times New Roman"/>
              </a:rPr>
              <a:t>众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（古）一般人、普通人。（今）许多的人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一、树立尊师重教的思想，培养谦虚好学的风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二、掌握积累：“传、师、从”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个文言实词的用法，学习“也、则、于、乎”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个文言虚词，复习“之”“其”的用法。熟记“授（受）、不（否）两个通假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三、学习正反对比的论证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四、学习名词、形容词的意动用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五、掌握有关“古文运动”的文学常识及“说”的文体知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762120" y="4572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一词多义现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828800"/>
            <a:ext cx="3048120" cy="3240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吾从而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巫医乐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百工之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1828800"/>
            <a:ext cx="411480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老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学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动用法，以……为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从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有专门技艺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军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09480" y="2971800"/>
            <a:ext cx="317988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师道之不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久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道授业解惑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六艺经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皆通习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朔气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相如广成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38480" y="2971800"/>
            <a:ext cx="421164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流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传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古代解释经书的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，传递，传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名词，客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457200"/>
            <a:ext cx="4267080" cy="825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一词多义现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62120" y="685800"/>
            <a:ext cx="3504960" cy="6426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词类活用现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3040" y="2819520"/>
            <a:ext cx="2057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圣人也亦远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学于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小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学而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大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卑则足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吾从而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67080" y="2819520"/>
            <a:ext cx="4062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方位名词作动词，低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意动用法，以……为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形容词作名词，小的方面，大的方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意动用法，以……为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意动用法，以……为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名词作动词，学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34040" y="2968560"/>
            <a:ext cx="1219320" cy="862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Times New Roman"/>
              </a:rPr>
              <a:t>则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耻</a:t>
            </a:r>
            <a:r>
              <a:rPr b="1" lang="zh-CN" sz="2000" spc="-1" strike="noStrike">
                <a:solidFill>
                  <a:srgbClr val="66ff33"/>
                </a:solidFill>
                <a:latin typeface="Times New Roman"/>
              </a:rPr>
              <a:t>师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33"/>
                </a:solidFill>
                <a:latin typeface="Times New Roman"/>
              </a:rPr>
              <a:t>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耻</a:t>
            </a:r>
            <a:r>
              <a:rPr b="1" lang="zh-CN" sz="2000" spc="-1" strike="noStrike">
                <a:solidFill>
                  <a:srgbClr val="66ff33"/>
                </a:solidFill>
                <a:latin typeface="Times New Roman"/>
              </a:rPr>
              <a:t>相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652800" y="3273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66960" y="3654360"/>
            <a:ext cx="1600200" cy="862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圣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益圣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</a:rPr>
              <a:t>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益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614320" y="388296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09480"/>
            <a:ext cx="3504960" cy="641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533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特殊句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191120"/>
            <a:ext cx="215604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拘于时，学于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3048120"/>
            <a:ext cx="678168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宾语前置，“之”为提宾标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1905120"/>
            <a:ext cx="777240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读之不知，惑之不解，或师焉，或不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5715000"/>
            <a:ext cx="24382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动句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419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宾短语后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251460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4572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81080" y="51814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90720" y="457200"/>
            <a:ext cx="2361960" cy="70344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修辞探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1752480"/>
            <a:ext cx="6933960" cy="23716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者，所以传道受业解惑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孰能无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不从师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闻道也固先乎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而师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故弟子不必不如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必贤于弟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929000" y="2133720"/>
            <a:ext cx="606960" cy="175248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顶    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4648320"/>
            <a:ext cx="7086600" cy="18788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黑体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前后紧凑，气势通畅，前后事理有机联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充分阐明它们之间的辨证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238880" y="27432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419112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66680" y="685800"/>
            <a:ext cx="32767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解释多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057400"/>
            <a:ext cx="2819520" cy="3240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其皆出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此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拜送书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学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耻学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其身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师不必贤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弟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不拘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2057400"/>
            <a:ext cx="5562720" cy="3240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动作行为的处所，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动作行为的处所，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动作行为的趋向，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动作行为的对象，对，对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比较， 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介词，表被动，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1981080"/>
            <a:ext cx="3504960" cy="3240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非蛇鳝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穴无可寄托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择师而教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师道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不传也久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句读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不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巫医乐师百工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辍耕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之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垄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5680" y="1981080"/>
            <a:ext cx="3962520" cy="324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助词，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助词，取消句子独立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助词，宾语前置的标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这类，这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动词，到，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685800"/>
            <a:ext cx="32767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解释多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066680" y="609480"/>
            <a:ext cx="32767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解释下列多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1752480"/>
            <a:ext cx="28195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有碑仆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吾师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师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之不传也久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策之不以其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何可胜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也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相似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1752480"/>
            <a:ext cx="251460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道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道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风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规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动词，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名词，道德学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2209680"/>
            <a:ext cx="3200400" cy="3240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爱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子，择师而教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闻道也亦先乎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为惑也终不解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皆出于此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可怪也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传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道解</a:t>
            </a: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其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惑者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657600" y="2209680"/>
            <a:ext cx="5791320" cy="3240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表领属关系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它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它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们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他，他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表远指，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副词，表推测、估计语气，大概，或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副词，表反诘语气，难道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真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代词，前指老师的；后指学生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3000" y="685800"/>
            <a:ext cx="32767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解释下列多义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一、预习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、读准下列多音字或形近字的读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句读     或不焉     六艺经传     聃      蟠     苌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读书     不能         传道             冉      潘     无长无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、解释下列句中的双音合成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）古之</a:t>
            </a:r>
            <a:r>
              <a:rPr b="1" lang="zh-CN" sz="2800" spc="-1" strike="noStrike" u="sng">
                <a:solidFill>
                  <a:srgbClr val="0b0c17"/>
                </a:solidFill>
                <a:uFillTx/>
                <a:latin typeface="Times New Roman"/>
              </a:rPr>
              <a:t>学者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必有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）</a:t>
            </a:r>
            <a:r>
              <a:rPr b="1" lang="zh-CN" sz="2800" spc="-1" strike="noStrike" u="sng">
                <a:solidFill>
                  <a:srgbClr val="0b0c17"/>
                </a:solidFill>
                <a:uFillTx/>
                <a:latin typeface="Times New Roman"/>
              </a:rPr>
              <a:t>句读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之不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）</a:t>
            </a:r>
            <a:r>
              <a:rPr b="1" lang="zh-CN" sz="2800" spc="-1" strike="noStrike" u="sng">
                <a:solidFill>
                  <a:srgbClr val="0b0c17"/>
                </a:solidFill>
                <a:uFillTx/>
                <a:latin typeface="Times New Roman"/>
              </a:rPr>
              <a:t>小学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而大遗，吾未见其明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）吾</a:t>
            </a:r>
            <a:r>
              <a:rPr b="1" lang="zh-CN" sz="2800" spc="-1" strike="noStrike" u="sng">
                <a:solidFill>
                  <a:srgbClr val="0b0c17"/>
                </a:solidFill>
                <a:uFillTx/>
                <a:latin typeface="Times New Roman"/>
              </a:rPr>
              <a:t>从而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师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b0c17"/>
                </a:solidFill>
                <a:latin typeface="Times New Roman"/>
              </a:rPr>
              <a:t>、辨析“之”“其”的用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48765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爱其子，择师而教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巫医乐师百工之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师道之不复，可知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句读之不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六艺经传，皆通习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君将哀而生之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蚓无爪牙之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吾欲之南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00600" y="7617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代词，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代词，这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结构助词。取消独立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结构助词，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代词，代“六艺经传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6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代词，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助词，定语 后置的标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8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动词，到 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191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生乎吾前，其闻道也固先乎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惑而不从师，其为惑也，终不解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古之圣人，其出人也远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夫庸知其年之先后生于吾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圣人之所以为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~~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皆出于此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今其智乃反不能及，其可怪也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24280" y="990360"/>
            <a:ext cx="3810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代词，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代词，那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代词，指圣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代词，指“闻道先乎吾”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副词，大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前指士大夫，后指“这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00200" y="1018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唐宋八大家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44376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韩愈、柳宗元、欧阳修、苏询、苏轼、苏辙、曾巩、王安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imes New Roman"/>
              </a:rPr>
              <a:t>作者介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韩愈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68——8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字退之，唐代河南河阳人（今河南孟县）。著名文学家，哲学家。古文运动的倡导者。苏轼称他“文起八代之衰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明人列他为“唐宋八大家”之首。因为昌黎（现河北省昌黎）韩氏是望族，所以后人称之为韩昌黎，死后谥“文”，故又称“韩文公”。他幼年贫穷，刻苦自学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中进士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后才任宣武节度使属官，后来任国子监祭酒，吏部侍郎等职，中间曾几度被贬。著《昌黎先生集》四十卷。其中有许多为人传颂的优秀散文。他的散文题材广泛，内容深刻，形式多样，语言质朴，气势雄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5181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韩  文 公  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438280" y="304920"/>
          <a:ext cx="5105520" cy="624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04920"/>
                    <a:ext cx="510552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7:13:20Z</dcterms:created>
  <dc:creator>li</dc:creator>
  <dc:description/>
  <dc:language>en-US</dc:language>
  <cp:lastModifiedBy>EDSU24</cp:lastModifiedBy>
  <dcterms:modified xsi:type="dcterms:W3CDTF">2004-04-06T23:41:54Z</dcterms:modified>
  <cp:revision>29</cp:revision>
  <dc:subject/>
  <dc:title>师说</dc:title>
</cp:coreProperties>
</file>