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B06-DE02-4BF1-92B4-DFC1BF69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BA7-6218-44F0-94F7-F8BFAE69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45A1-9B17-4F2A-AFD0-742C78BC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CF6-C5A9-41AC-8E6E-39387DC2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546C-8B50-48FC-8F1C-AB4DC93A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7EEF-6864-46B7-868D-083BCC5A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5636-A4C5-422B-B1D2-69C14A2E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BBDA-7EAE-457A-9AEC-9D8D081D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28863-6231-4FA0-AC50-3E4FD02E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477D-24EA-49C1-A9D7-2059DAB9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D35C-BCC5-4665-8ECE-DFF30B6F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619-7BFC-4B7C-9C6A-260C43DFA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94D9-94AB-45D8-A9C0-5BAEB84E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EA93-EC05-4226-81FA-82D6A7FE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E7C0-3614-4A05-A1B9-B554D4D1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65EB-FF7A-492B-B5D6-B6FA0AF5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B0F3-A844-4B93-9CCE-93BB053B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80308-D624-4DDC-9DAB-A04C9897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8C78B-E2E6-4AA7-92D8-B793DAEA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03DC-9D32-4F18-A192-2AF6FF3D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9C39-7974-4AE3-9575-D4EB13D9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6546B-3D16-49FC-88CF-2E9CDC3A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7F0F-CA20-40F5-B101-F9C1AAF4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D30B7-88EB-4EDE-B6AE-65A1EB3D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F0C42-2CC3-4817-B956-26221D95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B1B23-0BC5-4F36-B2B7-3FF961BD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730D0-2FC2-4B98-935E-0B30C0D0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47715-C2D3-4009-8E3C-46721224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136C1-CE90-4E22-8724-CD1388B0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FC1E6-90C7-421B-BFA8-59DECD69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6F33-6EAA-471F-BB76-D1E67F9D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F64-0504-4ABB-BF08-56F57AA2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E5E-B80B-409E-8E73-40A04023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914-8115-479E-8BEC-E9EE0A82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A82-8FF6-4456-BC0A-1FD9D11B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6F42-FFA1-47DB-A058-5305FBE7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D443-CBDD-4FB8-AA41-59788EEF93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262E-3918-4215-9A93-B3B7359589B1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97CA-2E81-4185-8F67-99B5EA2ED3E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0920" y="1470600"/>
            <a:ext cx="8713800" cy="33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728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介绍一种体育运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田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田径是世界上最为普及的体育运动之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老师的话：这一段总写田径的特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远在上古时代，人们为了生存，不得不投掷石块攻击猛兽，不得不跳过各种障碍获取食物，不得不走或跑一段距离到某个地方，这些求生，本能的动作在劳动中不断重复，让人类的身手更为敏捷，便形成了走、跑、跳跃和投掷的各种技能，随着社会的进步，人们又有意识地把这些技能作为健身运动来练习，渐渐的演变为体育比赛中的一个项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老师的话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这一段介绍田径的起源、演变和发展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  田径比赛有短跑，长跑，接力跑，跳远，跨栏等等，这些比赛或要求在短时间内表现出最快的速度，或要求在长时间内表现出最大的耐力，是以比速度、比高度、比远度和比耐力著称，最能体现出奥林匹克“更快、更高、更强”的格言，所以，在奥运会上，田径运动都被列为主要的比赛项，设置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块金牌，有“得田径者得天下”的说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00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雅典奥运会上，我国选手刘翔以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.9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秒的速度获得男子跨栏冠军，站在了奥运会的最高领奖台上。刘翔的成功让我明白了：体育运动不仅能强身健体，还能锻炼一个人的毅力和意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老师的话：这一段介绍田径的分项，特点、和意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 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果你想强壮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跑步吧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果你想健美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跑步吧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!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如果你想历练自己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跑步吧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老师的话：总结全文，发出呼吁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足球运动成为“世界第一运动”，许多人爱看足球赛，为足球痴迷，你看过足球赛吗？从球员们的身上你看到了什么样的体育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8900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1280" y="3573360"/>
            <a:ext cx="4608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团结协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持之以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课后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89308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一、读一读，选择正确的读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临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zī z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           体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魄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pò 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专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供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ō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gòng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鬃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毛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zō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zhōng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   拥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塞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s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ài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禁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住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jīn j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ìn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二、按要求写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高山之巅出现的晨曦照亮昏暗的大地。（缩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人们把足球称为“世界第一运动”。（改为“被”字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549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人类不断地战胜自然，改造自然，靠的是这样的精神——协作，持之以恒。而这种精神在足球场上体现得淋漓尽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679640" cy="3097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95280" y="4437000"/>
            <a:ext cx="352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284720" y="765000"/>
            <a:ext cx="4309920" cy="4310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5280" y="333000"/>
            <a:ext cx="2232000" cy="4103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足球史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68360" y="0"/>
            <a:ext cx="6875640" cy="62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华文中宋"/>
              </a:rPr>
              <a:t>容易读错的字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）    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供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ōng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毛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ōng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塞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）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不住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j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īn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乌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g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黑白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间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ji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à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ff"/>
                </a:solidFill>
                <a:latin typeface="Arial"/>
                <a:ea typeface="华文中宋"/>
              </a:rPr>
              <a:t>一起学词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耻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中宋"/>
              </a:rPr>
              <a:t>磨炼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足球在中国的起源和发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600200"/>
          <a:ext cx="8218440" cy="4846680"/>
        </p:xfrm>
        <a:graphic>
          <a:graphicData uri="http://schemas.openxmlformats.org/drawingml/2006/table">
            <a:tbl>
              <a:tblPr/>
              <a:tblGrid>
                <a:gridCol w="1439640"/>
                <a:gridCol w="2867040"/>
                <a:gridCol w="3911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足球的质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（材料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足球起源和发展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战国时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西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汉武帝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唐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宋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79280" y="26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小组学习：默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自然段，填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2492280"/>
            <a:ext cx="29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皮革做外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中间塞满鬃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2421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民众开展足球运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足球被称为“鞠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71080" y="335916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修“鞠城”供比赛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95920" y="40971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在军队中推广足球运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96480" y="4956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灌气的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486900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昌盛时期，有球门和球场，有女子足球，并传入日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02400" y="573408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出现“香云社”球会组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华文中宋"/>
              </a:rPr>
              <a:t>现代足球的起源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4511520"/>
        </p:xfrm>
        <a:graphic>
          <a:graphicData uri="http://schemas.openxmlformats.org/drawingml/2006/table">
            <a:tbl>
              <a:tblPr/>
              <a:tblGrid>
                <a:gridCol w="1738440"/>
                <a:gridCol w="1119240"/>
                <a:gridCol w="53719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足球起源和发展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42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前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63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0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04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930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179280" y="260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小组学习：默读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4-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自然段，填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60240" y="2219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英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72560" y="220500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头骨—牛胆充气—黑白相间的足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85264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英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伦敦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28526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成立世界上第一个足球协会，现代足球运动诞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14600" y="386064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在第二届奥运会上被列为正式比赛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437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法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（巴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26080" y="46674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国际足联宣告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360" y="5532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乌拉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530064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举办首届世界杯足球赛，从此现代足球运动日益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思考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为什么中国发明足球最早而英国却是现代足球运动的起源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844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这是因为宋朝“文强武弱”，统治者荒淫奢华，致使世风日下，足球逐渐从军中退出。对抗性渐渐减弱，表演性慢慢增强，常作为宫廷宴会的助兴演出。元、明、清三代，社会“重文轻武”以及官府的各种禁令，使我国古代足球逐渐绝迹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50864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《足球史话》按怎样的顺序讲述足球的历史？试用这种写法介绍一种体育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时间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0:54:45Z</dcterms:created>
  <dc:creator>asus</dc:creator>
  <dc:description/>
  <dc:language>en-US</dc:language>
  <cp:lastModifiedBy>lenovo</cp:lastModifiedBy>
  <dcterms:modified xsi:type="dcterms:W3CDTF">2015-10-26T02:20:32Z</dcterms:modified>
  <cp:revision>12</cp:revision>
  <dc:subject/>
  <dc:title>足球史话</dc:title>
</cp:coreProperties>
</file>