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FCA-7259-47E5-B94D-F3E1513A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C5E-28D7-4604-8D9C-13947F64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188-581C-447B-A7C5-EE614349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043-01B2-4CE0-9EE8-1853207E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A63C-BDE4-4A5E-9DCE-C7CD4C84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E5E4-0D95-4270-92CD-9372F235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276-5612-47E5-AFC5-78A5D3C5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C126-E596-4F26-AD02-48A511A2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FA7C-3037-4D81-A3C5-40482833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20A5-C223-4DB9-A003-F9E683CE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DD6-7C8B-40F0-9B7B-F7D31B88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394-17BB-40B3-8A73-1171433C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3820-72B4-417E-A01A-C19687F8EC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4284720" y="76500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2232000" cy="4103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足球史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现代足球的起源和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49680"/>
        </p:xfrm>
        <a:graphic>
          <a:graphicData uri="http://schemas.openxmlformats.org/drawingml/2006/table">
            <a:tbl>
              <a:tblPr/>
              <a:tblGrid>
                <a:gridCol w="1738440"/>
                <a:gridCol w="1119240"/>
                <a:gridCol w="53719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足球起源和发展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42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前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英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头骨—牛胆充气—黑白相间的足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63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英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伦敦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立世界上第一个足球协会，现代足球运动诞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00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第二届奥运会上被列为正式比赛项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04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法国（巴黎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国际足联宣告成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30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乌拉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举办首届世界杯足球赛，从此现代足球运动日益发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足球运动成为“世界第一运动”，许多人爱看足球赛，为足球痴迷，你看过足球赛吗？从球员们的身上你看到了什么样的体育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研究性学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3573360"/>
            <a:ext cx="460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团结、协作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持之以恒的精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284720" y="76500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2232000" cy="4103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足球史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本文主要介绍了足球运动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起源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演变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发展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总写现代足球的特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-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介绍中国是最早发明足球和进行足球比赛的国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-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介绍现代足球的起源、演变和发展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总结全文，通过一系列数据说明足球运动深受世界各国人民的喜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足球在中国的起源和发展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4900680"/>
        </p:xfrm>
        <a:graphic>
          <a:graphicData uri="http://schemas.openxmlformats.org/drawingml/2006/table">
            <a:tbl>
              <a:tblPr/>
              <a:tblGrid>
                <a:gridCol w="1450800"/>
                <a:gridCol w="2867040"/>
                <a:gridCol w="3911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足球的质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（材料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足球起源和发展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战国时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西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汉武帝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唐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宋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8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足球在中国的起源和发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28640"/>
          <a:ext cx="8229600" cy="4983120"/>
        </p:xfrm>
        <a:graphic>
          <a:graphicData uri="http://schemas.openxmlformats.org/drawingml/2006/table">
            <a:tbl>
              <a:tblPr/>
              <a:tblGrid>
                <a:gridCol w="1450800"/>
                <a:gridCol w="2867040"/>
                <a:gridCol w="3911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足球的质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（材料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足球起源和发展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战国时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皮革做外壳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间塞满鬃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民众开展足球运动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足球被称为“鞠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西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修“鞠城”供比赛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汉武帝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军队中推广足球运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唐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灌气的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昌盛时期，有球门和球场，有女子足球，并传入日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宋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现“香云社”球会组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现代足球的起源和发展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28640"/>
          <a:ext cx="8229600" cy="4535640"/>
        </p:xfrm>
        <a:graphic>
          <a:graphicData uri="http://schemas.openxmlformats.org/drawingml/2006/table">
            <a:tbl>
              <a:tblPr/>
              <a:tblGrid>
                <a:gridCol w="1738440"/>
                <a:gridCol w="1119240"/>
                <a:gridCol w="53719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足球起源和发展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42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前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63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00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04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30</a:t>
                      </a:r>
                      <a:r>
                        <a:rPr b="0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0:54:45Z</dcterms:created>
  <dc:creator>asus</dc:creator>
  <dc:description/>
  <dc:language>en-US</dc:language>
  <cp:lastModifiedBy>asdasd</cp:lastModifiedBy>
  <dcterms:modified xsi:type="dcterms:W3CDTF">2013-10-10T01:28:59Z</dcterms:modified>
  <cp:revision>9</cp:revision>
  <dc:subject/>
  <dc:title>足球史话</dc:title>
</cp:coreProperties>
</file>