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5FB-AFF8-4157-A35B-06A1EB22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223-DF54-4527-B870-9236C864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2BC-1880-4936-8DD9-F37EE962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9C7-0290-49C7-ADEB-5B8DC770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760-AA1C-45A9-A803-701EA194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17A-F849-42BF-9F9E-21B750BB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132-9441-4D9D-8595-F049103F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BEB-49F3-4E5C-87DC-D338DC57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9A3-F58A-4594-BEC0-346EBED1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9B8-050D-4693-B1E5-558FE65C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E10-A349-47D8-A316-9F5FA76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4B9-B2D6-45EC-872E-51E2700F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3FE3-7206-459E-805B-8FDEF6172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009999"/>
              </a:solidFill>
              <a:latin typeface="Arial"/>
              <a:ea typeface="楷体_GB2312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724280"/>
            <a:ext cx="71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260280"/>
            <a:ext cx="7845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隶书"/>
              </a:rPr>
              <a:t>终南山</a:t>
            </a:r>
            <a:br>
              <a:rPr sz="9600"/>
            </a:br>
            <a:r>
              <a:rPr b="0" lang="zh-CN" sz="5400" spc="-1" strike="noStrike">
                <a:solidFill>
                  <a:srgbClr val="800000"/>
                </a:solidFill>
                <a:latin typeface="Arial"/>
                <a:ea typeface="华文行楷"/>
              </a:rPr>
              <a:t>王维</a:t>
            </a:r>
            <a:r>
              <a:rPr b="0" lang="zh-CN" sz="4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cc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5589360"/>
            <a:ext cx="8642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在山中找个人家去投宿，隔水询问那樵夫可否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？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　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26120" y="134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太乙近天都，连山到海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32440" y="191628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巍巍的太乙山高接天都星，山连着山一直蜿蜓到海边。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7400" y="2492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白云回望合，青霭入看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32440" y="306864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云缭绕回望中合成一片，青霭迷茫进入山中都不见。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29000" y="364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分野中峰变，阴晴众壑殊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080" y="429264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央主峰把终南东西隔开，各山间山谷迥异阴晴多变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7400" y="4941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欲投人处宿，隔水问樵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14720" y="189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彩云"/>
              </a:rPr>
              <a:t>译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华文中宋"/>
              </a:rPr>
              <a:t>这首诗用“移步换景”法描绘终南山的磅礴气势和万千气象，在流动中绘制了一幅有山有水有人的立体画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26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彩云"/>
              </a:rPr>
              <a:t>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  了解并且能掌握古典诗歌的基本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  通过诗歌的诵读与品味，体会古典诗歌之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终南山</a:t>
            </a:r>
            <a:br>
              <a:rPr sz="5400"/>
            </a:b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华文行楷"/>
              </a:rPr>
              <a:t>王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8424720" cy="35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太乙近天都， 连山接海隅。</a:t>
            </a:r>
            <a:br>
              <a:rPr sz="4000"/>
            </a:b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白云回望合， 青霭入看无。</a:t>
            </a:r>
            <a:br>
              <a:rPr sz="4000"/>
            </a:b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分野中峰变， 阴晴众壑殊。</a:t>
            </a:r>
            <a:br>
              <a:rPr sz="4000"/>
            </a:b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欲投人处宿， 隔水问樵夫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王维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字摩诘，进士及第，官至尚书右丞，世称王右丞。王维诗明净清新，精美雅致，李杜之外，自成一家。其名字取自维摩诘居士，心向佛门。虽为朝廷命官，却常隐居蓝田辋川，过着亦官亦隐的居士生活。王维又是杰出的画家，通晓音乐，善以乐理、画理、禅理融入诗歌创作之中。苏轼谓其“诗中有画”、“画中有诗”，他是唐代山水田园诗派的著名代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这首《终南山》中怎样体现王维“诗中有画”的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这首《终南山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诗人到底要表达什么情感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首诗的情感又是怎样与诗歌融合在一起的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7840" y="4802040"/>
            <a:ext cx="83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启示：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情感的把握不妨从自己出发、然后进入诗人的内心、最终又回归为自己的感悟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更多的应是欣赏、喜爱、留恋与神往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鉴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首联先用夸张手法勾画了终南山的总轮廓。这一联是写远景。“近天都”，极写山峰直刺苍穹</a:t>
            </a: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没入云霄</a:t>
            </a: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突显太乙峰的巍峨雄姿</a:t>
            </a: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; “</a:t>
            </a: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接海隅”</a:t>
            </a: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, </a:t>
            </a: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夸张表现终南岭脉的绵延不绝，东延入海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ccffcc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鉴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394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中宋"/>
                <a:ea typeface="华文中宋"/>
              </a:rPr>
              <a:t>次联写近景，“白云回望合”与“青霭入看无” 是“互文”，它们交错为用，相互补充。诗人走出茫茫云海，前面又是蒙蒙青霭，仿佛继续前进，就可以摸着那青霭了；然而走了进去，却不但摸不着，而且看不见；回过头去，那青霭又合拢来，蒙蒙漫漫，可望而不可即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华文中宋"/>
                <a:ea typeface="华文中宋"/>
              </a:rPr>
              <a:t>第三联诗人以画法入诗，写出千山万壑的晦明变化光色变换的万千气象。一峰之隔，分野不同地域各异重峦叠嶂，同一时间阴阳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彩云"/>
              </a:rPr>
              <a:t>鉴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6699ff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156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华文中宋"/>
                <a:ea typeface="华文中宋"/>
              </a:rPr>
              <a:t>尾联由写景转入写人．在此实写有人－樵夫，虚写有声－问答之声，砍柴之声，溪流之声．以有人之境反衬无人之境</a:t>
            </a:r>
            <a:r>
              <a:rPr b="1" lang="zh-CN" sz="4000" spc="-1" strike="noStrike">
                <a:solidFill>
                  <a:srgbClr val="660066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660066"/>
                </a:solidFill>
                <a:latin typeface="华文中宋"/>
                <a:ea typeface="华文中宋"/>
              </a:rPr>
              <a:t>以声响反衬寂静</a:t>
            </a:r>
            <a:r>
              <a:rPr b="1" lang="zh-CN" sz="4000" spc="-1" strike="noStrike">
                <a:solidFill>
                  <a:srgbClr val="660066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660066"/>
                </a:solidFill>
                <a:latin typeface="华文中宋"/>
                <a:ea typeface="华文中宋"/>
              </a:rPr>
              <a:t>含蓄而有韵致</a:t>
            </a:r>
            <a:r>
              <a:rPr b="1" lang="zh-CN" sz="4000" spc="-1" strike="noStrike">
                <a:solidFill>
                  <a:srgbClr val="660066"/>
                </a:solidFill>
                <a:latin typeface="华文中宋"/>
                <a:ea typeface="华文中宋"/>
              </a:rPr>
              <a:t>,“</a:t>
            </a:r>
            <a:r>
              <a:rPr b="1" lang="zh-CN" sz="4000" spc="-1" strike="noStrike">
                <a:solidFill>
                  <a:srgbClr val="660066"/>
                </a:solidFill>
                <a:latin typeface="华文中宋"/>
                <a:ea typeface="华文中宋"/>
              </a:rPr>
              <a:t>含不尽之意见于言外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彩云"/>
              </a:rPr>
              <a:t>鉴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9:19:51Z</dcterms:created>
  <dc:creator>user</dc:creator>
  <dc:description/>
  <dc:language>en-US</dc:language>
  <cp:lastModifiedBy>dsj</cp:lastModifiedBy>
  <dcterms:modified xsi:type="dcterms:W3CDTF">2008-04-09T12:27:46Z</dcterms:modified>
  <cp:revision>13</cp:revision>
  <dc:subject/>
  <dc:title>终南山 王维 </dc:title>
</cp:coreProperties>
</file>