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5B7-A24A-46A4-A58A-D926A2B0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90D-C070-439C-8698-05E01647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8E3-9E9A-4FFE-AF9C-D09D38D9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C52-FFE8-4537-81E8-A92FD35C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EFA-3574-4EF4-973C-C03DE20D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8A2-1547-48D3-ACCF-D0AC3DB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91D-D9A2-418D-A4FD-A785D0D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4FA-7808-408E-A886-1E6CC11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E3D-B1D6-4F77-B749-57A61E9D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999-841E-4DB0-9DAB-0C21227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CDD-D283-495F-8113-231C51C0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F94-2E1A-4A39-B6C3-E490B04B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C906-D98A-4F81-BD4B-DD6AD44B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60,-1,LAS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260,29,&#24187;&#28783;&#29255; 29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baike.baidu.com/view/779687.htm" TargetMode="External"/><Relationship Id="rId2" Type="http://schemas.openxmlformats.org/officeDocument/2006/relationships/hyperlink" Target="http://baike.baidu.com/view/9008.htm" TargetMode="Externa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640720" cy="626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九死不悔书丹心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——学习《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指南录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后序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7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人固有一死，或重于泰山，或轻于鸿毛，用之所趋异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  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司马迁《报任安书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52280"/>
            <a:ext cx="7621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段落层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77724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第一部分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第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 — 5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段）自述出使元营所遭遇的种种磨难，表现了作者视死如归、英勇抗争的爱国主义高尚情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第二部分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第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6 — 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段）说明诗篇的写作情况和结集目的，并生发忠诚报国、死而无憾的感慨，且交代诗集的题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段研读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找出本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词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用词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殊句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概括本段大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赏析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第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837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祐二年二月十九日，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丞相兼枢密使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都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路军马。时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北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迫修门外，战、守、迁皆不及施。缙绅、大夫、士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左丞相府，莫知计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所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辙交驰，北邀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当国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见，众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予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一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。国事至此，予不得爱身；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亦尚可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舌动也。初，奉使往来，无留北者，予更欲一觇北，归而求救国之策。于是，辞相印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翌日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政殿学士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古今异义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09720"/>
            <a:ext cx="822024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：拜官授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军马：军队。偏义复次。偏向“军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夫：官职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一行：一去，去一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为：去了就。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路：行政区域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爱：珍惜，顾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可以：两个词。可以用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拜：接受官职，拜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士：身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活用词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督，名作动，统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特殊句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缙绅、大夫、士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左丞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，（予）辞相印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翌日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政殿学士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，奉使往来，无（被）留北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/>
          <p:nvPr/>
        </p:nvCxnSpPr>
        <p:spPr>
          <a:xfrm rot="10800000">
            <a:off x="3707640" y="2133000"/>
            <a:ext cx="789840" cy="448200"/>
          </a:xfrm>
          <a:prstGeom prst="bentConnector3">
            <a:avLst>
              <a:gd name="adj1" fmla="val 49886"/>
            </a:avLst>
          </a:prstGeom>
          <a:ln w="7632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8720" y="1628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国难当头，甘冒风险，挺身出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记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理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246480"/>
            <a:ext cx="48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述本段大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111600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隶书"/>
              </a:rPr>
              <a:t>文天祥是在怎样的形势下出使北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8172360" cy="79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134136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隶书"/>
              </a:rPr>
              <a:t>文天祥当时的心情和意图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4581360"/>
            <a:ext cx="7634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文天祥辞相印不拜而出使元营这件事说明了什么？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38760" y="621612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不计个人利害，图救国之策。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220176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心情：“予不得爱身” ；即已抱定了为国捐躯的决心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09840" y="356796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意图：一方面“意北亦尚可以口舌动也” ，企图以外交手段来挽回败局；另一方面是“更欲一觇北，归而求救国之策”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8160" y="333360"/>
            <a:ext cx="82789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隶书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至北营，抗辞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慷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上下颇惊动，北亦未敢遽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吾国。不幸吕师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构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前，贾余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献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后，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羁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得还，国事遂不可收拾。予自度不得脱，则直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诟虏帅失信，数吕师孟叔侄为逆，但欲求死，不复顾利害。北虽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敬，实则愤怒，二贵酋名曰“馆伴”，夜则以兵围所寓舍，而予不得归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古今异义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560" y="912960"/>
            <a:ext cx="89298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慷慨：意气激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下：上上下下的人，指全体元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北：北朝。这里指元朝或元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轻：以……为轻。轻视。形容词的意动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：上前。名词动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：在表面上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夜：在夜里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燃烧我心，烛照黑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尔基写过一篇《丹柯的故事》：丹柯要带领一族人走出阴森的森林，当时天色很黑，四周都是沼泽。他用手抓开了自己的胸膛，从那儿拿出他自己的心来，把它高高地举在头上。他的心燃烧得跟太阳一样亮，而且比太阳更亮，整个树林在他面前分开了。丹柯一直在前面走，他的心也一直在燃烧，燃烧！从他撕开的胸膛淌出来的热血， 化成河上映照的霞光；他那颗燃烧的心裂散开来，化成草原上的蓝色火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693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活用词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轻：以……为轻。轻视。形容词的意动用法</a:t>
            </a:r>
            <a:br>
              <a:rPr sz="3600"/>
            </a:b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：上前。名词动用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：在表面上。名作状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夜：在夜里。名作状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378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特殊句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幸吕师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构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余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献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予（被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羁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得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 rot="10800000">
            <a:off x="3276000" y="4293360"/>
            <a:ext cx="789480" cy="448560"/>
          </a:xfrm>
          <a:prstGeom prst="bentConnector3">
            <a:avLst>
              <a:gd name="adj1" fmla="val 4990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 rot="10800000">
            <a:off x="2483640" y="4941000"/>
            <a:ext cx="789840" cy="448560"/>
          </a:xfrm>
          <a:prstGeom prst="bentConnector3">
            <a:avLst>
              <a:gd name="adj1" fmla="val 56634"/>
            </a:avLst>
          </a:prstGeom>
          <a:ln w="7632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1628640"/>
            <a:ext cx="79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初至北营，陈词慷慨，斥敌骂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424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记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作引用来进行心理描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4726080"/>
            <a:ext cx="48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述本段大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404640"/>
            <a:ext cx="79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隶书"/>
              </a:rPr>
              <a:t>提问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文天祥至北营大致经历了两个阶段，这两个阶段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1080" y="2133720"/>
            <a:ext cx="878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是：“初至北营……北亦未敢遽轻吾国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阶段是：“不幸吕师孟构恶于前，贾余庆献谄于后……予不得归矣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50920" y="1844640"/>
            <a:ext cx="79930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0"/>
            <a:ext cx="7620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文天祥被拘留时“但欲求死”后来随祈请使北行，理当自杀而“隐忍以行”，这两种做法是否相互矛盾？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3141720"/>
            <a:ext cx="7239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不矛盾。“求死”是因为“不得脱”，以死保全名节；“隐忍以行”，是因为有机会逃脱，还可以有所作为，图救国之策。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50920" y="2781360"/>
            <a:ext cx="79930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未几，贾余庆等以祈请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。北驱予并往，而不在使者之目。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引决，然而隐忍以行。昔人云：“将以有为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古今异义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09360"/>
            <a:ext cx="8220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：行列，名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分：按职分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活用词：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分：按职分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特殊句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（予）不在使者之目。省主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（予）隐忍以行。省主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47772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隐忍而行，将以有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1772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6200" y="33336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9111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京口，得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奔真州，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具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虚实告东西二阃，约以连兵大举。中兴机会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庶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此。留二日，维扬帅下逐客之令。不得已，变姓名，诡踪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宿，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北骑相出没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淮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饿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无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急，天高地迥，号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靡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已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舟，避渚洲，出北海，然后渡扬子江，入苏州洋，展转四明、天台，以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永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404640"/>
            <a:ext cx="769608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  <a:ea typeface="华文行楷"/>
              </a:rPr>
              <a:t>过零丁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文天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辛苦遭逢起一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  <a:ea typeface="华文新魏"/>
              </a:rPr>
              <a:t>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  <a:ea typeface="华文新魏"/>
              </a:rPr>
              <a:t>干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寥落四周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  <a:ea typeface="华文新魏"/>
              </a:rPr>
              <a:t>山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破碎风飘絮，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  <a:ea typeface="华文新魏"/>
              </a:rPr>
              <a:t>身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浮沉雨打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  <a:ea typeface="华文新魏"/>
              </a:rPr>
              <a:t>惶恐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头说惶恐，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  <a:ea typeface="华文新魏"/>
              </a:rPr>
              <a:t>零丁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里叹零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新魏"/>
              </a:rPr>
              <a:t>人生自古谁无死，留取丹心照汗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古今异义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8640" y="909720"/>
            <a:ext cx="850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北：北朝。这里指元朝或元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诡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隐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草：在荒草间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露：在露天里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日：每天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无聊：没有依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购：重金购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以至：到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0240" cy="60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活用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：在荒草间。名作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露：在露天里。名作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：每天。名作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特殊句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以连兵大举。状语后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北骑相出没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淮间。状语后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 rot="10800000">
            <a:off x="899280" y="3572640"/>
            <a:ext cx="789840" cy="448560"/>
          </a:xfrm>
          <a:prstGeom prst="bentConnector3">
            <a:avLst>
              <a:gd name="adj1" fmla="val 49886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 rot="10800000">
            <a:off x="3491640" y="4149000"/>
            <a:ext cx="791280" cy="448560"/>
          </a:xfrm>
          <a:prstGeom prst="bentConnector3">
            <a:avLst>
              <a:gd name="adj1" fmla="val 49886"/>
            </a:avLst>
          </a:prstGeom>
          <a:ln w="7632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47772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脱离虎口，百折不回，辗转逃生之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91772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抒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28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段写了哪几层意思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7391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第</a:t>
            </a:r>
            <a:r>
              <a:rPr b="1" lang="en-US" sz="4000" spc="-1" strike="noStrike">
                <a:solidFill>
                  <a:srgbClr val="000066"/>
                </a:solidFill>
                <a:latin typeface="_x000b__x000c_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层，得脱后的喜悦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第</a:t>
            </a:r>
            <a:r>
              <a:rPr b="1" lang="en-US" sz="4000" spc="-1" strike="noStrike">
                <a:solidFill>
                  <a:srgbClr val="000066"/>
                </a:solidFill>
                <a:latin typeface="_x000b__x000c_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层，受误会后的困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第</a:t>
            </a:r>
            <a:r>
              <a:rPr b="1" lang="en-US" sz="4000" spc="-1" strike="noStrike">
                <a:solidFill>
                  <a:srgbClr val="000066"/>
                </a:solidFill>
                <a:latin typeface="_x000b__x000c_"/>
              </a:rPr>
              <a:t>3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层，得舟后急于南下的急迫心情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362320"/>
            <a:ext cx="8893080" cy="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8900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60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能表达作者急切、紧张的心情，以及连续所经历的坎坷的动词有哪些？领会作者用词灵活多样的特点及其表达效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2421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黑体"/>
              </a:rPr>
              <a:t>极富表现力的动词有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奔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写出了当时迫不择路的极快速度；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变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诡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二字反映了形势突变以及自己采取的果敢行动；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避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出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渡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入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展转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至于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黑体"/>
              </a:rPr>
              <a:t>”等一连串动词，反映了作者迅速离开险境的情况，同时也表现了作者急于南下组织力量抗元以报效国家的急切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述文天祥的遭遇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920" y="907920"/>
            <a:ext cx="895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应注意的是：①时间（只有两天，即德佑二年二月十九日和“翌日”）。②出使元营原因（兵临城下、“北邀当国者相见”）。③作者的意图（“予更欲一觇北，归而求救国之策”）。④作者任职及官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应注意的是：①主要是被拘留和被挟北行二事。②先说初至北营的情况，后说情况的变化；说情况的变化，又是先说变化的原因，后说变化的过程。③说被拘留一事，重在“求死”一语；说被挟北行一事，重在“隐忍以行”一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应注意的是：①重点是在真州和维扬两地的遭遇，一起一落要说得清楚。②出北海以后只说南返的路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呜呼！予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于死者不知其几矣！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酋当死；骂逆贼当死；与贵酋处二十日，争曲直，屡当死；去京口，挟匕首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备不测，几自刭死；经北舰十余里，为巡船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几从鱼腹死；真州逐之城门外，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徬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死；如扬州，过瓜洲扬子桥，竟使遇哨，无不死；扬州城下，进退不由，殆例送死；坐桂公塘土围中，骑数千过其门，几落贼手死；贾家庄几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巡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迫死；夜趋高邮，迷失道，几陷死；质明，避哨竹林中，逻者数十骑，几无所救死；至高邮，制府檄下，几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捕系死；行城子河，出入乱尸中，舟与哨相后先，几邂逅死；至海陵，如高沙，常恐无辜死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安、如皋，凡三百里，北与寇往来其间，无日而非可死；至通州，几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纳死；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舟涉鲸波出，无可奈何，而死固付之度外矣！呜呼！死生，昼夜事也。死而死矣，而境界危恶，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出，非人世所堪。痛定思痛，痛何如哉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64771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第五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古今异义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8640" y="909720"/>
            <a:ext cx="850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去：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死，殉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无色：盘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彷徨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：走投无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竟：假如，如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夜：在夜里。名作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下：发下。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后先：一前一后行进。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：取道。走……路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见：通“现”，出现，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054080"/>
            <a:ext cx="7931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活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：在夜里。名作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：发下。名作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先：一前一后行进。名作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：取道。走……路。名作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0440"/>
            <a:ext cx="82202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逐之城门外。被动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退不由（己）。省宾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坐（于）桂公塘土围中。省介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落（于）贼手死。省介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贾家庄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巡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陵迫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动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避哨（于）竹林中。省介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被）捕系死。被动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入（于）乱尸中。省介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与寇往来（于）其间。省介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（被）纳死。被动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死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昼夜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痛何如哉！宾语前置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rot="10800000">
            <a:off x="1402560" y="5804640"/>
            <a:ext cx="789840" cy="448560"/>
          </a:xfrm>
          <a:prstGeom prst="bentConnector3">
            <a:avLst>
              <a:gd name="adj1" fmla="val 498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 flipH="1">
            <a:off x="8279280" y="119160"/>
            <a:ext cx="729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特殊句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4000" y="98100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Arial"/>
                <a:ea typeface="华文行楷"/>
              </a:rPr>
              <a:t>指南录后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2708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文天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3080" y="4292640"/>
            <a:ext cx="478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臣心一片磁针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不指南方不肯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9640" y="47772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痛定思痛，痛何如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91772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抒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议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98064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唉！我接近死亡的危机不知道多少回了！责骂敌军大头目会被处死；痛骂叛贼也会被杀死；和北兵那两个高级头目相处二十天，争论是非曲直，好多次都可能被杀死；逃出京口（的时候），身边带着匕首以防意外，差点自杀；经过十多里有北兵停泊船只的水区，被巡逻船搜寻，差点投水，葬身鱼腹；在真州被赶出城外，差点（由于）走投无路而急死；投奔扬州，路过瓜州扬子桥，如果碰上（敌人的）哨兵，不可能不被杀死；在扬州城下，进退不能自主，几乎类似送死；坐在桂公塘土围子里，（敌人）骑兵数千人从门前走过，差点落在敌人手里死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885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贾家庄，差点被巡查的军官凌侮逼迫而死；夜里投奔高邮，迷了路，差点儿陷（于泥沼）而死；天亮时，在竹林中躲避哨兵，遇到巡逻的元军骑兵几十人，几乎无法逃脱而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了高邮，置制司衙门（通缉捉拿我的）公文下达了，差点儿被逮捕杀死；在城子河里航行，在横七竖八的死人堆里穿行，（我坐的）船同（敌人的）巡哨船相隔很近，差点儿遇上（敌人而被）杀死；到了海陵，往高沙去，常常担心白白地死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07560"/>
            <a:ext cx="7620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道海安、如皋，一共三百里路，北兵和土匪在这一带来来往往，（我）没有一天不可能死去；到达通州，几乎因为不被收留而死；后来驾着小船在惊涛骇浪中航行，实在没有办法，（这时）已不把死亡（的威胁）放在心上了！唉！生死不过是早晚间的事情，死了就死了；可是处境是那样的危险艰难，而且层出不穷，（实在）不是人所能忍受得了的。痛苦的事情过去以后再回味当时遭受的痛苦，那是多么的痛苦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4920" y="259920"/>
            <a:ext cx="8956800" cy="61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排比句的顺序。以下是按行程排列的简表，有助于记忆（学生边读边归纳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临安城外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北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诋大酋；骂逆贼；与贵酋争曲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口至真州：备不测；为巡船所物色；逐之城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扬州：竟使遇哨；进退不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扬州至高邮；桂公塘土围中；贾家庄受凌迫；迷失道；避哨竹林中；制府檄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城子河至通州：舟与哨相先后；至海陵，如高沙；道海安、如皋；几以不纳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海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：以小舟涉鲸波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：这段文字中连用了多少个“死”字？这样写是用了什么修辞手法？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5909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连用了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个“死”字，构成了生动有力的排比句式，说明环境险恶，表现了为解救国难 而视死如归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228600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细心品味：两个“呜呼”和三个“矣”所表现的语气是有区别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920" y="1558800"/>
            <a:ext cx="89568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个“呜呼”表达了已将生死置于度外的感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个“呜呼”表达了山河破碎、国事难为的伤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个“矣”处于统领句末，有提示下文的作用，宜重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个“矣”处于前一层结句之末，有总结上文的作用，宜轻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个“矣”，处在文意转折（“而境界危恶”）之前，宜急收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第六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98900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予在患难中，间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记所遭，今存其本，不忍废。道中手自抄录。使北营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关外，为一卷；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关外，历吴门、毗陵，渡瓜洲，复还京口，为一卷；脱京口，趋真州、扬州、高邮、泰州、通州，为一卷；自海道至永嘉、来三山，为一卷。将藏之于家，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来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之，悲予志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276120"/>
            <a:ext cx="7499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古今异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2000" y="105372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：得机会，找机会。名作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：底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：亲手。名作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：思念，同情；以……为悲。意动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活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手：亲手。名作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悲：思念，同情；以……为悲。意动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2277720"/>
            <a:ext cx="82198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使（于）北营，留（于）北关外。省介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被）留北关外。被动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（于）北关外。省介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（于）京口，趋（于）真州。省介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3456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、特殊句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隶书"/>
              </a:rPr>
              <a:t>文天祥纪念馆——江西吉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712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47772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成书卷次，收藏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917720"/>
            <a:ext cx="813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0"/>
            <a:ext cx="7239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诗集的由来是怎样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25909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  <a:ea typeface="黑体"/>
              </a:rPr>
              <a:t>文天祥“在患难中，间以诗记所遭，今存其本不忍废，……”（在患难当中，有时用诗来记录所遭遇的事情，现在保存着那些稿本不忍心丢掉……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28600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18900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0"/>
            <a:ext cx="723924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结集的目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24210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66"/>
                </a:solidFill>
                <a:latin typeface="宋体"/>
                <a:ea typeface="黑体"/>
              </a:rPr>
              <a:t>目的是“将藏之于家，使来者读之，悲予志焉。”（打算把它藏在家里，使后世人阅读它，同情我的志向啊。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隶书"/>
              </a:rPr>
              <a:t>（文天祥的志向是什么？中兴复国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呜呼！予之生也幸，而幸生也何所为？求乎为臣，主辱，臣死有余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所求乎为子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之遗体行殆，而死有余责。将请罪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，君不许；请罪于母，母不许；请罪于先人之墓。生无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救国，死犹为厉鬼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击贼，义也；赖天之灵、宗庙之福，修我戈矛，从王于师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驱，雪九庙之耻，复高祖之业，所谓“誓不与贼俱生”，所谓“鞠躬尽力，死而后已”，亦义也。嗟夫！若予者，将无往而不得死所矣。向也使予委骨于草莽，予虽浩然无所愧怍，然微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文于君亲，君亲其谓予何？诚不自意返吾衣冠，重见日月，使旦夕得正丘首，复何憾哉！复何憾哉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260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第七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古今异义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8640" y="909720"/>
            <a:ext cx="850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僇：同“戮”，罪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遗体：赐予的身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为：两个词，把……当作…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：从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：文饰，美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月：这里分别指皇帝皇后。借代的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：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：把头朝向。名作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054080"/>
            <a:ext cx="7931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活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：把头朝向。名作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幸生也何为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宾语前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请罪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，君不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罪于先人之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判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以（予）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驱。省宾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微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文于君亲。状语后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旦夕得正丘首。省宾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 rot="10800000">
            <a:off x="2555280" y="4293360"/>
            <a:ext cx="789480" cy="448560"/>
          </a:xfrm>
          <a:prstGeom prst="bentConnector3">
            <a:avLst>
              <a:gd name="adj1" fmla="val 4990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 flipH="1">
            <a:off x="8279280" y="119160"/>
            <a:ext cx="729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特殊句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rot="10800000">
            <a:off x="2483640" y="764280"/>
            <a:ext cx="788040" cy="448560"/>
          </a:xfrm>
          <a:prstGeom prst="bentConnector3">
            <a:avLst>
              <a:gd name="adj1" fmla="val 4990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7" name=""/>
          <p:cNvCxnSpPr/>
          <p:nvPr/>
        </p:nvCxnSpPr>
        <p:spPr>
          <a:xfrm rot="10800000">
            <a:off x="1618560" y="1269360"/>
            <a:ext cx="791280" cy="448200"/>
          </a:xfrm>
          <a:prstGeom prst="bentConnector3">
            <a:avLst>
              <a:gd name="adj1" fmla="val 49886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rot="10800000">
            <a:off x="1313640" y="1971000"/>
            <a:ext cx="789840" cy="448200"/>
          </a:xfrm>
          <a:prstGeom prst="bentConnector3">
            <a:avLst>
              <a:gd name="adj1" fmla="val 49886"/>
            </a:avLst>
          </a:prstGeom>
          <a:ln w="7632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47772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大意：报国之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1772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抒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议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2000" y="1127160"/>
            <a:ext cx="889164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唉！我活着是侥幸的，然而侥幸活着又能做什么？作为臣子，国君受到侮辱，臣子即使死了也有罪责（而我现在没能死成）；作为人子，用父母亲留给自己的身体去冒险，有罪责。向国君请罪，国君不准许；向母亲请罪，母亲不准许。到祖先墓上请罪，活着无法拯救国家的危难，死了还要变成凶恶的鬼去攻击敌人，这是大义；依赖上天的灵性，国家的福分，整治我的兵器，跟从君王投身军旅，作为行军的先锋，雪洗国家的耻辱，恢复高祖的帝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2720" y="692280"/>
            <a:ext cx="81360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说的发誓不与敌人一同活于世间，所说的鞠躬尽瘁，死而后已，也是大义。唉！像我这样的人，在任何地方都能找到死地。如果我的尸骨抛弃在荒草丛中，我虽然正大光明，问心无愧，但在君王和父母的面前无法文饰自己的过错，国君和父母会怎么说我呢！自己实在没法料到能回到宋朝，重新穿上汉族衣服，重见皇帝、皇后，使我早晚死于故土，又有什么遗憾！还有什么遗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文天祥纪念馆——正气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741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228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：第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  <a:ea typeface="隶书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段主要写什么内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666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1" lang="zh-CN" sz="4800" spc="-1" strike="noStrike">
                <a:solidFill>
                  <a:srgbClr val="000066"/>
                </a:solidFill>
                <a:latin typeface="宋体"/>
                <a:ea typeface="黑体"/>
              </a:rPr>
              <a:t>：这一段作者感慨自身尽忠尽孝，“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誓不与贼俱生”的决心以及“鞠躬尽力，死而后已”的顽强意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第八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73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夏五，改元景炎，庐陵文天祥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诗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曰《指南录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一年夏季五月，年号改为景炎，庐陵人文天祥给自己的诗集写了序文，题名为《指南录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7280" y="276120"/>
            <a:ext cx="7499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古今异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2000" y="105372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：这，代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：年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作序。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命名。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活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作序。名作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命名。名作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2279160"/>
            <a:ext cx="856908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四、大意：说明作序的时间和诗集的题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3456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、特殊句式。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835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、本段表现技巧或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191772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380880"/>
            <a:ext cx="914400" cy="173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286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提问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隶书"/>
              </a:rPr>
              <a:t>：为什么要以《指南录》命名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590920"/>
            <a:ext cx="7010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黑体"/>
              </a:rPr>
              <a:t>明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66"/>
                </a:solidFill>
                <a:latin typeface="宋体"/>
                <a:ea typeface="黑体"/>
              </a:rPr>
              <a:t>取诗集中《扬子江》一诗“臣心一片磁针石，不指南方不肯休”句意命名，表达了作者心指南宋、冒死南归的一片忠贞爱国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2286000"/>
            <a:ext cx="88930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946400" cy="53290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顾城《一代人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我黑色的眼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却用它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“给”与“找”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836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天祥 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3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8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南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杰出的民族英雄、文学家、诗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字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履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又字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宋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号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文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宋吉州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庐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今江西吉安县）人。宋理宗祐宝四年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5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考取进士第一名。曾任湖南提刑，知赣州（现江西赣州市）。德祐元年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7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元军进迫宋都临安（今浙江杭州），文天祥应勤王诏，捐家产作军费，率义军万余人起兵抗元。不久元军大举南下，驻军于皋亭山，文天祥以资政殿学士身份出使元军议和，被扣，后在北解途中逃脱，经海路转至福州，拥立端宗，图谋恢复，转战东南，终兵败被俘。次年送至大都（北京）宁死不屈，从容就义。时年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，遗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《文山先生全集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十七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作者介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参见《导与练》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81080" y="263520"/>
            <a:ext cx="8712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化常识（参见《导与练》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序、跋：序也作“叙”或称“引”，有如今日的“引言”“前言”，是说明书籍著作或出版意旨，编作体例和作者情况的文章。也可包括对作家作品的评论和对有关问题的研究阐发。“序”一般写在书籍或文章前面列于书后的称为“跋”或“后序”。这类文章，按不同的内容分别属于说明文或议论文。说明编写目的，简介编写体例和内容的属于说明文，对作品进行评论或对问题进行阐发的属于议论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87280" cy="1099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正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0"/>
            <a:ext cx="78850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德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祐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yòu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(2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缙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绅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jìn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纾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祸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shū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4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觇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chān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献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谄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chǎn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(6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诟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虏帅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gòu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7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贵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酋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qiú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8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羁縻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jī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mí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9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阃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kǔn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10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渚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洲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zhǔ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  )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11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刭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jǐng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(12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殆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dài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  )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13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巡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徼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jiào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(14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檄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文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xí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  )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15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毗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陵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pí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16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邂逅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xiè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hòu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17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余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僇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lù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   (18)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愧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怍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zuò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(19)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号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呼</a:t>
            </a:r>
            <a:r>
              <a:rPr b="1" lang="zh-CN" sz="3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靡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及（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háo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 ( </a:t>
            </a:r>
            <a:r>
              <a:rPr b="1" lang="en-US" sz="3100" spc="-1" strike="noStrike">
                <a:solidFill>
                  <a:srgbClr val="0000cc"/>
                </a:solidFill>
                <a:latin typeface="黑体"/>
                <a:ea typeface="黑体"/>
              </a:rPr>
              <a:t>mǐ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44000" y="6237360"/>
            <a:ext cx="647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123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4-05-12T01:48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