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9.jpeg" ContentType="image/jpeg"/>
  <Override PartName="/ppt/media/image12.gif" ContentType="image/gi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1F8C-54EE-4349-9D34-3C6443A0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20F1-F90F-412C-9BE8-9945DD58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790B-7558-4FBB-A656-305EFF30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3D25-D2A0-48FC-8077-40D2CD4B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42F0-6B50-4DD1-88D4-9BCB580B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FE7C-EF3A-400A-BD25-E05C30C5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EB71-54C9-4D7E-898F-F414C997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B4EB-6A90-410F-AC5C-0B44D0F3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4CCC-3091-4925-B80F-578CF813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196B-D6F6-469F-AA74-F280EAE4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AE74-B9F0-4B9E-B83D-B24F5A62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48D-08FD-4550-B7EE-7D9E098B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90BD-256D-403F-BF43-12552413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8B40-09C4-4F34-A464-4B590DC3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D22A-1658-4A95-A1AB-E12666F4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EF9F-FB4E-4004-A083-25D1BA1B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41C2-B138-4A55-AE14-4D7E1A57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FA85-2698-433D-BAF3-5881F304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070-8C86-42F2-AF47-AED2C481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76B4-086C-4FED-9614-2E750E36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73A9-FB8D-4637-8A0F-F7EF99B5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6A09-0DFA-4609-B7BB-CDB8C3ED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4E1D-5416-42D2-8C8B-28CAD5EC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5CF-8849-4860-86CA-147D9F81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A77A-0CBC-4F26-8D73-33A4F7E930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A031-E816-42A3-96F3-B49D4855F17A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baike.baidu.com/view/779687.htm" TargetMode="External"/><Relationship Id="rId2" Type="http://schemas.openxmlformats.org/officeDocument/2006/relationships/hyperlink" Target="http://baike.baidu.com/view/9008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sgweb.net/html/ldbt/5156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404640"/>
            <a:ext cx="7696080" cy="60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宋体"/>
                <a:ea typeface="华文行楷"/>
              </a:rPr>
              <a:t>过零丁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文天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辛苦遭逢起一经，干戈寥落四周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山河破碎风飘絮，身世浮沉雨打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惶恐滩头说惶恐，零丁洋里叹零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华文新魏"/>
              </a:rPr>
              <a:t>人生自古谁无死，留取丹心照汗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1447920"/>
            <a:ext cx="556272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朗读课文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注意字音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1187280" cy="1099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正音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58920" y="0"/>
            <a:ext cx="7885080" cy="70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德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祐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  </a:t>
            </a:r>
            <a:r>
              <a:rPr b="1" lang="zh-CN" sz="3100" spc="-1" strike="noStrike">
                <a:solidFill>
                  <a:srgbClr val="0000cc"/>
                </a:solidFill>
                <a:latin typeface="黑体"/>
                <a:ea typeface="黑体"/>
              </a:rPr>
              <a:t>yòu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 )   (2)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缙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绅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zh-CN" sz="3100" spc="-1" strike="noStrike">
                <a:solidFill>
                  <a:srgbClr val="0000cc"/>
                </a:solidFill>
                <a:latin typeface="黑体"/>
                <a:ea typeface="黑体"/>
              </a:rPr>
              <a:t>jìn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 )  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纾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祸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zh-CN" sz="3100" spc="-1" strike="noStrike">
                <a:solidFill>
                  <a:srgbClr val="0000cc"/>
                </a:solidFill>
                <a:latin typeface="黑体"/>
                <a:ea typeface="黑体"/>
              </a:rPr>
              <a:t>shū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 )    (4)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觇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北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zh-CN" sz="3100" spc="-1" strike="noStrike">
                <a:solidFill>
                  <a:srgbClr val="0000cc"/>
                </a:solidFill>
                <a:latin typeface="黑体"/>
                <a:ea typeface="黑体"/>
              </a:rPr>
              <a:t>chān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  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5)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献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谄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zh-CN" sz="3100" spc="-1" strike="noStrike">
                <a:solidFill>
                  <a:srgbClr val="0000cc"/>
                </a:solidFill>
                <a:latin typeface="黑体"/>
                <a:ea typeface="黑体"/>
              </a:rPr>
              <a:t>chǎn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 )   (6)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诟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虏帅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zh-CN" sz="3100" spc="-1" strike="noStrike">
                <a:solidFill>
                  <a:srgbClr val="0000cc"/>
                </a:solidFill>
                <a:latin typeface="黑体"/>
                <a:ea typeface="黑体"/>
              </a:rPr>
              <a:t>gòu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 )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7)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贵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酋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zh-CN" sz="3100" spc="-1" strike="noStrike">
                <a:solidFill>
                  <a:srgbClr val="0000cc"/>
                </a:solidFill>
                <a:latin typeface="黑体"/>
                <a:ea typeface="黑体"/>
              </a:rPr>
              <a:t>qiú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 )    (8)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羁縻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zh-CN" sz="3100" spc="-1" strike="noStrike">
                <a:solidFill>
                  <a:srgbClr val="0000cc"/>
                </a:solidFill>
                <a:latin typeface="黑体"/>
                <a:ea typeface="黑体"/>
              </a:rPr>
              <a:t>jī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 )( </a:t>
            </a:r>
            <a:r>
              <a:rPr b="1" lang="zh-CN" sz="3100" spc="-1" strike="noStrike">
                <a:solidFill>
                  <a:srgbClr val="0000cc"/>
                </a:solidFill>
                <a:latin typeface="黑体"/>
                <a:ea typeface="黑体"/>
              </a:rPr>
              <a:t>mí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 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9)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阃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zh-CN" sz="3100" spc="-1" strike="noStrike">
                <a:solidFill>
                  <a:srgbClr val="0000cc"/>
                </a:solidFill>
                <a:latin typeface="黑体"/>
                <a:ea typeface="黑体"/>
              </a:rPr>
              <a:t>kǔn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 )    (10)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渚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洲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zh-CN" sz="3100" spc="-1" strike="noStrike">
                <a:solidFill>
                  <a:srgbClr val="0000cc"/>
                </a:solidFill>
                <a:latin typeface="黑体"/>
                <a:ea typeface="黑体"/>
              </a:rPr>
              <a:t>zhǔ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   )  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11)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自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刭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zh-CN" sz="3100" spc="-1" strike="noStrike">
                <a:solidFill>
                  <a:srgbClr val="0000cc"/>
                </a:solidFill>
                <a:latin typeface="黑体"/>
                <a:ea typeface="黑体"/>
              </a:rPr>
              <a:t>jǐng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 )  (12)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殆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zh-CN" sz="3100" spc="-1" strike="noStrike">
                <a:solidFill>
                  <a:srgbClr val="0000cc"/>
                </a:solidFill>
                <a:latin typeface="黑体"/>
                <a:ea typeface="黑体"/>
              </a:rPr>
              <a:t>dài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   ) 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13)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巡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徼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zh-CN" sz="3100" spc="-1" strike="noStrike">
                <a:solidFill>
                  <a:srgbClr val="0000cc"/>
                </a:solidFill>
                <a:latin typeface="黑体"/>
                <a:ea typeface="黑体"/>
              </a:rPr>
              <a:t>jiào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 )  (14)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檄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文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zh-CN" sz="3100" spc="-1" strike="noStrike">
                <a:solidFill>
                  <a:srgbClr val="0000cc"/>
                </a:solidFill>
                <a:latin typeface="黑体"/>
                <a:ea typeface="黑体"/>
              </a:rPr>
              <a:t>xí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   )  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15)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毗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陵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zh-CN" sz="3100" spc="-1" strike="noStrike">
                <a:solidFill>
                  <a:srgbClr val="0000cc"/>
                </a:solidFill>
                <a:latin typeface="黑体"/>
                <a:ea typeface="黑体"/>
              </a:rPr>
              <a:t>pí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 )    (16)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邂逅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zh-CN" sz="3100" spc="-1" strike="noStrike">
                <a:solidFill>
                  <a:srgbClr val="0000cc"/>
                </a:solidFill>
                <a:latin typeface="黑体"/>
                <a:ea typeface="黑体"/>
              </a:rPr>
              <a:t>xiè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 )( </a:t>
            </a:r>
            <a:r>
              <a:rPr b="1" lang="zh-CN" sz="3100" spc="-1" strike="noStrike">
                <a:solidFill>
                  <a:srgbClr val="0000cc"/>
                </a:solidFill>
                <a:latin typeface="黑体"/>
                <a:ea typeface="黑体"/>
              </a:rPr>
              <a:t>hòu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 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17)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余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僇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zh-CN" sz="3100" spc="-1" strike="noStrike">
                <a:solidFill>
                  <a:srgbClr val="0000cc"/>
                </a:solidFill>
                <a:latin typeface="黑体"/>
                <a:ea typeface="黑体"/>
              </a:rPr>
              <a:t>lù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 )    (18)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愧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怍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zh-CN" sz="3100" spc="-1" strike="noStrike">
                <a:solidFill>
                  <a:srgbClr val="0000cc"/>
                </a:solidFill>
                <a:latin typeface="黑体"/>
                <a:ea typeface="黑体"/>
              </a:rPr>
              <a:t>zuò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   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(19)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号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呼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靡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及（</a:t>
            </a:r>
            <a:r>
              <a:rPr b="1" lang="zh-CN" sz="3100" spc="-1" strike="noStrike">
                <a:solidFill>
                  <a:srgbClr val="0000cc"/>
                </a:solidFill>
                <a:latin typeface="黑体"/>
                <a:ea typeface="黑体"/>
              </a:rPr>
              <a:t>háo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 ) ( </a:t>
            </a:r>
            <a:r>
              <a:rPr b="1" lang="zh-CN" sz="3100" spc="-1" strike="noStrike">
                <a:solidFill>
                  <a:srgbClr val="0000cc"/>
                </a:solidFill>
                <a:latin typeface="黑体"/>
                <a:ea typeface="黑体"/>
              </a:rPr>
              <a:t>mǐ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 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44000" y="6237360"/>
            <a:ext cx="64764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12369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152280"/>
            <a:ext cx="762120" cy="1191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段落层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152280"/>
            <a:ext cx="77724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第一部分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第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 — 5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自然段）自述出使元营所遭遇的种种磨难，表现了作者视死如归、英勇抗争的爱国主义高尚情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第二部分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第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6 — 8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自然段）说明诗篇的写作情况和结集目的，并生发忠诚报国、死而无憾的感慨，且交代诗集的题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第一段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560" y="1052280"/>
            <a:ext cx="76201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德祐二年二月十九日，予</a:t>
            </a:r>
            <a:r>
              <a:rPr b="0" lang="zh-CN" sz="3200" spc="-1" strike="noStrike" u="sng">
                <a:solidFill>
                  <a:srgbClr val="003300"/>
                </a:solidFill>
                <a:uFillTx/>
                <a:latin typeface="Times New Roman"/>
                <a:hlinkClick r:id="rId1" action="ppaction://hlinksldjump"/>
              </a:rPr>
              <a:t>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右丞相兼枢密使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都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诸路军马。时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北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迫修门外，战、守、迁皆不及施。缙绅、大夫、士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左丞相府，莫知计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所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辙交驰，北邀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当国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相见，众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予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一行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以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祸。国事至此，予不得爱身；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北亦尚可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舌动也。初，奉使往来，无留北者，予更欲一觇北，归而求救国之策。于是，辞相印不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翌日，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资政殿学士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1116000" cy="916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探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隶书"/>
              </a:rPr>
              <a:t>提问：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隶书"/>
              </a:rPr>
              <a:t>文天祥是在怎样的形势下出使北营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8172360" cy="79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58920" y="1341360"/>
            <a:ext cx="78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隶书"/>
              </a:rPr>
              <a:t>提问：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  <a:ea typeface="隶书"/>
              </a:rPr>
              <a:t>文天祥当时的心情和意图怎样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4581360"/>
            <a:ext cx="76341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隶书"/>
              </a:rPr>
              <a:t>提问：</a:t>
            </a:r>
            <a:r>
              <a:rPr b="1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文天祥辞相印不拜而出使元营这件事说明了什么？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隶书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38760" y="6216120"/>
            <a:ext cx="5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不计个人利害，图救国之策。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2201760"/>
            <a:ext cx="63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心情：“予不得爱身” ；即已抱定了为国捐躯的决心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09840" y="3567960"/>
            <a:ext cx="76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意图：一方面“意北亦尚可以口舌动也” ，企图以外交手段来挽回败局；另一方面是“更欲一觇北，归而求救国之策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03280" y="1628640"/>
            <a:ext cx="728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叙写出使北营的背景、心情与意图，表达了作者在国事危急之际挺身自任的思想感情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258560" y="404640"/>
            <a:ext cx="76201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初至北营，抗辞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慷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上下颇惊动，北亦未敢遽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吾国。不幸吕师孟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构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于前，贾余庆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献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于后，予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羁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得还，国事遂不可收拾。予自度不得脱，则直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诟虏帅失信，数吕师孟叔侄为逆，但欲求死，不复顾利害。北虽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敬，实则愤怒，二贵酋名曰“馆伴”，夜则以兵围所寓舍，而予不得归矣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未几，贾余庆等以祈请使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北。北驱予并往，而不在使者之目。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当引决，然而隐忍以行。昔人云：“将以有为也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8600" y="152280"/>
            <a:ext cx="914400" cy="173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探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404640"/>
            <a:ext cx="79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隶书"/>
              </a:rPr>
              <a:t>提问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隶书"/>
              </a:rPr>
              <a:t>文天祥至北营大致经历了三个阶段，这三个阶段是怎样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03280" y="2133720"/>
            <a:ext cx="74678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明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第一阶段是：“初至北营……北亦未敢遽轻吾国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第二阶段是：“不幸吕师孟构恶于前，贾余庆献谄于后……予不得归矣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第三阶段是：“未几……北驱予并往，而不在使者之目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50920" y="1844640"/>
            <a:ext cx="7993080" cy="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380880"/>
            <a:ext cx="914400" cy="173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探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0"/>
            <a:ext cx="76201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  <a:ea typeface="隶书"/>
              </a:rPr>
              <a:t>提问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隶书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文天祥被拘留时“但欲求死”后来随祈请使北行，理当自杀而“隐忍以行”，这两种做法是否相互矛盾？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隶书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3141720"/>
            <a:ext cx="72392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宋体"/>
                <a:ea typeface="黑体"/>
              </a:rPr>
              <a:t>明确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黑体"/>
              </a:rPr>
              <a:t>：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不矛盾。“求死”是因为“不得脱”，以死保全名节；“隐忍以行”，是因为有机会逃脱，还可以有所作为，图救国之策。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50920" y="2781360"/>
            <a:ext cx="7993080" cy="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05120" y="45720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小结第</a:t>
            </a:r>
            <a:r>
              <a:rPr b="1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2</a:t>
            </a:r>
            <a:r>
              <a:rPr b="1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</a:t>
            </a:r>
            <a:r>
              <a:rPr b="1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3</a:t>
            </a:r>
            <a:r>
              <a:rPr b="1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节段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1676520"/>
            <a:ext cx="77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宋体"/>
                <a:ea typeface="华文新魏"/>
              </a:rPr>
              <a:t>    </a:t>
            </a:r>
            <a:r>
              <a:rPr b="1" lang="zh-CN" sz="6000" spc="-1" strike="noStrike">
                <a:solidFill>
                  <a:srgbClr val="000066"/>
                </a:solidFill>
                <a:latin typeface="宋体"/>
                <a:ea typeface="华文新魏"/>
              </a:rPr>
              <a:t>出使北营，震慑敌方，身受羁縻和被驱北上，表达了他忍辱负重，图谋再举的思想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042560" y="259920"/>
            <a:ext cx="8101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化常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序、跋：序也作“叙”或称“引”，有如今日的“引言”“前言”，是说明书籍著作或出版意旨，编作体例和作者情况的文章。也可包括对作家作品的评论和对有关问题的研究阐发。“序”一般写在书籍或文章前面列于书后的称为“跋”或“后序”。这类文章，按不同的内容分别属于说明文或议论文。说明编写目的，简介编写体例和内容的属于说明文，对作品进行评论或对问题进行阐发的属于议论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第四段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32000" y="14842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至京口，得</a:t>
            </a:r>
            <a:r>
              <a:rPr b="0" lang="zh-CN" sz="3200" spc="-1" strike="noStrike" u="sng">
                <a:solidFill>
                  <a:srgbClr val="003300"/>
                </a:solidFill>
                <a:uFillTx/>
                <a:latin typeface="Times New Roman"/>
                <a:hlinkClick r:id="rId1" action="ppaction://hlinksldjump"/>
              </a:rPr>
              <a:t>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奔真州，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具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北虚实告东西二阃，约以连兵大举。中兴机会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庶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此。留二日，维扬帅下逐客之令。不得已，变姓名，诡踪迹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宿，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北骑相出没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淮间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饿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无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追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急，天高地迥，号呼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靡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已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得舟，避渚洲，出北海，然后渡扬子江，入苏州洋，展转四明、天台，以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至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永嘉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380880"/>
            <a:ext cx="914400" cy="173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探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22860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隶书"/>
              </a:rPr>
              <a:t>提问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隶书"/>
              </a:rPr>
              <a:t>：</a:t>
            </a: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段写了哪几层意思？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2514600"/>
            <a:ext cx="73911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黑体"/>
              </a:rPr>
              <a:t>明确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第</a:t>
            </a:r>
            <a:r>
              <a:rPr b="1" lang="zh-CN" sz="4000" spc="-1" strike="noStrike">
                <a:solidFill>
                  <a:srgbClr val="000066"/>
                </a:solidFill>
                <a:latin typeface="_x000b__x000c_"/>
              </a:rPr>
              <a:t>1</a:t>
            </a: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层，得脱后的喜悦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第</a:t>
            </a:r>
            <a:r>
              <a:rPr b="1" lang="zh-CN" sz="4000" spc="-1" strike="noStrike">
                <a:solidFill>
                  <a:srgbClr val="000066"/>
                </a:solidFill>
                <a:latin typeface="_x000b__x000c_"/>
              </a:rPr>
              <a:t>2</a:t>
            </a: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层，受误会后的困境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第</a:t>
            </a:r>
            <a:r>
              <a:rPr b="1" lang="zh-CN" sz="4000" spc="-1" strike="noStrike">
                <a:solidFill>
                  <a:srgbClr val="000066"/>
                </a:solidFill>
                <a:latin typeface="_x000b__x000c_"/>
              </a:rPr>
              <a:t>3</a:t>
            </a: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层，得舟后急于南下的急迫心情。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2362320"/>
            <a:ext cx="8893080" cy="8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9280" y="189000"/>
            <a:ext cx="914400" cy="173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探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32000" y="26028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隶书"/>
              </a:rPr>
              <a:t>提问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隶书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能表达作者急切、紧张的心情，以及连续所经历的坎坷的动词有哪些？领会作者用词灵活多样的特点及其表达效果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47640" y="242100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黑体"/>
              </a:rPr>
              <a:t>明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黑体"/>
              </a:rPr>
              <a:t>极富表现力的动词有：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奔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黑体"/>
              </a:rPr>
              <a:t>”写出了当时迫不择路的极快速度；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变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黑体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诡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黑体"/>
              </a:rPr>
              <a:t>”二字反映了形势突变以及自己采取的果敢行动；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避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黑体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出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黑体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渡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黑体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入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黑体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展转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黑体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至于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黑体"/>
              </a:rPr>
              <a:t>”等一连串动词，反映了作者迅速离开险境的情况，同时也表现了作者急于南下组织力量抗元以报效国家的急切心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893080" cy="8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81080" y="30492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小结第</a:t>
            </a:r>
            <a:r>
              <a:rPr b="1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4</a:t>
            </a:r>
            <a:r>
              <a:rPr b="1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节段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167652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出京口抵永嘉的苦难历程，表现了作者经历艰险，仍力图中兴的心愿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99840" y="188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6600"/>
                </a:solidFill>
                <a:latin typeface="华文行楷"/>
                <a:ea typeface="华文行楷"/>
              </a:rPr>
              <a:t>复述文天祥的遭遇 </a:t>
            </a:r>
            <a:br>
              <a:rPr sz="5400"/>
            </a:b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240" y="907920"/>
            <a:ext cx="76201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段应注意的是：①时间（只有两天，即德佑二年二月十九日和“翌日”）。②出使元营原因（兵临城下、“北邀当国者相见”）。③作者的意图（“予更欲一觇北，归而求救国之策”）。④作者任职及官衔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段应注意的是：①主要是被拘留和被挟北行二事。②先说初至北营的情况，后说情况的变化；说情况的变化，又是先说变化的原因，后说变化的过程。③说被拘留一事，重在“求死”一语；说被挟北行一事，重在“隐忍以行”一语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段应注意的是：①重点是在真州和维扬两地的遭遇，一起一落要说得清楚。②出北海以后只说南返的路线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258560" y="609120"/>
            <a:ext cx="7885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呜呼！予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于死者不知其几矣！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酋当死；骂逆贼当死；与贵酋处二十日，争曲直，屡当死；去京口，挟匕首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备不测，几自刭死；经北舰十余里，为巡船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物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几从鱼腹死；真州逐之城门外，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徬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死；如扬州，过瓜洲扬子桥，竟使遇哨，无不死；扬州城下，进退不由，殆例送死；坐桂公塘土围中，骑数千过其门，几落贼手死；贾家庄几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巡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迫死；夜趋高邮，迷失道，几陷死；质明，避哨竹林中，逻者数十骑，几无所救死；至高邮，制府檄下，几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捕系死；行城子河，出入乱尸中，舟与哨相后先，几邂逅死；至海陵，如高沙，常恐无辜死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海安、如皋，凡三百里，北与寇往来其间，无日而非可死；至通州，几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纳死；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舟涉鲸波出，无可奈何，而死固付之度外矣！呜呼！死生，昼夜事也，死而死矣，而境界危恶，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错出，非人世所堪。痛定思痛，痛何如哉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381880" y="64771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92360" y="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第五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</a:rPr>
              <a:t>翻译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5640" y="980640"/>
            <a:ext cx="7885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唉！我接近死亡的危机不知道多少回了！责骂敌军大头目会被处死；痛骂叛贼也会被杀死；和北兵那两个高级头目相处二十天，争论是非曲直，好多次都可能被杀死；逃出京口（的时候），身边带着匕首以防意外，差点自杀；经过十多里有北兵停泊船只的水区，被巡逻船搜寻，差点投水，葬身鱼腹；在真州被赶出城外，差点（由于）走投无路而急死；投奔扬州，路过瓜州扬子桥，如果碰上（敌人的）哨兵，不可能不被杀死；在扬州城下，进退不能自主，几乎类似送死；坐在桂公塘土围子里，（敌人）骑兵数千人从门前走过，差点落在敌人手里死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228600"/>
            <a:ext cx="78850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贾家庄，差点被巡查的军官凌侮逼迫而死；夜里投奔高邮，迷了路，差点儿陷（于泥沼）而死；天亮时，在竹林中躲避哨兵，遇到巡逻的元军骑兵几十人，几乎无法逃脱而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了高邮，置制司衙门（通缉捉拿我的）公文下达了，差点儿被逮捕杀死；在城子河里航行，在横七竖八的死人堆里穿行，（我坐的）船同（敌人的）巡哨船相隔很近，差点儿遇上（敌人而被）杀死；到了海陵，往高沙去，常常担心白白地死掉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6920" y="907560"/>
            <a:ext cx="76201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道海安、如皋，一共三百里路，北兵和土匪在这一带来来往往，（我）没有一天不可能死去；到达通州，几乎因为不被收留而死；后来驾着小船在惊涛骇浪中航行，实在没有办法，（这时）已不把死亡（的威胁）放在心上了！唉！生死不过是早晚间的事情，死了就死了；可是处境是那样的危险艰难，而且层出不穷，（实在）不是人所能忍受得了的。痛苦的事情过去以后再回味当时遭受的痛苦，那是多么的痛苦啊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240" y="259920"/>
            <a:ext cx="76201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比句的顺序。以下是按行程排列的简表，有助于记忆（学生边读边归纳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临安城外</a:t>
            </a:r>
            <a:r>
              <a:rPr b="0" lang="zh-CN" sz="2800" spc="-1" strike="noStrike" u="sng">
                <a:solidFill>
                  <a:srgbClr val="003300"/>
                </a:solidFill>
                <a:uFillTx/>
                <a:latin typeface="Times New Roman"/>
                <a:hlinkClick r:id="rId1"/>
              </a:rPr>
              <a:t>北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诋大酋；骂逆贼；与贵酋争曲直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京口至真州：备不测；为巡船所物色；逐之城外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扬州：竟使遇哨；进退不由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扬州至高邮；桂公塘土围中；贾家庄受凌迫；迷失道；避哨竹林中；制府檄下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城子河至通州：舟与哨相先后；至海陵，如高沙；道海安、如皋；几以不纳死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航</a:t>
            </a:r>
            <a:r>
              <a:rPr b="0" lang="zh-CN" sz="2800" spc="-1" strike="noStrike" u="sng">
                <a:solidFill>
                  <a:srgbClr val="003300"/>
                </a:solidFill>
                <a:uFillTx/>
                <a:latin typeface="Times New Roman"/>
                <a:hlinkClick r:id="rId2"/>
              </a:rPr>
              <a:t>海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归：以小舟涉鲸波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163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24000" y="981000"/>
            <a:ext cx="7416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指南录后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2360" y="27082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文天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03280" y="4292640"/>
            <a:ext cx="75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臣心一片磁针石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指南方不肯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280" y="380880"/>
            <a:ext cx="914400" cy="173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探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286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隶书"/>
              </a:rPr>
              <a:t>提问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隶书"/>
              </a:rPr>
              <a:t>：这段文字中连用了多少个“死”字？这样写是用了什么修辞手法？表达了作者怎样的思想感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259092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宋体"/>
                <a:ea typeface="黑体"/>
              </a:rPr>
              <a:t>明确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黑体"/>
              </a:rPr>
              <a:t>：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连用了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2 2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个“死”字，构成了生动有力的排比句式，说明环境险恶，表现了为解救国难 而视死如归的思想感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2286000"/>
            <a:ext cx="8893080" cy="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华文行楷"/>
              </a:rPr>
              <a:t>细心品味：两个“呜呼”和三个“矣”所表现的语气是有区别的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58920" y="1557360"/>
            <a:ext cx="77328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个“呜呼”表达了已将生死置于度外的感情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个“呜呼”表达了山河破碎、国事难为的伤痛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个“矣”处于统领句末，有提示下文的作用，宜重读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个“矣”处于前一层结句之末，有总结上文的作用，宜轻读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个“矣”，处在文意转折（“而境界危恶”）之前，宜急收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05120" y="457200"/>
            <a:ext cx="590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华文新魏"/>
                <a:ea typeface="华文新魏"/>
              </a:rPr>
              <a:t>小结第</a:t>
            </a:r>
            <a:r>
              <a:rPr b="1" lang="zh-CN" sz="5400" spc="-1" strike="noStrike">
                <a:solidFill>
                  <a:srgbClr val="ff3300"/>
                </a:solidFill>
                <a:latin typeface="华文新魏"/>
                <a:ea typeface="华文新魏"/>
              </a:rPr>
              <a:t>5</a:t>
            </a:r>
            <a:r>
              <a:rPr b="1" lang="zh-CN" sz="5400" spc="-1" strike="noStrike">
                <a:solidFill>
                  <a:srgbClr val="ff3300"/>
                </a:solidFill>
                <a:latin typeface="华文新魏"/>
                <a:ea typeface="华文新魏"/>
              </a:rPr>
              <a:t>节段意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1676520"/>
            <a:ext cx="731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抒情为主，兼用叙述、说明和议论，抒发饱经痛苦以后的无限感慨和为国赴难的大无畏精神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第六段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予在患难中，间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诗记所遭，今存其本，不忍废，道中手自抄录。使北营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北关外，为一卷；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北关外，历吴门、毗陵，渡瓜洲，复还京口，为一卷；脱京口，趋真州、扬州、高邮、泰州、通州，为一卷；自海道至永嘉、来三山，为一卷。将藏之于家，使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来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读之，悲予志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16000" y="981000"/>
            <a:ext cx="802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在患难当中，有时写点诗来记述遭遇的情景，现在保留着底稿舍不得丢掉，旅途中亲手抄写：（有关）出使北营，被扣留在北关外（的部分），作为一卷；（有关）从北关外出发，经过吴门、常州，渡江到瓜州，重回京口（的部分），作为一卷；（有关）从京口逃向真州、扬州、高邮。泰州、通州（的部分），作为一卷；（有关）从海路到永嘉又来到三山（的部分），作为一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63640" y="18900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翻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2280" y="380880"/>
            <a:ext cx="914400" cy="173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探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0"/>
            <a:ext cx="72392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  <a:ea typeface="隶书"/>
              </a:rPr>
              <a:t>提问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隶书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隶书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隶书"/>
              </a:rPr>
              <a:t>诗集的由来是怎样的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259092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宋体"/>
                <a:ea typeface="黑体"/>
              </a:rPr>
              <a:t>明确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黑体"/>
              </a:rPr>
              <a:t>：</a:t>
            </a:r>
            <a:r>
              <a:rPr b="1" lang="zh-CN" sz="4000" spc="-1" strike="noStrike">
                <a:solidFill>
                  <a:srgbClr val="000066"/>
                </a:solidFill>
                <a:latin typeface="宋体"/>
                <a:ea typeface="黑体"/>
              </a:rPr>
              <a:t>文天祥“在患难中，间以诗记所遭，今存其本不忍废，……”（在患难当中，有时用诗来记录所遭遇的事情，现在保存着那些稿本不忍心丢掉……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2286000"/>
            <a:ext cx="8893080" cy="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280" y="189000"/>
            <a:ext cx="914400" cy="173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探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0"/>
            <a:ext cx="723924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隶书"/>
              </a:rPr>
              <a:t>提问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隶书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隶书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隶书"/>
              </a:rPr>
              <a:t>结集的目的是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47640" y="242100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宋体"/>
                <a:ea typeface="黑体"/>
              </a:rPr>
              <a:t>明确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黑体"/>
              </a:rPr>
              <a:t>：</a:t>
            </a:r>
            <a:r>
              <a:rPr b="1" lang="zh-CN" sz="4400" spc="-1" strike="noStrike">
                <a:solidFill>
                  <a:srgbClr val="000066"/>
                </a:solidFill>
                <a:latin typeface="宋体"/>
                <a:ea typeface="黑体"/>
              </a:rPr>
              <a:t>目的是“将藏之于家，使来者读之，悲予志焉。”（打算把它藏在家里，使后世人阅读它，同情我的志向啊。）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隶书"/>
              </a:rPr>
              <a:t>（文天祥的志向是什么？中兴复国。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893080" cy="8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905120" y="4572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小结第</a:t>
            </a:r>
            <a:r>
              <a:rPr b="1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6</a:t>
            </a:r>
            <a:r>
              <a:rPr b="1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节段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1828800"/>
            <a:ext cx="678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明诗集中卷次的划分情况和结集的目的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7640" y="764640"/>
            <a:ext cx="7344000" cy="585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呜呼！予之生也幸，而幸生也何所为？求乎为臣，主辱，臣死有余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所求乎为子，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父母之遗体行殆，而死有余责。将请罪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君，君不许；请罪于母，母不许；请罪于先人之墓。生无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救国，死犹为厉鬼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击贼，义也；赖天之灵、宗庙之福，修我戈矛，从王于师，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以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前驱，雪九庙之耻，复高祖之业，所谓“誓不与贼俱生”，所谓“鞠躬尽力，死而后已”，亦义也。嗟夫！若予者，将无往而不得死所矣。向也，使予委骨于草莽，予虽浩然无所愧怍，然微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文于君亲，君亲其谓予何？诚不自意返吾衣冠，重见日月，使旦夕得正丘首，复何憾哉！复何憾哉！</a:t>
            </a:r>
            <a:r>
              <a:rPr b="0" lang="zh-CN" sz="28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95640" y="26028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新魏"/>
              </a:rPr>
              <a:t>第七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7543800" cy="86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Times New Roman"/>
              </a:rPr>
              <a:t>翻译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7280" y="1125360"/>
            <a:ext cx="79567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唉！我活着是侥幸的，然而侥幸活着又能做什么？作为臣子，国君受到侮辱，臣子即使死了也有罪责（而我现在没能死成）；作为人子，用父母亲留给自己的身体去冒险，有罪责。向国君请罪，国君不准许；向母亲请罪，母亲不准许。到祖先墓上请罪，活着无法拯救国家的危难，死了还要变成凶恶的鬼去攻击敌人，这是大义；依赖上天的灵性，国家的福分，整治我的兵器，跟从君王投身军旅，作为行军的先锋，雪洗国家的耻辱，恢复高祖的帝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隶书"/>
              </a:rPr>
              <a:t>文天祥纪念馆——江西吉安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7128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87280" y="692280"/>
            <a:ext cx="7561440" cy="55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说的发誓不与敌人一同活于世间，所说的鞠躬尽瘁，死而后已，也是大义。唉！像我这样的人，在任何地方都能找到死地。如果我的尸骨抛弃在荒草丛中，我虽然正大光明，问心无愧，但在君王和父母的面前无法文饰自己的过错，国君和父母会怎么说我呢！自己实在没法料到能回到宋朝，重新穿上汉族衣服，重见皇帝、皇后，使我早晚死于故土，又有什么遗憾！还有什么遗憾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280" y="380880"/>
            <a:ext cx="914400" cy="173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探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22860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隶书"/>
              </a:rPr>
              <a:t>提问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隶书"/>
              </a:rPr>
              <a:t>：第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隶书"/>
              </a:rPr>
              <a:t>7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隶书"/>
              </a:rPr>
              <a:t>段主要写什么内容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266688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  <a:ea typeface="黑体"/>
              </a:rPr>
              <a:t>明确</a:t>
            </a:r>
            <a:r>
              <a:rPr b="1" lang="zh-CN" sz="4800" spc="-1" strike="noStrike">
                <a:solidFill>
                  <a:srgbClr val="000066"/>
                </a:solidFill>
                <a:latin typeface="宋体"/>
                <a:ea typeface="黑体"/>
              </a:rPr>
              <a:t>：这一段作者感慨自身尽忠尽孝，“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誓不与贼俱生”的决心以及“鞠躬尽力，死而后已”的顽强意志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50920" y="2209680"/>
            <a:ext cx="8893080" cy="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828800" y="76212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小结第</a:t>
            </a:r>
            <a:r>
              <a:rPr b="1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7</a:t>
            </a:r>
            <a:r>
              <a:rPr b="1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节段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76520" y="1981080"/>
            <a:ext cx="678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出作者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华文新魏"/>
              </a:rPr>
              <a:t>忠诚报国、死而无憾的感慨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第八段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夏五，改元景炎，庐陵文天祥自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其诗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曰《指南录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这一年夏季五月，年号改为景炎，庐陵人文天祥给自己的诗集写了序文，题名为《指南录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2280" y="380880"/>
            <a:ext cx="914400" cy="173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探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22860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隶书"/>
              </a:rPr>
              <a:t>提问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隶书"/>
              </a:rPr>
              <a:t>：为什么要以《指南录》命名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2590920"/>
            <a:ext cx="7010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  <a:ea typeface="黑体"/>
              </a:rPr>
              <a:t>明确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黑体"/>
              </a:rPr>
              <a:t>：</a:t>
            </a:r>
            <a:r>
              <a:rPr b="1" lang="zh-CN" sz="4400" spc="-1" strike="noStrike">
                <a:solidFill>
                  <a:srgbClr val="000066"/>
                </a:solidFill>
                <a:latin typeface="宋体"/>
                <a:ea typeface="黑体"/>
              </a:rPr>
              <a:t>取诗集中《扬子江》一诗“臣心一片磁针石，不指南方不肯休”句意命名，表达了作者心指南宋、冒死南归的一片忠贞爱国之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0920" y="2286000"/>
            <a:ext cx="8893080" cy="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905120" y="7621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小结第</a:t>
            </a:r>
            <a:r>
              <a:rPr b="1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8</a:t>
            </a:r>
            <a:r>
              <a:rPr b="1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节段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190512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明作序的时间和诗集的题名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752480" y="685800"/>
            <a:ext cx="64771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研习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《指南录后序》的二十二个“死”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752480" y="685800"/>
            <a:ext cx="65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凡“死”字共二十二处。这些“死”字，各司其职，各尽其能，既准确鲜明，又形象生动，可谓妙语纷呈，出神入化！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371600" y="228600"/>
            <a:ext cx="7467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呜呼！予之及于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者不知其几矣！诋大酋当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骂逆贼当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 与贵酋处二十日，争曲直，屡当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去京口，挟匕首以备不测，几自到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 经北舰十余里，为巡船所物色，几从鱼腹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真州逐之城门外，几彷徨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7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如扬州，过瓜洲扬子桥，竟使遇哨，无不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8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扬州城下，进退不由，殆例送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9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坐桂公塘土围中，骑数千过其门，几落贼手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0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贾家庄几为巡徼所陵迫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1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夜趋高邮，迷失道，几陷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2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质明，避哨竹林中，逻者数十骑，几无所逃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3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至高邮，制府檄下，几以捕系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4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行城子河，出入乱尸中，舟与哨相后先，几邂逅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5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至海陵，如高沙，常恐无辜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6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道海安、如皋，凡三百里，北与寇往来其间，无日而非可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7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至通州，几以不纳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8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以小舟涉鲸波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无可奈何，而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9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固付之度外矣！呜呼！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0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，昼夜事也，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1)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2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矣；而境界危恶，层见错出，非人世所堪。痛定思痛，痛何如哉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23880" y="22860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这段文字的结构来分析，“死”①为总述“死”的境地及危险性，具有提领下文“死”②至“死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9)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共十八个“死”字的作用。这十八个“死”字句，以并列排比形式出现，每句均以分号隔开。“死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0)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至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2)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个“死”字归纳以上十八种“死”的可能性，表明作者对“死”的看法和态度，“死而死矣”，铿锵有力，掷地有声，充分显示其以“死”报国的宏伟决心和凛然正气。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49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隶书"/>
              </a:rPr>
              <a:t>文天祥纪念馆——牌匾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7416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28800" y="304920"/>
            <a:ext cx="6705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“死”的词性划分，作名词的“死”有①、⑨、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2)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9)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0)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1)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共六个，或作主语，或作宾语；作动词的“死”有②、③、④、⑤、⑥、⑦、⑧、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0)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1)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3)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4)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5)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6)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7)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8)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2)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共十六个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676520" y="304920"/>
            <a:ext cx="72165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从“死”的危险划分，有的来敌方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元营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如②、③、④、⑥、⑧、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(10)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(13)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(15)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等，用以揭露元军的凶狠和残暴；有的来自内部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南宋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如⑦、⑨、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(11)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(14)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(18)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等，用以披露南宋的混乱和腐败；有的来自环境的险恶，如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(12)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(16)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(17)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(19)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等，用以透露社会的动荡和不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95280" y="228600"/>
            <a:ext cx="7620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从“死”的方式划分，主动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自杀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的“死”仅有⑤、⑥、⑦三个，表明作者自己的赤胆忠心；被动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他杀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的“死”有其余十四个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(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即所有来自敌方和南宋的“死”的威胁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显示文天祥的高风亮节。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至于“死”的次数多寡，“死”前有“屡”、“几”等词加以限定，真是“层见错出”，不计其数，这里就不赘述了。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476360" y="2421000"/>
            <a:ext cx="64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黑体"/>
              </a:rPr>
              <a:t>本文表达了作者在国难当头时刻锐身自任的气概、坚贞不渝的节操和以死报国的决心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14130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主 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403280" y="1052280"/>
            <a:ext cx="75153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名词作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北虽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敬（貌：表面上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当引决（分：按名份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宿（草：在荒野里。露：在露天下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北骑相出没（日：每天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Ｂ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形容词作动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北亦未敢遽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吾国（轻：轻视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454320" y="1066680"/>
            <a:ext cx="152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词性活用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331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  <a:ea typeface="隶书"/>
              </a:rPr>
              <a:t>词性活用（一）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词性活用（二）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12560" y="1125360"/>
            <a:ext cx="7831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动词作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贾家庄几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巡徼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陵迫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名词作动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海安、如皋（道：取道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直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诟虏帅失信（前：走上前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庐陵文天祥自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其诗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曰《指南录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维扬帅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逐客之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下：下达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  <a:ea typeface="隶书"/>
              </a:rPr>
              <a:t>古今异义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7280" y="765000"/>
            <a:ext cx="79567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穷饿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追购又急（古：没有依托。今：单调，没有价值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至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永嘉（古：到达。今：表示退一步的副词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初至北营，抗辞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慷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古：十分激烈。今：大方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巡船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物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古：搜寻。今：寻找需要的人才或东西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彷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死（古：走投无路。今：犹豫不定，不知往哪里去好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众谓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可以纾祸（古：出使一次。今：一群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夏五（古：指示代词，这。今：判断动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115640" y="189000"/>
            <a:ext cx="8426520" cy="69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[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间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]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jiā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彼节者有间，而刀刃者无厚（缝隙《庖丁解牛》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扁鹊立有间（一会儿《扁鹊见蔡桓公》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出没于长淮间（之间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jià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间崩倒之声（夹杂《口技》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肉食者谋之，又何间焉（参与《曹刿论战》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量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jiā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得广夏千万间（《茅屋为秋风所破歌》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副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jià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间以诗记所遭（间或，有时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间令吴广之次所旁丛祠中（悄悄地，秘密地《陈涉世家》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2050560" y="-171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6600"/>
                </a:solidFill>
                <a:latin typeface="Times New Roman"/>
                <a:ea typeface="隶书"/>
              </a:rPr>
              <a:t>一词多义</a:t>
            </a: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116000" y="189000"/>
            <a:ext cx="77724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视其辙乱，望其旗靡，故逐之（倒下《曹刿论战》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如传目叱之，左右皆靡（后退《廉颇蔺相如列传》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徒靡弹药，无益吾事（浪费《冯婉贞》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众人皆以奢靡为荣（奢侈《训俭示康》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副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高地迥，号呼靡及（无，不。靡及：达不到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187280" y="188640"/>
            <a:ext cx="7956720" cy="74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宋体"/>
              </a:rPr>
              <a:t>  </a:t>
            </a:r>
            <a:r>
              <a:rPr b="1" lang="zh-CN" sz="5400" spc="-1" strike="noStrike">
                <a:solidFill>
                  <a:srgbClr val="ff33cc"/>
                </a:solidFill>
                <a:latin typeface="宋体"/>
              </a:rPr>
              <a:t>[</a:t>
            </a:r>
            <a:r>
              <a:rPr b="1" lang="zh-CN" sz="5400" spc="-1" strike="noStrike">
                <a:solidFill>
                  <a:srgbClr val="ff33cc"/>
                </a:solidFill>
                <a:latin typeface="宋体"/>
              </a:rPr>
              <a:t>如</a:t>
            </a:r>
            <a:r>
              <a:rPr b="1" lang="zh-CN" sz="5400" spc="-1" strike="noStrike">
                <a:solidFill>
                  <a:srgbClr val="ff33cc"/>
                </a:solidFill>
                <a:latin typeface="宋体"/>
              </a:rPr>
              <a:t>]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扬州，过瓜洲扬子桥（往……去，到……去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劳苦功高如此（像《鸿门宴》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固不如也（比得上《鸿门宴》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杀人如不能举，刑人如恐不胜（唯恐，就怕《鸿门宴》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介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绝无有者，则治之如所言（按照《狱中杂记》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如土石何（“如……何？”固定句式，“把……怎么样”《愚公移山》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88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文天祥纪念馆——正气歌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7417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506320" y="1413000"/>
            <a:ext cx="46184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幸吕师孟构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贾余庆献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75080" y="2205000"/>
            <a:ext cx="19360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连兵大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77600" y="2997360"/>
            <a:ext cx="461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避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于）竹林中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出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于）乱尸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58920" y="3860640"/>
            <a:ext cx="45370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罪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于先人之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39200" y="4653000"/>
            <a:ext cx="339876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请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君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与北骑相出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长淮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介宾短语后置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44520" y="981000"/>
            <a:ext cx="259452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予羁縻不得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83040" y="1844640"/>
            <a:ext cx="292968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真州逐之城门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278136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贾家庄几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为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巡徼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所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陵迫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80560" y="189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被动句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69040" y="3716280"/>
            <a:ext cx="450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☆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初，奉使往来，无留北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76680" y="4581360"/>
            <a:ext cx="23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buSzPct val="10288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定语后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06240" y="5734080"/>
            <a:ext cx="283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骑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数千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过其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0280" y="533520"/>
            <a:ext cx="71247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古代官职升迁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7280" y="1447560"/>
            <a:ext cx="7956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授官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予除右丞相兼枢密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授予官职（一般为升职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：以相如功大拜为上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提拔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皇上超擢四品卿衔军机章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征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永元中举孝廉不行，连辟公府不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升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再迁为太史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降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贬连州刺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罚流放或贬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滕子京谪守巴陵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左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降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7813800" y="5634000"/>
            <a:ext cx="809640" cy="855720"/>
          </a:xfrm>
          <a:prstGeom prst="smileyFace">
            <a:avLst>
              <a:gd name="adj" fmla="val 9282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隶书"/>
              </a:rPr>
              <a:t>文天祥手迹《谢昌元座右自警辞》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197000"/>
            <a:ext cx="7488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47920" y="609480"/>
            <a:ext cx="744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文天祥 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3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8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南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杰出的民族英雄、文学家、诗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字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履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又字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宋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号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文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宋吉州庐陵（今江西吉安县）人。宋理宗祐宝四年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5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考取进士第一名。曾任湖南提刑，知赣州（现江西赣州市）。德祐元年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7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元军进迫宋都临安（今浙江杭州），文天祥应勤王诏，捐家产作军费，率义军万余人起兵抗元。不久元军大举南下，驻军于皋亭山，文天祥以资政殿学士身份出使元军议和，被扣，后在北解途中逃脱，经海路转至福州，拥立端宗，图谋恢复，转战东南，终兵败被俘。次年送至大都（北京）宁死不屈，从容就义。时年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，遗有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《文山先生全集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十七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0"/>
            <a:ext cx="319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作者介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16360" y="3228840"/>
            <a:ext cx="4427640" cy="3629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3429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-493560" y="260280"/>
            <a:ext cx="1896840" cy="630864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黑体"/>
              </a:rPr>
              <a:t>海丰县方饭亭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54f41"/>
                </a:solidFill>
                <a:latin typeface="宋体"/>
                <a:ea typeface="黑体"/>
              </a:rPr>
              <a:t>热血腔中只有宋，孤忠岭外更无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47160" y="620640"/>
            <a:ext cx="1896840" cy="573408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黑体"/>
              </a:rPr>
              <a:t>北京文天祥祠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54f41"/>
                </a:solidFill>
                <a:latin typeface="宋体"/>
                <a:ea typeface="黑体"/>
              </a:rPr>
              <a:t>南宋状元宰相，西江孝子忠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15:42:54Z</dcterms:created>
  <dc:creator>水蓝</dc:creator>
  <dc:description/>
  <dc:language>en-US</dc:language>
  <cp:lastModifiedBy>zmj</cp:lastModifiedBy>
  <dcterms:modified xsi:type="dcterms:W3CDTF">2012-03-27T12:39:24Z</dcterms:modified>
  <cp:revision>228</cp:revision>
  <dc:subject/>
  <dc:title>PowerPoint 演示文稿</dc:title>
</cp:coreProperties>
</file>