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D3C4-D11F-4D3E-9591-5BE50C20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8DF9-5EC9-4ED6-9393-5FEA5511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1AEF-7537-47FA-91F9-C34C1495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29CF-28D7-4B94-8AB3-30B651A4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01D9-3621-4FB1-B1FD-62740789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43B0-5F50-4537-B712-D3F11E4B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4C0C-1670-47BE-8A21-7471EC8D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55A4-C484-4FE6-8EE2-42BDEE01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61A8-FCE9-49D5-880C-B6A72BC2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6ED5-94B1-4308-8EC3-0C0C4842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67BB-D0E3-4F26-9BDC-C03CBCF6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60C8-7C1E-4AB7-B75F-52DA41C4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2F20-D570-481C-AC90-0F4997365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2374200" y="1295280"/>
            <a:ext cx="455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8800" spc="-1" strike="noStrike">
                <a:solidFill>
                  <a:srgbClr val="000000"/>
                </a:solidFill>
                <a:latin typeface="黑体"/>
                <a:ea typeface="黑体"/>
              </a:rPr>
              <a:t>指南录</a:t>
            </a:r>
            <a:r>
              <a:rPr b="0" lang="en-US" sz="8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8800" spc="-1" strike="noStrike">
                <a:solidFill>
                  <a:srgbClr val="000000"/>
                </a:solidFill>
                <a:latin typeface="黑体"/>
                <a:ea typeface="黑体"/>
              </a:rPr>
              <a:t>后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410080" y="525780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文天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标题 1"/>
          <p:cNvSpPr/>
          <p:nvPr/>
        </p:nvSpPr>
        <p:spPr>
          <a:xfrm>
            <a:off x="838080" y="3200400"/>
            <a:ext cx="7925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崇高的民族气节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沸滚的爱国热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黑体"/>
                <a:ea typeface="黑体"/>
              </a:rPr>
              <a:t>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黑体"/>
                <a:ea typeface="黑体"/>
              </a:rPr>
              <a:t>、文天祥的爱国热情和忠贞的民族气节表现在什么方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1752480" y="1295280"/>
            <a:ext cx="556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甘冒风险，挺身出使之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陈辞慷慨，斥敌骂贼之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百折不回，辗转逃生之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380880" y="31240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黑体"/>
                <a:ea typeface="黑体"/>
              </a:rPr>
              <a:t>、本文的写作手法：记叙与抒情议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4" descr="79f0f736afc379319347ec11eac4b74543a911de.jpg"/>
          <p:cNvPicPr/>
          <p:nvPr/>
        </p:nvPicPr>
        <p:blipFill>
          <a:blip r:embed="rId1"/>
          <a:stretch/>
        </p:blipFill>
        <p:spPr>
          <a:xfrm>
            <a:off x="7010280" y="3665520"/>
            <a:ext cx="213372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0" y="990720"/>
            <a:ext cx="8915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风雨飘摇的南宋王朝，蒙古鞑子的铁骑踏遍中原，临安城岌岌可危。状元出身的文天祥受命于危难之间，挺身出使虎视眈眈的元朝，慷慨陈辞，斥敌骂贼，被扣留后，竭力营谋终逃脱，时刻不忘爱国救亡、抗敌图存之志，辗转各地，在宋恭宗投降后，仍坚持“君降臣不降” ，一片丹心如磁针石般“不指南方不肯休”，兵败被俘后，面对元世祖高官厚禄的利诱，毫不动摇，舍生取义。是什么让他面对生死慨然就义？是什么让他心中永存浩然之气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翻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&lt;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南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后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强烈的爱国热忱和崇高的民族节气扑面而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0" y="2286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文天祥事例概括：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0" y="0"/>
            <a:ext cx="9144000" cy="29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怦然令我心跳的，是他已活了七百六十岁。七个多世纪，一个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朽的生命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从南宋跨元、明、清、民国昂昂而来，并将踏着无穷的岁月凛凛而去。他生于公元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23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。当他生时，“直把杭州作汴州”的临安朝廷，已经危在旦夕，人们指望他能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挽狂澜于既倒，扶大厦之将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然而，毕竟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独柱擎天力弗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，终其一生，他没能，也无法延续赵宋王朝的社稷。他就在四十七岁那年化作啼鹃去了。当他死时，不，当他走向永生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九州百姓的精神疆域，陡地竖起了又一根立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虽共工也触不倒的擎天玉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3"/>
          <p:cNvSpPr/>
          <p:nvPr/>
        </p:nvSpPr>
        <p:spPr>
          <a:xfrm>
            <a:off x="152280" y="1522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必备知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0" y="76212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文天祥，号（       ），（         ）（朝代）民族英雄和爱国诗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诗词名句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过零丁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辛苦遭逢起一经，干戈寥落四周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山河破碎风飘絮，身世浮沉雨打萍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惶恐滩头说惶恐，零丁洋里叹零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            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（明）对联：热血腔中只有宋，孤忠岭外更何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南宋状元宰相；西江孝子忠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 志可凌云文能载道 生当报国死不低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762120" y="33526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人生自古谁无死？留取丹心照汗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4" descr="se8931255.jpg"/>
          <p:cNvPicPr/>
          <p:nvPr/>
        </p:nvPicPr>
        <p:blipFill>
          <a:blip r:embed="rId1"/>
          <a:stretch/>
        </p:blipFill>
        <p:spPr>
          <a:xfrm>
            <a:off x="6477120" y="4800600"/>
            <a:ext cx="2666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5410080" y="137160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只爱用鲜血写成的著作。你将体验到，鲜血即思想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尼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查拉图斯特拉如是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2" descr="Gucn_2010120686415155537Pic2.jpg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0" y="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题解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指南录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后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0" y="1168560"/>
            <a:ext cx="89154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序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伶官传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欧阳修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白莽作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&lt;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孩儿塔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鲁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&lt;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宽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房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﹤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激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总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巴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游褒禅山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王安石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石钟山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苏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梅馆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龚自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黄州快哉亭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苏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疏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谏太宗十思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魏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阿房宫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杜牧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赤壁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苏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陈情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晋 李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师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韩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过秦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贾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树郭橐驼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柳宗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归去来兮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陶渊明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项脊轩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归有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0" y="584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黑体"/>
                <a:ea typeface="黑体"/>
              </a:rPr>
              <a:t>、 问题：直接表明文体的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5" descr="b.gif"/>
          <p:cNvPicPr/>
          <p:nvPr/>
        </p:nvPicPr>
        <p:blipFill>
          <a:blip r:embed="rId1"/>
          <a:stretch/>
        </p:blipFill>
        <p:spPr>
          <a:xfrm>
            <a:off x="7848720" y="0"/>
            <a:ext cx="1295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0" y="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、中国古人的诗集名称是有含义的，作者为何将自己的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诗集叫指南录呢？</a:t>
            </a:r>
            <a:r>
              <a:rPr b="1" lang="en-US" sz="2800" spc="-1" strike="noStrike">
                <a:solidFill>
                  <a:srgbClr val="0070c0"/>
                </a:solidFill>
                <a:latin typeface="黑体"/>
                <a:ea typeface="黑体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380880" y="9144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取诗集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扬子江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诗“臣心一片磁针石，不指南方不肯休”句意命名，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457200" y="18288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磁针石自比，表达了作者心指南宋、誓死南归、报效祖国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0" y="2666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、朗读最后两个自然段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概括段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0" y="3505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简要说明了诗集编辑的目的、过程， 作序的时间和诗集命名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0" y="4343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运用的表达的方式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228600" y="48006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明。表述简洁，明了。先说背景后说有关诗集的问题，言简而意赅，水到渠成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0" y="57150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黑体"/>
                <a:ea typeface="黑体"/>
              </a:rPr>
              <a:t>③“</a:t>
            </a:r>
            <a:r>
              <a:rPr b="1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悲予志焉”中的“志”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609480" y="61722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爱国救亡、抗敌图存之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历史总是有这样那样的误会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文天祥生活在一个太平盛世，他或许会成为一代名臣，即便归隐耕作，也有可能成为一个名声更大的诗人。可他偏偏生逢乱世，国破人亡，历史让他担负了注定要失败的责任。有人说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沧海横流，方显英雄本色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0" y="2971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黑体"/>
                <a:ea typeface="黑体"/>
              </a:rPr>
              <a:t>二、</a:t>
            </a:r>
            <a:r>
              <a:rPr b="1" lang="en-US" sz="3200" spc="-1" strike="noStrike">
                <a:solidFill>
                  <a:srgbClr val="0070c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黑体"/>
                <a:ea typeface="黑体"/>
              </a:rPr>
              <a:t>、文天祥是在怎样的背景下走上历史舞台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228600" y="350532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元朝紧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南宋政府岌岌可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众人不知所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右大括号 7"/>
          <p:cNvSpPr/>
          <p:nvPr/>
        </p:nvSpPr>
        <p:spPr>
          <a:xfrm>
            <a:off x="3657600" y="3581280"/>
            <a:ext cx="304920" cy="137160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1371600"/>
              <a:gd name="textAreaBottom" fmla="*/ 1363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16200" y="10800"/>
                  <a:pt x="21600" y="10800"/>
                </a:cubicBezTo>
                <a:cubicBezTo>
                  <a:pt x="162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3962520" y="37339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文天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危受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7"/>
          <p:cNvSpPr/>
          <p:nvPr/>
        </p:nvSpPr>
        <p:spPr>
          <a:xfrm>
            <a:off x="5715000" y="4191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6705720" y="37339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法：反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0" y="5029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黑体"/>
                <a:ea typeface="黑体"/>
              </a:rPr>
              <a:t>、文天祥出使元朝的意图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304920" y="56386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行可以纾祸      ②意北尚可以口舌动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更欲一觇北，归而求救国之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黑体"/>
                <a:ea typeface="黑体"/>
              </a:rPr>
              <a:t>、文天祥的品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533520" y="5904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以国事为重，不计个人利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0" y="1295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三、文天祥“但欲求死，不复顾利害”，为何又“隐忍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行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0" y="2209680"/>
            <a:ext cx="91440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韩信能受胯下之辱，方能成汉家开国三杰，名垂青史。司马迁甘受宫刑之耻，才能成就名山事业，开史传史书之先，史铁生说“死是一件不必急于求成的事”，因为死也得死得有价值。死也有“无为而死”和“有为而死”的区别：失意伤心而死、遭遇不幸抑郁而死、和人赌气自杀而死都是“无为而死”；为了正义而死、为了国家而死、为了大多数人的利益而死才是“有为而死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文天祥已经洞悉了生死的内涵。用精神上的痛苦忍受来实现自己的精神理想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第四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、“呜呼！予之及于死者不知其几矣”！在段落中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80880" y="13716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领起下文，概括九死一生的遭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0" y="198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黑体"/>
                <a:ea typeface="黑体"/>
              </a:rPr>
              <a:t>、第</a:t>
            </a:r>
            <a:r>
              <a:rPr b="1" lang="en-US" sz="3200" spc="-1" strike="noStrike">
                <a:solidFill>
                  <a:srgbClr val="0070c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黑体"/>
                <a:ea typeface="黑体"/>
              </a:rPr>
              <a:t>段中排比句的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0" y="259092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构上长短相间，节奏急迫，增强了死亡威胁的情势，表现了文天祥坚强不屈的斗志，视死如归的精神和炽热的爱国的思想感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0" y="40384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、“痛”表达了什么感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304920" y="45720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连用三个“痛”，把忧国伤时的悲愤感情推向高潮，这里的三个“痛”，远远不止是个人遭遇的痛苦，还包含着山河破碎、国家危亡、救国艰难的悲痛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228600" y="38088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为一位书生，跋山涉水，历尽千辛万苦，冲破重重封锁，万死不辞。为的只是回到属于他自己的地方，回到战斗的岗位上。这种经历确实是常人无法忍受。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这二个段落，确实是用鲜血写成的文字，文天祥在苦难的途中，依然没有冷却自己的激情，他没有失去对国家的信心，坚信“路漫漫其修远兮，吾将上下而求索”。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304920" y="487692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绝命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孔曰成仁，孟曰取义，唯其义尽，所以仁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读圣贤书，所学何事？而今而后，庶几无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01:40:52Z</dcterms:created>
  <dc:creator>Administrator</dc:creator>
  <dc:description/>
  <dc:language>en-US</dc:language>
  <cp:lastModifiedBy>hp-pc</cp:lastModifiedBy>
  <dcterms:modified xsi:type="dcterms:W3CDTF">2015-12-17T00:30:15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