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7E5-8544-4FCB-9B1F-92F269EE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9DBE-385F-4198-99D4-D64FACCD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618-F2C7-41A0-9F72-C3BCA4E1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F87-01EE-4C34-9DF3-6A616485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7D73-921F-45E9-B0C0-C39A7D7E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AE9D-B7F6-4E35-904C-9694DDFB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B4D0-F849-4C2C-83A1-9CB98048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2395-ABBC-44BB-956E-18B05CC3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85B9-7738-4ED3-B6BC-1164BA76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4413-BEFF-41B1-BFB9-70CEF6A2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3AE2-B957-4EB0-AA5B-1DA4284C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413-6C2C-47C1-A4B4-FD4F0579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8D94-9D86-4E13-8B8C-51A13839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143A-EA78-4E70-9867-94FC66BE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F674-82E4-429B-A8F9-BF8731F0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53C0-FE12-4758-AF7D-52F4955B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07E3-003E-44ED-99AD-38CF59E3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691BF-0027-46F1-9D8D-7598A1AA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D4D77-A0C7-483E-8D08-09AF25CB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D0789-1EE5-4B2B-8515-14165060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8C01E-CACF-4738-9ED4-F880B683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3CC6E-4B0E-43B2-8250-316D0BD5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9D48-B828-4015-AEFD-0FE69033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F096B-B014-4681-9D25-5D854527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CC35E-2834-46C8-884A-31059F23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33FA2-02CB-455C-B38A-7BFB72E3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BF0F1-B037-4B24-9A85-2D197BA2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DB4F0-7E05-446E-B09F-B86A241F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4FA21-5A66-435A-9481-8C70C004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2D46B-F800-408D-94C7-2306992A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D13B3-C2C3-4FF2-A6BB-6847F481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8E079-69F2-40C6-A847-24B8D149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2E784-E402-464E-ACA2-0215E713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11B-7849-4250-AB73-569238CC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F73F1-41BE-47A2-9B5D-001C61C2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8A9C7-C208-411B-B57D-EBC75F95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DE2AB-A4EC-4B2A-9F0D-2EE0885D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12754-1E46-4F9F-BDAC-011B8195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A84BD-AE9C-4FD1-8251-3ADAB05E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56ECA-D231-4609-AC23-A26E69FE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F7D7A-5694-4C6B-9CED-4B3E11EB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05D59-E5BC-4BAE-80A1-E112C758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55362-88CF-47D5-B19B-DD5AC988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7CD0-6E52-4222-B01F-D00628A6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4BB-3281-4970-96ED-AB2DB4F4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6880-C1F5-44EE-A242-36BB84B7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032-DA73-4B47-9600-843C123C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23E-FEEC-40F3-8F0E-BFAF3888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15CA-8242-4D69-A7DF-F5430E3976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87EE-82DE-4FB6-AA11-74CC6FF2D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83" name="Group 3"/>
            <p:cNvGrpSpPr/>
            <p:nvPr/>
          </p:nvGrpSpPr>
          <p:grpSpPr>
            <a:xfrm>
              <a:off x="1050840" y="6202440"/>
              <a:ext cx="536040" cy="655200"/>
              <a:chOff x="1050840" y="6202440"/>
              <a:chExt cx="536040" cy="655200"/>
            </a:xfrm>
          </p:grpSpPr>
          <p:sp>
            <p:nvSpPr>
              <p:cNvPr id="84" name="未知"/>
              <p:cNvSpPr/>
              <p:nvPr/>
            </p:nvSpPr>
            <p:spPr>
              <a:xfrm rot="18580800">
                <a:off x="1137240" y="6214680"/>
                <a:ext cx="157680" cy="29952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 rot="2400000">
                <a:off x="1348200" y="6222960"/>
                <a:ext cx="167400" cy="2826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6"/>
              <p:cNvSpPr/>
              <p:nvPr/>
            </p:nvSpPr>
            <p:spPr>
              <a:xfrm>
                <a:off x="1321560" y="6467040"/>
                <a:ext cx="31680" cy="390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Rectangle 7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0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1" name="Rectangle 11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DB8D-8312-4CF7-A152-72DB543F24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8"/>
          <p:cNvGrpSpPr/>
          <p:nvPr/>
        </p:nvGrpSpPr>
        <p:grpSpPr>
          <a:xfrm>
            <a:off x="7795080" y="-15480"/>
            <a:ext cx="1239120" cy="574200"/>
            <a:chOff x="7795080" y="-15480"/>
            <a:chExt cx="1239120" cy="574200"/>
          </a:xfrm>
        </p:grpSpPr>
        <p:grpSp>
          <p:nvGrpSpPr>
            <p:cNvPr id="99" name="Group 19"/>
            <p:cNvGrpSpPr/>
            <p:nvPr/>
          </p:nvGrpSpPr>
          <p:grpSpPr>
            <a:xfrm>
              <a:off x="7795080" y="-15480"/>
              <a:ext cx="451440" cy="574200"/>
              <a:chOff x="7795080" y="-15480"/>
              <a:chExt cx="451440" cy="574200"/>
            </a:xfrm>
          </p:grpSpPr>
          <p:sp>
            <p:nvSpPr>
              <p:cNvPr id="100" name="未知"/>
              <p:cNvSpPr/>
              <p:nvPr/>
            </p:nvSpPr>
            <p:spPr>
              <a:xfrm rot="18580800">
                <a:off x="7865280" y="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 rot="2400000">
                <a:off x="804384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22"/>
              <p:cNvSpPr/>
              <p:nvPr/>
            </p:nvSpPr>
            <p:spPr>
              <a:xfrm>
                <a:off x="802188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8188560" y="-15480"/>
              <a:ext cx="451440" cy="574200"/>
              <a:chOff x="8188560" y="-15480"/>
              <a:chExt cx="451440" cy="574200"/>
            </a:xfrm>
          </p:grpSpPr>
          <p:sp>
            <p:nvSpPr>
              <p:cNvPr id="104" name="未知"/>
              <p:cNvSpPr/>
              <p:nvPr/>
            </p:nvSpPr>
            <p:spPr>
              <a:xfrm rot="18580800">
                <a:off x="8258760" y="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 rot="2400000">
                <a:off x="843732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6"/>
              <p:cNvSpPr/>
              <p:nvPr/>
            </p:nvSpPr>
            <p:spPr>
              <a:xfrm>
                <a:off x="841536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8582040" y="-15480"/>
              <a:ext cx="452160" cy="574200"/>
              <a:chOff x="8582040" y="-15480"/>
              <a:chExt cx="452160" cy="574200"/>
            </a:xfrm>
          </p:grpSpPr>
          <p:sp>
            <p:nvSpPr>
              <p:cNvPr id="108" name="未知"/>
              <p:cNvSpPr/>
              <p:nvPr/>
            </p:nvSpPr>
            <p:spPr>
              <a:xfrm rot="18580800">
                <a:off x="8652600" y="-36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 rot="2400000">
                <a:off x="8831160" y="0"/>
                <a:ext cx="13896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0"/>
              <p:cNvSpPr/>
              <p:nvPr/>
            </p:nvSpPr>
            <p:spPr>
              <a:xfrm>
                <a:off x="880920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ab444bcfd516282693457e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7CF2-0E79-4428-9E6A-E5CFB2A05D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2009042317580015"/>
          <p:cNvPicPr/>
          <p:nvPr/>
        </p:nvPicPr>
        <p:blipFill>
          <a:blip r:embed="rId1"/>
          <a:stretch/>
        </p:blipFill>
        <p:spPr>
          <a:xfrm>
            <a:off x="-30240" y="46080"/>
            <a:ext cx="9174240" cy="6885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312560"/>
            <a:ext cx="77724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8000" spc="-1" strike="noStrike">
              <a:solidFill>
                <a:srgbClr val="d60093"/>
              </a:solidFill>
              <a:latin typeface="Arial"/>
              <a:ea typeface="楷体_GB2312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1116000" y="476280"/>
            <a:ext cx="29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快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050920" y="2060640"/>
            <a:ext cx="4756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cc33"/>
                </a:solidFill>
                <a:latin typeface="Arial"/>
                <a:ea typeface="楷体_GB2312"/>
              </a:rPr>
              <a:t>大家都快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WordArt 6" descr="water"/>
          <p:cNvPicPr/>
          <p:nvPr/>
        </p:nvPicPr>
        <p:blipFill>
          <a:blip r:embed="rId2"/>
          <a:stretch/>
        </p:blipFill>
        <p:spPr>
          <a:xfrm>
            <a:off x="3376440" y="4114800"/>
            <a:ext cx="461520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1692360" y="1773360"/>
            <a:ext cx="712764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个人玩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静悄悄地，独自一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正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还可以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……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3"/>
          <p:cNvGraphicFramePr/>
          <p:nvPr/>
        </p:nvGraphicFramePr>
        <p:xfrm>
          <a:off x="34920" y="0"/>
          <a:ext cx="9021600" cy="67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0"/>
                    <a:ext cx="9021600" cy="67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4">
            <a:hlinkClick r:id="rId3" action="ppaction://hlinksldjump"/>
          </p:cNvPr>
          <p:cNvSpPr/>
          <p:nvPr/>
        </p:nvSpPr>
        <p:spPr>
          <a:xfrm>
            <a:off x="2987640" y="1628640"/>
            <a:ext cx="5904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两个人玩，</a:t>
            </a:r>
            <a:r>
              <a:rPr b="1" lang="zh-CN" sz="4800" spc="-1" strike="noStrike">
                <a:solidFill>
                  <a:srgbClr val="00b050"/>
                </a:solidFill>
                <a:latin typeface="Arial"/>
                <a:ea typeface="楷体_GB2312"/>
              </a:rPr>
              <a:t>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些事儿，要两个人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下象棋、打乒乓、讲故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悄悄话儿一起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1763640" y="213372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两个人玩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3"/>
          <p:cNvGraphicFramePr/>
          <p:nvPr/>
        </p:nvGraphicFramePr>
        <p:xfrm>
          <a:off x="34920" y="-93600"/>
          <a:ext cx="9107640" cy="69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-93600"/>
                    <a:ext cx="9107640" cy="69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4">
            <a:hlinkClick r:id="rId3" action="ppaction://hlinksldjump"/>
          </p:cNvPr>
          <p:cNvSpPr/>
          <p:nvPr/>
        </p:nvSpPr>
        <p:spPr>
          <a:xfrm>
            <a:off x="468360" y="2494080"/>
            <a:ext cx="4572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三个人玩，</a:t>
            </a:r>
            <a:r>
              <a:rPr b="1" lang="zh-CN" sz="4800" spc="-1" strike="noStrike">
                <a:solidFill>
                  <a:srgbClr val="00b050"/>
                </a:solidFill>
                <a:latin typeface="Arial"/>
                <a:ea typeface="楷体_GB2312"/>
              </a:rPr>
              <a:t>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三人成众玩法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跳皮筋，掰手腕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过家家，学唱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2484360" y="1628640"/>
            <a:ext cx="5327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个人玩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人成众玩法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3"/>
          <p:cNvGraphicFramePr/>
          <p:nvPr/>
        </p:nvGraphicFramePr>
        <p:xfrm>
          <a:off x="1440" y="1440"/>
          <a:ext cx="9151920" cy="681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440"/>
                    <a:ext cx="9151920" cy="681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5">
            <a:hlinkClick r:id="rId3" action="ppaction://hlinksldjump"/>
          </p:cNvPr>
          <p:cNvSpPr/>
          <p:nvPr/>
        </p:nvSpPr>
        <p:spPr>
          <a:xfrm>
            <a:off x="2411280" y="1486080"/>
            <a:ext cx="4572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许多人玩，</a:t>
            </a:r>
            <a:r>
              <a:rPr b="1" lang="zh-CN" sz="4800" spc="-1" strike="noStrike">
                <a:solidFill>
                  <a:srgbClr val="33cc33"/>
                </a:solidFill>
                <a:latin typeface="Arial"/>
                <a:ea typeface="楷体_GB2312"/>
              </a:rPr>
              <a:t>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丢手绢，赛拔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人人想出新玩法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家都快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2627280" y="2133720"/>
            <a:ext cx="554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许多人玩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人想出新玩法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大家都快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2700360" y="119700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人玩，挺快乐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2700360" y="22050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人玩，真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2627280" y="328464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个人玩，很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2627280" y="422100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许多人玩，更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88000" y="1557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ff"/>
                </a:solidFill>
                <a:latin typeface="Arial"/>
              </a:rPr>
              <a:t>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4777200" y="3716280"/>
            <a:ext cx="5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4777200" y="2708280"/>
            <a:ext cx="5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Arial"/>
              </a:rPr>
              <a:t>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4773600" y="465300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5"/>
          <p:cNvSpPr/>
          <p:nvPr/>
        </p:nvSpPr>
        <p:spPr>
          <a:xfrm>
            <a:off x="1332000" y="1484280"/>
            <a:ext cx="48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612720" y="333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练一练 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492360" y="1628640"/>
            <a:ext cx="388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喜欢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真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喜欢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喜欢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最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喜欢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5"/>
          <p:cNvSpPr/>
          <p:nvPr/>
        </p:nvSpPr>
        <p:spPr>
          <a:xfrm>
            <a:off x="1332000" y="1484280"/>
            <a:ext cx="48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612720" y="333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练一练 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492360" y="1628640"/>
            <a:ext cx="388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喜欢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真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喜欢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喜欢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最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喜欢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2009042317580015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324000" y="46080"/>
            <a:ext cx="525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人玩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静悄悄地，独自一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好折纸船、纸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可以踢毽子、听广播……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96720" y="3718080"/>
            <a:ext cx="4606920" cy="1800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人玩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象棋、打乒乓、讲故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5292720" y="98100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个人玩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人成众玩法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跳皮筋，掰手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家家，学唱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5219640" y="378936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许多人玩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丢手绢，赛拔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人想出新玩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家都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684360" y="260280"/>
            <a:ext cx="4752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人玩，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静悄悄地，独自一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还可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…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755640" y="350028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个人玩，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5724360" y="1197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个人玩，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人成众玩法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5651640" y="3573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许多人玩，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人想出新玩法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家都快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348000" y="18900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大 家 都 快 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684360" y="260280"/>
            <a:ext cx="4752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人玩，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静悄悄地，独自一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还可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…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755640" y="350028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个人玩，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5219640" y="1197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个人玩，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人成众玩法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521964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许多人玩，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人想出新玩法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家都快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3348000" y="18900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大 家 都 快 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1590120" y="198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堆积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3007800" y="198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练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195552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画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3295080" y="24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听音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5455800" y="1892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捉迷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991800" y="4195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下围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2310840" y="4195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翻花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3655440" y="4195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说笑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6774840" y="1892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摸瞎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6"/>
          <p:cNvSpPr/>
          <p:nvPr/>
        </p:nvSpPr>
        <p:spPr>
          <a:xfrm>
            <a:off x="5479560" y="2276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玩沙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7"/>
          <p:cNvSpPr/>
          <p:nvPr/>
        </p:nvSpPr>
        <p:spPr>
          <a:xfrm>
            <a:off x="6774840" y="2276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学跳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8"/>
          <p:cNvSpPr/>
          <p:nvPr/>
        </p:nvSpPr>
        <p:spPr>
          <a:xfrm>
            <a:off x="5455800" y="3763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打篮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9"/>
          <p:cNvSpPr/>
          <p:nvPr/>
        </p:nvSpPr>
        <p:spPr>
          <a:xfrm>
            <a:off x="6774840" y="3763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踢足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2009042317580015"/>
          <p:cNvPicPr/>
          <p:nvPr/>
        </p:nvPicPr>
        <p:blipFill>
          <a:blip r:embed="rId1"/>
          <a:stretch/>
        </p:blipFill>
        <p:spPr>
          <a:xfrm>
            <a:off x="108000" y="-2232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3"/>
          <p:cNvSpPr/>
          <p:nvPr/>
        </p:nvSpPr>
        <p:spPr>
          <a:xfrm>
            <a:off x="324000" y="117360"/>
            <a:ext cx="525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人玩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静悄悄地，独自一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好折纸船、纸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可以踢毽子、听广播……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396720" y="3718080"/>
            <a:ext cx="4824720" cy="1800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人玩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象棋、打乒乓、讲故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292720" y="98100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个人玩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人成众玩法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跳皮筋，掰手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家家，学唱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5219640" y="378936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许多人玩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丢手绢，赛拔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人想出新玩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家都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2771640" y="1917720"/>
            <a:ext cx="3384000" cy="3361680"/>
            <a:chOff x="2771640" y="1917720"/>
            <a:chExt cx="3384000" cy="3361680"/>
          </a:xfrm>
        </p:grpSpPr>
        <p:sp>
          <p:nvSpPr>
            <p:cNvPr id="314" name="Rectangle 4"/>
            <p:cNvSpPr/>
            <p:nvPr/>
          </p:nvSpPr>
          <p:spPr>
            <a:xfrm>
              <a:off x="2775240" y="1917720"/>
              <a:ext cx="3368520" cy="336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5"/>
            <p:cNvSpPr/>
            <p:nvPr/>
          </p:nvSpPr>
          <p:spPr>
            <a:xfrm>
              <a:off x="2771640" y="3602160"/>
              <a:ext cx="3384000" cy="0"/>
            </a:xfrm>
            <a:prstGeom prst="line">
              <a:avLst/>
            </a:prstGeom>
            <a:ln cap="rnd" w="1908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6"/>
            <p:cNvSpPr/>
            <p:nvPr/>
          </p:nvSpPr>
          <p:spPr>
            <a:xfrm>
              <a:off x="4453560" y="1929600"/>
              <a:ext cx="7920" cy="3336840"/>
            </a:xfrm>
            <a:prstGeom prst="line">
              <a:avLst/>
            </a:prstGeom>
            <a:ln cap="rnd" w="1908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 Box 7"/>
          <p:cNvSpPr/>
          <p:nvPr/>
        </p:nvSpPr>
        <p:spPr>
          <a:xfrm>
            <a:off x="2776680" y="1627920"/>
            <a:ext cx="3379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快 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2771640" y="3573360"/>
            <a:ext cx="3384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9"/>
          <p:cNvSpPr/>
          <p:nvPr/>
        </p:nvSpPr>
        <p:spPr>
          <a:xfrm>
            <a:off x="4500720" y="1917720"/>
            <a:ext cx="0" cy="336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6013440" y="622440"/>
            <a:ext cx="3025800" cy="2016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你写的“      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好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1" descr="未命名"/>
          <p:cNvPicPr/>
          <p:nvPr/>
        </p:nvPicPr>
        <p:blipFill>
          <a:blip r:embed="rId1"/>
          <a:srcRect l="0" t="0" r="0" b="16662"/>
          <a:stretch/>
        </p:blipFill>
        <p:spPr>
          <a:xfrm>
            <a:off x="7597800" y="1125360"/>
            <a:ext cx="72396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2771640" y="1917720"/>
            <a:ext cx="3384000" cy="3361680"/>
            <a:chOff x="2771640" y="1917720"/>
            <a:chExt cx="3384000" cy="3361680"/>
          </a:xfrm>
        </p:grpSpPr>
        <p:sp>
          <p:nvSpPr>
            <p:cNvPr id="323" name="Rectangle 3"/>
            <p:cNvSpPr/>
            <p:nvPr/>
          </p:nvSpPr>
          <p:spPr>
            <a:xfrm>
              <a:off x="2775240" y="1917720"/>
              <a:ext cx="3368520" cy="336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4"/>
            <p:cNvSpPr/>
            <p:nvPr/>
          </p:nvSpPr>
          <p:spPr>
            <a:xfrm>
              <a:off x="2771640" y="3602160"/>
              <a:ext cx="3384000" cy="0"/>
            </a:xfrm>
            <a:prstGeom prst="line">
              <a:avLst/>
            </a:prstGeom>
            <a:ln cap="rnd" w="1908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5"/>
            <p:cNvSpPr/>
            <p:nvPr/>
          </p:nvSpPr>
          <p:spPr>
            <a:xfrm>
              <a:off x="4453560" y="1929600"/>
              <a:ext cx="7920" cy="3336840"/>
            </a:xfrm>
            <a:prstGeom prst="line">
              <a:avLst/>
            </a:prstGeom>
            <a:ln cap="rnd" w="1908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 Box 6"/>
          <p:cNvSpPr/>
          <p:nvPr/>
        </p:nvSpPr>
        <p:spPr>
          <a:xfrm>
            <a:off x="2776680" y="1750680"/>
            <a:ext cx="336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玩 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2771640" y="3573360"/>
            <a:ext cx="3384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4500720" y="1917720"/>
            <a:ext cx="0" cy="336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2771640" y="1917720"/>
            <a:ext cx="3384000" cy="3361680"/>
            <a:chOff x="2771640" y="1917720"/>
            <a:chExt cx="3384000" cy="3361680"/>
          </a:xfrm>
        </p:grpSpPr>
        <p:sp>
          <p:nvSpPr>
            <p:cNvPr id="330" name="Rectangle 3"/>
            <p:cNvSpPr/>
            <p:nvPr/>
          </p:nvSpPr>
          <p:spPr>
            <a:xfrm>
              <a:off x="2775240" y="1917720"/>
              <a:ext cx="3368520" cy="336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4"/>
            <p:cNvSpPr/>
            <p:nvPr/>
          </p:nvSpPr>
          <p:spPr>
            <a:xfrm>
              <a:off x="2771640" y="3602160"/>
              <a:ext cx="3384000" cy="0"/>
            </a:xfrm>
            <a:prstGeom prst="line">
              <a:avLst/>
            </a:prstGeom>
            <a:ln cap="rnd" w="1908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5"/>
            <p:cNvSpPr/>
            <p:nvPr/>
          </p:nvSpPr>
          <p:spPr>
            <a:xfrm>
              <a:off x="4453560" y="1929600"/>
              <a:ext cx="7920" cy="3336840"/>
            </a:xfrm>
            <a:prstGeom prst="line">
              <a:avLst/>
            </a:prstGeom>
            <a:ln cap="rnd" w="1908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6"/>
          <p:cNvSpPr/>
          <p:nvPr/>
        </p:nvSpPr>
        <p:spPr>
          <a:xfrm>
            <a:off x="2776680" y="1694520"/>
            <a:ext cx="448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船 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7"/>
          <p:cNvSpPr/>
          <p:nvPr/>
        </p:nvSpPr>
        <p:spPr>
          <a:xfrm>
            <a:off x="2771640" y="3573360"/>
            <a:ext cx="3384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4500720" y="1917720"/>
            <a:ext cx="0" cy="336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2771640" y="1917720"/>
            <a:ext cx="3384000" cy="3361680"/>
            <a:chOff x="2771640" y="1917720"/>
            <a:chExt cx="3384000" cy="3361680"/>
          </a:xfrm>
        </p:grpSpPr>
        <p:sp>
          <p:nvSpPr>
            <p:cNvPr id="337" name="Rectangle 3"/>
            <p:cNvSpPr/>
            <p:nvPr/>
          </p:nvSpPr>
          <p:spPr>
            <a:xfrm>
              <a:off x="2775240" y="1917720"/>
              <a:ext cx="3368520" cy="336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4"/>
            <p:cNvSpPr/>
            <p:nvPr/>
          </p:nvSpPr>
          <p:spPr>
            <a:xfrm>
              <a:off x="2771640" y="3602160"/>
              <a:ext cx="3384000" cy="0"/>
            </a:xfrm>
            <a:prstGeom prst="line">
              <a:avLst/>
            </a:prstGeom>
            <a:ln cap="rnd" w="1908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5"/>
            <p:cNvSpPr/>
            <p:nvPr/>
          </p:nvSpPr>
          <p:spPr>
            <a:xfrm>
              <a:off x="4453560" y="1929600"/>
              <a:ext cx="7920" cy="3336840"/>
            </a:xfrm>
            <a:prstGeom prst="line">
              <a:avLst/>
            </a:prstGeom>
            <a:ln cap="rnd" w="1908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6"/>
          <p:cNvSpPr/>
          <p:nvPr/>
        </p:nvSpPr>
        <p:spPr>
          <a:xfrm>
            <a:off x="2776680" y="1622880"/>
            <a:ext cx="3379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广 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7"/>
          <p:cNvSpPr/>
          <p:nvPr/>
        </p:nvSpPr>
        <p:spPr>
          <a:xfrm>
            <a:off x="2771640" y="3573360"/>
            <a:ext cx="3384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4500720" y="1917720"/>
            <a:ext cx="0" cy="336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2771640" y="1917720"/>
            <a:ext cx="3384000" cy="3361680"/>
            <a:chOff x="2771640" y="1917720"/>
            <a:chExt cx="3384000" cy="3361680"/>
          </a:xfrm>
        </p:grpSpPr>
        <p:sp>
          <p:nvSpPr>
            <p:cNvPr id="344" name="Rectangle 3"/>
            <p:cNvSpPr/>
            <p:nvPr/>
          </p:nvSpPr>
          <p:spPr>
            <a:xfrm>
              <a:off x="2775240" y="1917720"/>
              <a:ext cx="3368520" cy="336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4"/>
            <p:cNvSpPr/>
            <p:nvPr/>
          </p:nvSpPr>
          <p:spPr>
            <a:xfrm>
              <a:off x="2771640" y="3602160"/>
              <a:ext cx="3384000" cy="0"/>
            </a:xfrm>
            <a:prstGeom prst="line">
              <a:avLst/>
            </a:prstGeom>
            <a:ln cap="rnd" w="1908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5"/>
            <p:cNvSpPr/>
            <p:nvPr/>
          </p:nvSpPr>
          <p:spPr>
            <a:xfrm>
              <a:off x="4453560" y="1929600"/>
              <a:ext cx="7920" cy="3336840"/>
            </a:xfrm>
            <a:prstGeom prst="line">
              <a:avLst/>
            </a:prstGeom>
            <a:ln cap="rnd" w="1908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6"/>
          <p:cNvSpPr/>
          <p:nvPr/>
        </p:nvSpPr>
        <p:spPr>
          <a:xfrm>
            <a:off x="2771640" y="1627920"/>
            <a:ext cx="4489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些 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2771640" y="3573360"/>
            <a:ext cx="3384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500720" y="1917720"/>
            <a:ext cx="0" cy="336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2771640" y="1917720"/>
            <a:ext cx="3384000" cy="3361680"/>
            <a:chOff x="2771640" y="1917720"/>
            <a:chExt cx="3384000" cy="3361680"/>
          </a:xfrm>
        </p:grpSpPr>
        <p:sp>
          <p:nvSpPr>
            <p:cNvPr id="351" name="Rectangle 3"/>
            <p:cNvSpPr/>
            <p:nvPr/>
          </p:nvSpPr>
          <p:spPr>
            <a:xfrm>
              <a:off x="2775240" y="1917720"/>
              <a:ext cx="3368520" cy="336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4"/>
            <p:cNvSpPr/>
            <p:nvPr/>
          </p:nvSpPr>
          <p:spPr>
            <a:xfrm>
              <a:off x="2771640" y="3602160"/>
              <a:ext cx="3384000" cy="0"/>
            </a:xfrm>
            <a:prstGeom prst="line">
              <a:avLst/>
            </a:prstGeom>
            <a:ln cap="rnd" w="1908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5"/>
            <p:cNvSpPr/>
            <p:nvPr/>
          </p:nvSpPr>
          <p:spPr>
            <a:xfrm>
              <a:off x="4453560" y="1929600"/>
              <a:ext cx="7920" cy="3336840"/>
            </a:xfrm>
            <a:prstGeom prst="line">
              <a:avLst/>
            </a:prstGeom>
            <a:ln cap="rnd" w="1908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6"/>
          <p:cNvSpPr/>
          <p:nvPr/>
        </p:nvSpPr>
        <p:spPr>
          <a:xfrm>
            <a:off x="2916360" y="1555560"/>
            <a:ext cx="338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打 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7"/>
          <p:cNvSpPr/>
          <p:nvPr/>
        </p:nvSpPr>
        <p:spPr>
          <a:xfrm>
            <a:off x="2771640" y="3573360"/>
            <a:ext cx="3384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8"/>
          <p:cNvSpPr/>
          <p:nvPr/>
        </p:nvSpPr>
        <p:spPr>
          <a:xfrm>
            <a:off x="4500720" y="1917720"/>
            <a:ext cx="0" cy="336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2009042317580015"/>
          <p:cNvPicPr/>
          <p:nvPr/>
        </p:nvPicPr>
        <p:blipFill>
          <a:blip r:embed="rId1"/>
          <a:stretch/>
        </p:blipFill>
        <p:spPr>
          <a:xfrm>
            <a:off x="108000" y="-2232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3"/>
          <p:cNvSpPr/>
          <p:nvPr/>
        </p:nvSpPr>
        <p:spPr>
          <a:xfrm>
            <a:off x="324000" y="117360"/>
            <a:ext cx="525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人玩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静悄悄地，独自一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好折纸船、纸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可以踢毽子、听广播……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96720" y="3718080"/>
            <a:ext cx="4824720" cy="1800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人玩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象棋、打乒乓、讲故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292720" y="98100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个人玩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人成众玩法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跳皮筋，掰手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家家，学唱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219640" y="378936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许多人玩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丢手绢，赛拔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人想出新玩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家都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-12960"/>
            <a:ext cx="777240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720" y="1484280"/>
            <a:ext cx="8675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悄悄     独自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踢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毽子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播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象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乒乓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讲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事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筋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腕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丢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绢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赛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拔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1908000" y="148428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静悄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4211640" y="1484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独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7"/>
          <p:cNvSpPr/>
          <p:nvPr/>
        </p:nvSpPr>
        <p:spPr>
          <a:xfrm>
            <a:off x="6443640" y="1557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9"/>
          <p:cNvSpPr/>
          <p:nvPr/>
        </p:nvSpPr>
        <p:spPr>
          <a:xfrm>
            <a:off x="1908000" y="250524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踢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4211640" y="2565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广</a:t>
            </a:r>
            <a:r>
              <a:rPr b="1" lang="zh-CN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"/>
          <p:cNvSpPr/>
          <p:nvPr/>
        </p:nvSpPr>
        <p:spPr>
          <a:xfrm>
            <a:off x="6443640" y="257652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</a:t>
            </a:r>
            <a:r>
              <a:rPr b="1" lang="zh-CN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乒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2"/>
          <p:cNvSpPr/>
          <p:nvPr/>
        </p:nvSpPr>
        <p:spPr>
          <a:xfrm>
            <a:off x="1908000" y="357336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4284720" y="3573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赛</a:t>
            </a:r>
            <a:r>
              <a:rPr b="1" lang="zh-CN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5"/>
          <p:cNvSpPr/>
          <p:nvPr/>
        </p:nvSpPr>
        <p:spPr>
          <a:xfrm>
            <a:off x="1908000" y="148428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静悄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4211640" y="1484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独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7"/>
          <p:cNvSpPr/>
          <p:nvPr/>
        </p:nvSpPr>
        <p:spPr>
          <a:xfrm>
            <a:off x="6443640" y="1557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1908000" y="250524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踢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0"/>
          <p:cNvSpPr/>
          <p:nvPr/>
        </p:nvSpPr>
        <p:spPr>
          <a:xfrm>
            <a:off x="4211640" y="2565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广</a:t>
            </a:r>
            <a:r>
              <a:rPr b="1" lang="zh-CN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"/>
          <p:cNvSpPr/>
          <p:nvPr/>
        </p:nvSpPr>
        <p:spPr>
          <a:xfrm>
            <a:off x="6443640" y="257652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</a:t>
            </a:r>
            <a:r>
              <a:rPr b="1" lang="zh-CN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乒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1908000" y="357336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4284720" y="3573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赛</a:t>
            </a:r>
            <a:r>
              <a:rPr b="1" lang="zh-CN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1476360" y="8366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3276720" y="8366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5148360" y="836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1476360" y="22050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3276720" y="22050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5219640" y="2205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唱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1476360" y="37162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3348000" y="37162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5292720" y="371628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快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1547640" y="620640"/>
            <a:ext cx="15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3708360" y="6206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5724360" y="62064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1547640" y="4881600"/>
            <a:ext cx="15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3851280" y="486900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5796000" y="24336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唱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1547640" y="4005360"/>
            <a:ext cx="15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8"/>
          <p:cNvSpPr/>
          <p:nvPr/>
        </p:nvSpPr>
        <p:spPr>
          <a:xfrm>
            <a:off x="3708360" y="32846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9"/>
          <p:cNvSpPr/>
          <p:nvPr/>
        </p:nvSpPr>
        <p:spPr>
          <a:xfrm>
            <a:off x="5867280" y="408924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快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0"/>
          <p:cNvSpPr/>
          <p:nvPr/>
        </p:nvSpPr>
        <p:spPr>
          <a:xfrm>
            <a:off x="3708360" y="24336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1"/>
          <p:cNvSpPr/>
          <p:nvPr/>
        </p:nvSpPr>
        <p:spPr>
          <a:xfrm>
            <a:off x="1547640" y="3225960"/>
            <a:ext cx="15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2"/>
          <p:cNvSpPr/>
          <p:nvPr/>
        </p:nvSpPr>
        <p:spPr>
          <a:xfrm>
            <a:off x="5940360" y="494172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3"/>
          <p:cNvSpPr/>
          <p:nvPr/>
        </p:nvSpPr>
        <p:spPr>
          <a:xfrm>
            <a:off x="1547640" y="1484280"/>
            <a:ext cx="15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4"/>
          <p:cNvSpPr/>
          <p:nvPr/>
        </p:nvSpPr>
        <p:spPr>
          <a:xfrm>
            <a:off x="3708360" y="14842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5"/>
          <p:cNvSpPr/>
          <p:nvPr/>
        </p:nvSpPr>
        <p:spPr>
          <a:xfrm>
            <a:off x="5724360" y="1568520"/>
            <a:ext cx="22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唱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6"/>
          <p:cNvSpPr/>
          <p:nvPr/>
        </p:nvSpPr>
        <p:spPr>
          <a:xfrm>
            <a:off x="5940360" y="32972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7"/>
          <p:cNvSpPr/>
          <p:nvPr/>
        </p:nvSpPr>
        <p:spPr>
          <a:xfrm>
            <a:off x="1547640" y="2349360"/>
            <a:ext cx="15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8"/>
          <p:cNvSpPr/>
          <p:nvPr/>
        </p:nvSpPr>
        <p:spPr>
          <a:xfrm>
            <a:off x="3492360" y="4076640"/>
            <a:ext cx="21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快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-30240" y="0"/>
          <a:ext cx="9212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240" y="0"/>
                    <a:ext cx="9212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矩形 7"/>
          <p:cNvSpPr/>
          <p:nvPr/>
        </p:nvSpPr>
        <p:spPr>
          <a:xfrm>
            <a:off x="2771640" y="1773360"/>
            <a:ext cx="6048360" cy="25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个人玩，</a:t>
            </a:r>
            <a:r>
              <a:rPr b="1" lang="zh-CN" sz="4800" spc="-1" strike="noStrike">
                <a:solidFill>
                  <a:srgbClr val="00b050"/>
                </a:solidFill>
                <a:latin typeface="Arial"/>
                <a:ea typeface="楷体_GB2312"/>
              </a:rPr>
              <a:t>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静悄悄地，独自一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正好折纸船、纸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还可以踢毽子、听广播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20:20:12Z</dcterms:created>
  <dc:creator>Administrator</dc:creator>
  <dc:description/>
  <cp:keywords/>
  <dc:language>en-US</dc:language>
  <cp:lastModifiedBy>ablatjan</cp:lastModifiedBy>
  <cp:lastPrinted>1899-12-30T00:00:00Z</cp:lastPrinted>
  <dcterms:modified xsi:type="dcterms:W3CDTF">2014-11-14T04:56:38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