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coin.wav" ContentType="audio/x-wav"/>
  <Override PartName="/ppt/media/image13.jpeg" ContentType="image/jpeg"/>
  <Override PartName="/ppt/media/BLIP.WAV" ContentType="audio/x-wav"/>
  <Override PartName="/ppt/media/image17.jpeg" ContentType="image/jpeg"/>
  <Override PartName="/ppt/media/applause.wav" ContentType="audio/x-wav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2.png" ContentType="image/png"/>
  <Override PartName="/ppt/media/image1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A64-1A96-4573-A71D-F32C2097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8C3-C20C-4E42-96D9-7BDE61A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784-5DB4-4525-B942-976753C1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D3-5335-471A-B0FF-5916C09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C7FC-F6DE-4E15-B888-BFB0795F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E23-7C8D-47BD-8785-2B40A41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65A8-FE1D-4AFB-89D4-9FC3709C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F2D4-615F-4364-95AA-D72BA7A4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DAB-C102-4725-85B9-A63CBB17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6CC7-BDF9-495B-A485-7F9D113D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0F91-5509-4CA5-A399-09B0BFE5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A82-D9EF-47F9-B806-4DFAD93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7830-F3A2-44B5-916F-6A0F861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129-3CF0-4D51-A516-A2B0E604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5C4B-FA61-4C0F-A906-955C5443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6B0-CA1B-48B0-9BD9-0B9E4963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042-A52B-436A-9659-13E25689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6B11-7387-45AF-99AB-6B2ACB7C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5AAC-3768-4704-8355-8551EE5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D71C-7702-449D-9E5A-CB766684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A10F-6260-4A3F-BC69-E95AF558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D22C-A1A4-4D42-B1B0-7E619C4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FF0-17CC-474F-8D14-BF6AB34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0AE2-7972-4498-B9CC-65EE8F5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0C8C-CF49-4B66-8ABF-DDFC553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B1BC-98DC-46AC-A1EB-039AB5E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7C9E-18D1-49EE-AC5F-8A0649A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280B-ECB9-4363-87A6-3A442AD8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F473-FB7A-49C8-A86D-5CDAFD99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5A24-BA25-4B1B-B5B0-9A9BC7C7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792E-319D-4D4C-B759-D3DCE027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F10A-63B4-40E0-B9B5-83AA33B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D3AE-E723-4E89-965E-544C2A2E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0AD-1F8F-4EA7-9EAF-0CFFC17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AF7D-2FA4-4761-B2B6-E0060824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E348-B6A6-4196-9415-A4C9BC02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4039-C864-4884-8DE4-AFA8ADA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85E4-068F-4760-8EF1-C678708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1938-DF21-4D03-8CDB-FCF45E5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1B1D-2D3D-4B3B-810A-90727BD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3920-7E22-4DA9-A701-37209749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65AB-39B4-426A-9699-D6328EBB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5FD8-B1D8-4920-8F8D-3AC97159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1A7-6F6F-493F-A95D-BC1B87E0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444-B6DF-460C-9676-0E6BA778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CF8-3E74-4A1D-8B63-0A77BBC0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AA2-0259-470B-9D64-458D910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956-E5D6-4660-8F41-39A818A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FFD-49C1-42B5-907E-E708CA1CD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80D-882A-4B83-B181-C2F6AD54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83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84" name="未知"/>
              <p:cNvSpPr/>
              <p:nvPr/>
            </p:nvSpPr>
            <p:spPr>
              <a:xfrm rot="18580800">
                <a:off x="1137240" y="621396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1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3691-1EC5-4FCB-97D8-6457EFACB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99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00" name="未知"/>
              <p:cNvSpPr/>
              <p:nvPr/>
            </p:nvSpPr>
            <p:spPr>
              <a:xfrm rot="18580800">
                <a:off x="7865280" y="-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104" name="未知"/>
              <p:cNvSpPr/>
              <p:nvPr/>
            </p:nvSpPr>
            <p:spPr>
              <a:xfrm rot="18580800">
                <a:off x="8258760" y="-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108" name="未知"/>
              <p:cNvSpPr/>
              <p:nvPr/>
            </p:nvSpPr>
            <p:spPr>
              <a:xfrm rot="18580800">
                <a:off x="8652600" y="-108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0CA-6B16-4453-9AF8-FB0E885B2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audio" Target="../media/BLIP.WAV"/><Relationship Id="rId10" Type="http://schemas.openxmlformats.org/officeDocument/2006/relationships/audio" Target="../media/BLIP.WAV"/><Relationship Id="rId11" Type="http://schemas.openxmlformats.org/officeDocument/2006/relationships/audio" Target="../media/BLIP.WAV"/><Relationship Id="rId12" Type="http://schemas.openxmlformats.org/officeDocument/2006/relationships/audio" Target="../media/BLIP.WAV"/><Relationship Id="rId13" Type="http://schemas.openxmlformats.org/officeDocument/2006/relationships/audio" Target="../media/BLIP.WAV"/><Relationship Id="rId14" Type="http://schemas.openxmlformats.org/officeDocument/2006/relationships/audio" Target="../media/BLIP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2.png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2009042317580015"/>
          <p:cNvPicPr/>
          <p:nvPr/>
        </p:nvPicPr>
        <p:blipFill>
          <a:blip r:embed="rId1"/>
          <a:srcRect l="0" t="45254" r="57467" b="-183"/>
          <a:stretch/>
        </p:blipFill>
        <p:spPr>
          <a:xfrm>
            <a:off x="539640" y="1413000"/>
            <a:ext cx="5400720" cy="4680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268360" y="595008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http://www.5068.com/uploads/allimg/131114/091J44591-0.jpg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59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0" y="-27000"/>
            <a:ext cx="9144000" cy="109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怎么都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542880" y="266688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讲课人：美克热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63640" y="21337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68360" y="2494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个人玩，很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人成众玩法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皮筋，掰手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家家，学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" dur="1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7816680" y="981000"/>
            <a:ext cx="10033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楷体_GB2312"/>
              </a:rPr>
              <a:t>掰手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8101080" y="645336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62371313365371984"/>
          <p:cNvPicPr/>
          <p:nvPr/>
        </p:nvPicPr>
        <p:blipFill>
          <a:blip r:embed="rId1"/>
          <a:stretch/>
        </p:blipFill>
        <p:spPr>
          <a:xfrm>
            <a:off x="0" y="1170000"/>
            <a:ext cx="8820000" cy="568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2556000" y="765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跳皮筋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1763640" y="21337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11280" y="1486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许多人玩，更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丢手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赛拔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8748720" y="6497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51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0" dur="1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2" dur="1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85839_G_1288581366942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1116000" y="40464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丢手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8532720" y="5734080"/>
            <a:ext cx="468360" cy="112392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1123920"/>
              <a:gd name="textAreaBottom" fmla="*/ 1093680 h 1123920"/>
            </a:gdLst>
            <a:ahLst/>
            <a:rect l="textAreaLeft" t="textAreaTop" r="textAreaRight" b="textAreaBottom"/>
            <a:pathLst>
              <a:path w="21600" h="51810">
                <a:moveTo>
                  <a:pt x="0" y="0"/>
                </a:moveTo>
                <a:lnTo>
                  <a:pt x="21600" y="0"/>
                </a:lnTo>
                <a:lnTo>
                  <a:pt x="21600" y="51810"/>
                </a:lnTo>
                <a:lnTo>
                  <a:pt x="0" y="51810"/>
                </a:lnTo>
                <a:close/>
              </a:path>
              <a:path fill="lightenLess" w="21600" h="51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1810">
                <a:moveTo>
                  <a:pt x="21600" y="0"/>
                </a:moveTo>
                <a:lnTo>
                  <a:pt x="21600" y="51810"/>
                </a:lnTo>
                <a:lnTo>
                  <a:pt x="20200" y="50410"/>
                </a:lnTo>
                <a:lnTo>
                  <a:pt x="20200" y="1400"/>
                </a:lnTo>
                <a:close/>
              </a:path>
              <a:path fill="darkenLess" w="21600" h="51810">
                <a:moveTo>
                  <a:pt x="21600" y="51810"/>
                </a:moveTo>
                <a:lnTo>
                  <a:pt x="0" y="51810"/>
                </a:lnTo>
                <a:lnTo>
                  <a:pt x="1400" y="50410"/>
                </a:lnTo>
                <a:lnTo>
                  <a:pt x="20200" y="50410"/>
                </a:lnTo>
                <a:close/>
              </a:path>
              <a:path fill="lighten" w="21600" h="51810">
                <a:moveTo>
                  <a:pt x="0" y="51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504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2627280" y="213372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700360" y="1197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玩，挺快乐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700360" y="2205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人玩，真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627280" y="328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人玩，很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627280" y="4221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人玩，更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478800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777200" y="3716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777200" y="2708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773600" y="465300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5"/>
          <p:cNvSpPr/>
          <p:nvPr/>
        </p:nvSpPr>
        <p:spPr>
          <a:xfrm>
            <a:off x="1332000" y="1484280"/>
            <a:ext cx="48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612720" y="333360"/>
            <a:ext cx="3384720" cy="703440"/>
          </a:xfrm>
          <a:prstGeom prst="rect">
            <a:avLst/>
          </a:prstGeom>
          <a:solidFill>
            <a:srgbClr val="c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一练 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492360" y="162864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喜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5"/>
          <p:cNvSpPr/>
          <p:nvPr/>
        </p:nvSpPr>
        <p:spPr>
          <a:xfrm>
            <a:off x="900000" y="2924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2917800" y="292428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独</a:t>
            </a:r>
            <a:r>
              <a:rPr b="1" lang="zh-CN" sz="8000" spc="-1" strike="noStrike">
                <a:solidFill>
                  <a:srgbClr val="000000"/>
                </a:solidFill>
                <a:latin typeface="宋体"/>
              </a:rPr>
              <a:t>自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2124000" y="4724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905040" y="1143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940360" y="299736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5869080" y="10540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象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395280" y="4653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3278160" y="105264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885960" y="29383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90640" y="11556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5854680" y="10666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象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3263760" y="10666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2917800" y="293832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宋体"/>
              </a:rPr>
              <a:t>独自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2124000" y="47386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5940360" y="301140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有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395280" y="46674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900000" y="2924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890640" y="1170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5854680" y="10810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象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3263760" y="10810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900000" y="117360"/>
            <a:ext cx="2376720" cy="720720"/>
          </a:xfrm>
          <a:prstGeom prst="flowChartAlternateProcess">
            <a:avLst/>
          </a:prstGeom>
          <a:solidFill>
            <a:srgbClr val="cb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词语乐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4118040" y="4794120"/>
            <a:ext cx="23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许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6843600" y="465120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</a:rPr>
              <a:t>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4531320" y="4842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许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6827760" y="471024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66680" y="12207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666880" y="1724040"/>
            <a:ext cx="60199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什么是快乐？你们生活的快乐吗？在什么时候你感到快乐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丁丁4"/>
          <p:cNvPicPr/>
          <p:nvPr/>
        </p:nvPicPr>
        <p:blipFill>
          <a:blip r:embed="rId2"/>
          <a:stretch/>
        </p:blipFill>
        <p:spPr>
          <a:xfrm>
            <a:off x="380880" y="4038480"/>
            <a:ext cx="2027520" cy="2210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家都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儿歌读给爸爸妈妈听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想想你觉得怎样玩最快乐？下节课告诉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PM_041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3637080" y="2565360"/>
            <a:ext cx="1944360" cy="4032000"/>
            <a:chOff x="3637080" y="2565360"/>
            <a:chExt cx="1944360" cy="4032000"/>
          </a:xfrm>
        </p:grpSpPr>
        <p:pic>
          <p:nvPicPr>
            <p:cNvPr id="221" name="Picture 4" descr="红气球"/>
            <p:cNvPicPr/>
            <p:nvPr/>
          </p:nvPicPr>
          <p:blipFill>
            <a:blip r:embed="rId2"/>
            <a:stretch/>
          </p:blipFill>
          <p:spPr>
            <a:xfrm>
              <a:off x="3637080" y="2565360"/>
              <a:ext cx="1944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5"/>
            <p:cNvSpPr/>
            <p:nvPr/>
          </p:nvSpPr>
          <p:spPr>
            <a:xfrm>
              <a:off x="3895920" y="2811240"/>
              <a:ext cx="1358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"/>
          <p:cNvGrpSpPr/>
          <p:nvPr/>
        </p:nvGrpSpPr>
        <p:grpSpPr>
          <a:xfrm>
            <a:off x="4068720" y="1989000"/>
            <a:ext cx="1944360" cy="4032000"/>
            <a:chOff x="4068720" y="1989000"/>
            <a:chExt cx="1944360" cy="4032000"/>
          </a:xfrm>
        </p:grpSpPr>
        <p:pic>
          <p:nvPicPr>
            <p:cNvPr id="224" name="Picture 8" descr="红气球"/>
            <p:cNvPicPr/>
            <p:nvPr/>
          </p:nvPicPr>
          <p:blipFill>
            <a:blip r:embed="rId3"/>
            <a:stretch/>
          </p:blipFill>
          <p:spPr>
            <a:xfrm>
              <a:off x="4068720" y="1989000"/>
              <a:ext cx="1944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9"/>
            <p:cNvSpPr/>
            <p:nvPr/>
          </p:nvSpPr>
          <p:spPr>
            <a:xfrm>
              <a:off x="4327560" y="2234880"/>
              <a:ext cx="1358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5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些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4213080" y="549360"/>
            <a:ext cx="1944360" cy="4031640"/>
            <a:chOff x="4213080" y="549360"/>
            <a:chExt cx="1944360" cy="4031640"/>
          </a:xfrm>
        </p:grpSpPr>
        <p:pic>
          <p:nvPicPr>
            <p:cNvPr id="227" name="Picture 11" descr="红气球"/>
            <p:cNvPicPr/>
            <p:nvPr/>
          </p:nvPicPr>
          <p:blipFill>
            <a:blip r:embed="rId4"/>
            <a:stretch/>
          </p:blipFill>
          <p:spPr>
            <a:xfrm>
              <a:off x="4213080" y="549360"/>
              <a:ext cx="1944360" cy="40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2"/>
            <p:cNvSpPr/>
            <p:nvPr/>
          </p:nvSpPr>
          <p:spPr>
            <a:xfrm>
              <a:off x="4471920" y="795240"/>
              <a:ext cx="1358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5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船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3"/>
          <p:cNvGrpSpPr/>
          <p:nvPr/>
        </p:nvGrpSpPr>
        <p:grpSpPr>
          <a:xfrm>
            <a:off x="4068720" y="1341360"/>
            <a:ext cx="1944360" cy="4032000"/>
            <a:chOff x="4068720" y="1341360"/>
            <a:chExt cx="1944360" cy="4032000"/>
          </a:xfrm>
        </p:grpSpPr>
        <p:pic>
          <p:nvPicPr>
            <p:cNvPr id="230" name="Picture 14" descr="红气球"/>
            <p:cNvPicPr/>
            <p:nvPr/>
          </p:nvPicPr>
          <p:blipFill>
            <a:blip r:embed="rId5"/>
            <a:stretch/>
          </p:blipFill>
          <p:spPr>
            <a:xfrm>
              <a:off x="4068720" y="1341360"/>
              <a:ext cx="1944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5"/>
            <p:cNvSpPr/>
            <p:nvPr/>
          </p:nvSpPr>
          <p:spPr>
            <a:xfrm>
              <a:off x="4327560" y="1587240"/>
              <a:ext cx="1358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5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快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4429080" y="1341360"/>
            <a:ext cx="1942920" cy="4032000"/>
            <a:chOff x="4429080" y="1341360"/>
            <a:chExt cx="1942920" cy="4032000"/>
          </a:xfrm>
        </p:grpSpPr>
        <p:pic>
          <p:nvPicPr>
            <p:cNvPr id="233" name="Picture 17" descr="红气球"/>
            <p:cNvPicPr/>
            <p:nvPr/>
          </p:nvPicPr>
          <p:blipFill>
            <a:blip r:embed="rId6"/>
            <a:stretch/>
          </p:blipFill>
          <p:spPr>
            <a:xfrm>
              <a:off x="4429080" y="1341360"/>
              <a:ext cx="194292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8"/>
            <p:cNvSpPr/>
            <p:nvPr/>
          </p:nvSpPr>
          <p:spPr>
            <a:xfrm>
              <a:off x="4687920" y="1587240"/>
              <a:ext cx="13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3780000" y="2133720"/>
            <a:ext cx="1944000" cy="4031640"/>
            <a:chOff x="3780000" y="2133720"/>
            <a:chExt cx="1944000" cy="4031640"/>
          </a:xfrm>
        </p:grpSpPr>
        <p:pic>
          <p:nvPicPr>
            <p:cNvPr id="236" name="Picture 20" descr="红气球"/>
            <p:cNvPicPr/>
            <p:nvPr/>
          </p:nvPicPr>
          <p:blipFill>
            <a:blip r:embed="rId7"/>
            <a:stretch/>
          </p:blipFill>
          <p:spPr>
            <a:xfrm>
              <a:off x="3780000" y="2133720"/>
              <a:ext cx="1944000" cy="40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21"/>
            <p:cNvSpPr/>
            <p:nvPr/>
          </p:nvSpPr>
          <p:spPr>
            <a:xfrm>
              <a:off x="4038840" y="2379600"/>
              <a:ext cx="13579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5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打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2" descr="451e9d1775cb3dacc2ce79a3"/>
          <p:cNvPicPr/>
          <p:nvPr/>
        </p:nvPicPr>
        <p:blipFill>
          <a:blip r:embed="rId8"/>
          <a:stretch/>
        </p:blipFill>
        <p:spPr>
          <a:xfrm>
            <a:off x="5508720" y="3500280"/>
            <a:ext cx="27367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2009042317580015"/>
          <p:cNvPicPr/>
          <p:nvPr/>
        </p:nvPicPr>
        <p:blipFill>
          <a:blip r:embed="rId1"/>
          <a:srcRect l="0" t="0" r="0" b="7528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324000" y="117360"/>
            <a:ext cx="52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好折纸船、纸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踢毽子、听广播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96720" y="3718080"/>
            <a:ext cx="4824720" cy="2639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19640" y="620640"/>
            <a:ext cx="45720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三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人玩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003640" y="3716280"/>
            <a:ext cx="457200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人玩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596360" y="6237360"/>
            <a:ext cx="15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2771640" y="1773360"/>
            <a:ext cx="604836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正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5211360" y="2924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折纸船、纸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140360" y="3500280"/>
            <a:ext cx="4537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踢毽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听广播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207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1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1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196617763971A20Bc03C001_b"/>
          <p:cNvPicPr/>
          <p:nvPr/>
        </p:nvPicPr>
        <p:blipFill>
          <a:blip r:embed="rId1"/>
          <a:stretch/>
        </p:blipFill>
        <p:spPr>
          <a:xfrm>
            <a:off x="1692360" y="692280"/>
            <a:ext cx="5616360" cy="5689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7455600" y="907920"/>
            <a:ext cx="10947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踢毽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rId2" action="ppaction://hlinksldjump"/>
          </p:cNvPr>
          <p:cNvSpPr/>
          <p:nvPr/>
        </p:nvSpPr>
        <p:spPr>
          <a:xfrm>
            <a:off x="8172360" y="638172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5375160" y="1851120"/>
            <a:ext cx="2952720" cy="2016000"/>
          </a:xfrm>
          <a:prstGeom prst="cloudCallout">
            <a:avLst>
              <a:gd name="adj1" fmla="val -62425"/>
              <a:gd name="adj2" fmla="val 128259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听广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"/>
          <p:cNvGrpSpPr/>
          <p:nvPr/>
        </p:nvGrpSpPr>
        <p:grpSpPr>
          <a:xfrm>
            <a:off x="0" y="0"/>
            <a:ext cx="9304200" cy="6858000"/>
            <a:chOff x="0" y="0"/>
            <a:chExt cx="9304200" cy="685800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4520880" y="0"/>
              <a:ext cx="4783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0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20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矩形 2"/>
          <p:cNvSpPr/>
          <p:nvPr/>
        </p:nvSpPr>
        <p:spPr>
          <a:xfrm>
            <a:off x="4196880" y="62064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折纸船、纸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36360" y="115920"/>
            <a:ext cx="9207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692360" y="1773360"/>
            <a:ext cx="71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玩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可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……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987640" y="1628640"/>
            <a:ext cx="59040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个人玩，真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象棋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打乒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讲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7368656e5f6a696e5f68616f2b31392c312c3639347833303030"/>
          <p:cNvPicPr/>
          <p:nvPr/>
        </p:nvPicPr>
        <p:blipFill>
          <a:blip r:embed="rId1"/>
          <a:stretch/>
        </p:blipFill>
        <p:spPr>
          <a:xfrm>
            <a:off x="-106200" y="117360"/>
            <a:ext cx="9285120" cy="67406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6230880" y="692280"/>
            <a:ext cx="280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打乒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5076720" y="1917720"/>
            <a:ext cx="3457800" cy="2193840"/>
          </a:xfrm>
          <a:prstGeom prst="wedgeRectCallout">
            <a:avLst>
              <a:gd name="adj1" fmla="val -99847"/>
              <a:gd name="adj2" fmla="val 11168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讲故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-36360" y="171360"/>
            <a:ext cx="9215280" cy="66866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"/>
          <p:cNvSpPr/>
          <p:nvPr/>
        </p:nvSpPr>
        <p:spPr>
          <a:xfrm>
            <a:off x="6780960" y="40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下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-108000" y="117360"/>
            <a:ext cx="9286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20:12Z</dcterms:created>
  <dc:creator>Administrator</dc:creator>
  <dc:description/>
  <dc:language>en-US</dc:language>
  <cp:lastModifiedBy>微软用户</cp:lastModifiedBy>
  <dcterms:modified xsi:type="dcterms:W3CDTF">2017-02-19T09:32:03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