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4.jpeg" ContentType="image/jpeg"/>
  <Override PartName="/ppt/media/image25.jpeg" ContentType="image/jpeg"/>
  <Override PartName="/ppt/media/image28.jpeg" ContentType="image/jpeg"/>
  <Override PartName="/ppt/media/image5.gif" ContentType="image/gif"/>
  <Override PartName="/ppt/media/image7.jpeg" ContentType="image/jpeg"/>
  <Override PartName="/ppt/media/image19.jpeg" ContentType="image/jpeg"/>
  <Override PartName="/ppt/media/image11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F8F-D5A6-4E2F-B222-B71A966750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5D9-4BE2-4945-A812-21BEE1D72A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1CF-8AA8-4F75-BD38-B70D75DC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455-80F9-4382-BB5C-14DDF08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F2D-D8B3-467D-A276-F436FA05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967-2D58-4246-8575-6BF3B8A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C496-DCFE-4508-B3CE-367208DA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6CB-B06B-4C63-A6A1-581C889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7D6-79DF-4BCF-9CB4-BA8B69BC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7D09-3AEE-48EA-A4E7-AA0E47A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2219-EEBA-4348-8216-B0FDC15A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A9D0-D322-49BC-8B68-A88845BC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2850-975E-48FB-980D-4D93796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EC6-472B-4993-ACA4-B3CA34E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3537-D41F-42E5-BDB7-B6785FE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C43-20E0-4F8B-84D5-1ADFD2C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551-392C-4659-91A0-F78B1E4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EF3-2959-4E2F-9146-5C247536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BDE-F0F7-4730-AC4D-11112BEE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456F-A9B5-4F3E-8CBE-BCF4D9C0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2682-0EA4-4846-870E-DDD001B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109B-0F40-4671-B32D-F4478713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ECFB-A2BC-45AE-B235-E7B6E266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DC33-D422-4BB5-A4DB-46F8E67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D67-C53A-4A00-88B9-C869E78B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5E4C-47D2-4121-B537-C2B32C7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FA70-8602-4A8A-AA8E-D9C0AD7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333A-7FF6-4E3D-B5BA-E1105E7E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698B-8E39-4C3A-9A97-9C2EB91C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CEAB-8C78-4C05-88EA-1AD33F3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C0CB-088F-4699-A13E-78372ACC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F241-34F1-430F-9CD9-BC0C2291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DE09-0A2C-47F2-A724-B8D95E33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E5E1-BA36-4B0C-B149-80175C1D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13CE-3024-43C5-A38D-C210F2D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FAD-DD7C-489A-A57D-EDAD807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599D-BD19-407B-88E1-192F9AC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374B-65AE-4E3E-BE59-81AA5A90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92FD-F921-4976-AC62-4C209EEC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BEBB-4DE3-4ADE-8EDF-AB9B62C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EB36-2968-4599-B97E-29660B8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9CF9-2964-4626-A932-02CF96C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5A0B-8951-46C7-94B4-C5C601B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2071-EB99-48BB-BF97-FBEEC6F9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75CB-CD97-43ED-A3A6-6D5C7BC2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011-73DE-48D3-BCFC-DEDE299F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883-3D18-455B-BF94-AF1455B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9BC-3802-4463-87A9-C9E60B4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8FE-FF21-423A-ACCF-F430D7F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BB2-9C37-4D66-8B2C-0E291AE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0F5-8204-497E-B6BC-3664B8650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02C-611F-401B-ACFA-C5457852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83" name="Group 3"/>
            <p:cNvGrpSpPr/>
            <p:nvPr/>
          </p:nvGrpSpPr>
          <p:grpSpPr>
            <a:xfrm>
              <a:off x="1051200" y="6202440"/>
              <a:ext cx="535680" cy="655200"/>
              <a:chOff x="1051200" y="6202440"/>
              <a:chExt cx="535680" cy="655200"/>
            </a:xfrm>
          </p:grpSpPr>
          <p:sp>
            <p:nvSpPr>
              <p:cNvPr id="84" name="未知"/>
              <p:cNvSpPr/>
              <p:nvPr/>
            </p:nvSpPr>
            <p:spPr>
              <a:xfrm rot="18580800">
                <a:off x="1137960" y="6212880"/>
                <a:ext cx="156600" cy="2995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 rot="2400000">
                <a:off x="1348920" y="6222600"/>
                <a:ext cx="166320" cy="2826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32264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1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5EDC-2487-4962-AF97-732BEC622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7794720" y="-15840"/>
            <a:ext cx="1239480" cy="574200"/>
            <a:chOff x="7794720" y="-15840"/>
            <a:chExt cx="1239480" cy="574200"/>
          </a:xfrm>
        </p:grpSpPr>
        <p:grpSp>
          <p:nvGrpSpPr>
            <p:cNvPr id="99" name="Group 19"/>
            <p:cNvGrpSpPr/>
            <p:nvPr/>
          </p:nvGrpSpPr>
          <p:grpSpPr>
            <a:xfrm>
              <a:off x="7794720" y="-15480"/>
              <a:ext cx="451800" cy="573840"/>
              <a:chOff x="7794720" y="-15480"/>
              <a:chExt cx="451800" cy="573840"/>
            </a:xfrm>
          </p:grpSpPr>
          <p:sp>
            <p:nvSpPr>
              <p:cNvPr id="100" name="未知"/>
              <p:cNvSpPr/>
              <p:nvPr/>
            </p:nvSpPr>
            <p:spPr>
              <a:xfrm rot="18580800">
                <a:off x="7864920" y="-1080"/>
                <a:ext cx="139320" cy="2484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2400000">
                <a:off x="8043480" y="0"/>
                <a:ext cx="139320" cy="2494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>
                <a:off x="802116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8188200" y="-15480"/>
              <a:ext cx="451800" cy="573840"/>
              <a:chOff x="8188200" y="-15480"/>
              <a:chExt cx="451800" cy="573840"/>
            </a:xfrm>
          </p:grpSpPr>
          <p:sp>
            <p:nvSpPr>
              <p:cNvPr id="104" name="未知"/>
              <p:cNvSpPr/>
              <p:nvPr/>
            </p:nvSpPr>
            <p:spPr>
              <a:xfrm rot="18580800">
                <a:off x="8258400" y="-1080"/>
                <a:ext cx="139320" cy="2484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2400000">
                <a:off x="8436960" y="0"/>
                <a:ext cx="139320" cy="2494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841464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8581680" y="-15840"/>
              <a:ext cx="452520" cy="574200"/>
              <a:chOff x="8581680" y="-15840"/>
              <a:chExt cx="452520" cy="574200"/>
            </a:xfrm>
          </p:grpSpPr>
          <p:sp>
            <p:nvSpPr>
              <p:cNvPr id="108" name="未知"/>
              <p:cNvSpPr/>
              <p:nvPr/>
            </p:nvSpPr>
            <p:spPr>
              <a:xfrm rot="18580800">
                <a:off x="8651880" y="-1080"/>
                <a:ext cx="139320" cy="2487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2400000">
                <a:off x="8830440" y="0"/>
                <a:ext cx="139680" cy="249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880812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467-C6A0-4BD3-95A7-408B7ED5B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2009042317580015"/>
          <p:cNvPicPr/>
          <p:nvPr/>
        </p:nvPicPr>
        <p:blipFill>
          <a:blip r:embed="rId1"/>
          <a:srcRect l="0" t="45254" r="57467" b="-183"/>
          <a:stretch/>
        </p:blipFill>
        <p:spPr>
          <a:xfrm>
            <a:off x="539640" y="1413000"/>
            <a:ext cx="5400720" cy="4680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268360" y="595008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-27000"/>
            <a:ext cx="9144000" cy="109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怎么都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143000" y="10717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很好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自一个，静悄悄的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可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然也可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785960" y="571680"/>
            <a:ext cx="6858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玩，很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故事得有人听才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讲我听，我讲你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有下象棋，打羽毛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坐跷跷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矩形 4" descr=""/>
          <p:cNvPicPr/>
          <p:nvPr/>
        </p:nvPicPr>
        <p:blipFill>
          <a:blip r:embed="rId1"/>
          <a:stretch/>
        </p:blipFill>
        <p:spPr>
          <a:xfrm>
            <a:off x="6377040" y="2419200"/>
            <a:ext cx="2747880" cy="25434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2928960" y="464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猜谜语、打乒乓球、跑步比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108000" y="117360"/>
            <a:ext cx="9286920" cy="685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7368656e5f6a696e5f68616f2b31392c312c3639347833303030"/>
          <p:cNvPicPr/>
          <p:nvPr/>
        </p:nvPicPr>
        <p:blipFill>
          <a:blip r:embed="rId2"/>
          <a:stretch/>
        </p:blipFill>
        <p:spPr>
          <a:xfrm>
            <a:off x="-106200" y="117360"/>
            <a:ext cx="9285120" cy="6740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6230880" y="692280"/>
            <a:ext cx="280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打乒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5076720" y="1917720"/>
            <a:ext cx="3457800" cy="2193840"/>
          </a:xfrm>
          <a:prstGeom prst="wedgeRectCallout">
            <a:avLst>
              <a:gd name="adj1" fmla="val -99847"/>
              <a:gd name="adj2" fmla="val 11168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讲故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-36360" y="171360"/>
            <a:ext cx="9215280" cy="6686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6780960" y="40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下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img05.tooopen.com/images/20140324/sy_57388313528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内容占位符 2"/>
          <p:cNvSpPr/>
          <p:nvPr/>
        </p:nvSpPr>
        <p:spPr>
          <a:xfrm>
            <a:off x="2286000" y="500040"/>
            <a:ext cx="5929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打羽毛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http://www.qqmofasi.com/data/attachments/2014/05/30/78_CLiKmk1172MJ27kj17l6_large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285840" y="2143080"/>
            <a:ext cx="80722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个人玩，很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故事多个人听更有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讲我们听，我讲你们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甩绳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跳，我跳，轮流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7816680" y="981000"/>
            <a:ext cx="10033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楷体_GB2312"/>
              </a:rPr>
              <a:t>掰手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8101080" y="645336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7"/>
          <p:cNvSpPr/>
          <p:nvPr/>
        </p:nvSpPr>
        <p:spPr>
          <a:xfrm>
            <a:off x="7596360" y="6237360"/>
            <a:ext cx="15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2009042317580015"/>
          <p:cNvPicPr/>
          <p:nvPr/>
        </p:nvPicPr>
        <p:blipFill>
          <a:blip r:embed="rId1"/>
          <a:srcRect l="0" t="0" r="0" b="7528"/>
          <a:stretch/>
        </p:blipFill>
        <p:spPr>
          <a:xfrm>
            <a:off x="0" y="-2643120"/>
            <a:ext cx="13296960" cy="92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62371313365371984"/>
          <p:cNvPicPr/>
          <p:nvPr/>
        </p:nvPicPr>
        <p:blipFill>
          <a:blip r:embed="rId1"/>
          <a:stretch/>
        </p:blipFill>
        <p:spPr>
          <a:xfrm>
            <a:off x="0" y="1170000"/>
            <a:ext cx="8820000" cy="568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2556000" y="765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跳皮筋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571760" y="428760"/>
            <a:ext cx="664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人玩，很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个人玩，很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许多人玩，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多，什么游戏都能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拔河，老鹰捉小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排球，打篮球，踢足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开运动会也可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51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85839_G_1288581366942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1116000" y="40464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丢手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8532720" y="5734080"/>
            <a:ext cx="468360" cy="112392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1123920"/>
              <a:gd name="textAreaBottom" fmla="*/ 1093680 h 1123920"/>
            </a:gdLst>
            <a:ahLst/>
            <a:rect l="textAreaLeft" t="textAreaTop" r="textAreaRight" b="textAreaBottom"/>
            <a:pathLst>
              <a:path w="21600" h="51810">
                <a:moveTo>
                  <a:pt x="0" y="0"/>
                </a:moveTo>
                <a:lnTo>
                  <a:pt x="21600" y="0"/>
                </a:lnTo>
                <a:lnTo>
                  <a:pt x="21600" y="51810"/>
                </a:lnTo>
                <a:lnTo>
                  <a:pt x="0" y="51810"/>
                </a:lnTo>
                <a:close/>
              </a:path>
              <a:path fill="lightenLess" w="21600" h="51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1810">
                <a:moveTo>
                  <a:pt x="21600" y="0"/>
                </a:moveTo>
                <a:lnTo>
                  <a:pt x="21600" y="51810"/>
                </a:lnTo>
                <a:lnTo>
                  <a:pt x="20200" y="50410"/>
                </a:lnTo>
                <a:lnTo>
                  <a:pt x="20200" y="1400"/>
                </a:lnTo>
                <a:close/>
              </a:path>
              <a:path fill="darkenLess" w="21600" h="51810">
                <a:moveTo>
                  <a:pt x="21600" y="51810"/>
                </a:moveTo>
                <a:lnTo>
                  <a:pt x="0" y="51810"/>
                </a:lnTo>
                <a:lnTo>
                  <a:pt x="1400" y="50410"/>
                </a:lnTo>
                <a:lnTo>
                  <a:pt x="20200" y="50410"/>
                </a:lnTo>
                <a:close/>
              </a:path>
              <a:path fill="lighten" w="21600" h="51810">
                <a:moveTo>
                  <a:pt x="0" y="51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504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M_041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451e9d1775cb3dacc2ce79a3"/>
          <p:cNvPicPr/>
          <p:nvPr/>
        </p:nvPicPr>
        <p:blipFill>
          <a:blip r:embed="rId2"/>
          <a:stretch/>
        </p:blipFill>
        <p:spPr>
          <a:xfrm>
            <a:off x="928800" y="4835520"/>
            <a:ext cx="1906560" cy="2022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1"/>
          <p:cNvSpPr/>
          <p:nvPr/>
        </p:nvSpPr>
        <p:spPr>
          <a:xfrm>
            <a:off x="2071800" y="1428840"/>
            <a:ext cx="99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3714840" y="1928880"/>
            <a:ext cx="9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72040" y="128592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715080" y="178596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6858000" y="335772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6858000" y="478620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5643720" y="4357800"/>
            <a:ext cx="99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5572080" y="26431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4214880" y="335772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2714760" y="2857680"/>
            <a:ext cx="9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2928960" y="4000680"/>
            <a:ext cx="9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4357800" y="4714920"/>
            <a:ext cx="9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photocdn.sohu.com/20140327/Img39728054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86640"/>
          </a:xfrm>
          <a:prstGeom prst="rect">
            <a:avLst/>
          </a:prstGeom>
          <a:ln w="0">
            <a:noFill/>
          </a:ln>
        </p:spPr>
      </p:pic>
      <p:sp>
        <p:nvSpPr>
          <p:cNvPr id="287" name="内容占位符 2"/>
          <p:cNvSpPr/>
          <p:nvPr/>
        </p:nvSpPr>
        <p:spPr>
          <a:xfrm>
            <a:off x="3429000" y="571680"/>
            <a:ext cx="3643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老鹰捉小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s://timgsa.baidu.com/timg?image&amp;quality=80&amp;size=b9999_10000&amp;sec=1489588853490&amp;di=6af724ae6606e51fffe18b06510dd67e&amp;imgtype=0&amp;src=http%3A%2F%2Fepaper.jxnews.com.cn%2Fjxrb%2Fres%2F1%2F20140811%2F65311407687634504.jpg"/>
          <p:cNvPicPr/>
          <p:nvPr/>
        </p:nvPicPr>
        <p:blipFill>
          <a:blip r:embed="rId1"/>
          <a:stretch/>
        </p:blipFill>
        <p:spPr>
          <a:xfrm>
            <a:off x="0" y="0"/>
            <a:ext cx="4743360" cy="3321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https://timgsa.baidu.com/timg?image&amp;quality=80&amp;size=b9999_10000&amp;sec=1489588901923&amp;di=ffc95ba501b99aa736746d0be66917c5&amp;imgtype=0&amp;src=http%3A%2F%2Fwww.sport.gov.mo%2Fuploads%2Fwiznews%2F201408%2F11984_cwbka.jpg"/>
          <p:cNvPicPr/>
          <p:nvPr/>
        </p:nvPicPr>
        <p:blipFill>
          <a:blip r:embed="rId2"/>
          <a:stretch/>
        </p:blipFill>
        <p:spPr>
          <a:xfrm>
            <a:off x="4749840" y="0"/>
            <a:ext cx="4929120" cy="3286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https://timgsa.baidu.com/timg?image&amp;quality=80&amp;size=b9999_10000&amp;sec=1489588936435&amp;di=2018f95b7a6ab5cb67866aba9f5d0ee4&amp;imgtype=0&amp;src=http%3A%2F%2Fimg.pconline.com.cn%2Fimages%2Fupload%2Fupc%2Ftx%2Fphotoblog%2F1208%2F07%2Fc10%2F12760881_12760881_1344352722769.jpg"/>
          <p:cNvPicPr/>
          <p:nvPr/>
        </p:nvPicPr>
        <p:blipFill>
          <a:blip r:embed="rId3"/>
          <a:stretch/>
        </p:blipFill>
        <p:spPr>
          <a:xfrm>
            <a:off x="1428840" y="328608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http://pic2.ooopic.com/13/52/28/77b1OOOPICf9.jpg"/>
          <p:cNvPicPr/>
          <p:nvPr/>
        </p:nvPicPr>
        <p:blipFill>
          <a:blip r:embed="rId1"/>
          <a:stretch/>
        </p:blipFill>
        <p:spPr>
          <a:xfrm>
            <a:off x="0" y="571680"/>
            <a:ext cx="9072720" cy="75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ttp://58pic.ooopic.com/58pic/21/51/19/40Q58PIC75e.jpg"/>
          <p:cNvPicPr/>
          <p:nvPr/>
        </p:nvPicPr>
        <p:blipFill>
          <a:blip r:embed="rId1"/>
          <a:stretch/>
        </p:blipFill>
        <p:spPr>
          <a:xfrm>
            <a:off x="20520" y="1000080"/>
            <a:ext cx="9123480" cy="4000680"/>
          </a:xfrm>
          <a:prstGeom prst="rect">
            <a:avLst/>
          </a:prstGeom>
          <a:ln w="0">
            <a:noFill/>
          </a:ln>
        </p:spPr>
      </p:pic>
      <p:sp>
        <p:nvSpPr>
          <p:cNvPr id="293" name="内容占位符 2"/>
          <p:cNvSpPr/>
          <p:nvPr/>
        </p:nvSpPr>
        <p:spPr>
          <a:xfrm>
            <a:off x="2857680" y="428760"/>
            <a:ext cx="45003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跳长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0"/>
            <a:ext cx="79297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自一个，静悄悄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用纸折船、折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踢毽子，跳绳，搭积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然还有看书，画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音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429080" y="3232080"/>
            <a:ext cx="66438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个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个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多，什么游戏都能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拔河，老鹰捉小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排球，打篮球，踢足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开运动会也可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643280" y="0"/>
            <a:ext cx="6858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故事得有人听才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讲我听，我讲你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下象棋，打羽毛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坐跷跷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3571920"/>
            <a:ext cx="8072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故事多个人听更有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讲我们听，我讲你们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甩绳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跳，我跳，轮流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214200" y="-3929040"/>
            <a:ext cx="14382720" cy="1078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66680" y="12207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928800" y="1285920"/>
            <a:ext cx="75722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什么是快乐？你们生活的快乐吗？在什么时候你感到快乐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丁丁4"/>
          <p:cNvPicPr/>
          <p:nvPr/>
        </p:nvPicPr>
        <p:blipFill>
          <a:blip r:embed="rId2"/>
          <a:stretch/>
        </p:blipFill>
        <p:spPr>
          <a:xfrm>
            <a:off x="380880" y="4038480"/>
            <a:ext cx="2027520" cy="2210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1643040" y="4071960"/>
            <a:ext cx="8643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（              ）感到很快乐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714240" y="1500120"/>
            <a:ext cx="84297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么　独自　跳绳　羽毛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排球　篮球　游戏　运动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1180440" y="642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57160" y="713880"/>
            <a:ext cx="521496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绳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事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排球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5429160" y="285840"/>
            <a:ext cx="3714840" cy="2786040"/>
          </a:xfrm>
          <a:prstGeom prst="cloudCallout">
            <a:avLst>
              <a:gd name="adj1" fmla="val -63402"/>
              <a:gd name="adj2" fmla="val 44189"/>
            </a:avLst>
          </a:prstGeom>
          <a:solidFill>
            <a:srgbClr val="cbfb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红色的字都是表示动作的词语，叫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</a:rPr>
              <a:t>我还能说这样的词语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</a:rPr>
              <a:t>……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内容占位符 2"/>
          <p:cNvSpPr/>
          <p:nvPr/>
        </p:nvSpPr>
        <p:spPr>
          <a:xfrm>
            <a:off x="1571760" y="3571920"/>
            <a:ext cx="15001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皮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头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果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内容占位符 2"/>
          <p:cNvSpPr/>
          <p:nvPr/>
        </p:nvSpPr>
        <p:spPr>
          <a:xfrm>
            <a:off x="4500720" y="3571920"/>
            <a:ext cx="15001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地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蘑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1177200" y="3571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1177920" y="4286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1177920" y="5072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3963960" y="3571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3963960" y="4286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4035240" y="5072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7643880" y="3500280"/>
            <a:ext cx="15001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7178760" y="3500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7250040" y="4214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7250040" y="5000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s://w4.sanwen8.cn/mmbiz_jpg/sGSEPMneVfspAxXVrskbu7faskhHF76b7VlhdolwzegibmKS8QUf9dK3793aZwmh3ibvHjjrewRGBictXGkqh9dDg/640?"/>
          <p:cNvPicPr/>
          <p:nvPr/>
        </p:nvPicPr>
        <p:blipFill>
          <a:blip r:embed="rId2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s://w4.sanwen8.cn/mmbiz_jpg/sGSEPMneVfspAxXVrskbu7faskhHF76bR0KGRETC1wicdk8gqHyfopJQYMNj6oiaOmXXbh316gibjCCoHmNwnOo3Q/640?"/>
          <p:cNvPicPr/>
          <p:nvPr/>
        </p:nvPicPr>
        <p:blipFill>
          <a:blip r:embed="rId3"/>
          <a:stretch/>
        </p:blipFill>
        <p:spPr>
          <a:xfrm>
            <a:off x="4651200" y="0"/>
            <a:ext cx="44928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0" y="14288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0" y="4143240"/>
            <a:ext cx="15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4643280" y="2858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464328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857240" y="357120"/>
            <a:ext cx="79297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玩，很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独自一个，静悄悄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好用纸折船、折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踢毽子，跳绳，搭积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还有看书，画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音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07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8172360" y="638172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83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"/>
            <p:cNvPicPr/>
            <p:nvPr/>
          </p:nvPicPr>
          <p:blipFill>
            <a:blip r:embed="rId2"/>
            <a:stretch/>
          </p:blipFill>
          <p:spPr>
            <a:xfrm>
              <a:off x="4622760" y="0"/>
              <a:ext cx="45212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矩形 2"/>
          <p:cNvSpPr/>
          <p:nvPr/>
        </p:nvSpPr>
        <p:spPr>
          <a:xfrm>
            <a:off x="4196880" y="62064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折纸船、纸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zcwin.com/d/file/jk/jkcs/2014-06-30/d5088661f55ee9e6319dd964b59029a3.jpg"/>
          <p:cNvPicPr/>
          <p:nvPr/>
        </p:nvPicPr>
        <p:blipFill>
          <a:blip r:embed="rId1"/>
          <a:stretch/>
        </p:blipFill>
        <p:spPr>
          <a:xfrm>
            <a:off x="571680" y="1357200"/>
            <a:ext cx="3892320" cy="5214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a3.att.hudong.com/47/11/01300000086609122743111601808_s.gif"/>
          <p:cNvPicPr/>
          <p:nvPr/>
        </p:nvPicPr>
        <p:blipFill>
          <a:blip r:embed="rId2"/>
          <a:stretch/>
        </p:blipFill>
        <p:spPr>
          <a:xfrm>
            <a:off x="4643280" y="2428920"/>
            <a:ext cx="4158000" cy="3786120"/>
          </a:xfrm>
          <a:prstGeom prst="rect">
            <a:avLst/>
          </a:prstGeom>
          <a:ln w="0">
            <a:noFill/>
          </a:ln>
        </p:spPr>
      </p:pic>
      <p:sp>
        <p:nvSpPr>
          <p:cNvPr id="248" name="内容占位符 2"/>
          <p:cNvSpPr/>
          <p:nvPr/>
        </p:nvSpPr>
        <p:spPr>
          <a:xfrm>
            <a:off x="3357720" y="928800"/>
            <a:ext cx="61434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踢毽子   跳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857240" y="357120"/>
            <a:ext cx="79297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玩，很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独自一个，静悄悄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好用纸折船、折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踢毽子，跳绳，搭积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还有看书，画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音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07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20:12Z</dcterms:created>
  <dc:creator>Administrator</dc:creator>
  <dc:description/>
  <dc:language>en-US</dc:language>
  <cp:lastModifiedBy>微软用户</cp:lastModifiedBy>
  <dcterms:modified xsi:type="dcterms:W3CDTF">2019-03-29T14:45:48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