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4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B12-DE48-4F81-8C43-A10B1AFD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7D3C-0BE0-4907-923F-01879F5E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8DDA-437D-4B17-A941-EB4544D5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6FDE-7E1F-4EF9-8310-80DDF88F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D166-A22C-4341-B7EC-19F86E5B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7C05-3F57-4289-8B81-EBCAAEA0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699D-CEA3-441F-B8D4-EA5D49F9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6013-82C9-4FC7-A4DD-3C5AFFFD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6869-3A02-4711-8D8A-884DD5A2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DF59-80BD-4164-A4E8-E793C101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8008-2252-4D1E-8056-940E7EA1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3C54-D216-43F8-9E5E-AFFDAA02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3042-BD9A-4CD9-BA4C-A9DF6F74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7603-FBDC-48F5-8CE5-53F43BF9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E206-0CC8-4EE7-A2CF-BFE97F20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8762-177A-48AF-A211-7CF85AF7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29C1-00E3-4C87-8CB7-3053C794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670D3-1432-41C6-BDF6-6AC52313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48DF9-2FFC-401D-887E-E2954788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AA158-E2CE-4BC2-8EEB-C89E2305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1EC58-16C4-467C-9A6A-977CF642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66AF0-0176-4402-9FE3-B7E936D7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5319-CCCE-4ACA-8491-86A5A9EF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8159E-9DF3-44A1-A66D-F6B9BE0A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9BAAD-7B78-4EFD-B078-8B9DD86A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36130-A2B7-4067-865F-4E7C00CC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EFF29-7E98-431E-A3C4-84B86F24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519FC-ED73-4667-8109-70FB109E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4AF24-22DA-43A0-A4DF-839F120F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652FB-ECF0-4E29-8069-B1250C63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23F73-61AA-4D69-8513-497A124F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9F82A-2F1B-4AF2-B7CA-698080DC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1DE0C-D416-4ACF-92F2-29A4A69B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123B-F03D-44DC-B464-25E098F7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4B47E-66E9-4E00-8FEE-EC0BF3D1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C0679-4DFD-45EC-BA65-98D3AE9C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EBAD1-EF34-476D-9DDD-2E895C1E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B6A5D-EC31-4723-B3EB-3DC2AFEE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72B76-A125-437B-BF7B-DACA41FE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49EA7-83FD-4FA1-B8AF-64CE2500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57AED-68DF-407B-BB6C-335A7EE8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29BC7-8153-4F97-924D-E34D2DAB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6422B-E05F-4184-90B1-0D523342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29B82-08D5-43E8-9B5D-8F6B7C55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62B-378C-4668-AE18-94A16DF4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0DE325-0511-415D-A101-3B46796C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168DD-8D4D-4987-95F4-95380D91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2FEA71-5AAF-4098-8751-55C861D2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6D1306-2ED0-4C4F-B6B7-D5D4EAA1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640421-4C49-4A5E-AA0C-388D0F51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86FFF-FA39-4D78-A877-1A1599AB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23741D-091B-42DE-A6BE-5B554DF2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F52141-EB73-440C-8A46-F286A009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63AA13-EB88-48BD-95F7-36017D0F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C524D-3C3D-44D9-BA80-0BC80EC0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A4F-2BBF-40B7-9217-A8FBC8A7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73440-3F4B-43FB-BF68-A9ACA4F9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D9831-795A-47F9-85A8-ACEF7A26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540B8-525F-4A41-8056-B8670AC8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86CC7-94AA-4804-B4C5-FAA5B6AC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C80B9-0741-4A60-99DC-62AF89DD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5AC1A-1808-4D7E-900A-1A6009B2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9AC64-09FE-4BC7-AE44-BD74CCB6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1926F-29D1-4714-87C3-1F5996DE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F4FDC-387D-4266-B39B-93F03E17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49ABB-E63E-4F51-AD0F-FA941437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1BE-0E4A-43FE-9213-B9481332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F1628-AA05-4169-80BB-0FAA059D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7C263-6C2A-475D-887A-40B7BDE3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DEB07-73F9-4D3D-A1DA-C69C6769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0274-7C90-4AF3-837F-CB2BA166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B27-30EA-4596-AC34-68863267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145C-B6FB-4862-9759-19F4A9E361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5BDD-C3DF-444E-819E-22BA15D8AC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3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030E-D67C-4F50-A572-C02DCB3233A9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28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8F7F-A4FA-41DE-859E-E0FB8A37420E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6B73-00CA-4F92-9A4D-192EB1ED7EAF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F1D7-9705-44E8-8E61-CB4DB93D4915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981080"/>
          </a:xfrm>
          <a:prstGeom prst="rect">
            <a:avLst/>
          </a:prstGeom>
          <a:solidFill>
            <a:srgbClr val="ccffcc">
              <a:alpha val="4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走马川行奉送出师西征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779640" y="4005000"/>
            <a:ext cx="2447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岑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-420120"/>
            <a:ext cx="7696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-360" y="-892440"/>
            <a:ext cx="8915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势险节短。句句用韵，三句一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清   沈德潜《唐诗别裁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险绝怕绝，中夜读之，毛发竖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清   宋宗元《网师园唐诗笺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299736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哪些景物描写体现了边塞的雄浑壮美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联系诗句说说人物的豪迈与英雄气概是如何表现出来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体会诗中作者表达了怎样的情感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91440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赏析诗文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66cc"/>
                </a:solidFill>
                <a:latin typeface="华文中宋"/>
                <a:ea typeface="华文中宋"/>
              </a:rPr>
              <a:t>  </a:t>
            </a:r>
            <a:r>
              <a:rPr b="0" lang="zh-CN" sz="4000" spc="-1" strike="noStrike">
                <a:solidFill>
                  <a:srgbClr val="6666cc"/>
                </a:solidFill>
                <a:latin typeface="华文中宋"/>
                <a:ea typeface="华文中宋"/>
              </a:rPr>
              <a:t>出征的自然环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君不见，走马川行雪海边，平沙茫茫黄入天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轮台九月风夜吼，一川碎石大如斗，随风满地石乱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9" dur="indefinite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0" dur="indefinite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出征的原因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匈奴草黄马正肥，金山西见烟尘飞，汉家大将西出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50920" y="414972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1205a"/>
                </a:solidFill>
                <a:latin typeface="Times New Roman"/>
              </a:rPr>
              <a:t>一场正义的反侵略战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ffff"/>
                </a:solidFill>
                <a:latin typeface="Arial"/>
              </a:rPr>
              <a:t>出征行军的情况</a:t>
            </a:r>
            <a:r>
              <a:rPr b="0" lang="zh-CN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将军金甲夜不脱，半夜军行戈相拨，风头如刀面如割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马毛带雪汗气蒸，五花连钱旋作冰，幕中草檄砚水凝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066680" y="17524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全诗句句用韵，三句一转，节奏急切有力，激越豪壮，别具一格，有如音乐中的进行曲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10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白雪歌送武判官归京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北风卷地白草折，胡天八月即飞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忽如一夜春风来，千树万树梨花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散入珠帘湿罗幕，胡裘不暖锦衾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军角弓不得控，都户铁衣冷难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瀚海阑干百丈冰，愁云惨淡万里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军置酒饮归客，胡琴琵琶与羌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纷纷暮雪下辕门，风掣红旗冻不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轮台东门送君去，去时雪满天山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回路转不见君，雪上空留马行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508800" y="4508640"/>
            <a:ext cx="2635200" cy="23493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427640" y="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华文琥珀"/>
              </a:rPr>
              <a:t>对比鉴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27640" y="620640"/>
            <a:ext cx="2772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这两首诗描写的景物有什么相同之处？有什么不同之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你觉得这两首诗作者抒发的感情有什么不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《白雪歌送武判官归京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奇而婉，侧重在表现边塞绮丽瑰异的风光，给人以清新俊逸之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奇的比喻——抓住雪的洁白、鲜润的特点。千树万树梨花开，突出了雪的壮观景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《走马川行奉送出师西征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是奇而壮——风沙的猛烈、人物的豪迈，给人雄浑壮美之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君不见走马川，雪海边，平沙茫茫黄入天。轮台九月风夜吼，一川碎石大如斗，随风满地石乱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两首诗描写的景物有什么相同之处？有什么不同之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你觉得这两首诗作者抒发的感情有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艺术特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675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艺术技巧：夸张、反衬和细节描写，以环境的艰苦反衬战士的斗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课后练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岑参诗的特点是意奇语奇，尤其是他的边塞诗，这一特色非常突出。诵读《走马川行奉送出师西征》，找出其中的“奇语”，并简要分析其表达效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风格：雄浑豪壮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438280" y="1066680"/>
            <a:ext cx="54864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　　边塞诗主要是结合雄伟、壮阔的边塞景色的描写，表现边塞将士驰骋沙场、抗敌御侮的爱国思想和豪情壮志，风格奔放雄伟，豪迈悲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0e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85800" y="549360"/>
            <a:ext cx="784872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0e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85800" y="620640"/>
            <a:ext cx="784692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0e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684360" y="609480"/>
            <a:ext cx="7850160" cy="5483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67720" y="1341360"/>
            <a:ext cx="54936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0e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85800" y="620640"/>
            <a:ext cx="784872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0e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63272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32004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4343400" cy="3429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4724280" cy="3429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197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3d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2590920" y="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对比鉴赏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寄扬州韩绰判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杜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青山隐隐水迢迢，秋尽江南草未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二十四桥明月夜，玉人何处教吹箫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注释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判官，唐代节度使观察使的属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二十四桥，唐时扬州市井繁华，共有二十四座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思考讨论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两首诗中的意象有什么不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两首诗中作者表达的感情有什么不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238880" y="4495680"/>
            <a:ext cx="20574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981080" y="1066680"/>
            <a:ext cx="5493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472428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岑参（约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15—77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唐代诗人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荆州江陵（今属湖北）人，郡望南阳。曾祖父文本、伯祖长倩、伯父羲皆以文辞致位宰相。参少孤，从兄读书，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遍读经史，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岁至长安求仕不成，奔走京洛，漫游河朔。天宝三载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4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中进士八载、十三载两次出塞任职。大历间官至嘉州刺吏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世称“岑嘉州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严羽说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“高岑之诗悲壮，读之使人感激。”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沧浪诗话》）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华文楷体"/>
                <a:ea typeface="华文楷体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876920" y="-914400"/>
            <a:ext cx="4267080" cy="80773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2286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286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49528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岑参的诗境界空前开阔，</a:t>
            </a:r>
            <a:r>
              <a:rPr b="1" lang="zh-CN" sz="3200" spc="-1" strike="noStrike">
                <a:solidFill>
                  <a:srgbClr val="ff3300"/>
                </a:solidFill>
                <a:latin typeface="华文楷体"/>
                <a:ea typeface="华文楷体"/>
              </a:rPr>
              <a:t>雄奇瑰丽的浪漫色彩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成为他边塞诗的基调。他既热情歌颂了唐军的勇武和战功，也委婉揭示了战争的残酷和悲惨。火山云，天山雪，热海蒸腾，瀚海奇寒，狂风卷石，黄沙入天等异域风光，也均融入其诗。代表作有《白雪歌》、《走马川行》、《轮台歌》。</a:t>
            </a:r>
            <a:r>
              <a:rPr b="1" lang="zh-CN" sz="3200" spc="-1" strike="noStrike">
                <a:solidFill>
                  <a:srgbClr val="ff3300"/>
                </a:solidFill>
                <a:latin typeface="华文楷体"/>
                <a:ea typeface="华文楷体"/>
              </a:rPr>
              <a:t>与高适并称为“高岑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学习目标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理解诗文“意奇语奇”的特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把握岑参诗的艺术风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Arial"/>
              </a:rPr>
              <a:t>背景：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首诗是岑参任西北庭节度判官时写的。这期间，封常清曾几次出兵作战。岑参对当时征战的艰苦、胜利的欢乐，都有比较深的体会，曾经写了不少诗歌来反映。有一次，封常清出兵去征播仙，岑参写了这首诗为他送行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37160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15238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1371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4038480"/>
            <a:ext cx="8964720" cy="164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岑参歌颂慷慨报国的英雄气概和不畏艰难的乐观精神；艺术上气势雄伟，想象丰富，夸张大胆，色彩绚丽，造意新奇，他擅长以七言歌行描绘壮丽多姿的边塞风光，抒发豪放奔腾的感情</a:t>
            </a:r>
            <a:r>
              <a:rPr b="1" lang="zh-CN" sz="3400" spc="-1" strike="noStrike">
                <a:solidFill>
                  <a:srgbClr val="808080"/>
                </a:solidFill>
                <a:latin typeface="华文楷体"/>
                <a:ea typeface="华文楷体"/>
              </a:rPr>
              <a:t>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君不见，走马川行雪海边，平沙茫茫黄入天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轮台九月风夜吼，一川碎石大如斗，随风满地石乱走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匈奴草黄马正肥，金山西见烟尘飞，汉家大将西出师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将军金甲夜不脱，半夜军行戈相拨，风头如刀面如割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马毛带雪汗汽蒸，五花连钱旋作冰，幕中草檄砚水凝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宋体"/>
              </a:rPr>
              <a:t>虏骑闻之应胆慑，料知短兵不敢接，车师西门伫献捷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走马川行奉送出师西征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95680" y="457200"/>
            <a:ext cx="14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41a2a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0" y="29714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-609480" y="-380880"/>
            <a:ext cx="11430000" cy="72388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393920" y="136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-181080" y="2060640"/>
            <a:ext cx="1264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    </a:t>
            </a:r>
            <a:r>
              <a:rPr b="1" lang="zh-CN" sz="8000" spc="-1" strike="noStrike">
                <a:solidFill>
                  <a:srgbClr val="ffff00"/>
                </a:solidFill>
                <a:latin typeface="黑体"/>
                <a:ea typeface="黑体"/>
              </a:rPr>
              <a:t>雄浑、壮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03:13:44Z</dcterms:created>
  <dc:creator>m</dc:creator>
  <dc:description/>
  <dc:language>en-US</dc:language>
  <cp:lastModifiedBy>fxzm</cp:lastModifiedBy>
  <dcterms:modified xsi:type="dcterms:W3CDTF">2008-03-13T02:16:43Z</dcterms:modified>
  <cp:revision>33</cp:revision>
  <dc:subject/>
  <dc:title>走马川行奉送出师西征    岑参</dc:title>
</cp:coreProperties>
</file>