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96E-6782-4592-8B05-81716557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D390-40DA-417D-80A2-27F7260E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478-43C8-41E2-9888-7ED12EA5A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03BA-86A9-40E6-9C0B-3215F2997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92C-D8BB-490A-8C04-3B48690DE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46C2-11AA-4D61-BF2B-0543D7FED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0629-F758-41E8-A3DA-80DD3655E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40B0-CA7D-4E18-A215-57BBDE46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754-FC0D-4D25-83C4-1F0936DF9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83D-103C-46E5-BF46-A0EABF7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ADF-0177-4489-9A85-2C75493B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777-5943-4D43-B458-5422AB71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D935-7B99-480A-9BD9-39A5340E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6D2-CBD2-4CCA-A635-4757033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2C0-501C-4402-98E2-6B682171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536-6FB9-4D5D-9EA1-8287B19E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F81-E626-440E-92AE-B470CD9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115-A824-4A81-947E-10CBF688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AEA6-0B1A-46E0-9C24-972E172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EE6-A086-47A3-8985-5A59AA3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28B2-4FD1-4777-94DF-107DAE2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02D-7610-461F-AE4C-20DC5C99D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7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40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走马川行雪海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-179280" y="-10044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不见，走马川行雪海边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沙莽莽黄入天。轮台九月风夜吼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川碎石大如斗，随风满地石乱走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匈奴草黄马正肥，金山西见烟尘飞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汉家大将西出师。将军金甲夜不脱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夜军行戈相拨，风头如刀面如割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毛带雪汗气蒸，五花连钱旋作冰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幕中草檄砚水凝。虏骑闻之应胆慑，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知短兵不敢接，车师西门伫献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-36360" y="549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难道不曾看见，辽阔的走马川，紧连雪海边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-36360" y="131616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浩瀚的沙漠，黄沙滚滚接蓝天。轮台九月的秋风，随着夜晚在吼叫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-36360" y="1989000"/>
            <a:ext cx="95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马川的碎石，一块块如斗一般大。随着狂风席卷，满地乱石飞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-36360" y="27558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匈奴草场变黄，正是秋高马肥，金山西面胡骑乱边，烟尘乱飞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-36360" y="3500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汉家的大将军，奉命率兵西征。将军身著铠甲，日夜未曾脱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-36360" y="4221000"/>
            <a:ext cx="91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半夜行军，战士戈矛互相撞拨，凛冽寒风吹来，人面有如刀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-36360" y="4941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马背上雪花，被汗气熏化蒸发，五花马的斑纹，旋即就结成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-36360" y="5708520"/>
            <a:ext cx="87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军帐中，起草檄文砚水也冻凝。匈奴骑兵，个个闻风心惊胆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36360" y="64008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早就料到，他们不敢短兵相接，只在车师西门，等待献俘报捷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04000" y="189000"/>
            <a:ext cx="205740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翻译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:\新建文件夹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55640" y="13255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层：极力渲染环境恶劣、风沙遮天蔽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6607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层：写匈奴借草黄马壮之机入侵，而封将军不畏天寒地冻、严阵以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6386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三层：写敌军闻风丧胆，预祝凯旋而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大声朗读这首诗，将其分为三层并概括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81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经典诗句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君不见，走马川行雪海边，平沙莽莽黄入天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6560" y="1268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首先围绕“风”字落笔，描写出征的自然环境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次出征将经过走马川、雪海边，穿进戈壁沙漠。“平沙莽莽黄入天”，这是典型的绝域风沙景色，狂风怒卷，黄沙飞扬，遮天蔽日，迷迷蒙蒙，一派混沌的景象。开头三句无一“风”字，但捕捉住了风“色”，把风的猛烈写得历历在目。这是白天的景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40" y="3557520"/>
            <a:ext cx="91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轮台九月风夜吼，一川碎石大如斗，随风满地石乱走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265640"/>
            <a:ext cx="8172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风由暗写转入明写，行军由白日而入黑夜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风“色”是看不见了，便转到写风声。狂风象发疯的野兽，在怒吼，在咆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“吼”字形象地显示了风猛风大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接着又通过写石头来写风。斗大的石头，居然被风吹得满地滚动，再著一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乱”字，就更表现出风的狂暴。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沙莽莽”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天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“石乱走”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三言两语就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环境的险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生动地勾勒出来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381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经典诗句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匈奴草黄马正肥，金山西见烟尘飞，汉家大将西出师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48428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匈奴利用草黄马肥的时机发动了进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烟尘飞”三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形容报警的烽烟同匈奴铁骑卷起的尘土一起飞扬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既表现了匈奴军旅的气势，也说明了唐军早有戒备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诗由造境转而写人，诗歌的主人公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顶风冒寒前进着的唐军将士出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军金甲夜不脱，半夜军行戈相拨，风头如刀面如割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200" y="407664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环境是夜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以夜不脱甲，写将军重任在肩，以身作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半夜行军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从“戈相拨”的细节可以想见夜晚一片漆黑，和大军衔枚疾走、军容整肃严明的情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边地的严寒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不写千丈之坚冰，而是通过几个细节来描写来表现的呼应前面风的描写；同时也是大漠行军最真切的感受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89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毛带雪汗气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花连钱旋作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幕中草檄砚水凝 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19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经典诗句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1841400"/>
            <a:ext cx="73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三句是表现行军和临战时的艰苦环境与紧张气氛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战马在寒风中奔驰，那蒸腾的汗水，立刻在马毛上凝结成冰。诗人抓住了马身上那凝而又化、化而又凝的汗水进行细致的刻画，以少胜多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充分渲染了天气的严寒，环境的艰苦和临战的紧张气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军幕中起草檄文时，发现连砚水也冻结了。诗人巧妙地抓住了这个细节，笔墨酣畅地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现出将士们斗风傲雪的战斗豪情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样的军队必然无人能敌。这就引出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最后三句，料想敌军闻风丧胆，预祝凯旋而归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行文就象水到渠成一样自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80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反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手法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用环境的恶劣极力渲染了人物的勇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艺术手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263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大胆运用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夸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手法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又与贴切的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比喻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连在一起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使形象更加鲜明生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58136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细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刻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7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5410080" cy="5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白雪歌送武判官归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601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风卷地白草折，胡天八月即飞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忽如一夜春风来，千树万树梨花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散入珠帘湿罗幕，胡裘不暖锦衾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军角弓不得控，都户铁衣冷难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瀚海阑干百丈冰，愁云惨淡万里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军置酒饮归客，胡琴琵琶与羌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纷纷暮雪下辕门，风掣红旗冻不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轮台东门送君去，去时雪满天山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回路转不见君，雪上空留马行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52261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这两首诗描写的景物有什么异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你觉得这两首诗作者抒发的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5641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的是雄奇豪壮的边塞风光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的是边地雪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16572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暗示冒雪征战之伟功；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白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寄寓送别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6420240" y="1219680"/>
            <a:ext cx="3529080" cy="1467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对比鉴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轮台歌奉送封大夫出师西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轮台城头夜吹角，轮台城北旄头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羽书昨夜过渠黎，单于已在金山西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戍楼西望烟尘黑，汉兵屯在轮台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将拥旄西出征，平明吹笛大军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边伐鼓雪海涌，三军大呼阴山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虏塞兵气连云屯，战场白骨缠草根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剑河风急云片阔，沙口石冻马蹄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亚相勤王甘苦辛，誓将报主静边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来青史谁不见，今见功名胜古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b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Nicea15"/>
          <p:cNvPicPr/>
          <p:nvPr/>
        </p:nvPicPr>
        <p:blipFill>
          <a:blip r:embed="rId3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35280" y="620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别董大（其一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千里黄云白日曛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北风吹雁雪纷纷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莫愁前路无知己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　天下谁人不识君！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0720" y="404640"/>
            <a:ext cx="56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诗词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30" descr="Nicea15"/>
          <p:cNvPicPr/>
          <p:nvPr/>
        </p:nvPicPr>
        <p:blipFill>
          <a:blip r:embed="rId2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夜光杯"/>
          <p:cNvPicPr/>
          <p:nvPr/>
        </p:nvPicPr>
        <p:blipFill>
          <a:blip r:embed="rId3"/>
          <a:stretch/>
        </p:blipFill>
        <p:spPr>
          <a:xfrm>
            <a:off x="539640" y="4653000"/>
            <a:ext cx="2340000" cy="1882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64520" y="547560"/>
            <a:ext cx="529848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凉州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葡萄美酒夜光杯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欲饮琵琶马上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醉卧沙场君莫笑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古来征战几人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30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767720" y="1341360"/>
            <a:ext cx="549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平沙茫茫黄入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e"/>
          <p:cNvPicPr/>
          <p:nvPr/>
        </p:nvPicPr>
        <p:blipFill>
          <a:blip r:embed="rId1"/>
          <a:stretch/>
        </p:blipFill>
        <p:spPr>
          <a:xfrm>
            <a:off x="-36360" y="-27000"/>
            <a:ext cx="6984720" cy="688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Nicea15"/>
          <p:cNvPicPr/>
          <p:nvPr/>
        </p:nvPicPr>
        <p:blipFill>
          <a:blip r:embed="rId2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85000" y="0"/>
            <a:ext cx="2151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军行       王昌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海长云暗雪山，孤城遥望玉门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黄沙百战穿金甲，不破楼兰终不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838080" y="5335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走马川行奉送出师西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12000" y="1484280"/>
            <a:ext cx="10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岑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歌行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歌行体的特点是格式节奏上没有严格要求，也不讲究平仄，字数五七言为主，可参差不齐，可变韵。亦称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古诗、古风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就是歌行体的一种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岑参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岑参（约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715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～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770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　　唐代诗人。出身仕宦家庭。早岁孤贫，遍读经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　　天宝三载（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744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）中进士。八载、十三载两次出塞任职。大历间官至嘉州刺吏，世称岑嘉州。后罢官，客死成都旅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7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岑参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2560" y="90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六年边塞生活，使岑参的诗境界空前开阔，造意新奇的特色进一步发展，雄奇瑰丽的浪漫色彩成为他边塞诗的基调。他既热情歌颂了唐军的勇武和战功，也委婉揭示了战争的残酷和悲惨。火山云，天山雪，热海蒸腾，瀚海奇寒，狂风卷石，黄沙入天等异域风光，也均融入其诗。代表作有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白雪歌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走马行川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轮台歌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:\新建文件夹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50920" y="1197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岑参与另一位边塞诗人高适齐名，世称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岑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。岑参中年以后几度出塞，对军旅生活和边地风光有着切身的体会，他的诗，写大漠风烟，写荒崖古道，写城障要塞，都来自亲身的感受，因此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楷体"/>
              </a:rPr>
              <a:t>独创性很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。他和杜甫是好朋友，杜甫曾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岑参兄弟皆好奇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可以说一语道出了他的个性。岑参的诗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楷体"/>
              </a:rPr>
              <a:t>气势宏大，风格奇峭，想像丰富，色彩绚丽，并充满乐观进取的精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。这些艺术特色，很好地体现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走马川行奉送出师西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一诗中。歌行体是岑参最为擅长的诗体，这首诗将悲壮的军旅生活描绘得流畅洒脱，意气飞扬，英气勃勃，豪情澎湃。读之令人心快，在唐诗中也是不可多得的佳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11280" y="33336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岑诗的艺术特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9640" y="1050840"/>
            <a:ext cx="77724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900000" y="2419200"/>
            <a:ext cx="7488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人在任安西北庭节度判官时，封常清出兵去征播仙，他便写了这首诗为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封常清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送行，并预祝征战将士凯旋而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沙尘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0" y="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533520" y="304920"/>
            <a:ext cx="822960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走马川行奉送出师西征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岑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 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君不见，走马川行雪海边，平沙莽莽黄入天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轮台九月风夜吼，一川碎石大如斗，随风满地石乱走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匈奴草黄马正肥，金山西见烟尘飞，汉家大将西出师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将军金甲夜不脱，半夜军行戈相拨，风头如刀面如割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马毛带雪汗气蒸，五花连钱旋作冰，幕中草檄砚水凝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ffcc99"/>
                </a:solidFill>
                <a:latin typeface="宋体"/>
              </a:rPr>
              <a:t>虏骑闻之应胆慑，料之短兵不敢接，车师西门伫献捷。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7564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7139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0:58:53Z</dcterms:created>
  <dc:creator>st</dc:creator>
  <dc:description/>
  <dc:language>en-US</dc:language>
  <cp:lastModifiedBy>迅捷科技</cp:lastModifiedBy>
  <dcterms:modified xsi:type="dcterms:W3CDTF">2014-03-13T12:44:47Z</dcterms:modified>
  <cp:revision>52</cp:revision>
  <dc:subject/>
  <dc:title>PowerPoint 演示文稿</dc:title>
</cp:coreProperties>
</file>