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9C0-803B-4564-BC95-72298421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A31-A62B-4F5A-BEC0-65FEC13B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629-6F10-4DA7-95C2-0C8E45BF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A45-33DD-44E0-BE18-3F3F9A8A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7CD-E160-4551-81D9-C1B369C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E46-4414-4AFB-868C-D299EED5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5C1-05E3-48FA-96C5-4D5185CC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01B-F7CE-4FF0-BEA9-6815FDD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0CB-0520-4C7A-97E0-F514E7D6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B72-55C4-4570-8142-E1A9595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DDB-CC02-41D8-ADDA-424025E2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020-BC84-4413-ADF2-52AD7B1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0" descr="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4DC-B4C3-4CDE-BBD7-42AC34657F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7409" descr="U347P249T56D48F1606DT2004082805501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矩形 17410"/>
          <p:cNvSpPr txBox="1"/>
          <p:nvPr/>
        </p:nvSpPr>
        <p:spPr>
          <a:xfrm>
            <a:off x="990720" y="1066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宋体"/>
              </a:rPr>
              <a:t>冲刺中考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6625" descr="离子正误判断"/>
          <p:cNvPicPr/>
          <p:nvPr/>
        </p:nvPicPr>
        <p:blipFill>
          <a:blip r:embed="rId1"/>
          <a:stretch/>
        </p:blipFill>
        <p:spPr>
          <a:xfrm>
            <a:off x="74520" y="50760"/>
            <a:ext cx="8994960" cy="6754680"/>
          </a:xfrm>
          <a:prstGeom prst="rect">
            <a:avLst/>
          </a:prstGeom>
          <a:ln w="0">
            <a:noFill/>
          </a:ln>
        </p:spPr>
      </p:pic>
      <p:sp>
        <p:nvSpPr>
          <p:cNvPr id="69" name="矩形 26626"/>
          <p:cNvSpPr/>
          <p:nvPr/>
        </p:nvSpPr>
        <p:spPr>
          <a:xfrm>
            <a:off x="0" y="1417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复习间歇适当地运动，劳逸结合考前的紧张复习，会令人感觉满脑子的公式、定律、单词，昏昏沉沉地非常难受。这时不妨作些适当的运动或娱乐，如散步、爬山、打球、听音乐等，一可消除脑部的疲劳、二可让我们的紧张的气氛中解脱出来。但是有输赢的娱乐活动不宜多做，非但不能调节情绪，反而使人难以平静，回复到功课上。</a:t>
            </a:r>
            <a:br>
              <a:rPr sz="10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27649" descr="back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矩形 27650"/>
          <p:cNvSpPr/>
          <p:nvPr/>
        </p:nvSpPr>
        <p:spPr>
          <a:xfrm>
            <a:off x="0" y="1143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平时做题量要足够，见过的题型越多，越不害怕。所以不要忽视平时老师发的练习，练习当作考试，考试时就像做练习一样如履平地，就要达到这样的境界。</a:t>
            </a:r>
            <a:br>
              <a:rPr sz="1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28673" descr="浪漫式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矩形 28674"/>
          <p:cNvSpPr/>
          <p:nvPr/>
        </p:nvSpPr>
        <p:spPr>
          <a:xfrm>
            <a:off x="0" y="29718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晚上做完作业后，先做一些轻微的锻炼，睡觉时不要控制自己的想法，不要说别想了赶快睡吧，也不要数数，因为越是提醒自己越是把自己唤醒，身体疲劳了，就不想那么多了，就入睡了。</a:t>
            </a:r>
            <a:br>
              <a:rPr sz="32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9697" descr="历史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29698"/>
          <p:cNvSpPr/>
          <p:nvPr/>
        </p:nvSpPr>
        <p:spPr>
          <a:xfrm>
            <a:off x="0" y="144792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紧张的时候不要控制自己情绪，对自己说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豁出去了，紧张去吧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钟之内紧张情绪就过去了。紧张就象一个看不到底的黑洞，很深。但只要你勇敢地跳过去，回过头来看看原来是那么简单，可以逾越的。</a:t>
            </a:r>
            <a:br>
              <a:rPr sz="36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30721" descr="美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30722"/>
          <p:cNvSpPr/>
          <p:nvPr/>
        </p:nvSpPr>
        <p:spPr>
          <a:xfrm>
            <a:off x="0" y="1523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(6)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加强定期的体育锻炼，不要因为体育测试结束而中止运动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174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矩形 31746"/>
          <p:cNvSpPr/>
          <p:nvPr/>
        </p:nvSpPr>
        <p:spPr>
          <a:xfrm>
            <a:off x="0" y="609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冲刺阶段的高效复习技巧</a:t>
            </a: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1747"/>
          <p:cNvSpPr/>
          <p:nvPr/>
        </p:nvSpPr>
        <p:spPr>
          <a:xfrm>
            <a:off x="0" y="1828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   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 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用孙子兵法复习备考，可以助你决胜于千里之外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32769" descr="1546391103787999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2770" descr="15463911037879992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32771"/>
          <p:cNvSpPr/>
          <p:nvPr/>
        </p:nvSpPr>
        <p:spPr>
          <a:xfrm>
            <a:off x="0" y="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四、临场发挥策略</a:t>
            </a:r>
            <a:br>
              <a:rPr sz="10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2772"/>
          <p:cNvSpPr/>
          <p:nvPr/>
        </p:nvSpPr>
        <p:spPr>
          <a:xfrm>
            <a:off x="0" y="685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整体把握，先易后难，合理取舍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2773"/>
          <p:cNvSpPr/>
          <p:nvPr/>
        </p:nvSpPr>
        <p:spPr>
          <a:xfrm>
            <a:off x="0" y="17524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自信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2774"/>
          <p:cNvSpPr/>
          <p:nvPr/>
        </p:nvSpPr>
        <p:spPr>
          <a:xfrm>
            <a:off x="1330200" y="355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2775"/>
          <p:cNvSpPr/>
          <p:nvPr/>
        </p:nvSpPr>
        <p:spPr>
          <a:xfrm>
            <a:off x="0" y="2438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于难题，做到“你难我难大家难，我不畏难”，在心理上就占上风；对于容易题，做到“你易我易大家易，我不大意！”如果怯场，心理暗示：告诉自己：我能行！我一定行！控制情绪的练习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3793" descr="350f5896c22c3ab1ec69dec216e801f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3379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什么时候改变答案？（明显错误，模棱两可，就相信自己的直觉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3795"/>
          <p:cNvSpPr/>
          <p:nvPr/>
        </p:nvSpPr>
        <p:spPr>
          <a:xfrm>
            <a:off x="0" y="1447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检查的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3796"/>
          <p:cNvSpPr/>
          <p:nvPr/>
        </p:nvSpPr>
        <p:spPr>
          <a:xfrm>
            <a:off x="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区别对待不同的题目（有把握，无把握，作记号，最后必须消除记号）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797"/>
          <p:cNvSpPr/>
          <p:nvPr/>
        </p:nvSpPr>
        <p:spPr>
          <a:xfrm>
            <a:off x="0" y="403848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摆脱第一遍做法的影响，把题目当作第一次接触，最好不阅读第一次答题的过程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4817" descr="b316b7bb7b626b7d05dc159d3e8404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34818"/>
          <p:cNvSpPr/>
          <p:nvPr/>
        </p:nvSpPr>
        <p:spPr>
          <a:xfrm>
            <a:off x="304920" y="380880"/>
            <a:ext cx="662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最后奉送三句话：</a:t>
            </a:r>
            <a:br>
              <a:rPr sz="32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4819"/>
          <p:cNvSpPr/>
          <p:nvPr/>
        </p:nvSpPr>
        <p:spPr>
          <a:xfrm>
            <a:off x="304920" y="1371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坚持就是一种赢的姿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4820"/>
          <p:cNvSpPr/>
          <p:nvPr/>
        </p:nvSpPr>
        <p:spPr>
          <a:xfrm>
            <a:off x="22860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轻松一点，胜人一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821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 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把最美的风景带到山巅，体验登天的感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把最灿烂的笑容留到火热的六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5841" descr="xin_4a4bf16eb3ed4fd1abffe8901a3ed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矩形 35842"/>
          <p:cNvSpPr txBox="1"/>
          <p:nvPr/>
        </p:nvSpPr>
        <p:spPr>
          <a:xfrm>
            <a:off x="1447920" y="1905120"/>
            <a:ext cx="6248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祝你成功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8433" descr="青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18434"/>
          <p:cNvSpPr/>
          <p:nvPr/>
        </p:nvSpPr>
        <p:spPr>
          <a:xfrm>
            <a:off x="952560" y="1600200"/>
            <a:ext cx="7238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磨砺百日，披荆斩棘赴中考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看我刀锋锐利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奋战三月，卧薪尝胆增学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听我消息喜人。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9457" descr="PM_032"/>
          <p:cNvPicPr/>
          <p:nvPr/>
        </p:nvPicPr>
        <p:blipFill>
          <a:blip r:embed="rId1"/>
          <a:stretch/>
        </p:blipFill>
        <p:spPr>
          <a:xfrm>
            <a:off x="-223920" y="-3800520"/>
            <a:ext cx="9591840" cy="14459040"/>
          </a:xfrm>
          <a:prstGeom prst="rect">
            <a:avLst/>
          </a:prstGeom>
          <a:ln w="0">
            <a:noFill/>
          </a:ln>
        </p:spPr>
      </p:pic>
      <p:sp>
        <p:nvSpPr>
          <p:cNvPr id="47" name="矩形 19458"/>
          <p:cNvSpPr/>
          <p:nvPr/>
        </p:nvSpPr>
        <p:spPr>
          <a:xfrm>
            <a:off x="0" y="3808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兄弟酿酒的故事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谷物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米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发酵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   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密封在坛子里，九九八十一天，酿酒师一再吩咐：公鸡三啼之后再打开。弟弟按捺不住，在公鸡第一次打鸣之后匆匆打开瓶盖，结果前功尽弃，弟弟的酒是酸的。老成持重的哥哥铁定了心，一定要等到公鸡唱三唱的时候，结果哥哥酿成了醇香的美酒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0481" descr="post-10-1080691499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20482"/>
          <p:cNvSpPr/>
          <p:nvPr/>
        </p:nvSpPr>
        <p:spPr>
          <a:xfrm>
            <a:off x="304920" y="66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这个故事给我们的启示起码两点：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坚持到底就是胜利。谁能坚持到最后，谁就是最后的胜利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决定胜负的往往在最后的关键时刻，也就是我们目前的冲刺阶段。中考是综合素质的检测，既是知识、能力的考查，同时，也是心理素质的较量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1505" descr="_1079137743_ycy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21506"/>
          <p:cNvSpPr/>
          <p:nvPr/>
        </p:nvSpPr>
        <p:spPr>
          <a:xfrm>
            <a:off x="0" y="3808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冲刺阶段的最佳心态及调整</a:t>
            </a:r>
            <a:br>
              <a:rPr sz="4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507"/>
          <p:cNvSpPr/>
          <p:nvPr/>
        </p:nvSpPr>
        <p:spPr>
          <a:xfrm>
            <a:off x="0" y="1828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目前，冲刺阶段的心理状态大致分为三类：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   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松散状态。自己放弃，我只想对这些同学说：人往往不是被对手打败的，而是被自己打败的。</a:t>
            </a:r>
            <a:br>
              <a:rPr sz="1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2529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22530"/>
          <p:cNvSpPr/>
          <p:nvPr/>
        </p:nvSpPr>
        <p:spPr>
          <a:xfrm>
            <a:off x="0" y="6094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适度的紧张状态。这是主流，大部分同学是处在这种状态。有些紧张，感觉中考是一种压力，同时也是一种动力，因而目前正在进行紧张有序的复习。这是一种最佳的复习迎考状态。根据心理学家桑尼博士的理论：适度的紧张是有益的，它会促使学生做好准备，振作精神，消除杂念，提高注意力，激发潜能，让我们比平时更出色。所以，适度或者说稍微的紧张是必须的，也就是我们说的紧迫感，它能引领我们走向成功。因此，把这种状态进行到底，一直保持到中考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3553" descr="2005110142431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23554"/>
          <p:cNvSpPr/>
          <p:nvPr/>
        </p:nvSpPr>
        <p:spPr>
          <a:xfrm>
            <a:off x="0" y="10666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过分紧张。估计不多，将会导致无助、失望、消极甚至生病。因此，反作用比较大。因此，需要尽快调整。紧张的表现：比如上课、自修时的烦躁、不静心、低效学习、暂时的失眠现象等等。</a:t>
            </a:r>
            <a:br>
              <a:rPr sz="4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4577" descr="101_0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24578"/>
          <p:cNvSpPr/>
          <p:nvPr/>
        </p:nvSpPr>
        <p:spPr>
          <a:xfrm>
            <a:off x="1143000" y="533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4579"/>
          <p:cNvSpPr/>
          <p:nvPr/>
        </p:nvSpPr>
        <p:spPr>
          <a:xfrm>
            <a:off x="380880" y="380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原因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4580"/>
          <p:cNvSpPr/>
          <p:nvPr/>
        </p:nvSpPr>
        <p:spPr>
          <a:xfrm>
            <a:off x="0" y="10666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当天的学习任务未完成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4581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历次考试的失利，对自己缺乏信心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4582"/>
          <p:cNvSpPr/>
          <p:nvPr/>
        </p:nvSpPr>
        <p:spPr>
          <a:xfrm>
            <a:off x="0" y="31384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对自己的目标定得太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4583"/>
          <p:cNvSpPr/>
          <p:nvPr/>
        </p:nvSpPr>
        <p:spPr>
          <a:xfrm>
            <a:off x="0" y="411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家长的紧张情绪影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4584"/>
          <p:cNvSpPr/>
          <p:nvPr/>
        </p:nvSpPr>
        <p:spPr>
          <a:xfrm>
            <a:off x="0" y="5181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连续的紧张学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5601" descr="EJ076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25602"/>
          <p:cNvSpPr/>
          <p:nvPr/>
        </p:nvSpPr>
        <p:spPr>
          <a:xfrm>
            <a:off x="228600" y="3049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对策：</a:t>
            </a:r>
            <a:br>
              <a:rPr sz="36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5603"/>
          <p:cNvSpPr/>
          <p:nvPr/>
        </p:nvSpPr>
        <p:spPr>
          <a:xfrm>
            <a:off x="0" y="1189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正常的生活方式有的家长在考试前甚至比考生还要紧张。他们把考生当作重点保护对象，停止了家里的一切娱乐活动，连电视机都不敢开，使得家里生活气氛格外紧张，这无形中对考生施加了压力。父母这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望子成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心情是可以理解的，但我们一定要镇静，可以和父母交流一下看法，让父母放松情绪，尽量排除来自外界的一切情绪干扰。要保持平静的、正常的生活方式。因为，正常的生活方式本身就是一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镇静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3:55:51Z</dcterms:created>
  <dc:creator>微软系统</dc:creator>
  <dc:description>3edu教育网【www.3edu.net】</dc:description>
  <cp:keywords>3edu教育网【www.3edu.net】教学课件、教学试题、教案学案、教学素材</cp:keywords>
  <dc:language>en-US</dc:language>
  <cp:lastModifiedBy>k</cp:lastModifiedBy>
  <dcterms:modified xsi:type="dcterms:W3CDTF">2018-02-01T08:19:40Z</dcterms:modified>
  <cp:revision>5</cp:revision>
  <dc:subject>3edu教育网【www.3edu.net】教师助手，学生帮手，家长朋友，三星数学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