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gif" ContentType="image/gif"/>
  <Override PartName="/ppt/media/image17.jpeg" ContentType="image/jpeg"/>
  <Override PartName="/ppt/media/image14.png" ContentType="image/png"/>
  <Override PartName="/ppt/media/image4.png" ContentType="image/png"/>
  <Override PartName="/ppt/media/image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4C3-4BC5-44B0-BBE0-C9489FDB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D53-46DC-4B14-A8D1-DA6FB37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9E9-20F4-45F1-946E-FF8A5013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F30-6B8A-41BE-B713-FC0B1936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83CF-0CD1-4309-AD5C-694CA7E3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51AB-8082-4A58-9BEC-E28FBDE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B11-904B-4B64-B3B8-3A70C0C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9473-440B-4DA6-809F-98678CF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8E7-E6CD-4251-BE51-1C2C365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AEFA-47CE-45CB-87D6-3DDB782F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E572-4B56-44AE-852D-7B3CB7C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8A2-7842-4489-BB8E-612A39D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E13-674A-4C67-B8AA-690A692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95FA-71DD-4F76-B347-CB5DACB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FEE-28D7-435B-83C2-41D944D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F38-D229-456D-99FF-E4DEC1EB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A6DE-7E90-4476-A0A9-24D0FB73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DB6-99FF-437D-81BF-44D471CA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FEE-F643-4F71-ACE3-F40F9AF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A5E-4900-4398-977B-EA6D633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099-F9D6-4913-BCC8-1E530658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C37-C61D-4DDC-BD08-F9ADE03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B01-E703-49F0-8120-5CFDA26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8F5-D46E-43C3-8FCA-0CE1781B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921-358D-48AD-BF3A-9C8EE86F9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2BE9-6D08-4C8F-BFDC-8952B4779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85920"/>
            <a:ext cx="9144000" cy="761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63640" y="5445000"/>
            <a:ext cx="48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初一语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-684360"/>
            <a:ext cx="5638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人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5920" y="6678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乔安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2600" y="9590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884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休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66480" y="563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贝尔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8816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2360" y="380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836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50480" y="380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839080" cy="6705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26828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最后一片叶子是贝尔曼的杰作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因为它不仅是贝尔曼追求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年、等待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5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年的艺术结晶，还是贝尔曼人性的象征，它融进了贝尔曼的爱、善和宝贵的生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00" y="15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_x000b__x000c_"/>
                <a:ea typeface="华文行楷"/>
              </a:rPr>
              <a:t>智力冲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2728" t="11594" r="5455" b="0"/>
          <a:stretch/>
        </p:blipFill>
        <p:spPr>
          <a:xfrm>
            <a:off x="380880" y="6094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0720" y="457200"/>
            <a:ext cx="45720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Times New Roman"/>
                <a:ea typeface="隶书"/>
              </a:rPr>
              <a:t>思想火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27000" y="684720"/>
            <a:ext cx="139932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6760" y="2514600"/>
            <a:ext cx="5831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文中的人物，你喜欢谁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能说说你对这个人物的看法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56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88884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14400" y="114300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的舞台  我来展现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43080" y="53341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相信你是最优秀的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240" y="31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772400" y="5638680"/>
            <a:ext cx="974880" cy="920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11840" y="51055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学习了这篇课文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41720" y="6095880"/>
            <a:ext cx="22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你有何收获</a:t>
            </a: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720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善良是一种纯洁的心地，表现为灵魂的高尚，并由此做出更美的行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乐观是一种向上的精神，表现为对人生、对事业充满信心和希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我的感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通过欣赏这篇小说，我对贝尔曼怀有深深的敬意，休易的细心关怀又使我感到一阵阵暖意，现在中国也处于一个社会的转型期，刘欢为下岗工人唱得一首歌中有这么一句：“天地之间会有珍爱”，也是呼唤这种相濡以沫、真诚互助的精神。如何写一个大写的“人”，贝尔曼用生命回答了这个问题，我们又应该如何回答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12000"/>
          </a:blip>
          <a:srcRect l="0" t="6945" r="4674" b="0"/>
          <a:stretch/>
        </p:blipFill>
        <p:spPr>
          <a:xfrm>
            <a:off x="228600" y="91440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078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_x000b__x000c_"/>
              </a:rPr>
              <a:t>        </a:t>
            </a:r>
            <a:r>
              <a:rPr b="0" lang="zh-CN" sz="6000" spc="-1" strike="noStrike">
                <a:solidFill>
                  <a:srgbClr val="ff3399"/>
                </a:solidFill>
                <a:latin typeface="_x000b__x000c_"/>
              </a:rPr>
              <a:t>如果你是乔安西的朋友，你会怎么想</a:t>
            </a:r>
            <a:r>
              <a:rPr b="0" lang="en-US" sz="6000" spc="-1" strike="noStrike">
                <a:solidFill>
                  <a:srgbClr val="ff3399"/>
                </a:solidFill>
                <a:latin typeface="_x000b__x000c_"/>
              </a:rPr>
              <a:t>?</a:t>
            </a:r>
            <a:r>
              <a:rPr b="0" lang="zh-CN" sz="6000" spc="-1" strike="noStrike">
                <a:solidFill>
                  <a:srgbClr val="ff3399"/>
                </a:solidFill>
                <a:latin typeface="_x000b__x000c_"/>
              </a:rPr>
              <a:t>怎么做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47920" y="838080"/>
            <a:ext cx="1525320" cy="1981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96080" y="571500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91120" y="304920"/>
            <a:ext cx="4495680" cy="1271880"/>
          </a:xfrm>
          <a:prstGeom prst="cloudCallout">
            <a:avLst>
              <a:gd name="adj1" fmla="val -75171"/>
              <a:gd name="adj2" fmla="val 75944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换位思考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61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00520" y="44845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欢迎指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057400" y="2290680"/>
            <a:ext cx="5043600" cy="19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24480" y="425124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3027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>
            <a:lum contrast="18000"/>
          </a:blip>
          <a:stretch/>
        </p:blipFill>
        <p:spPr>
          <a:xfrm flipH="1" rot="10800000">
            <a:off x="0" y="0"/>
            <a:ext cx="9220320" cy="6872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79440" y="837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83808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最后一片叶子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42670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[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美国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]  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欧 亨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e4a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838080"/>
            <a:ext cx="693396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教学目标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理清全文线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析人物形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体悟人间真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学会做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17028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作者简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2000" y="1125360"/>
            <a:ext cx="67672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欧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亨利：（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862—1910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），短篇小说巨匠。出生于美国南部北卡罗来纳州的一个小镇，干过多种营生，后在银行工作时由于账务上的事于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897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年入狱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901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年出狱后在纽约靠写作为生，经常混迹于码头、贫民窟、工场、小酒店和下等剧场。他的作品反映了底层人民的痛苦，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语言幽默，结构巧妙，结局总出人预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代表作品还有《警察与赞美诗〉、 《麦琪的礼物》等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9640" y="54936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试一试，我能行！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78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_x000b__x000c_"/>
              </a:rPr>
              <a:t>）抓住时间线索和病情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抓住乔安西的动作：数树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_x000b__x000c_"/>
              </a:rPr>
              <a:t>时间 ：</a:t>
            </a:r>
            <a:r>
              <a:rPr b="0" lang="en-US" sz="4800" spc="-1" strike="noStrike">
                <a:solidFill>
                  <a:srgbClr val="000000"/>
                </a:solidFill>
                <a:latin typeface="_x000b__x000c_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十一月     一天早晨       第二天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晨       天刚蒙蒙亮     第二天下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_x000b__x000c_"/>
              </a:rPr>
              <a:t>病情发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_x000b__x000c_"/>
              </a:rPr>
              <a:t>病倒       病重       病危      好转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_x000b__x000c_"/>
              </a:rPr>
              <a:t>病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44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544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544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308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537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508464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15772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515772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515772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357336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285264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285264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357336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04000" y="53006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124080" y="533520"/>
            <a:ext cx="4953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，谁最棒？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11811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flipH="1" rot="10800000">
            <a:off x="-455760" y="0"/>
            <a:ext cx="10056960" cy="6872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2193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Times New Roman"/>
                <a:ea typeface="隶书"/>
              </a:rPr>
              <a:t>小说的主人公是乔安西，还是贝尔曼，还是这两个人？为什么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83908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2952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找出描写贝尔曼外貌的语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</a:t>
            </a: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贝尔曼的处境如何？从哪些句子可以看出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贝尔曼具有怎样的精神品质？你从哪儿可以看出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00" y="15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_x000b__x000c_"/>
                <a:ea typeface="华文行楷"/>
              </a:rPr>
              <a:t>智力冲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0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015320" y="1449360"/>
            <a:ext cx="1277640" cy="11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在做艺术家之前，先要做一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——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罗丹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4114800"/>
            <a:ext cx="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4343400"/>
            <a:ext cx="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2:53:49Z</dcterms:created>
  <dc:creator>Administrator</dc:creator>
  <dc:description/>
  <dc:language>en-US</dc:language>
  <cp:lastModifiedBy>wxj</cp:lastModifiedBy>
  <dcterms:modified xsi:type="dcterms:W3CDTF">2013-11-26T12:54:39Z</dcterms:modified>
  <cp:revision>18</cp:revision>
  <dc:subject/>
  <dc:title>最后一片叶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