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chimes.wav" ContentType="audio/x-wav"/>
  <Override PartName="/ppt/media/image13.gif" ContentType="image/gif"/>
  <Override PartName="/ppt/media/image20.gif" ContentType="image/gif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996-D127-4546-AEB1-BCC2CEDD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F0E-F8A1-4376-AABF-CD4B01DF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F08-2D3B-4957-A596-5527D8EE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201-AC71-4E49-82D8-C36B861B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C8C0-25EE-4C40-839D-2BD02779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DB96-83FC-41FA-B03B-3E7E214E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3AA0-9542-4C29-9C51-C5B8A9BC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3A7E-C829-4998-994F-3AEF7C94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95CD-B54D-4848-9EBB-E1680E23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44B4-911A-435B-AECC-12D3942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C107-1B58-45B0-B3A2-A51E24A1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A47-6268-4836-B5D1-E57F41F8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A142-EFB2-4D3C-8C91-99B31DE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18E3-E90B-411E-B22B-FD60692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E841-E53A-4169-9CF3-EFF9BD6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947D-A682-4D5E-8CDC-059AE054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427D-A2E8-4AF4-AC8C-49A6A991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279-DDEB-4D81-8F1A-4352D384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39E-1DE6-44C5-B8FB-2501638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577-7DA6-495B-BF6E-F319A130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D82-F8DF-457E-8E6B-2C816518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F4C-0A12-4320-8EAA-04D76D7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CBA-917C-4AC9-BFC9-FB2FC00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E7B-4C06-469E-9CC2-679B001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739F-8FCF-4E71-A54E-546EAA5E3EE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D705-A8A0-463C-9C15-F2F0E51E5BD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144000" cy="696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 txBox="1"/>
          <p:nvPr/>
        </p:nvSpPr>
        <p:spPr>
          <a:xfrm>
            <a:off x="4419720" y="42670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e4a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[</a:t>
            </a: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e4a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美国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e4a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]  </a:t>
            </a: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e4a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欧 亨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e4a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765000"/>
            <a:ext cx="756108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99"/>
                </a:solidFill>
                <a:latin typeface="Tahoma"/>
              </a:rPr>
              <a:t>最后一片藤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             </a:t>
            </a: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鄂教版七年级上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788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" dur="1" fill="hold"/>
                                  <p:tgtEl>
                                    <p:spTgt spid="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3879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58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0" spc="-1" strike="noStrike">
                <a:solidFill>
                  <a:srgbClr val="333399"/>
                </a:solidFill>
                <a:latin typeface="Tahoma"/>
              </a:rPr>
              <a:t>　　　众　　　</a:t>
            </a:r>
            <a:endParaRPr b="0" lang="en-US" sz="40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联想的火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ahoma"/>
              </a:rPr>
              <a:t>依据课文的内容，由这个“众”字我们可以联想到什么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ahoma"/>
              </a:rPr>
              <a:t>三个人：琼西、贝尔门、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为什么最后一片藤叶能救琼西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ahoma"/>
              </a:rPr>
              <a:t>最后一片叶子关系到琼西的生死，它是希望和爱的象征。只要叶子不落，她就有所期待；而它更是爱的写照，没有贝尔门在凄风冷雨之夜绘藤叶，没有苏的悉心的照料，也不可能有琼西的康复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832720" cy="5207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24360" y="1341360"/>
            <a:ext cx="1150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4076640"/>
            <a:ext cx="914400" cy="24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舍身忘已绘藤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贝　　尔  　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005360"/>
            <a:ext cx="91440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　苏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濡以沫显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5960" y="2133000"/>
            <a:ext cx="194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839080" cy="6705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29528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找出描写贝尔曼外貌的语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贝尔曼的处境如何？从哪些句子可以看出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贝尔曼具有怎样的精神品质？你从哪儿可以看出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说最后一片落叶是贝尔曼的杰作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？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000" y="15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_x000b__x000c_"/>
                <a:ea typeface="华文行楷"/>
              </a:rPr>
              <a:t>智力冲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56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88884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14400" y="114300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我的舞台  我来展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391520" y="38088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43080" y="53341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  <a:ea typeface="华文行楷"/>
              </a:rPr>
              <a:t>相信你是最优秀的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17880" y="30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924280"/>
            <a:ext cx="8915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爱是一种纯洁的心地，表现为灵魂的高尚，并由此做出更美的行为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       </a:t>
            </a: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乐观是一种向上的精神，表现为对人生、对事业充满信心和希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35320" y="9079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学习了这篇课文，你有何感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2362320"/>
            <a:ext cx="9144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希望是生命的灵魂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心灵的灯塔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成功的向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               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歌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希望是生命的源泉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失去它的生命就会枯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           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富兰克林</a:t>
            </a:r>
            <a:r>
              <a:rPr b="0" lang="zh-CN" sz="32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7315200" cy="344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819520" y="380880"/>
            <a:ext cx="289548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152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与大家共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12000"/>
          </a:blip>
          <a:srcRect l="0" t="6945" r="4674" b="0"/>
          <a:stretch/>
        </p:blipFill>
        <p:spPr>
          <a:xfrm>
            <a:off x="228600" y="91440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078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_x000b__x000c_"/>
              </a:rPr>
              <a:t>        </a:t>
            </a:r>
            <a:r>
              <a:rPr b="0" lang="zh-CN" sz="6000" spc="-1" strike="noStrike">
                <a:solidFill>
                  <a:srgbClr val="ff3399"/>
                </a:solidFill>
                <a:latin typeface="_x000b__x000c_"/>
              </a:rPr>
              <a:t>如果你是琼西的朋友，你会怎么想</a:t>
            </a:r>
            <a:r>
              <a:rPr b="0" lang="zh-CN" sz="6000" spc="-1" strike="noStrike">
                <a:solidFill>
                  <a:srgbClr val="ff3399"/>
                </a:solidFill>
                <a:latin typeface="_x000b__x000c_"/>
              </a:rPr>
              <a:t>?</a:t>
            </a:r>
            <a:r>
              <a:rPr b="0" lang="zh-CN" sz="6000" spc="-1" strike="noStrike">
                <a:solidFill>
                  <a:srgbClr val="ff3399"/>
                </a:solidFill>
                <a:latin typeface="_x000b__x000c_"/>
              </a:rPr>
              <a:t>怎么做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447920" y="838080"/>
            <a:ext cx="1525320" cy="1981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696080" y="5715000"/>
            <a:ext cx="1273320" cy="782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91120" y="304920"/>
            <a:ext cx="4495680" cy="1271880"/>
          </a:xfrm>
          <a:prstGeom prst="cloudCallout">
            <a:avLst>
              <a:gd name="adj1" fmla="val -75171"/>
              <a:gd name="adj2" fmla="val 75944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换位思考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057400" y="2290680"/>
            <a:ext cx="5043600" cy="19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24480" y="425124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作者简介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98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ahoma"/>
              </a:rPr>
              <a:t>欧</a:t>
            </a:r>
            <a:r>
              <a:rPr b="0" lang="zh-CN" sz="3200" spc="-1" strike="noStrike">
                <a:solidFill>
                  <a:srgbClr val="800000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800000"/>
                </a:solidFill>
                <a:latin typeface="Tahoma"/>
              </a:rPr>
              <a:t>亨利（</a:t>
            </a:r>
            <a:r>
              <a:rPr b="0" lang="zh-CN" sz="3200" spc="-1" strike="noStrike">
                <a:solidFill>
                  <a:srgbClr val="800000"/>
                </a:solidFill>
                <a:latin typeface="Tahoma"/>
              </a:rPr>
              <a:t>1862~1910</a:t>
            </a:r>
            <a:r>
              <a:rPr b="0" lang="zh-CN" sz="3200" spc="-1" strike="noStrike">
                <a:solidFill>
                  <a:srgbClr val="800000"/>
                </a:solidFill>
                <a:latin typeface="Tahoma"/>
              </a:rPr>
              <a:t>），美国小说家。生于医生家庭。做过会计、出纳员、办事员等。比较熟悉小市民的生活。故所写</a:t>
            </a:r>
            <a:r>
              <a:rPr b="0" lang="zh-CN" sz="3200" spc="-1" strike="noStrike">
                <a:solidFill>
                  <a:srgbClr val="800000"/>
                </a:solidFill>
                <a:latin typeface="Tahoma"/>
              </a:rPr>
              <a:t>300</a:t>
            </a:r>
            <a:r>
              <a:rPr b="0" lang="zh-CN" sz="3200" spc="-1" strike="noStrike">
                <a:solidFill>
                  <a:srgbClr val="800000"/>
                </a:solidFill>
                <a:latin typeface="Tahoma"/>
              </a:rPr>
              <a:t>多篇短篇小说，多以此类人物为主人公。其中《麦琪的礼物》、《警察和赞美诗》均带着含泪的微笑，以寓含辛酸的幽默，描绘小人物的悲惨命运，暴露美国资本主义社会的某些真实现象。其作品构思巧妙，尤以出人意料的结局著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19320" y="838080"/>
            <a:ext cx="693396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教学目标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反复朗读课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分析人物形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体悟人间真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注意下列字的读音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行</a:t>
            </a:r>
            <a:r>
              <a:rPr b="0" lang="zh-CN" sz="4800" spc="-1" strike="noStrike" u="sng">
                <a:solidFill>
                  <a:srgbClr val="ff0000"/>
                </a:solidFill>
                <a:uFillTx/>
                <a:latin typeface="Tahoma"/>
              </a:rPr>
              <a:t>侠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仗义（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xiá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精神抖</a:t>
            </a:r>
            <a:r>
              <a:rPr b="0" lang="zh-CN" sz="4800" spc="-1" strike="noStrike" u="sng">
                <a:solidFill>
                  <a:srgbClr val="ff0000"/>
                </a:solidFill>
                <a:uFillTx/>
                <a:latin typeface="Tahoma"/>
              </a:rPr>
              <a:t>擞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sǒu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Tahoma"/>
              </a:rPr>
              <a:t>纹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丝不动（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wén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Tahoma"/>
              </a:rPr>
              <a:t>黯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淡（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àn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解释下列词语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行侠仗义：讲义气，肯舍己助人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纹丝不动：一点儿也不动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黯淡：心里不舒服，情绪低落的样子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提心吊胆：形容十分担心或害怕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ahoma"/>
              </a:rPr>
              <a:t>傲然：坚强不屈的样子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609480"/>
            <a:ext cx="45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试一试，我能行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078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边读课文一边勾划时间线索以及琼西的病情发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9810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_x000b__x000c_"/>
              </a:rPr>
              <a:t>时间 ：　　　　</a:t>
            </a:r>
            <a:r>
              <a:rPr b="1" lang="zh-CN" sz="4800" spc="-1" strike="noStrike">
                <a:solidFill>
                  <a:srgbClr val="0000ff"/>
                </a:solidFill>
                <a:latin typeface="Tahoma"/>
              </a:rPr>
              <a:t>病情发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_x000b__x000c_"/>
              </a:rPr>
              <a:t>十一月    　　　琼西病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_x000b__x000c_"/>
              </a:rPr>
              <a:t>一天早晨   　　　病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_x000b__x000c_"/>
              </a:rPr>
              <a:t>第二天早晨 　　　病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_x000b__x000c_"/>
              </a:rPr>
              <a:t>天刚蒙蒙亮   　　病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_x000b__x000c_"/>
              </a:rPr>
              <a:t>第二天下午　　贝尔门去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533520"/>
            <a:ext cx="4953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3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比一比，谁最棒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11811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728" t="11594" r="5455" b="0"/>
          <a:stretch/>
        </p:blipFill>
        <p:spPr>
          <a:xfrm>
            <a:off x="380880" y="609480"/>
            <a:ext cx="8458200" cy="5791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90720" y="457200"/>
            <a:ext cx="457200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5050"/>
                </a:solidFill>
                <a:latin typeface="Times New Roman"/>
                <a:ea typeface="隶书"/>
              </a:rPr>
              <a:t>思想火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08040" y="64440"/>
            <a:ext cx="261828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华文行楷"/>
                <a:ea typeface="华文行楷"/>
              </a:rPr>
              <a:t>众里寻他千百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华文行楷"/>
                <a:ea typeface="华文行楷"/>
              </a:rPr>
              <a:t>蓦然回首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华文行楷"/>
                <a:ea typeface="华文行楷"/>
              </a:rPr>
              <a:t>那人却在灯火阑珊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249228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文中的人物，你喜欢谁呢？那我们也来当一回画家，用心的画一画藤叶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藤叶的外形像一个什么字呢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3625920" cy="439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1359" t="10454" r="13918" b="8922"/>
          <a:stretch/>
        </p:blipFill>
        <p:spPr>
          <a:xfrm>
            <a:off x="5145120" y="2057400"/>
            <a:ext cx="38098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柳朝阳</cp:lastModifiedBy>
  <dcterms:modified xsi:type="dcterms:W3CDTF">2005-12-13T11:50:51Z</dcterms:modified>
  <cp:revision>12</cp:revision>
  <dc:subject/>
  <dc:title> </dc:title>
</cp:coreProperties>
</file>