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chimes.wav" ContentType="audio/x-wav"/>
  <Override PartName="/ppt/media/image8.jpeg" ContentType="image/jpeg"/>
  <Override PartName="/ppt/media/image9.gif" ContentType="image/gif"/>
  <Override PartName="/ppt/media/image1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E3F-5080-407F-92AF-AF2EB872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420-8470-4FA2-82AF-2BA0BAB5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4B89-35E9-48CD-8348-09A2F9B6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1BFC-0DD0-43AC-99C0-2524B855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5517-FD6B-4F67-90E7-C8550048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0EAA-78DC-4FC0-B8CC-01FCCD5B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5BF9-EECB-47A4-904B-BA908576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A452-3A69-48E5-8B1E-AE6789DC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506D-2F02-40D7-B248-C4F6C2B4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4553-32D8-4CF1-9A61-98FD8754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32C3-CBCE-4502-8762-723AB269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0F67-9597-41E0-A79B-3DF3AC21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08D9-EA4D-4E81-8AFD-6DEA5ACF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2D3D-1C9A-4534-9F1E-D68BE006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5273-CC59-4878-A273-59F074EC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5406-6FAC-42D1-BA85-09BBCDC2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1028-6562-4AB6-B6A0-09AD7F55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D07-702C-4EC1-B632-810FE079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9A60-5D1F-4601-BB58-7556CF90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0B5A-F7CD-4350-81B7-6D0E3866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56B5-34F2-4D6A-8FE2-E98C343E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CDA-5408-4EE1-8ACC-244D2248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C6C-F233-47BA-8B61-D63AE732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5216-2546-4773-AAAC-BC99A2D1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CABF-B070-4BA2-A68B-FE77DFC8CE4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3F7C-FEA2-4C43-986A-FF816EC784D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808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0"/>
          <a:ext cx="9144000" cy="696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9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 txBox="1"/>
          <p:nvPr/>
        </p:nvSpPr>
        <p:spPr>
          <a:xfrm>
            <a:off x="4419720" y="426708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[</a:t>
            </a: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美国</a:t>
            </a: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]  </a:t>
            </a: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欧 亨利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268280"/>
            <a:ext cx="9144000" cy="19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1" lang="zh-CN" sz="8000" spc="-1" strike="noStrike">
                <a:solidFill>
                  <a:srgbClr val="ffcf01"/>
                </a:solidFill>
                <a:latin typeface="Tahoma"/>
              </a:rPr>
              <a:t>最后的常春藤叶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38036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99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99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99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99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0409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39120" y="0"/>
            <a:ext cx="11865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初见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再见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三见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0"/>
            <a:ext cx="6912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黑体"/>
                <a:ea typeface="黑体"/>
              </a:rPr>
              <a:t>外貌</a:t>
            </a:r>
            <a:r>
              <a:rPr b="1" lang="zh-CN" sz="3600" spc="-1" strike="noStrike">
                <a:solidFill>
                  <a:srgbClr val="080808"/>
                </a:solidFill>
                <a:latin typeface="黑体"/>
                <a:ea typeface="黑体"/>
              </a:rPr>
              <a:t>：性格暴躁，酗酒成性，爱讲大话（杰作），牢骚满腹，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cc66"/>
                </a:solidFill>
                <a:latin typeface="黑体"/>
                <a:ea typeface="黑体"/>
              </a:rPr>
              <a:t>一个穷困潦倒，消沉失意，好高骛远，郁郁不得志的失意老画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35280" y="1989000"/>
            <a:ext cx="691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当得知琼珊的病情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语言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：对这种白痴的想法“连吼带叫的咆哮了一阵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可怜的琼珊”“可恶的叶子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cc66"/>
                </a:solidFill>
                <a:latin typeface="黑体"/>
                <a:ea typeface="黑体"/>
              </a:rPr>
              <a:t>善良，有同情心，关心他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47640" y="4630680"/>
            <a:ext cx="77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医生：“他身体虚弱，……他可没有希望了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苏艾：“最后一片叶子是贝尔曼冒雨画上去的，因此得了肺炎，两天就去世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—— </a:t>
            </a:r>
            <a:r>
              <a:rPr b="1" lang="zh-CN" sz="2800" spc="-1" strike="noStrike">
                <a:solidFill>
                  <a:srgbClr val="00cc66"/>
                </a:solidFill>
                <a:latin typeface="黑体"/>
                <a:ea typeface="黑体"/>
              </a:rPr>
              <a:t>侧面描写：</a:t>
            </a:r>
            <a:r>
              <a:rPr b="1" lang="zh-CN" sz="2800" spc="-1" strike="noStrike">
                <a:solidFill>
                  <a:srgbClr val="00cc66"/>
                </a:solidFill>
                <a:latin typeface="Tahoma"/>
              </a:rPr>
              <a:t>他的人格得到升华，</a:t>
            </a:r>
            <a:r>
              <a:rPr b="1" lang="zh-CN" sz="2800" spc="-1" strike="noStrike">
                <a:solidFill>
                  <a:srgbClr val="00cc66"/>
                </a:solidFill>
                <a:latin typeface="黑体"/>
                <a:ea typeface="黑体"/>
              </a:rPr>
              <a:t>崇高的爱心，自我牺牲精神得到展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116676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268000" y="1844640"/>
            <a:ext cx="7201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琼珊的室友，画家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知道琼珊病情，故用轻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善意的谎言，从精神上安慰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无微不至的照顾 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856800" y="4437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琼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95640" y="436572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年轻女画家，感染肺病，病重，因高烧而产生玄想，最后她由绝望而陡生希望，终于康复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9880" y="2133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苏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549360"/>
            <a:ext cx="664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ahoma"/>
              </a:rPr>
              <a:t>小说中其他人物形象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9640" y="2349360"/>
            <a:ext cx="838836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假如没有画的那假叶子，按照正常逻辑你觉得故事会发生怎样的结果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867800" y="615960"/>
            <a:ext cx="54900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981000"/>
            <a:ext cx="605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讨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47640" y="4869000"/>
            <a:ext cx="477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欧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·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亨利式的结尾我们可以大致分为三种情况：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一是“谜底式”的结尾。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作者介绍一些情况引起读者注意，留下费神猜测的地方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二是“画龙点睛式”的结尾。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作家的创作意图在小说开头和中间部分，往往隐而不露，及至到结尾处才让读者明白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三是“戏剧式”的结尾。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作者常用</a:t>
            </a:r>
            <a:r>
              <a:rPr b="1" lang="zh-CN" sz="3200" spc="-1" strike="noStrike">
                <a:solidFill>
                  <a:srgbClr val="ff3399"/>
                </a:solidFill>
                <a:latin typeface="Tahoma"/>
              </a:rPr>
              <a:t>“含泪的微笑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诉说小市民的心酸，此类作品头尾在情节上有鲜明的对比，人物感情上有强烈的变化，形成了戏剧性的矛盾冲突，可以看做是精彩的短剧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ahoma"/>
              </a:rPr>
              <a:t>语言特色：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60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黑色幽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它荒诞不经、冷嘲热讽、玩世不恭、但是却包含了沉重和苦闷、眼泪和痛苦、忧郁和残酷。</a:t>
            </a:r>
            <a:r>
              <a:rPr b="1" lang="zh-CN" sz="3200" spc="-1" strike="noStrike">
                <a:solidFill>
                  <a:srgbClr val="009900"/>
                </a:solidFill>
                <a:latin typeface="Tahoma"/>
              </a:rPr>
              <a:t>是“含泪的微笑”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4800600"/>
            <a:ext cx="3124080" cy="2057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2362320"/>
            <a:ext cx="91440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希望是生命的灵魂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心灵的灯塔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成功的向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                                                 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歌德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希望是生命的源泉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失去它的生命就会枯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                                             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富兰克林</a:t>
            </a:r>
            <a:r>
              <a:rPr b="0" lang="zh-CN" sz="3200" spc="-1" strike="noStrike">
                <a:solidFill>
                  <a:srgbClr val="ff3399"/>
                </a:solidFill>
                <a:latin typeface="Tahoma"/>
                <a:ea typeface="华文行楷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7315200" cy="344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819520" y="380880"/>
            <a:ext cx="289548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152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与大家共勉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057400" y="2290680"/>
            <a:ext cx="5043600" cy="190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谢谢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324480" y="425124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838080"/>
            <a:ext cx="914400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学习目标：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反复朗读课文，了解故事情节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分析人物形象，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体悟人间真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3141720"/>
            <a:ext cx="77929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1" lang="zh-CN" sz="6000" spc="-1" strike="noStrike">
                <a:solidFill>
                  <a:srgbClr val="333399"/>
                </a:solidFill>
                <a:latin typeface="Tahoma"/>
              </a:rPr>
              <a:t>反复朗读课文</a:t>
            </a:r>
            <a:br>
              <a:rPr sz="6000"/>
            </a:br>
            <a:r>
              <a:rPr b="1" lang="zh-CN" sz="6000" spc="-1" strike="noStrike">
                <a:solidFill>
                  <a:srgbClr val="333399"/>
                </a:solidFill>
                <a:latin typeface="Tahoma"/>
              </a:rPr>
              <a:t>          了解故事情节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98100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文本研习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1341360"/>
            <a:ext cx="779292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最后一片叶子与琼珊有怎样的关系？为什么一片没有脱落的叶子能拯救琼珊的生命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2492280"/>
            <a:ext cx="777240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最后的一片叶子关系到琼珊的生死，本来她对自己的健康已经毫无信心，并且迷信的觉得自己的生命就像窗外的那颗藤一样，当最后一片叶子脱落时，她的生命也将结束，但她在最后一片常春藤叶的鼓舞下，重新振作起来，直到康复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那么，这最后一片叶子是不是他的杰作呢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77240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它是贝尔曼牺牲了自己的生命换来的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为这片叶子给予了病人生的希望和信念，表现了普通人之间的无私和情意，闪烁着人性的光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前文介绍可知，琼珊和苏艾都是青年画家，作为画家的琼珊，居然一直没能看出墙上的常春藤叶居然是画上去的，由此可以从侧面说明贝尔曼先生最后这幅作品精湛的技艺，真可谓以假乱真，堪称杰作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71640" y="836640"/>
            <a:ext cx="777240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琼珊把这最后一片叶子作为自己生命的征兆，作为放弃生命的理由。在寒风秋雨中，叶子越掉越多，琼珊越数越少，所有的情结都归于那维系琼珊生命的“最后一片叶子”上。不料这最后的常春藤叶竟能战胜“秋风扫落叶”的命运，历经了一夜秋风秋雨的侵袭而顽强的“依附在茎上”，它给苏艾、琼珊以致读者带来的，又何止是绝处逢生的惊喜！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56000" y="3068640"/>
            <a:ext cx="4194000" cy="3152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这片神奇的叶子在文中联系了哪几个人物？谁对琼珊的病情好转起了关键作用呢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9328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小说的主人公到底是谁？ 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般来说，主人公评判的标准，不应单纯看作者笔墨的多少，而应看其在全体中是否具有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典型意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性格发展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是否直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推动情节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逆转，是否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对主题思想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表达具有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关键作用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3715920"/>
            <a:ext cx="77929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zh-CN" sz="6000" spc="-1" strike="noStrike">
                <a:solidFill>
                  <a:srgbClr val="3333cc"/>
                </a:solidFill>
                <a:latin typeface="Tahoma"/>
              </a:rPr>
              <a:t>分析人物形象</a:t>
            </a:r>
            <a:br>
              <a:rPr sz="6000"/>
            </a:br>
            <a:r>
              <a:rPr b="1" lang="zh-CN" sz="6000" spc="-1" strike="noStrike">
                <a:solidFill>
                  <a:srgbClr val="3333cc"/>
                </a:solidFill>
                <a:latin typeface="Tahoma"/>
              </a:rPr>
              <a:t>          体悟人间真情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9810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文本研习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1-24T04:41:33Z</dcterms:modified>
  <cp:revision>49</cp:revision>
  <dc:subject/>
  <dc:title> </dc:title>
</cp:coreProperties>
</file>