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B60-5EAD-43FB-9DF2-E67D3B1D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BDA-6E0E-472D-8A6A-C8EC1699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E40-EEE6-4DB8-A8B7-3A7E0140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5E0-4E43-43CF-AAEF-0A43BEA5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05B-9302-41F2-85AE-81B8289D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C7F-06BD-4067-B626-0B4F899F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CE6-9E61-44C7-9027-EA3B758B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C55-F8D7-422B-BED6-F7D6B917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685-EFAB-40AE-A969-7BABEBCB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6EF-179E-449C-9C3C-1FCA1C48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1E7-62B5-49B5-9966-6EEE9CD3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ED0-DB3F-4861-9364-F79C68A4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3502-41AC-4C89-AE2F-4941204A8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205740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今天你当大导演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1" lang="en-US" sz="9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2" name="Picture 5" descr="020t"/>
          <p:cNvPicPr/>
          <p:nvPr/>
        </p:nvPicPr>
        <p:blipFill>
          <a:blip r:embed="rId1"/>
          <a:stretch/>
        </p:blipFill>
        <p:spPr>
          <a:xfrm>
            <a:off x="6553080" y="4191120"/>
            <a:ext cx="2238480" cy="22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200672511828410"/>
          <p:cNvPicPr/>
          <p:nvPr/>
        </p:nvPicPr>
        <p:blipFill>
          <a:blip r:embed="rId2"/>
          <a:stretch/>
        </p:blipFill>
        <p:spPr>
          <a:xfrm>
            <a:off x="228600" y="228600"/>
            <a:ext cx="13842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20060927145831731923"/>
          <p:cNvPicPr/>
          <p:nvPr/>
        </p:nvPicPr>
        <p:blipFill>
          <a:blip r:embed="rId3"/>
          <a:stretch/>
        </p:blipFill>
        <p:spPr>
          <a:xfrm>
            <a:off x="6324480" y="1522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U54P55T4D64557F50DT20050806020140_600small"/>
          <p:cNvPicPr/>
          <p:nvPr/>
        </p:nvPicPr>
        <p:blipFill>
          <a:blip r:embed="rId4"/>
          <a:stretch/>
        </p:blipFill>
        <p:spPr>
          <a:xfrm>
            <a:off x="228600" y="3733920"/>
            <a:ext cx="2819520" cy="2752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463426"/>
          <p:cNvPicPr/>
          <p:nvPr/>
        </p:nvPicPr>
        <p:blipFill>
          <a:blip r:embed="rId5"/>
          <a:stretch/>
        </p:blipFill>
        <p:spPr>
          <a:xfrm>
            <a:off x="3886200" y="403848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u=2512362494,93908065&amp;gp=3"/>
          <p:cNvPicPr/>
          <p:nvPr/>
        </p:nvPicPr>
        <p:blipFill>
          <a:blip r:embed="rId6"/>
          <a:stretch/>
        </p:blipFill>
        <p:spPr>
          <a:xfrm>
            <a:off x="3733920" y="304920"/>
            <a:ext cx="106524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be0e3"/>
                </a:solidFill>
                <a:latin typeface="Arial"/>
                <a:ea typeface="华文新魏"/>
              </a:rPr>
              <a:t>小说中情节是如何发展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862560" y="1413000"/>
            <a:ext cx="7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十一月：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988920" y="2205000"/>
            <a:ext cx="7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天早晨：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664200" y="3068640"/>
            <a:ext cx="17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第二天早晨：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907920" y="414972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第三天天刚蒙蒙亮：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64200" y="5157720"/>
            <a:ext cx="17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第四天下午：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2450880" y="14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be0e3"/>
                </a:solidFill>
                <a:latin typeface="Arial"/>
                <a:ea typeface="华文行楷"/>
              </a:rPr>
              <a:t>琼珊病倒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3382560" y="2205000"/>
            <a:ext cx="43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be0e3"/>
                </a:solidFill>
                <a:latin typeface="Arial"/>
                <a:ea typeface="华文行楷"/>
              </a:rPr>
              <a:t>琼珊病重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行楷"/>
              </a:rPr>
              <a:t>VS</a:t>
            </a:r>
            <a:r>
              <a:rPr b="0" lang="zh-CN" sz="3200" spc="-1" strike="noStrike">
                <a:solidFill>
                  <a:srgbClr val="bbe0e3"/>
                </a:solidFill>
                <a:latin typeface="Arial"/>
                <a:ea typeface="华文行楷"/>
              </a:rPr>
              <a:t>夜里贝尔曼画常春藤叶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407760" y="3141720"/>
            <a:ext cx="31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be0e3"/>
                </a:solidFill>
                <a:latin typeface="Arial"/>
                <a:ea typeface="华文行楷"/>
              </a:rPr>
              <a:t>琼珊病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行楷"/>
              </a:rPr>
              <a:t>VS</a:t>
            </a:r>
            <a:r>
              <a:rPr b="0" lang="zh-CN" sz="3200" spc="-1" strike="noStrike">
                <a:solidFill>
                  <a:srgbClr val="bbe0e3"/>
                </a:solidFill>
                <a:latin typeface="Arial"/>
                <a:ea typeface="华文行楷"/>
              </a:rPr>
              <a:t>贝尔曼生病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745160" y="4149720"/>
            <a:ext cx="36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be0e3"/>
                </a:solidFill>
                <a:latin typeface="Arial"/>
                <a:ea typeface="华文行楷"/>
              </a:rPr>
              <a:t>琼珊病好转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行楷"/>
              </a:rPr>
              <a:t>VS</a:t>
            </a:r>
            <a:r>
              <a:rPr b="0" lang="zh-CN" sz="3200" spc="-1" strike="noStrike">
                <a:solidFill>
                  <a:srgbClr val="bbe0e3"/>
                </a:solidFill>
                <a:latin typeface="Arial"/>
                <a:ea typeface="华文行楷"/>
              </a:rPr>
              <a:t>贝尔曼送医院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3336480" y="5157720"/>
            <a:ext cx="31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be0e3"/>
                </a:solidFill>
                <a:latin typeface="Arial"/>
                <a:ea typeface="华文行楷"/>
              </a:rPr>
              <a:t>琼珊病好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行楷"/>
              </a:rPr>
              <a:t>VS</a:t>
            </a:r>
            <a:r>
              <a:rPr b="0" lang="zh-CN" sz="3200" spc="-1" strike="noStrike">
                <a:solidFill>
                  <a:srgbClr val="bbe0e3"/>
                </a:solidFill>
                <a:latin typeface="Arial"/>
                <a:ea typeface="华文行楷"/>
              </a:rPr>
              <a:t>贝尔曼去世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61680" y="114480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最后的常春藤叶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1619280" y="1268280"/>
            <a:ext cx="647640" cy="45370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18080 h 4537080"/>
              <a:gd name="textAreaBottom" fmla="*/ 4419000 h 45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76880" y="968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开端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595960" y="220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发展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24320" y="3716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高潮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595960" y="530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结局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218840" y="907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琼珊病危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512960" y="19890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苏艾帮助　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琼珊寄生命于落叶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441680" y="3500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藤叶仍在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琼珊重燃生的欲望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277160" y="50133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琼珊获生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贝尔曼画叶献身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52280" y="60948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Q3:</a:t>
            </a:r>
            <a:endParaRPr b="1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04920" y="44197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应该选择怎么样的角色来出演我们的三位主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苏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琼珊和贝尔曼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28600" y="350532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Q4:</a:t>
            </a:r>
            <a:endParaRPr b="1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57200" y="18288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这三个人中你认为谁是第一主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943600" y="2819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990720" y="182880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角色大</a:t>
            </a:r>
            <a:r>
              <a:rPr b="0" i="1" lang="en-US" sz="9600" spc="-1" strike="noStrike">
                <a:solidFill>
                  <a:srgbClr val="ff0000"/>
                </a:solidFill>
                <a:latin typeface="Arial"/>
              </a:rPr>
              <a:t>PK</a:t>
            </a:r>
            <a:r>
              <a:rPr b="0" i="1" lang="en-US" sz="9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9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1" lang="en-US" sz="9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3" name="Picture 5" descr="u=2745779230,190705110&amp;gp=3"/>
          <p:cNvPicPr/>
          <p:nvPr/>
        </p:nvPicPr>
        <p:blipFill>
          <a:blip r:embed="rId1"/>
          <a:stretch/>
        </p:blipFill>
        <p:spPr>
          <a:xfrm>
            <a:off x="6095880" y="3962520"/>
            <a:ext cx="2124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彼特奥图尔"/>
          <p:cNvPicPr/>
          <p:nvPr/>
        </p:nvPicPr>
        <p:blipFill>
          <a:blip r:embed="rId1"/>
          <a:stretch/>
        </p:blipFill>
        <p:spPr>
          <a:xfrm>
            <a:off x="152280" y="380880"/>
            <a:ext cx="3086280" cy="4286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封神榜"/>
          <p:cNvPicPr/>
          <p:nvPr/>
        </p:nvPicPr>
        <p:blipFill>
          <a:blip r:embed="rId2"/>
          <a:stretch/>
        </p:blipFill>
        <p:spPr>
          <a:xfrm>
            <a:off x="3962520" y="347760"/>
            <a:ext cx="2133360" cy="1736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林保怡"/>
          <p:cNvPicPr/>
          <p:nvPr/>
        </p:nvPicPr>
        <p:blipFill>
          <a:blip r:embed="rId3"/>
          <a:stretch/>
        </p:blipFill>
        <p:spPr>
          <a:xfrm>
            <a:off x="3733920" y="2971800"/>
            <a:ext cx="2097000" cy="3048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汤姆"/>
          <p:cNvPicPr/>
          <p:nvPr/>
        </p:nvPicPr>
        <p:blipFill>
          <a:blip r:embed="rId4"/>
          <a:stretch/>
        </p:blipFill>
        <p:spPr>
          <a:xfrm>
            <a:off x="6296040" y="1295280"/>
            <a:ext cx="2847960" cy="38102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2"/>
          <p:cNvSpPr/>
          <p:nvPr/>
        </p:nvSpPr>
        <p:spPr>
          <a:xfrm>
            <a:off x="685800" y="5029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彼特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奥图尔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0384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林保怡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962520" y="23623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唐远之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6781680" y="5486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汤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克鲁斯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wangdeshun"/>
          <p:cNvPicPr/>
          <p:nvPr/>
        </p:nvPicPr>
        <p:blipFill>
          <a:blip r:embed="rId1"/>
          <a:stretch/>
        </p:blipFill>
        <p:spPr>
          <a:xfrm>
            <a:off x="380880" y="380880"/>
            <a:ext cx="3810240" cy="262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henkun"/>
          <p:cNvPicPr/>
          <p:nvPr/>
        </p:nvPicPr>
        <p:blipFill>
          <a:blip r:embed="rId2"/>
          <a:stretch/>
        </p:blipFill>
        <p:spPr>
          <a:xfrm>
            <a:off x="5257800" y="533520"/>
            <a:ext cx="313380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2006101013561248597"/>
          <p:cNvPicPr/>
          <p:nvPr/>
        </p:nvPicPr>
        <p:blipFill>
          <a:blip r:embed="rId3"/>
          <a:stretch/>
        </p:blipFill>
        <p:spPr>
          <a:xfrm>
            <a:off x="1447920" y="3886200"/>
            <a:ext cx="1677960" cy="2514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533520" y="32767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王顺德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0958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陈坤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581280" y="57150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姜文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袁泉"/>
          <p:cNvPicPr/>
          <p:nvPr/>
        </p:nvPicPr>
        <p:blipFill>
          <a:blip r:embed="rId1"/>
          <a:stretch/>
        </p:blipFill>
        <p:spPr>
          <a:xfrm>
            <a:off x="685800" y="533520"/>
            <a:ext cx="1457280" cy="198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巩俐"/>
          <p:cNvPicPr/>
          <p:nvPr/>
        </p:nvPicPr>
        <p:blipFill>
          <a:blip r:embed="rId2"/>
          <a:stretch/>
        </p:blipFill>
        <p:spPr>
          <a:xfrm>
            <a:off x="3276720" y="609480"/>
            <a:ext cx="1439640" cy="1752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范冰冰"/>
          <p:cNvPicPr/>
          <p:nvPr/>
        </p:nvPicPr>
        <p:blipFill>
          <a:blip r:embed="rId3"/>
          <a:stretch/>
        </p:blipFill>
        <p:spPr>
          <a:xfrm>
            <a:off x="533520" y="3352680"/>
            <a:ext cx="182088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艾敬"/>
          <p:cNvPicPr/>
          <p:nvPr/>
        </p:nvPicPr>
        <p:blipFill>
          <a:blip r:embed="rId4"/>
          <a:stretch/>
        </p:blipFill>
        <p:spPr>
          <a:xfrm>
            <a:off x="6019920" y="685800"/>
            <a:ext cx="2057400" cy="1755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金喜善"/>
          <p:cNvPicPr/>
          <p:nvPr/>
        </p:nvPicPr>
        <p:blipFill>
          <a:blip r:embed="rId5"/>
          <a:stretch/>
        </p:blipFill>
        <p:spPr>
          <a:xfrm>
            <a:off x="6934320" y="3505320"/>
            <a:ext cx="1904760" cy="2381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麦当娜"/>
          <p:cNvPicPr/>
          <p:nvPr/>
        </p:nvPicPr>
        <p:blipFill>
          <a:blip r:embed="rId6"/>
          <a:stretch/>
        </p:blipFill>
        <p:spPr>
          <a:xfrm>
            <a:off x="3505320" y="33526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685800" y="2666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袁泉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3505320" y="2666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巩俐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324480" y="26668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艾敬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83808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范冰冰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733920" y="5562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麦当娜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70866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金喜善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609480" y="7621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选了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什么这样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362320" y="25146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选角色的标准是单一的还是多样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能具体说一说吗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80880" y="43434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选的角色你认为应该具备怎样的性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从哪里知道他们的性格是你所想的那样的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1447920" y="20574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4876920" y="1143000"/>
            <a:ext cx="457200" cy="1143000"/>
          </a:xfrm>
          <a:custGeom>
            <a:avLst/>
            <a:gdLst>
              <a:gd name="textAreaLeft" fmla="*/ 61200 w 457200"/>
              <a:gd name="textAreaRight" fmla="*/ 396000 w 4572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>
            <a:off x="3581280" y="3429000"/>
            <a:ext cx="533520" cy="990720"/>
          </a:xfrm>
          <a:custGeom>
            <a:avLst/>
            <a:gdLst>
              <a:gd name="textAreaLeft" fmla="*/ 71280 w 533520"/>
              <a:gd name="textAreaRight" fmla="*/ 462240 w 53352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657600" y="685800"/>
            <a:ext cx="5221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华文彩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华文彩云"/>
                <a:ea typeface="华文彩云"/>
              </a:rPr>
              <a:t>琼珊</a:t>
            </a:r>
            <a:r>
              <a:rPr b="0" lang="en-US" sz="6000" spc="-1" strike="noStrike">
                <a:solidFill>
                  <a:srgbClr val="0000ff"/>
                </a:solidFill>
                <a:latin typeface="华文彩云"/>
                <a:ea typeface="华文彩云"/>
              </a:rPr>
              <a:t>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年轻女画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穷困，体质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脆弱，悲观，对生失去信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单纯、理想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现实的冲突使她失去了活下去的勇气和信心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u=3000780372,2639475935&amp;gp=2"/>
          <p:cNvPicPr/>
          <p:nvPr/>
        </p:nvPicPr>
        <p:blipFill>
          <a:blip r:embed="rId1"/>
          <a:stretch/>
        </p:blipFill>
        <p:spPr>
          <a:xfrm>
            <a:off x="468360" y="1700280"/>
            <a:ext cx="2932200" cy="3672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胖头鱼简体"/>
                <a:ea typeface="方正胖头鱼简体"/>
              </a:rPr>
              <a:t>小说中主要人物形象分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44640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华文彩云"/>
              </a:rPr>
              <a:t>  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彩云"/>
              </a:rPr>
              <a:t>苏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b0f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华文新魏"/>
                <a:ea typeface="华文新魏"/>
              </a:rPr>
              <a:t>琼珊的室友，画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04920" y="370044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穷困，依然细心地照料朋友，善意地撒谎、一直陪伴她、宽慰她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善良体贴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对人真诚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爱帮助人。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1" name="Picture 4" descr="u=2066512219,2730858453&amp;gp=0"/>
          <p:cNvPicPr/>
          <p:nvPr/>
        </p:nvPicPr>
        <p:blipFill>
          <a:blip r:embed="rId1"/>
          <a:stretch/>
        </p:blipFill>
        <p:spPr>
          <a:xfrm>
            <a:off x="5111640" y="2852640"/>
            <a:ext cx="4032360" cy="35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zhongguopashanh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66"/>
                </a:solidFill>
                <a:latin typeface="Arial"/>
                <a:ea typeface="华文行楷"/>
              </a:rPr>
              <a:t>最后的</a:t>
            </a:r>
            <a:r>
              <a:rPr b="0" lang="zh-CN" sz="8000" spc="-1" strike="noStrike">
                <a:solidFill>
                  <a:srgbClr val="ff0066"/>
                </a:solidFill>
                <a:latin typeface="Arial"/>
                <a:ea typeface="华文行楷"/>
              </a:rPr>
              <a:t>常春藤</a:t>
            </a:r>
            <a:r>
              <a:rPr b="0" lang="zh-CN" sz="8800" spc="-1" strike="noStrike">
                <a:solidFill>
                  <a:srgbClr val="ff0066"/>
                </a:solidFill>
                <a:latin typeface="Arial"/>
                <a:ea typeface="华文行楷"/>
              </a:rPr>
              <a:t>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476040" y="4676760"/>
            <a:ext cx="22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  <a:ea typeface="华文行楷"/>
              </a:rPr>
              <a:t>[</a:t>
            </a:r>
            <a:r>
              <a:rPr b="0" lang="zh-CN" sz="3600" spc="-1" strike="noStrike">
                <a:solidFill>
                  <a:srgbClr val="bbe0e3"/>
                </a:solidFill>
                <a:latin typeface="Arial"/>
                <a:ea typeface="华文行楷"/>
              </a:rPr>
              <a:t>美</a:t>
            </a:r>
            <a:r>
              <a:rPr b="0" lang="en-US" sz="3600" spc="-1" strike="noStrike">
                <a:solidFill>
                  <a:srgbClr val="bbe0e3"/>
                </a:solidFill>
                <a:latin typeface="Arial"/>
                <a:ea typeface="华文行楷"/>
              </a:rPr>
              <a:t>]</a:t>
            </a:r>
            <a:r>
              <a:rPr b="0" lang="zh-CN" sz="3600" spc="-1" strike="noStrike">
                <a:solidFill>
                  <a:srgbClr val="bbe0e3"/>
                </a:solidFill>
                <a:latin typeface="Arial"/>
                <a:ea typeface="华文行楷"/>
              </a:rPr>
              <a:t>欧</a:t>
            </a:r>
            <a:r>
              <a:rPr b="0" lang="en-US" sz="3600" spc="-1" strike="noStrike">
                <a:solidFill>
                  <a:srgbClr val="bbe0e3"/>
                </a:solidFill>
                <a:latin typeface="Arial"/>
                <a:ea typeface="华文行楷"/>
              </a:rPr>
              <a:t>·</a:t>
            </a:r>
            <a:r>
              <a:rPr b="0" lang="zh-CN" sz="3600" spc="-1" strike="noStrike">
                <a:solidFill>
                  <a:srgbClr val="bbe0e3"/>
                </a:solidFill>
                <a:latin typeface="华文行楷"/>
                <a:ea typeface="华文行楷"/>
              </a:rPr>
              <a:t>亨利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767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贝尔曼是怎样一个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058840" y="914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形象一：（正面描写）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1280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外貌描写：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04920" y="213372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性格暴躁，酗酒成性，爱讲大话（杰作）牢骚满腹 一个穷困潦倒，消沉失意，好高骛远，郁郁不得志的失意老画家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527480" y="3809880"/>
            <a:ext cx="41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语言描写（当他知琼珊的病情后 ）：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228600" y="4495680"/>
            <a:ext cx="8424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这种白痴的想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吼带叫的咆哮了一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怜的琼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恶的叶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0" y="548640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善良，有同情心，关心他人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3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0400" y="3276720"/>
            <a:ext cx="90932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形象逆转： 人格升华后，我们重新审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见贝尔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归纳贝尔曼的典型形象 平凡的甚至有点讨厌的外表下有一颗火热的，金子一样的爱心。 穷困潦倒仍无私关怀、帮助他人，甚至不惜生命代价。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期待了二十五年的杰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不得志仍不放弃追求，抱负远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119240" y="2286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形象二：（侧面描写）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04920" y="9144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医生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他身体虚弱，病势来的很猛，他可没有希望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苏艾：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后一片叶子是贝尔曼冒雨画上去的，因此得了肺炎，两天就去世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304920" y="2666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人格升华：崇高的爱心，自我牺牲精神得到展现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4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685800" y="685800"/>
            <a:ext cx="1523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Q5:</a:t>
            </a:r>
            <a:endParaRPr b="1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219320" y="175248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凡事都追求完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人物的形象有了一个限定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该来想一想一些细节上的问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思考一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该如何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语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角度去品析文章？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57200" y="533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到了十一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个冷酷无情、肉眼看不见、医生管他叫“肺炎”的不速之客，在艺术区里蹑手蹑脚，用他冰冷的手指在这儿碰碰那儿摸摸。”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33520" y="2133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她面色惨白，静静地躺着，活像一尊倒下来的塑像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33520" y="34290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画画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------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别扯淡了！她心里有没有值得想两次的事情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-------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比如说，男人？”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09480" y="4876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男人？”苏艾像吹小口琴似的哼了一声说，“难道男人值得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------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别说啦，不，大夫，根本没有那种事。”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66520" y="260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艺术鉴赏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100880" y="1341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、语言特色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059560" y="2362320"/>
            <a:ext cx="481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新魏"/>
              </a:rPr>
              <a:t>亨利长于采用幽默、风趣、俏皮、夸张、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新魏"/>
              </a:rPr>
              <a:t>比喻、讽刺的语言，渲染悲剧的喜剧色彩，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新魏"/>
              </a:rPr>
              <a:t>让读者在俏皮的描写中领悟到内在庄严的思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新魏"/>
              </a:rPr>
              <a:t>想感情，在生动活泼中给人启迪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"/>
          <p:cNvSpPr/>
          <p:nvPr/>
        </p:nvSpPr>
        <p:spPr>
          <a:xfrm>
            <a:off x="1295280" y="18288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含泪的微笑”</a:t>
            </a:r>
            <a:endParaRPr b="1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143000" y="33526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时候，我们哭了，那是因为开心，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时候，我们笑了，却不一定欢喜。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081440" y="1157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二、结尾特点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68360" y="2276640"/>
            <a:ext cx="867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结尾是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新魏"/>
              </a:rPr>
              <a:t>亨利式的结尾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亨利短篇小说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的艺术处理上最大的特点就是“小说的意外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结局，出乎意料，又在情理之中。明明朝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着一个方向发展，但结局往往来了个出其不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意，然而那意外的结局一般来说是令人宽慰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的，是带着眼泪的微笑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029200" y="52578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麦琪的礼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638680" y="6095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警察与赞美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914400" y="1371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了这篇课文，你感触最深的是什么？下面有几个选项，尝试着选一选，并且围绕选项在你的作业本上发表你的看法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57200" y="30481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，像苏艾那样，对朋友忠诚，为了友谊可以竭尽全力地去帮助朋友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457200" y="3733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，像贝尔曼那样，为艺术而献身，舍己救人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57200" y="44197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，琼珊的行为过于单纯，这启示我们在面对生命挫折的时候更加坚强乐观，在自己的心中要有一片永不凋谢的常春藤叶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57200" y="54100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，其它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57200" y="22860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0000"/>
                </a:solidFill>
                <a:uFillTx/>
                <a:latin typeface="Arial"/>
              </a:rPr>
              <a:t>作业：</a:t>
            </a:r>
            <a:endParaRPr b="1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WJ02_changchunteng0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2133720" y="228600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谢  谢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1" lang="en-US" sz="8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Magneto"/>
                <a:ea typeface="华文新魏"/>
              </a:rPr>
              <a:t>世界三大短篇小说巨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175040" y="1600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俄国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466880" y="1600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契诃夫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75040" y="312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法国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466880" y="31240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莫泊桑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75040" y="4952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美国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68520" y="4876920"/>
            <a:ext cx="13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欧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·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亨利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8" name="Picture 9" descr="mo"/>
          <p:cNvPicPr/>
          <p:nvPr/>
        </p:nvPicPr>
        <p:blipFill>
          <a:blip r:embed="rId1"/>
          <a:stretch/>
        </p:blipFill>
        <p:spPr>
          <a:xfrm>
            <a:off x="6629400" y="2819520"/>
            <a:ext cx="992160" cy="1447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乐"/>
          <p:cNvPicPr/>
          <p:nvPr/>
        </p:nvPicPr>
        <p:blipFill>
          <a:blip r:embed="rId2"/>
          <a:stretch/>
        </p:blipFill>
        <p:spPr>
          <a:xfrm>
            <a:off x="6629400" y="1219320"/>
            <a:ext cx="969840" cy="1257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o"/>
          <p:cNvPicPr/>
          <p:nvPr/>
        </p:nvPicPr>
        <p:blipFill>
          <a:blip r:embed="rId3"/>
          <a:stretch/>
        </p:blipFill>
        <p:spPr>
          <a:xfrm>
            <a:off x="6629400" y="4648320"/>
            <a:ext cx="98568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o"/>
          <p:cNvPicPr/>
          <p:nvPr/>
        </p:nvPicPr>
        <p:blipFill>
          <a:blip r:embed="rId1"/>
          <a:stretch/>
        </p:blipFill>
        <p:spPr>
          <a:xfrm>
            <a:off x="228600" y="304920"/>
            <a:ext cx="4087800" cy="5924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733920" y="152280"/>
            <a:ext cx="5790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走近欧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华文行楷"/>
              </a:rPr>
              <a:t>·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亨利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495680" y="838080"/>
            <a:ext cx="426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生平：欧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亨利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·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Henry,186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91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原名威廉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西得尼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波特，美国现代短篇小说创始人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343400" y="3429000"/>
            <a:ext cx="4800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作品：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麦琪的礼物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警察和赞美诗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没有完的故事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黄雀在后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三百多篇小说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be0e3"/>
                </a:solidFill>
                <a:latin typeface="Arial"/>
                <a:ea typeface="华文行楷"/>
              </a:rPr>
              <a:t>走近欧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华文行楷"/>
              </a:rPr>
              <a:t>·</a:t>
            </a:r>
            <a:r>
              <a:rPr b="0" lang="zh-CN" sz="4400" spc="-1" strike="noStrike">
                <a:solidFill>
                  <a:srgbClr val="bbe0e3"/>
                </a:solidFill>
                <a:latin typeface="Arial"/>
                <a:ea typeface="华文行楷"/>
              </a:rPr>
              <a:t>亨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3212640"/>
            <a:ext cx="87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bbe0e3"/>
              </a:solidFill>
              <a:latin typeface="华文新魏"/>
              <a:ea typeface="华文新魏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50920" y="1905120"/>
            <a:ext cx="8893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艺术特色：出人意料的结局，故事奇特而又耐人寻味，情节动人而笔触细腻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20t"/>
          <p:cNvPicPr/>
          <p:nvPr/>
        </p:nvPicPr>
        <p:blipFill>
          <a:blip r:embed="rId1"/>
          <a:stretch/>
        </p:blipFill>
        <p:spPr>
          <a:xfrm>
            <a:off x="2362320" y="13716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57200" y="53352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Q1:</a:t>
            </a:r>
            <a:endParaRPr b="1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28600" y="20574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应该把它拍成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电视剧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电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比较合适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572000" y="51814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475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be0e3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be0e3"/>
                </a:solidFill>
                <a:latin typeface="华文新魏"/>
                <a:ea typeface="华文新魏"/>
              </a:rPr>
              <a:t>人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be0e3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be0e3"/>
                </a:solidFill>
                <a:latin typeface="华文新魏"/>
                <a:ea typeface="华文新魏"/>
              </a:rPr>
              <a:t>环境 </a:t>
            </a:r>
            <a:r>
              <a:rPr b="0" lang="en-US" sz="4400" spc="-1" strike="noStrike">
                <a:solidFill>
                  <a:srgbClr val="bbe0e3"/>
                </a:solidFill>
                <a:latin typeface="华文新魏"/>
                <a:ea typeface="华文新魏"/>
              </a:rPr>
              <a:t>: </a:t>
            </a:r>
            <a:r>
              <a:rPr b="0" lang="zh-CN" sz="4400" spc="-1" strike="noStrike">
                <a:solidFill>
                  <a:srgbClr val="bbe0e3"/>
                </a:solidFill>
                <a:latin typeface="华文新魏"/>
                <a:ea typeface="华文新魏"/>
              </a:rPr>
              <a:t>社会环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be0e3"/>
                </a:solidFill>
                <a:latin typeface="华文新魏"/>
                <a:ea typeface="华文新魏"/>
              </a:rPr>
              <a:t>      </a:t>
            </a:r>
            <a:r>
              <a:rPr b="0" lang="zh-CN" sz="4400" spc="-1" strike="noStrike">
                <a:solidFill>
                  <a:srgbClr val="bbe0e3"/>
                </a:solidFill>
                <a:latin typeface="华文新魏"/>
                <a:ea typeface="华文新魏"/>
              </a:rPr>
              <a:t>　自然环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情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3"/>
          <p:cNvSpPr txBox="1"/>
          <p:nvPr/>
        </p:nvSpPr>
        <p:spPr>
          <a:xfrm>
            <a:off x="2340000" y="549360"/>
            <a:ext cx="431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小说三要素</a:t>
            </a:r>
            <a:endParaRPr b="1" lang="en-US" sz="2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990720" y="190512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情节来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是一篇短篇小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事情发生不过四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按照小说的几大要素来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情节无疑是非常重要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面请各位导演来确定一下我们的拍摄过程该如何进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57200" y="3808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Q2:</a:t>
            </a:r>
            <a:endParaRPr b="1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10-19T23:51:02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