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48B-7C6A-48F6-B627-FA9E2120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865-B065-4DE0-B3BF-1E23959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464-6331-4EE9-8B40-76ED8084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A58-6D6F-47D3-B0D7-5E29C9DA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757-5B2E-43DF-AF62-6ED36D7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F15-AE98-4E6C-8F8C-69597CF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8A2-5BF8-4386-B8BE-1DC64E0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BA0-053A-4262-BC01-BC9465F7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C78-BF03-437D-8812-337AC4A1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BE0-8F53-4AA6-B4B1-2B7304C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514-3969-4E0D-92F9-0FBDF60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40D-7F43-4862-B793-C13627E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D136-E3B3-4B8F-9CA1-3FF42AE4A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990720"/>
            <a:ext cx="4038480" cy="62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悉尼歌剧院</a:t>
            </a:r>
            <a:endParaRPr b="1" lang="en-US" sz="3200" spc="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 advTm="4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79240" y="341280"/>
            <a:ext cx="383616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若干建筑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轴对称分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62db7809faf952c2d1581b8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93680" y="304920"/>
            <a:ext cx="1033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木材结构 栋梁承载重量 门窗区分空间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4" descr=""/>
          <p:cNvPicPr/>
          <p:nvPr/>
        </p:nvPicPr>
        <p:blipFill>
          <a:blip r:embed="rId2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2286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af8"/>
                </a:solidFill>
                <a:latin typeface="Arial"/>
                <a:ea typeface="黑体"/>
              </a:rPr>
              <a:t>高俊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5" descr=""/>
          <p:cNvPicPr/>
          <p:nvPr/>
        </p:nvPicPr>
        <p:blipFill>
          <a:blip r:embed="rId2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12960" y="0"/>
            <a:ext cx="458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62160" y="423720"/>
            <a:ext cx="1521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杨钰莹    霍州古楼斗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114440" y="4952880"/>
            <a:ext cx="609480" cy="304920"/>
          </a:xfrm>
          <a:prstGeom prst="line">
            <a:avLst/>
          </a:prstGeom>
          <a:ln w="540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32240" y="4784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  <a:ea typeface="黑体"/>
              </a:rPr>
              <a:t>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495680"/>
            <a:ext cx="1218960" cy="533520"/>
          </a:xfrm>
          <a:prstGeom prst="ellipse">
            <a:avLst/>
          </a:prstGeom>
          <a:noFill/>
          <a:ln w="540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781320" y="3657600"/>
            <a:ext cx="838440" cy="838080"/>
          </a:xfrm>
          <a:prstGeom prst="line">
            <a:avLst/>
          </a:prstGeom>
          <a:ln w="8892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5440" y="43275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  <a:ea typeface="黑体"/>
              </a:rPr>
              <a:t>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477120" y="4572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檐牙高啄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45720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四角翘起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举折举架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514440" y="228600"/>
            <a:ext cx="1521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举折 举架  构成斜面屋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凤凰 屋顶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29400" y="0"/>
            <a:ext cx="25909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如翚斯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如鸟斯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8" descr=""/>
          <p:cNvPicPr/>
          <p:nvPr/>
        </p:nvPicPr>
        <p:blipFill>
          <a:blip r:embed="rId2"/>
          <a:stretch/>
        </p:blipFill>
        <p:spPr>
          <a:xfrm>
            <a:off x="0" y="3200400"/>
            <a:ext cx="327960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瓦当 丁维佳" descr=""/>
          <p:cNvPicPr/>
          <p:nvPr/>
        </p:nvPicPr>
        <p:blipFill>
          <a:blip r:embed="rId3"/>
          <a:stretch/>
        </p:blipFill>
        <p:spPr>
          <a:xfrm>
            <a:off x="6172200" y="320040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152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故宫 琉璃屋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2767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af8"/>
                </a:solidFill>
                <a:latin typeface="Arial"/>
                <a:ea typeface="楷体_GB2312"/>
              </a:rPr>
              <a:t>美丽屋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352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9173"/>
                </a:solidFill>
                <a:latin typeface="Arial"/>
                <a:ea typeface="楷体_GB2312"/>
              </a:rPr>
              <a:t>雕饰瓦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g214092747" descr=""/>
          <p:cNvPicPr/>
          <p:nvPr/>
        </p:nvPicPr>
        <p:blipFill>
          <a:blip r:embed="rId4"/>
          <a:stretch/>
        </p:blipFill>
        <p:spPr>
          <a:xfrm>
            <a:off x="3276720" y="3200400"/>
            <a:ext cx="291924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91120" y="480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各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135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门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7" descr=""/>
          <p:cNvPicPr/>
          <p:nvPr/>
        </p:nvPicPr>
        <p:blipFill>
          <a:blip r:embed="rId5"/>
          <a:stretch/>
        </p:blipFill>
        <p:spPr>
          <a:xfrm>
            <a:off x="685800" y="0"/>
            <a:ext cx="7667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00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九大特征如何展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问号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218960" cy="1228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14800" y="3733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六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~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九    外观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16765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一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~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二    总体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743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三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~</a:t>
            </a:r>
            <a:r>
              <a:rPr b="1" lang="en-US" sz="3600" spc="-1" strike="noStrike">
                <a:solidFill>
                  <a:srgbClr val="150af8"/>
                </a:solidFill>
                <a:latin typeface="Arial"/>
                <a:ea typeface="黑体"/>
              </a:rPr>
              <a:t>五    结构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809880"/>
            <a:ext cx="1066680" cy="9144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1981080"/>
            <a:ext cx="533520" cy="2286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209680"/>
            <a:ext cx="25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黑体"/>
              </a:rPr>
              <a:t>详略得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黑体"/>
              </a:rPr>
              <a:t>先后有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问号" descr=""/>
          <p:cNvPicPr/>
          <p:nvPr/>
        </p:nvPicPr>
        <p:blipFill>
          <a:blip r:embed="rId3"/>
          <a:stretch/>
        </p:blipFill>
        <p:spPr>
          <a:xfrm>
            <a:off x="152280" y="4714920"/>
            <a:ext cx="838440" cy="84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90720" y="4921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黑体"/>
              </a:rPr>
              <a:t>文章在九大特征前后分别讲了哪些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712800"/>
            <a:ext cx="784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研究中国建筑可以说是逆时代的工作。近年来中国生活在剧烈的变化中趋向西化，社会对于中国固有的建筑及其附艺多加以普遍的摧残。虽然对于新输入之西方工艺的鉴别还没有标准，对于本国的旧工艺，已怀鄙弃厌恶心理。自“西式楼房”盛行于通商大埠以来，</a:t>
            </a: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豪富商贾及中产之家无不深爱新异，以中国原有建筑为陈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            ——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梁思成《为什么研究中国建筑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38160" y="3085920"/>
            <a:ext cx="373356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16255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迪拜帆船酒店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 spd="slow" advTm="3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91440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济南最后一段明城墙面临拆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　                          《济南时报》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2006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12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42100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石家庄最后一个四合院将被拆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         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新华网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2010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8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809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梁思成林徽因故居陷入拆迁拉锯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   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《京华时报》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2010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10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952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1219320"/>
            <a:ext cx="784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以客观的学术调查与研究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唤醒社会</a:t>
            </a: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助长保存趋势</a:t>
            </a:r>
            <a:r>
              <a:rPr b="1" lang="en-US" sz="2800" spc="-1" strike="noStrike">
                <a:solidFill>
                  <a:srgbClr val="150af8"/>
                </a:solidFill>
                <a:latin typeface="宋体"/>
              </a:rPr>
              <a:t>，即使破坏不能完全制止，亦可逐渐减杀。这工作即使为逆时代的力量，它却与在大火之中抢救宝器名画同样有急不容缓的性质。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这是珍护我国可贵文物的一种神圣义务。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          ——</a:t>
            </a:r>
            <a:r>
              <a:rPr b="1" lang="en-US" sz="2800" spc="-1" strike="noStrike">
                <a:solidFill>
                  <a:srgbClr val="bd2b03"/>
                </a:solidFill>
                <a:latin typeface="宋体"/>
              </a:rPr>
              <a:t>梁思成《为什么研究中国建筑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200412231053326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a276edfe53a8909485403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09480" y="609480"/>
            <a:ext cx="3930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哥特式建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p:transition spd="slow" advTm="3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602021610316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895480" y="548640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宋体"/>
              </a:rPr>
              <a:t>印度 泰姬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宋体"/>
              <a:ea typeface="宋体"/>
            </a:endParaRPr>
          </a:p>
        </p:txBody>
      </p:sp>
    </p:spTree>
  </p:cSld>
  <p:transition spd="slow"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_111750_2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09082519055d924ce311cd0a72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95480" y="9144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>
                    <a:alpha val="63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西藏 布达拉宫</a:t>
            </a:r>
            <a:endParaRPr b="0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>
                  <a:alpha val="63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1ce6d1989085a2234fa41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10666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  <a:ea typeface="隶书"/>
              </a:rPr>
              <a:t>中国建筑的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455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梁思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F2006082808474801233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2133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c1a29db52cd3efbb7fd48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太和殿7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6720" y="380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个体建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69260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台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121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  <a:ea typeface="黑体"/>
              </a:rPr>
              <a:t>房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46680" y="1515960"/>
            <a:ext cx="17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屋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8:24:02Z</dcterms:created>
  <dc:creator/>
  <dc:description/>
  <dc:language>en-US</dc:language>
  <cp:lastModifiedBy>zmj</cp:lastModifiedBy>
  <dcterms:modified xsi:type="dcterms:W3CDTF">2011-04-03T08:24:33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