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6C2-02BB-4982-9428-B39AFABE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5C1D-A970-46DE-AF4A-7FF9344A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1ACC-68D9-42AA-80F9-E80F910E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6CE6-04D1-4C73-A75A-22D394FA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4B1B-1208-46DC-8345-5CCD6974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69B-2075-4494-A082-AD7AA147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B55-120E-4C66-90BF-6411D4A7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CDE0-C0F9-448D-A0E2-661DCCCB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372-C4C1-41C6-B911-A91BA44C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3755-069D-4ECD-937D-B5C7A8A1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94EC-C555-47A8-9BFE-9C477D27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2D4-C46E-45A0-910E-C1F7EEC6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DBB4-EA25-4A3E-BBDC-B4C50DFEF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法国艾菲尔铁塔" descr=""/>
          <p:cNvPicPr/>
          <p:nvPr/>
        </p:nvPicPr>
        <p:blipFill>
          <a:blip r:embed="rId1"/>
          <a:stretch/>
        </p:blipFill>
        <p:spPr>
          <a:xfrm>
            <a:off x="1908000" y="0"/>
            <a:ext cx="5472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5640" y="907920"/>
            <a:ext cx="127764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法国埃菲尔铁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天坛" descr=""/>
          <p:cNvPicPr/>
          <p:nvPr/>
        </p:nvPicPr>
        <p:blipFill>
          <a:blip r:embed="rId1"/>
          <a:stretch/>
        </p:blipFill>
        <p:spPr>
          <a:xfrm>
            <a:off x="-36360" y="-14400"/>
            <a:ext cx="9167760" cy="6899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68360" y="765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北京天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西洋建筑物图" descr=""/>
          <p:cNvPicPr/>
          <p:nvPr/>
        </p:nvPicPr>
        <p:blipFill>
          <a:blip r:embed="rId1"/>
          <a:stretch/>
        </p:blipFill>
        <p:spPr>
          <a:xfrm>
            <a:off x="4643280" y="3645000"/>
            <a:ext cx="4249800" cy="2836800"/>
          </a:xfrm>
          <a:prstGeom prst="rect">
            <a:avLst/>
          </a:prstGeom>
          <a:ln w="0">
            <a:noFill/>
          </a:ln>
        </p:spPr>
      </p:pic>
      <p:pic>
        <p:nvPicPr>
          <p:cNvPr id="76" name="故宫三" descr=""/>
          <p:cNvPicPr/>
          <p:nvPr/>
        </p:nvPicPr>
        <p:blipFill>
          <a:blip r:embed="rId2"/>
          <a:stretch/>
        </p:blipFill>
        <p:spPr>
          <a:xfrm>
            <a:off x="4643280" y="115920"/>
            <a:ext cx="4248360" cy="3313080"/>
          </a:xfrm>
          <a:prstGeom prst="rect">
            <a:avLst/>
          </a:prstGeom>
          <a:ln w="0">
            <a:noFill/>
          </a:ln>
        </p:spPr>
      </p:pic>
      <p:pic>
        <p:nvPicPr>
          <p:cNvPr id="77" name="2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248000" cy="3213000"/>
          </a:xfrm>
          <a:prstGeom prst="rect">
            <a:avLst/>
          </a:prstGeom>
          <a:ln w="0">
            <a:noFill/>
          </a:ln>
        </p:spPr>
      </p:pic>
      <p:pic>
        <p:nvPicPr>
          <p:cNvPr id="78" name="200642984540309" descr=""/>
          <p:cNvPicPr/>
          <p:nvPr/>
        </p:nvPicPr>
        <p:blipFill>
          <a:blip r:embed="rId4"/>
          <a:stretch/>
        </p:blipFill>
        <p:spPr>
          <a:xfrm>
            <a:off x="195120" y="3645000"/>
            <a:ext cx="4305600" cy="31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885080" y="-360"/>
            <a:ext cx="8272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中国建筑的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特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093080" y="3428640"/>
            <a:ext cx="6062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梁思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梁思成" descr=""/>
          <p:cNvPicPr/>
          <p:nvPr/>
        </p:nvPicPr>
        <p:blipFill>
          <a:blip r:embed="rId1"/>
          <a:stretch/>
        </p:blipFill>
        <p:spPr>
          <a:xfrm>
            <a:off x="0" y="333360"/>
            <a:ext cx="6804000" cy="6105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04000" y="6056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冈中学 罗江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35344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一、在充分预习的基础上，请用简洁的语言概括每条特征。（注意提取每条特征的要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6560" y="2278080"/>
            <a:ext cx="8282160" cy="4464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单个建筑由三部分构成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平面布置：建筑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所”）、轴对称、主屋朝南、有庭院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（三）木材结构：立柱横梁形成“间”，墙门窗设置自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4000" cy="5400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（四）斗拱：柱梁交接处，层层挑出，斗是方形，拱是弓形，减少剪力，有装饰性。显著特征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（五）举架形成屋顶斜坡弯曲面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（六）屋顶：有四面坡，四角翘起，有壮丽的装饰性。主要特征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71640" y="1413000"/>
            <a:ext cx="7272360" cy="28371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（七）朱红彩绘，用色最大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（八）结构部分成为装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（九）建筑材料的装饰性（琉璃砖瓦、油漆、木刻、石雕、砖雕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zhongjian2_068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780000" y="1890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武汉归元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771280" y="2276640"/>
            <a:ext cx="2087640" cy="367344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859280" y="2491920"/>
            <a:ext cx="2017800" cy="345780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1547280" y="3860640"/>
            <a:ext cx="3240360" cy="208944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859280" y="4005000"/>
            <a:ext cx="3313080" cy="187164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5734080"/>
            <a:ext cx="1296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斗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5157720"/>
            <a:ext cx="2952720" cy="581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在柱梁交接处  层层挑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2006428171663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76720" y="260280"/>
            <a:ext cx="5400720" cy="132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斗（方木块）拱（弓形短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在柱梁交接处  层层挑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70320" y="2421000"/>
            <a:ext cx="4550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35280" y="2852640"/>
            <a:ext cx="1800000" cy="72072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63640" y="2924280"/>
            <a:ext cx="1008000" cy="136836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2781360"/>
            <a:ext cx="2448000" cy="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26320" y="4076640"/>
            <a:ext cx="4550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563640" y="4149720"/>
            <a:ext cx="1368360" cy="21600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4571640" y="3357720"/>
            <a:ext cx="431640" cy="79200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b458ac856223ec0e5e1ec96207ca7c5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94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4724280"/>
            <a:ext cx="8569080" cy="181044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立柱横梁构成的木材结构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除立柱以外的整个上层木结构就是举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举架形成屋顶的斜坡弯曲面，使得四角翘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18900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想一想有哪些诗句、文句、成语与中国建筑的特征相关，试举例说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2009021211505744207" descr=""/>
          <p:cNvPicPr/>
          <p:nvPr/>
        </p:nvPicPr>
        <p:blipFill>
          <a:blip r:embed="rId1"/>
          <a:stretch/>
        </p:blipFill>
        <p:spPr>
          <a:xfrm>
            <a:off x="320760" y="1700280"/>
            <a:ext cx="857232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黄鹤楼" descr=""/>
          <p:cNvPicPr/>
          <p:nvPr/>
        </p:nvPicPr>
        <p:blipFill>
          <a:blip r:embed="rId1"/>
          <a:stretch/>
        </p:blipFill>
        <p:spPr>
          <a:xfrm>
            <a:off x="1403280" y="0"/>
            <a:ext cx="6408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99720" y="1197000"/>
            <a:ext cx="12776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武汉黄鹤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115920"/>
            <a:ext cx="7993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在介绍九点基本特征之后，作者谈到了中国建筑的“文法”。 “文法”是指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2060640"/>
            <a:ext cx="8640720" cy="2025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文法”指中国的建筑都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一定的风格和手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，它们为匠师们所遵守，为人们所承认，成了法式，成为人们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代代沿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的惯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文法”——中国建筑的法式或惯例（规矩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63640" y="5013360"/>
            <a:ext cx="74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说明了为什么会形成这些基本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14280" y="765000"/>
          <a:ext cx="8578800" cy="5832360"/>
        </p:xfrm>
        <a:graphic>
          <a:graphicData uri="http://schemas.openxmlformats.org/drawingml/2006/table">
            <a:tbl>
              <a:tblPr/>
              <a:tblGrid>
                <a:gridCol w="2602080"/>
                <a:gridCol w="597672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语言和文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    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建筑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词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文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中国建筑的法式或惯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文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大文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小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39640" y="4428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依据课文，填写下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14280" y="765000"/>
          <a:ext cx="8578800" cy="5832720"/>
        </p:xfrm>
        <a:graphic>
          <a:graphicData uri="http://schemas.openxmlformats.org/drawingml/2006/table">
            <a:tbl>
              <a:tblPr/>
              <a:tblGrid>
                <a:gridCol w="2602080"/>
                <a:gridCol w="5976720"/>
              </a:tblGrid>
              <a:tr h="9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语言和文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    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建筑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词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建筑的单个构件和因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文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中国建筑的法式或惯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文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建筑或建筑群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大文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宫殿、庙宇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小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山亭、水榭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9640" y="4428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依据课文，填写下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457200" y="274680"/>
          <a:ext cx="8229600" cy="2924280"/>
        </p:xfrm>
        <a:graphic>
          <a:graphicData uri="http://schemas.openxmlformats.org/drawingml/2006/table">
            <a:tbl>
              <a:tblPr/>
              <a:tblGrid>
                <a:gridCol w="4330800"/>
                <a:gridCol w="3898800"/>
              </a:tblGrid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语言和文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建筑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a50021"/>
                          </a:solidFill>
                          <a:latin typeface="Arial"/>
                          <a:ea typeface="黑体"/>
                        </a:rPr>
                        <a:t>可译性：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可以互相翻译。同一个意思可以用不同的语言形式来表达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西洋建筑物图" descr=""/>
          <p:cNvPicPr/>
          <p:nvPr/>
        </p:nvPicPr>
        <p:blipFill>
          <a:blip r:embed="rId1"/>
          <a:stretch/>
        </p:blipFill>
        <p:spPr>
          <a:xfrm>
            <a:off x="4714920" y="3384720"/>
            <a:ext cx="4249800" cy="3213000"/>
          </a:xfrm>
          <a:prstGeom prst="rect">
            <a:avLst/>
          </a:prstGeom>
          <a:ln w="0">
            <a:noFill/>
          </a:ln>
        </p:spPr>
      </p:pic>
      <p:pic>
        <p:nvPicPr>
          <p:cNvPr id="120" name="200642984540309" descr=""/>
          <p:cNvPicPr/>
          <p:nvPr/>
        </p:nvPicPr>
        <p:blipFill>
          <a:blip r:embed="rId2"/>
          <a:stretch/>
        </p:blipFill>
        <p:spPr>
          <a:xfrm>
            <a:off x="250920" y="3392640"/>
            <a:ext cx="4305240" cy="32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50920" y="549360"/>
          <a:ext cx="8435880" cy="3585960"/>
        </p:xfrm>
        <a:graphic>
          <a:graphicData uri="http://schemas.openxmlformats.org/drawingml/2006/table">
            <a:tbl>
              <a:tblPr/>
              <a:tblGrid>
                <a:gridCol w="3970440"/>
                <a:gridCol w="4465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语言和文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建筑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a50021"/>
                          </a:solidFill>
                          <a:latin typeface="Arial"/>
                          <a:ea typeface="黑体"/>
                        </a:rPr>
                        <a:t>可译性：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可以互相翻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同一个意思可以用不同的语言形式来表达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0000"/>
                          </a:solidFill>
                          <a:latin typeface="Arial"/>
                          <a:ea typeface="黑体"/>
                        </a:rPr>
                        <a:t>各民族建筑的功用或主要性能是一致的，有相通性</a:t>
                      </a:r>
                      <a:r>
                        <a:rPr b="1" lang="en-US" sz="3600" spc="-1" strike="noStrike">
                          <a:solidFill>
                            <a:srgbClr val="cc0000"/>
                          </a:solidFill>
                          <a:latin typeface="Arial"/>
                          <a:ea typeface="黑体"/>
                        </a:rPr>
                        <a:t>,</a:t>
                      </a:r>
                      <a:r>
                        <a:rPr b="1" lang="en-US" sz="3600" spc="-1" strike="noStrike">
                          <a:solidFill>
                            <a:srgbClr val="cc0000"/>
                          </a:solidFill>
                          <a:latin typeface="Arial"/>
                          <a:ea typeface="黑体"/>
                        </a:rPr>
                        <a:t>但表现出来的形式有很大不同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22" name="西洋建筑物图" descr=""/>
          <p:cNvPicPr/>
          <p:nvPr/>
        </p:nvPicPr>
        <p:blipFill>
          <a:blip r:embed="rId1"/>
          <a:stretch/>
        </p:blipFill>
        <p:spPr>
          <a:xfrm>
            <a:off x="4643280" y="4292640"/>
            <a:ext cx="4249800" cy="2382840"/>
          </a:xfrm>
          <a:prstGeom prst="rect">
            <a:avLst/>
          </a:prstGeom>
          <a:ln w="0">
            <a:noFill/>
          </a:ln>
        </p:spPr>
      </p:pic>
      <p:pic>
        <p:nvPicPr>
          <p:cNvPr id="123" name="200642984540309" descr=""/>
          <p:cNvPicPr/>
          <p:nvPr/>
        </p:nvPicPr>
        <p:blipFill>
          <a:blip r:embed="rId2"/>
          <a:stretch/>
        </p:blipFill>
        <p:spPr>
          <a:xfrm>
            <a:off x="179280" y="4299120"/>
            <a:ext cx="430524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14280" y="765000"/>
          <a:ext cx="8578800" cy="5832720"/>
        </p:xfrm>
        <a:graphic>
          <a:graphicData uri="http://schemas.openxmlformats.org/drawingml/2006/table">
            <a:tbl>
              <a:tblPr/>
              <a:tblGrid>
                <a:gridCol w="2602080"/>
                <a:gridCol w="5976720"/>
              </a:tblGrid>
              <a:tr h="9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语言和文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    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建筑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词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建筑的单个构件和因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文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中国建筑的法式或惯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文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建筑或建筑群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大文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宫殿、庙宇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小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山亭、水榭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39640" y="4428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依据课文，填写下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5280" y="189000"/>
            <a:ext cx="8424720" cy="524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黑体"/>
              </a:rPr>
              <a:t>三、写作目的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黑体"/>
              </a:rPr>
              <a:t>探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如何建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新中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的建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黑体"/>
              </a:rPr>
              <a:t>建议：要继承优良传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怎样保持中国建筑的基本特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为什么梁思成很关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如何建造新中国的建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这个问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620640"/>
            <a:ext cx="8219880" cy="5257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背景：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5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开始，北京随着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旧城改造和地铁修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古建筑开始消失。历史记载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5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，长安左门和长安右门被拆除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54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，地安门被拆，遭受同样命运的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56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是朝阳门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65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是崇文门和阜成门、东直门，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69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，是西直门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而梁思成先生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7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去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642160" cy="4390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年代， 梁思成因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提倡新建筑使用大屋顶等传统形式和保护北京古城而多次遭到批判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。在明清古城墙被拆毁时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梁思成和林徽因抚砖痛哭；因不能挽救北京仅存的完整牌楼街，梁思成失声痛哭。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拆后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黑体"/>
              </a:rPr>
              <a:t>多代之以钢筋水泥的建筑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720" y="44280"/>
            <a:ext cx="83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梁先生为什么痛哭？他为什么主张新建筑要继承优良传统？这体现了他怎样的情怀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2200" y="260280"/>
            <a:ext cx="8497800" cy="6337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中国建筑的个性乃即我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民族之性格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一国一族之建筑是反鉴其物质精神、继往开来之面貌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一个东方古国的城市，在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建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上，如果完全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失掉自己艺术特性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在文化表现及观瞻方面都是大可痛心的。因这事实明显的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代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为我们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文化衰落消失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的现象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——梁思成（《中国建筑史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意大利的比萨斜塔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03640" y="40464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意大利的比萨斜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1778760"/>
            <a:ext cx="8351640" cy="33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008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江苏省东台市西溪大量古建筑被以“旅游开发”的名义非法拆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009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月镇江在旧城改造时已经拆毁五十多处文物古建筑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009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日《中国青年报》：北京雨燕因古建筑大量拆毁锐减近乎消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大多代之以钢筋水泥的建筑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5440" y="333360"/>
            <a:ext cx="85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五十年之后同样的事件一再重演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67920"/>
            <a:ext cx="8218440" cy="1584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你有什么好办法来保护古建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3860640"/>
            <a:ext cx="8207280" cy="76428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我们现在建造新建筑应该怎样设计？（即怎样使新建筑继承优良传统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189000"/>
            <a:ext cx="33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四、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16300000224159124574392855232" descr=""/>
          <p:cNvPicPr/>
          <p:nvPr/>
        </p:nvPicPr>
        <p:blipFill>
          <a:blip r:embed="rId1"/>
          <a:stretch/>
        </p:blipFill>
        <p:spPr>
          <a:xfrm>
            <a:off x="0" y="0"/>
            <a:ext cx="730872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0920" y="6035760"/>
            <a:ext cx="70578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故宫红”为主色调。国家馆为“天”，地区馆为“地”。隐喻天地交泰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96920" y="189000"/>
            <a:ext cx="66780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传统的曲线设计被拉直，层层出挑的主体造型显示了现代工程技术的力度美与结构美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476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中国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5a06fd1b4a40912e8618bf3a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6021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丽江古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罗马圆形竞技场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140360" y="25704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意大利的罗马圆形竞技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北京故宫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1989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北京故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美国白宫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84720" y="549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美国白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滕王阁" descr=""/>
          <p:cNvPicPr/>
          <p:nvPr/>
        </p:nvPicPr>
        <p:blipFill>
          <a:blip r:embed="rId1"/>
          <a:stretch/>
        </p:blipFill>
        <p:spPr>
          <a:xfrm>
            <a:off x="179280" y="77760"/>
            <a:ext cx="8785440" cy="6591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75640" y="33336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滕王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布达拉宫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5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00720" y="404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布达拉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0:55Z</dcterms:created>
  <dc:creator>fxzm</dc:creator>
  <dc:description/>
  <dc:language>en-US</dc:language>
  <cp:lastModifiedBy>zmj</cp:lastModifiedBy>
  <dcterms:modified xsi:type="dcterms:W3CDTF">2011-07-16T04:00:12Z</dcterms:modified>
  <cp:revision>82</cp:revision>
  <dc:subject/>
  <dc:title>中国建筑的 特征 </dc:title>
</cp:coreProperties>
</file>