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arrow.wav" ContentType="audio/x-wav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C26-E440-4D1D-811A-95418303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9EC-6C29-4F1E-840D-BB94C23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109-D0D7-4BBB-A6FA-A564C9A5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B6E-DE8C-4BBE-AB02-355C1967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D65-4CAA-4AF4-BA3D-2DA0548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CE1-5AA1-4186-ABE5-16CD473C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38C-4FD8-4B13-919C-5A52665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942-3E8E-4705-B6CB-98640855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A54-A29F-43FD-AA53-218DF44E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377-D179-44CD-9620-5A0DB9D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30B-16E4-4BC5-9D51-485CC3C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989-2692-42C8-BB61-992BEC0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1133-39F9-4741-9EFE-F3FDD531E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052640"/>
            <a:ext cx="792000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2560" y="1052640"/>
            <a:ext cx="792180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62784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孔子庙建筑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92000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62784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孔子庙的廊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中国建筑的特征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006101112021798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4720" y="33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悬空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4984920" cy="3738600"/>
          </a:xfrm>
          <a:prstGeom prst="rect">
            <a:avLst/>
          </a:prstGeom>
          <a:ln w="0">
            <a:noFill/>
          </a:ln>
        </p:spPr>
      </p:pic>
      <p:pic>
        <p:nvPicPr>
          <p:cNvPr id="70" name="5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716280"/>
          </a:xfrm>
          <a:prstGeom prst="rect">
            <a:avLst/>
          </a:prstGeom>
          <a:ln w="0">
            <a:noFill/>
          </a:ln>
        </p:spPr>
      </p:pic>
      <p:pic>
        <p:nvPicPr>
          <p:cNvPr id="71" name="200632757818930" descr=""/>
          <p:cNvPicPr/>
          <p:nvPr/>
        </p:nvPicPr>
        <p:blipFill>
          <a:blip r:embed="rId3"/>
          <a:stretch/>
        </p:blipFill>
        <p:spPr>
          <a:xfrm>
            <a:off x="0" y="3648240"/>
            <a:ext cx="4932360" cy="3262320"/>
          </a:xfrm>
          <a:prstGeom prst="rect">
            <a:avLst/>
          </a:prstGeom>
          <a:ln w="0">
            <a:noFill/>
          </a:ln>
        </p:spPr>
      </p:pic>
      <p:pic>
        <p:nvPicPr>
          <p:cNvPr id="72" name="xin_311103251413093064914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42116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7708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32720" cy="48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06428171426176" descr=""/>
          <p:cNvPicPr/>
          <p:nvPr/>
        </p:nvPicPr>
        <p:blipFill>
          <a:blip r:embed="rId1"/>
          <a:stretch/>
        </p:blipFill>
        <p:spPr>
          <a:xfrm>
            <a:off x="468360" y="3833640"/>
            <a:ext cx="8207280" cy="3024360"/>
          </a:xfrm>
          <a:prstGeom prst="rect">
            <a:avLst/>
          </a:prstGeom>
          <a:ln w="0">
            <a:noFill/>
          </a:ln>
        </p:spPr>
      </p:pic>
      <p:pic>
        <p:nvPicPr>
          <p:cNvPr id="76" name="200642817144846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200642817166338" descr=""/>
          <p:cNvPicPr/>
          <p:nvPr/>
        </p:nvPicPr>
        <p:blipFill>
          <a:blip r:embed="rId1"/>
          <a:stretch/>
        </p:blipFill>
        <p:spPr>
          <a:xfrm>
            <a:off x="0" y="0"/>
            <a:ext cx="4118040" cy="3484440"/>
          </a:xfrm>
          <a:prstGeom prst="rect">
            <a:avLst/>
          </a:prstGeom>
          <a:ln w="0">
            <a:noFill/>
          </a:ln>
        </p:spPr>
      </p:pic>
      <p:pic>
        <p:nvPicPr>
          <p:cNvPr id="78" name="2006428171543872" descr=""/>
          <p:cNvPicPr/>
          <p:nvPr/>
        </p:nvPicPr>
        <p:blipFill>
          <a:blip r:embed="rId2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2006428171255906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20070423_8c88a16c33aa3ae3f3a4c73MmaLGkKN7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7120" y="80604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举折和举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36000" cy="540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522936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故宫建筑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5720" y="155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屋顶的四面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825480"/>
            <a:ext cx="8839440" cy="5207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08640" y="40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26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屋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u"/>
    <p:sndAc>
      <p:stSnd>
        <p:snd r:embed="rId2" name="arrow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720" y="719280"/>
            <a:ext cx="8242560" cy="541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84960" y="13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彩  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hecker dir="vert"/>
    <p:sndAc>
      <p:stSnd>
        <p:snd r:embed="rId2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76280"/>
            <a:ext cx="8280360" cy="6121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7800" y="755640"/>
            <a:ext cx="7561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6912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广东新会人，建筑学家。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梁启超之长子，为其父逃亡日本时所生，十四岁入清华堂，对中国古建筑的研究情有独钟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98100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梁思成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1901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1972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7600" y="852480"/>
            <a:ext cx="8307360" cy="5153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84960" y="13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彩  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u"/>
    <p:sndAc>
      <p:stSnd>
        <p:snd r:embed="rId2" name="arrow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9720" y="708120"/>
            <a:ext cx="7864560" cy="5441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334640" y="2133720"/>
            <a:ext cx="1155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屋  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u"/>
    <p:sndAc>
      <p:stSnd>
        <p:snd r:embed="rId2" name="arrow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7440" y="741240"/>
            <a:ext cx="8707320" cy="537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888680" y="264528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筒瓦、戗兽、脊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u"/>
    <p:sndAc>
      <p:stSnd>
        <p:snd r:embed="rId2" name="arrow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06101743353519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021360"/>
          </a:xfrm>
          <a:prstGeom prst="rect">
            <a:avLst/>
          </a:prstGeom>
          <a:ln w="0">
            <a:noFill/>
          </a:ln>
        </p:spPr>
      </p:pic>
      <p:pic>
        <p:nvPicPr>
          <p:cNvPr id="98" name="四神瓦当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716360" cy="551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76720" y="333360"/>
            <a:ext cx="165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瓦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907920"/>
            <a:ext cx="7344000" cy="518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8560" y="930240"/>
            <a:ext cx="7345440" cy="516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8840" y="907920"/>
            <a:ext cx="7345440" cy="518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741708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92360" y="60674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根据课文的表述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在图中找出柱、梁、斗、拱、举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2087280" cy="85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文章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000" y="1268280"/>
            <a:ext cx="1873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大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格、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8720" y="1196640"/>
            <a:ext cx="20876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成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别建筑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面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装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800" y="1916280"/>
            <a:ext cx="11552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建筑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1484280"/>
            <a:ext cx="576360" cy="4608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1844640"/>
            <a:ext cx="288720" cy="29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21440" y="2349360"/>
            <a:ext cx="1655640" cy="1202760"/>
            <a:chOff x="5221440" y="2349360"/>
            <a:chExt cx="1655640" cy="1202760"/>
          </a:xfrm>
        </p:grpSpPr>
        <p:sp>
          <p:nvSpPr>
            <p:cNvPr id="113" name=""/>
            <p:cNvSpPr/>
            <p:nvPr/>
          </p:nvSpPr>
          <p:spPr>
            <a:xfrm>
              <a:off x="5437080" y="2349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柱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斗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举折、举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21440" y="2565360"/>
              <a:ext cx="142560" cy="7923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21440" y="3573360"/>
            <a:ext cx="2158920" cy="2037240"/>
            <a:chOff x="5221440" y="3573360"/>
            <a:chExt cx="2158920" cy="2037240"/>
          </a:xfrm>
        </p:grpSpPr>
        <p:sp>
          <p:nvSpPr>
            <p:cNvPr id="116" name=""/>
            <p:cNvSpPr/>
            <p:nvPr/>
          </p:nvSpPr>
          <p:spPr>
            <a:xfrm>
              <a:off x="5580000" y="4437000"/>
              <a:ext cx="93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3573360"/>
              <a:ext cx="18716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屋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朱红为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外露构件加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有色琉璃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1440" y="3716280"/>
              <a:ext cx="215640" cy="13683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27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国建筑的九大特征是什么顺序展开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016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局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结构）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装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0" y="44280"/>
            <a:ext cx="23749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840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九大特征精要地概括了中国建筑的特点，既有形象生动的描述，也有理论层面上的解释，给读者一个明晰的印象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zy3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怎样理解作者提出的“中国建筑的‘文法’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29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这是一种比喻的说法，借此说明中国建筑的风格和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所谓“中国建筑的‘文法’”，是中国建筑几千年来形成并沿用的惯例法式，从建筑框架，到整体构成，从台基到屋顶，都有一定之规，有它的“拘束性”，但也有它的“灵活性”，体现在具体的建筑上，既表现出中国建筑的一贯风格，也具有独特的个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把握全文的整体结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文可分为四个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从地域分布和历史跨度方面说明中国建筑的影响，引论。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谈中国建筑的九大特征。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探讨中国建筑的风格和手法（“文法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从古为今用的立场出发，提倡熟悉中国建筑的“文法”和“词汇”，在现代社会把我们民族优良的建筑传统发扬光大，结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201080" cy="12240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理解作者提出的各民族建筑之间的“可译性”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也是用“语言和文学”为喻。各民族建筑的功用或主要性能是一致的，有相通性，但表现出来的形式却有很大不同，恰似不同民族的语言，表达同一个意思，语言形式却不相同一样。所谓的“可译性”，是指各民族建筑在实质上有“同一性质”，可以透过其纷繁多样的表现形式解读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36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以石料为主的西洋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0760" y="981000"/>
            <a:ext cx="7345440" cy="512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7040" y="380880"/>
            <a:ext cx="754992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5440" y="173448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凯旋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plit dir="out" orient="horz"/>
    <p:sndAc>
      <p:stSnd>
        <p:snd r:embed="rId2" name="arrow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8720" y="1052640"/>
            <a:ext cx="748836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2000" y="304020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参观附近的典型建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抓住其建筑特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一篇短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234936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1960" y="696960"/>
            <a:ext cx="7478640" cy="546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36000" y="981000"/>
            <a:ext cx="75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岳阳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amond/>
    <p:sndAc>
      <p:stSnd>
        <p:snd r:embed="rId2" name="arrow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27120"/>
            <a:ext cx="7467840" cy="5603760"/>
          </a:xfrm>
          <a:prstGeom prst="rect">
            <a:avLst/>
          </a:prstGeom>
          <a:ln w="0">
            <a:noFill/>
          </a:ln>
        </p:spPr>
      </p:pic>
    </p:spTree>
  </p:cSld>
  <p:transition advTm="3000">
    <p:plus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7120"/>
            <a:ext cx="7467840" cy="560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74840" y="1484280"/>
            <a:ext cx="139932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滕王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Bar dir="vert"/>
    <p:sndAc>
      <p:stSnd>
        <p:snd r:embed="rId2" name="arrow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27120"/>
            <a:ext cx="7467840" cy="560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93920" y="14018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426240" y="981000"/>
            <a:ext cx="139932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鹳鹊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ircle/>
    <p:sndAc>
      <p:stSnd>
        <p:snd r:embed="rId2" name="arrow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563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67040" y="625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布达拉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ircle/>
    <p:sndAc>
      <p:stSnd>
        <p:snd r:embed="rId2" name="arrow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gjd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840" y="765000"/>
            <a:ext cx="1826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天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3:52:04Z</dcterms:created>
  <dc:creator>微软用户</dc:creator>
  <dc:description/>
  <dc:language>en-US</dc:language>
  <cp:lastModifiedBy>微软用户</cp:lastModifiedBy>
  <dcterms:modified xsi:type="dcterms:W3CDTF">2013-12-03T14:34:16Z</dcterms:modified>
  <cp:revision>38</cp:revision>
  <dc:subject/>
  <dc:title>中国建筑的特征 梁思成</dc:title>
</cp:coreProperties>
</file>