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6D09-63C7-4CA8-A51D-01C7CC67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给”””””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D25-497B-464F-A75A-492D11FA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3D7-69A3-4F42-854B-14031C6A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510-E2E4-443A-935F-34BAC9AD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FF5-1513-4DED-8EE7-12E443DD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2A40-5796-4DAD-A2FB-EB5F6054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1784-8A4C-4285-B94F-78DAE231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3C04-CDE4-4A3E-9811-85B3BE16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EE18-8629-4898-929A-8D1A6E01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13EA-3B5D-4A08-9CC9-56001DA6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153D-971A-4B52-B84C-C09DA4BB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6CB8-6FD8-4DBB-BBB8-4AFA24C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952-AC80-46EA-97E3-067050E0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D3F9-A967-4AB7-BAE6-93FF879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1372-13FE-46D0-8A19-BDAA457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272C-8920-4050-BFE8-1B08D0E7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E8BC-2F1E-45D8-BDE6-8D6C9560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243F-247D-46C8-8847-96F5F8B5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2DB-FB5A-438B-995F-07B411AA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23E-AE2B-4F1F-9B84-C015B736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624-B2D5-4519-AB1E-F8727345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621-59B0-4E5B-B767-D5320735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2DB-0470-4703-935D-0D2C125E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1E4-D4CD-4789-A3B2-C3AEAD73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6B3-7AF3-4832-9666-72E2F4FC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0EA0-C08A-485F-B782-D4C03AFD86C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60BB-A1D7-449C-950E-9B0E0E9589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71ce6d1989085a2234fa41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43000" y="12175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b812f"/>
                </a:solidFill>
                <a:latin typeface="Arial"/>
                <a:ea typeface="隶书"/>
              </a:rPr>
              <a:t>中国建筑的特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2455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b812f"/>
                </a:solidFill>
                <a:latin typeface="Arial"/>
              </a:rPr>
              <a:t>梁思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80c333dde482d1175882dda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2895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段前标上序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筛选每段主要信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探究各个“特征”的内涵、说明方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太和殿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4572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一 、个体建筑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7f70423281ce07da1a4cff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prstDash val="sysDot"/>
            <a:miter/>
          </a:ln>
        </p:spPr>
      </p:pic>
      <p:sp>
        <p:nvSpPr>
          <p:cNvPr id="134" name=""/>
          <p:cNvSpPr/>
          <p:nvPr/>
        </p:nvSpPr>
        <p:spPr>
          <a:xfrm>
            <a:off x="3048120" y="1600200"/>
            <a:ext cx="5029200" cy="703440"/>
          </a:xfrm>
          <a:prstGeom prst="rect">
            <a:avLst/>
          </a:prstGeom>
          <a:noFill/>
          <a:ln w="38160">
            <a:solidFill>
              <a:srgbClr val="33cc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（一）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立体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，单个的建筑自下而上一般是由台基、主体（房屋）和屋顶三个主要部分构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533520"/>
            <a:ext cx="5029200" cy="806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aramond"/>
                <a:ea typeface="黑体"/>
              </a:rPr>
              <a:t>中国建筑的特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1752480"/>
            <a:ext cx="761760" cy="2104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siheyu3" descr=""/>
          <p:cNvPicPr/>
          <p:nvPr/>
        </p:nvPicPr>
        <p:blipFill>
          <a:blip r:embed="rId1"/>
          <a:srcRect l="0" t="0" r="0" b="13923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pic>
        <p:nvPicPr>
          <p:cNvPr id="139" name="1059037342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38088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二、群体建筑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故宫全景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010640" cy="6019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293960" y="2011320"/>
            <a:ext cx="13993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鸟瞰故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7f70423281ce07da1a4cff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28800" y="228600"/>
            <a:ext cx="4952880" cy="806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Garamond"/>
                <a:ea typeface="黑体"/>
              </a:rPr>
              <a:t>中国建筑的特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1295280"/>
            <a:ext cx="4876560" cy="703440"/>
          </a:xfrm>
          <a:prstGeom prst="rect">
            <a:avLst/>
          </a:prstGeom>
          <a:noFill/>
          <a:ln w="38160">
            <a:solidFill>
              <a:srgbClr val="33cc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（二）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平面布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，一所房子由一个建筑群落组成，左右呈轴对称，主要房屋朝南，整个建筑群有主有从，有“户外的空间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20" y="1371600"/>
            <a:ext cx="1399320" cy="35514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举例子打比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2006428161183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7840" y="17460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三、结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亭子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400800" cy="5092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9480" y="2286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柱子支撑的亭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门窗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6553440" cy="5019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133720" y="57150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宋体"/>
              </a:rPr>
              <a:t>四合院里的木质的墙门窗一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7f70423281ce07da1a4cff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304920"/>
            <a:ext cx="4879800" cy="806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Garamond"/>
                <a:ea typeface="黑体"/>
              </a:rPr>
              <a:t>中国建筑的特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1600200"/>
            <a:ext cx="4876920" cy="1854360"/>
          </a:xfrm>
          <a:prstGeom prst="rect">
            <a:avLst/>
          </a:prstGeom>
          <a:noFill/>
          <a:ln w="38160">
            <a:solidFill>
              <a:srgbClr val="33cc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三）介绍了中国建筑的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结构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即以“木材做立柱和横梁”的框架结构，并解释了中国建筑的力学原理，指出这与现代的结构原则上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440" y="1828800"/>
            <a:ext cx="2618280" cy="327672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列数字打比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举例子作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765000"/>
            <a:ext cx="83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梁思成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01—197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），我国著名建筑学家，清华大学教授，广东省新会县人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0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日生于日本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1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年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2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年就学于北京清华学校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2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年赴美留学入康乃尔大学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27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年获宾夕法尼亚大学建筑系硕士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27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年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28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年在哈佛大学美术研究院学习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28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年回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3645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年为清华大学创办了建筑系，担任教授兼系主任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年。历任中国建筑学会副理事长、北京土建学会理事长、中国科学院技术科学学部委员、首都人民英雄纪念碑建设委员会副主任等职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日病逝于北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200642817166338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4724640" cy="3416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533520" y="5335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四、斗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2006428171543872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4572000" cy="2895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60" name="2006428171255906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380988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2006428171426176" descr="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62" name="2006428171448467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304920" y="304920"/>
            <a:ext cx="861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7f70423281ce07da1a4cff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00400" y="228240"/>
            <a:ext cx="5105520" cy="1143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  <a:ea typeface="黑体"/>
              </a:rPr>
              <a:t>中国建筑的特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600200"/>
            <a:ext cx="5029200" cy="2837160"/>
          </a:xfrm>
          <a:prstGeom prst="rect">
            <a:avLst/>
          </a:prstGeom>
          <a:noFill/>
          <a:ln w="38160">
            <a:solidFill>
              <a:srgbClr val="33cc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四）说明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斗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的作用，先描述“拱”是“弓形短木”，斗是“斗形方木块”，它们组合起来称“斗拱”。它不但可“用以减少立柱和横梁交接处的剪力”，还具有装饰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160" y="1752480"/>
            <a:ext cx="2618280" cy="327672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摹状貌下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列图表举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228600"/>
            <a:ext cx="39625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五、举折、举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31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723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5af11f1fbd44eb3b40341753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50276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5685fbce94236e1df9dc61d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362320" y="380880"/>
            <a:ext cx="5105160" cy="1143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  <a:ea typeface="黑体"/>
              </a:rPr>
              <a:t>中国建筑的特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1905120"/>
            <a:ext cx="5181480" cy="1875600"/>
          </a:xfrm>
          <a:prstGeom prst="rect">
            <a:avLst/>
          </a:prstGeom>
          <a:noFill/>
          <a:ln w="38160">
            <a:solidFill>
              <a:srgbClr val="33cc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五）说明“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举折，举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”的作用，即为了形成屋顶的斜坡或曲面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842400" y="1905120"/>
            <a:ext cx="2861640" cy="220968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摹状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下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k4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41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480" y="22860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六、屋顶的装饰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786a716ef13af254b90a756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925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7f70423281ce07da1a4cff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181480" cy="1143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  <a:ea typeface="黑体"/>
              </a:rPr>
              <a:t>中国建筑的特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5181480" cy="1922400"/>
          </a:xfrm>
          <a:prstGeom prst="rect">
            <a:avLst/>
          </a:prstGeom>
          <a:noFill/>
          <a:ln w="38160">
            <a:solidFill>
              <a:srgbClr val="33cc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（六）介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屋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，指出它是“中国建筑中最主要的特征之一”，并在与其他建筑体系的比较中，盛称“翘起如翼”的屋顶是我们民族文化的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9320" y="2057400"/>
            <a:ext cx="1399320" cy="281952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作比较引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2006428172557743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356360" cy="5334120"/>
          </a:xfrm>
          <a:prstGeom prst="rect">
            <a:avLst/>
          </a:prstGeom>
          <a:ln w="0">
            <a:noFill/>
          </a:ln>
        </p:spPr>
      </p:pic>
      <p:pic>
        <p:nvPicPr>
          <p:cNvPr id="182" name="200642984540309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3959280" cy="5486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28404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七、颜色的选择——朱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024320" y="1484280"/>
            <a:ext cx="6069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少年时的林徽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315e0198299a5a2c6f068c58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5685fbce94236e1df9dc61d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181840" cy="1143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  <a:ea typeface="黑体"/>
              </a:rPr>
              <a:t>中国建筑的特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676520"/>
            <a:ext cx="5181840" cy="1739880"/>
          </a:xfrm>
          <a:prstGeom prst="rect">
            <a:avLst/>
          </a:prstGeom>
          <a:noFill/>
          <a:ln w="38160">
            <a:solidFill>
              <a:srgbClr val="33cc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七）从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着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方面介绍中国建筑的特征，指出“在使用颜色上，中国建筑是世界各建筑体系中最大胆的”，不但在大建筑物中使用朱红色，而且还大量用彩绘来装饰木架部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4240" y="1981080"/>
            <a:ext cx="1399320" cy="34290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举例子作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霸王拳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8620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1532520" y="1828080"/>
            <a:ext cx="12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霸王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80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八、部件的装饰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三福云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34340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6252480" y="1828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三福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91320" y="3049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瓦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屋顶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11480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5tI146b5GWTIqqU735eg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962520" cy="530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1219320" y="457200"/>
            <a:ext cx="199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脊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660680" y="392040"/>
            <a:ext cx="237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门 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门环3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3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7f70423281ce07da1a4cff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457200"/>
            <a:ext cx="5334120" cy="6858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  <a:ea typeface="黑体"/>
              </a:rPr>
              <a:t>中国建筑的特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00200"/>
            <a:ext cx="5334120" cy="1191240"/>
          </a:xfrm>
          <a:prstGeom prst="rect">
            <a:avLst/>
          </a:prstGeom>
          <a:noFill/>
          <a:ln w="38160">
            <a:solidFill>
              <a:srgbClr val="33cc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八）介绍中国建筑的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装饰部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大到结构部件、脊吻、瓦当，小到门窗、门环、角叶，都具有很鲜明的装饰形状或图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4800600"/>
            <a:ext cx="1828800" cy="7034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举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木刻彩漆" descr=""/>
          <p:cNvPicPr/>
          <p:nvPr/>
        </p:nvPicPr>
        <p:blipFill>
          <a:blip r:embed="rId1"/>
          <a:stretch/>
        </p:blipFill>
        <p:spPr>
          <a:xfrm>
            <a:off x="455760" y="1373040"/>
            <a:ext cx="3963960" cy="441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304920" y="380880"/>
            <a:ext cx="58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八、建筑材料的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5867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彩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59120" y="586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木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616871fdee55d5d9fd037f5f" descr=""/>
          <p:cNvPicPr/>
          <p:nvPr/>
        </p:nvPicPr>
        <p:blipFill>
          <a:blip r:embed="rId2"/>
          <a:stretch/>
        </p:blipFill>
        <p:spPr>
          <a:xfrm>
            <a:off x="4863960" y="1371600"/>
            <a:ext cx="3975120" cy="441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3505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浮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4572000"/>
            <a:ext cx="17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琉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d4493e45456d0c68500ffe52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5867280" cy="32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2" name="6f849bc980b990357f3e6fd5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6477120" cy="289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7f70423281ce07da1a4cff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85800" y="457200"/>
            <a:ext cx="5334120" cy="6858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  <a:ea typeface="黑体"/>
              </a:rPr>
              <a:t>中国建筑的特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600200"/>
            <a:ext cx="5334120" cy="1312920"/>
          </a:xfrm>
          <a:prstGeom prst="rect">
            <a:avLst/>
          </a:prstGeom>
          <a:noFill/>
          <a:ln w="38160">
            <a:solidFill>
              <a:srgbClr val="33cc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（九）说明中国建筑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用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方面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装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特点，有色的琉璃砖瓦、油漆、木刻、石雕、砖雕等，无不尽显中国建筑的装饰特征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69720" y="2087640"/>
            <a:ext cx="1399320" cy="17222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作诠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223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中国建筑的九大特征是什么顺序展开的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2057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、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整体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到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局部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、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（结构）到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（装饰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239960" y="1628640"/>
            <a:ext cx="6069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中年时的林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2" descr=""/>
          <p:cNvPicPr/>
          <p:nvPr/>
        </p:nvPicPr>
        <p:blipFill>
          <a:blip r:embed="rId1"/>
          <a:stretch/>
        </p:blipFill>
        <p:spPr>
          <a:xfrm>
            <a:off x="0" y="0"/>
            <a:ext cx="500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1219320"/>
            <a:ext cx="761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建筑的基本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1676520"/>
            <a:ext cx="228600" cy="4038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5720 h 4038480"/>
              <a:gd name="textAreaBottom" fmla="*/ 37227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1066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个别建筑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1752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群体建筑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23623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木材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2895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斗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35053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举折和举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2057400"/>
            <a:ext cx="1067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472428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装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4197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114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屋顶的装饰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724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颜色的选择—朱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334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部件的装饰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60199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材料的装饰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4648320"/>
            <a:ext cx="60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外观装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58200" y="1828800"/>
            <a:ext cx="0" cy="5335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5040" y="2207520"/>
            <a:ext cx="66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5040" y="4952880"/>
            <a:ext cx="66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4191120"/>
            <a:ext cx="0" cy="53316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79080" y="1066680"/>
            <a:ext cx="11552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整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55400" y="4419720"/>
            <a:ext cx="115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局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2057400"/>
            <a:ext cx="0" cy="213372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895480"/>
            <a:ext cx="0" cy="198144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2286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第二部分结构与说明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37160" y="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09680"/>
            <a:ext cx="59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129528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2971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Garamond"/>
                <a:ea typeface="黑体"/>
              </a:rPr>
              <a:t>课文小结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黑体"/>
                <a:ea typeface="黑体"/>
              </a:rPr>
              <a:t>作者条理清楚、精要严谨地概括了中国建筑的显著特点，通过多种说明方法，既作了理论层面上的解释，也有形象生动的描述，给读者一个明晰的印象。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zzy3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3152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a769afb4167499528bd4b2a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33720" y="68580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en-US" sz="3400" spc="-1" strike="noStrike">
                <a:solidFill>
                  <a:srgbClr val="ff5050"/>
                </a:solidFill>
                <a:latin typeface="黑体"/>
                <a:ea typeface="黑体"/>
              </a:rPr>
              <a:t>检查学习效果</a:t>
            </a:r>
            <a:r>
              <a:rPr b="0" lang="en-US" sz="3400" spc="-1" strike="noStrike">
                <a:solidFill>
                  <a:srgbClr val="006633"/>
                </a:solidFill>
                <a:latin typeface="黑体"/>
                <a:ea typeface="黑体"/>
              </a:rPr>
              <a:t> </a:t>
            </a:r>
            <a:br>
              <a:rPr sz="3400"/>
            </a:br>
            <a:br>
              <a:rPr sz="38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81952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看看下面这些现代建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体现了中国建筑的哪些特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国家大剧院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925040" cy="5391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825640" y="571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国家大剧院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14920" y="2819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红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110Gc3ad55a510d143d193909be92889b6ff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315200" cy="6172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081640" y="-340200"/>
            <a:ext cx="729000" cy="69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珠海金域廊院小区规划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54864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对称 红色 屋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上海金茂大厦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019920" cy="6172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434600" y="944640"/>
            <a:ext cx="72900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上海金茂大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685800"/>
            <a:ext cx="833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116797027565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172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90760" y="3808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重庆人民大礼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87760" y="152388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红色 屋顶 彩绘 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怎样理解作者提出的中国建筑的“文法”？为了说明这种“文法”，作者列举了哪些事例？请举例说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28954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——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这是一种比喻的说法，借语言文字中“文法”的术语说明中国建筑的风格和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中国建筑的“文法”是指中国的建筑都有一定的风格和手法，并且为匠师们所遵守，为人们所承认，成了法式，成为人们沿用的惯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、文章中说的建筑的“词汇”指的是什么？这样写的好处是什么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词汇”指的是建筑的材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这是比喻的说法，使得说明生动，让读者易于接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本文用“文法”来比喻建筑的“规矩”，用“词汇”比喻建筑的材料，让人们能过熟悉的文章组成来理解建筑中的各种法式和材料的使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325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、“这种‘文法’有一定的拘束怀，但同时也有极大的运用的灵活性，能有多样性的表现。”这种“拘束性和“灵活性”表现在哪里？用了哪些修辞手法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？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86800" cy="4038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——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拘束性”指建筑物必须严格遵守一定的“文法”，即惯例，但是可以在惯例下出现不同的样式。这种特点体现在具体的建筑上，既表现出中国建筑的一贯的风格，又具的独特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用了比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类比的修辞手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所谓类比，即是用不同类（相同类）的两种事物的比较说明事物特征的说明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才女佳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岁的林徽因以才貌双全闻名于北京上层文化圈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年代她业余创作出了具有专业水准的文学作品，其范围涉及诗歌、散文、小说、戏剧各个领域，在京派作家圈中声誉鹊起；林徽因也是中华人民共和国国徽和人民英雄纪念碑的主要设计者；她与梁思成情投意合的美满婚姻，与徐志摩、金岳霖之间超凡脱俗的亲密友情……在她生前，没有人能够忽视她的存在。 甚至林徽因的早逝，也留给同辈亲友惘然的失落，因为她的离去，也预示着他们最具创造力的黄金年华的结束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4</a:t>
            </a: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、怎样理解作者提出的各民族之间的“可译性”？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  ——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用“语言和文字”为喻，各民族建筑的功用或主要性能是一致的，有相通性，但表现出的形式却有很大的不同，恰似不同民族的语言，表达同一意思，语言形式却不相同。所谓的“可译性”是指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各民族建筑在实质上有同一性质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可以透过其纷繁多样的表现形式解读出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9640" y="765000"/>
            <a:ext cx="2376720" cy="70344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812f"/>
                </a:solidFill>
                <a:latin typeface="Arial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5280" y="2060640"/>
            <a:ext cx="7920000" cy="2306160"/>
            <a:chOff x="395280" y="2060640"/>
            <a:chExt cx="7920000" cy="2306160"/>
          </a:xfrm>
        </p:grpSpPr>
        <p:sp>
          <p:nvSpPr>
            <p:cNvPr id="275" name=""/>
            <p:cNvSpPr/>
            <p:nvPr/>
          </p:nvSpPr>
          <p:spPr>
            <a:xfrm>
              <a:off x="395280" y="2060640"/>
              <a:ext cx="792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理解 “文法”   “词汇”  “可译性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3800" y="2923200"/>
              <a:ext cx="460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）用简要的话概括它们各自的意思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60080" y="3785400"/>
              <a:ext cx="387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）分析这些比喻的表达作用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9547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中国建筑“文法”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是中国建筑几千来形成并沿用的惯例法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从建筑框架到整体构成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从台基到屋顶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都有定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有“拘束性”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但也有它的灵活性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在具体的建筑上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既表现出中国建筑的一贯风格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又具有独特的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32857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中国建筑“词汇”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是指中国建筑中如一轩一楼等那些相对独立的建筑个体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如同“词汇”遵循“文法”构成文章一样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它们能遵循中国建筑法式组织起来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形成建筑的整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54129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可译性”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指各民族建筑在实质上有同一性质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可以透过其纷繁多样的表现形式解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7920" y="1980000"/>
            <a:ext cx="578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形象生动地表达出建筑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规则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独创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情感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21480" y="858960"/>
            <a:ext cx="40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）分析这些比喻的表达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石牌坊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408720" cy="52563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525400" y="3414960"/>
            <a:ext cx="7290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再　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梁思成　林徽音" descr=""/>
          <p:cNvPicPr/>
          <p:nvPr/>
        </p:nvPicPr>
        <p:blipFill>
          <a:blip r:embed="rId1"/>
          <a:stretch/>
        </p:blipFill>
        <p:spPr>
          <a:xfrm>
            <a:off x="1882800" y="333360"/>
            <a:ext cx="50068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ed7dd42b0674bea8a78690e7f186767_l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120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9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d91a4583a24dba0800a18b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0d91a4583a24dba0800a18b5" descr=""/>
          <p:cNvPicPr/>
          <p:nvPr/>
        </p:nvPicPr>
        <p:blipFill>
          <a:blip r:embed="rId2"/>
          <a:stretch/>
        </p:blipFill>
        <p:spPr>
          <a:xfrm>
            <a:off x="2362320" y="0"/>
            <a:ext cx="243828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676520" y="4114440"/>
            <a:ext cx="761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400800" y="2209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000000"/>
                </a:solidFill>
                <a:latin typeface="Garamond"/>
                <a:ea typeface="黑体"/>
              </a:rPr>
              <a:t>析 题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57200"/>
            <a:ext cx="41911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指事物作为标志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显著特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0574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中国建筑   的   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81080" y="28191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0d91a4583a24dba0800a18b5" descr=""/>
          <p:cNvPicPr/>
          <p:nvPr/>
        </p:nvPicPr>
        <p:blipFill>
          <a:blip r:embed="rId3"/>
          <a:srcRect l="30000" t="63339" r="53333" b="0"/>
          <a:stretch/>
        </p:blipFill>
        <p:spPr>
          <a:xfrm>
            <a:off x="4038480" y="4495680"/>
            <a:ext cx="152424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4648320" y="274284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114800"/>
            <a:ext cx="76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676520"/>
            <a:ext cx="609480" cy="838080"/>
          </a:xfrm>
          <a:custGeom>
            <a:avLst/>
            <a:gdLst>
              <a:gd name="textAreaLeft" fmla="*/ 209520 w 609480"/>
              <a:gd name="textAreaRight" fmla="*/ 503280 w 609480"/>
              <a:gd name="textAreaTop" fmla="*/ 642240 h 838080"/>
              <a:gd name="textAreaBottom" fmla="*/ 691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319"/>
                </a:moveTo>
                <a:lnTo>
                  <a:pt x="16546" y="20319"/>
                </a:lnTo>
                <a:lnTo>
                  <a:pt x="16546" y="7425"/>
                </a:lnTo>
                <a:lnTo>
                  <a:pt x="12773" y="7425"/>
                </a:lnTo>
                <a:lnTo>
                  <a:pt x="17187" y="0"/>
                </a:lnTo>
                <a:lnTo>
                  <a:pt x="21600" y="7425"/>
                </a:lnTo>
                <a:lnTo>
                  <a:pt x="17827" y="7425"/>
                </a:lnTo>
                <a:lnTo>
                  <a:pt x="178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63480" y="144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探究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402cdd464c49c02d6a63e5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27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b812f"/>
                </a:solidFill>
                <a:latin typeface="Garamond"/>
              </a:rPr>
              <a:t>读文章理出文章的结构脉络</a:t>
            </a:r>
            <a:r>
              <a:rPr b="1" lang="en-US" sz="3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120" y="5105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以提倡熟悉中国建筑的“文法”和“词汇”，建造新中国建筑作总结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514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分析中国建筑的九大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657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探讨中国建筑的风格和手法（“文法”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295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从地域分布和历史跨度方面说明中国建筑的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9720" y="129528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—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400" y="251460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—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6576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4—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0T11:52:50Z</dcterms:created>
  <dc:creator/>
  <dc:description/>
  <dc:language>en-US</dc:language>
  <cp:lastModifiedBy>zmj</cp:lastModifiedBy>
  <dcterms:modified xsi:type="dcterms:W3CDTF">2011-08-20T11:52:58Z</dcterms:modified>
  <cp:revision>3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