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BC4-C786-474E-93ED-2E815B28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2B9F-F228-42EA-A77D-61FFAEEC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C51-2C31-478C-99C5-0B30A6B0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70A-6B99-421E-A858-CFCDC4B3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7E3-7037-423B-972C-0D465354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8AB-74FE-41A4-AAAA-D112CBC3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318-2731-4902-B72B-9AA45E8F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7383-DDC1-40A1-AE17-FA4C5B33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010-8070-4C0B-9D60-AF172C5D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4833-EB1F-479D-920C-F42C9999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0A2-9C83-4411-9EC3-75AB6B55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26E-A967-432F-84E4-CB06DA3E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84D5-F2E1-4C55-85BA-89AB50AA9E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" y="115560"/>
            <a:ext cx="20923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Calibri"/>
              </a:rPr>
              <a:t>听歌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长江之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928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你从雪山走来，春潮是你的丰采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你向东海奔去，惊涛是你的气概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你用甘甜的乳汁，哺育各族儿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你用健美的臂膀，挽起高山大海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我们赞美长江，你是无穷的源泉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我们依恋长江，你有母亲的情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男独朗诵（我们赞美长江 你是无穷的源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男独朗诵（我们依恋长江 你有母亲的情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你从远古走来，巨浪荡涤着尘埃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你向未来奔去，涛声回荡在天外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你用纯洁的清流，灌溉花的国土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你用磅礴的力量，推动新的时代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我们赞美长江，你是无穷的源泉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我们依恋长江，你有母亲的情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啊  长江   啊  长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季小琴 - 长江之歌 (Live)" descr=""/>
          <p:cNvPicPr/>
          <p:nvPr/>
        </p:nvPicPr>
        <p:blipFill>
          <a:blip r:embed="rId1"/>
          <a:stretch/>
        </p:blipFill>
        <p:spPr>
          <a:xfrm>
            <a:off x="755640" y="223056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651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u=3435947482,3416219825&amp;fm=27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6119640" y="5445000"/>
            <a:ext cx="30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冰塔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332000" y="199692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造物主在这些尽情卖弄着它的无所不能的创造力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u=1372489399,2253645366&amp;fm=27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5724360" y="189000"/>
            <a:ext cx="30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冰塔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u=1501547104,1675653224&amp;fm=27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24000" y="115920"/>
            <a:ext cx="302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冰塔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95280" y="429264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那些冰塔、冰柱、冰洞、冰廊、冰壁上徐徐垂挂冰的流苏，像长发披肩</a:t>
            </a: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细读课文，感受探索之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timgDX3KD3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85480" y="42876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标示出作者经历的句子，说说在各拉丹东源头，作者一行人遇到了哪些困难，他们感受如何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跳读课文，品味探索之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u=2309923902,88577789&amp;fm=27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95280" y="189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请找出在探索长江源头的过程中，作者一行人感受的句子，读一读，品一品，说说你从中感觉出作者什么样的感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u=3843292476,436152624&amp;fm=27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971640" y="450864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敬畏自然，豁达乐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u=3914484900,1037569009&amp;fm=27&amp;gp=0"/>
          <p:cNvPicPr/>
          <p:nvPr/>
        </p:nvPicPr>
        <p:blipFill>
          <a:blip r:embed="rId1"/>
          <a:stretch/>
        </p:blipFill>
        <p:spPr>
          <a:xfrm>
            <a:off x="73080" y="4221000"/>
            <a:ext cx="9037440" cy="2808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79280" y="189000"/>
            <a:ext cx="885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各拉丹东值得你历经艰辛去走上一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一派奇美令人眩晕，造物主在这些尽情卖弄着它的无所不能的创造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他用奇怪的“鱼眼”为我拍了一张反转片，一部分精神和生命就寄存在这变了形的仙境中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是坚冰之下的流水之声，它一刻不停，从这千山之巅、万水之源的藏北高原流出，开始演绎长江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u=357258654,4098194263&amp;fm=200&amp;gp=0"/>
          <p:cNvPicPr/>
          <p:nvPr/>
        </p:nvPicPr>
        <p:blipFill>
          <a:blip r:embed="rId1"/>
          <a:stretch/>
        </p:blipFill>
        <p:spPr>
          <a:xfrm>
            <a:off x="0" y="-404640"/>
            <a:ext cx="9144000" cy="4841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250560" y="4581360"/>
            <a:ext cx="88930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alibri"/>
              </a:rPr>
              <a:t>人生是跋涉，也是旅行；是等待，也是重逢；是探险，也是寻宝；是眼泪，也是歌声。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汪国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mg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3"/>
          <p:cNvSpPr txBox="1"/>
          <p:nvPr/>
        </p:nvSpPr>
        <p:spPr>
          <a:xfrm>
            <a:off x="714240" y="1000080"/>
            <a:ext cx="67820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在长江源头各拉丹东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000760" y="328608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Garamond"/>
              </a:rPr>
              <a:t>马丽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5840" y="22147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作者由远及近，采用</a:t>
            </a:r>
            <a:r>
              <a:rPr b="1" lang="zh-CN" sz="3200" spc="-1" strike="noStrike">
                <a:solidFill>
                  <a:srgbClr val="0000cc"/>
                </a:solidFill>
                <a:latin typeface="Calibri"/>
              </a:rPr>
              <a:t>“移步换景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的方法展现了冰塔林神奇、壮美的特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课文中，“</a:t>
            </a:r>
            <a:r>
              <a:rPr b="1" lang="zh-CN" sz="3200" spc="-1" strike="noStrike">
                <a:solidFill>
                  <a:srgbClr val="0000cc"/>
                </a:solidFill>
                <a:latin typeface="Calibri"/>
              </a:rPr>
              <a:t>鲜有人迹的冰雪世界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”“</a:t>
            </a:r>
            <a:r>
              <a:rPr b="1" lang="zh-CN" sz="3200" spc="-1" strike="noStrike">
                <a:solidFill>
                  <a:srgbClr val="0000cc"/>
                </a:solidFill>
                <a:latin typeface="Calibri"/>
              </a:rPr>
              <a:t>坚冰从莽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”“</a:t>
            </a:r>
            <a:r>
              <a:rPr b="1" lang="zh-CN" sz="3200" spc="-1" strike="noStrike">
                <a:solidFill>
                  <a:srgbClr val="0000cc"/>
                </a:solidFill>
                <a:latin typeface="Calibri"/>
              </a:rPr>
              <a:t>巨大的冰谷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”“</a:t>
            </a:r>
            <a:r>
              <a:rPr b="1" lang="zh-CN" sz="3200" spc="-1" strike="noStrike">
                <a:solidFill>
                  <a:srgbClr val="0000cc"/>
                </a:solidFill>
                <a:latin typeface="Calibri"/>
              </a:rPr>
              <a:t>冰雪劲旅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”“</a:t>
            </a:r>
            <a:r>
              <a:rPr b="1" lang="zh-CN" sz="3200" spc="-1" strike="noStrike">
                <a:solidFill>
                  <a:srgbClr val="0000cc"/>
                </a:solidFill>
                <a:latin typeface="Calibri"/>
              </a:rPr>
              <a:t>冰的庄园冰的院落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”“</a:t>
            </a:r>
            <a:r>
              <a:rPr b="1" lang="zh-CN" sz="3200" spc="-1" strike="noStrike">
                <a:solidFill>
                  <a:srgbClr val="0000cc"/>
                </a:solidFill>
                <a:latin typeface="Calibri"/>
              </a:rPr>
              <a:t>琼瑶仙境，敬慕的晶莹和洁白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”，这些句子都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表现了冰塔林奇美的特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85840" y="785880"/>
            <a:ext cx="814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是怎样描写各拉丹冬的冰塔林的？试结合课文内容具体分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3840" y="620280"/>
            <a:ext cx="89298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作者多次写到自己在高原上的疼痛、恶心，甚至觉得“要死了”，这些内容与文中的写景有什么关系？产生了怎样的表达效果？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060640"/>
            <a:ext cx="867888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</a:rPr>
              <a:t>作者多次写到自己在高原上的疼痛、恶心，甚至觉得“要死了”，是为了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反衬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</a:rPr>
              <a:t>各拉丹冬的壮美景色和冰塔林的神奇，更好地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表达了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</a:rPr>
              <a:t>自己对大自然美丽景色的喜爱和赞叹之情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Calibri"/>
              </a:rPr>
              <a:t>语言赏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499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Calibri"/>
              </a:rPr>
              <a:t>这一派奇美令人眩晕，造物主在这里尽情卖弄着它的无所不能的创造力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这里的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“眩晕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“卖弄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什么意思？传达了作者怎样的感受？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571680" y="3643200"/>
            <a:ext cx="82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眩晕”指美景多得让人目不暇接，令人陶醉的意思。“卖弄”指故意展现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这里表达了景物带给自己的强烈震撼以及对神奇伟力的赞美，极大地丰富了文章的内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Calibri"/>
              </a:rPr>
              <a:t>风一刻不停地呼啸，辨不清它何来何往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Calibri"/>
              </a:rPr>
              <a:t>仿佛自地球形成以来它就在这里川流不息</a:t>
            </a:r>
            <a:r>
              <a:rPr b="1" lang="zh-CN" sz="3200" spc="-1" strike="noStrike">
                <a:solidFill>
                  <a:srgbClr val="0000cc"/>
                </a:solidFill>
                <a:latin typeface="Calibri"/>
              </a:rPr>
              <a:t>，把冰河上的雪粒纷纷扬扬地扫荡着，又纷纷扬扬地洒落在河滩上、冰缝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004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删去加点部分，全句的表达效果会有怎样的变化？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403200" y="393372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删去后，不能表达大自然的风是亘古存在的，不能表现冰窟的历史悠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cc"/>
                </a:solidFill>
                <a:latin typeface="Calibri"/>
              </a:rPr>
              <a:t>端详着冰山上纵横的裂纹，环绕冰山的波状皱褶，想象着在漫长的时光里，冰川的前进和后退，冰山的高低消长，这波纹是否就是年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作者是怎样描写冰山的裂纹和皱褶的？这样写有什么好处？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642960" y="3786120"/>
            <a:ext cx="82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采用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联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想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手法描写冰山的裂纹和皱褶，这样写能引发人们思考生存的存在和意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Calibri"/>
              </a:rPr>
              <a:t>主旨归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本文是一篇游记。作者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按时间顺序和旅行的进程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记下了在长江之源各拉丹冬的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见闻和感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描写了各拉丹冬的壮美景色和冰塔林的神奇，表达了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热爱西藏、热爱大自然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的感情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9640" y="1557360"/>
            <a:ext cx="7910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朗读课文，感受自然的魅力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全作交流，感受探索自然的艰辛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揣摩细节，体会探索的乐趣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24000" y="18900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Garamond"/>
              </a:rPr>
              <a:t>学习目标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7640" y="1066320"/>
            <a:ext cx="46083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马丽华，一级作家、编审，现任中国藏学出版社总编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著有长篇报告文学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青藏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茫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青藏高原科学考察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十年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散文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追你到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终极风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藏之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长篇散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藏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游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西行阿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灵魂像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走过西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等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走过西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全国优秀畅销书奖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长篇小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如意高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第四届老舍文学奖。</a:t>
            </a:r>
            <a:r>
              <a:rPr b="1" lang="zh-CN" sz="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5"/>
          <p:cNvPicPr/>
          <p:nvPr/>
        </p:nvPicPr>
        <p:blipFill>
          <a:blip r:embed="rId1"/>
          <a:stretch/>
        </p:blipFill>
        <p:spPr>
          <a:xfrm>
            <a:off x="8458200" y="6477120"/>
            <a:ext cx="685800" cy="3808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228600" y="3808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Garamond"/>
              </a:rPr>
              <a:t>结合资料，了解作家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ae51f3deb48f8c54214c2e483a292df5e0fe7f3e"/>
          <p:cNvPicPr/>
          <p:nvPr/>
        </p:nvPicPr>
        <p:blipFill>
          <a:blip r:embed="rId2"/>
          <a:stretch/>
        </p:blipFill>
        <p:spPr>
          <a:xfrm>
            <a:off x="4788000" y="765000"/>
            <a:ext cx="4356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Calibri"/>
              </a:rPr>
              <a:t>初读课文，欣赏自然之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Calibri"/>
                <a:ea typeface="黑体"/>
              </a:rPr>
              <a:t>检测生字词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76520"/>
            <a:ext cx="896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安营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扎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寨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        )   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磅礴（              ）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黧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黑（     ）        接踵而来（          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霹雳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（      ）　   虔诚（       ）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丛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莽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（         ）   皱褶（               ）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演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绎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       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784600" y="172260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à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155640" y="1714680"/>
            <a:ext cx="19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á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43600" y="263700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020000" y="240192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ǒ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095920" y="335772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ī l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6000840" y="3357720"/>
            <a:ext cx="14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i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044800" y="40291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ǎ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>
            <a:hlinkClick r:id="" action="ppaction://hlinkshowjump?jump=nextslide"/>
          </p:cNvPr>
          <p:cNvSpPr/>
          <p:nvPr/>
        </p:nvSpPr>
        <p:spPr>
          <a:xfrm>
            <a:off x="4788000" y="6093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5"/>
          <p:cNvPicPr/>
          <p:nvPr/>
        </p:nvPicPr>
        <p:blipFill>
          <a:blip r:embed="rId1"/>
          <a:stretch/>
        </p:blipFill>
        <p:spPr>
          <a:xfrm>
            <a:off x="8077320" y="5562720"/>
            <a:ext cx="106668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3"/>
          <p:cNvSpPr/>
          <p:nvPr/>
        </p:nvSpPr>
        <p:spPr>
          <a:xfrm>
            <a:off x="1915200" y="497196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5766840" y="422100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òu zh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00000"/>
                </a:solidFill>
                <a:latin typeface="Calibri"/>
                <a:ea typeface="黑体"/>
              </a:rPr>
              <a:t>  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14240" y="1714680"/>
            <a:ext cx="7089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仿宋"/>
                <a:ea typeface="华文仿宋"/>
              </a:rPr>
              <a:t>变化多端</a:t>
            </a:r>
            <a:r>
              <a:rPr b="1" lang="en-US" sz="6000" spc="-1" strike="noStrike">
                <a:solidFill>
                  <a:srgbClr val="ff0000"/>
                </a:solidFill>
                <a:latin typeface="华文仿宋"/>
                <a:ea typeface="华文仿宋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仿宋"/>
                <a:ea typeface="华文仿宋"/>
              </a:rPr>
              <a:t>奇美得令人眩晕</a:t>
            </a:r>
            <a:r>
              <a:rPr b="1" lang="en-US" sz="6000" spc="-1" strike="noStrike">
                <a:solidFill>
                  <a:srgbClr val="ff0000"/>
                </a:solidFill>
                <a:latin typeface="华文仿宋"/>
                <a:ea typeface="华文仿宋"/>
              </a:rPr>
              <a:t>!           </a:t>
            </a:r>
            <a:r>
              <a:rPr b="1" lang="zh-CN" sz="6000" spc="-1" strike="noStrike">
                <a:solidFill>
                  <a:srgbClr val="ff0000"/>
                </a:solidFill>
                <a:latin typeface="华文仿宋"/>
                <a:ea typeface="华文仿宋"/>
              </a:rPr>
              <a:t>琼瑶仙境</a:t>
            </a:r>
            <a:r>
              <a:rPr b="1" lang="en-US" sz="6000" spc="-1" strike="noStrike">
                <a:solidFill>
                  <a:srgbClr val="ff0000"/>
                </a:solidFill>
                <a:latin typeface="华文仿宋"/>
                <a:ea typeface="华文仿宋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0" y="404640"/>
            <a:ext cx="9001080" cy="155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华文行楷"/>
                <a:ea typeface="华文行楷"/>
              </a:rPr>
              <a:t>    </a:t>
            </a:r>
            <a:r>
              <a:rPr b="1" lang="zh-CN" sz="4800" spc="-1" strike="noStrike">
                <a:solidFill>
                  <a:srgbClr val="0d0a10"/>
                </a:solidFill>
                <a:latin typeface="华文行楷"/>
                <a:ea typeface="华文行楷"/>
              </a:rPr>
              <a:t>自由朗读课文</a:t>
            </a:r>
            <a:r>
              <a:rPr b="1" lang="en-US" sz="4800" spc="-1" strike="noStrike">
                <a:solidFill>
                  <a:srgbClr val="0d0a10"/>
                </a:solidFill>
                <a:latin typeface="华文行楷"/>
                <a:ea typeface="华文行楷"/>
              </a:rPr>
              <a:t>,</a:t>
            </a:r>
            <a:r>
              <a:rPr b="1" lang="zh-CN" sz="4800" spc="-1" strike="noStrike">
                <a:solidFill>
                  <a:srgbClr val="0d0a10"/>
                </a:solidFill>
                <a:latin typeface="华文行楷"/>
                <a:ea typeface="华文行楷"/>
              </a:rPr>
              <a:t>说说作者眼中的各拉丹东雪山是什么样子的</a:t>
            </a:r>
            <a:r>
              <a:rPr b="1" lang="en-US" sz="4800" spc="-1" strike="noStrike">
                <a:solidFill>
                  <a:srgbClr val="0d0a10"/>
                </a:solidFill>
                <a:latin typeface="华文行楷"/>
                <a:ea typeface="华文行楷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u=939391366,3785994561&amp;fm=27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324000" y="115920"/>
            <a:ext cx="302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冰塔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u=112725988,1239219322&amp;fm=27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539640" y="4724280"/>
            <a:ext cx="80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气势磅礴的密云来去匆匆，形如金字塔的各拉丹东主峰难得在云遮雾障中一现尊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31T01:03:57Z</dcterms:created>
  <dc:creator>Users</dc:creator>
  <dc:description/>
  <dc:language>en-US</dc:language>
  <cp:lastModifiedBy>john</cp:lastModifiedBy>
  <dcterms:modified xsi:type="dcterms:W3CDTF">2018-05-14T01:38:3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