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B70-399A-4B2E-B96F-B71515FE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651-1D53-4DC3-9001-BF550B63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526-BF20-4E21-AAC2-6596105B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738-1BA9-477B-940F-FA8FFDFF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E6E-B86C-41CC-9F4C-062EB44E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754-09BB-4DEE-8EDF-0DE82432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E5D-4D3B-4F85-9794-89CFCD92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CB2-E409-4673-A8AD-3307E645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FD8-FE4E-4AE6-A7CB-D0636CD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32D-78C4-4099-82A2-1A4AB65C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A41-D6AA-4498-9E68-ABC4BC9D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E02-E365-41BB-8186-6E929A9F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4C51-2DED-4C97-9477-026FD48DB7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743200"/>
            <a:ext cx="5257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亭亭山上松，瑟瑟谷中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风声一何盛，松枝一何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冰霜正惨凄，终岁常端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岂不罹凝寒，松柏有本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《赠从弟》（之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08584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本篇写不应受环境压迫而改变操守之坚贞品质，诗中</a:t>
            </a:r>
            <a:r>
              <a:rPr b="1" lang="zh-CN" sz="2800" spc="-1" strike="noStrike" u="sng">
                <a:solidFill>
                  <a:srgbClr val="003399"/>
                </a:solidFill>
                <a:uFillTx/>
                <a:latin typeface="Times New Roman"/>
              </a:rPr>
              <a:t>通过比兴手法写坚贞之士守志不阿的节操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，松柏形象正象征着作家的志趣和性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真可谓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真骨凌霜，高风跨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590920"/>
            <a:ext cx="83822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这首诗</a:t>
            </a:r>
            <a:r>
              <a:rPr b="1" lang="zh-CN" sz="2800" spc="-1" strike="noStrike" u="sng">
                <a:solidFill>
                  <a:srgbClr val="003399"/>
                </a:solidFill>
                <a:uFillTx/>
                <a:latin typeface="Times New Roman"/>
              </a:rPr>
              <a:t>立意高洁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，</a:t>
            </a:r>
            <a:r>
              <a:rPr b="1" lang="zh-CN" sz="2800" spc="-1" strike="noStrike" u="sng">
                <a:solidFill>
                  <a:srgbClr val="003399"/>
                </a:solidFill>
                <a:uFillTx/>
                <a:latin typeface="Times New Roman"/>
              </a:rPr>
              <a:t>造语质直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，体现了诗人五言诗风格劲挺、不重雕饰的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这首诗是歌颂松柏形象和精神的最早的一首，它对于后世咏物诗写作有深远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1:37:25Z</dcterms:created>
  <dc:creator>lcq</dc:creator>
  <dc:description/>
  <dc:language>en-US</dc:language>
  <cp:lastModifiedBy>ghsh</cp:lastModifiedBy>
  <dcterms:modified xsi:type="dcterms:W3CDTF">2007-04-09T03:52:26Z</dcterms:modified>
  <cp:revision>10</cp:revision>
  <dc:subject/>
  <dc:title>PowerPoint 演示文稿</dc:title>
</cp:coreProperties>
</file>