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explode.wav" ContentType="audio/x-wav"/>
  <Override PartName="/ppt/media/image8.jpeg" ContentType="image/jpeg"/>
  <Override PartName="/ppt/media/type.wav" ContentType="audio/x-wav"/>
  <Override PartName="/ppt/media/image7.gif" ContentType="image/gif"/>
  <Override PartName="/ppt/media/image6.gif" ContentType="image/gif"/>
  <Override PartName="/ppt/media/applause.wav" ContentType="audio/x-wav"/>
  <Override PartName="/ppt/media/image11.gif" ContentType="image/gif"/>
  <Override PartName="/ppt/media/laser.wav" ContentType="audio/x-wav"/>
  <Override PartName="/ppt/media/suction.wav" ContentType="audio/x-wav"/>
  <Override PartName="/ppt/media/image4.jpeg" ContentType="image/jpeg"/>
  <Override PartName="/ppt/media/image13.gif" ContentType="image/gif"/>
  <Override PartName="/ppt/media/chimes.wav" ContentType="audio/x-wav"/>
  <Override PartName="/ppt/media/image1.jpeg" ContentType="image/jpeg"/>
  <Override PartName="/ppt/media/image2.jpeg" ContentType="image/jpeg"/>
  <Override PartName="/ppt/media/image12.gif" ContentType="image/gif"/>
  <Override PartName="/ppt/media/image3.jpeg" ContentType="image/jpeg"/>
  <Override PartName="/ppt/media/image5.gif" ContentType="image/gif"/>
  <Override PartName="/ppt/media/image10.gif" ContentType="image/gif"/>
  <Override PartName="/ppt/media/hamm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852-4228-4F0A-B92F-A79AF14A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23D-B502-4C09-957F-E1A33EFD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0DC-BF49-460E-8AD6-4A478F8F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929-D998-47D5-A9C1-098D58D1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8907-DD96-4A28-B0FF-65622EE2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CE2-7478-4B5C-8359-D8413721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44B1-B9DE-4955-AAD1-7412D4A5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DAAB-66F3-4776-A4B8-1B69DB02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2C52-2B66-4823-BFD6-4710E3B5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FC74-CE79-4302-84A8-1868A60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D673-BE79-4116-8357-6085851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7B6-542C-4722-8C69-B6136705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DFA6-E384-4F78-BC7C-7BF92519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D85D-EA93-4F79-8667-3A7E332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5664-87B2-4B40-98E5-8844839C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ED41-4334-4549-98D4-D52F818F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BF1-8990-42F0-A4FE-ABD7FF45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B20-1C0C-4311-A28B-417FB94C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67D-3E0D-440E-9AF4-26BAFCCC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F3B-21AC-41D0-B7A0-CB44EDB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BCB-D33D-45F0-A05C-91715CC5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19B-7083-4923-A178-084385C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B02-1AF8-41DF-BB71-F948FA3B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E73-23F6-4792-8ED7-10D712D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38FA-87B6-4FE8-9B60-382830587D4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36FF-67C9-4582-A878-44A1F47E9F9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6%AF&#812;&#1057;%B6%AF%CE%EF&amp;in=30944&amp;cl=2&amp;cm=1&amp;sc=0&amp;lm=-1&amp;pn=51&amp;rn=1&amp;di=3128450970&amp;ln=1661&amp;fr=&amp;ic=0&amp;s=0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20375.htm" TargetMode="External"/><Relationship Id="rId2" Type="http://schemas.openxmlformats.org/officeDocument/2006/relationships/hyperlink" Target="http://baike.baidu.com/view/3161.htm" TargetMode="External"/><Relationship Id="rId3" Type="http://schemas.openxmlformats.org/officeDocument/2006/relationships/image" Target="../media/image4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6%AF&#812;&#1057;%B6%AF%CE%EF&amp;in=29181&amp;cl=2&amp;cm=1&amp;sc=0&amp;lm=-1&amp;pn=2&amp;rn=1&amp;di=11065976775&amp;ln=1661&amp;fr=&amp;ic=0&amp;s=0" TargetMode="External"/><Relationship Id="rId2" Type="http://schemas.openxmlformats.org/officeDocument/2006/relationships/image" Target="../media/image5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mage.baidu.com/i?ct=503316480&amp;z=0&amp;tn=baiduimagedetail&amp;word=%B6%AF&#812;&#1057;%B6%AF%CE%EF&amp;in=29181&amp;cl=2&amp;cm=1&amp;sc=0&amp;lm=-1&amp;pn=107&amp;rn=1&amp;di=5462514420&amp;ln=1661&amp;fr=&amp;ic=0&amp;s=0" TargetMode="External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6%AF&#812;&#1057;%B6%AF%CE%EF&amp;in=21814&amp;cl=2&amp;cm=1&amp;sc=0&amp;lm=-1&amp;pn=102&amp;rn=1&amp;di=8274161385&amp;ln=1661&amp;fr=&amp;ic=0&amp;s=0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6%AF&#812;&#1057;%B6%AF%CE%EF&amp;in=1501&amp;cl=2&amp;cm=1&amp;sc=0&amp;lm=-1&amp;pn=25&amp;rn=1&amp;di=2062465050&amp;ln=1661&amp;fr=&amp;ic=0&amp;s=0" TargetMode="External"/><Relationship Id="rId3" Type="http://schemas.openxmlformats.org/officeDocument/2006/relationships/image" Target="../media/image10.gi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.baidu.com/i?ct=503316480&amp;z=0&amp;tn=baiduimagedetail&amp;word=%B6%AF&#812;&#1057;%B6%AF%CE%EF&amp;in=1501&amp;cl=2&amp;cm=1&amp;sc=0&amp;lm=-1&amp;pn=31&amp;rn=1&amp;di=10635056115&amp;ln=1661&amp;fr=&amp;ic=0&amp;s=0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赠从弟（其二）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刘桢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765000"/>
            <a:ext cx="1800360" cy="18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作者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刘桢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86~21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），字公干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东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末东平国人，东汉著名文学家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建安七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之一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刘诗风格劲挺，不重雕饰。 曹丕曾称赞他的五言诗“妙绝时人”，但作品流传很少，仅存十五首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492360" y="3789360"/>
            <a:ext cx="116712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  <p:sndAc>
      <p:stSnd>
        <p:snd r:embed="rId4" name="hamme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ff"/>
                </a:solidFill>
                <a:latin typeface="Arial"/>
              </a:rPr>
              <a:t>原文翻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高高耸立的山上的松树，在山谷中吹来的瑟瑟风中挺立。 </a:t>
            </a:r>
            <a:br>
              <a:rPr sz="2800"/>
            </a:b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风刮得是多么强大，松枝是多么的劲挺！ </a:t>
            </a:r>
            <a:br>
              <a:rPr sz="2800"/>
            </a:b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冰与霜正下的猛烈急骤，而松柏却整年长久端正挺立。 </a:t>
            </a:r>
            <a:br>
              <a:rPr sz="2800"/>
            </a:b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难道不怕遭受严寒吗？松柏有不惧严寒的本性！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260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3" name="suction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全诗的风格和寓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首诗通篇以松柏为喻，赞颂松柏能够挺立风中而不倒，经严寒而不调。诗人并没有将他希望堂弟应如何如何，但其劝勉之言却又不言而喻。全诗文字平实，风格古朴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459640" y="1557360"/>
            <a:ext cx="684360" cy="410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4149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4" name="type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重点注释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弟：堂弟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②亭亭：高貌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③瑟瑟：风声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④一何：多么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⑤盛：大，凶猛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⑥罹：遭受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⑦凝寒：严寒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3716280"/>
            <a:ext cx="208728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3" name="explode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99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799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99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99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赏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亭亭山上松，瑟瑟谷中风”，开篇描写出松柏树的整体形象：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高耸挺拔，立与山上，笑迎“瑟瑟”寒风，不像严寒低头，不在恶势力下弯腰，高俊雄伟，傲骨铮铮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三、四两句“风声一何盛，松枝一何劲”意思是风声是多么的凶猛，松枝在风中又是多么的刚劲。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是对风声与松树都予以展开描写，描写松柏与寒风在对立中所展现的情状，突出了松的可贵品格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五、六两句“冰霜正惨凄，终岁常端正”意思是正当严冰寒霜带来一片悲惨凄凉景象之时，松树却总是那么挺拔美好。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通过冰霜的残酷再一次反衬松树的不畏严寒与高洁傲骨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“岂不罹凝寒，松柏有本性”两句的意思是难道松柏就不遭受寒冷吗？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但是松柏原本就具有不畏严寒的本性。直接写松品格，点明主题。</a:t>
            </a:r>
            <a:br>
              <a:rPr sz="2400"/>
            </a:b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想情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如果说前面四句主要写松树的形象，那么后面四句则主要写松树的品格。它雄伟挺拔，不惧怕任何恶劣严酷的环境。这样，松树的形象才得到完整的表现。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全诗以简练的语言写出了松树刚正坚贞、不屈不挠的鲜明形象和不向严寒低头，不向残暴弯腰的气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诗作融入了对松树赞颂的深厚感情，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其用意是以比兴手法象征诗人自己的性格与抱负，同时也是为了勉励他的从弟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0"/>
            <a:ext cx="167796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  <p:sndAc>
      <p:stSnd>
        <p:snd r:embed="rId4" name="laser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" dur="1" fill="hold"/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ff"/>
                </a:solidFill>
                <a:latin typeface="Arial"/>
              </a:rPr>
              <a:t>好好学习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ff"/>
                </a:solidFill>
                <a:latin typeface="Arial"/>
              </a:rPr>
              <a:t>天天向上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692280"/>
            <a:ext cx="1655640" cy="262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327800" y="765000"/>
            <a:ext cx="1816200" cy="220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140360" y="44370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6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2:41:52Z</dcterms:created>
  <dc:creator>微软用户</dc:creator>
  <dc:description/>
  <dc:language>en-US</dc:language>
  <cp:lastModifiedBy>Administrator</cp:lastModifiedBy>
  <dcterms:modified xsi:type="dcterms:W3CDTF">2010-03-09T04:35:47Z</dcterms:modified>
  <cp:revision>3</cp:revision>
  <dc:subject/>
  <dc:title>赠从弟（其二）                   刘桢</dc:title>
</cp:coreProperties>
</file>