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550-0212-4DCB-883B-6C2F482F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BFE-4EA1-48E3-9863-9699A2D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A67-B41D-4071-9349-C6E7D8EB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FFD-44E2-479B-ADA3-E9912D15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37A-45DE-4A1D-BEAB-704EBC7E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8B1-C261-4938-A4E3-29C5BF0E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A88-5F98-405A-A741-A09F725D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C9F-5266-40DE-8946-A814C4E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474-91BE-43BA-88F5-7612526A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08A-7BA6-4481-BFA3-73EC13F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8DB-EECE-4AD1-BBC1-78CE55C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21B-065B-42D1-BC8D-B01BD71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DB05-F2E8-44B2-8669-EB67B87C8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赠从弟（其二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刘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284720" cy="602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27640" y="692280"/>
            <a:ext cx="471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亭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瑟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谷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何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何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惨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终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岂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凝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18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冰霜正惨凄，终岁常端正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意思是正当严冰寒霜带来一片悲惨凄凉景象之时，松树却总是那么挺拔美好。通过冰霜的残酷再一次反衬松树的不畏严寒与高洁傲骨。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岂不罹凝寒，松柏有本性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句的意思是难道松柏就不遭受寒冷吗？但是松柏原本就具有不畏严寒的本性。直接写松品格，点明主题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是一首咏物诗，诗歌的标题是“赠从弟”，而内容却在写“松”，请你简要分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的用意何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以松柏为喻（使用了象征的艺术手法），赞颂了松柏挺立风中而不倒，历经严寒而不凋的顽强的生命力，表达了作者对品德的坚守及对从弟的劝勉之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请分析诗歌中三、四两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连用两个“一何”的表达作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个“一何”突出了风之大，第二个“一何”突出了松柏的雄健挺拔，合起来赞扬了松柏的顽强的生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说前面四句主要写松树的形象，那么后面四句则主要写松树的品格。它雄伟挺拔，不惧怕任何恶劣严酷的环境。这样，松树的形象才得到完整的表现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首诗以松柏为喻，采用比兴的手法，赞颂松柏能挺立风中而不倒，经历严寒而不凋。诗人借此勉励他的堂弟要坚守节操，不要因外力压迫而改变本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正确朗读诗歌，读准节奏和韵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歌的思想内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象征的艺术手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松柏坚守节操，傲然挺立的崇高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4221000"/>
            <a:ext cx="529272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赠从弟（其二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刘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68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21164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692280"/>
            <a:ext cx="471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亭亭山上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瑟瑟谷中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声一何盛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枝一何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霜正惨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终岁常端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岂不罹凝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松柏有本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5029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1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32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970360" cy="609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280" y="0"/>
            <a:ext cx="60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桢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86~21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，字公干，东汉末东平国人，东汉著名文学家，建安七子之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诗风格劲挺，不重雕饰。 曹丕曾称赞他的五言诗“妙绝时人”，但作品流传很少，仅存十五首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点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弟：堂弟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②亭亭：高貌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③瑟瑟：风声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④一何：多么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⑤盛：大，凶猛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⑥罹：遭受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⑦凝寒：严寒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首联：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体形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高耸挺拔，立于山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颔联： 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对比描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风声凶猛、松枝刚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： 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冰霜反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不畏严寒、高洁傲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尾联：直抒胸臆、点明主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高耸立在山上的松树啊，在山谷中吹来的瑟瑟风中挺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刮得是多么的强大，松枝是多么的劲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与霜正下的猛烈急骤，而松柏却整年长久端正挺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难道它不怕遭受严寒吗？松柏有不惧严寒的本性啊！ </a:t>
            </a:r>
            <a:br>
              <a:rPr sz="4400"/>
            </a:b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亭亭山上松，瑟瑟谷中风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开篇描写出松柏树的整体形象：高耸挺拔，立于山上，笑迎“瑟瑟”寒风，不向严寒低头，不在恶势力下弯腰，高俊雄伟，傲骨铮铮。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风声一何盛，松枝一何劲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意思是风声是多么的凶猛，松枝在风中又是多么的刚劲。是对风声与松树都予以展开描写，描写松柏与寒风在对立中所展现的情状，突出了松的可贵品格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3:56:06Z</dcterms:created>
  <dc:creator>未知用户</dc:creator>
  <dc:description/>
  <dc:language>en-US</dc:language>
  <cp:lastModifiedBy>未知用户</cp:lastModifiedBy>
  <dcterms:modified xsi:type="dcterms:W3CDTF">2017-09-16T03:08:55Z</dcterms:modified>
  <cp:revision>13</cp:revision>
  <dc:subject/>
  <dc:title>幻灯片 1</dc:title>
</cp:coreProperties>
</file>